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390D-89EB-415D-85D1-A825414551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61F9-8619-4F60-9ACA-8669AF7CCBB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904-C998-4A03-8E73-B209F21B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C49-C251-4086-8AC5-83D9D495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B02-97B5-4CA6-B990-B81D78E91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D047-930E-4EB0-B321-768AB4C7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5E72-1CD3-4D6F-B080-922803A8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FDAE-4AB5-4CD0-BE8A-AD225868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2D533-91CB-43EC-BCFC-F376120E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14AF-30A9-4BBF-911A-892D5D9A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B094-24B7-498F-B7ED-385DAAC1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0AD4-E834-48A4-BD03-4A21D201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BFE9-6C81-4CA1-9C4C-299AF85E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0C67-AD6D-47FE-BBFE-3C5D3679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8301-ABFE-4E4E-ABE8-84D1F005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BFFA-3EAA-4B9A-A27A-2C4E4302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AA2D-3CC5-4123-8DA3-69D3457B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AB73-E3CC-4AD5-A105-2072B2C9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6930-5D84-414B-8C89-6BB3D3FF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AF07A-E512-4FBE-A67A-A2D27D94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B0F74-DD6B-42D1-8C20-F4DF5659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14203-3A81-4A5B-9263-160FF5E7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E6D07-21F3-45E4-A06C-969A9C28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CC120-BC17-4EE2-B9F0-01E37FD5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435-AB2C-4803-BC65-D8AEDDB2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0EFD7-E029-49F5-98A2-201A4251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79297-FC58-4344-8BA2-99C336D8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C268C-A3EE-4C73-9047-1AC937E5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57264-E03A-4A53-B809-AC581C68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C57C-69D5-4187-BB65-4F393D96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25587-2250-47CD-987D-69A1F8CE6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2C031-23CF-415A-A0A2-3624D9EB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A37-21D8-4171-9BFF-DA9428AC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C472-4EEF-45EA-9381-32140899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1E2-74EF-4761-82B0-2627DA7B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DF9B-2754-4131-881A-C3848DB8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EEA-9FA9-4E41-8855-F8B5A804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8F8-7FAD-47AD-B19F-DFEB55C2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e7e7e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cbcbc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A39E-DF2F-45CB-875B-732BDF4090AB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360" cy="648000"/>
              <a:chOff x="-19080" y="203040"/>
              <a:chExt cx="916236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2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8720" y="247320"/>
              <a:ext cx="9181080" cy="562680"/>
              <a:chOff x="-18720" y="247320"/>
              <a:chExt cx="9181080" cy="56268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320"/>
                <a:ext cx="9165240" cy="56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36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295E-5D5F-40E3-81E3-B5F97577FB3A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Группа 1"/>
          <p:cNvGrpSpPr/>
          <p:nvPr/>
        </p:nvGrpSpPr>
        <p:grpSpPr>
          <a:xfrm>
            <a:off x="-19080" y="203040"/>
            <a:ext cx="9181440" cy="648000"/>
            <a:chOff x="-19080" y="203040"/>
            <a:chExt cx="9181440" cy="648000"/>
          </a:xfrm>
        </p:grpSpPr>
        <p:grpSp>
          <p:nvGrpSpPr>
            <p:cNvPr id="94" name="Полилиния 11"/>
            <p:cNvGrpSpPr/>
            <p:nvPr/>
          </p:nvGrpSpPr>
          <p:grpSpPr>
            <a:xfrm>
              <a:off x="-19080" y="203040"/>
              <a:ext cx="9162360" cy="648000"/>
              <a:chOff x="-19080" y="203040"/>
              <a:chExt cx="9162360" cy="648000"/>
            </a:xfrm>
          </p:grpSpPr>
          <p:pic>
            <p:nvPicPr>
              <p:cNvPr id="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680" y="203040"/>
                <a:ext cx="913860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Text Box 11"/>
              <p:cNvSpPr/>
              <p:nvPr/>
            </p:nvSpPr>
            <p:spPr>
              <a:xfrm rot="21435600">
                <a:off x="-18720" y="4777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олилиния 10"/>
            <p:cNvGrpSpPr/>
            <p:nvPr/>
          </p:nvGrpSpPr>
          <p:grpSpPr>
            <a:xfrm>
              <a:off x="-18720" y="247320"/>
              <a:ext cx="9181080" cy="562680"/>
              <a:chOff x="-18720" y="247320"/>
              <a:chExt cx="9181080" cy="562680"/>
            </a:xfrm>
          </p:grpSpPr>
          <p:pic>
            <p:nvPicPr>
              <p:cNvPr id="98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2880" y="247320"/>
                <a:ext cx="9165240" cy="56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36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885B-750C-471C-A256-7B7C891E8084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1600200" y="61610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dd9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Объект 3" descr=""/>
          <p:cNvPicPr/>
          <p:nvPr/>
        </p:nvPicPr>
        <p:blipFill>
          <a:blip r:embed="rId1"/>
          <a:srcRect l="23314" t="19035" r="9809" b="42904"/>
          <a:stretch/>
        </p:blipFill>
        <p:spPr>
          <a:xfrm>
            <a:off x="-507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4520" y="-298800"/>
            <a:ext cx="791496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ые занятия с 9 классом. Разбор ошибок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5" name="Picture 2" descr="Доброго Вам утра, дня, вечера! В этой статье мы продолжаем изучать ошибки, допускаемые учениками 9 класса при выполнении экзаменационной работы за курс девяти лет обучения математике.-6"/>
          <p:cNvPicPr/>
          <p:nvPr/>
        </p:nvPicPr>
        <p:blipFill>
          <a:blip r:embed="rId1"/>
          <a:stretch/>
        </p:blipFill>
        <p:spPr>
          <a:xfrm>
            <a:off x="1325520" y="692280"/>
            <a:ext cx="6148440" cy="2412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Здравствуйте, уважаемые читатели! В этой статье мы продолжаем изучать ошибки, допускаемые учениками 9 класса при выполнении экзаменационной работы за курс девяти лет обучения математике."/>
          <p:cNvPicPr/>
          <p:nvPr/>
        </p:nvPicPr>
        <p:blipFill>
          <a:blip r:embed="rId2"/>
          <a:stretch/>
        </p:blipFill>
        <p:spPr>
          <a:xfrm>
            <a:off x="1328760" y="3249720"/>
            <a:ext cx="614520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24624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ые занятия с 11 классом. Разбор ошибок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38760" y="928080"/>
            <a:ext cx="531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шиб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еправильное использование формул привед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1"/>
          <a:stretch/>
        </p:blipFill>
        <p:spPr>
          <a:xfrm>
            <a:off x="4064040" y="1484280"/>
            <a:ext cx="4622760" cy="4969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163440" y="2821680"/>
            <a:ext cx="36165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еобразовании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(pi/2+x) допущена ошиб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са перед косинусом быть не должно. Задание оценивается в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балл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24624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ые занятия с 11 классом. Разбор ошибок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82" name="Picture 1" descr=""/>
          <p:cNvPicPr/>
          <p:nvPr/>
        </p:nvPicPr>
        <p:blipFill>
          <a:blip r:embed="rId1"/>
          <a:stretch/>
        </p:blipFill>
        <p:spPr>
          <a:xfrm>
            <a:off x="790560" y="871560"/>
            <a:ext cx="7601040" cy="3738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"/>
          <p:cNvSpPr/>
          <p:nvPr/>
        </p:nvSpPr>
        <p:spPr>
          <a:xfrm>
            <a:off x="4548240" y="4719600"/>
            <a:ext cx="4595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оценивается в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бал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24624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ые занятия с 11 классом. Разбор ошибок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4572000" y="5792760"/>
            <a:ext cx="4595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оценивается в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бал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332000" y="836640"/>
            <a:ext cx="66546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я итог по вопросу организации внеурочной деятельности как фактора профилактики неуспеваемости учащихся, хочется сделать акцент на:</a:t>
            </a:r>
            <a:br>
              <a:rPr sz="18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457200" y="1233360"/>
            <a:ext cx="85075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1. Многократное повторение основного материала и разбор ошибок на внеурочных занятиях - один из приемов работы со слабоуспевающими</a:t>
            </a:r>
            <a:r>
              <a:rPr b="0" lang="en-US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2. Тщательно анализировать и систематизировать ошибки, допускаемые учениками в устных ответах, письменных работах, выявить типичные для класса и концентрировать внимание на их устран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3. Индивидуальный подход к учащемуся на уроках и внеурочной деятельности. Индивидуальные карточки с заданиями для учеников (более легкие задачи, более трудные задач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4. </a:t>
            </a: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На заседаниях школьных МО обсудить вопросы работы со слабоуспевающими учащимися во время внеурочной деятельности</a:t>
            </a:r>
            <a:r>
              <a:rPr b="0" lang="en-US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5. Совместной работе учителя-предметника с классным руководителем по поводу посещаемости внеурочных занятий «Математика в цифрах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2428"/>
                </a:solidFill>
                <a:latin typeface="Times New Roman"/>
                <a:ea typeface="Times New Roman"/>
              </a:rPr>
              <a:t>6. Усиление работы с родите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5280" cy="3326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5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на педагогическом совете по тем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рганизация внеурочной деятельности, как фактор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актики неуспеваемости обучающихся»</a:t>
            </a:r>
            <a:br>
              <a:rPr sz="2400"/>
            </a:br>
            <a:br>
              <a:rPr sz="46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24000" y="4868640"/>
            <a:ext cx="5976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Наровчатская СОШ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нягина Ксения Валерьевна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2" name="Picture 6" descr="Рисунок10"/>
          <p:cNvPicPr/>
          <p:nvPr/>
        </p:nvPicPr>
        <p:blipFill>
          <a:blip r:embed="rId1"/>
          <a:stretch/>
        </p:blipFill>
        <p:spPr>
          <a:xfrm>
            <a:off x="6804000" y="4292640"/>
            <a:ext cx="1917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4617b"/>
                </a:solidFill>
                <a:latin typeface="Arial"/>
              </a:rPr>
              <a:t>«Любому профессиональному педагогу понятно, что выставление неудовлетворительной оценки должно сопровождаться целой системой мер по ее дальнейшему предотвращению». </a:t>
            </a:r>
            <a:br>
              <a:rPr sz="4600"/>
            </a:br>
            <a:endParaRPr b="0" lang="en-US" sz="3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2400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600" spc="-1" strike="noStrike">
                <a:solidFill>
                  <a:srgbClr val="04617b"/>
                </a:solidFill>
                <a:latin typeface="Arial"/>
              </a:rPr>
              <a:t>Лизинский В.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5" name="Picture 6" descr="Рисунок10"/>
          <p:cNvPicPr/>
          <p:nvPr/>
        </p:nvPicPr>
        <p:blipFill>
          <a:blip r:embed="rId1"/>
          <a:stretch/>
        </p:blipFill>
        <p:spPr>
          <a:xfrm>
            <a:off x="6804000" y="4292640"/>
            <a:ext cx="1917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0760" y="2761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оги 1 четверти 8 «а» клас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7596360" y="0"/>
            <a:ext cx="1427040" cy="1378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095480" cy="108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3"/>
          <a:stretch/>
        </p:blipFill>
        <p:spPr>
          <a:xfrm>
            <a:off x="568440" y="1627200"/>
            <a:ext cx="811512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0760" y="11592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тоги 1 четверти 8 «б» класс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7596360" y="0"/>
            <a:ext cx="1427040" cy="1378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095480" cy="1081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609480" y="1251000"/>
            <a:ext cx="794088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Arial"/>
              </a:rPr>
              <a:t>Пути устранения отставания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5" name="Содержимое 4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7921800" cy="381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Рисунок5"/>
          <p:cNvPicPr/>
          <p:nvPr/>
        </p:nvPicPr>
        <p:blipFill>
          <a:blip r:embed="rId2"/>
          <a:stretch/>
        </p:blipFill>
        <p:spPr>
          <a:xfrm>
            <a:off x="2206800" y="4797360"/>
            <a:ext cx="69372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47628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ы профилактики неуспеваемости учеников </a:t>
            </a:r>
            <a:br>
              <a:rPr sz="16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22220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овать усвоение вопросов, обычно вызывающих у учащихся наибольшее затруднени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щательно анализировать и систематизировать ошибки, допускаемые учениками в устных ответах, письменных работах, выявить типичные для класса и концентрировать внимание на их устранени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темы или раздела обобщить итоги усвоения основных понятий, законов, правил, умений и навыков, выявить причины отставания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проверять в ходе урока степень понимания учащимися основных элементов излагаемого материала;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стороннее повышение эффективности каждого урока и занятий на внеурочной деятельности. (Привлекать к обучению слабых более сильных ребят.) Изложили материал, опросили сильных - посадите их к слабым, и пусть продолжается учеб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познавательного интереса к учению и положительных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ов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Индивидуальный подход к учащемуся на уроках и внеурочной деятельности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иление работы с родителям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954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4520" y="-298800"/>
            <a:ext cx="791496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ые занятия с 9 классом. Разбор ошибок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1" name="Picture 5" descr="Доброго Вам утра, дня, вечера! В этой статье мы продолжаем изучать ошибки, допускаемые учениками 9 класса при выполнении экзаменационной работы за курс девяти лет обучения математике."/>
          <p:cNvPicPr/>
          <p:nvPr/>
        </p:nvPicPr>
        <p:blipFill>
          <a:blip r:embed="rId1"/>
          <a:stretch/>
        </p:blipFill>
        <p:spPr>
          <a:xfrm>
            <a:off x="1009800" y="692280"/>
            <a:ext cx="712440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4520" y="-298800"/>
            <a:ext cx="791496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урочные занятия с 9 классом. Разбор ошибок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73" name="Picture 2" descr="Доброго Вам утра, дня, вечера! В этой статье мы продолжаем изучать ошибки, допускаемые учениками 9 класса при выполнении экзаменационной работы за курс девяти лет обучения математике.-3"/>
          <p:cNvPicPr/>
          <p:nvPr/>
        </p:nvPicPr>
        <p:blipFill>
          <a:blip r:embed="rId1"/>
          <a:stretch/>
        </p:blipFill>
        <p:spPr>
          <a:xfrm>
            <a:off x="695160" y="692280"/>
            <a:ext cx="78552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6:03:16Z</dcterms:created>
  <dc:creator>ждл</dc:creator>
  <dc:description/>
  <dc:language>en-US</dc:language>
  <cp:lastModifiedBy>Роман Портнягин</cp:lastModifiedBy>
  <dcterms:modified xsi:type="dcterms:W3CDTF">2023-10-31T22:49:34Z</dcterms:modified>
  <cp:revision>48</cp:revision>
  <dc:subject/>
  <dc:title>Педсовет «Создание системы»</dc:title>
</cp:coreProperties>
</file>