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85AD-6595-4FC1-B754-BCB31407CF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AF96-32F2-40B1-B8A7-14198827FD6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596B-3E1B-4CC8-8DAE-DD60E138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D8B-FACE-45B1-9A95-039A871C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3A53-2382-4938-B8A2-27274131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1B3B-2FD4-446C-BB54-8324CFD7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D395-16A1-4B68-9DAC-1C54CA9F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C534-0B1D-4F5E-8D45-7B68FF4F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66E3-8A5C-45E7-B5E0-B66B0AEB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E829-2E5C-4FA8-9655-9D29B422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B7AE-C29E-4474-AAC2-27DCEAFA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5B4E-AF71-4BBE-835D-B4DC7A33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B021-4DCF-4577-8FC7-8BC1C85D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849-2489-40AE-9C7F-67033311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011C-C2BE-42CD-837D-DF261153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B06A-623E-4045-BB2A-1B67C36B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A16F-822D-4269-82D6-FFB53A93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6F44-192B-4EAA-B746-C97C45C5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49BF-D79A-4801-A8B2-0C2B8350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A4ACC-0EBE-47E3-A46A-2E8A7F3F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41E18-7795-4D3B-9487-3D9F530B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E0B37-26A2-4D84-8165-3597EFBC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BF501-1EB4-4684-8E4F-8AD3E64B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FF3FC-77ED-4160-9C78-78EAB7E1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0B00-6285-4847-953D-613B026C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EF275-7192-4075-A1CC-EF9A054E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78BD5-0B9B-4227-A3C1-4B13C29C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B1616-9C33-4667-84A7-BFDDE8C8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7FC8E-9A15-46C8-B885-7A94D870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2E3DE-DF89-4DB5-984C-4D33271E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3B40F-DBD9-4795-8775-2D6E14D2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E1A20-E2FC-4879-B90B-B58F54CA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F7FB-A70C-4393-91D8-8E2C883D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EE1D-965F-4938-968E-4EFF5EAB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D7F-4EA5-4263-BB90-307B3553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249-D29F-4DD4-AD2C-8D702C05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D230-4CD2-4E66-8C32-109977DC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FFD-BBB3-4A59-8524-B417EBF2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2743-A2EF-49C5-84E6-EDE2BA176BF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440" cy="648000"/>
            <a:chOff x="-19080" y="203040"/>
            <a:chExt cx="918144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360" cy="648000"/>
              <a:chOff x="-19080" y="203040"/>
              <a:chExt cx="916236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2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8720" y="247320"/>
              <a:ext cx="9181080" cy="562680"/>
              <a:chOff x="-18720" y="247320"/>
              <a:chExt cx="9181080" cy="5626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7320"/>
                <a:ext cx="9165240" cy="56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36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8631-F0BA-4C57-B05E-00A64A97362E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440" cy="648000"/>
            <a:chOff x="-19080" y="203040"/>
            <a:chExt cx="918144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62360" cy="648000"/>
              <a:chOff x="-19080" y="203040"/>
              <a:chExt cx="916236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Text Box 11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0"/>
            <p:cNvGrpSpPr/>
            <p:nvPr/>
          </p:nvGrpSpPr>
          <p:grpSpPr>
            <a:xfrm>
              <a:off x="-18720" y="247320"/>
              <a:ext cx="9181080" cy="562680"/>
              <a:chOff x="-18720" y="247320"/>
              <a:chExt cx="9181080" cy="562680"/>
            </a:xfrm>
          </p:grpSpPr>
          <p:pic>
            <p:nvPicPr>
              <p:cNvPr id="9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7320"/>
                <a:ext cx="9165240" cy="56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36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FBB3-A58C-49AD-B715-5DB516EFE20C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1600200" y="61610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dd9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Объект 3" descr=""/>
          <p:cNvPicPr/>
          <p:nvPr/>
        </p:nvPicPr>
        <p:blipFill>
          <a:blip r:embed="rId1"/>
          <a:srcRect l="23314" t="19035" r="9809" b="42904"/>
          <a:stretch/>
        </p:blipFill>
        <p:spPr>
          <a:xfrm>
            <a:off x="-507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4520" y="-298800"/>
            <a:ext cx="791496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ые занятия с 9 классом. Разбор ошибок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5" name="Picture 2" descr="Доброго Вам утра, дня, вечера! В этой статье мы продолжаем изучать ошибки, допускаемые учениками 9 класса при выполнении экзаменационной работы за курс девяти лет обучения математике.-6"/>
          <p:cNvPicPr/>
          <p:nvPr/>
        </p:nvPicPr>
        <p:blipFill>
          <a:blip r:embed="rId1"/>
          <a:stretch/>
        </p:blipFill>
        <p:spPr>
          <a:xfrm>
            <a:off x="1325520" y="692280"/>
            <a:ext cx="6148440" cy="2412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Здравствуйте, уважаемые читатели! В этой статье мы продолжаем изучать ошибки, допускаемые учениками 9 класса при выполнении экзаменационной работы за курс девяти лет обучения математике."/>
          <p:cNvPicPr/>
          <p:nvPr/>
        </p:nvPicPr>
        <p:blipFill>
          <a:blip r:embed="rId2"/>
          <a:stretch/>
        </p:blipFill>
        <p:spPr>
          <a:xfrm>
            <a:off x="1328760" y="3249720"/>
            <a:ext cx="61452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24624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ые занятия с 11 классом. Разбор ошибок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38760" y="928080"/>
            <a:ext cx="531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шиб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еправильное использование формул привед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4064040" y="1484280"/>
            <a:ext cx="4622760" cy="49690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163440" y="2821680"/>
            <a:ext cx="36165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еобразовании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(pi/2+x) допущена ошиб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уса перед косинусом быть не должно. Задание оценивается в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балл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24624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ые занятия с 11 классом. Разбор ошибок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790560" y="871560"/>
            <a:ext cx="7601040" cy="3738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"/>
          <p:cNvSpPr/>
          <p:nvPr/>
        </p:nvSpPr>
        <p:spPr>
          <a:xfrm>
            <a:off x="4548240" y="4719600"/>
            <a:ext cx="4595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оценивается в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бал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24624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ые занятия с 11 классом. Разбор ошибок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4572000" y="5792760"/>
            <a:ext cx="4595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оценивается в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бал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6546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одя итог по вопросу организации внеурочной деятельности как фактора профилактики неуспеваемости учащихся, хочется сделать акцент на:</a:t>
            </a:r>
            <a:br>
              <a:rPr sz="18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457200" y="1233360"/>
            <a:ext cx="850752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1. Многократное повторение основного материала и разбор ошибок на внеурочных занятиях - один из приемов работы со слабоуспевающими</a:t>
            </a:r>
            <a:r>
              <a:rPr b="0" lang="en-US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2. Тщательно анализировать и систематизировать ошибки, допускаемые учениками в устных ответах, письменных работах, выявить типичные для класса и концентрировать внимание на их устран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3. Индивидуальный подход к учащемуся на уроках и внеурочной деятельности. Индивидуальные карточки с заданиями для учеников (более легкие задачи, более трудные задач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4. </a:t>
            </a:r>
            <a:r>
              <a:rPr b="0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На заседаниях школьных МО обсудить вопросы работы со слабоуспевающими учащимися во время внеурочной деятельности</a:t>
            </a:r>
            <a:r>
              <a:rPr b="0" lang="en-US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5. Совместной работе учителя-предметника с классным руководителем по поводу посещаемости внеурочных занятий «Математика в цифрах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6. Усиление работы с родите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5280" cy="3326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5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е на педагогическом совете по тем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рганизация внеурочной деятельности, как фактор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и неуспеваемости обучающихся»</a:t>
            </a:r>
            <a:br>
              <a:rPr sz="2400"/>
            </a:br>
            <a:br>
              <a:rPr sz="46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324000" y="4868640"/>
            <a:ext cx="5976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Наровчатская СОШ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нягина Ксения Валерьевна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2" name="Picture 6" descr="Рисунок10"/>
          <p:cNvPicPr/>
          <p:nvPr/>
        </p:nvPicPr>
        <p:blipFill>
          <a:blip r:embed="rId1"/>
          <a:stretch/>
        </p:blipFill>
        <p:spPr>
          <a:xfrm>
            <a:off x="6804000" y="4292640"/>
            <a:ext cx="19177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4617b"/>
                </a:solidFill>
                <a:latin typeface="Arial"/>
              </a:rPr>
              <a:t>«Любому профессиональному педагогу понятно, что выставление неудовлетворительной оценки должно сопровождаться целой системой мер по ее дальнейшему предотвращению». </a:t>
            </a:r>
            <a:br>
              <a:rPr sz="4600"/>
            </a:b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24000" y="4868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600" spc="-1" strike="noStrike">
                <a:solidFill>
                  <a:srgbClr val="04617b"/>
                </a:solidFill>
                <a:latin typeface="Arial"/>
              </a:rPr>
              <a:t>Лизинский В.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5" name="Picture 6" descr="Рисунок10"/>
          <p:cNvPicPr/>
          <p:nvPr/>
        </p:nvPicPr>
        <p:blipFill>
          <a:blip r:embed="rId1"/>
          <a:stretch/>
        </p:blipFill>
        <p:spPr>
          <a:xfrm>
            <a:off x="6804000" y="4292640"/>
            <a:ext cx="19177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0760" y="27612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тоги 1 четверти 8 «а» клас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7596360" y="0"/>
            <a:ext cx="1427040" cy="1378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095480" cy="1081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568440" y="1627200"/>
            <a:ext cx="8115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0760" y="11592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тоги 1 четверти 8 «б» клас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7596360" y="0"/>
            <a:ext cx="1427040" cy="1378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095480" cy="1081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3"/>
          <a:stretch/>
        </p:blipFill>
        <p:spPr>
          <a:xfrm>
            <a:off x="609480" y="1251000"/>
            <a:ext cx="794088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Пути устранения отставания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5" name="Содержимое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7921800" cy="381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Рисунок5"/>
          <p:cNvPicPr/>
          <p:nvPr/>
        </p:nvPicPr>
        <p:blipFill>
          <a:blip r:embed="rId2"/>
          <a:stretch/>
        </p:blipFill>
        <p:spPr>
          <a:xfrm>
            <a:off x="2206800" y="4797360"/>
            <a:ext cx="69372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47628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профилактики неуспеваемости учеников </a:t>
            </a:r>
            <a:br>
              <a:rPr sz="16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222200"/>
            <a:ext cx="822960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овать усвоение вопросов, обычно вызывающих у учащихся наибольшее затрудн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щательно анализировать и систематизировать ошибки, допускаемые учениками в устных ответах, письменных работах, выявить типичные для класса и концентрировать внимание на их устранен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темы или раздела обобщить итоги усвоения основных понятий, законов, правил, умений и навыков, выявить причины отставания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проверять в ходе урока степень понимания учащимися основных элементов излагаемого материала;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стороннее повышение эффективности каждого урока и занятий на внеурочной деятельности. (Привлекать к обучению слабых более сильных ребят.) Изложили материал, опросили сильных - посадите их к слабым, и пусть продолжается учеб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познавательного интереса к учению и положительны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ов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Индивидуальный подход к учащемуся на уроках и внеурочн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иление работы с родителям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954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4520" y="-298800"/>
            <a:ext cx="791496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ые занятия с 9 классом. Разбор ошибок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1" name="Picture 5" descr="Доброго Вам утра, дня, вечера! В этой статье мы продолжаем изучать ошибки, допускаемые учениками 9 класса при выполнении экзаменационной работы за курс девяти лет обучения математике."/>
          <p:cNvPicPr/>
          <p:nvPr/>
        </p:nvPicPr>
        <p:blipFill>
          <a:blip r:embed="rId1"/>
          <a:stretch/>
        </p:blipFill>
        <p:spPr>
          <a:xfrm>
            <a:off x="1009800" y="692280"/>
            <a:ext cx="712440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4520" y="-298800"/>
            <a:ext cx="791496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ые занятия с 9 классом. Разбор ошибок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3" name="Picture 2" descr="Доброго Вам утра, дня, вечера! В этой статье мы продолжаем изучать ошибки, допускаемые учениками 9 класса при выполнении экзаменационной работы за курс девяти лет обучения математике.-3"/>
          <p:cNvPicPr/>
          <p:nvPr/>
        </p:nvPicPr>
        <p:blipFill>
          <a:blip r:embed="rId1"/>
          <a:stretch/>
        </p:blipFill>
        <p:spPr>
          <a:xfrm>
            <a:off x="695160" y="692280"/>
            <a:ext cx="78552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6:03:16Z</dcterms:created>
  <dc:creator>ждл</dc:creator>
  <dc:description/>
  <dc:language>en-US</dc:language>
  <cp:lastModifiedBy>Роман Портнягин</cp:lastModifiedBy>
  <dcterms:modified xsi:type="dcterms:W3CDTF">2023-10-31T22:49:34Z</dcterms:modified>
  <cp:revision>48</cp:revision>
  <dc:subject/>
  <dc:title>Педсовет «Создание системы»</dc:title>
</cp:coreProperties>
</file>