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28.gif" ContentType="image/gif"/>
  <Override PartName="/ppt/media/image8.png" ContentType="image/png"/>
  <Override PartName="/ppt/media/image9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10.gif" ContentType="image/gif"/>
  <Override PartName="/ppt/media/image7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7.gif" ContentType="image/gif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6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FB0-969D-46E5-96E7-F064A467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C23-9C2C-4D1C-9196-DFDB98CE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BA4-54F8-4F0E-8F30-50836473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5BC-7E0D-482C-87D8-9C271B3D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F5B-EE2E-4B19-8E92-5ED8094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693-5610-4A84-A8F9-DA964FD6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0462-01AF-461D-BB17-05529400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6D1-2566-4A9C-B463-DABF3C91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99E1-66E5-48BE-A34A-8ED982E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B136-ED8A-4937-BFE7-D343FB8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91FA-4602-40F9-99F9-8C511090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20C-BEA5-44B4-8344-F5151D6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57D3-0B36-42C4-B104-4B89E2C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008-59BD-4193-96FE-8DEDEDD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35E-597E-42D1-B0AC-9D11585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67D-915C-4AD4-96E0-19CF966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EA47-DF52-4DDB-AD93-93AFBD4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6500-6398-41EE-957D-F508C106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09D3-0CF4-4F34-8FD0-33E1250A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5C1A-3501-47E9-9200-4A29634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3048-22B1-45F2-B43D-EDA28CAC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BF68-D775-4825-909F-5DA9C87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CF3-75A2-4362-BE64-B202C3B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2BC3-12B5-45E9-8440-EE7F2D2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52EB-2138-4E10-9ABD-91BD1C3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DBB3-3745-4101-ADCF-0841FEA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01A8-4E4B-47DB-83A1-5165DD8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8D1E-6F3E-40CF-B531-E958055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73F1-AE85-4F46-A30B-CF17006E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B90B-5339-4508-8D48-AA476721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04B4-7EB8-4CE4-AF0E-A3F69FCC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921F-E830-4CAB-BB6C-28B9C0C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751A-45CF-4E44-B62F-08C5A49E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BE8-12B9-49CF-875C-D16C78C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5A80-0565-4803-A48C-A4EC10E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6B39-C99D-4446-BC19-D000DF5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2FB2-FB05-47D5-BF51-A86D982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9C01-4706-494F-938E-3C32AEA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07B3-ED1A-44EA-A329-906BDE2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CE1F-3769-4DD4-81BA-109CDCB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9857-92A2-4CB2-837B-37EB903A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C457-81D9-458B-A364-1C3B304E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793C-1264-4E8A-AD30-581CE8BB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4DB3-32E5-4651-BE75-7E466076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C18-A428-49CD-9CFD-7CF8473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F32F1-888A-4554-A974-D8D91DD4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4ACE-D9D5-4132-9CAB-30CCF4AE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9512-D3EF-4C89-A2CF-5ACED6D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4C55-1FD0-485C-9BE3-C1E3A20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12A5-FACC-4F66-B812-098B9951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F795C-5CFE-46A8-ABC9-67B7CB7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6F2F-4BE8-4C81-81DA-ABAD923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33CA-0CC4-4BBA-8E96-F63F543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E478-2575-4D1A-8456-14B33B2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CE05-C86A-4FDE-86E0-727BC24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F35-9630-4E14-8698-13FE518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E1D0-9343-49A5-9E94-7CA241A2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FF3F-3634-4186-80ED-AC7A2335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46E4-F50C-42A2-9480-9498AA83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6036-B4C6-403E-847F-82656774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D21C-2670-42B1-95A5-A0943D6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0AA2-AF3D-48DB-8701-9475B011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5A3D-2AF3-4B47-AE07-AD8F779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63CB-1976-43BB-AD90-87C3A03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9AB2-1A83-4109-B003-310EE05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3875-8B87-4FF9-B96E-342D342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9BD-FCAB-4559-91D7-86AD24FA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2DD3-B4CC-4DD5-8763-1FD0DEE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A406-20F1-42CE-B7A6-8569626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AC8C-4A51-43CE-93CA-91416F5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771-1BBB-480C-8A17-8F20BBE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517-B0C8-49F9-9CB3-CE5A706F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60BB-B1D8-40CF-BCB4-132CD78B1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137-C1B6-42E1-A047-7D396D6A2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562-C611-481B-A728-2F71D7E16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90E-8BF1-4866-9FEE-B88705D35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B886-CFE9-4C02-B668-0B3B70C5C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9E3-1C18-4513-A14D-1C62BB4C3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u_1192067585"/>
          <p:cNvPicPr/>
          <p:nvPr/>
        </p:nvPicPr>
        <p:blipFill>
          <a:blip r:embed="rId1"/>
          <a:stretch/>
        </p:blipFill>
        <p:spPr>
          <a:xfrm>
            <a:off x="108000" y="1341360"/>
            <a:ext cx="6408720" cy="515772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1403280" y="0"/>
            <a:ext cx="63914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КОМНАТНЫЕ РАСТЕНИЯ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6300720" y="486900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ришкова Валенти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ГКОУ «Школа № 1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имитров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5" descr="flokomn08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216000" y="5464080"/>
            <a:ext cx="8712000" cy="1922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Растениям нужна вода, поэтому раст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надо регулярно поли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D:\клипарты\природа\96f1403e24ec.png"/>
          <p:cNvPicPr/>
          <p:nvPr/>
        </p:nvPicPr>
        <p:blipFill>
          <a:blip r:embed="rId2"/>
          <a:stretch/>
        </p:blipFill>
        <p:spPr>
          <a:xfrm rot="19160400">
            <a:off x="179280" y="126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101356748_4809770_p3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125280" y="0"/>
            <a:ext cx="8893440" cy="2531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Почему комнатные растения ставят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подоконник, а не на пол или под 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105360" y="6021360"/>
            <a:ext cx="2932920" cy="703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НУЖЕН С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17447270001279a59481265a5f6924a6880cc7b2c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33480" y="115920"/>
            <a:ext cx="8978760" cy="1739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Почему комнатные растения осенью и зимой не выносят на ул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575080" y="5877000"/>
            <a:ext cx="3457440" cy="703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НУЖНО ТЕП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1297808981_67381441_vozduh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179280" y="189000"/>
            <a:ext cx="8785440" cy="1922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Какое ещё условие необходимо растения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ы они хорошо рос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2565720" y="5877000"/>
            <a:ext cx="401220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НУЖЕН 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696520" cy="65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88080" cy="33130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622760" cy="346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324000" y="189000"/>
            <a:ext cx="849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1.Учитывать отношение к с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2.Поливать водой комнатной темп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3.Почва должна быть слегка влаж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4.Лейку при поливе держать низко над гор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5.Рыхлить только на поверхности и по краю гор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6.Крупные гладкие листья очищать от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2" descr=""/>
          <p:cNvPicPr/>
          <p:nvPr/>
        </p:nvPicPr>
        <p:blipFill>
          <a:blip r:embed="rId1"/>
          <a:stretch/>
        </p:blipFill>
        <p:spPr>
          <a:xfrm>
            <a:off x="2124000" y="3254400"/>
            <a:ext cx="455472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324000" y="333360"/>
            <a:ext cx="684036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Нет ничего прекраснее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Пришедших в палисады и ж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Они пришли из глубины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 сделать жизнь возвышенней и ч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Ты должен над цветами на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Не для того, чтоб рвать или сре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А чтоб увидеть добрые их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И доброе лицо им по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Цветы – земной красы нач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Цветы выращив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 ещё краше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Земля родимая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712960" cy="298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755640" y="40464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Monotype Corsiva"/>
                <a:ea typeface="Arial"/>
              </a:rPr>
              <a:t>Практическ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611280" y="206064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Arial"/>
              </a:rPr>
              <a:t>1.Аппликация «Посади цве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Arial"/>
              </a:rPr>
              <a:t>2.Уход за раст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712960" cy="29829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"/>
          <p:cNvPicPr/>
          <p:nvPr/>
        </p:nvPicPr>
        <p:blipFill>
          <a:blip r:embed="rId2"/>
          <a:stretch/>
        </p:blipFill>
        <p:spPr>
          <a:xfrm>
            <a:off x="395280" y="4624560"/>
            <a:ext cx="619776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395280" y="333360"/>
            <a:ext cx="856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Monotype Corsiva"/>
                <a:ea typeface="Arial"/>
              </a:rPr>
              <a:t>Спасибо за работ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2" descr=""/>
          <p:cNvPicPr/>
          <p:nvPr/>
        </p:nvPicPr>
        <p:blipFill>
          <a:blip r:embed="rId1"/>
          <a:srcRect l="3376" t="0" r="28584" b="0"/>
          <a:stretch/>
        </p:blipFill>
        <p:spPr>
          <a:xfrm>
            <a:off x="2268360" y="2133720"/>
            <a:ext cx="4607280" cy="3792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85720" y="2060280"/>
            <a:ext cx="5354640" cy="3197160"/>
          </a:xfrm>
          <a:prstGeom prst="rect">
            <a:avLst/>
          </a:prstGeom>
          <a:solidFill>
            <a:srgbClr val="ffff99"/>
          </a:solidFill>
          <a:ln w="190440">
            <a:solidFill>
              <a:srgbClr val="ffff00"/>
            </a:solidFill>
            <a:miter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Очищают воздух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Создают уют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На окнах зеленеют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Круглый год цветут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cc99ff"/>
          </a:solidFill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Комнатные рас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1"/>
          <a:stretch/>
        </p:blipFill>
        <p:spPr>
          <a:xfrm>
            <a:off x="6372360" y="3624120"/>
            <a:ext cx="2411280" cy="23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Monotype Corsiva"/>
              </a:rPr>
              <a:t>Комнатные растения – это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источник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68436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53964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900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3302640" y="1882800"/>
            <a:ext cx="252936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РАС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686160" y="2901960"/>
            <a:ext cx="263592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alibri"/>
                <a:ea typeface="Arial"/>
              </a:rPr>
              <a:t>ДОБ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589000" y="2879640"/>
            <a:ext cx="281556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  <a:ea typeface="Arial"/>
              </a:rPr>
              <a:t>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2383200" y="4065480"/>
            <a:ext cx="483192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Calibri"/>
                <a:ea typeface="Arial"/>
              </a:rPr>
              <a:t>ЧИСТОГО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1505520" y="5289480"/>
            <a:ext cx="629028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Calibri"/>
                <a:ea typeface="Arial"/>
              </a:rPr>
              <a:t>ХОРОШЕГО НА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84360" y="476280"/>
            <a:ext cx="79912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«И если мне хочется иногда жить до ста двадцати лет, то только потому, что мало одной жизни, чтобы испытать до конца всё очарование и всю исцеляющую силу нашей природы. Любовь к родной природе – один из верных признаков любви к своей стран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К.Пауст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324000" y="404640"/>
            <a:ext cx="57243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Любите родную природу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Озера, леса и по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Ведь это же наша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Навеки родная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На ней мы с тобою родили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Живем мы с тобою на 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Так будем же, люди, все в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Мы к ней относиться добр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"/>
          <p:cNvPicPr/>
          <p:nvPr/>
        </p:nvPicPr>
        <p:blipFill>
          <a:blip r:embed="rId1"/>
          <a:stretch/>
        </p:blipFill>
        <p:spPr>
          <a:xfrm>
            <a:off x="6013440" y="1773360"/>
            <a:ext cx="2919600" cy="427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395280" y="1890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«Чтобы жить, нужны солнце, свобода и маленький цветок» - говорил великий сказочник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       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Ганс Христиан Андер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4" descr=""/>
          <p:cNvPicPr/>
          <p:nvPr/>
        </p:nvPicPr>
        <p:blipFill>
          <a:blip r:embed="rId1"/>
          <a:stretch/>
        </p:blipFill>
        <p:spPr>
          <a:xfrm>
            <a:off x="3213000" y="3068640"/>
            <a:ext cx="279108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gloksiniya_vtoroe_cvetenie_0"/>
          <p:cNvPicPr/>
          <p:nvPr/>
        </p:nvPicPr>
        <p:blipFill>
          <a:blip r:embed="rId1"/>
          <a:stretch/>
        </p:blipFill>
        <p:spPr>
          <a:xfrm>
            <a:off x="2090880" y="2852640"/>
            <a:ext cx="5005080" cy="37544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" descr=""/>
          <p:cNvPicPr/>
          <p:nvPr/>
        </p:nvPicPr>
        <p:blipFill>
          <a:blip r:embed="rId2"/>
          <a:stretch/>
        </p:blipFill>
        <p:spPr>
          <a:xfrm>
            <a:off x="42840" y="66600"/>
            <a:ext cx="910764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tretch/>
        </p:blipFill>
        <p:spPr>
          <a:xfrm>
            <a:off x="15840" y="115920"/>
            <a:ext cx="4248360" cy="31827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"/>
          <p:cNvPicPr/>
          <p:nvPr/>
        </p:nvPicPr>
        <p:blipFill>
          <a:blip r:embed="rId3"/>
          <a:stretch/>
        </p:blipFill>
        <p:spPr>
          <a:xfrm>
            <a:off x="6516720" y="765000"/>
            <a:ext cx="955800" cy="18608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156708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1286353089_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147400" y="5877000"/>
            <a:ext cx="578448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УХОД ЗА РАСТ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7:06:28Z</dcterms:created>
  <dc:creator>Nikich</dc:creator>
  <dc:description/>
  <dc:language>en-US</dc:language>
  <cp:lastModifiedBy>Пользователь</cp:lastModifiedBy>
  <dcterms:modified xsi:type="dcterms:W3CDTF">2024-01-25T16:33:54Z</dcterms:modified>
  <cp:revision>47</cp:revision>
  <dc:subject/>
  <dc:title>Обучающее сочинение</dc:title>
</cp:coreProperties>
</file>