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4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28.gif" ContentType="image/gif"/>
  <Override PartName="/ppt/media/image8.png" ContentType="image/png"/>
  <Override PartName="/ppt/media/image9.gif" ContentType="image/gif"/>
  <Override PartName="/ppt/media/image6.jpeg" ContentType="image/jpeg"/>
  <Override PartName="/ppt/media/image13.png" ContentType="image/png"/>
  <Override PartName="/ppt/media/image12.jpeg" ContentType="image/jpeg"/>
  <Override PartName="/ppt/media/image10.gif" ContentType="image/gif"/>
  <Override PartName="/ppt/media/image7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6.gif" ContentType="image/gif"/>
  <Override PartName="/ppt/media/image17.gif" ContentType="image/gif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4.png" ContentType="image/png"/>
  <Override PartName="/ppt/media/image26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693-D140-4864-BC2B-1260332D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3CA-7BA8-44A6-9038-F0A2CDB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DF3-5107-4664-8700-5AF49D89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4022-717A-41AA-8B04-C14930A9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108E-041E-4FB4-B299-7FE166E5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AA66-2FFA-4EB6-8F70-AD452DD4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2099-8E82-4EE7-A6F9-1A4A8BCA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0B40-9E82-4FD0-9D36-601189CF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490B-C9C4-41EC-8937-B21892F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DB18-202D-44F2-A2A5-384415E3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681-5543-4A9E-AC7F-B9C23383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57D7-BA26-45B6-94F6-C27B4F6C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C25-9B0E-4EF4-A806-77EC3E2F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A73A-C2FC-476E-965E-43DBDBF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72A55-3AD5-4418-96B9-62D20EB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ACA-73FE-47E8-BAEC-5CEC10660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F8AF-9954-472D-B29D-F35AB951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73D83-44FC-44AA-88B9-C77DF196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322B0-84FA-4945-8CEA-8FA5030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4E22-C46E-4343-BE6A-BC545466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B346-2BB9-4A71-90F2-14A537F4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9BDC9-F572-423F-9C41-2D1CFA48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71B-7FED-4CFB-BEDC-11A7AE23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3975-6409-4F8E-AD29-030E7E1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C99BD-4788-41BB-943E-443DAED3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987E5-092A-4E63-BD42-5E64297B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55ED1-A2EC-4D2D-9414-AC94546C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4DDA-CDFB-4F69-8D68-19597B37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5EDFF-9DBA-44B4-B198-9143A4B1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0EFEB-0019-4582-B2E1-A84ECE75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E44A-5207-4227-9771-60175F9B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4C0A5-9DDE-4613-AE2A-9A4D5CBD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40BCE-71C4-4AFF-93CE-73D7BDF70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2BD-0F2A-4DD9-BD02-530D0F5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D5FBC-175B-4A53-BB57-B06546D1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E1C9E-6B3C-4B0D-90A2-22138E85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26794-A45F-48FE-A723-9B6A76F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1FA6-4319-4488-95EE-95E77D32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36C0E-C17B-4449-BC68-04B07437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F5535-978C-4B8D-83E5-D76C73EF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2115-CC86-452D-8686-1E1BC045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E982-3C09-4C29-9153-88745AD5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47F0-DD9A-4789-81C6-3DCAEC32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22A8C-926E-40A3-A59C-7F47464B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2BD-9D11-4A08-82DE-60059089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5B79-D4FA-423D-953A-356BA32A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5795-3713-44D4-9B5A-661E52C4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AF87B-E1ED-4334-943C-2DDF731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AE686-D2F3-4E7E-AC9C-6631781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48FD-3042-4DA4-9684-748AE629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C6160-F86B-4E37-A0DF-5719D0D0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D05B9-FB10-4C2D-A3A0-55556AA3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23D0-1398-4A06-B3C0-AC2C4480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16D8B-C1D8-4AB5-8015-63459B57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67109-1E6D-4BD8-A76D-EEF655AA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E7D-920F-4DA4-80CC-9014CCEF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CD6AF-50CF-4355-AA9F-BDA2FC1C3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9BAB-AAB7-46FB-A165-1AE2AD93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CB8B2-1171-47D3-A30C-C929106C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1259B-A009-4565-92A5-90DFE9B5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7EC4E-2845-49E8-863F-8172B4CB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C699C-DEAD-4E3E-8F3A-2E5CF4EF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314E7-2710-47D2-B677-A739D954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4706-1E67-4CE1-991C-BEE3FAC3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CA33-7000-45DF-8C38-D2193413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C48D-F72F-4803-A9D1-D712DD77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A082-74E4-43FA-BFCF-F9D5CFB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3320D-1E3C-4B25-A6A6-D49C3DF7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BA5D2-6AC7-4FDE-9DE0-87E537EB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466E-F813-4403-AD7F-55467F772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05A0-473E-462F-B66A-097743D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1E4-8BEA-4E31-8878-C21A4AD4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9A6B-7458-44A9-8805-6F134E093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E9B6-4680-440E-A6C6-2CF522242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73DF-C9DD-4697-9AA7-3EC489B9E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FB75-0BE0-4737-8B43-277E6AF0B4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1CDA-A004-4EDD-806E-DA7F494FD9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A53-433C-415D-8967-61A16DACC4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u_1192067585"/>
          <p:cNvPicPr/>
          <p:nvPr/>
        </p:nvPicPr>
        <p:blipFill>
          <a:blip r:embed="rId1"/>
          <a:stretch/>
        </p:blipFill>
        <p:spPr>
          <a:xfrm>
            <a:off x="108000" y="1341360"/>
            <a:ext cx="6408720" cy="5157720"/>
          </a:xfrm>
          <a:prstGeom prst="rect">
            <a:avLst/>
          </a:prstGeom>
          <a:ln w="0">
            <a:noFill/>
          </a:ln>
        </p:spPr>
      </p:pic>
      <p:sp>
        <p:nvSpPr>
          <p:cNvPr id="247" name="WordArt 4"/>
          <p:cNvSpPr txBox="1"/>
          <p:nvPr/>
        </p:nvSpPr>
        <p:spPr>
          <a:xfrm>
            <a:off x="1403280" y="0"/>
            <a:ext cx="63914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Calibri"/>
              </a:rPr>
              <a:t>КОМНАТНЫЕ РАСТЕНИЯ</a:t>
            </a:r>
            <a:endParaRPr b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6300720" y="486900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Гришкова Валенти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ОГКОУ «Школа № 11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имитровг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5" descr="flokomn08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216000" y="5464080"/>
            <a:ext cx="8712000" cy="1922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Растениям нужна вода, поэтому растен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надо регулярно полив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8" descr="D:\клипарты\природа\96f1403e24ec.png"/>
          <p:cNvPicPr/>
          <p:nvPr/>
        </p:nvPicPr>
        <p:blipFill>
          <a:blip r:embed="rId2"/>
          <a:stretch/>
        </p:blipFill>
        <p:spPr>
          <a:xfrm rot="19160400">
            <a:off x="179280" y="12682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5" descr="101356748_4809770_p32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6"/>
          <p:cNvSpPr/>
          <p:nvPr/>
        </p:nvSpPr>
        <p:spPr>
          <a:xfrm>
            <a:off x="125280" y="0"/>
            <a:ext cx="8893440" cy="2531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Почему комнатные растения ставят 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подоконник, а не на пол или под ст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3105360" y="6021360"/>
            <a:ext cx="2932920" cy="703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НУЖЕН С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17447270001279a59481265a5f6924a6880cc7b2c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6"/>
          <p:cNvSpPr/>
          <p:nvPr/>
        </p:nvSpPr>
        <p:spPr>
          <a:xfrm>
            <a:off x="33480" y="115920"/>
            <a:ext cx="8978760" cy="17398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Почему комнатные растения осенью и зимой не выносят на ул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"/>
          <p:cNvSpPr/>
          <p:nvPr/>
        </p:nvSpPr>
        <p:spPr>
          <a:xfrm>
            <a:off x="2575080" y="5877000"/>
            <a:ext cx="3457440" cy="70344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НУЖНО ТЕП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1297808981_67381441_vozduh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6"/>
          <p:cNvSpPr/>
          <p:nvPr/>
        </p:nvSpPr>
        <p:spPr>
          <a:xfrm>
            <a:off x="179280" y="189000"/>
            <a:ext cx="8785440" cy="1922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Какое ещё условие необходимо растения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ы они хорошо рос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"/>
          <p:cNvSpPr/>
          <p:nvPr/>
        </p:nvSpPr>
        <p:spPr>
          <a:xfrm>
            <a:off x="2565720" y="5877000"/>
            <a:ext cx="401220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НУЖЕН ВОЗДУ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696520" cy="651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88080" cy="3313080"/>
          </a:xfrm>
          <a:prstGeom prst="rect">
            <a:avLst/>
          </a:prstGeom>
          <a:ln w="0">
            <a:noFill/>
          </a:ln>
        </p:spPr>
      </p:pic>
      <p:pic>
        <p:nvPicPr>
          <p:cNvPr id="291" name="Рисунок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622760" cy="3462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324000" y="189000"/>
            <a:ext cx="849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1.Учитывать отношение к св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2.Поливать водой комнатной темп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3.Почва должна быть слегка влаж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4.Лейку при поливе держать низко над горш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5.Рыхлить только на поверхности и по краю гор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6.Крупные гладкие листья очищать от пы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2" descr=""/>
          <p:cNvPicPr/>
          <p:nvPr/>
        </p:nvPicPr>
        <p:blipFill>
          <a:blip r:embed="rId1"/>
          <a:stretch/>
        </p:blipFill>
        <p:spPr>
          <a:xfrm>
            <a:off x="2124000" y="3254400"/>
            <a:ext cx="4554720" cy="3413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324000" y="333360"/>
            <a:ext cx="684036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Нет ничего прекраснее цвет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Пришедших в палисады и жил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Они пришли из глубины век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 сделать жизнь возвышенней и чи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Ты должен над цветами наклон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Не для того, чтоб рвать или сре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А чтоб увидеть добрые их 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И доброе лицо им показ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Цветы – земной красы нач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Цветы выращивай, лю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Чтоб ещё краше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Monotype Corsiva"/>
                <a:ea typeface="Arial"/>
              </a:rPr>
              <a:t>Земля родимая тво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Рисунок 2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712960" cy="2982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1"/>
          <p:cNvSpPr/>
          <p:nvPr/>
        </p:nvSpPr>
        <p:spPr>
          <a:xfrm>
            <a:off x="755640" y="404640"/>
            <a:ext cx="756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Monotype Corsiva"/>
                <a:ea typeface="Arial"/>
              </a:rPr>
              <a:t>Практическая раб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"/>
          <p:cNvSpPr/>
          <p:nvPr/>
        </p:nvSpPr>
        <p:spPr>
          <a:xfrm>
            <a:off x="611280" y="206064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Arial"/>
              </a:rPr>
              <a:t>1.Аппликация «Посади цвето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Monotype Corsiva"/>
                <a:ea typeface="Arial"/>
              </a:rPr>
              <a:t>2.Уход за раст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Рисунок 3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712960" cy="298296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4" descr=""/>
          <p:cNvPicPr/>
          <p:nvPr/>
        </p:nvPicPr>
        <p:blipFill>
          <a:blip r:embed="rId2"/>
          <a:stretch/>
        </p:blipFill>
        <p:spPr>
          <a:xfrm>
            <a:off x="395280" y="4624560"/>
            <a:ext cx="6197760" cy="1825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395280" y="333360"/>
            <a:ext cx="856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c00000"/>
                </a:solidFill>
                <a:latin typeface="Monotype Corsiva"/>
                <a:ea typeface="Arial"/>
              </a:rPr>
              <a:t>Спасибо за работу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2" descr=""/>
          <p:cNvPicPr/>
          <p:nvPr/>
        </p:nvPicPr>
        <p:blipFill>
          <a:blip r:embed="rId1"/>
          <a:srcRect l="3376" t="0" r="28584" b="0"/>
          <a:stretch/>
        </p:blipFill>
        <p:spPr>
          <a:xfrm>
            <a:off x="2268360" y="2133720"/>
            <a:ext cx="4607280" cy="3792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85720" y="2060280"/>
            <a:ext cx="5354640" cy="3197160"/>
          </a:xfrm>
          <a:prstGeom prst="rect">
            <a:avLst/>
          </a:prstGeom>
          <a:solidFill>
            <a:srgbClr val="ffff99"/>
          </a:solidFill>
          <a:ln w="190440">
            <a:solidFill>
              <a:srgbClr val="ffff00"/>
            </a:solidFill>
            <a:miter/>
          </a:ln>
        </p:spPr>
        <p:txBody>
          <a:bodyPr anchor="t">
            <a:normAutofit fontScale="78000"/>
          </a:bodyPr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Очищают воздух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Создают уют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На окнах зеленеют, </a:t>
            </a:r>
            <a:br>
              <a:rPr sz="4800"/>
            </a:br>
            <a:r>
              <a:rPr b="1" i="1" lang="ru-RU" sz="4800" spc="-1" strike="noStrike">
                <a:solidFill>
                  <a:srgbClr val="800000"/>
                </a:solidFill>
                <a:latin typeface="Monotype Corsiva"/>
              </a:rPr>
              <a:t>Круглый год цветут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cc99ff"/>
          </a:solidFill>
          <a:ln w="190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Комнатные расте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1"/>
          <a:stretch/>
        </p:blipFill>
        <p:spPr>
          <a:xfrm>
            <a:off x="6372360" y="3624120"/>
            <a:ext cx="2411280" cy="23018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Monotype Corsiva"/>
              </a:rPr>
              <a:t>Комнатные растения – это </a:t>
            </a: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источник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68436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53964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8"/>
          <p:cNvSpPr/>
          <p:nvPr/>
        </p:nvSpPr>
        <p:spPr>
          <a:xfrm>
            <a:off x="900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>
            <a:off x="3302640" y="1882800"/>
            <a:ext cx="252936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КРАС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686160" y="2901960"/>
            <a:ext cx="263592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cc00"/>
                </a:solidFill>
                <a:latin typeface="Calibri"/>
                <a:ea typeface="Arial"/>
              </a:rPr>
              <a:t>ДОБР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589000" y="2879640"/>
            <a:ext cx="281556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  <a:ea typeface="Arial"/>
              </a:rPr>
              <a:t>ЗДОРОВ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5"/>
          <p:cNvSpPr/>
          <p:nvPr/>
        </p:nvSpPr>
        <p:spPr>
          <a:xfrm>
            <a:off x="2383200" y="4065480"/>
            <a:ext cx="483192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99"/>
                </a:solidFill>
                <a:latin typeface="Calibri"/>
                <a:ea typeface="Arial"/>
              </a:rPr>
              <a:t>ЧИСТОГО ВОЗДУХ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6"/>
          <p:cNvSpPr/>
          <p:nvPr/>
        </p:nvSpPr>
        <p:spPr>
          <a:xfrm>
            <a:off x="1505520" y="5289480"/>
            <a:ext cx="629028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Calibri"/>
                <a:ea typeface="Arial"/>
              </a:rPr>
              <a:t>ХОРОШЕГО НАСТРО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684360" y="476280"/>
            <a:ext cx="799128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«И если мне хочется иногда жить до ста двадцати лет, то только потому, что мало одной жизни, чтобы испытать до конца всё очарование и всю исцеляющую силу нашей природы. Любовь к родной природе – один из верных признаков любви к своей стране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Monotype Corsiva"/>
                <a:ea typeface="Arial"/>
              </a:rPr>
              <a:t>К.Пауст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1"/>
          <p:cNvSpPr/>
          <p:nvPr/>
        </p:nvSpPr>
        <p:spPr>
          <a:xfrm>
            <a:off x="324000" y="404640"/>
            <a:ext cx="572436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Любите родную природу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Озера, леса и по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Ведь это же наша с тобо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Навеки родная земл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На ней мы с тобою родилис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Живем мы с тобою на н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Так будем же, люди, все вме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Мы к ней относиться добр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2" descr=""/>
          <p:cNvPicPr/>
          <p:nvPr/>
        </p:nvPicPr>
        <p:blipFill>
          <a:blip r:embed="rId1"/>
          <a:stretch/>
        </p:blipFill>
        <p:spPr>
          <a:xfrm>
            <a:off x="6013440" y="1773360"/>
            <a:ext cx="2919600" cy="4271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395280" y="1890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«Чтобы жить, нужны солнце, свобода и маленький цветок» - говорил великий сказочник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                                      </a:t>
            </a:r>
            <a:r>
              <a:rPr b="1" lang="ru-RU" sz="3600" spc="-1" strike="noStrike">
                <a:solidFill>
                  <a:srgbClr val="006600"/>
                </a:solidFill>
                <a:latin typeface="Monotype Corsiva"/>
                <a:ea typeface="Arial"/>
              </a:rPr>
              <a:t>Ганс Христиан Андерс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4" descr=""/>
          <p:cNvPicPr/>
          <p:nvPr/>
        </p:nvPicPr>
        <p:blipFill>
          <a:blip r:embed="rId1"/>
          <a:stretch/>
        </p:blipFill>
        <p:spPr>
          <a:xfrm>
            <a:off x="3213000" y="3068640"/>
            <a:ext cx="279108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gloksiniya_vtoroe_cvetenie_0"/>
          <p:cNvPicPr/>
          <p:nvPr/>
        </p:nvPicPr>
        <p:blipFill>
          <a:blip r:embed="rId1"/>
          <a:stretch/>
        </p:blipFill>
        <p:spPr>
          <a:xfrm>
            <a:off x="2090880" y="2852640"/>
            <a:ext cx="5005080" cy="375444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оугольник 2" descr=""/>
          <p:cNvPicPr/>
          <p:nvPr/>
        </p:nvPicPr>
        <p:blipFill>
          <a:blip r:embed="rId2"/>
          <a:stretch/>
        </p:blipFill>
        <p:spPr>
          <a:xfrm>
            <a:off x="42840" y="66600"/>
            <a:ext cx="910764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" descr=""/>
          <p:cNvPicPr/>
          <p:nvPr/>
        </p:nvPicPr>
        <p:blipFill>
          <a:blip r:embed="rId1"/>
          <a:stretch/>
        </p:blipFill>
        <p:spPr>
          <a:xfrm>
            <a:off x="15840" y="115920"/>
            <a:ext cx="4248360" cy="318276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"/>
          <p:cNvPicPr/>
          <p:nvPr/>
        </p:nvPicPr>
        <p:blipFill>
          <a:blip r:embed="rId3"/>
          <a:stretch/>
        </p:blipFill>
        <p:spPr>
          <a:xfrm>
            <a:off x="6516720" y="765000"/>
            <a:ext cx="955800" cy="18608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"/>
          <p:cNvPicPr/>
          <p:nvPr/>
        </p:nvPicPr>
        <p:blipFill>
          <a:blip r:embed="rId4"/>
          <a:stretch/>
        </p:blipFill>
        <p:spPr>
          <a:xfrm>
            <a:off x="900000" y="4292640"/>
            <a:ext cx="1567080" cy="2239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5" descr="1286353089_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6"/>
          <p:cNvSpPr/>
          <p:nvPr/>
        </p:nvSpPr>
        <p:spPr>
          <a:xfrm>
            <a:off x="2147400" y="5877000"/>
            <a:ext cx="578448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Arial"/>
              </a:rPr>
              <a:t>УХОД ЗА РАСТЕНИ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7T17:06:28Z</dcterms:created>
  <dc:creator>Nikich</dc:creator>
  <dc:description/>
  <dc:language>en-US</dc:language>
  <cp:lastModifiedBy>Пользователь</cp:lastModifiedBy>
  <dcterms:modified xsi:type="dcterms:W3CDTF">2024-01-25T16:33:54Z</dcterms:modified>
  <cp:revision>47</cp:revision>
  <dc:subject/>
  <dc:title>Обучающее сочинение</dc:title>
</cp:coreProperties>
</file>