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9.png" ContentType="image/png"/>
  <Override PartName="/ppt/media/image20.jpeg" ContentType="image/jpe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A284-F107-4194-8DF8-5D8112812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2011320"/>
            <a:ext cx="8064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3979080"/>
            <a:ext cx="8064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C8AE-FF13-4C01-BFA2-B7134B62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201132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760" y="201132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397908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760" y="397908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688B-FA8E-4238-8BC3-C67E2B409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2011320"/>
            <a:ext cx="25966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4960" y="2011320"/>
            <a:ext cx="25966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1600" y="2011320"/>
            <a:ext cx="25966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3979080"/>
            <a:ext cx="25966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4960" y="3979080"/>
            <a:ext cx="25966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1600" y="3979080"/>
            <a:ext cx="25966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1C2A-A484-4210-B02D-2541A4D6E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BAD67-846E-4DC1-B959-57CFE2D6E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7960" y="2011320"/>
            <a:ext cx="80647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43FD-052F-4889-A1D8-E23C8542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7960" y="2011320"/>
            <a:ext cx="8064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8A01-1ED7-408C-8CAA-C1D7112B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2011320"/>
            <a:ext cx="3935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0760" y="2011320"/>
            <a:ext cx="3935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FCFF-32EE-4D44-9485-9A150447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F613-8CE4-49CD-97DD-7600F2F5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93560" y="500040"/>
            <a:ext cx="807912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F61B9-F197-4524-881C-961B066F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7960" y="201132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0760" y="2011320"/>
            <a:ext cx="3935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7960" y="397908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C7A8-0508-4E62-914A-1D1448DD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2011320"/>
            <a:ext cx="80647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EED3-5E8F-4BC2-AD9F-36600349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7960" y="2011320"/>
            <a:ext cx="3935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760" y="201132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0760" y="397908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DB93-7A52-4752-9E17-147BBCF2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7960" y="201132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760" y="201132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7960" y="3979080"/>
            <a:ext cx="8064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856B-3FD5-4326-A4C5-6493A495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7960" y="2011320"/>
            <a:ext cx="8064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7960" y="3979080"/>
            <a:ext cx="8064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CB35-1DFC-42E4-8E3D-48EC541C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201132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0760" y="201132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7960" y="397908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0760" y="397908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5100-BD7B-46B2-BEE4-2C3D57E44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7960" y="2011320"/>
            <a:ext cx="25966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4960" y="2011320"/>
            <a:ext cx="25966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1600" y="2011320"/>
            <a:ext cx="25966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7960" y="3979080"/>
            <a:ext cx="25966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4960" y="3979080"/>
            <a:ext cx="25966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1600" y="3979080"/>
            <a:ext cx="25966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0F196-6983-4B97-8E92-8640B88E0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6F309-F0AE-4C10-A1EA-879F31984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07960" y="2011320"/>
            <a:ext cx="80647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69BB3-635C-48D6-8FDA-04686CF0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7960" y="2011320"/>
            <a:ext cx="8064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FD38B-5D66-48C5-8D94-07CA3CCF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7960" y="2011320"/>
            <a:ext cx="3935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0760" y="2011320"/>
            <a:ext cx="3935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4CC12-9376-4EE6-9064-5F1E3CC7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DA9C5-C53D-4DAD-9833-17484E2E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2011320"/>
            <a:ext cx="8064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5368-43CA-4744-8C7C-28291ECE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93560" y="500040"/>
            <a:ext cx="807912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D5333-1A19-481D-80B4-48FB9C1A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201132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0760" y="2011320"/>
            <a:ext cx="3935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397908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35FA2-6D3D-4473-AC70-EADD05A8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2011320"/>
            <a:ext cx="3935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0760" y="201132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40760" y="397908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04F77-E20C-4E0F-AC87-01E04C45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7960" y="201132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0760" y="201132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7960" y="3979080"/>
            <a:ext cx="8064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A0EB4-E5F9-4120-BA7B-388FEA85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2011320"/>
            <a:ext cx="8064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7960" y="3979080"/>
            <a:ext cx="8064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A6217-1CE5-4692-9FE5-652CF7B7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7960" y="201132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0760" y="201132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7960" y="397908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40760" y="397908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48385-CF43-40C6-81B1-CE12D7A77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7960" y="2011320"/>
            <a:ext cx="25966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4960" y="2011320"/>
            <a:ext cx="25966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1600" y="2011320"/>
            <a:ext cx="25966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7960" y="3979080"/>
            <a:ext cx="25966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4960" y="3979080"/>
            <a:ext cx="25966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1600" y="3979080"/>
            <a:ext cx="25966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EA2F3-99E8-4228-A87A-D472A2508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61B75-EEE7-43C3-BBE3-A7EC2C73D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507960" y="2011320"/>
            <a:ext cx="80647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55505-B7F3-481F-8A6D-E00202DE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7960" y="2011320"/>
            <a:ext cx="8064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E22D6-3F13-47DF-8978-84DF2C9E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2011320"/>
            <a:ext cx="3935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760" y="2011320"/>
            <a:ext cx="3935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0E41-959D-414F-B77A-C6AB5B93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7960" y="2011320"/>
            <a:ext cx="3935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0760" y="2011320"/>
            <a:ext cx="3935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8ED5A-CF49-450D-BA63-7A8D4F68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723AB-C56D-4FC0-AEAB-EF2AEFFB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93560" y="500040"/>
            <a:ext cx="807912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29858-F3C2-4CDD-9344-915B6F23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7960" y="201132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760" y="2011320"/>
            <a:ext cx="3935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07960" y="397908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8945E-AAE7-421D-B8C3-3369E541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7960" y="2011320"/>
            <a:ext cx="3935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0760" y="201132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40760" y="397908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C3492-2864-466B-B391-88AAA301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7960" y="201132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0760" y="201132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07960" y="3979080"/>
            <a:ext cx="8064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7D4E7-449D-4D98-86E9-116B0014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7960" y="2011320"/>
            <a:ext cx="8064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7960" y="3979080"/>
            <a:ext cx="8064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BB120-BD67-4711-A2EA-1A9B7905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7960" y="201132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0760" y="201132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7960" y="397908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40760" y="397908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2CD32-2449-4DE5-B40E-61D76E4E5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7960" y="2011320"/>
            <a:ext cx="25966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4960" y="2011320"/>
            <a:ext cx="25966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61600" y="2011320"/>
            <a:ext cx="25966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07960" y="3979080"/>
            <a:ext cx="25966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4960" y="3979080"/>
            <a:ext cx="25966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61600" y="3979080"/>
            <a:ext cx="25966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9A544-9EC4-454D-BDA0-DEEF88306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55DF-C7A1-492C-A68E-84250190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560" y="500040"/>
            <a:ext cx="807912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AE00-4D83-4EB4-B574-B11510B5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201132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760" y="2011320"/>
            <a:ext cx="3935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397908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DE8D-A4A8-4698-B976-765114DE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2011320"/>
            <a:ext cx="3935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760" y="201132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760" y="397908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DD8B-733B-4903-8158-36748EDE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201132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760" y="201132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3979080"/>
            <a:ext cx="8064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00BB-E1C8-4130-A072-B78C909B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50b4c8"/>
                </a:solidFill>
                <a:latin typeface="Calibri Light"/>
              </a:rPr>
              <a:t>Click to edit the title text format</a:t>
            </a: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2011320"/>
            <a:ext cx="8064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400" indent="-68400">
              <a:lnSpc>
                <a:spcPct val="85000"/>
              </a:lnSpc>
              <a:spcBef>
                <a:spcPts val="975"/>
              </a:spcBef>
              <a:buClr>
                <a:srgbClr val="262626"/>
              </a:buClr>
              <a:buFont typeface="Arial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 Light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  <a:p>
            <a:pPr lvl="1" marL="260280" indent="-257040">
              <a:lnSpc>
                <a:spcPct val="85000"/>
              </a:lnSpc>
              <a:spcBef>
                <a:spcPts val="975"/>
              </a:spcBef>
              <a:buClr>
                <a:srgbClr val="262626"/>
              </a:buClr>
              <a:buFont typeface="Arial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 Light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  <a:p>
            <a:pPr lvl="2" marL="411120" indent="-411120">
              <a:lnSpc>
                <a:spcPct val="85000"/>
              </a:lnSpc>
              <a:spcBef>
                <a:spcPts val="975"/>
              </a:spcBef>
              <a:buClr>
                <a:srgbClr val="262626"/>
              </a:buClr>
              <a:buFont typeface="Arial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 Light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  <a:p>
            <a:pPr lvl="3" marL="615960" indent="-615960">
              <a:lnSpc>
                <a:spcPct val="85000"/>
              </a:lnSpc>
              <a:spcBef>
                <a:spcPts val="975"/>
              </a:spcBef>
              <a:buClr>
                <a:srgbClr val="262626"/>
              </a:buClr>
              <a:buFont typeface="Arial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 Light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  <a:p>
            <a:pPr lvl="4" marL="822240" indent="-822240">
              <a:lnSpc>
                <a:spcPct val="85000"/>
              </a:lnSpc>
              <a:spcBef>
                <a:spcPts val="975"/>
              </a:spcBef>
              <a:buClr>
                <a:srgbClr val="262626"/>
              </a:buClr>
              <a:buFont typeface="Arial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 Light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  <a:p>
            <a:pPr lvl="5" marL="822240" indent="-822240">
              <a:lnSpc>
                <a:spcPct val="85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 Light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  <a:p>
            <a:pPr lvl="6" marL="822240" indent="-822240">
              <a:lnSpc>
                <a:spcPct val="85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 Light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440" y="6411600"/>
            <a:ext cx="3085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14080" y="6554520"/>
            <a:ext cx="3771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71800" y="5877000"/>
            <a:ext cx="219564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7700" spc="-1" strike="noStrike">
                <a:solidFill>
                  <a:srgbClr val="50b4c8"/>
                </a:solidFill>
                <a:latin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9A2B-6E96-4B22-81C5-F01F651FBAAB}" type="slidenum">
              <a:rPr b="0" lang="ru-RU" sz="7700" spc="-1" strike="noStrike">
                <a:solidFill>
                  <a:srgbClr val="50b4c8"/>
                </a:solidFill>
                <a:latin typeface="Calibri Light"/>
              </a:rPr>
              <a:t>&lt;number&gt;</a:t>
            </a:fld>
            <a:endParaRPr b="0" lang="en-US" sz="7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b4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b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50b4c8"/>
                </a:solidFill>
                <a:latin typeface="Calibri Light"/>
              </a:rPr>
              <a:t>Click to edit the title text format</a:t>
            </a: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7960" y="2011320"/>
            <a:ext cx="8064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400" indent="-68400">
              <a:lnSpc>
                <a:spcPct val="85000"/>
              </a:lnSpc>
              <a:spcBef>
                <a:spcPts val="975"/>
              </a:spcBef>
              <a:buClr>
                <a:srgbClr val="262626"/>
              </a:buClr>
              <a:buFont typeface="Arial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 Light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  <a:p>
            <a:pPr lvl="1" marL="260280" indent="-257040">
              <a:lnSpc>
                <a:spcPct val="85000"/>
              </a:lnSpc>
              <a:spcBef>
                <a:spcPts val="975"/>
              </a:spcBef>
              <a:buClr>
                <a:srgbClr val="262626"/>
              </a:buClr>
              <a:buFont typeface="Arial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 Light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  <a:p>
            <a:pPr lvl="2" marL="411120" indent="-411120">
              <a:lnSpc>
                <a:spcPct val="85000"/>
              </a:lnSpc>
              <a:spcBef>
                <a:spcPts val="975"/>
              </a:spcBef>
              <a:buClr>
                <a:srgbClr val="262626"/>
              </a:buClr>
              <a:buFont typeface="Arial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 Light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  <a:p>
            <a:pPr lvl="3" marL="615960" indent="-615960">
              <a:lnSpc>
                <a:spcPct val="85000"/>
              </a:lnSpc>
              <a:spcBef>
                <a:spcPts val="975"/>
              </a:spcBef>
              <a:buClr>
                <a:srgbClr val="262626"/>
              </a:buClr>
              <a:buFont typeface="Arial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 Light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  <a:p>
            <a:pPr lvl="4" marL="822240" indent="-822240">
              <a:lnSpc>
                <a:spcPct val="85000"/>
              </a:lnSpc>
              <a:spcBef>
                <a:spcPts val="975"/>
              </a:spcBef>
              <a:buClr>
                <a:srgbClr val="262626"/>
              </a:buClr>
              <a:buFont typeface="Arial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 Light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  <a:p>
            <a:pPr lvl="5" marL="822240" indent="-822240">
              <a:lnSpc>
                <a:spcPct val="85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 Light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  <a:p>
            <a:pPr lvl="6" marL="822240" indent="-822240">
              <a:lnSpc>
                <a:spcPct val="85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 Light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14440" y="6411600"/>
            <a:ext cx="3085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7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514080" y="6554520"/>
            <a:ext cx="3771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71800" y="5877000"/>
            <a:ext cx="219564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7700" spc="-1" strike="noStrike">
                <a:solidFill>
                  <a:srgbClr val="ffffff"/>
                </a:solidFill>
                <a:latin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A4CB-0BBD-45F0-AF06-46C965A844E7}" type="slidenum">
              <a:rPr b="0" lang="ru-RU" sz="77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7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5715000" y="0"/>
            <a:ext cx="3429000" cy="6858000"/>
          </a:xfrm>
          <a:prstGeom prst="rect">
            <a:avLst/>
          </a:prstGeom>
          <a:solidFill>
            <a:srgbClr val="50b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50b4c8"/>
                </a:solidFill>
                <a:latin typeface="Calibri Light"/>
              </a:rPr>
              <a:t>Click to edit the title text format</a:t>
            </a: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07960" y="2011320"/>
            <a:ext cx="8064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400" indent="-68400">
              <a:lnSpc>
                <a:spcPct val="85000"/>
              </a:lnSpc>
              <a:spcBef>
                <a:spcPts val="975"/>
              </a:spcBef>
              <a:buClr>
                <a:srgbClr val="262626"/>
              </a:buClr>
              <a:buFont typeface="Arial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 Light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  <a:p>
            <a:pPr lvl="1" marL="260280" indent="-257040">
              <a:lnSpc>
                <a:spcPct val="85000"/>
              </a:lnSpc>
              <a:spcBef>
                <a:spcPts val="975"/>
              </a:spcBef>
              <a:buClr>
                <a:srgbClr val="262626"/>
              </a:buClr>
              <a:buFont typeface="Arial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 Light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  <a:p>
            <a:pPr lvl="2" marL="411120" indent="-411120">
              <a:lnSpc>
                <a:spcPct val="85000"/>
              </a:lnSpc>
              <a:spcBef>
                <a:spcPts val="975"/>
              </a:spcBef>
              <a:buClr>
                <a:srgbClr val="262626"/>
              </a:buClr>
              <a:buFont typeface="Arial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 Light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  <a:p>
            <a:pPr lvl="3" marL="615960" indent="-615960">
              <a:lnSpc>
                <a:spcPct val="85000"/>
              </a:lnSpc>
              <a:spcBef>
                <a:spcPts val="975"/>
              </a:spcBef>
              <a:buClr>
                <a:srgbClr val="262626"/>
              </a:buClr>
              <a:buFont typeface="Arial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 Light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  <a:p>
            <a:pPr lvl="4" marL="822240" indent="-822240">
              <a:lnSpc>
                <a:spcPct val="85000"/>
              </a:lnSpc>
              <a:spcBef>
                <a:spcPts val="975"/>
              </a:spcBef>
              <a:buClr>
                <a:srgbClr val="262626"/>
              </a:buClr>
              <a:buFont typeface="Arial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 Light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  <a:p>
            <a:pPr lvl="5" marL="822240" indent="-822240">
              <a:lnSpc>
                <a:spcPct val="85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 Light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  <a:p>
            <a:pPr lvl="6" marL="822240" indent="-822240">
              <a:lnSpc>
                <a:spcPct val="85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 Light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14440" y="6411600"/>
            <a:ext cx="3085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514080" y="6554520"/>
            <a:ext cx="3771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71800" y="5877000"/>
            <a:ext cx="219564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7700" spc="-1" strike="noStrike">
                <a:solidFill>
                  <a:srgbClr val="ffffff"/>
                </a:solidFill>
                <a:latin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F342-761D-4D75-AA45-441F5B0CD6AD}" type="slidenum">
              <a:rPr b="0" lang="ru-RU" sz="77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7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b4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50b4c8"/>
                </a:solidFill>
                <a:latin typeface="Calibri Light"/>
              </a:rPr>
              <a:t>Click to edit the title text format</a:t>
            </a: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507960" y="2011320"/>
            <a:ext cx="8064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400" indent="-68400">
              <a:lnSpc>
                <a:spcPct val="85000"/>
              </a:lnSpc>
              <a:spcBef>
                <a:spcPts val="975"/>
              </a:spcBef>
              <a:buClr>
                <a:srgbClr val="262626"/>
              </a:buClr>
              <a:buFont typeface="Arial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 Light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  <a:p>
            <a:pPr lvl="1" marL="260280" indent="-257040">
              <a:lnSpc>
                <a:spcPct val="85000"/>
              </a:lnSpc>
              <a:spcBef>
                <a:spcPts val="975"/>
              </a:spcBef>
              <a:buClr>
                <a:srgbClr val="262626"/>
              </a:buClr>
              <a:buFont typeface="Arial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 Light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  <a:p>
            <a:pPr lvl="2" marL="411120" indent="-411120">
              <a:lnSpc>
                <a:spcPct val="85000"/>
              </a:lnSpc>
              <a:spcBef>
                <a:spcPts val="975"/>
              </a:spcBef>
              <a:buClr>
                <a:srgbClr val="262626"/>
              </a:buClr>
              <a:buFont typeface="Arial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 Light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  <a:p>
            <a:pPr lvl="3" marL="615960" indent="-615960">
              <a:lnSpc>
                <a:spcPct val="85000"/>
              </a:lnSpc>
              <a:spcBef>
                <a:spcPts val="975"/>
              </a:spcBef>
              <a:buClr>
                <a:srgbClr val="262626"/>
              </a:buClr>
              <a:buFont typeface="Arial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 Light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  <a:p>
            <a:pPr lvl="4" marL="822240" indent="-822240">
              <a:lnSpc>
                <a:spcPct val="85000"/>
              </a:lnSpc>
              <a:spcBef>
                <a:spcPts val="975"/>
              </a:spcBef>
              <a:buClr>
                <a:srgbClr val="262626"/>
              </a:buClr>
              <a:buFont typeface="Arial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 Light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  <a:p>
            <a:pPr lvl="5" marL="822240" indent="-822240">
              <a:lnSpc>
                <a:spcPct val="85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 Light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  <a:p>
            <a:pPr lvl="6" marL="822240" indent="-822240">
              <a:lnSpc>
                <a:spcPct val="85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 Light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514440" y="6411600"/>
            <a:ext cx="3085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7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514080" y="6554520"/>
            <a:ext cx="3771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71800" y="5877000"/>
            <a:ext cx="219564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7700" spc="-1" strike="noStrike">
                <a:solidFill>
                  <a:srgbClr val="ffffff"/>
                </a:solidFill>
                <a:latin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8742-8E0A-45B8-9508-262A240CF759}" type="slidenum">
              <a:rPr b="0" lang="ru-RU" sz="77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7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2160" y="259920"/>
            <a:ext cx="8367480" cy="386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 Light"/>
              </a:rPr>
              <a:t>ЗАКРЕПЛЕНИЕ  ЗНАНИЙ 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Calibri Light"/>
              </a:rPr>
              <a:t>ПО ТЕМЕ « НУМЕРАЦИЯ. 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Calibri Light"/>
              </a:rPr>
              <a:t>ЧИСЛА ОТ 1 ДО 10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Calibri Light"/>
              </a:rPr>
              <a:t> И ЧИСЛО 0».</a:t>
            </a:r>
            <a:br>
              <a:rPr sz="4800"/>
            </a:b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Прямоугольник 6" descr=""/>
          <p:cNvPicPr/>
          <p:nvPr/>
        </p:nvPicPr>
        <p:blipFill>
          <a:blip r:embed="rId1"/>
          <a:stretch/>
        </p:blipFill>
        <p:spPr>
          <a:xfrm>
            <a:off x="3127320" y="4718160"/>
            <a:ext cx="3292560" cy="20174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D:\клипарты\животные\лисица.png"/>
          <p:cNvPicPr/>
          <p:nvPr/>
        </p:nvPicPr>
        <p:blipFill>
          <a:blip r:embed="rId2"/>
          <a:stretch/>
        </p:blipFill>
        <p:spPr>
          <a:xfrm>
            <a:off x="0" y="1643040"/>
            <a:ext cx="4670280" cy="32702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C:\Users\Helen\Desktop\схемы\цифры\0_4bc3b_b70a2a86_L.png"/>
          <p:cNvPicPr/>
          <p:nvPr/>
        </p:nvPicPr>
        <p:blipFill>
          <a:blip r:embed="rId3"/>
          <a:stretch/>
        </p:blipFill>
        <p:spPr>
          <a:xfrm>
            <a:off x="2000160" y="214200"/>
            <a:ext cx="1117800" cy="1530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C:\Users\Helen\Desktop\схемы\цифры\0_4bc3b_b70a2a86_L.png"/>
          <p:cNvPicPr/>
          <p:nvPr/>
        </p:nvPicPr>
        <p:blipFill>
          <a:blip r:embed="rId4"/>
          <a:stretch/>
        </p:blipFill>
        <p:spPr>
          <a:xfrm>
            <a:off x="3143160" y="214200"/>
            <a:ext cx="1117800" cy="1530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D:\клипарты\одежда\6394d0d34abc.png"/>
          <p:cNvPicPr/>
          <p:nvPr/>
        </p:nvPicPr>
        <p:blipFill>
          <a:blip r:embed="rId5"/>
          <a:stretch/>
        </p:blipFill>
        <p:spPr>
          <a:xfrm>
            <a:off x="5000760" y="642960"/>
            <a:ext cx="2571480" cy="41972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C:\Users\Helen\Desktop\схемы\цифры\0_4bc3b_b70a2a86_L.png"/>
          <p:cNvPicPr/>
          <p:nvPr/>
        </p:nvPicPr>
        <p:blipFill>
          <a:blip r:embed="rId6"/>
          <a:stretch/>
        </p:blipFill>
        <p:spPr>
          <a:xfrm>
            <a:off x="7500960" y="214200"/>
            <a:ext cx="834840" cy="1143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C:\Users\Helen\Desktop\схемы\цифры\0_4bc3b_b70a2a86_L.png"/>
          <p:cNvPicPr/>
          <p:nvPr/>
        </p:nvPicPr>
        <p:blipFill>
          <a:blip r:embed="rId7"/>
          <a:stretch/>
        </p:blipFill>
        <p:spPr>
          <a:xfrm>
            <a:off x="8308800" y="214200"/>
            <a:ext cx="835200" cy="1143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C:\Users\Helen\Desktop\схемы\цифры\0_4bc3b_b70a2a86_L.png"/>
          <p:cNvPicPr/>
          <p:nvPr/>
        </p:nvPicPr>
        <p:blipFill>
          <a:blip r:embed="rId8"/>
          <a:stretch/>
        </p:blipFill>
        <p:spPr>
          <a:xfrm>
            <a:off x="6643800" y="214200"/>
            <a:ext cx="834840" cy="1143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C:\Users\Helen\Desktop\схемы\ребусы\2011-09-07_204827.jpg"/>
          <p:cNvPicPr/>
          <p:nvPr/>
        </p:nvPicPr>
        <p:blipFill>
          <a:blip r:embed="rId1"/>
          <a:stretch/>
        </p:blipFill>
        <p:spPr>
          <a:xfrm>
            <a:off x="42840" y="122400"/>
            <a:ext cx="8881920" cy="3827160"/>
          </a:xfrm>
          <a:prstGeom prst="rect">
            <a:avLst/>
          </a:prstGeom>
          <a:ln w="0">
            <a:noFill/>
          </a:ln>
        </p:spPr>
      </p:pic>
      <p:pic>
        <p:nvPicPr>
          <p:cNvPr id="221" name="Прямоугольник 2" descr=""/>
          <p:cNvPicPr/>
          <p:nvPr/>
        </p:nvPicPr>
        <p:blipFill>
          <a:blip r:embed="rId2"/>
          <a:stretch/>
        </p:blipFill>
        <p:spPr>
          <a:xfrm>
            <a:off x="2066760" y="4492800"/>
            <a:ext cx="4321440" cy="2017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1" descr="C:\Users\Helen\Desktop\схемы\шаблоны мои\матем\2011-10-19_064309.jpg"/>
          <p:cNvPicPr/>
          <p:nvPr/>
        </p:nvPicPr>
        <p:blipFill>
          <a:blip r:embed="rId1"/>
          <a:stretch/>
        </p:blipFill>
        <p:spPr>
          <a:xfrm>
            <a:off x="428760" y="285840"/>
            <a:ext cx="8415360" cy="6267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374760" y="214200"/>
            <a:ext cx="58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Реши примеры, запиши их в тетрад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Прямоугольник 2" descr=""/>
          <p:cNvPicPr/>
          <p:nvPr/>
        </p:nvPicPr>
        <p:blipFill>
          <a:blip r:embed="rId1"/>
          <a:stretch/>
        </p:blipFill>
        <p:spPr>
          <a:xfrm>
            <a:off x="420840" y="920880"/>
            <a:ext cx="4187520" cy="1584360"/>
          </a:xfrm>
          <a:prstGeom prst="rect">
            <a:avLst/>
          </a:prstGeom>
          <a:ln w="0">
            <a:noFill/>
          </a:ln>
        </p:spPr>
      </p:pic>
      <p:pic>
        <p:nvPicPr>
          <p:cNvPr id="225" name="Прямоугольник 3" descr=""/>
          <p:cNvPicPr/>
          <p:nvPr/>
        </p:nvPicPr>
        <p:blipFill>
          <a:blip r:embed="rId2"/>
          <a:stretch/>
        </p:blipFill>
        <p:spPr>
          <a:xfrm>
            <a:off x="493560" y="2779560"/>
            <a:ext cx="384048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Прямоугольник 4" descr=""/>
          <p:cNvPicPr/>
          <p:nvPr/>
        </p:nvPicPr>
        <p:blipFill>
          <a:blip r:embed="rId3"/>
          <a:stretch/>
        </p:blipFill>
        <p:spPr>
          <a:xfrm>
            <a:off x="493560" y="4638600"/>
            <a:ext cx="3840480" cy="1579680"/>
          </a:xfrm>
          <a:prstGeom prst="rect">
            <a:avLst/>
          </a:prstGeom>
          <a:ln w="0">
            <a:noFill/>
          </a:ln>
        </p:spPr>
      </p:pic>
      <p:pic>
        <p:nvPicPr>
          <p:cNvPr id="227" name="Прямоугольник 5" descr=""/>
          <p:cNvPicPr/>
          <p:nvPr/>
        </p:nvPicPr>
        <p:blipFill>
          <a:blip r:embed="rId4"/>
          <a:stretch/>
        </p:blipFill>
        <p:spPr>
          <a:xfrm>
            <a:off x="4992840" y="920880"/>
            <a:ext cx="3840120" cy="1584360"/>
          </a:xfrm>
          <a:prstGeom prst="rect">
            <a:avLst/>
          </a:prstGeom>
          <a:ln w="0">
            <a:noFill/>
          </a:ln>
        </p:spPr>
      </p:pic>
      <p:pic>
        <p:nvPicPr>
          <p:cNvPr id="228" name="Прямоугольник 6" descr=""/>
          <p:cNvPicPr/>
          <p:nvPr/>
        </p:nvPicPr>
        <p:blipFill>
          <a:blip r:embed="rId5"/>
          <a:stretch/>
        </p:blipFill>
        <p:spPr>
          <a:xfrm>
            <a:off x="4992840" y="2779560"/>
            <a:ext cx="3840120" cy="158436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7" descr=""/>
          <p:cNvPicPr/>
          <p:nvPr/>
        </p:nvPicPr>
        <p:blipFill>
          <a:blip r:embed="rId6"/>
          <a:stretch/>
        </p:blipFill>
        <p:spPr>
          <a:xfrm>
            <a:off x="4992840" y="4638600"/>
            <a:ext cx="3840120" cy="1579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C:\Users\Helen\Desktop\схемы\шаблоны мои\матем\2011-10-14_060725.jpg"/>
          <p:cNvPicPr/>
          <p:nvPr/>
        </p:nvPicPr>
        <p:blipFill>
          <a:blip r:embed="rId1"/>
          <a:srcRect l="0" t="0" r="0" b="2389"/>
          <a:stretch/>
        </p:blipFill>
        <p:spPr>
          <a:xfrm>
            <a:off x="500040" y="249120"/>
            <a:ext cx="8239320" cy="6037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Капля 1"/>
          <p:cNvSpPr/>
          <p:nvPr/>
        </p:nvSpPr>
        <p:spPr>
          <a:xfrm>
            <a:off x="1285920" y="3714840"/>
            <a:ext cx="1928880" cy="2000160"/>
          </a:xfrm>
          <a:custGeom>
            <a:avLst/>
            <a:gdLst/>
            <a:ahLst/>
            <a:rect l="l" t="t" r="r" b="b"/>
            <a:pathLst>
              <a:path w="1928813" h="2000250">
                <a:moveTo>
                  <a:pt x="0" y="1000125"/>
                </a:moveTo>
                <a:cubicBezTo>
                  <a:pt x="0" y="447771"/>
                  <a:pt x="431780" y="0"/>
                  <a:pt x="964407" y="0"/>
                </a:cubicBezTo>
                <a:lnTo>
                  <a:pt x="1928813" y="0"/>
                </a:lnTo>
                <a:lnTo>
                  <a:pt x="1928813" y="1000125"/>
                </a:lnTo>
                <a:cubicBezTo>
                  <a:pt x="1928813" y="1552479"/>
                  <a:pt x="1497033" y="2000250"/>
                  <a:pt x="964406" y="2000250"/>
                </a:cubicBezTo>
                <a:cubicBezTo>
                  <a:pt x="431779" y="2000250"/>
                  <a:pt x="-1" y="1552479"/>
                  <a:pt x="-1" y="1000125"/>
                </a:cubicBezTo>
                <a:lnTo>
                  <a:pt x="0" y="100012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38839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Капля 2"/>
          <p:cNvSpPr/>
          <p:nvPr/>
        </p:nvSpPr>
        <p:spPr>
          <a:xfrm flipH="1">
            <a:off x="5571360" y="3643200"/>
            <a:ext cx="1847880" cy="2000520"/>
          </a:xfrm>
          <a:custGeom>
            <a:avLst/>
            <a:gdLst/>
            <a:ahLst/>
            <a:rect l="l" t="t" r="r" b="b"/>
            <a:pathLst>
              <a:path w="1847850" h="2000250">
                <a:moveTo>
                  <a:pt x="0" y="1000125"/>
                </a:moveTo>
                <a:cubicBezTo>
                  <a:pt x="0" y="447771"/>
                  <a:pt x="413655" y="0"/>
                  <a:pt x="923925" y="0"/>
                </a:cubicBezTo>
                <a:lnTo>
                  <a:pt x="1847850" y="0"/>
                </a:lnTo>
                <a:lnTo>
                  <a:pt x="1847850" y="1000125"/>
                </a:lnTo>
                <a:cubicBezTo>
                  <a:pt x="1847850" y="1552479"/>
                  <a:pt x="1434195" y="2000250"/>
                  <a:pt x="923925" y="2000250"/>
                </a:cubicBezTo>
                <a:cubicBezTo>
                  <a:pt x="413655" y="2000250"/>
                  <a:pt x="0" y="1552479"/>
                  <a:pt x="0" y="1000125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38839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Капля 3"/>
          <p:cNvSpPr/>
          <p:nvPr/>
        </p:nvSpPr>
        <p:spPr>
          <a:xfrm flipV="1">
            <a:off x="1357200" y="213120"/>
            <a:ext cx="1928880" cy="2009880"/>
          </a:xfrm>
          <a:custGeom>
            <a:avLst/>
            <a:gdLst/>
            <a:ahLst/>
            <a:rect l="l" t="t" r="r" b="b"/>
            <a:pathLst>
              <a:path w="1928812" h="2009775">
                <a:moveTo>
                  <a:pt x="0" y="1004888"/>
                </a:moveTo>
                <a:cubicBezTo>
                  <a:pt x="0" y="449904"/>
                  <a:pt x="431779" y="0"/>
                  <a:pt x="964406" y="0"/>
                </a:cubicBezTo>
                <a:lnTo>
                  <a:pt x="1928812" y="0"/>
                </a:lnTo>
                <a:lnTo>
                  <a:pt x="1928812" y="1004888"/>
                </a:lnTo>
                <a:cubicBezTo>
                  <a:pt x="1928812" y="1559872"/>
                  <a:pt x="1497033" y="2009776"/>
                  <a:pt x="964406" y="2009776"/>
                </a:cubicBezTo>
                <a:cubicBezTo>
                  <a:pt x="431779" y="2009776"/>
                  <a:pt x="0" y="1559872"/>
                  <a:pt x="0" y="1004888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38839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Капля 4"/>
          <p:cNvSpPr/>
          <p:nvPr/>
        </p:nvSpPr>
        <p:spPr>
          <a:xfrm flipH="1" flipV="1">
            <a:off x="5643720" y="357120"/>
            <a:ext cx="1847520" cy="1928880"/>
          </a:xfrm>
          <a:custGeom>
            <a:avLst/>
            <a:gdLst/>
            <a:ahLst/>
            <a:rect l="l" t="t" r="r" b="b"/>
            <a:pathLst>
              <a:path w="1847850" h="1928812">
                <a:moveTo>
                  <a:pt x="0" y="964406"/>
                </a:moveTo>
                <a:cubicBezTo>
                  <a:pt x="0" y="431779"/>
                  <a:pt x="413655" y="0"/>
                  <a:pt x="923925" y="0"/>
                </a:cubicBezTo>
                <a:lnTo>
                  <a:pt x="1847850" y="0"/>
                </a:lnTo>
                <a:lnTo>
                  <a:pt x="1847850" y="964406"/>
                </a:lnTo>
                <a:cubicBezTo>
                  <a:pt x="1847850" y="1497033"/>
                  <a:pt x="1434195" y="1928812"/>
                  <a:pt x="923925" y="1928812"/>
                </a:cubicBezTo>
                <a:cubicBezTo>
                  <a:pt x="413655" y="1928812"/>
                  <a:pt x="0" y="1497033"/>
                  <a:pt x="0" y="96440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38839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Овал 5"/>
          <p:cNvSpPr/>
          <p:nvPr/>
        </p:nvSpPr>
        <p:spPr>
          <a:xfrm>
            <a:off x="3571920" y="214200"/>
            <a:ext cx="1571760" cy="1928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883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6"/>
          <p:cNvSpPr/>
          <p:nvPr/>
        </p:nvSpPr>
        <p:spPr>
          <a:xfrm>
            <a:off x="3571920" y="3714840"/>
            <a:ext cx="1571760" cy="1928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883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7"/>
          <p:cNvSpPr/>
          <p:nvPr/>
        </p:nvSpPr>
        <p:spPr>
          <a:xfrm>
            <a:off x="3000240" y="2357280"/>
            <a:ext cx="2643480" cy="1214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3883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Прямоугольник 8" descr=""/>
          <p:cNvPicPr/>
          <p:nvPr/>
        </p:nvPicPr>
        <p:blipFill>
          <a:blip r:embed="rId1"/>
          <a:stretch/>
        </p:blipFill>
        <p:spPr>
          <a:xfrm>
            <a:off x="3786120" y="2286000"/>
            <a:ext cx="1030320" cy="1322280"/>
          </a:xfrm>
          <a:prstGeom prst="rect">
            <a:avLst/>
          </a:prstGeom>
          <a:ln w="0">
            <a:noFill/>
          </a:ln>
        </p:spPr>
      </p:pic>
      <p:pic>
        <p:nvPicPr>
          <p:cNvPr id="176" name="Прямоугольник 9" descr=""/>
          <p:cNvPicPr/>
          <p:nvPr/>
        </p:nvPicPr>
        <p:blipFill>
          <a:blip r:embed="rId2"/>
          <a:stretch/>
        </p:blipFill>
        <p:spPr>
          <a:xfrm>
            <a:off x="6284880" y="639720"/>
            <a:ext cx="712800" cy="1328760"/>
          </a:xfrm>
          <a:prstGeom prst="rect">
            <a:avLst/>
          </a:prstGeom>
          <a:ln w="0">
            <a:noFill/>
          </a:ln>
        </p:spPr>
      </p:pic>
      <p:pic>
        <p:nvPicPr>
          <p:cNvPr id="177" name="Прямоугольник 10" descr=""/>
          <p:cNvPicPr/>
          <p:nvPr/>
        </p:nvPicPr>
        <p:blipFill>
          <a:blip r:embed="rId3"/>
          <a:stretch/>
        </p:blipFill>
        <p:spPr>
          <a:xfrm>
            <a:off x="2073240" y="639720"/>
            <a:ext cx="706320" cy="1328760"/>
          </a:xfrm>
          <a:prstGeom prst="rect">
            <a:avLst/>
          </a:prstGeom>
          <a:ln w="0">
            <a:noFill/>
          </a:ln>
        </p:spPr>
      </p:pic>
      <p:pic>
        <p:nvPicPr>
          <p:cNvPr id="178" name="Прямоугольник 11" descr=""/>
          <p:cNvPicPr/>
          <p:nvPr/>
        </p:nvPicPr>
        <p:blipFill>
          <a:blip r:embed="rId4"/>
          <a:stretch/>
        </p:blipFill>
        <p:spPr>
          <a:xfrm>
            <a:off x="5784840" y="3859200"/>
            <a:ext cx="1238400" cy="1322280"/>
          </a:xfrm>
          <a:prstGeom prst="rect">
            <a:avLst/>
          </a:prstGeom>
          <a:ln w="0">
            <a:noFill/>
          </a:ln>
        </p:spPr>
      </p:pic>
      <p:pic>
        <p:nvPicPr>
          <p:cNvPr id="179" name="Прямоугольник 12" descr=""/>
          <p:cNvPicPr/>
          <p:nvPr/>
        </p:nvPicPr>
        <p:blipFill>
          <a:blip r:embed="rId5"/>
          <a:stretch/>
        </p:blipFill>
        <p:spPr>
          <a:xfrm>
            <a:off x="4071960" y="573120"/>
            <a:ext cx="712800" cy="1322280"/>
          </a:xfrm>
          <a:prstGeom prst="rect">
            <a:avLst/>
          </a:prstGeom>
          <a:ln w="0">
            <a:noFill/>
          </a:ln>
        </p:spPr>
      </p:pic>
      <p:pic>
        <p:nvPicPr>
          <p:cNvPr id="180" name="Прямоугольник 13" descr=""/>
          <p:cNvPicPr/>
          <p:nvPr/>
        </p:nvPicPr>
        <p:blipFill>
          <a:blip r:embed="rId6"/>
          <a:stretch/>
        </p:blipFill>
        <p:spPr>
          <a:xfrm>
            <a:off x="3998880" y="3998880"/>
            <a:ext cx="712800" cy="1322280"/>
          </a:xfrm>
          <a:prstGeom prst="rect">
            <a:avLst/>
          </a:prstGeom>
          <a:ln w="0">
            <a:noFill/>
          </a:ln>
        </p:spPr>
      </p:pic>
      <p:pic>
        <p:nvPicPr>
          <p:cNvPr id="181" name="Прямоугольник 14" descr=""/>
          <p:cNvPicPr/>
          <p:nvPr/>
        </p:nvPicPr>
        <p:blipFill>
          <a:blip r:embed="rId7"/>
          <a:stretch/>
        </p:blipFill>
        <p:spPr>
          <a:xfrm>
            <a:off x="2000160" y="4071960"/>
            <a:ext cx="712800" cy="1322280"/>
          </a:xfrm>
          <a:prstGeom prst="rect">
            <a:avLst/>
          </a:prstGeom>
          <a:ln w="0">
            <a:noFill/>
          </a:ln>
        </p:spPr>
      </p:pic>
      <p:sp>
        <p:nvSpPr>
          <p:cNvPr id="182" name="TextBox 15"/>
          <p:cNvSpPr/>
          <p:nvPr/>
        </p:nvSpPr>
        <p:spPr>
          <a:xfrm>
            <a:off x="221040" y="6143760"/>
            <a:ext cx="28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гра «Молчан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3" descr="C:\Users\Helen\Desktop\схемы\цифры\0_4bc2d_12b4c659_L.png"/>
          <p:cNvPicPr/>
          <p:nvPr/>
        </p:nvPicPr>
        <p:blipFill>
          <a:blip r:embed="rId1"/>
          <a:stretch/>
        </p:blipFill>
        <p:spPr>
          <a:xfrm>
            <a:off x="0" y="1571760"/>
            <a:ext cx="3530520" cy="3530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C:\Users\Helen\Desktop\схемы\цифры\0_4bc29_be9c8550_L.png"/>
          <p:cNvPicPr/>
          <p:nvPr/>
        </p:nvPicPr>
        <p:blipFill>
          <a:blip r:embed="rId2"/>
          <a:stretch/>
        </p:blipFill>
        <p:spPr>
          <a:xfrm>
            <a:off x="5429160" y="1500120"/>
            <a:ext cx="3532320" cy="35323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C:\Users\Helen\Desktop\схемы\цифры\0_4bc40_2755d89a_L.png"/>
          <p:cNvPicPr/>
          <p:nvPr/>
        </p:nvPicPr>
        <p:blipFill>
          <a:blip r:embed="rId3"/>
          <a:stretch/>
        </p:blipFill>
        <p:spPr>
          <a:xfrm>
            <a:off x="3357720" y="2714760"/>
            <a:ext cx="2531880" cy="1296720"/>
          </a:xfrm>
          <a:prstGeom prst="rect">
            <a:avLst/>
          </a:prstGeom>
          <a:ln w="0">
            <a:noFill/>
          </a:ln>
        </p:spPr>
      </p:pic>
      <p:sp>
        <p:nvSpPr>
          <p:cNvPr id="186" name="TextBox 5"/>
          <p:cNvSpPr/>
          <p:nvPr/>
        </p:nvSpPr>
        <p:spPr>
          <a:xfrm>
            <a:off x="228600" y="214200"/>
            <a:ext cx="46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ставь задачу по  ре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D:\клипарты\посуда\3276ed4f534e.png"/>
          <p:cNvPicPr/>
          <p:nvPr/>
        </p:nvPicPr>
        <p:blipFill>
          <a:blip r:embed="rId1"/>
          <a:stretch/>
        </p:blipFill>
        <p:spPr>
          <a:xfrm>
            <a:off x="571680" y="714240"/>
            <a:ext cx="1201680" cy="2124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D:\клипарты\посуда\3276ed4f534e.png"/>
          <p:cNvPicPr/>
          <p:nvPr/>
        </p:nvPicPr>
        <p:blipFill>
          <a:blip r:embed="rId2"/>
          <a:stretch/>
        </p:blipFill>
        <p:spPr>
          <a:xfrm>
            <a:off x="2143080" y="714240"/>
            <a:ext cx="1201680" cy="2124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D:\клипарты\посуда\3276ed4f534e.png"/>
          <p:cNvPicPr/>
          <p:nvPr/>
        </p:nvPicPr>
        <p:blipFill>
          <a:blip r:embed="rId3"/>
          <a:stretch/>
        </p:blipFill>
        <p:spPr>
          <a:xfrm>
            <a:off x="4857840" y="714240"/>
            <a:ext cx="1201680" cy="2124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D:\клипарты\посуда\3276ed4f534e.png"/>
          <p:cNvPicPr/>
          <p:nvPr/>
        </p:nvPicPr>
        <p:blipFill>
          <a:blip r:embed="rId4"/>
          <a:stretch/>
        </p:blipFill>
        <p:spPr>
          <a:xfrm>
            <a:off x="3500280" y="714240"/>
            <a:ext cx="1202040" cy="2124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D:\клипарты\посуда\3276ed4f534e.png"/>
          <p:cNvPicPr/>
          <p:nvPr/>
        </p:nvPicPr>
        <p:blipFill>
          <a:blip r:embed="rId5"/>
          <a:stretch/>
        </p:blipFill>
        <p:spPr>
          <a:xfrm>
            <a:off x="6215040" y="714240"/>
            <a:ext cx="1201680" cy="2124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D:\клипарты\посуда\3276ed4f534e.png"/>
          <p:cNvPicPr/>
          <p:nvPr/>
        </p:nvPicPr>
        <p:blipFill>
          <a:blip r:embed="rId6"/>
          <a:stretch/>
        </p:blipFill>
        <p:spPr>
          <a:xfrm>
            <a:off x="7572240" y="714240"/>
            <a:ext cx="1202040" cy="2124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D:\клипарты\посуда\7b3b71db8e63.png"/>
          <p:cNvPicPr/>
          <p:nvPr/>
        </p:nvPicPr>
        <p:blipFill>
          <a:blip r:embed="rId7"/>
          <a:stretch/>
        </p:blipFill>
        <p:spPr>
          <a:xfrm>
            <a:off x="214200" y="3071880"/>
            <a:ext cx="2067120" cy="1871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D:\клипарты\посуда\7b3b71db8e63.png"/>
          <p:cNvPicPr/>
          <p:nvPr/>
        </p:nvPicPr>
        <p:blipFill>
          <a:blip r:embed="rId8"/>
          <a:stretch/>
        </p:blipFill>
        <p:spPr>
          <a:xfrm>
            <a:off x="1857240" y="3143160"/>
            <a:ext cx="2067120" cy="1871640"/>
          </a:xfrm>
          <a:prstGeom prst="rect">
            <a:avLst/>
          </a:prstGeom>
          <a:ln w="0">
            <a:noFill/>
          </a:ln>
        </p:spPr>
      </p:pic>
      <p:sp>
        <p:nvSpPr>
          <p:cNvPr id="195" name="TextBox 9"/>
          <p:cNvSpPr/>
          <p:nvPr/>
        </p:nvSpPr>
        <p:spPr>
          <a:xfrm>
            <a:off x="578160" y="214200"/>
            <a:ext cx="435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Чего больше и на скольк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инус 10"/>
          <p:cNvSpPr/>
          <p:nvPr/>
        </p:nvSpPr>
        <p:spPr>
          <a:xfrm rot="16200000">
            <a:off x="106920" y="2321280"/>
            <a:ext cx="2143080" cy="642960"/>
          </a:xfrm>
          <a:custGeom>
            <a:avLst/>
            <a:gdLst/>
            <a:ahLst/>
            <a:rect l="l" t="t" r="r" b="b"/>
            <a:pathLst>
              <a:path w="2143125" h="642938">
                <a:moveTo>
                  <a:pt x="284071" y="245859"/>
                </a:moveTo>
                <a:lnTo>
                  <a:pt x="1859054" y="245859"/>
                </a:lnTo>
                <a:lnTo>
                  <a:pt x="1859054" y="397079"/>
                </a:lnTo>
                <a:lnTo>
                  <a:pt x="284071" y="397079"/>
                </a:lnTo>
                <a:lnTo>
                  <a:pt x="284071" y="245859"/>
                </a:lnTo>
                <a:close/>
              </a:path>
            </a:pathLst>
          </a:custGeom>
          <a:solidFill>
            <a:srgbClr val="50b4c8"/>
          </a:solidFill>
          <a:ln w="12600">
            <a:solidFill>
              <a:srgbClr val="38839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инус 11"/>
          <p:cNvSpPr/>
          <p:nvPr/>
        </p:nvSpPr>
        <p:spPr>
          <a:xfrm rot="16200000">
            <a:off x="1607040" y="2321280"/>
            <a:ext cx="2143080" cy="642960"/>
          </a:xfrm>
          <a:custGeom>
            <a:avLst/>
            <a:gdLst/>
            <a:ahLst/>
            <a:rect l="l" t="t" r="r" b="b"/>
            <a:pathLst>
              <a:path w="2143125" h="642937">
                <a:moveTo>
                  <a:pt x="284071" y="245859"/>
                </a:moveTo>
                <a:lnTo>
                  <a:pt x="1859054" y="245859"/>
                </a:lnTo>
                <a:lnTo>
                  <a:pt x="1859054" y="397078"/>
                </a:lnTo>
                <a:lnTo>
                  <a:pt x="284071" y="397078"/>
                </a:lnTo>
                <a:lnTo>
                  <a:pt x="284071" y="245859"/>
                </a:lnTo>
                <a:close/>
              </a:path>
            </a:pathLst>
          </a:custGeom>
          <a:solidFill>
            <a:srgbClr val="50b4c8"/>
          </a:solidFill>
          <a:ln w="12600">
            <a:solidFill>
              <a:srgbClr val="38839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Прямоугольник 12" descr=""/>
          <p:cNvPicPr/>
          <p:nvPr/>
        </p:nvPicPr>
        <p:blipFill>
          <a:blip r:embed="rId9"/>
          <a:stretch/>
        </p:blipFill>
        <p:spPr>
          <a:xfrm>
            <a:off x="7570800" y="5145120"/>
            <a:ext cx="811080" cy="1994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" descr="C:\Users\Helen\Desktop\схемы\шаблоны мои\матем\2011-10-19_064427.jpg"/>
          <p:cNvPicPr/>
          <p:nvPr/>
        </p:nvPicPr>
        <p:blipFill>
          <a:blip r:embed="rId1"/>
          <a:stretch/>
        </p:blipFill>
        <p:spPr>
          <a:xfrm>
            <a:off x="428760" y="285840"/>
            <a:ext cx="8281800" cy="6161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1"/>
          <p:cNvSpPr/>
          <p:nvPr/>
        </p:nvSpPr>
        <p:spPr>
          <a:xfrm>
            <a:off x="357120" y="1785960"/>
            <a:ext cx="8429760" cy="2857320"/>
          </a:xfrm>
          <a:prstGeom prst="rect">
            <a:avLst/>
          </a:prstGeom>
          <a:solidFill>
            <a:srgbClr val="00b0f0"/>
          </a:solidFill>
          <a:ln w="12600">
            <a:solidFill>
              <a:srgbClr val="3883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2"/>
          <p:cNvSpPr/>
          <p:nvPr/>
        </p:nvSpPr>
        <p:spPr>
          <a:xfrm>
            <a:off x="3000240" y="1785960"/>
            <a:ext cx="3000600" cy="2857320"/>
          </a:xfrm>
          <a:prstGeom prst="rect">
            <a:avLst/>
          </a:prstGeom>
          <a:solidFill>
            <a:srgbClr val="ffff00"/>
          </a:solidFill>
          <a:ln w="12600">
            <a:solidFill>
              <a:srgbClr val="3883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"/>
          <p:cNvSpPr/>
          <p:nvPr/>
        </p:nvSpPr>
        <p:spPr>
          <a:xfrm>
            <a:off x="298440" y="21420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Сколько на рисунке квадратов и прямоугольников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Прямоугольник 4" descr=""/>
          <p:cNvPicPr/>
          <p:nvPr/>
        </p:nvPicPr>
        <p:blipFill>
          <a:blip r:embed="rId1"/>
          <a:stretch/>
        </p:blipFill>
        <p:spPr>
          <a:xfrm>
            <a:off x="281160" y="5711760"/>
            <a:ext cx="8607240" cy="1152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1"/>
          <p:cNvSpPr/>
          <p:nvPr/>
        </p:nvSpPr>
        <p:spPr>
          <a:xfrm>
            <a:off x="403920" y="214200"/>
            <a:ext cx="8439120" cy="119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a8b9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 Китае живёт людей больше, чем в Индии, а в Инд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живёт людей больше, чем в России. В какой из эт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тран самая большая численно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Прямоугольник 2" descr=""/>
          <p:cNvPicPr/>
          <p:nvPr/>
        </p:nvPicPr>
        <p:blipFill>
          <a:blip r:embed="rId1"/>
          <a:stretch/>
        </p:blipFill>
        <p:spPr>
          <a:xfrm>
            <a:off x="500040" y="2359080"/>
            <a:ext cx="1987560" cy="920520"/>
          </a:xfrm>
          <a:prstGeom prst="rect">
            <a:avLst/>
          </a:prstGeom>
          <a:ln w="0">
            <a:noFill/>
          </a:ln>
        </p:spPr>
      </p:pic>
      <p:pic>
        <p:nvPicPr>
          <p:cNvPr id="206" name="Прямоугольник 3" descr=""/>
          <p:cNvPicPr/>
          <p:nvPr/>
        </p:nvPicPr>
        <p:blipFill>
          <a:blip r:embed="rId2"/>
          <a:stretch/>
        </p:blipFill>
        <p:spPr>
          <a:xfrm>
            <a:off x="500040" y="3286080"/>
            <a:ext cx="2176560" cy="925560"/>
          </a:xfrm>
          <a:prstGeom prst="rect">
            <a:avLst/>
          </a:prstGeom>
          <a:ln w="0">
            <a:noFill/>
          </a:ln>
        </p:spPr>
      </p:pic>
      <p:pic>
        <p:nvPicPr>
          <p:cNvPr id="207" name="Прямоугольник 4" descr=""/>
          <p:cNvPicPr/>
          <p:nvPr/>
        </p:nvPicPr>
        <p:blipFill>
          <a:blip r:embed="rId3"/>
          <a:stretch/>
        </p:blipFill>
        <p:spPr>
          <a:xfrm>
            <a:off x="500040" y="4145040"/>
            <a:ext cx="2262240" cy="920520"/>
          </a:xfrm>
          <a:prstGeom prst="rect">
            <a:avLst/>
          </a:prstGeom>
          <a:ln w="0">
            <a:noFill/>
          </a:ln>
        </p:spPr>
      </p:pic>
      <p:sp>
        <p:nvSpPr>
          <p:cNvPr id="208" name="Минус 5"/>
          <p:cNvSpPr/>
          <p:nvPr/>
        </p:nvSpPr>
        <p:spPr>
          <a:xfrm>
            <a:off x="2214720" y="2357280"/>
            <a:ext cx="6572160" cy="928800"/>
          </a:xfrm>
          <a:custGeom>
            <a:avLst/>
            <a:gdLst/>
            <a:ahLst/>
            <a:rect l="l" t="t" r="r" b="b"/>
            <a:pathLst>
              <a:path w="6572250" h="928687">
                <a:moveTo>
                  <a:pt x="871152" y="355130"/>
                </a:moveTo>
                <a:lnTo>
                  <a:pt x="5701098" y="355130"/>
                </a:lnTo>
                <a:lnTo>
                  <a:pt x="5701098" y="573557"/>
                </a:lnTo>
                <a:lnTo>
                  <a:pt x="871152" y="573557"/>
                </a:lnTo>
                <a:lnTo>
                  <a:pt x="871152" y="35513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38839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инус 6"/>
          <p:cNvSpPr/>
          <p:nvPr/>
        </p:nvSpPr>
        <p:spPr>
          <a:xfrm>
            <a:off x="2571840" y="3143160"/>
            <a:ext cx="4143240" cy="928800"/>
          </a:xfrm>
          <a:custGeom>
            <a:avLst/>
            <a:gdLst/>
            <a:ahLst/>
            <a:rect l="l" t="t" r="r" b="b"/>
            <a:pathLst>
              <a:path w="4143375" h="928688">
                <a:moveTo>
                  <a:pt x="549204" y="355130"/>
                </a:moveTo>
                <a:lnTo>
                  <a:pt x="3594171" y="355130"/>
                </a:lnTo>
                <a:lnTo>
                  <a:pt x="3594171" y="573558"/>
                </a:lnTo>
                <a:lnTo>
                  <a:pt x="549204" y="573558"/>
                </a:lnTo>
                <a:lnTo>
                  <a:pt x="549204" y="355130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38839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инус 7"/>
          <p:cNvSpPr/>
          <p:nvPr/>
        </p:nvSpPr>
        <p:spPr>
          <a:xfrm>
            <a:off x="2786040" y="4071960"/>
            <a:ext cx="2786040" cy="928800"/>
          </a:xfrm>
          <a:custGeom>
            <a:avLst/>
            <a:gdLst/>
            <a:ahLst/>
            <a:rect l="l" t="t" r="r" b="b"/>
            <a:pathLst>
              <a:path w="2786062" h="928687">
                <a:moveTo>
                  <a:pt x="369293" y="355130"/>
                </a:moveTo>
                <a:lnTo>
                  <a:pt x="2416769" y="355130"/>
                </a:lnTo>
                <a:lnTo>
                  <a:pt x="2416769" y="573557"/>
                </a:lnTo>
                <a:lnTo>
                  <a:pt x="369293" y="573557"/>
                </a:lnTo>
                <a:lnTo>
                  <a:pt x="369293" y="355130"/>
                </a:lnTo>
                <a:close/>
              </a:path>
            </a:pathLst>
          </a:custGeom>
          <a:solidFill>
            <a:srgbClr val="00b0f0"/>
          </a:solidFill>
          <a:ln w="12600">
            <a:solidFill>
              <a:srgbClr val="38839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C:\Users\Helen\Desktop\схемы\шаблоны мои\матем\2011-10-19_064548.jpg"/>
          <p:cNvPicPr/>
          <p:nvPr/>
        </p:nvPicPr>
        <p:blipFill>
          <a:blip r:embed="rId1"/>
          <a:stretch/>
        </p:blipFill>
        <p:spPr>
          <a:xfrm>
            <a:off x="428760" y="357120"/>
            <a:ext cx="8124840" cy="6000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5:28:48Z</dcterms:created>
  <dc:creator>Helen</dc:creator>
  <dc:description/>
  <dc:language>en-US</dc:language>
  <cp:lastModifiedBy>HP</cp:lastModifiedBy>
  <dcterms:modified xsi:type="dcterms:W3CDTF">2024-01-29T17:43:31Z</dcterms:modified>
  <cp:revision>15</cp:revision>
  <dc:subject/>
  <dc:title>Слайд 1</dc:title>
</cp:coreProperties>
</file>