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9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F6BC-ED55-4870-A888-30122AE3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397908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1BE0-FE0D-4FA0-AA49-5BD84BC4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F74-2EDB-4321-B634-60151887E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96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60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96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60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B558-BCC9-4EA4-9025-2A5AA814E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990A-1527-4E87-AEC6-40A6E049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97FF-AF79-49FD-B3CE-08D4C9DF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E542-5B81-4F5D-A24E-67FDD4B2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51F5-EC6B-410F-8B35-04EE7343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5309-C066-4A2D-A8AF-FF2CA85F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10DE-E85C-4CDB-821E-A6816A10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EA29-C247-46AC-913E-BEEBF100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CF40-4C0F-498C-B50E-89C873CB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407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5C13-8966-44B0-BCBF-2D39634E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056F-86C2-470E-8A1A-D2993593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960" y="397908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6894-4B10-476D-AE7B-7ABC9CFE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407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3EE5-1F7E-4970-A96D-CBEFD8D7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496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160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796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496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160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9C69-7DFF-4C55-91A5-278AF08A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B125D-13AD-4465-B8E8-41380AFA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20D63-B87F-4AF3-AFCC-177AA1C1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3B2EB-DBE4-414E-BF9F-ED37DC9F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76DB5-3D00-48EC-B15E-55662DB3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2C693-706C-4FAD-A936-FDE56367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12DC-0ED7-4F4D-98DD-C8187B5A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E3B39-7F36-40BD-A366-F1040300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EA6D2-8E50-406B-BE27-9EA552DE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407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91E80-4232-4DB6-84FB-5CC93448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9985A-3B95-4462-A535-83D397A8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7960" y="397908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CFC68-91CE-49AA-A06F-A333199E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407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DBB1-7A64-4FC4-8E33-058C5162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496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160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796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496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160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A69CF-D5FD-48A8-8BAF-4162DE85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BF38B-9197-480E-AA6D-B88D7E58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E7381-1AFD-4130-BA7E-D50EA16D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88106-4CA0-4B55-A96E-8E5208E3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1687-C3CF-4ADB-9561-DF9EB07F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1E02D-37B9-4E73-9B0D-6B05E146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65432-BE2A-4118-8091-C0117199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93B12-BCED-46E5-83A8-82AE16F5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F4558-51D2-4D80-B91F-6440AF2D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407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ACD70-21B6-494F-9D92-A375069F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348C6-13FE-4AF7-8FC6-DBDCA7F3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7960" y="397908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3FC48-351E-4EEA-8DDE-B67991F9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407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BFFB4-ED94-42C2-8790-F7B61664F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496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1600" y="201132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796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496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1600" y="3979080"/>
            <a:ext cx="259668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435E6-057A-46FC-8E77-06BF5F84F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744A-302C-4571-839B-F8BB19A0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560" y="500040"/>
            <a:ext cx="8079120" cy="76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E20-73C1-47A9-90EC-34F309CF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4AA-F39C-4DB2-B1C9-0B3873D1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397908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6B8-F7E0-48C7-88F1-FCEE326D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2011320"/>
            <a:ext cx="3935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3979080"/>
            <a:ext cx="80647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975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D965-819B-40F3-91F7-E75CE053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00" indent="-6840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1" marL="260280" indent="-25704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2" marL="411120" indent="-41112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3" marL="615960" indent="-61596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4" marL="822240" indent="-82224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5" marL="822240" indent="-82224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6" marL="822240" indent="-82224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71800" y="587700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7700" spc="-1" strike="noStrike">
                <a:solidFill>
                  <a:srgbClr val="50b4c8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C619-A7D5-4B9F-80AD-AF75E1B68EE1}" type="slidenum">
              <a:rPr b="0" lang="ru-RU" sz="7700" spc="-1" strike="noStrike">
                <a:solidFill>
                  <a:srgbClr val="50b4c8"/>
                </a:solidFill>
                <a:latin typeface="Calibri Light"/>
              </a:rPr>
              <a:t>&lt;number&gt;</a:t>
            </a:fld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00" indent="-6840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1" marL="260280" indent="-25704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2" marL="411120" indent="-41112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3" marL="615960" indent="-61596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4" marL="822240" indent="-82224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5" marL="822240" indent="-82224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6" marL="822240" indent="-82224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71800" y="587700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77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6ACB-92C6-4CF5-B8D7-8A7BD1BE9E22}" type="slidenum">
              <a:rPr b="0" lang="ru-RU" sz="77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5715000" y="0"/>
            <a:ext cx="3429000" cy="6858000"/>
          </a:xfrm>
          <a:prstGeom prst="rect">
            <a:avLst/>
          </a:prstGeom>
          <a:solidFill>
            <a:srgbClr val="50b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00" indent="-6840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1" marL="260280" indent="-25704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2" marL="411120" indent="-41112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3" marL="615960" indent="-61596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4" marL="822240" indent="-82224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5" marL="822240" indent="-82224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6" marL="822240" indent="-82224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71800" y="587700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77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3812-D8FB-4941-B3FA-728F77EDC2B8}" type="slidenum">
              <a:rPr b="0" lang="ru-RU" sz="77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0b4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3560" y="500040"/>
            <a:ext cx="80791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50b4c8"/>
                </a:solidFill>
                <a:latin typeface="Calibri Light"/>
              </a:rPr>
              <a:t>Click to edit the title text format</a:t>
            </a:r>
            <a:endParaRPr b="0" lang="en-US" sz="4000" spc="-1" strike="noStrike">
              <a:solidFill>
                <a:srgbClr val="50b4c8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07960" y="2011320"/>
            <a:ext cx="80647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400" indent="-6840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1" marL="260280" indent="-25704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2" marL="411120" indent="-41112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3" marL="615960" indent="-61596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4" marL="822240" indent="-822240">
              <a:lnSpc>
                <a:spcPct val="85000"/>
              </a:lnSpc>
              <a:spcBef>
                <a:spcPts val="975"/>
              </a:spcBef>
              <a:buClr>
                <a:srgbClr val="262626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5" marL="822240" indent="-82224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  <a:p>
            <a:pPr lvl="6" marL="822240" indent="-822240">
              <a:lnSpc>
                <a:spcPct val="8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 Light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Calibri Ligh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514440" y="6411600"/>
            <a:ext cx="3085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7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14080" y="6554520"/>
            <a:ext cx="3771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71800" y="5877000"/>
            <a:ext cx="2195640" cy="13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7700" spc="-1" strike="noStrike">
                <a:solidFill>
                  <a:srgbClr val="ffffff"/>
                </a:solidFill>
                <a:latin typeface="Calibri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4BE2-278B-4758-9D00-4211FF0012AC}" type="slidenum">
              <a:rPr b="0" lang="ru-RU" sz="7700" spc="-1" strike="noStrike">
                <a:solidFill>
                  <a:srgbClr val="ffffff"/>
                </a:solidFill>
                <a:latin typeface="Calibri Light"/>
              </a:rPr>
              <a:t>&lt;number&gt;</a:t>
            </a:fld>
            <a:endParaRPr b="0" lang="en-US" sz="7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2160" y="259920"/>
            <a:ext cx="8367480" cy="386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 Light"/>
              </a:rPr>
              <a:t>ЗАКРЕПЛЕНИЕ  ЗНАНИЙ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 Light"/>
              </a:rPr>
              <a:t>ПО ТЕМЕ « НУМЕРАЦИЯ.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 Light"/>
              </a:rPr>
              <a:t>ЧИСЛА ОТ 1 ДО 10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Calibri Light"/>
              </a:rPr>
              <a:t> И ЧИСЛО 0».</a:t>
            </a:r>
            <a:br>
              <a:rPr sz="4800"/>
            </a:br>
            <a:endParaRPr b="0" lang="en-US" sz="4800" spc="-1" strike="noStrike">
              <a:solidFill>
                <a:srgbClr val="50b4c8"/>
              </a:solidFill>
              <a:latin typeface="Calibri Light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Прямоугольник 6" descr=""/>
          <p:cNvPicPr/>
          <p:nvPr/>
        </p:nvPicPr>
        <p:blipFill>
          <a:blip r:embed="rId1"/>
          <a:stretch/>
        </p:blipFill>
        <p:spPr>
          <a:xfrm>
            <a:off x="3127320" y="4718160"/>
            <a:ext cx="3292560" cy="2017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D:\клипарты\животные\лисица.png"/>
          <p:cNvPicPr/>
          <p:nvPr/>
        </p:nvPicPr>
        <p:blipFill>
          <a:blip r:embed="rId2"/>
          <a:stretch/>
        </p:blipFill>
        <p:spPr>
          <a:xfrm>
            <a:off x="0" y="1643040"/>
            <a:ext cx="4670280" cy="3270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C:\Users\Helen\Desktop\схемы\цифры\0_4bc3b_b70a2a86_L.png"/>
          <p:cNvPicPr/>
          <p:nvPr/>
        </p:nvPicPr>
        <p:blipFill>
          <a:blip r:embed="rId3"/>
          <a:stretch/>
        </p:blipFill>
        <p:spPr>
          <a:xfrm>
            <a:off x="2000160" y="214200"/>
            <a:ext cx="1117800" cy="1530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C:\Users\Helen\Desktop\схемы\цифры\0_4bc3b_b70a2a86_L.png"/>
          <p:cNvPicPr/>
          <p:nvPr/>
        </p:nvPicPr>
        <p:blipFill>
          <a:blip r:embed="rId4"/>
          <a:stretch/>
        </p:blipFill>
        <p:spPr>
          <a:xfrm>
            <a:off x="3143160" y="214200"/>
            <a:ext cx="1117800" cy="1530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D:\клипарты\одежда\6394d0d34abc.png"/>
          <p:cNvPicPr/>
          <p:nvPr/>
        </p:nvPicPr>
        <p:blipFill>
          <a:blip r:embed="rId5"/>
          <a:stretch/>
        </p:blipFill>
        <p:spPr>
          <a:xfrm>
            <a:off x="5000760" y="642960"/>
            <a:ext cx="2571480" cy="41972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C:\Users\Helen\Desktop\схемы\цифры\0_4bc3b_b70a2a86_L.png"/>
          <p:cNvPicPr/>
          <p:nvPr/>
        </p:nvPicPr>
        <p:blipFill>
          <a:blip r:embed="rId6"/>
          <a:stretch/>
        </p:blipFill>
        <p:spPr>
          <a:xfrm>
            <a:off x="7500960" y="214200"/>
            <a:ext cx="834840" cy="1143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:\Users\Helen\Desktop\схемы\цифры\0_4bc3b_b70a2a86_L.png"/>
          <p:cNvPicPr/>
          <p:nvPr/>
        </p:nvPicPr>
        <p:blipFill>
          <a:blip r:embed="rId7"/>
          <a:stretch/>
        </p:blipFill>
        <p:spPr>
          <a:xfrm>
            <a:off x="8308800" y="214200"/>
            <a:ext cx="835200" cy="1143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C:\Users\Helen\Desktop\схемы\цифры\0_4bc3b_b70a2a86_L.png"/>
          <p:cNvPicPr/>
          <p:nvPr/>
        </p:nvPicPr>
        <p:blipFill>
          <a:blip r:embed="rId8"/>
          <a:stretch/>
        </p:blipFill>
        <p:spPr>
          <a:xfrm>
            <a:off x="6643800" y="214200"/>
            <a:ext cx="834840" cy="1143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Users\Helen\Desktop\схемы\ребусы\2011-09-07_204827.jpg"/>
          <p:cNvPicPr/>
          <p:nvPr/>
        </p:nvPicPr>
        <p:blipFill>
          <a:blip r:embed="rId1"/>
          <a:stretch/>
        </p:blipFill>
        <p:spPr>
          <a:xfrm>
            <a:off x="42840" y="122400"/>
            <a:ext cx="8881920" cy="382716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2" descr=""/>
          <p:cNvPicPr/>
          <p:nvPr/>
        </p:nvPicPr>
        <p:blipFill>
          <a:blip r:embed="rId2"/>
          <a:stretch/>
        </p:blipFill>
        <p:spPr>
          <a:xfrm>
            <a:off x="2066760" y="4492800"/>
            <a:ext cx="4321440" cy="2017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C:\Users\Helen\Desktop\схемы\шаблоны мои\матем\2011-10-19_064309.jpg"/>
          <p:cNvPicPr/>
          <p:nvPr/>
        </p:nvPicPr>
        <p:blipFill>
          <a:blip r:embed="rId1"/>
          <a:stretch/>
        </p:blipFill>
        <p:spPr>
          <a:xfrm>
            <a:off x="428760" y="285840"/>
            <a:ext cx="8415360" cy="6267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374760" y="214200"/>
            <a:ext cx="58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Реши примеры, запиши их в тетр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Прямоугольник 2" descr=""/>
          <p:cNvPicPr/>
          <p:nvPr/>
        </p:nvPicPr>
        <p:blipFill>
          <a:blip r:embed="rId1"/>
          <a:stretch/>
        </p:blipFill>
        <p:spPr>
          <a:xfrm>
            <a:off x="420840" y="920880"/>
            <a:ext cx="4187520" cy="1584360"/>
          </a:xfrm>
          <a:prstGeom prst="rect">
            <a:avLst/>
          </a:prstGeom>
          <a:ln w="0">
            <a:noFill/>
          </a:ln>
        </p:spPr>
      </p:pic>
      <p:pic>
        <p:nvPicPr>
          <p:cNvPr id="225" name="Прямоугольник 3" descr=""/>
          <p:cNvPicPr/>
          <p:nvPr/>
        </p:nvPicPr>
        <p:blipFill>
          <a:blip r:embed="rId2"/>
          <a:stretch/>
        </p:blipFill>
        <p:spPr>
          <a:xfrm>
            <a:off x="493560" y="2779560"/>
            <a:ext cx="384048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Прямоугольник 4" descr=""/>
          <p:cNvPicPr/>
          <p:nvPr/>
        </p:nvPicPr>
        <p:blipFill>
          <a:blip r:embed="rId3"/>
          <a:stretch/>
        </p:blipFill>
        <p:spPr>
          <a:xfrm>
            <a:off x="493560" y="4638600"/>
            <a:ext cx="3840480" cy="1579680"/>
          </a:xfrm>
          <a:prstGeom prst="rect">
            <a:avLst/>
          </a:prstGeom>
          <a:ln w="0">
            <a:noFill/>
          </a:ln>
        </p:spPr>
      </p:pic>
      <p:pic>
        <p:nvPicPr>
          <p:cNvPr id="227" name="Прямоугольник 5" descr=""/>
          <p:cNvPicPr/>
          <p:nvPr/>
        </p:nvPicPr>
        <p:blipFill>
          <a:blip r:embed="rId4"/>
          <a:stretch/>
        </p:blipFill>
        <p:spPr>
          <a:xfrm>
            <a:off x="4992840" y="920880"/>
            <a:ext cx="3840120" cy="158436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6" descr=""/>
          <p:cNvPicPr/>
          <p:nvPr/>
        </p:nvPicPr>
        <p:blipFill>
          <a:blip r:embed="rId5"/>
          <a:stretch/>
        </p:blipFill>
        <p:spPr>
          <a:xfrm>
            <a:off x="4992840" y="2779560"/>
            <a:ext cx="3840120" cy="158436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7" descr=""/>
          <p:cNvPicPr/>
          <p:nvPr/>
        </p:nvPicPr>
        <p:blipFill>
          <a:blip r:embed="rId6"/>
          <a:stretch/>
        </p:blipFill>
        <p:spPr>
          <a:xfrm>
            <a:off x="4992840" y="4638600"/>
            <a:ext cx="3840120" cy="1579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C:\Users\Helen\Desktop\схемы\шаблоны мои\матем\2011-10-14_060725.jpg"/>
          <p:cNvPicPr/>
          <p:nvPr/>
        </p:nvPicPr>
        <p:blipFill>
          <a:blip r:embed="rId1"/>
          <a:srcRect l="0" t="0" r="0" b="2389"/>
          <a:stretch/>
        </p:blipFill>
        <p:spPr>
          <a:xfrm>
            <a:off x="500040" y="249120"/>
            <a:ext cx="8239320" cy="603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Капля 1"/>
          <p:cNvSpPr/>
          <p:nvPr/>
        </p:nvSpPr>
        <p:spPr>
          <a:xfrm>
            <a:off x="1285920" y="3714840"/>
            <a:ext cx="1928880" cy="2000160"/>
          </a:xfrm>
          <a:custGeom>
            <a:avLst/>
            <a:gdLst/>
            <a:ahLst/>
            <a:rect l="l" t="t" r="r" b="b"/>
            <a:pathLst>
              <a:path w="1928813" h="2000250">
                <a:moveTo>
                  <a:pt x="0" y="1000125"/>
                </a:moveTo>
                <a:cubicBezTo>
                  <a:pt x="0" y="447771"/>
                  <a:pt x="431780" y="0"/>
                  <a:pt x="964407" y="0"/>
                </a:cubicBezTo>
                <a:lnTo>
                  <a:pt x="1928813" y="0"/>
                </a:lnTo>
                <a:lnTo>
                  <a:pt x="1928813" y="1000125"/>
                </a:lnTo>
                <a:cubicBezTo>
                  <a:pt x="1928813" y="1552479"/>
                  <a:pt x="1497033" y="2000250"/>
                  <a:pt x="964406" y="2000250"/>
                </a:cubicBezTo>
                <a:cubicBezTo>
                  <a:pt x="431779" y="2000250"/>
                  <a:pt x="-1" y="1552479"/>
                  <a:pt x="-1" y="1000125"/>
                </a:cubicBezTo>
                <a:lnTo>
                  <a:pt x="0" y="100012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3883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Капля 2"/>
          <p:cNvSpPr/>
          <p:nvPr/>
        </p:nvSpPr>
        <p:spPr>
          <a:xfrm flipH="1">
            <a:off x="5571360" y="3643200"/>
            <a:ext cx="1847880" cy="2000520"/>
          </a:xfrm>
          <a:custGeom>
            <a:avLst/>
            <a:gdLst/>
            <a:ahLst/>
            <a:rect l="l" t="t" r="r" b="b"/>
            <a:pathLst>
              <a:path w="1847850" h="2000250">
                <a:moveTo>
                  <a:pt x="0" y="1000125"/>
                </a:moveTo>
                <a:cubicBezTo>
                  <a:pt x="0" y="447771"/>
                  <a:pt x="413655" y="0"/>
                  <a:pt x="923925" y="0"/>
                </a:cubicBezTo>
                <a:lnTo>
                  <a:pt x="1847850" y="0"/>
                </a:lnTo>
                <a:lnTo>
                  <a:pt x="1847850" y="1000125"/>
                </a:lnTo>
                <a:cubicBezTo>
                  <a:pt x="1847850" y="1552479"/>
                  <a:pt x="1434195" y="2000250"/>
                  <a:pt x="923925" y="2000250"/>
                </a:cubicBezTo>
                <a:cubicBezTo>
                  <a:pt x="413655" y="2000250"/>
                  <a:pt x="0" y="1552479"/>
                  <a:pt x="0" y="1000125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3883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Капля 3"/>
          <p:cNvSpPr/>
          <p:nvPr/>
        </p:nvSpPr>
        <p:spPr>
          <a:xfrm flipV="1">
            <a:off x="1357200" y="213120"/>
            <a:ext cx="1928880" cy="2009880"/>
          </a:xfrm>
          <a:custGeom>
            <a:avLst/>
            <a:gdLst/>
            <a:ahLst/>
            <a:rect l="l" t="t" r="r" b="b"/>
            <a:pathLst>
              <a:path w="1928812" h="2009775">
                <a:moveTo>
                  <a:pt x="0" y="1004888"/>
                </a:moveTo>
                <a:cubicBezTo>
                  <a:pt x="0" y="449904"/>
                  <a:pt x="431779" y="0"/>
                  <a:pt x="964406" y="0"/>
                </a:cubicBezTo>
                <a:lnTo>
                  <a:pt x="1928812" y="0"/>
                </a:lnTo>
                <a:lnTo>
                  <a:pt x="1928812" y="1004888"/>
                </a:lnTo>
                <a:cubicBezTo>
                  <a:pt x="1928812" y="1559872"/>
                  <a:pt x="1497033" y="2009776"/>
                  <a:pt x="964406" y="2009776"/>
                </a:cubicBezTo>
                <a:cubicBezTo>
                  <a:pt x="431779" y="2009776"/>
                  <a:pt x="0" y="1559872"/>
                  <a:pt x="0" y="100488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3883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Капля 4"/>
          <p:cNvSpPr/>
          <p:nvPr/>
        </p:nvSpPr>
        <p:spPr>
          <a:xfrm flipH="1" flipV="1">
            <a:off x="5643720" y="357120"/>
            <a:ext cx="1847520" cy="1928880"/>
          </a:xfrm>
          <a:custGeom>
            <a:avLst/>
            <a:gdLst/>
            <a:ahLst/>
            <a:rect l="l" t="t" r="r" b="b"/>
            <a:pathLst>
              <a:path w="1847850" h="1928812">
                <a:moveTo>
                  <a:pt x="0" y="964406"/>
                </a:moveTo>
                <a:cubicBezTo>
                  <a:pt x="0" y="431779"/>
                  <a:pt x="413655" y="0"/>
                  <a:pt x="923925" y="0"/>
                </a:cubicBezTo>
                <a:lnTo>
                  <a:pt x="1847850" y="0"/>
                </a:lnTo>
                <a:lnTo>
                  <a:pt x="1847850" y="964406"/>
                </a:lnTo>
                <a:cubicBezTo>
                  <a:pt x="1847850" y="1497033"/>
                  <a:pt x="1434195" y="1928812"/>
                  <a:pt x="923925" y="1928812"/>
                </a:cubicBezTo>
                <a:cubicBezTo>
                  <a:pt x="413655" y="1928812"/>
                  <a:pt x="0" y="1497033"/>
                  <a:pt x="0" y="964406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3883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вал 5"/>
          <p:cNvSpPr/>
          <p:nvPr/>
        </p:nvSpPr>
        <p:spPr>
          <a:xfrm>
            <a:off x="3571920" y="214200"/>
            <a:ext cx="1571760" cy="1928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883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6"/>
          <p:cNvSpPr/>
          <p:nvPr/>
        </p:nvSpPr>
        <p:spPr>
          <a:xfrm>
            <a:off x="3571920" y="3714840"/>
            <a:ext cx="1571760" cy="1928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883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7"/>
          <p:cNvSpPr/>
          <p:nvPr/>
        </p:nvSpPr>
        <p:spPr>
          <a:xfrm>
            <a:off x="3000240" y="2357280"/>
            <a:ext cx="2643480" cy="1214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3883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Прямоугольник 8" descr=""/>
          <p:cNvPicPr/>
          <p:nvPr/>
        </p:nvPicPr>
        <p:blipFill>
          <a:blip r:embed="rId1"/>
          <a:stretch/>
        </p:blipFill>
        <p:spPr>
          <a:xfrm>
            <a:off x="3786120" y="2286000"/>
            <a:ext cx="1030320" cy="132228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9" descr=""/>
          <p:cNvPicPr/>
          <p:nvPr/>
        </p:nvPicPr>
        <p:blipFill>
          <a:blip r:embed="rId2"/>
          <a:stretch/>
        </p:blipFill>
        <p:spPr>
          <a:xfrm>
            <a:off x="6284880" y="639720"/>
            <a:ext cx="712800" cy="132876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10" descr=""/>
          <p:cNvPicPr/>
          <p:nvPr/>
        </p:nvPicPr>
        <p:blipFill>
          <a:blip r:embed="rId3"/>
          <a:stretch/>
        </p:blipFill>
        <p:spPr>
          <a:xfrm>
            <a:off x="2073240" y="639720"/>
            <a:ext cx="706320" cy="1328760"/>
          </a:xfrm>
          <a:prstGeom prst="rect">
            <a:avLst/>
          </a:prstGeom>
          <a:ln w="0">
            <a:noFill/>
          </a:ln>
        </p:spPr>
      </p:pic>
      <p:pic>
        <p:nvPicPr>
          <p:cNvPr id="178" name="Прямоугольник 11" descr=""/>
          <p:cNvPicPr/>
          <p:nvPr/>
        </p:nvPicPr>
        <p:blipFill>
          <a:blip r:embed="rId4"/>
          <a:stretch/>
        </p:blipFill>
        <p:spPr>
          <a:xfrm>
            <a:off x="5784840" y="3859200"/>
            <a:ext cx="1238400" cy="1322280"/>
          </a:xfrm>
          <a:prstGeom prst="rect">
            <a:avLst/>
          </a:prstGeom>
          <a:ln w="0">
            <a:noFill/>
          </a:ln>
        </p:spPr>
      </p:pic>
      <p:pic>
        <p:nvPicPr>
          <p:cNvPr id="179" name="Прямоугольник 12" descr=""/>
          <p:cNvPicPr/>
          <p:nvPr/>
        </p:nvPicPr>
        <p:blipFill>
          <a:blip r:embed="rId5"/>
          <a:stretch/>
        </p:blipFill>
        <p:spPr>
          <a:xfrm>
            <a:off x="4071960" y="573120"/>
            <a:ext cx="712800" cy="132228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13" descr=""/>
          <p:cNvPicPr/>
          <p:nvPr/>
        </p:nvPicPr>
        <p:blipFill>
          <a:blip r:embed="rId6"/>
          <a:stretch/>
        </p:blipFill>
        <p:spPr>
          <a:xfrm>
            <a:off x="3998880" y="3998880"/>
            <a:ext cx="712800" cy="1322280"/>
          </a:xfrm>
          <a:prstGeom prst="rect">
            <a:avLst/>
          </a:prstGeom>
          <a:ln w="0">
            <a:noFill/>
          </a:ln>
        </p:spPr>
      </p:pic>
      <p:pic>
        <p:nvPicPr>
          <p:cNvPr id="181" name="Прямоугольник 14" descr=""/>
          <p:cNvPicPr/>
          <p:nvPr/>
        </p:nvPicPr>
        <p:blipFill>
          <a:blip r:embed="rId7"/>
          <a:stretch/>
        </p:blipFill>
        <p:spPr>
          <a:xfrm>
            <a:off x="2000160" y="4071960"/>
            <a:ext cx="712800" cy="13222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5"/>
          <p:cNvSpPr/>
          <p:nvPr/>
        </p:nvSpPr>
        <p:spPr>
          <a:xfrm>
            <a:off x="221040" y="614376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гра «Молчан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C:\Users\Helen\Desktop\схемы\цифры\0_4bc2d_12b4c659_L.png"/>
          <p:cNvPicPr/>
          <p:nvPr/>
        </p:nvPicPr>
        <p:blipFill>
          <a:blip r:embed="rId1"/>
          <a:stretch/>
        </p:blipFill>
        <p:spPr>
          <a:xfrm>
            <a:off x="0" y="1571760"/>
            <a:ext cx="3530520" cy="3530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Users\Helen\Desktop\схемы\цифры\0_4bc29_be9c8550_L.png"/>
          <p:cNvPicPr/>
          <p:nvPr/>
        </p:nvPicPr>
        <p:blipFill>
          <a:blip r:embed="rId2"/>
          <a:stretch/>
        </p:blipFill>
        <p:spPr>
          <a:xfrm>
            <a:off x="5429160" y="1500120"/>
            <a:ext cx="3532320" cy="3532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C:\Users\Helen\Desktop\схемы\цифры\0_4bc40_2755d89a_L.png"/>
          <p:cNvPicPr/>
          <p:nvPr/>
        </p:nvPicPr>
        <p:blipFill>
          <a:blip r:embed="rId3"/>
          <a:stretch/>
        </p:blipFill>
        <p:spPr>
          <a:xfrm>
            <a:off x="3357720" y="2714760"/>
            <a:ext cx="2531880" cy="12967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5"/>
          <p:cNvSpPr/>
          <p:nvPr/>
        </p:nvSpPr>
        <p:spPr>
          <a:xfrm>
            <a:off x="228600" y="21420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ставь задачу по 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D:\клипарты\посуда\3276ed4f534e.png"/>
          <p:cNvPicPr/>
          <p:nvPr/>
        </p:nvPicPr>
        <p:blipFill>
          <a:blip r:embed="rId1"/>
          <a:stretch/>
        </p:blipFill>
        <p:spPr>
          <a:xfrm>
            <a:off x="571680" y="714240"/>
            <a:ext cx="1201680" cy="212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D:\клипарты\посуда\3276ed4f534e.png"/>
          <p:cNvPicPr/>
          <p:nvPr/>
        </p:nvPicPr>
        <p:blipFill>
          <a:blip r:embed="rId2"/>
          <a:stretch/>
        </p:blipFill>
        <p:spPr>
          <a:xfrm>
            <a:off x="2143080" y="714240"/>
            <a:ext cx="1201680" cy="2124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D:\клипарты\посуда\3276ed4f534e.png"/>
          <p:cNvPicPr/>
          <p:nvPr/>
        </p:nvPicPr>
        <p:blipFill>
          <a:blip r:embed="rId3"/>
          <a:stretch/>
        </p:blipFill>
        <p:spPr>
          <a:xfrm>
            <a:off x="4857840" y="714240"/>
            <a:ext cx="1201680" cy="2124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D:\клипарты\посуда\3276ed4f534e.png"/>
          <p:cNvPicPr/>
          <p:nvPr/>
        </p:nvPicPr>
        <p:blipFill>
          <a:blip r:embed="rId4"/>
          <a:stretch/>
        </p:blipFill>
        <p:spPr>
          <a:xfrm>
            <a:off x="3500280" y="714240"/>
            <a:ext cx="1202040" cy="2124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D:\клипарты\посуда\3276ed4f534e.png"/>
          <p:cNvPicPr/>
          <p:nvPr/>
        </p:nvPicPr>
        <p:blipFill>
          <a:blip r:embed="rId5"/>
          <a:stretch/>
        </p:blipFill>
        <p:spPr>
          <a:xfrm>
            <a:off x="6215040" y="714240"/>
            <a:ext cx="1201680" cy="2124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D:\клипарты\посуда\3276ed4f534e.png"/>
          <p:cNvPicPr/>
          <p:nvPr/>
        </p:nvPicPr>
        <p:blipFill>
          <a:blip r:embed="rId6"/>
          <a:stretch/>
        </p:blipFill>
        <p:spPr>
          <a:xfrm>
            <a:off x="7572240" y="714240"/>
            <a:ext cx="1202040" cy="2124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D:\клипарты\посуда\7b3b71db8e63.png"/>
          <p:cNvPicPr/>
          <p:nvPr/>
        </p:nvPicPr>
        <p:blipFill>
          <a:blip r:embed="rId7"/>
          <a:stretch/>
        </p:blipFill>
        <p:spPr>
          <a:xfrm>
            <a:off x="214200" y="3071880"/>
            <a:ext cx="2067120" cy="1871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D:\клипарты\посуда\7b3b71db8e63.png"/>
          <p:cNvPicPr/>
          <p:nvPr/>
        </p:nvPicPr>
        <p:blipFill>
          <a:blip r:embed="rId8"/>
          <a:stretch/>
        </p:blipFill>
        <p:spPr>
          <a:xfrm>
            <a:off x="1857240" y="3143160"/>
            <a:ext cx="2067120" cy="18716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9"/>
          <p:cNvSpPr/>
          <p:nvPr/>
        </p:nvSpPr>
        <p:spPr>
          <a:xfrm>
            <a:off x="578160" y="214200"/>
            <a:ext cx="43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Чего больше и на скольк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инус 10"/>
          <p:cNvSpPr/>
          <p:nvPr/>
        </p:nvSpPr>
        <p:spPr>
          <a:xfrm rot="16200000">
            <a:off x="106920" y="2321280"/>
            <a:ext cx="2143080" cy="642960"/>
          </a:xfrm>
          <a:custGeom>
            <a:avLst/>
            <a:gdLst/>
            <a:ahLst/>
            <a:rect l="l" t="t" r="r" b="b"/>
            <a:pathLst>
              <a:path w="2143125" h="642938">
                <a:moveTo>
                  <a:pt x="284071" y="245859"/>
                </a:moveTo>
                <a:lnTo>
                  <a:pt x="1859054" y="245859"/>
                </a:lnTo>
                <a:lnTo>
                  <a:pt x="1859054" y="397079"/>
                </a:lnTo>
                <a:lnTo>
                  <a:pt x="284071" y="397079"/>
                </a:lnTo>
                <a:lnTo>
                  <a:pt x="284071" y="245859"/>
                </a:lnTo>
                <a:close/>
              </a:path>
            </a:pathLst>
          </a:custGeom>
          <a:solidFill>
            <a:srgbClr val="50b4c8"/>
          </a:solidFill>
          <a:ln w="12600">
            <a:solidFill>
              <a:srgbClr val="3883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инус 11"/>
          <p:cNvSpPr/>
          <p:nvPr/>
        </p:nvSpPr>
        <p:spPr>
          <a:xfrm rot="16200000">
            <a:off x="1607040" y="2321280"/>
            <a:ext cx="2143080" cy="642960"/>
          </a:xfrm>
          <a:custGeom>
            <a:avLst/>
            <a:gdLst/>
            <a:ahLst/>
            <a:rect l="l" t="t" r="r" b="b"/>
            <a:pathLst>
              <a:path w="2143125" h="642937">
                <a:moveTo>
                  <a:pt x="284071" y="245859"/>
                </a:moveTo>
                <a:lnTo>
                  <a:pt x="1859054" y="245859"/>
                </a:lnTo>
                <a:lnTo>
                  <a:pt x="1859054" y="397078"/>
                </a:lnTo>
                <a:lnTo>
                  <a:pt x="284071" y="397078"/>
                </a:lnTo>
                <a:lnTo>
                  <a:pt x="284071" y="245859"/>
                </a:lnTo>
                <a:close/>
              </a:path>
            </a:pathLst>
          </a:custGeom>
          <a:solidFill>
            <a:srgbClr val="50b4c8"/>
          </a:solidFill>
          <a:ln w="12600">
            <a:solidFill>
              <a:srgbClr val="3883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Прямоугольник 12" descr=""/>
          <p:cNvPicPr/>
          <p:nvPr/>
        </p:nvPicPr>
        <p:blipFill>
          <a:blip r:embed="rId9"/>
          <a:stretch/>
        </p:blipFill>
        <p:spPr>
          <a:xfrm>
            <a:off x="7570800" y="5145120"/>
            <a:ext cx="811080" cy="1994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C:\Users\Helen\Desktop\схемы\шаблоны мои\матем\2011-10-19_064427.jpg"/>
          <p:cNvPicPr/>
          <p:nvPr/>
        </p:nvPicPr>
        <p:blipFill>
          <a:blip r:embed="rId1"/>
          <a:stretch/>
        </p:blipFill>
        <p:spPr>
          <a:xfrm>
            <a:off x="428760" y="285840"/>
            <a:ext cx="8281800" cy="6161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1"/>
          <p:cNvSpPr/>
          <p:nvPr/>
        </p:nvSpPr>
        <p:spPr>
          <a:xfrm>
            <a:off x="357120" y="1785960"/>
            <a:ext cx="8429760" cy="2857320"/>
          </a:xfrm>
          <a:prstGeom prst="rect">
            <a:avLst/>
          </a:prstGeom>
          <a:solidFill>
            <a:srgbClr val="00b0f0"/>
          </a:solidFill>
          <a:ln w="12600">
            <a:solidFill>
              <a:srgbClr val="3883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3000240" y="1785960"/>
            <a:ext cx="3000600" cy="2857320"/>
          </a:xfrm>
          <a:prstGeom prst="rect">
            <a:avLst/>
          </a:prstGeom>
          <a:solidFill>
            <a:srgbClr val="ffff00"/>
          </a:solidFill>
          <a:ln w="12600">
            <a:solidFill>
              <a:srgbClr val="3883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298440" y="21420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Сколько на рисунке квадратов и прямоугольников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Прямоугольник 4" descr=""/>
          <p:cNvPicPr/>
          <p:nvPr/>
        </p:nvPicPr>
        <p:blipFill>
          <a:blip r:embed="rId1"/>
          <a:stretch/>
        </p:blipFill>
        <p:spPr>
          <a:xfrm>
            <a:off x="281160" y="5711760"/>
            <a:ext cx="8607240" cy="115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1"/>
          <p:cNvSpPr/>
          <p:nvPr/>
        </p:nvSpPr>
        <p:spPr>
          <a:xfrm>
            <a:off x="403920" y="214200"/>
            <a:ext cx="843912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a8b9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Китае живёт людей больше, чем в Индии, а в Инд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ивёт людей больше, чем в России. В какой из эт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тран самая большая численно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Прямоугольник 2" descr=""/>
          <p:cNvPicPr/>
          <p:nvPr/>
        </p:nvPicPr>
        <p:blipFill>
          <a:blip r:embed="rId1"/>
          <a:stretch/>
        </p:blipFill>
        <p:spPr>
          <a:xfrm>
            <a:off x="500040" y="2359080"/>
            <a:ext cx="1987560" cy="920520"/>
          </a:xfrm>
          <a:prstGeom prst="rect">
            <a:avLst/>
          </a:prstGeom>
          <a:ln w="0">
            <a:noFill/>
          </a:ln>
        </p:spPr>
      </p:pic>
      <p:pic>
        <p:nvPicPr>
          <p:cNvPr id="206" name="Прямоугольник 3" descr=""/>
          <p:cNvPicPr/>
          <p:nvPr/>
        </p:nvPicPr>
        <p:blipFill>
          <a:blip r:embed="rId2"/>
          <a:stretch/>
        </p:blipFill>
        <p:spPr>
          <a:xfrm>
            <a:off x="500040" y="3286080"/>
            <a:ext cx="2176560" cy="92556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4" descr=""/>
          <p:cNvPicPr/>
          <p:nvPr/>
        </p:nvPicPr>
        <p:blipFill>
          <a:blip r:embed="rId3"/>
          <a:stretch/>
        </p:blipFill>
        <p:spPr>
          <a:xfrm>
            <a:off x="500040" y="4145040"/>
            <a:ext cx="2262240" cy="920520"/>
          </a:xfrm>
          <a:prstGeom prst="rect">
            <a:avLst/>
          </a:prstGeom>
          <a:ln w="0">
            <a:noFill/>
          </a:ln>
        </p:spPr>
      </p:pic>
      <p:sp>
        <p:nvSpPr>
          <p:cNvPr id="208" name="Минус 5"/>
          <p:cNvSpPr/>
          <p:nvPr/>
        </p:nvSpPr>
        <p:spPr>
          <a:xfrm>
            <a:off x="2214720" y="2357280"/>
            <a:ext cx="6572160" cy="928800"/>
          </a:xfrm>
          <a:custGeom>
            <a:avLst/>
            <a:gdLst/>
            <a:ahLst/>
            <a:rect l="l" t="t" r="r" b="b"/>
            <a:pathLst>
              <a:path w="6572250" h="928687">
                <a:moveTo>
                  <a:pt x="871152" y="355130"/>
                </a:moveTo>
                <a:lnTo>
                  <a:pt x="5701098" y="355130"/>
                </a:lnTo>
                <a:lnTo>
                  <a:pt x="5701098" y="573557"/>
                </a:lnTo>
                <a:lnTo>
                  <a:pt x="871152" y="573557"/>
                </a:lnTo>
                <a:lnTo>
                  <a:pt x="871152" y="35513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3883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инус 6"/>
          <p:cNvSpPr/>
          <p:nvPr/>
        </p:nvSpPr>
        <p:spPr>
          <a:xfrm>
            <a:off x="2571840" y="3143160"/>
            <a:ext cx="4143240" cy="928800"/>
          </a:xfrm>
          <a:custGeom>
            <a:avLst/>
            <a:gdLst/>
            <a:ahLst/>
            <a:rect l="l" t="t" r="r" b="b"/>
            <a:pathLst>
              <a:path w="4143375" h="928688">
                <a:moveTo>
                  <a:pt x="549204" y="355130"/>
                </a:moveTo>
                <a:lnTo>
                  <a:pt x="3594171" y="355130"/>
                </a:lnTo>
                <a:lnTo>
                  <a:pt x="3594171" y="573558"/>
                </a:lnTo>
                <a:lnTo>
                  <a:pt x="549204" y="573558"/>
                </a:lnTo>
                <a:lnTo>
                  <a:pt x="549204" y="355130"/>
                </a:lnTo>
                <a:close/>
              </a:path>
            </a:pathLst>
          </a:custGeom>
          <a:solidFill>
            <a:srgbClr val="00b050"/>
          </a:solidFill>
          <a:ln w="12600">
            <a:solidFill>
              <a:srgbClr val="3883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инус 7"/>
          <p:cNvSpPr/>
          <p:nvPr/>
        </p:nvSpPr>
        <p:spPr>
          <a:xfrm>
            <a:off x="2786040" y="4071960"/>
            <a:ext cx="2786040" cy="928800"/>
          </a:xfrm>
          <a:custGeom>
            <a:avLst/>
            <a:gdLst/>
            <a:ahLst/>
            <a:rect l="l" t="t" r="r" b="b"/>
            <a:pathLst>
              <a:path w="2786062" h="928687">
                <a:moveTo>
                  <a:pt x="369293" y="355130"/>
                </a:moveTo>
                <a:lnTo>
                  <a:pt x="2416769" y="355130"/>
                </a:lnTo>
                <a:lnTo>
                  <a:pt x="2416769" y="573557"/>
                </a:lnTo>
                <a:lnTo>
                  <a:pt x="369293" y="573557"/>
                </a:lnTo>
                <a:lnTo>
                  <a:pt x="369293" y="355130"/>
                </a:lnTo>
                <a:close/>
              </a:path>
            </a:pathLst>
          </a:custGeom>
          <a:solidFill>
            <a:srgbClr val="00b0f0"/>
          </a:solidFill>
          <a:ln w="12600">
            <a:solidFill>
              <a:srgbClr val="3883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Users\Helen\Desktop\схемы\шаблоны мои\матем\2011-10-19_064548.jpg"/>
          <p:cNvPicPr/>
          <p:nvPr/>
        </p:nvPicPr>
        <p:blipFill>
          <a:blip r:embed="rId1"/>
          <a:stretch/>
        </p:blipFill>
        <p:spPr>
          <a:xfrm>
            <a:off x="428760" y="357120"/>
            <a:ext cx="8124840" cy="6000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5:28:48Z</dcterms:created>
  <dc:creator>Helen</dc:creator>
  <dc:description/>
  <dc:language>en-US</dc:language>
  <cp:lastModifiedBy>HP</cp:lastModifiedBy>
  <dcterms:modified xsi:type="dcterms:W3CDTF">2024-01-29T17:43:31Z</dcterms:modified>
  <cp:revision>15</cp:revision>
  <dc:subject/>
  <dc:title>Слайд 1</dc:title>
</cp:coreProperties>
</file>