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6DF-BB76-43B5-95AF-7E9ABFDE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E11-9CE1-4975-96CE-F641977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AD2-0E30-465B-9CDF-DEF9922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C2A-C642-44D7-B49A-E695A76B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F5A9-32A7-4665-8B1D-2E7159C5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CD7E-36D4-4CD7-ABB0-1FEEB388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C2A-4BBA-4D6A-8F8C-926E8B6C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B37-F9CD-4DE9-BCB9-48B2026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04C4-DCC2-4B7A-8B1F-FD45CE6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DFEF-B331-49FE-9648-81C0D3F1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387-D4B1-41E3-9D89-1546D9A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CE5-3C19-44C8-9E71-1783AC4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5D45-C519-4862-8BA9-77B059B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0BC-651A-4B23-A009-CB36CE9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069-4F2F-448E-87C3-57E51B0B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F8A-81A5-482B-B73A-F1EBC643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81D5-2CFA-48CB-B3E4-64117A95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E7D0-A4DB-4839-9ACC-43D3AD27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1C90-14AD-4442-9923-33583DA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9C7B-B078-4116-B2E7-0DBFF97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3B56-9141-4874-828B-E51A1789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1EB4-1E8F-4E2F-BCE3-2EBBBC4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897-6685-4A9A-88DE-33864DB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40E3-8D2C-4AB4-99D8-B89F539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E640-BE36-4F3E-BD8A-BA34767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6B5A-7553-468B-9881-B3D2FF3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D223-F946-44D7-AD44-B587453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40A3-FA00-423E-A6D3-77A2935D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989B-0412-49BF-A7D8-6D10AC8A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5194-CE78-4D6B-9937-C7B0E74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76BA-2383-4C6B-A057-53E4195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F6B1-8F65-4809-9D1C-7C38E0B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78FC-CECF-4B37-8799-C3813F3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468-50CC-4B24-92CD-4FDFAB0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752B-286D-4537-9FBA-CFDCA3F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9D54-9A71-4044-A90A-CE1AED4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433D-9D82-4514-AD9B-4E893DAE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C825-835F-4941-8154-C5D2205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C520-FD7D-4E90-A3A6-AE9C67E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47C8-5E0F-43E9-BC38-F2E7665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0BB2-D6F1-43B5-AAD0-2D2062A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9454-0C6E-499A-93F0-D415CBF3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6D1B-5790-4B30-9851-838F7126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470-759D-4920-8531-997D4DF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E3E-53F7-404F-AC07-788171EA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A13-AE4C-4DDA-BE42-524E15F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628-CCCA-4365-AAD5-E54F62C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775-B801-4C6E-86FC-20EC3B1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36A40-DC5D-4E9A-94FF-5DFB331547D1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BCC89-A2D8-4289-9A28-CB9779EB492B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CAE2A-FC82-4B01-B22D-2B9C388B7DC9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413F1-E61A-443E-A2CD-0468E1E8858E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229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43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3" name="Содержимое 5" descr="2580-2.jpg"/>
          <p:cNvPicPr/>
          <p:nvPr/>
        </p:nvPicPr>
        <p:blipFill>
          <a:blip r:embed="rId1"/>
          <a:stretch/>
        </p:blipFill>
        <p:spPr>
          <a:xfrm>
            <a:off x="2322360" y="2060640"/>
            <a:ext cx="32148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5" name="Содержимое 4" descr="100744489_tonnel.gif"/>
          <p:cNvPicPr/>
          <p:nvPr/>
        </p:nvPicPr>
        <p:blipFill>
          <a:blip r:embed="rId1"/>
          <a:stretch/>
        </p:blipFill>
        <p:spPr>
          <a:xfrm>
            <a:off x="500040" y="1504800"/>
            <a:ext cx="3714840" cy="4432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1640" y="191592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Пером – оружием своим,                                                               Что я в руках держу, -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сем честным людям трудовым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Я, как солдат, служ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. Михалков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0764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0920" y="1725480"/>
            <a:ext cx="3089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ергей Владимирович Михалков родился 13 марта 1913 года в Москв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Школьные годы Михалков провел в Пятигорске. В 1930 году он окончил среднюю школу, но еще за два года до этого было опубликовано его первое стихотворение «Дорога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4" descr="mihal1.jpg"/>
          <p:cNvPicPr/>
          <p:nvPr/>
        </p:nvPicPr>
        <p:blipFill>
          <a:blip r:embed="rId1"/>
          <a:stretch/>
        </p:blipFill>
        <p:spPr>
          <a:xfrm>
            <a:off x="755640" y="1557360"/>
            <a:ext cx="25462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1" name="Содержимое 6" descr="i_mikhalkov3_2.jpg"/>
          <p:cNvPicPr/>
          <p:nvPr/>
        </p:nvPicPr>
        <p:blipFill>
          <a:blip r:embed="rId1"/>
          <a:stretch/>
        </p:blipFill>
        <p:spPr>
          <a:xfrm>
            <a:off x="328680" y="1550880"/>
            <a:ext cx="3454200" cy="4491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В 1930 году Михалков переехал в Москву, где в течение трех лет работал на ткацкой фабрике. Уже тогда стихи Михалкова публиковались в печати, передавались по радио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Затем Михалков обучался в Литературном институте имени Горького.  В это же время Михалковым была издана первая книга стих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2217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4" name="Содержимое 5" descr="mihal3.jpg"/>
          <p:cNvPicPr/>
          <p:nvPr/>
        </p:nvPicPr>
        <p:blipFill>
          <a:blip r:embed="rId1"/>
          <a:stretch/>
        </p:blipFill>
        <p:spPr>
          <a:xfrm>
            <a:off x="334800" y="1973160"/>
            <a:ext cx="4165920" cy="2911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ru-RU" sz="1800" spc="-1" strike="noStrike">
                <a:solidFill>
                  <a:srgbClr val="c00000"/>
                </a:solidFill>
                <a:latin typeface="Trebuchet MS"/>
                <a:ea typeface="Arial"/>
              </a:rPr>
              <a:t>"Имя твое неизвестно, подвиг твой бессмертен"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, - также принадлежит Михалков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Литературная деятельность                     С. В. Михалкова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7" name="Содержимое 4" descr="untitled.bmp"/>
          <p:cNvPicPr/>
          <p:nvPr/>
        </p:nvPicPr>
        <p:blipFill>
          <a:blip r:embed="rId1"/>
          <a:stretch/>
        </p:blipFill>
        <p:spPr>
          <a:xfrm>
            <a:off x="490680" y="1592280"/>
            <a:ext cx="3881160" cy="335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оэ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исате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Баснописе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раматург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ереводчи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ценарис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Журналис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втор гимна Ро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14200" y="550080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 Владимирович говорит: «Я стараюсь работать в разных жанрах: пишу стихи, пьесы, сценарии для взрослых и детей, песни, сатиру, статьи, заметки.… Я считаю, что работа в разных жанрах взаимно обогащает их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4360" y="105228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 мировой детской литературе есть сегодня хорошие книги, созданные на десятках разных языков. Есть книги-учителя, строгие и взыскательные. Есть книги-приятели. Есть книги-волшебники. Есть книги-солдаты. И каждая новая хорошая детская книга – это праздник для тысяч юных граждан планеты "Земля"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.В. Михалк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Екатерина Зыряева</cp:lastModifiedBy>
  <dcterms:modified xsi:type="dcterms:W3CDTF">2024-01-29T16:25:05Z</dcterms:modified>
  <cp:revision>36</cp:revision>
  <dc:subject/>
  <dc:title>Сергей Владимирович Михалков</dc:title>
</cp:coreProperties>
</file>