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99E-1460-4CFF-A4FA-90BD3C7B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D44-758E-402C-82AF-DD803A5A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2376-8DB7-4206-9CA3-B32B5A76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3C12-C622-4837-A364-FBF18BD1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42F3-A057-477B-851E-DEA4B6D0B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9224-F644-47D4-8FD6-552A04D5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A9D2-17DE-43C2-97A2-03911D97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617A-2B7C-4E5F-AED3-6F162594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6085-206A-4D14-B409-F0372B60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32D9-A1F0-4E9B-9D54-29812B5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FB6E-0CCD-4D5A-BCB8-C7CBF6F0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B4C-C26D-4E3D-A56F-988B73E6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7D89-5E22-487A-A2C3-83EB1A7C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0A6C-3014-458D-A48D-05AF0A08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F95E-ACEE-437B-95FB-422541509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B8D8-625B-4817-A441-2EFF4D9A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F486-9A2A-450C-84B0-2477FA631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8F7E-2029-414B-8772-080D98E4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EAAD3-C660-4DC1-B22C-29BE3D43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98FC3-958B-46A1-AF92-838A14E7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E8B03-2C76-4914-9BEA-5AE97083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36E6-98E2-420A-8F6F-8C39CC7F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F1C-C969-4C79-9D8C-D4BCF586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28B50-3740-4904-ACBA-AB4901A2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F2B4-2870-4ABF-A1F5-1C17C21D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1E227-99BA-4956-B8F9-CD9C715F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E0D40-8A0F-4171-9EBA-AC9370E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866E6-FE11-475D-9402-0E732B1A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6AF5-AC5D-49CA-AC53-B01BCFE0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B99DA-D78F-4E3F-A401-071BD55E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E9C0-6055-4F83-B215-9AB1BB53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33BB-3C37-43C6-9982-FEBEE061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22F1A-19E9-48D8-BFEF-EAA520D4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C133-A879-4DD8-8433-F7CC9CD5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539B-CDC2-452B-B6A0-8C601EBA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DDB8-0E5F-48ED-966F-230EA939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E84C9-CB68-4386-A733-88DB9B3A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32390-8C28-49B2-A213-02314C07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C4558-AA06-4B23-B792-1E319EED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B497E-AB5A-451B-8020-ECBAFD5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F27A-DA83-4815-954C-4D5FAA55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D475-FF04-407A-B49D-3CAEB401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EB369-270D-432B-9907-BA1A90C2D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874C-DFAA-4FA1-8AF2-43985BBE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75F-84CB-48CD-8358-6017E182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62ED-303C-460E-946A-F2AC085D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5B49-77CB-497B-8B7E-489A5906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ED4-7101-4B95-989C-DCAD04B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88A12-7249-43C1-B37D-20E359DFE2E9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39556-CF79-4E04-B06F-8D47D9B2C4F3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1A4B0-D129-4CC8-9A0B-F0AF20E8A34C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eb3d9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7B5AB-0155-4115-A668-4B66414299DB}" type="slidenum">
              <a:rPr b="0" lang="ru-RU" sz="900" spc="-1" strike="noStrike">
                <a:solidFill>
                  <a:srgbClr val="eb3d9f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2296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43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13" name="Содержимое 5" descr="2580-2.jpg"/>
          <p:cNvPicPr/>
          <p:nvPr/>
        </p:nvPicPr>
        <p:blipFill>
          <a:blip r:embed="rId1"/>
          <a:stretch/>
        </p:blipFill>
        <p:spPr>
          <a:xfrm>
            <a:off x="2322360" y="2060640"/>
            <a:ext cx="321480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15" name="Содержимое 4" descr="100744489_tonnel.gif"/>
          <p:cNvPicPr/>
          <p:nvPr/>
        </p:nvPicPr>
        <p:blipFill>
          <a:blip r:embed="rId1"/>
          <a:stretch/>
        </p:blipFill>
        <p:spPr>
          <a:xfrm>
            <a:off x="500040" y="1504800"/>
            <a:ext cx="3714840" cy="4432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571640" y="1915920"/>
            <a:ext cx="3087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Пером – оружием своим,                                                               Что я в руках держу, -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Всем честным людям трудовым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Я, как солдат, служу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1" lang="ru-RU" sz="2000" spc="-1" strike="noStrike">
                <a:solidFill>
                  <a:srgbClr val="404040"/>
                </a:solidFill>
                <a:latin typeface="Trebuchet MS"/>
              </a:rPr>
              <a:t>С. Михалков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640" y="10764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850920" y="1725480"/>
            <a:ext cx="3089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ергей Владимирович Михалков родился 13 марта 1913 года в Москве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Школьные годы Михалков провел в Пятигорске. В 1930 году он окончил среднюю школу, но еще за два года до этого было опубликовано его первое стихотворение «Дорога»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9" name="Рисунок 4" descr="mihal1.jpg"/>
          <p:cNvPicPr/>
          <p:nvPr/>
        </p:nvPicPr>
        <p:blipFill>
          <a:blip r:embed="rId1"/>
          <a:stretch/>
        </p:blipFill>
        <p:spPr>
          <a:xfrm>
            <a:off x="755640" y="1557360"/>
            <a:ext cx="254628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15516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1" name="Содержимое 6" descr="i_mikhalkov3_2.jpg"/>
          <p:cNvPicPr/>
          <p:nvPr/>
        </p:nvPicPr>
        <p:blipFill>
          <a:blip r:embed="rId1"/>
          <a:stretch/>
        </p:blipFill>
        <p:spPr>
          <a:xfrm>
            <a:off x="328680" y="1550880"/>
            <a:ext cx="3454200" cy="4491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В 1930 году Михалков переехал в Москву, где в течение трех лет работал на ткацкой фабрике. Уже тогда стихи Михалкова публиковались в печати, передавались по радио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Затем Михалков обучался в Литературном институте имени Горького.  В это же время Михалковым была издана первая книга стих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1280" y="2217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rebuchet MS"/>
              </a:rPr>
              <a:t>Сергей Владимирович Михалков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4" name="Содержимое 5" descr="mihal3.jpg"/>
          <p:cNvPicPr/>
          <p:nvPr/>
        </p:nvPicPr>
        <p:blipFill>
          <a:blip r:embed="rId1"/>
          <a:stretch/>
        </p:blipFill>
        <p:spPr>
          <a:xfrm>
            <a:off x="334800" y="1973160"/>
            <a:ext cx="4165920" cy="2911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0072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В годы Великой Отечественной войны Михалков находился в рядах Красной армии, работал в армейской печат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Знаменитые строки на гранитной плите Вечного огня у Кремлевской стены: </a:t>
            </a:r>
            <a:r>
              <a:rPr b="1" i="1" lang="ru-RU" sz="1800" spc="-1" strike="noStrike">
                <a:solidFill>
                  <a:srgbClr val="c00000"/>
                </a:solidFill>
                <a:latin typeface="Trebuchet MS"/>
                <a:ea typeface="Arial"/>
              </a:rPr>
              <a:t>"Имя твое неизвестно, подвиг твой бессмертен"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, - также принадлежит Михалкову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 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  <a:ea typeface="Arial"/>
              </a:rPr>
              <a:t>После Великой Отечественной войны Михалков продолжил свою литературную деятельнос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Литературная деятельность                     С. В. Михалкова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27" name="Содержимое 4" descr="untitled.bmp"/>
          <p:cNvPicPr/>
          <p:nvPr/>
        </p:nvPicPr>
        <p:blipFill>
          <a:blip r:embed="rId1"/>
          <a:stretch/>
        </p:blipFill>
        <p:spPr>
          <a:xfrm>
            <a:off x="490680" y="1592280"/>
            <a:ext cx="3881160" cy="3357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648320" y="1142640"/>
            <a:ext cx="40384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оэ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исатель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Баснописец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Драматург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Переводчик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Сценарис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Журналист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Автор гимна России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214200" y="5500800"/>
            <a:ext cx="878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гей Владимирович говорит: «Я стараюсь работать в разных жанрах: пишу стихи, пьесы, сценарии для взрослых и детей, песни, сатиру, статьи, заметки.… Я считаю, что работа в разных жанрах взаимно обогащает их»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4360" y="1052280"/>
            <a:ext cx="63468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«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В мировой детской литературе есть сегодня хорошие книги, созданные на десятках разных языков. Есть книги-учителя, строгие и взыскательные. Есть книги-приятели. Есть книги-волшебники. Есть книги-солдаты. И каждая новая хорошая детская книга – это праздник для тысяч юных граждан планеты "Земля"»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С.В. Михалков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4:10:27Z</dcterms:created>
  <dc:creator>1</dc:creator>
  <dc:description/>
  <dc:language>en-US</dc:language>
  <cp:lastModifiedBy>Екатерина Зыряева</cp:lastModifiedBy>
  <dcterms:modified xsi:type="dcterms:W3CDTF">2024-01-29T16:25:05Z</dcterms:modified>
  <cp:revision>36</cp:revision>
  <dc:subject/>
  <dc:title>Сергей Владимирович Михалков</dc:title>
</cp:coreProperties>
</file>