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865-8CE7-4181-886E-E1C75A9B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58E-C658-4DE4-BAB2-3AF271A8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4FF-BE43-41F2-8B87-3CF1A26C8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A57-6139-43ED-8C8E-DE4E420A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8444-9B14-4419-A8DD-8C138B09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22B4-4796-4E11-A7A2-97F2DB10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1193-08F8-4316-8438-B65CF60D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2A40-C111-4207-990A-4F05CE3D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269F-7544-4A83-B44E-29698EE9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2926-4D72-4750-BE95-BBECCE07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934C-2308-4005-ADE1-AA22DA1E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85E-4E78-45BD-A512-79962711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BD6C-6DE0-4FC4-B655-956A47DD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A1B9-9213-4720-B4C2-A4FCF8FC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2363-45D1-4BBB-A1C2-60AC9B7B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6BF5-65A3-49E0-887F-FC4D6065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C09B-E422-4438-BF5C-9DE9C506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7E20-1AC1-41FF-A93B-4D41680B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47AC6-2C89-4786-8F2F-AF36B013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5A057-B68F-4CCC-A846-FD829AE0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F134-941F-4462-BAA6-E0345928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1E2C-BB23-4891-9455-C680410F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226E-DE43-490F-B280-36393A50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B983B-3057-418E-BA99-570C427F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DD4F-09EB-4D79-AF86-EA60FC56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FBF52-F150-4A0C-B6BE-F2FE5AFC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C3AC6-A3AC-4615-B64F-2FBC881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989D5-BF22-4E12-85A8-F3360469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18CC-15E7-4EE6-968F-E9FA057A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D40B0-93CB-4251-B3D4-52CD0D65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5C0C3-5A23-4F7A-AB59-81684A2E0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5310A-DFAF-4299-9B0B-0FCFB953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D18D3-8956-4364-98C6-EA0E53A3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BD9-3A61-423C-A2FE-5F2A6AC3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30932-4D88-43C8-969D-1E2F582C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A5693-A862-4695-B55F-1FC571CE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52B3D-24E7-45B6-8A3F-43E1DE96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4C4E5-292B-4593-A4A8-67A4F522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1113-1082-46D2-A97B-99FB3BFA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40DA7-21A1-40C8-8B60-0884FE0B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6730-F236-4FBC-B692-2FB8C44B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9B6ED-94CA-43DC-A80C-40A69F5F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23ED-DA67-42B5-9691-9CE12E1C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F884-85D8-4159-BE82-4C191C80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773A-F30A-4757-BFC6-4B460A06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4600-EA4F-49A1-ABB7-5DC88042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555-EE99-4B6E-9764-A6FC0E28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1106-FC4C-4514-BC7B-C58BFE9D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BF94F-BBC3-49A6-80B7-2B10E7574C0E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BC9CDF-F189-4285-920D-28AA0B4F7D6C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12206-A639-4D7E-B9FF-D96EEEAA1825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E30C6-6E22-4C01-B9D2-EF96AF84F755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76360" y="260280"/>
            <a:ext cx="719928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293d46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293d46"/>
                </a:solidFill>
                <a:latin typeface="Calibri"/>
              </a:rPr>
              <a:t>Налоги, их сущность, элементы, функции,</a:t>
            </a:r>
            <a:br>
              <a:rPr sz="5400"/>
            </a:br>
            <a:r>
              <a:rPr b="1" lang="ru-RU" sz="5400" spc="-1" strike="noStrike">
                <a:solidFill>
                  <a:srgbClr val="293d46"/>
                </a:solidFill>
                <a:latin typeface="Calibri"/>
              </a:rPr>
              <a:t>принципы и  виды.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4788000" y="4437000"/>
            <a:ext cx="4060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Подготовил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</a:rPr>
              <a:t>Федотова Т.И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учитель географии и экономики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(высшая категория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МБОУ «Школа №19 им. С.Н. Котова г.Феодосии Республики Крым»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4" name="Рисунок 3" descr="налоги1.jpg"/>
          <p:cNvPicPr/>
          <p:nvPr/>
        </p:nvPicPr>
        <p:blipFill>
          <a:blip r:embed="rId1"/>
          <a:stretch/>
        </p:blipFill>
        <p:spPr>
          <a:xfrm>
            <a:off x="611280" y="3213000"/>
            <a:ext cx="4392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002060"/>
                </a:solidFill>
                <a:uFillTx/>
                <a:latin typeface="Trebuchet MS"/>
              </a:rPr>
              <a:t>Классификац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ru-RU" sz="2600" spc="-1" strike="noStrike">
                <a:solidFill>
                  <a:srgbClr val="92d050"/>
                </a:solidFill>
                <a:latin typeface="Arial"/>
                <a:ea typeface="Arial"/>
              </a:rPr>
              <a:t>По способу установления налоговых ставок</a:t>
            </a:r>
            <a:r>
              <a:rPr b="1" lang="ru-RU" sz="2600" spc="-1" strike="noStrike">
                <a:solidFill>
                  <a:srgbClr val="92d05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огрессивное налогообложение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регрессивное налогообложение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опорциональное налогообложение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3520" indent="-53352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смешанное налогообложение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1042920" y="105228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45720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600" spc="-1" strike="noStrike" u="sng">
                <a:solidFill>
                  <a:srgbClr val="755e0d"/>
                </a:solidFill>
                <a:uFillTx/>
                <a:latin typeface="Arial"/>
                <a:ea typeface="Arial"/>
              </a:rPr>
              <a:t>К общегосударственным</a:t>
            </a:r>
            <a:r>
              <a:rPr b="0" i="1" lang="ru-RU" sz="2600" spc="-1" strike="noStrike">
                <a:solidFill>
                  <a:srgbClr val="755e0d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относятся налоги и сборы, имеющие в основном фискальное значение, поступающие в государственный бюджет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2" charset="2"/>
              <a:buChar char="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600" spc="-1" strike="noStrike" u="sng">
                <a:solidFill>
                  <a:srgbClr val="755e0d"/>
                </a:solidFill>
                <a:uFillTx/>
                <a:latin typeface="Arial"/>
                <a:ea typeface="Arial"/>
              </a:rPr>
              <a:t>К местным налогам</a:t>
            </a:r>
            <a:r>
              <a:rPr b="0" i="1" lang="ru-RU" sz="2600" spc="-1" strike="noStrike">
                <a:solidFill>
                  <a:srgbClr val="755e0d"/>
                </a:solidFill>
                <a:latin typeface="Arial"/>
                <a:ea typeface="Arial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относятся налоги и сборы, устанавливаемые решениями местных органов власти и зачисляемые в местные бюджеты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AutoShape 4"/>
          <p:cNvSpPr/>
          <p:nvPr/>
        </p:nvSpPr>
        <p:spPr>
          <a:xfrm>
            <a:off x="7164360" y="404640"/>
            <a:ext cx="1728720" cy="43200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7705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293d46"/>
                </a:solidFill>
                <a:latin typeface="Trebuchet MS"/>
              </a:rPr>
              <a:t>Классификация налогов </a:t>
            </a:r>
            <a:br>
              <a:rPr sz="3600"/>
            </a:br>
            <a:r>
              <a:rPr b="0" i="1" lang="ru-RU" sz="3600" spc="-1" strike="noStrike">
                <a:solidFill>
                  <a:srgbClr val="293d46"/>
                </a:solidFill>
                <a:latin typeface="Trebuchet MS"/>
              </a:rPr>
              <a:t>по</a:t>
            </a:r>
            <a:r>
              <a:rPr b="0" lang="ru-RU" sz="3600" spc="-1" strike="noStrike">
                <a:solidFill>
                  <a:srgbClr val="293d46"/>
                </a:solidFill>
                <a:latin typeface="Trebuchet MS"/>
              </a:rPr>
              <a:t> </a:t>
            </a:r>
            <a:r>
              <a:rPr b="0" i="1" lang="ru-RU" sz="3600" spc="-1" strike="noStrike">
                <a:solidFill>
                  <a:srgbClr val="293d46"/>
                </a:solidFill>
                <a:latin typeface="Trebuchet MS"/>
              </a:rPr>
              <a:t>экономическому содержанию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pSp>
        <p:nvGrpSpPr>
          <p:cNvPr id="266" name="Группа 35"/>
          <p:cNvGrpSpPr/>
          <p:nvPr/>
        </p:nvGrpSpPr>
        <p:grpSpPr>
          <a:xfrm>
            <a:off x="468360" y="1628640"/>
            <a:ext cx="8207280" cy="4515120"/>
            <a:chOff x="468360" y="1628640"/>
            <a:chExt cx="8207280" cy="4515120"/>
          </a:xfrm>
        </p:grpSpPr>
        <p:sp>
          <p:nvSpPr>
            <p:cNvPr id="267" name="Rectangle 10"/>
            <p:cNvSpPr/>
            <p:nvPr/>
          </p:nvSpPr>
          <p:spPr>
            <a:xfrm>
              <a:off x="7451640" y="1628640"/>
              <a:ext cx="122400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очие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Rectangle 11"/>
            <p:cNvSpPr/>
            <p:nvPr/>
          </p:nvSpPr>
          <p:spPr>
            <a:xfrm>
              <a:off x="468360" y="1628640"/>
              <a:ext cx="1511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мущественные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Rectangle 12"/>
            <p:cNvSpPr/>
            <p:nvPr/>
          </p:nvSpPr>
          <p:spPr>
            <a:xfrm>
              <a:off x="2268360" y="1628640"/>
              <a:ext cx="158436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спользование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личных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есурсов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Rectangle 16"/>
            <p:cNvSpPr/>
            <p:nvPr/>
          </p:nvSpPr>
          <p:spPr>
            <a:xfrm>
              <a:off x="4067280" y="1628640"/>
              <a:ext cx="134604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оходы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ибыль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Rectangle 18"/>
            <p:cNvSpPr/>
            <p:nvPr/>
          </p:nvSpPr>
          <p:spPr>
            <a:xfrm>
              <a:off x="5580000" y="1628640"/>
              <a:ext cx="158436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азличные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действ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Rectangle 30"/>
            <p:cNvSpPr/>
            <p:nvPr/>
          </p:nvSpPr>
          <p:spPr>
            <a:xfrm>
              <a:off x="755640" y="2420640"/>
              <a:ext cx="12016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лог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едвижимое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мущество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Rectangle 31"/>
            <p:cNvSpPr/>
            <p:nvPr/>
          </p:nvSpPr>
          <p:spPr>
            <a:xfrm>
              <a:off x="826920" y="3500280"/>
              <a:ext cx="11523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лог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 владельцев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ранспортных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Line 32"/>
            <p:cNvSpPr/>
            <p:nvPr/>
          </p:nvSpPr>
          <p:spPr>
            <a:xfrm>
              <a:off x="468360" y="227628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Line 33"/>
            <p:cNvSpPr/>
            <p:nvPr/>
          </p:nvSpPr>
          <p:spPr>
            <a:xfrm>
              <a:off x="468360" y="29970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Line 34"/>
            <p:cNvSpPr/>
            <p:nvPr/>
          </p:nvSpPr>
          <p:spPr>
            <a:xfrm>
              <a:off x="468360" y="414972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Rectangle 35"/>
            <p:cNvSpPr/>
            <p:nvPr/>
          </p:nvSpPr>
          <p:spPr>
            <a:xfrm>
              <a:off x="2627280" y="2420640"/>
              <a:ext cx="12031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ентные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латежи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Rectangle 36"/>
            <p:cNvSpPr/>
            <p:nvPr/>
          </p:nvSpPr>
          <p:spPr>
            <a:xfrm>
              <a:off x="2627280" y="2997000"/>
              <a:ext cx="1203120" cy="127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боры на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пециальное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спользование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иродных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есур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ов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Rectangle 37"/>
            <p:cNvSpPr/>
            <p:nvPr/>
          </p:nvSpPr>
          <p:spPr>
            <a:xfrm>
              <a:off x="2627280" y="4437000"/>
              <a:ext cx="122400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лата за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землю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Rectangle 38"/>
            <p:cNvSpPr/>
            <p:nvPr/>
          </p:nvSpPr>
          <p:spPr>
            <a:xfrm>
              <a:off x="2627280" y="5229360"/>
              <a:ext cx="12967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бор за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загрязнение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кружающей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реды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Line 39"/>
            <p:cNvSpPr/>
            <p:nvPr/>
          </p:nvSpPr>
          <p:spPr>
            <a:xfrm>
              <a:off x="2268360" y="2276280"/>
              <a:ext cx="0" cy="331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Line 40"/>
            <p:cNvSpPr/>
            <p:nvPr/>
          </p:nvSpPr>
          <p:spPr>
            <a:xfrm>
              <a:off x="2268360" y="27082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Line 41"/>
            <p:cNvSpPr/>
            <p:nvPr/>
          </p:nvSpPr>
          <p:spPr>
            <a:xfrm>
              <a:off x="2268360" y="357336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4" name="Line 42"/>
            <p:cNvSpPr/>
            <p:nvPr/>
          </p:nvSpPr>
          <p:spPr>
            <a:xfrm>
              <a:off x="2268360" y="472464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5" name="Line 43"/>
            <p:cNvSpPr/>
            <p:nvPr/>
          </p:nvSpPr>
          <p:spPr>
            <a:xfrm>
              <a:off x="2268360" y="558972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6" name="Rectangle 44"/>
            <p:cNvSpPr/>
            <p:nvPr/>
          </p:nvSpPr>
          <p:spPr>
            <a:xfrm>
              <a:off x="4284720" y="2492280"/>
              <a:ext cx="10569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лог на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7" name="Rectangle 45"/>
            <p:cNvSpPr/>
            <p:nvPr/>
          </p:nvSpPr>
          <p:spPr>
            <a:xfrm>
              <a:off x="4284720" y="3500280"/>
              <a:ext cx="1056960" cy="10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лог на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ы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Физических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ли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8" name="Line 46"/>
            <p:cNvSpPr/>
            <p:nvPr/>
          </p:nvSpPr>
          <p:spPr>
            <a:xfrm>
              <a:off x="4067280" y="2204640"/>
              <a:ext cx="0" cy="201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9" name="Line 47"/>
            <p:cNvSpPr/>
            <p:nvPr/>
          </p:nvSpPr>
          <p:spPr>
            <a:xfrm>
              <a:off x="4067280" y="292392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0" name="Line 48"/>
            <p:cNvSpPr/>
            <p:nvPr/>
          </p:nvSpPr>
          <p:spPr>
            <a:xfrm>
              <a:off x="4067280" y="4221360"/>
              <a:ext cx="21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1" name="Rectangle 49"/>
            <p:cNvSpPr/>
            <p:nvPr/>
          </p:nvSpPr>
          <p:spPr>
            <a:xfrm>
              <a:off x="5867280" y="2565360"/>
              <a:ext cx="129852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государственные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шлины,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боры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2" name="Line 50"/>
            <p:cNvSpPr/>
            <p:nvPr/>
          </p:nvSpPr>
          <p:spPr>
            <a:xfrm>
              <a:off x="5580000" y="2204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3" name="Line 51"/>
            <p:cNvSpPr/>
            <p:nvPr/>
          </p:nvSpPr>
          <p:spPr>
            <a:xfrm>
              <a:off x="5580000" y="31417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4" name="Rectangle 52"/>
            <p:cNvSpPr/>
            <p:nvPr/>
          </p:nvSpPr>
          <p:spPr>
            <a:xfrm>
              <a:off x="7667640" y="2565360"/>
              <a:ext cx="10080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лата за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торговый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атент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Rectangle 53"/>
            <p:cNvSpPr/>
            <p:nvPr/>
          </p:nvSpPr>
          <p:spPr>
            <a:xfrm>
              <a:off x="7667640" y="3716280"/>
              <a:ext cx="98712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тчисления и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боры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 ремонт и 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держания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втодорог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6" name="Line 54"/>
            <p:cNvSpPr/>
            <p:nvPr/>
          </p:nvSpPr>
          <p:spPr>
            <a:xfrm>
              <a:off x="7451640" y="2204640"/>
              <a:ext cx="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7" name="Line 55"/>
            <p:cNvSpPr/>
            <p:nvPr/>
          </p:nvSpPr>
          <p:spPr>
            <a:xfrm>
              <a:off x="7451640" y="29970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8" name="Line 56"/>
            <p:cNvSpPr/>
            <p:nvPr/>
          </p:nvSpPr>
          <p:spPr>
            <a:xfrm>
              <a:off x="7451640" y="407664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242000" y="315000"/>
            <a:ext cx="2261880" cy="89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293d46"/>
                </a:solidFill>
                <a:uFillTx/>
                <a:latin typeface="Trebuchet MS"/>
              </a:rPr>
              <a:t>Налоги</a:t>
            </a:r>
            <a:r>
              <a:rPr b="0" lang="ru-RU" sz="3600" spc="-1" strike="noStrike">
                <a:solidFill>
                  <a:srgbClr val="293d4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8560" y="1125360"/>
            <a:ext cx="74991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9920"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Arial"/>
                <a:ea typeface="Arial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  <a:ea typeface="Arial"/>
              </a:rPr>
              <a:t>это одна из форм финансовых отношений, осуществляемых в виде платежей, взимаемых государством с юридических и физических лиц с целью их перераспределения для нужд граждан и общества в цело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1116000" y="2286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002060"/>
                </a:solidFill>
                <a:uFillTx/>
                <a:latin typeface="Arial"/>
              </a:rPr>
              <a:t>Налоговая</a:t>
            </a:r>
            <a:r>
              <a:rPr b="0" i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 система страны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152360" y="1027440"/>
            <a:ext cx="7991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это совокупность установленных в законодательном порядке налогов и сборов, механизмы их исчисления и методы контроля за их взимание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516720" y="836640"/>
            <a:ext cx="1873080" cy="43164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0" name="Рисунок 2" descr=""/>
          <p:cNvPicPr/>
          <p:nvPr/>
        </p:nvPicPr>
        <p:blipFill>
          <a:blip r:embed="rId1"/>
          <a:stretch/>
        </p:blipFill>
        <p:spPr>
          <a:xfrm>
            <a:off x="1835280" y="3573360"/>
            <a:ext cx="50832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404640"/>
            <a:ext cx="68277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293d46"/>
                </a:solidFill>
                <a:uFillTx/>
                <a:latin typeface="Trebuchet MS"/>
              </a:rPr>
              <a:t>Элементы налогообло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7280" y="1937880"/>
            <a:ext cx="74440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Субъек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Предме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бъект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Единица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Источник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Налоговая ставка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Налоговый оклад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38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Налоговые льго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6804000" y="476280"/>
            <a:ext cx="1657440" cy="43164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 u="sng">
                <a:solidFill>
                  <a:srgbClr val="293d46"/>
                </a:solidFill>
                <a:uFillTx/>
                <a:latin typeface="Trebuchet MS"/>
              </a:rPr>
              <a:t>Виды </a:t>
            </a:r>
            <a:r>
              <a:rPr b="0" i="1" lang="ru-RU" sz="3600" spc="-1" strike="noStrike" u="sng">
                <a:solidFill>
                  <a:srgbClr val="293d46"/>
                </a:solidFill>
                <a:uFillTx/>
                <a:latin typeface="Trebuchet MS"/>
              </a:rPr>
              <a:t>налоговых</a:t>
            </a:r>
            <a:r>
              <a:rPr b="0" i="1" lang="ru-RU" sz="4000" spc="-1" strike="noStrike" u="sng">
                <a:solidFill>
                  <a:srgbClr val="293d46"/>
                </a:solidFill>
                <a:uFillTx/>
                <a:latin typeface="Trebuchet MS"/>
              </a:rPr>
              <a:t> ставок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186920" y="1268280"/>
            <a:ext cx="8704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1) базовая ставк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2) пониженная ставк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3) повышенная ставк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   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В зависимости от построения налогов   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различают</a:t>
            </a: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1) твердые ставк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2) долевые ставки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6804000" y="549360"/>
            <a:ext cx="1873440" cy="43164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2c3c4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293d46"/>
                </a:solidFill>
                <a:uFillTx/>
                <a:latin typeface="Trebuchet MS"/>
              </a:rPr>
              <a:t>Функции налогообло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58920" y="1844640"/>
            <a:ext cx="8229600" cy="39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фискальна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распределительная (социальная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регулирующая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стимулирующая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контрольная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6804000" y="620640"/>
            <a:ext cx="1657440" cy="43200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81640" y="427680"/>
            <a:ext cx="7956360" cy="89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 u="sng">
                <a:solidFill>
                  <a:srgbClr val="293d46"/>
                </a:solidFill>
                <a:uFillTx/>
                <a:latin typeface="Trebuchet MS"/>
              </a:rPr>
              <a:t>Экономические  принципы  </a:t>
            </a:r>
            <a:r>
              <a:rPr b="0" i="1" lang="ru-RU" sz="3600" spc="-1" strike="noStrike" u="sng">
                <a:solidFill>
                  <a:srgbClr val="293d46"/>
                </a:solidFill>
                <a:uFillTx/>
                <a:latin typeface="Trebuchet MS"/>
              </a:rPr>
              <a:t>налогообложения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187280" y="141300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инцип хозяйственной независимости и свободы налогоплательщик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инцип справедливости и равенств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инцип определённост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инцип удобства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Принцип экономи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552600" indent="-552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AutoShape 5"/>
          <p:cNvSpPr/>
          <p:nvPr/>
        </p:nvSpPr>
        <p:spPr>
          <a:xfrm>
            <a:off x="6948360" y="260280"/>
            <a:ext cx="1657440" cy="432000"/>
          </a:xfrm>
          <a:prstGeom prst="roundRect">
            <a:avLst>
              <a:gd name="adj" fmla="val 377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755280" y="755280"/>
            <a:ext cx="6056280" cy="1028520"/>
          </a:xfrm>
          <a:prstGeom prst="rect">
            <a:avLst/>
          </a:prstGeom>
          <a:noFill/>
          <a:ln w="9360">
            <a:solidFill>
              <a:srgbClr val="ffffff"/>
            </a:solidFill>
            <a:round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293d46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4000" y="333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Trebuchet MS"/>
              </a:rPr>
              <a:t>Классификация налогов</a:t>
            </a:r>
            <a:r>
              <a:rPr b="0" i="1" lang="ru-RU" sz="3600" spc="-1" strike="noStrike" u="sng">
                <a:solidFill>
                  <a:srgbClr val="002060"/>
                </a:solidFill>
                <a:uFillTx/>
                <a:latin typeface="Trebuchet MS"/>
              </a:rPr>
              <a:t>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Arial"/>
                <a:ea typeface="Arial"/>
              </a:rPr>
              <a:t>- их группировка, обусловленная методом взимания, характером применяемых ставок, налоговых льгот, бюджета поступления и другими признаками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82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tretch/>
        </p:blipFill>
        <p:spPr>
          <a:xfrm>
            <a:off x="900000" y="3429000"/>
            <a:ext cx="439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 u="sng">
                <a:solidFill>
                  <a:srgbClr val="002060"/>
                </a:solidFill>
                <a:uFillTx/>
                <a:latin typeface="Trebuchet MS"/>
              </a:rPr>
              <a:t>Виды налогов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174680" y="1196640"/>
            <a:ext cx="856944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pSp>
        <p:nvGrpSpPr>
          <p:cNvPr id="238" name="Группа 25"/>
          <p:cNvGrpSpPr/>
          <p:nvPr/>
        </p:nvGrpSpPr>
        <p:grpSpPr>
          <a:xfrm>
            <a:off x="1258920" y="1484280"/>
            <a:ext cx="6840360" cy="4681440"/>
            <a:chOff x="1258920" y="1484280"/>
            <a:chExt cx="6840360" cy="4681440"/>
          </a:xfrm>
        </p:grpSpPr>
        <p:sp>
          <p:nvSpPr>
            <p:cNvPr id="239" name="Rectangle 5"/>
            <p:cNvSpPr/>
            <p:nvPr/>
          </p:nvSpPr>
          <p:spPr>
            <a:xfrm>
              <a:off x="1619280" y="1484280"/>
              <a:ext cx="2374920" cy="502920"/>
            </a:xfrm>
            <a:prstGeom prst="rect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ямые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5290920" y="1484280"/>
              <a:ext cx="2160360" cy="502920"/>
            </a:xfrm>
            <a:prstGeom prst="rect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косвенные</a:t>
              </a:r>
              <a:endParaRPr b="0" lang="en-US" sz="2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1258920" y="1773000"/>
              <a:ext cx="0" cy="36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 flipH="1">
              <a:off x="1258920" y="177300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3" name="Rectangle 9"/>
            <p:cNvSpPr/>
            <p:nvPr/>
          </p:nvSpPr>
          <p:spPr>
            <a:xfrm>
              <a:off x="1763640" y="2060280"/>
              <a:ext cx="21589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на прибыль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>
              <a:off x="1258920" y="2276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5" name="Rectangle 12"/>
            <p:cNvSpPr/>
            <p:nvPr/>
          </p:nvSpPr>
          <p:spPr>
            <a:xfrm>
              <a:off x="1763640" y="2708280"/>
              <a:ext cx="2232000" cy="64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на доходы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изических лиц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1258920" y="2997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7" name="Rectangle 14"/>
            <p:cNvSpPr/>
            <p:nvPr/>
          </p:nvSpPr>
          <p:spPr>
            <a:xfrm>
              <a:off x="1763640" y="3500280"/>
              <a:ext cx="230328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на недвижимое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мущество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1258920" y="38606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49" name="Rectangle 16"/>
            <p:cNvSpPr/>
            <p:nvPr/>
          </p:nvSpPr>
          <p:spPr>
            <a:xfrm>
              <a:off x="1763640" y="4292640"/>
              <a:ext cx="230328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на землю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0" name="Line 17"/>
            <p:cNvSpPr/>
            <p:nvPr/>
          </p:nvSpPr>
          <p:spPr>
            <a:xfrm>
              <a:off x="1258920" y="4581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1763640" y="4869000"/>
              <a:ext cx="2374920" cy="129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с владельцев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ранспортных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редств и других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амоходных машин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258920" y="5445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3" name="Rectangle 22"/>
            <p:cNvSpPr/>
            <p:nvPr/>
          </p:nvSpPr>
          <p:spPr>
            <a:xfrm>
              <a:off x="5290920" y="3141720"/>
              <a:ext cx="2736720" cy="64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кцизный сбор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4" name="Rectangle 23"/>
            <p:cNvSpPr/>
            <p:nvPr/>
          </p:nvSpPr>
          <p:spPr>
            <a:xfrm>
              <a:off x="5290920" y="4076640"/>
              <a:ext cx="2808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аможенные сборы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4930560" y="177300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6" name="Line 25"/>
            <p:cNvSpPr/>
            <p:nvPr/>
          </p:nvSpPr>
          <p:spPr>
            <a:xfrm>
              <a:off x="4930560" y="2636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7" name="Line 26"/>
            <p:cNvSpPr/>
            <p:nvPr/>
          </p:nvSpPr>
          <p:spPr>
            <a:xfrm flipH="1">
              <a:off x="4930200" y="177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4930560" y="3573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59" name="Line 28"/>
            <p:cNvSpPr/>
            <p:nvPr/>
          </p:nvSpPr>
          <p:spPr>
            <a:xfrm>
              <a:off x="4930560" y="4365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0" name="Rectangle 29"/>
            <p:cNvSpPr/>
            <p:nvPr/>
          </p:nvSpPr>
          <p:spPr>
            <a:xfrm>
              <a:off x="5290920" y="2276280"/>
              <a:ext cx="280836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лог на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бавленную стоимость 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8:00:52Z</dcterms:created>
  <dc:creator>User</dc:creator>
  <dc:description/>
  <dc:language>en-US</dc:language>
  <cp:lastModifiedBy>V F</cp:lastModifiedBy>
  <dcterms:modified xsi:type="dcterms:W3CDTF">2024-01-29T16:30:33Z</dcterms:modified>
  <cp:revision>26</cp:revision>
  <dc:subject/>
  <dc:title>Налог </dc:title>
</cp:coreProperties>
</file>