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1601-44A5-4494-A529-854F89F1BC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2767-E26E-4D20-B208-515AE644EB2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ED09-DBF9-4D2E-9CBF-6F0ADCDC3AB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D8CD-8C67-4534-B367-3549A65D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37E6-9A51-4950-9857-2FE7CD13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9760-7C80-4E29-A847-13E40367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B84C-09D8-42F3-8D2B-66D176E8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82EA-C30D-4991-8DD6-7052D1BA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2BB1-AAE1-4B26-8D1F-858D313C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EC3D-6FCA-4A54-82DF-FD831B57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A521-14E2-4573-BBB4-AFD79ED1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46BD-3758-4F35-BFA1-7B83A056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A20B-EA60-4F59-9672-460DA646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6F97-529F-40C5-86CD-32534B1B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496-D087-4892-932C-74ED698D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8024-1B9F-44C3-BC0E-B5718314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6D86-3AE3-4140-AA20-2BE70713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E42B-074B-4C17-B5ED-73714E1D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71C0-1944-4390-9EFF-BB4F42A6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2CDA-F805-46FA-BEF6-124F069F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948A1-004E-46A1-99FF-E097DD9C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B5691-36A8-43F5-8874-40B66BAB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770A8-8773-4D2E-B83D-B688C8EF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770A4-8B0B-4690-B89D-B1B7A615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6606E-33BB-4151-99C6-93C127FF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8B14-274C-4443-9181-8FEE0F39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D174F-4FF3-4884-B9DE-90C44655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5619D-2D0B-4BFD-BC41-59C1F538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60552-21DC-445C-846F-CF2F66BF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A267A-8BBB-437A-808C-40D22F76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82A99-C32C-480F-A0D3-FD3022AB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B28E3-1880-4F2A-BBD1-0CC98E98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D0A7C-6938-4361-A938-597F0640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4567B-BE49-4EF5-A363-F4C38961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EAF82-FAD7-480F-BF0C-523CA5AC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EC006-D2F8-4EB3-A1E6-C0F6BEB0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43E3-9E3D-4F71-9DF6-FB8B2D74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8EF8D-65A9-4D50-8D1F-75A408B4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A2E57-1DEA-4D14-BED1-FECB6C68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8CA73-7802-428B-A224-80F88FA4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A2E87-59DD-4689-A3A6-6A46089D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7B21A-E6D1-408E-9CD8-C6917631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9ECBF-9F5B-4321-B696-61537E05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F337E-723C-4700-8B40-5FFEF291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9F985-C5EF-4A13-B84D-21205410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738F8-FD31-42ED-89AC-1FD8C099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4DC3B-6124-4A0C-A5DA-AC867B12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76BA-676D-4177-9E38-085B042C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6F99B-E1ED-41A5-A3B4-21EF4AA0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FD7A1-A46C-448F-84C8-522042E9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BDA23-8DED-4F0F-A3E3-60694DE0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041A8-EDC9-42BD-B3CF-7F46605C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BF717-E04A-4E78-AAC2-CAFA9964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7EFB1-3ABB-4BCD-8D7D-C4F2911F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07FD0-4EF6-40D5-9B7F-83594857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DEFEC-FC2B-4C42-ADEF-2C159827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21298-F0AC-4AB0-8694-4D9D25D9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B6B92-D5CB-4A78-9181-880F8E38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E740-40B1-451F-BC94-D018079E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97F9B-B8E6-420E-87D2-2DEB5FB0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5180B-BFA2-484B-A7E2-101F1B62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BC670-B0EE-48B4-8967-5609F8BF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E229A-D295-472D-B913-0DAE45B7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A155E-8BB2-4175-9268-A048AB74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71D61-EF26-4F85-A0C4-ADE1B2A4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AD007-13CA-4512-A30F-C8BAAAC2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8A5B9-AEC0-4913-9A7F-C45B8726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C154D-5FA2-47DD-8907-FE1512D2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27D91-7929-487B-97A1-89A82CAE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692E-27E7-48C1-A402-82C25669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7BFC9-0DA8-465D-A1BF-82F2AF90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AE825-75A0-4527-A77C-4F0F83CB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93EE1-33E4-4116-840D-8DB902EE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AB35C-B475-40EF-8DDA-2CC9975C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883AD-ECD3-4C9F-A7AA-135E37FC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DE893-0C4B-45D1-BE17-8027EC81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C1E92-154A-4D75-831D-06079DA4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1B8AA-0F48-4C8D-B36E-A2BE3337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4DED9-3442-4C92-A88B-9D30D634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A0D98-E451-4A9B-A1A3-0C37426F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B02-2B15-4386-9581-4700863E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576B3-523A-4C81-A6C6-F0E3DAE0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11943-AFB4-4B9D-9FBC-B1C2F444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7E6CB-F36F-42A1-AD5B-BDC840E1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6BA54-0275-4C7A-9E5F-483FB6C1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686AD-4314-4139-9858-3FA9D399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7EFF-B59B-4C8B-BF77-3DFBDFC5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401C-3C1F-44FC-8963-0D513E49F5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0C7B-2E23-4A5E-82D9-F96D61D4CDA0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D4D6-1F19-4799-89D8-5FAD475408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C30A-7AA1-4A53-946C-82E63D838DB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DA18-7488-4B53-9E0D-690FA72FBC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3EA3-BE32-49B6-A494-6E2452D336DF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5887-00CA-441B-A0CC-9DF7E9897AAE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28400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"/>
          <p:cNvPicPr/>
          <p:nvPr/>
        </p:nvPicPr>
        <p:blipFill>
          <a:blip r:embed="rId2"/>
          <a:stretch/>
        </p:blipFill>
        <p:spPr>
          <a:xfrm>
            <a:off x="274680" y="2779560"/>
            <a:ext cx="3863880" cy="4138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"/>
          <p:cNvPicPr/>
          <p:nvPr/>
        </p:nvPicPr>
        <p:blipFill>
          <a:blip r:embed="rId3"/>
          <a:stretch/>
        </p:blipFill>
        <p:spPr>
          <a:xfrm>
            <a:off x="4286160" y="2779560"/>
            <a:ext cx="485784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542880" y="115920"/>
            <a:ext cx="8229600" cy="10303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320760" y="1684440"/>
            <a:ext cx="853416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entury Gothic"/>
              </a:rPr>
              <a:t>Все ли члены группы работали активно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entury Gothic"/>
              </a:rPr>
              <a:t>Комфортно ли было работать в этой группе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entury Gothic"/>
              </a:rPr>
              <a:t>Вернитесь к теме урока. Всё ли вы выполнили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entury Gothic"/>
              </a:rPr>
              <a:t>Что было на уроке для вас самым неожиданным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entury Gothic"/>
              </a:rPr>
              <a:t>Что было самым интересным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entury Gothic"/>
              </a:rPr>
              <a:t>Осталось ли что-то непонятным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4" name="Picture 26" descr="C:\Documents and Settings\СВЕТЛАНА\Рабочий стол\анимашки\Хорошее настроение\20.GIF"/>
          <p:cNvPicPr/>
          <p:nvPr/>
        </p:nvPicPr>
        <p:blipFill>
          <a:blip r:embed="rId2"/>
          <a:stretch/>
        </p:blipFill>
        <p:spPr>
          <a:xfrm>
            <a:off x="6759720" y="0"/>
            <a:ext cx="2357280" cy="1928880"/>
          </a:xfrm>
          <a:prstGeom prst="rect">
            <a:avLst/>
          </a:prstGeom>
          <a:ln w="0">
            <a:noFill/>
          </a:ln>
        </p:spPr>
      </p:pic>
      <p:pic>
        <p:nvPicPr>
          <p:cNvPr id="345" name="рефлексия.wma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217200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0" y="237960"/>
            <a:ext cx="8589960" cy="16513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457200" y="237960"/>
            <a:ext cx="8229600" cy="16513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Химические уравнения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360360" y="274680"/>
            <a:ext cx="869796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Прямоугольник 3" descr=""/>
          <p:cNvPicPr/>
          <p:nvPr/>
        </p:nvPicPr>
        <p:blipFill>
          <a:blip r:embed="rId1"/>
          <a:stretch/>
        </p:blipFill>
        <p:spPr>
          <a:xfrm>
            <a:off x="60480" y="500040"/>
            <a:ext cx="8834400" cy="7064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4"/>
          <p:cNvSpPr/>
          <p:nvPr/>
        </p:nvSpPr>
        <p:spPr>
          <a:xfrm>
            <a:off x="3059280" y="3141720"/>
            <a:ext cx="3058920" cy="8636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огласны ли вы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то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Oval 5"/>
          <p:cNvSpPr/>
          <p:nvPr/>
        </p:nvSpPr>
        <p:spPr>
          <a:xfrm>
            <a:off x="1428840" y="0"/>
            <a:ext cx="2712960" cy="191628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1.В реакции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Ca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+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Cl</a:t>
            </a:r>
            <a:r>
              <a:rPr b="1" lang="ru-RU" sz="18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→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CaCl</a:t>
            </a:r>
            <a:r>
              <a:rPr b="1" lang="ru-RU" sz="18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коэффициенты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не нужн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Oval 6"/>
          <p:cNvSpPr/>
          <p:nvPr/>
        </p:nvSpPr>
        <p:spPr>
          <a:xfrm>
            <a:off x="4643280" y="0"/>
            <a:ext cx="2857680" cy="191628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В реакции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Zn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+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HCl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→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ZnCl</a:t>
            </a:r>
            <a:r>
              <a:rPr b="1" lang="ru-RU" sz="18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+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H</a:t>
            </a:r>
            <a:r>
              <a:rPr b="1" lang="ru-RU" sz="18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коэффициент  у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цинка 2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Oval 7"/>
          <p:cNvSpPr/>
          <p:nvPr/>
        </p:nvSpPr>
        <p:spPr>
          <a:xfrm>
            <a:off x="6300720" y="1700280"/>
            <a:ext cx="2843280" cy="187164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3.В реакции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Ca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+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O</a:t>
            </a:r>
            <a:r>
              <a:rPr b="1" lang="ru-RU" sz="18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→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CaO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коэффициент  у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оксида кальция 2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Oval 8"/>
          <p:cNvSpPr/>
          <p:nvPr/>
        </p:nvSpPr>
        <p:spPr>
          <a:xfrm>
            <a:off x="6227640" y="3933720"/>
            <a:ext cx="2665440" cy="194328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4.В реакции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CH</a:t>
            </a:r>
            <a:r>
              <a:rPr b="1" lang="ru-RU" sz="1800" spc="-1" strike="noStrike" baseline="-25000">
                <a:solidFill>
                  <a:srgbClr val="ffff00"/>
                </a:solidFill>
                <a:latin typeface="Georgia"/>
              </a:rPr>
              <a:t>4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→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C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+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H</a:t>
            </a:r>
            <a:r>
              <a:rPr b="1" lang="ru-RU" sz="18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коэффициенты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не нужн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Oval 9"/>
          <p:cNvSpPr/>
          <p:nvPr/>
        </p:nvSpPr>
        <p:spPr>
          <a:xfrm>
            <a:off x="3348000" y="5013360"/>
            <a:ext cx="2665440" cy="184464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5. В реакции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CuO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+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H</a:t>
            </a:r>
            <a:r>
              <a:rPr b="1" lang="ru-RU" sz="18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→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Cu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+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H</a:t>
            </a:r>
            <a:r>
              <a:rPr b="1" lang="ru-RU" sz="18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O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коэффициент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у  меди 2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0" y="4005360"/>
            <a:ext cx="2916360" cy="213840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6. В реакц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C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+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O</a:t>
            </a:r>
            <a:r>
              <a:rPr b="1" lang="ru-RU" sz="18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→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CO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коэффициент 2 над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поставить и у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оксида углерода (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II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) 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и   у   углерод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Oval 11"/>
          <p:cNvSpPr/>
          <p:nvPr/>
        </p:nvSpPr>
        <p:spPr>
          <a:xfrm>
            <a:off x="0" y="1700280"/>
            <a:ext cx="2844720" cy="201600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7. В реакции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CuCl</a:t>
            </a:r>
            <a:r>
              <a:rPr b="1" lang="ru-RU" sz="18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+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Fe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→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Cu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+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FeCl</a:t>
            </a:r>
            <a:r>
              <a:rPr b="1" lang="ru-RU" sz="18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коэффициенты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не нужны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Line 12"/>
          <p:cNvSpPr/>
          <p:nvPr/>
        </p:nvSpPr>
        <p:spPr>
          <a:xfrm flipH="1" flipV="1">
            <a:off x="3203640" y="1844280"/>
            <a:ext cx="504720" cy="129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Line 14"/>
          <p:cNvSpPr/>
          <p:nvPr/>
        </p:nvSpPr>
        <p:spPr>
          <a:xfrm flipH="1" flipV="1">
            <a:off x="2771280" y="3212640"/>
            <a:ext cx="287640" cy="7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Line 15"/>
          <p:cNvSpPr/>
          <p:nvPr/>
        </p:nvSpPr>
        <p:spPr>
          <a:xfrm flipV="1">
            <a:off x="6084720" y="3141720"/>
            <a:ext cx="287640" cy="7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Line 16"/>
          <p:cNvSpPr/>
          <p:nvPr/>
        </p:nvSpPr>
        <p:spPr>
          <a:xfrm flipH="1">
            <a:off x="2627280" y="3933720"/>
            <a:ext cx="504720" cy="358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Line 17"/>
          <p:cNvSpPr/>
          <p:nvPr/>
        </p:nvSpPr>
        <p:spPr>
          <a:xfrm>
            <a:off x="6012000" y="4005360"/>
            <a:ext cx="36036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4716360" y="4005360"/>
            <a:ext cx="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Line 21"/>
          <p:cNvSpPr/>
          <p:nvPr/>
        </p:nvSpPr>
        <p:spPr>
          <a:xfrm flipV="1">
            <a:off x="5364000" y="1916280"/>
            <a:ext cx="576360" cy="1225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Rectangle 22"/>
          <p:cNvSpPr/>
          <p:nvPr/>
        </p:nvSpPr>
        <p:spPr>
          <a:xfrm>
            <a:off x="3350520" y="1413000"/>
            <a:ext cx="8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д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Rectangle 23"/>
          <p:cNvSpPr/>
          <p:nvPr/>
        </p:nvSpPr>
        <p:spPr>
          <a:xfrm>
            <a:off x="3710160" y="4581360"/>
            <a:ext cx="110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не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Rectangle 24"/>
          <p:cNvSpPr/>
          <p:nvPr/>
        </p:nvSpPr>
        <p:spPr>
          <a:xfrm>
            <a:off x="5580000" y="4365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не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Rectangle 25"/>
          <p:cNvSpPr/>
          <p:nvPr/>
        </p:nvSpPr>
        <p:spPr>
          <a:xfrm>
            <a:off x="4788000" y="1484280"/>
            <a:ext cx="121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не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Rectangle 26"/>
          <p:cNvSpPr/>
          <p:nvPr/>
        </p:nvSpPr>
        <p:spPr>
          <a:xfrm>
            <a:off x="2700000" y="2349360"/>
            <a:ext cx="8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д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Rectangle 27"/>
          <p:cNvSpPr/>
          <p:nvPr/>
        </p:nvSpPr>
        <p:spPr>
          <a:xfrm>
            <a:off x="2771280" y="4149720"/>
            <a:ext cx="8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д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Rectangle 28"/>
          <p:cNvSpPr/>
          <p:nvPr/>
        </p:nvSpPr>
        <p:spPr>
          <a:xfrm>
            <a:off x="5795640" y="2133720"/>
            <a:ext cx="8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д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3" descr=""/>
          <p:cNvPicPr/>
          <p:nvPr/>
        </p:nvPicPr>
        <p:blipFill>
          <a:blip r:embed="rId1"/>
          <a:stretch/>
        </p:blipFill>
        <p:spPr>
          <a:xfrm>
            <a:off x="585720" y="268200"/>
            <a:ext cx="8350200" cy="580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2" descr=""/>
          <p:cNvPicPr/>
          <p:nvPr/>
        </p:nvPicPr>
        <p:blipFill>
          <a:blip r:embed="rId1"/>
          <a:stretch/>
        </p:blipFill>
        <p:spPr>
          <a:xfrm>
            <a:off x="426960" y="274680"/>
            <a:ext cx="8435880" cy="6522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250560" y="259920"/>
            <a:ext cx="856908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entury Gothic"/>
              </a:rPr>
              <a:t>Подводим итоги</a:t>
            </a:r>
            <a:r>
              <a:rPr b="0" lang="ru-RU" sz="3000" spc="-1" strike="noStrike">
                <a:solidFill>
                  <a:srgbClr val="ffc000"/>
                </a:solidFill>
                <a:latin typeface="Century Gothic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Century Gothic"/>
              </a:rPr>
              <a:t>Каждая команда  оценивает работу членов своей группы (таблица №1)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Century Gothic"/>
              </a:rPr>
              <a:t>Каждая команда суммирует      баллы команд соперников и   выставляет оценки( таблица №2)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40-90 баллов- «3», 91-120 баллов- «4»,121-200 баллов- «5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250920" y="1699920"/>
            <a:ext cx="858024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c000"/>
                </a:solidFill>
                <a:latin typeface="Century Gothic"/>
              </a:rPr>
              <a:t>§28, упр.5,7 в раб. тетради – для тех, кто получил 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c000"/>
                </a:solidFill>
                <a:latin typeface="Century Gothic"/>
              </a:rPr>
              <a:t>                                                    </a:t>
            </a:r>
            <a:r>
              <a:rPr b="1" lang="ru-RU" sz="3100" spc="-1" strike="noStrike">
                <a:solidFill>
                  <a:srgbClr val="ffc000"/>
                </a:solidFill>
                <a:latin typeface="Century Gothic"/>
              </a:rPr>
              <a:t>оценку «3»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c000"/>
                </a:solidFill>
                <a:latin typeface="Century Gothic"/>
              </a:rPr>
              <a:t> </a:t>
            </a:r>
            <a:r>
              <a:rPr b="1" lang="ru-RU" sz="3100" spc="-1" strike="noStrike">
                <a:solidFill>
                  <a:srgbClr val="ffc000"/>
                </a:solidFill>
                <a:latin typeface="Century Gothic"/>
              </a:rPr>
              <a:t>§28,  упр.4– для тех, кто получил 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c000"/>
                </a:solidFill>
                <a:latin typeface="Century Gothic"/>
              </a:rPr>
              <a:t>                                                    </a:t>
            </a:r>
            <a:r>
              <a:rPr b="1" lang="ru-RU" sz="3100" spc="-1" strike="noStrike">
                <a:solidFill>
                  <a:srgbClr val="ffc000"/>
                </a:solidFill>
                <a:latin typeface="Century Gothic"/>
              </a:rPr>
              <a:t>оценку «4»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c000"/>
                </a:solidFill>
                <a:latin typeface="Century Gothic"/>
              </a:rPr>
              <a:t> </a:t>
            </a:r>
            <a:r>
              <a:rPr b="1" lang="ru-RU" sz="3100" spc="-1" strike="noStrike">
                <a:solidFill>
                  <a:srgbClr val="ffc000"/>
                </a:solidFill>
                <a:latin typeface="Century Gothic"/>
              </a:rPr>
              <a:t>§28,  упр.6 в раб. тетради – для тех, кто получил 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c000"/>
                </a:solidFill>
                <a:latin typeface="Century Gothic"/>
              </a:rPr>
              <a:t>                                                     </a:t>
            </a:r>
            <a:r>
              <a:rPr b="1" lang="ru-RU" sz="3100" spc="-1" strike="noStrike">
                <a:solidFill>
                  <a:srgbClr val="ffc000"/>
                </a:solidFill>
                <a:latin typeface="Century Gothic"/>
              </a:rPr>
              <a:t>оценку «5»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diamond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17:57:52Z</dcterms:created>
  <dc:creator>Света</dc:creator>
  <dc:description/>
  <dc:language>en-US</dc:language>
  <cp:lastModifiedBy>user</cp:lastModifiedBy>
  <dcterms:modified xsi:type="dcterms:W3CDTF">2018-02-07T05:18:19Z</dcterms:modified>
  <cp:revision>422</cp:revision>
  <dc:subject/>
  <dc:title>СЛУХОВОЙ АНАЛИЗАТО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