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E928-1A1B-4334-B63B-BC470BC379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47A0-C726-4E30-878B-4579B52233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126A-1F89-4D09-861D-0C6E2209C4C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D8D4-2184-46C3-806B-8A73AE5F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0344-3FD9-41FF-A2BA-B195D854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3B1C-1948-4E27-B105-35E3679A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D8B-521E-46F3-98DD-C252954E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D449-914C-4961-ADD0-C2589CE6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119F-0810-4CE7-8851-EA8CA03E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9DF5-C037-4758-B577-413B7C90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8ED8-0023-483A-8E0C-B0AAFE72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C3A1-1C12-404B-88C8-947C409B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5D14-982C-4787-97A5-B0E85195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3B30-2F4B-40AB-907B-19A841EB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9F3-0F29-4065-BFDB-CA644727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B53C4-64A9-49C4-94A0-4F54E689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378B-0540-42B1-8869-0B29EAA1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9D98-48D1-4431-B004-81D4C9C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2A4B-7D3C-45C6-93A8-4D5FE9B3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0B2B-4490-467B-870B-8432268C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E018-BDA7-4AED-92B4-8A336C20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EC327-EEC2-40C8-BD67-CD1602A3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224FB-01F4-45AA-BF47-6DF851A9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6F69-AEEA-416D-96FE-9D06E1B1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224DD-0D9B-4073-A847-2647D204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E34-3401-4A53-8ABD-80320D8D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5470D-8628-4B7D-A191-E6A1855E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17264-AA08-472C-B322-CB2E5B87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A008F-12FB-44DC-94BE-3DE12D0B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FD222-CF7E-4C02-85C1-9BA3416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73C4-5B75-4A46-8934-9932F91C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66613-BC0E-4F0C-93A6-51307E5B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45BA-8E46-4A89-A37E-FA0F3482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3989-B36D-477B-B776-72907145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40875-B4EE-484E-97C0-CF99A6AA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F5DE9-233A-41E2-9EDC-8FC08D73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037-6A8A-4F81-9E0F-34067A1D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7B457-C7FA-490F-AFDA-8CA4174F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F570-7024-43C5-ADBE-0CB7231C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ABCDE-2FF1-4B0D-A41E-9CF64D90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161A-F1F5-4129-B82B-52FD11F0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810B9-7996-4E17-9E91-31140BD4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BA10B-AA44-4453-91A1-4AE6E189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519B7-E38D-4298-96F9-9DB1E329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23AC1-34EF-447B-A050-9D33E622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FDD4-1287-41B3-AA15-2D8B58F4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D0CF8-2C0A-4C82-940B-09E6EC60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A909-A1B4-4580-B7A3-382E866D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A684-CB99-4078-98CD-14CF141D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1213B-7E62-4C98-8648-B6553882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DB953-E029-4586-AC8B-094C39F1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6F496-E7E7-4806-B647-48CCB754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4AE40-11C0-403A-9649-45A91EB0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05FB-80EA-4060-9924-4C116434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4D7FA-1022-447C-958E-2B9A335E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E9EF5-88AF-4E39-88A8-DF010CDE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59DC6-122D-4F20-B6B0-24DA89C6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06E7B-5988-41DE-9172-A798D5E55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9AC-0E15-43E2-8828-F1012427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157A0-F155-41B8-B0A9-28342FC1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8B444-C4A1-44AD-94E2-1B955F72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3899D-2939-4F65-93A5-979BB1F1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BCBC6-0194-4872-851C-84E6E27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2435D-90C9-4686-AA1F-E894EE3E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B074E-0398-46CD-BDD1-99DDBFF0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F1B24-CA78-42D9-A694-8F9E068C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C6549-0B8D-4063-9EC3-5A11A9EE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C2A92-9A55-4FCA-8C5F-AE3FC29B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F316-DE93-432B-9156-B772FFC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EE6-2DEA-4A81-A5E0-87EC07C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12DBB-7377-4832-8856-5C0120B9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0BBC-25A2-4CF6-A9DE-E025E4F7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0AA2B-5D93-488A-B18C-66980C7B2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DA666-D7C2-4D40-8F44-7BB126DF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CF637-1BF0-4F8B-8EA1-C9C87185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2FF13-D753-435E-863B-D2755E99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F5883-BFBC-4983-81C9-76D0278C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0DE9B-0AE0-40F5-A718-8DA6A670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C4975-FD4A-4A1F-B555-06B21B26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D8BB4-9D18-4CBF-97E8-6AB19045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C4E-0481-49E7-818A-491AB142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BFA53-6913-451F-97A7-C4FAD0B2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E102B-02FB-4B9D-B78A-7C65DE6D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4E58F-197F-483F-8A24-2BD82C81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8D703-41CE-4600-B1F2-1FB3120C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4D81E-0C48-4D1C-AE92-F1103D1CA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2A3F-6E5C-4A84-B28F-D7BC9237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5CEB-8B75-4C01-830D-6D55372605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0246-6878-4AAE-A77A-884B7CDF997B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3B95-0BAA-4EF9-9EBC-0A8FD9C6BE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1114-5FC6-49E3-AC63-07CC2FF0C6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4870-CA9F-4309-85A0-BBEA2DF57C6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BC00-3CAB-4AF2-9F9C-53FFB68B07B7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1FFD-F195-494E-B7EE-B2336A0E634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28400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2"/>
          <a:stretch/>
        </p:blipFill>
        <p:spPr>
          <a:xfrm>
            <a:off x="274680" y="2779560"/>
            <a:ext cx="3863880" cy="4138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" descr=""/>
          <p:cNvPicPr/>
          <p:nvPr/>
        </p:nvPicPr>
        <p:blipFill>
          <a:blip r:embed="rId3"/>
          <a:stretch/>
        </p:blipFill>
        <p:spPr>
          <a:xfrm>
            <a:off x="4286160" y="2779560"/>
            <a:ext cx="4857840" cy="4078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542880" y="115920"/>
            <a:ext cx="8229600" cy="10303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320760" y="1684440"/>
            <a:ext cx="853416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Все ли члены группы работали активно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Комфортно ли было работать в этой группе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Вернитесь к теме урока. Всё ли вы выполнили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Что было на уроке для вас самым неожиданным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Что было самым интересным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entury Gothic"/>
              </a:rPr>
              <a:t>Осталось ли что-то непонятным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70000"/>
              </a:lnSpc>
              <a:spcBef>
                <a:spcPts val="3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Picture 26" descr="C:\Documents and Settings\СВЕТЛАНА\Рабочий стол\анимашки\Хорошее настроение\20.GIF"/>
          <p:cNvPicPr/>
          <p:nvPr/>
        </p:nvPicPr>
        <p:blipFill>
          <a:blip r:embed="rId2"/>
          <a:stretch/>
        </p:blipFill>
        <p:spPr>
          <a:xfrm>
            <a:off x="6759720" y="0"/>
            <a:ext cx="2357280" cy="1928880"/>
          </a:xfrm>
          <a:prstGeom prst="rect">
            <a:avLst/>
          </a:prstGeom>
          <a:ln w="0">
            <a:noFill/>
          </a:ln>
        </p:spPr>
      </p:pic>
      <p:pic>
        <p:nvPicPr>
          <p:cNvPr id="345" name="рефлексия.wma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217200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Заголовок 1" descr=""/>
          <p:cNvPicPr/>
          <p:nvPr/>
        </p:nvPicPr>
        <p:blipFill>
          <a:blip r:embed="rId1"/>
          <a:stretch/>
        </p:blipFill>
        <p:spPr>
          <a:xfrm>
            <a:off x="0" y="237960"/>
            <a:ext cx="8589960" cy="1651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7200" y="237960"/>
            <a:ext cx="8229600" cy="16513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ческие уравнен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360360" y="274680"/>
            <a:ext cx="8697960" cy="5943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Прямоугольник 3" descr=""/>
          <p:cNvPicPr/>
          <p:nvPr/>
        </p:nvPicPr>
        <p:blipFill>
          <a:blip r:embed="rId1"/>
          <a:stretch/>
        </p:blipFill>
        <p:spPr>
          <a:xfrm>
            <a:off x="60480" y="500040"/>
            <a:ext cx="8834400" cy="706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4"/>
          <p:cNvSpPr/>
          <p:nvPr/>
        </p:nvSpPr>
        <p:spPr>
          <a:xfrm>
            <a:off x="3059280" y="3141720"/>
            <a:ext cx="3058920" cy="863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гласны ли вы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чт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1428840" y="0"/>
            <a:ext cx="2712960" cy="19162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1.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a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a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не нуж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Oval 6"/>
          <p:cNvSpPr/>
          <p:nvPr/>
        </p:nvSpPr>
        <p:spPr>
          <a:xfrm>
            <a:off x="4643280" y="0"/>
            <a:ext cx="2857680" cy="19162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Zn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Cl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Zn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  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цинка 2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6300720" y="1700280"/>
            <a:ext cx="2843280" cy="187164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3.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a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O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aO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  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оксида кальция 2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Oval 8"/>
          <p:cNvSpPr/>
          <p:nvPr/>
        </p:nvSpPr>
        <p:spPr>
          <a:xfrm>
            <a:off x="6227640" y="3933720"/>
            <a:ext cx="2665440" cy="194328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4.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4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не нужны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Oval 9"/>
          <p:cNvSpPr/>
          <p:nvPr/>
        </p:nvSpPr>
        <p:spPr>
          <a:xfrm>
            <a:off x="3348000" y="5013360"/>
            <a:ext cx="2665440" cy="184464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5. 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uO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u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H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O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у  меди 2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0" y="4005360"/>
            <a:ext cx="2916360" cy="21384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6. В реак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O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O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 2 над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поставить и у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оксида углерода (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II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) 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и   у   углер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0" y="1700280"/>
            <a:ext cx="2844720" cy="201600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7. В реакции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u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Fe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→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Cu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+ </a:t>
            </a:r>
            <a:r>
              <a:rPr b="1" lang="en-US" sz="1800" spc="-1" strike="noStrike">
                <a:solidFill>
                  <a:srgbClr val="ffff00"/>
                </a:solidFill>
                <a:latin typeface="Georgia"/>
              </a:rPr>
              <a:t>FeCl</a:t>
            </a:r>
            <a:r>
              <a:rPr b="1" lang="ru-RU" sz="1800" spc="-1" strike="noStrike" baseline="-25000">
                <a:solidFill>
                  <a:srgbClr val="ffff00"/>
                </a:solidFill>
                <a:latin typeface="Georgia"/>
              </a:rPr>
              <a:t>2</a:t>
            </a: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коэффициенты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Georgia"/>
              </a:rPr>
              <a:t>не нужны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Line 12"/>
          <p:cNvSpPr/>
          <p:nvPr/>
        </p:nvSpPr>
        <p:spPr>
          <a:xfrm flipH="1" flipV="1">
            <a:off x="3203640" y="1844280"/>
            <a:ext cx="504720" cy="1297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Line 14"/>
          <p:cNvSpPr/>
          <p:nvPr/>
        </p:nvSpPr>
        <p:spPr>
          <a:xfrm flipH="1" flipV="1">
            <a:off x="2771280" y="3212640"/>
            <a:ext cx="287640" cy="7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6084720" y="3141720"/>
            <a:ext cx="287640" cy="71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Line 16"/>
          <p:cNvSpPr/>
          <p:nvPr/>
        </p:nvSpPr>
        <p:spPr>
          <a:xfrm flipH="1">
            <a:off x="2627280" y="3933720"/>
            <a:ext cx="504720" cy="358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6012000" y="4005360"/>
            <a:ext cx="36036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4716360" y="4005360"/>
            <a:ext cx="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Line 21"/>
          <p:cNvSpPr/>
          <p:nvPr/>
        </p:nvSpPr>
        <p:spPr>
          <a:xfrm flipV="1">
            <a:off x="5364000" y="1916280"/>
            <a:ext cx="57636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3350520" y="141300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3710160" y="4581360"/>
            <a:ext cx="110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е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5580000" y="436572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е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Rectangle 25"/>
          <p:cNvSpPr/>
          <p:nvPr/>
        </p:nvSpPr>
        <p:spPr>
          <a:xfrm>
            <a:off x="4788000" y="1484280"/>
            <a:ext cx="121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нет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Rectangle 26"/>
          <p:cNvSpPr/>
          <p:nvPr/>
        </p:nvSpPr>
        <p:spPr>
          <a:xfrm>
            <a:off x="2700000" y="234936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Rectangle 27"/>
          <p:cNvSpPr/>
          <p:nvPr/>
        </p:nvSpPr>
        <p:spPr>
          <a:xfrm>
            <a:off x="2771280" y="41497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Rectangle 28"/>
          <p:cNvSpPr/>
          <p:nvPr/>
        </p:nvSpPr>
        <p:spPr>
          <a:xfrm>
            <a:off x="5795640" y="2133720"/>
            <a:ext cx="8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eorgia"/>
              </a:rPr>
              <a:t>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3" descr=""/>
          <p:cNvPicPr/>
          <p:nvPr/>
        </p:nvPicPr>
        <p:blipFill>
          <a:blip r:embed="rId1"/>
          <a:stretch/>
        </p:blipFill>
        <p:spPr>
          <a:xfrm>
            <a:off x="585720" y="268200"/>
            <a:ext cx="8350200" cy="580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2" descr=""/>
          <p:cNvPicPr/>
          <p:nvPr/>
        </p:nvPicPr>
        <p:blipFill>
          <a:blip r:embed="rId1"/>
          <a:stretch/>
        </p:blipFill>
        <p:spPr>
          <a:xfrm>
            <a:off x="426960" y="274680"/>
            <a:ext cx="8435880" cy="6522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560" y="259920"/>
            <a:ext cx="856908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entury Gothic"/>
              </a:rPr>
              <a:t>Подводим итоги</a:t>
            </a:r>
            <a:r>
              <a:rPr b="0" lang="ru-RU" sz="3000" spc="-1" strike="noStrike">
                <a:solidFill>
                  <a:srgbClr val="ffc000"/>
                </a:solidFill>
                <a:latin typeface="Century Gothic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Gothic"/>
              </a:rPr>
              <a:t>Каждая команда  оценивает работу членов своей группы (таблица №1)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entury Gothic"/>
              </a:rPr>
              <a:t>Каждая команда суммирует      баллы команд соперников и   выставляет оценки( таблица №2)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40-90 баллов- «3», 91-120 баллов- «4»,121-200 баллов- «5»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Rectangle 2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250920" y="1699920"/>
            <a:ext cx="8580240" cy="39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§28, упр.5,7 в раб. тетради – для тех, кто получил 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                                                  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оценку «3»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§28,  упр.4– для тех, кто получил 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                                                  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оценку «4»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§28,  упр.6 в раб. тетради – для тех, кто получил 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                                                     </a:t>
            </a:r>
            <a:r>
              <a:rPr b="1" lang="ru-RU" sz="3100" spc="-1" strike="noStrike">
                <a:solidFill>
                  <a:srgbClr val="ffc000"/>
                </a:solidFill>
                <a:latin typeface="Century Gothic"/>
              </a:rPr>
              <a:t>оценку «5»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diamond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7:57:52Z</dcterms:created>
  <dc:creator>Света</dc:creator>
  <dc:description/>
  <dc:language>en-US</dc:language>
  <cp:lastModifiedBy>user</cp:lastModifiedBy>
  <dcterms:modified xsi:type="dcterms:W3CDTF">2018-02-07T05:18:19Z</dcterms:modified>
  <cp:revision>422</cp:revision>
  <dc:subject/>
  <dc:title>СЛУХОВОЙ АНАЛИЗАТ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