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8C1-55E1-463D-815C-96B54050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EE1-2CBB-470F-93B3-5C2DBB3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A79-C82D-4183-82B0-DD373EE7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C6-A21C-4844-8F63-78FFD933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2D0-8508-4826-95E5-0E015BC6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4CF-813F-41A8-A40E-35EFDA2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CEC-B02E-4B9E-9779-19F3B616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4C0-0AF6-43AA-A740-B5268C70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089-7623-4E85-BC0C-625E4A5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AC7-1805-4A53-B0FE-A28706D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30F-919F-4E20-9F2B-AF552AA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CF3-4744-43E0-AEB3-CDD3FAEC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8B68-EEBC-4CF1-9E1F-4FE2A8BE2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ков Перельман –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ий без учёной степ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zharkova.a\Desktop\pic_1531832093.jpg"/>
          <p:cNvPicPr/>
          <p:nvPr/>
        </p:nvPicPr>
        <p:blipFill>
          <a:blip r:embed="rId1"/>
          <a:stretch/>
        </p:blipFill>
        <p:spPr>
          <a:xfrm>
            <a:off x="2916360" y="2060640"/>
            <a:ext cx="37591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я Якова Исидоровича Перельмана знал каждый родитель и ребенок советского союза, а написанные им 100 лет назад книги до сих пор успешно продают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сегодня по этим книгам дети продолжают учить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сегодняшнему дню их тираж перевалил за 20 миллион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Занимательная физика», «Занимательная математика», «Геометрия вокруг нас», «Фокусы и загадки» - все эти издания переведены более чем на 10 иностранных языков и до сих пор переиздают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Яков Перельман – к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рофессор» - так обычно обращались к Перельману и очень удивлялись, что он не ученый, степени у него н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ем же был Яков Перельма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ья у него не  была обеспеченной, жил мальчик в настоящей нужде. Отец умер, мать, хватаясь за любую работу, всеми силами старалась дать хорошее образование своим детям: составляла списки чтения, учила языкам - французскому и немецкому, серьезному отношению к уче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ало свои плоды – Яков горячо полюбил математику и физ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емья, детство, начало пу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ков блестяще закончил школу и институт и, будучи еще студентом, написал свою первую книгу «Занимательная физика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кто не ожидал такого успех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стала популярной у читателей, у родителей, у детей и у научного мира, так как она была написана очень простым, даже детским язы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какие там были задачи !!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примеру: «С воздушного шара, свешивается лестница, на нижней ступеньке стоит человек. Он начинает взбираться по лестнице. Куда должен при этом переместиться воздушный шар — вверх или вниз?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ой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 1941 году 59-летний Яков Исидорович отказался эвакуироваться и остался с женой в осажденном Ленинград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 читал по несколько лекций в день на темы: «Как найти дорогу в чаще зимой и летом», «Как определить расстояние до объекта», «Как измерить ширину и глубину реки озер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итал до тех пор, пока мог ходить. После того как это стало невозможно, он продолжал консультировать по телефону, пока в начале января немецкий снаряд не разбил телеф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 умер от истощения 16 марта 1942 года, на 60-м году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лед в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даря Якову Перельману и его трудам изучение математики и физики стало легким и удивительно интересным процессом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ей, которые ум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 так писать о физике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матике, как пис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ков Перельман больше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zharkova.a\Desktop\yakov_d03.jpg"/>
          <p:cNvPicPr/>
          <p:nvPr/>
        </p:nvPicPr>
        <p:blipFill>
          <a:blip r:embed="rId1"/>
          <a:stretch/>
        </p:blipFill>
        <p:spPr>
          <a:xfrm>
            <a:off x="5076720" y="2637000"/>
            <a:ext cx="369108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8T07:10:07Z</dcterms:created>
  <dc:creator>Жаркова</dc:creator>
  <dc:description/>
  <dc:language>en-US</dc:language>
  <cp:lastModifiedBy>Жаркова</cp:lastModifiedBy>
  <dcterms:modified xsi:type="dcterms:W3CDTF">2022-10-18T08:15:14Z</dcterms:modified>
  <cp:revision>8</cp:revision>
  <dc:subject/>
  <dc:title>Яков Перельман –  гений без ученой степени</dc:title>
</cp:coreProperties>
</file>