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E90-7C1C-4035-BE09-042F8BF6A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073-443D-41F2-822B-97F07E8F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B48-D24A-4611-A728-4057AA49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796-8CE7-41AA-B3CA-C5CE5E43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AE3-4D8B-46C8-B1C3-2E0D0DF7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C98-82C9-4E02-B7FC-E2EF1C55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8023-6CC2-41F3-B277-B45C6FD7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794E-16E5-44D6-813F-4315F077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24E-6C15-46A9-9C84-CD828267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CE0E-A008-48C9-BD81-BBBD2E40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E5E2-527E-4F7A-9C7B-46E7C615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3A78-BD54-4E7A-8CB3-D95749EF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D081-E401-44C0-B291-2A8948388B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ков Перельман –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ний без учёной степе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Users\zharkova.a\Desktop\pic_1531832093.jpg"/>
          <p:cNvPicPr/>
          <p:nvPr/>
        </p:nvPicPr>
        <p:blipFill>
          <a:blip r:embed="rId1"/>
          <a:stretch/>
        </p:blipFill>
        <p:spPr>
          <a:xfrm>
            <a:off x="2916360" y="2060640"/>
            <a:ext cx="37591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я Якова Исидоровича Перельмана знал каждый родитель и ребенок советского союза, а написанные им 100 лет назад книги до сих пор успешно продают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сегодня по этим книгам дети продолжают учить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 сегодняшнему дню их тираж перевалил за 20 миллион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Занимательная физика», «Занимательная математика», «Геометрия вокруг нас», «Фокусы и загадки» - все эти издания переведены более чем на 10 иностранных языков и до сих пор переиздаютс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Яков Перельман – кто э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3964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рофессор» - так обычно обращались к Перельману и очень удивлялись, что он не ученый, степени у него не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 кем же был Яков Перельман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мья у него не  была обеспеченной, жил мальчик в настоящей нужде. Отец умер, мать, хватаясь за любую работу, всеми силами старалась дать хорошее образование своим детям: составляла списки чтения, учила языкам - французскому и немецкому, серьезному отношению к учеб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дало свои плоды – Яков горячо полюбил математику и физи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Семья, детство, начало пут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Яков блестяще закончил школу и институт и, будучи еще студентом, написал свою первую книгу «Занимательная физика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икто не ожидал такого успех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нига стала популярной у читателей, у родителей, у детей и у научного мира, так как она была написана очень простым, даже детским язык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какие там были задачи !!!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примеру: «С воздушного шара, свешивается лестница, на нижней ступеньке стоит человек. Он начинает взбираться по лестнице. Куда должен при этом переместиться воздушный шар — вверх или вниз?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ой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 1941 году 59-летний Яков Исидорович отказался эвакуироваться и остался с женой в осажденном Ленинград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 читал по несколько лекций в день на темы: «Как найти дорогу в чаще зимой и летом», «Как определить расстояние до объекта», «Как измерить ширину и глубину реки озера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Читал до тех пор, пока мог ходить. После того как это стало невозможно, он продолжал консультировать по телефону, пока в начале января немецкий снаряд не разбил телефо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н умер от истощения 16 марта 1942 года, на 60-м году жизн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След в истор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агодаря Якову Перельману и его трудам изучение математики и физики стало легким и удивительно интересным процессом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юдей, которые ум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 так писать о физике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тематике, как пис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Яков Перельман больше 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zharkova.a\Desktop\yakov_d03.jpg"/>
          <p:cNvPicPr/>
          <p:nvPr/>
        </p:nvPicPr>
        <p:blipFill>
          <a:blip r:embed="rId1"/>
          <a:stretch/>
        </p:blipFill>
        <p:spPr>
          <a:xfrm>
            <a:off x="5076720" y="2637000"/>
            <a:ext cx="3691080" cy="24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18T07:10:07Z</dcterms:created>
  <dc:creator>Жаркова</dc:creator>
  <dc:description/>
  <dc:language>en-US</dc:language>
  <cp:lastModifiedBy>Жаркова</cp:lastModifiedBy>
  <dcterms:modified xsi:type="dcterms:W3CDTF">2022-10-18T08:15:14Z</dcterms:modified>
  <cp:revision>8</cp:revision>
  <dc:subject/>
  <dc:title>Яков Перельман –  гений без ученой степени</dc:title>
</cp:coreProperties>
</file>