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camera.wav" ContentType="audio/x-wav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428-21FF-4219-9C36-519615D43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1C5B-12C3-4FB6-BA70-C1987A2A0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261-D2B6-4FDC-8920-31C3E39C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C1D-777B-41BE-A415-786378CB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9D5-4FC9-4E5F-9C72-5237772B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E9C-1BEB-4F11-A9A0-A6C2D25E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506-A996-435C-891C-88D1723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4AB2-077E-4C29-B963-ED2B5BA9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2D68-02C2-45FE-AF7F-96A26847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37D6-AABA-4695-AEBF-1505B93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C4BF-7594-435B-8CAF-79AB535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31EA-3B34-4416-A50F-48C91A6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C61A-0001-4F21-BCBA-95435821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4E7-0618-4018-B1B5-58C5FBA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6AD0-872E-407A-A1B7-787FA96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BDD-CD4F-4041-9DC0-68EB600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5285-1B5C-413C-9409-730C5BE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B72-6BC6-481C-9019-FEA7291C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CDA-5C62-4EE9-A29E-972CB53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6BB0-6CC4-4748-A927-5D8D0F7B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33CE-61DE-4C6C-B0F3-798B73DA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43AB-B895-4C05-AF2B-65C32267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5AC4-9ADE-4472-8F49-ED5619D6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BA1A-F72E-4677-A382-D95810C6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9A3-72E8-4358-A8A9-49B30847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57E3-B470-40B3-8EDA-2DB20D6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2D73-BCAC-478B-8297-C17B3D9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3C64-4AC2-41A6-BF32-325CE14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028C-16B8-44A3-B97B-1C935E0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0871-3E4F-4A32-8F9B-43B8B20D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2D02-5AA3-4080-BF66-F32CB847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CF4C-9B5A-414C-B7B0-3DB003D4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85FD-644C-4122-A876-749E0FDB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7E2C-83AB-4DD6-8FFE-E239E5C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D7693-9DE3-4476-B7BA-C33D2B8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B66-9BC2-4ACD-AC76-5A23BB20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80DF-658B-4E0A-AED2-63CDE836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7FAA-4F1E-405F-A865-250AE29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2227-B9BD-4FDA-80D6-92FEE9CC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28F9-0FBB-4164-81DD-210166E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6B4C-DAD1-4186-8F28-E4D4ACB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25881-6DC9-402D-8A43-4CA1774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174E-AF57-4FF8-9E81-D3EC3A0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39E2-45A7-41D1-BF00-F4029032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C35E-2937-4930-B0F5-33FA92B9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28AE-FD9F-4910-9CE2-C775CC5D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F12-760A-4122-942A-E2CF0629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DAEEC-03A2-4F84-82A1-4CD54BCA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744A-DD0E-4A8A-9614-74B67390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B925-B581-40D3-8B8B-444F14A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5C44-320F-4D05-98C1-979D156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953A2-4156-41C7-BEC0-CD6FDF00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850A-5212-4D6D-A24A-8CABE3A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B9BD-483A-47AC-93AD-97136FD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3324-EC2B-493A-975F-14D3657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37DD-90FB-4A19-8187-C676E2AD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74C5-5EAD-4E6B-8169-685CFC7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E0F-B8E8-4624-924E-3312C5D8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FE1D-CE40-45F5-8E2F-A7CF4D96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53A-F822-4242-908D-EAF328A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85B-EB31-41D5-92D9-29CAD93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788-B282-4E1A-8266-6F3388E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177-0B6D-45F6-A10E-88766D9860F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A3C-11CB-4C22-B706-0E5D53EF591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345E-7E87-4E39-B837-04483AEBCD7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67A-0DBB-4BA9-82E0-CB1C075D453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FAD-06AA-4965-86FA-7C9774B5B61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«Лексика и фразеология»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5640" y="5300640"/>
            <a:ext cx="720108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755640" y="3333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русского языка в 8 клас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268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76464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Calibri"/>
              </a:rPr>
              <a:t>Найдите в предложениях из рассказа И.Тургенева «Муму» просторечные и разговорные слова. Попробуйте заменить их нейтральными синонимами. Что изменится?</a:t>
            </a:r>
            <a:br>
              <a:rPr sz="20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79280" y="1268280"/>
            <a:ext cx="878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1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1. Капитон вытаращил глаза и отделился от стены. 2. – Ну, чего же ты всколыхнулся? ...Разве она тебе не по нраву? 3. А то в другой раз, заметив, что Капитон... как-то слишком любезно раскланялся с Татьяной, Герасим подозвал его к себе пальцем, отвел в каретный сарай... 4. Улыбается, мычит, махает руками, ленту вдруг вытащит из-за пазухи и всучит ей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979640" y="1341360"/>
            <a:ext cx="4788000" cy="5112000"/>
          </a:xfrm>
          <a:prstGeom prst="rect">
            <a:avLst/>
          </a:prstGeom>
          <a:gradFill rotWithShape="0">
            <a:gsLst>
              <a:gs pos="0">
                <a:srgbClr val="c9ddf1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Змея подколодна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олк в овечьей шкур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озёл отпущ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Мокрая куриц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Глухая тетер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лон в посудной лавк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от в мешк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Белая ворон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496360" cy="865080"/>
          </a:xfrm>
          <a:prstGeom prst="rect">
            <a:avLst/>
          </a:prstGeom>
          <a:gradFill rotWithShape="0">
            <a:gsLst>
              <a:gs pos="0">
                <a:srgbClr val="c9dd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Узнайте, подумайте, почему мы так говори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пишите  предложения с этими фразеологизмам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0" y="6308640"/>
            <a:ext cx="3276720" cy="54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17640" y="15840"/>
            <a:ext cx="3924000" cy="9367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d7a"/>
                </a:solidFill>
                <a:latin typeface="Verdana"/>
              </a:rPr>
              <a:t>НАЙДИ ПАР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2a3d7a"/>
                </a:solidFill>
                <a:latin typeface="Verdana"/>
              </a:rPr>
              <a:t>ФРАЗЕОЛОГИЗМ-АНТОН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8"/>
          <p:cNvSpPr/>
          <p:nvPr/>
        </p:nvSpPr>
        <p:spPr>
          <a:xfrm rot="1467000">
            <a:off x="395280" y="2276640"/>
            <a:ext cx="3816360" cy="1008000"/>
          </a:xfrm>
          <a:prstGeom prst="rightArrow">
            <a:avLst>
              <a:gd name="adj1" fmla="val 50000"/>
              <a:gd name="adj2" fmla="val 94652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ГОРШКА ДВА ВЕР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9"/>
          <p:cNvSpPr/>
          <p:nvPr/>
        </p:nvSpPr>
        <p:spPr>
          <a:xfrm rot="1528800">
            <a:off x="2050920" y="1844640"/>
            <a:ext cx="3240360" cy="1079640"/>
          </a:xfrm>
          <a:prstGeom prst="leftArrow">
            <a:avLst>
              <a:gd name="adj1" fmla="val 50000"/>
              <a:gd name="adj2" fmla="val 75033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АРИВАТЬ КАШ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10"/>
          <p:cNvSpPr/>
          <p:nvPr/>
        </p:nvSpPr>
        <p:spPr>
          <a:xfrm rot="1362600">
            <a:off x="179280" y="3068280"/>
            <a:ext cx="3167280" cy="1008000"/>
          </a:xfrm>
          <a:prstGeom prst="rightArrow">
            <a:avLst>
              <a:gd name="adj1" fmla="val 50000"/>
              <a:gd name="adj2" fmla="val 78554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И  ЗГИ  НЕ  ВИД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11"/>
          <p:cNvSpPr/>
          <p:nvPr/>
        </p:nvSpPr>
        <p:spPr>
          <a:xfrm rot="1293600">
            <a:off x="394920" y="4076640"/>
            <a:ext cx="3168720" cy="1008000"/>
          </a:xfrm>
          <a:prstGeom prst="rightArrow">
            <a:avLst>
              <a:gd name="adj1" fmla="val 50000"/>
              <a:gd name="adj2" fmla="val 78589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ПРЯНУТЬ ДУХ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12"/>
          <p:cNvSpPr/>
          <p:nvPr/>
        </p:nvSpPr>
        <p:spPr>
          <a:xfrm rot="1945800">
            <a:off x="3347640" y="1699920"/>
            <a:ext cx="3672000" cy="1008000"/>
          </a:xfrm>
          <a:prstGeom prst="leftArrow">
            <a:avLst>
              <a:gd name="adj1" fmla="val 50000"/>
              <a:gd name="adj2" fmla="val 91071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ЛОМЕНСКАЯ ВЕР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13"/>
          <p:cNvSpPr/>
          <p:nvPr/>
        </p:nvSpPr>
        <p:spPr>
          <a:xfrm rot="19855200">
            <a:off x="4859280" y="342864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ТЬ ИГОЛКИ СОБИРА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14"/>
          <p:cNvSpPr/>
          <p:nvPr/>
        </p:nvSpPr>
        <p:spPr>
          <a:xfrm rot="19750800">
            <a:off x="3708000" y="3428640"/>
            <a:ext cx="2592360" cy="1008000"/>
          </a:xfrm>
          <a:prstGeom prst="leftArrow">
            <a:avLst>
              <a:gd name="adj1" fmla="val 50000"/>
              <a:gd name="adj2" fmla="val 64295"/>
            </a:avLst>
          </a:prstGeom>
          <a:solidFill>
            <a:srgbClr val="c9ddf1">
              <a:alpha val="4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ВЕСИТЬ Н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15"/>
          <p:cNvSpPr/>
          <p:nvPr/>
        </p:nvSpPr>
        <p:spPr>
          <a:xfrm rot="1156200">
            <a:off x="0" y="4941720"/>
            <a:ext cx="3529080" cy="863640"/>
          </a:xfrm>
          <a:prstGeom prst="rightArrow">
            <a:avLst>
              <a:gd name="adj1" fmla="val 50000"/>
              <a:gd name="adj2" fmla="val 102157"/>
            </a:avLst>
          </a:prstGeom>
          <a:solidFill>
            <a:srgbClr val="c9ddf1">
              <a:alpha val="6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ЛЁБЫВАТЬ КАШ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179280" y="5877000"/>
            <a:ext cx="1944720" cy="765000"/>
          </a:xfrm>
          <a:prstGeom prst="rightArrow">
            <a:avLst>
              <a:gd name="adj1" fmla="val 50000"/>
              <a:gd name="adj2" fmla="val 63553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УТЬ СВ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17"/>
          <p:cNvSpPr/>
          <p:nvPr/>
        </p:nvSpPr>
        <p:spPr>
          <a:xfrm rot="1744200">
            <a:off x="6516720" y="1483920"/>
            <a:ext cx="2448000" cy="1008000"/>
          </a:xfrm>
          <a:prstGeom prst="leftArrow">
            <a:avLst>
              <a:gd name="adj1" fmla="val 50000"/>
              <a:gd name="adj2" fmla="val 60714"/>
            </a:avLst>
          </a:prstGeom>
          <a:solidFill>
            <a:srgbClr val="c9ddf1">
              <a:alpha val="4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НОЧЬ ГЛЯД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18"/>
          <p:cNvSpPr/>
          <p:nvPr/>
        </p:nvSpPr>
        <p:spPr>
          <a:xfrm rot="1827600">
            <a:off x="4859280" y="1699920"/>
            <a:ext cx="3276720" cy="936720"/>
          </a:xfrm>
          <a:prstGeom prst="leftArrow">
            <a:avLst>
              <a:gd name="adj1" fmla="val 50000"/>
              <a:gd name="adj2" fmla="val 87452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ИТЬ ДУША В ДУШ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9"/>
          <p:cNvSpPr/>
          <p:nvPr/>
        </p:nvSpPr>
        <p:spPr>
          <a:xfrm rot="1084800">
            <a:off x="3276720" y="5013360"/>
            <a:ext cx="3671640" cy="936720"/>
          </a:xfrm>
          <a:prstGeom prst="rightArrow">
            <a:avLst>
              <a:gd name="adj1" fmla="val 50000"/>
              <a:gd name="adj2" fmla="val 97992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 КОШКА С СОБАК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utoShape 20"/>
          <p:cNvSpPr/>
          <p:nvPr/>
        </p:nvSpPr>
        <p:spPr>
          <a:xfrm rot="20413200">
            <a:off x="2484360" y="5660640"/>
            <a:ext cx="2376720" cy="792360"/>
          </a:xfrm>
          <a:prstGeom prst="rightArrow">
            <a:avLst>
              <a:gd name="adj1" fmla="val 50000"/>
              <a:gd name="adj2" fmla="val 74989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ДНИМ ДУХ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21"/>
          <p:cNvSpPr/>
          <p:nvPr/>
        </p:nvSpPr>
        <p:spPr>
          <a:xfrm rot="19993800">
            <a:off x="5364000" y="4076640"/>
            <a:ext cx="3946680" cy="792360"/>
          </a:xfrm>
          <a:prstGeom prst="leftArrow">
            <a:avLst>
              <a:gd name="adj1" fmla="val 50000"/>
              <a:gd name="adj2" fmla="val 124523"/>
            </a:avLst>
          </a:prstGeom>
          <a:solidFill>
            <a:srgbClr val="c9ddf1">
              <a:alpha val="4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ЧАС ПО ЧАЙНОЙ ЛОЖ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a3d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a3d7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3e68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3e68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6960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Подбери фразеологизм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1" name="Picture 3" descr="Untitled14"/>
          <p:cNvPicPr/>
          <p:nvPr/>
        </p:nvPicPr>
        <p:blipFill>
          <a:blip r:embed="rId1"/>
          <a:stretch/>
        </p:blipFill>
        <p:spPr>
          <a:xfrm>
            <a:off x="5364000" y="1363680"/>
            <a:ext cx="2737080" cy="2697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Untitled16"/>
          <p:cNvPicPr/>
          <p:nvPr/>
        </p:nvPicPr>
        <p:blipFill>
          <a:blip r:embed="rId2"/>
          <a:stretch/>
        </p:blipFill>
        <p:spPr>
          <a:xfrm>
            <a:off x="1476360" y="1341360"/>
            <a:ext cx="3006720" cy="2610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Untitled15"/>
          <p:cNvPicPr/>
          <p:nvPr/>
        </p:nvPicPr>
        <p:blipFill>
          <a:blip r:embed="rId3"/>
          <a:stretch/>
        </p:blipFill>
        <p:spPr>
          <a:xfrm>
            <a:off x="1547640" y="4221000"/>
            <a:ext cx="3086280" cy="2562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Untitled17"/>
          <p:cNvPicPr/>
          <p:nvPr/>
        </p:nvPicPr>
        <p:blipFill>
          <a:blip r:embed="rId4"/>
          <a:stretch/>
        </p:blipFill>
        <p:spPr>
          <a:xfrm>
            <a:off x="5380200" y="4221000"/>
            <a:ext cx="272088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Спасибо за внимание!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2411280" y="2724120"/>
            <a:ext cx="363564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10"/>
          <p:cNvSpPr/>
          <p:nvPr/>
        </p:nvSpPr>
        <p:spPr>
          <a:xfrm>
            <a:off x="147600" y="5645160"/>
            <a:ext cx="2879640" cy="72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ПИТЕ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419640" y="3421080"/>
            <a:ext cx="3097080" cy="9144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осочет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8"/>
          <p:cNvSpPr/>
          <p:nvPr/>
        </p:nvSpPr>
        <p:spPr>
          <a:xfrm>
            <a:off x="228600" y="3502080"/>
            <a:ext cx="3238560" cy="1008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Фразеологиз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6397560" y="4745160"/>
            <a:ext cx="2665440" cy="863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дло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6"/>
          <p:cNvSpPr/>
          <p:nvPr/>
        </p:nvSpPr>
        <p:spPr>
          <a:xfrm>
            <a:off x="6012000" y="2781360"/>
            <a:ext cx="2808000" cy="7189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5076720" y="2046240"/>
            <a:ext cx="2880000" cy="719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АФ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67960" y="188640"/>
            <a:ext cx="6518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то жители? Кто гости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5734080"/>
            <a:ext cx="3311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17080" y="1916280"/>
            <a:ext cx="225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76320" y="1268280"/>
            <a:ext cx="3024000" cy="9144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250920" y="2421000"/>
            <a:ext cx="4968720" cy="1008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Однозначны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и многозначные сл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Oval 12"/>
          <p:cNvSpPr/>
          <p:nvPr/>
        </p:nvSpPr>
        <p:spPr>
          <a:xfrm>
            <a:off x="6415200" y="3421080"/>
            <a:ext cx="2728800" cy="1089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антони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Oval 12"/>
          <p:cNvSpPr/>
          <p:nvPr/>
        </p:nvSpPr>
        <p:spPr>
          <a:xfrm>
            <a:off x="6181560" y="5907240"/>
            <a:ext cx="2881440" cy="917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инони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3179880" y="4505400"/>
            <a:ext cx="3287520" cy="936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Омони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6089760" y="1252440"/>
            <a:ext cx="2879640" cy="719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асти реч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3187800" y="1378080"/>
            <a:ext cx="2879640" cy="7189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2982960" y="5486400"/>
            <a:ext cx="3287520" cy="936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Стилистичес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окрашенные сл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147600" y="4662360"/>
            <a:ext cx="2879640" cy="72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ф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) Слова, недавно вошедшие в употреблени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) Слова, вошедшие в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ий язык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из других языков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) Слова, употребляемые жителями той или иной местности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) Слова, вышедшие из активного употребления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) Слова, которые называют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меты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и явления, исчезнувшие из нашей жизни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) Специальные слова, обозначающие научные понятия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66560" y="773280"/>
            <a:ext cx="8569440" cy="1556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мствова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455760" y="1755720"/>
            <a:ext cx="8580240" cy="1068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ек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468360" y="2616120"/>
            <a:ext cx="8567640" cy="1556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аиз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50920" y="4869000"/>
            <a:ext cx="8729640" cy="1556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390600" y="3943440"/>
            <a:ext cx="8589960" cy="1068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з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420840" y="63360"/>
            <a:ext cx="85690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логиз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                </a:t>
            </a: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Цифровой диктант 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560" y="691920"/>
            <a:ext cx="889308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Знаменитый художник – известный художник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умный ребенок – понятливый ребенок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бальный наряд – наряд на уголь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храбрец – трус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почитать старших – уважать старших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дверной косяк – косяк рыбы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крошечный кусочек – здоровенный кусок; зеленые косы березы – песчаная коса на море; смелый воин – храбрый воин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– синоним; 2 – омоним, 3 – антоним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847440"/>
          </a:xfrm>
          <a:prstGeom prst="rect">
            <a:avLst/>
          </a:prstGeom>
          <a:gradFill rotWithShape="0">
            <a:gsLst>
              <a:gs pos="0">
                <a:srgbClr val="c9ddf1">
                  <a:alpha val="70196"/>
                </a:srgbClr>
              </a:gs>
              <a:gs pos="100000">
                <a:srgbClr val="ffffff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                       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59" name="Rectangle 3" descr=""/>
          <p:cNvPicPr/>
          <p:nvPr/>
        </p:nvPicPr>
        <p:blipFill>
          <a:blip r:embed="rId1"/>
          <a:stretch/>
        </p:blipFill>
        <p:spPr>
          <a:xfrm>
            <a:off x="469800" y="1268280"/>
            <a:ext cx="8204400" cy="285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1782720" y="2425680"/>
            <a:ext cx="51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, 1, 2, 3, 1, 2, 3, 2, 1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99640" y="1699920"/>
            <a:ext cx="7559640" cy="4624200"/>
          </a:xfrm>
          <a:prstGeom prst="rect">
            <a:avLst/>
          </a:prstGeom>
          <a:blipFill rotWithShape="0">
            <a:blip r:embed="rId1">
              <a:alphaModFix amt="80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Доктор прописал пациенту инъекци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Разъярённая вьюга замела тропинк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Шофёр вновь стал внимательно всматриваться во мрак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Караульный спрятался от ливня под кровлей здания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651640" y="1268280"/>
            <a:ext cx="3095640" cy="432000"/>
          </a:xfrm>
          <a:prstGeom prst="rect">
            <a:avLst/>
          </a:prstGeom>
          <a:gradFill rotWithShape="0">
            <a:gsLst>
              <a:gs pos="0">
                <a:srgbClr val="ffffcc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" name="Rectangle 9"/>
          <p:cNvGrpSpPr/>
          <p:nvPr/>
        </p:nvGrpSpPr>
        <p:grpSpPr>
          <a:xfrm>
            <a:off x="396720" y="401760"/>
            <a:ext cx="7845480" cy="866520"/>
            <a:chOff x="396720" y="401760"/>
            <a:chExt cx="7845480" cy="866520"/>
          </a:xfrm>
        </p:grpSpPr>
        <p:pic>
          <p:nvPicPr>
            <p:cNvPr id="264" name="Rectangle 9" descr=""/>
            <p:cNvPicPr/>
            <p:nvPr/>
          </p:nvPicPr>
          <p:blipFill>
            <a:blip r:embed="rId2"/>
            <a:stretch/>
          </p:blipFill>
          <p:spPr>
            <a:xfrm>
              <a:off x="397800" y="401760"/>
              <a:ext cx="784224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96720" y="404640"/>
              <a:ext cx="78454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Замените синонимами  все слова в предложении 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259920"/>
            <a:ext cx="91440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илистически окрашенные слова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это такие слова, которые употребляются только в определенных стилях. К ним относятс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учная лексика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слова, употребляемые в области науки, образования, техники: кислород, радиу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литическая лексика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 - слова, употребляемые в политическом, общественной жизни: Верховная Рада, депутат, митинг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азговорная лексика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слова, которые используют в устной, преимущественно бытовом общении: бездельничать, велик, видик.</a:t>
            </a: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08000" y="333360"/>
            <a:ext cx="90360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В художественных произведениях разговорная лексика употребляется для характеристики персонажей. Слово может иметь дополнительную экспрессивную окраску – положительную или отрицательную, и тогда она будет дополнением к лексическому значению. Например, в паре слов </a:t>
            </a:r>
            <a:r>
              <a:rPr b="0" i="1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лошадь – кляч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 одно слово не несет дополнительной окраски (определите какое), другое имеет отрицательную окраск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79280" y="1412640"/>
            <a:ext cx="8785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Над Герасимом, однако,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глумиться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 не все решались: он шуток не любил. 2. «Госпожа, – думал он [дворецкий], посиживая у окна, – конечно,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жалует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 Герасима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Гавриле хорошо это было известно, и оттого он сам ему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потакал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)». 3. «А ты остался, гусь, на улице. Ах ты,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забубенный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 человек!»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(И.Тургенев</a:t>
            </a:r>
            <a:r>
              <a:rPr b="0" i="1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Определите значение выделенных слов. Какую окраску они имеют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9:55:09Z</dcterms:created>
  <dc:creator>*</dc:creator>
  <dc:description/>
  <dc:language>en-US</dc:language>
  <cp:lastModifiedBy>user</cp:lastModifiedBy>
  <dcterms:modified xsi:type="dcterms:W3CDTF">2024-01-29T15:18:47Z</dcterms:modified>
  <cp:revision>46</cp:revision>
  <dc:subject/>
  <dc:title>Путешествие в Страну Лексики и Фразе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