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camera.wav" ContentType="audio/x-wav"/>
  <Override PartName="/ppt/media/image12.jpeg" ContentType="image/jpeg"/>
  <Override PartName="/ppt/media/image13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66BA-05D0-411B-95AF-1EE58E8CC1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2120-3F0B-422C-9B03-3E0424FC44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FAD-B645-4E6F-AB25-73D2B2BB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2796-E0A8-4E17-B9CB-E5912EAE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82D4-34D6-429D-BD17-3D840236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893-F4CC-4B1E-A470-6A998700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8DC5-F0F8-4230-A0B7-449DC4A26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634E-00C9-41F2-A513-511A21E2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6123-E321-42E4-9DDA-0417F4B6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AE75-5597-4639-867D-628DFE3C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2EF9-1987-4410-9CA3-C95A0ECB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03CE-A2A1-4012-AB88-FE823BAF0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532B-53F9-4990-AAE4-E3BE5EC9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CC5-1505-4C5C-B657-843B4576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4672-978C-4307-8C39-FD180FEA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D383-0B38-4883-AD7A-183E3127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8D243-1D04-4AF4-B288-6C078EC6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C4BE-0E00-4FD6-A006-E291AE76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AA8C-7985-4E42-B914-CB0296D4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78756-3EEB-43A9-A5CA-A180B935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86CCF-DAE1-4E27-8D73-7175F783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8B2E0-2F00-4F75-AC52-643127A7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B30FA-1845-4D29-B99E-F014D034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B7C34-CBAD-42CA-840E-63295C23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F8DB-F163-4CBF-9108-B3673917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4E31B-9097-489D-B9EA-A4447A29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8B535-8E59-488F-9682-C45C9683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46404-3CB8-4F0C-8F5F-764791A1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17503-E865-4E47-B7B5-998E0F53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BE9B8-CEC3-41E0-BC8A-297E4233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4C52D-4D1F-49E9-8D9F-A0BD6C49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D295A-26B8-406E-BC53-EA86925C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A1B48-8681-423A-86CB-B6F40122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14ED6-1488-4D45-BFDC-4CE5F8BF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B21FE-9983-4B98-B03B-548BDBC6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F60-9E5C-4A4E-913F-49257334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A4EA8-BFC8-447F-9184-8024761C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40B1F-3662-4881-896A-0EB68CC9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8DB1E-1F6B-4092-8405-3B916635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98659-A3DA-4B4D-BC1F-93FB06A0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C5082-BEC5-4A1B-A3FE-4E746934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800FA-CD19-4B61-BBA9-9C4643CD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ABF4F-8A8A-41E5-84C8-52D28E0D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E7E6C-D1DD-47F4-AC9A-17151A8D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980B5-10BF-4267-801B-C1FC0DCD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777EC-CF3B-445C-B0DF-CCB778E0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921F-D770-4B32-87EC-16E0E867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AD0FA-3943-44A7-95C8-D5BA93FE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36009-6108-47D5-9A22-3430D26F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A7895-3005-4E97-B61D-765BB735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FB83B-E83C-4E44-A3F0-D3833C20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94382-3D93-427B-A947-3F64D271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1FAEF-A341-4036-B330-17FD3BFB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BFD23-52E5-4632-A6E6-05EBCF8B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034FB-B07B-41DE-95D6-3867279B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F5DF0-5C1B-4D99-8B75-F7D871D1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D616A-7643-47A9-8449-492F3FAF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0BD-A772-4FC5-96AF-4E1E7BC2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4F012-ABE5-4057-A1A7-4DD410BE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E20-A6F7-4A70-8E53-49BC70B2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9AF6-D40B-4F64-AFEE-87474588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F2C5-3B98-4047-8498-E00F2DF1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7F32-A48F-46D5-B5E8-498566B2417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FC3B-16BD-4C65-B3DC-9D1B50EC4FA4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F886-A234-4D14-8B6D-F65656DCCD9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50A2-0102-40CE-ACC8-A993F50AE7D5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3BD3-7E25-4718-AEC0-F7161107931F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«Лексика и фразеология»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5640" y="5300640"/>
            <a:ext cx="7201080" cy="24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2060"/>
              </a:solidFill>
              <a:latin typeface="Times New Roman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755640" y="33336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 русского языка в 8 класс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1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26836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8000" y="764640"/>
            <a:ext cx="91440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Calibri"/>
              </a:rPr>
              <a:t>     </a:t>
            </a:r>
            <a:r>
              <a:rPr b="0" i="1" lang="ru-RU" sz="2400" spc="-1" strike="noStrike">
                <a:solidFill>
                  <a:srgbClr val="000066"/>
                </a:solidFill>
                <a:latin typeface="Times New Roman"/>
                <a:ea typeface="Calibri"/>
              </a:rPr>
              <a:t>Найдите в предложениях из рассказа И.Тургенева «Муму» просторечные и разговорные слова. Попробуйте заменить их нейтральными синонимами. Что изменится?</a:t>
            </a:r>
            <a:br>
              <a:rPr sz="2000"/>
            </a:br>
            <a:endParaRPr b="0" lang="en-US" sz="2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79280" y="1268280"/>
            <a:ext cx="8785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1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Calibri"/>
              </a:rPr>
              <a:t>1. Капитон вытаращил глаза и отделился от стены. 2. – Ну, чего же ты всколыхнулся? ...Разве она тебе не по нраву? 3. А то в другой раз, заметив, что Капитон... как-то слишком любезно раскланялся с Татьяной, Герасим подозвал его к себе пальцем, отвел в каретный сарай... 4. Улыбается, мычит, махает руками, ленту вдруг вытащит из-за пазухи и всучит ей..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979640" y="1341360"/>
            <a:ext cx="4788000" cy="5112000"/>
          </a:xfrm>
          <a:prstGeom prst="rect">
            <a:avLst/>
          </a:prstGeom>
          <a:gradFill rotWithShape="0">
            <a:gsLst>
              <a:gs pos="0">
                <a:srgbClr val="c9ddf1">
                  <a:alpha val="80000"/>
                </a:srgbClr>
              </a:gs>
              <a:gs pos="100000">
                <a:srgbClr val="ffffff">
                  <a:alpha val="80000"/>
                </a:srgbClr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Змея подколодна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Волк в овечьей шкуре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Козёл отпущ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Мокрая куриц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Глухая тетер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Слон в посудной лавке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Кот в мешке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</a:rPr>
              <a:t>Белая ворон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8496360" cy="865080"/>
          </a:xfrm>
          <a:prstGeom prst="rect">
            <a:avLst/>
          </a:prstGeom>
          <a:gradFill rotWithShape="0">
            <a:gsLst>
              <a:gs pos="0">
                <a:srgbClr val="c9ddf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             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Узнайте, подумайте, почему мы так говорим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Запишите  предложения с этими фразеологизмами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0" y="6308640"/>
            <a:ext cx="3276720" cy="549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6"/>
          <p:cNvSpPr/>
          <p:nvPr/>
        </p:nvSpPr>
        <p:spPr>
          <a:xfrm>
            <a:off x="17640" y="15840"/>
            <a:ext cx="3924000" cy="9367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a3d7a"/>
                </a:solidFill>
                <a:latin typeface="Verdana"/>
              </a:rPr>
              <a:t>НАЙДИ ПАР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a3d7a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2a3d7a"/>
                </a:solidFill>
                <a:latin typeface="Verdana"/>
              </a:rPr>
              <a:t>ФРАЗЕОЛОГИЗМ-АНТОНИ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AutoShape 8"/>
          <p:cNvSpPr/>
          <p:nvPr/>
        </p:nvSpPr>
        <p:spPr>
          <a:xfrm rot="1467000">
            <a:off x="395280" y="2276640"/>
            <a:ext cx="3816360" cy="1008000"/>
          </a:xfrm>
          <a:prstGeom prst="rightArrow">
            <a:avLst>
              <a:gd name="adj1" fmla="val 50000"/>
              <a:gd name="adj2" fmla="val 94652"/>
            </a:avLst>
          </a:prstGeom>
          <a:solidFill>
            <a:srgbClr val="c9ddf1">
              <a:alpha val="50000"/>
            </a:srgbClr>
          </a:solidFill>
          <a:ln w="9360">
            <a:solidFill>
              <a:srgbClr val="c9dd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 ГОРШКА ДВА ВЕРШ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AutoShape 9"/>
          <p:cNvSpPr/>
          <p:nvPr/>
        </p:nvSpPr>
        <p:spPr>
          <a:xfrm rot="1528800">
            <a:off x="2050920" y="1844640"/>
            <a:ext cx="3240360" cy="1079640"/>
          </a:xfrm>
          <a:prstGeom prst="leftArrow">
            <a:avLst>
              <a:gd name="adj1" fmla="val 50000"/>
              <a:gd name="adj2" fmla="val 75033"/>
            </a:avLst>
          </a:prstGeom>
          <a:solidFill>
            <a:srgbClr val="c9ddf1">
              <a:alpha val="50000"/>
            </a:srgbClr>
          </a:solidFill>
          <a:ln w="9360">
            <a:solidFill>
              <a:srgbClr val="c9dd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ВАРИВАТЬ КАШ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10"/>
          <p:cNvSpPr/>
          <p:nvPr/>
        </p:nvSpPr>
        <p:spPr>
          <a:xfrm rot="1362600">
            <a:off x="179280" y="3068280"/>
            <a:ext cx="3167280" cy="1008000"/>
          </a:xfrm>
          <a:prstGeom prst="rightArrow">
            <a:avLst>
              <a:gd name="adj1" fmla="val 50000"/>
              <a:gd name="adj2" fmla="val 78554"/>
            </a:avLst>
          </a:prstGeom>
          <a:solidFill>
            <a:srgbClr val="c9ddf1">
              <a:alpha val="50000"/>
            </a:srgbClr>
          </a:solidFill>
          <a:ln w="9360">
            <a:solidFill>
              <a:srgbClr val="c9dd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И  ЗГИ  НЕ  ВИД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11"/>
          <p:cNvSpPr/>
          <p:nvPr/>
        </p:nvSpPr>
        <p:spPr>
          <a:xfrm rot="1293600">
            <a:off x="394920" y="4076640"/>
            <a:ext cx="3168720" cy="1008000"/>
          </a:xfrm>
          <a:prstGeom prst="rightArrow">
            <a:avLst>
              <a:gd name="adj1" fmla="val 50000"/>
              <a:gd name="adj2" fmla="val 78589"/>
            </a:avLst>
          </a:prstGeom>
          <a:solidFill>
            <a:srgbClr val="c9ddf1">
              <a:alpha val="50000"/>
            </a:srgbClr>
          </a:solidFill>
          <a:ln w="9360">
            <a:solidFill>
              <a:srgbClr val="c9dd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СПРЯНУТЬ ДУХ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12"/>
          <p:cNvSpPr/>
          <p:nvPr/>
        </p:nvSpPr>
        <p:spPr>
          <a:xfrm rot="1945800">
            <a:off x="3347640" y="1699920"/>
            <a:ext cx="3672000" cy="1008000"/>
          </a:xfrm>
          <a:prstGeom prst="leftArrow">
            <a:avLst>
              <a:gd name="adj1" fmla="val 50000"/>
              <a:gd name="adj2" fmla="val 91071"/>
            </a:avLst>
          </a:prstGeom>
          <a:solidFill>
            <a:srgbClr val="c9ddf1">
              <a:alpha val="50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ОЛОМЕНСКАЯ ВЕРС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13"/>
          <p:cNvSpPr/>
          <p:nvPr/>
        </p:nvSpPr>
        <p:spPr>
          <a:xfrm rot="19855200">
            <a:off x="4859280" y="3428640"/>
            <a:ext cx="3816360" cy="936720"/>
          </a:xfrm>
          <a:prstGeom prst="leftArrow">
            <a:avLst>
              <a:gd name="adj1" fmla="val 50000"/>
              <a:gd name="adj2" fmla="val 101854"/>
            </a:avLst>
          </a:prstGeom>
          <a:solidFill>
            <a:srgbClr val="c9ddf1">
              <a:alpha val="50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ХОТЬ ИГОЛКИ СОБИРА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14"/>
          <p:cNvSpPr/>
          <p:nvPr/>
        </p:nvSpPr>
        <p:spPr>
          <a:xfrm rot="19750800">
            <a:off x="3708000" y="3428640"/>
            <a:ext cx="2592360" cy="1008000"/>
          </a:xfrm>
          <a:prstGeom prst="leftArrow">
            <a:avLst>
              <a:gd name="adj1" fmla="val 50000"/>
              <a:gd name="adj2" fmla="val 64295"/>
            </a:avLst>
          </a:prstGeom>
          <a:solidFill>
            <a:srgbClr val="c9ddf1">
              <a:alpha val="4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ВЕСИТЬ НО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AutoShape 15"/>
          <p:cNvSpPr/>
          <p:nvPr/>
        </p:nvSpPr>
        <p:spPr>
          <a:xfrm rot="1156200">
            <a:off x="0" y="4941720"/>
            <a:ext cx="3529080" cy="863640"/>
          </a:xfrm>
          <a:prstGeom prst="rightArrow">
            <a:avLst>
              <a:gd name="adj1" fmla="val 50000"/>
              <a:gd name="adj2" fmla="val 102157"/>
            </a:avLst>
          </a:prstGeom>
          <a:solidFill>
            <a:srgbClr val="c9ddf1">
              <a:alpha val="60000"/>
            </a:srgbClr>
          </a:solidFill>
          <a:ln w="9360">
            <a:solidFill>
              <a:srgbClr val="c9dd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АСХЛЁБЫВАТЬ КАШ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179280" y="5877000"/>
            <a:ext cx="1944720" cy="765000"/>
          </a:xfrm>
          <a:prstGeom prst="rightArrow">
            <a:avLst>
              <a:gd name="adj1" fmla="val 50000"/>
              <a:gd name="adj2" fmla="val 63553"/>
            </a:avLst>
          </a:prstGeom>
          <a:solidFill>
            <a:srgbClr val="c9ddf1">
              <a:alpha val="50000"/>
            </a:srgbClr>
          </a:solidFill>
          <a:ln w="9360">
            <a:solidFill>
              <a:srgbClr val="c9dd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УТЬ СВ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17"/>
          <p:cNvSpPr/>
          <p:nvPr/>
        </p:nvSpPr>
        <p:spPr>
          <a:xfrm rot="1744200">
            <a:off x="6516720" y="1483920"/>
            <a:ext cx="2448000" cy="1008000"/>
          </a:xfrm>
          <a:prstGeom prst="leftArrow">
            <a:avLst>
              <a:gd name="adj1" fmla="val 50000"/>
              <a:gd name="adj2" fmla="val 60714"/>
            </a:avLst>
          </a:prstGeom>
          <a:solidFill>
            <a:srgbClr val="c9ddf1">
              <a:alpha val="4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 НОЧЬ ГЛЯД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AutoShape 18"/>
          <p:cNvSpPr/>
          <p:nvPr/>
        </p:nvSpPr>
        <p:spPr>
          <a:xfrm rot="1827600">
            <a:off x="4859280" y="1699920"/>
            <a:ext cx="3276720" cy="936720"/>
          </a:xfrm>
          <a:prstGeom prst="leftArrow">
            <a:avLst>
              <a:gd name="adj1" fmla="val 50000"/>
              <a:gd name="adj2" fmla="val 87452"/>
            </a:avLst>
          </a:prstGeom>
          <a:solidFill>
            <a:srgbClr val="c9ddf1">
              <a:alpha val="50000"/>
            </a:srgbClr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ЖИТЬ ДУША В ДУШ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19"/>
          <p:cNvSpPr/>
          <p:nvPr/>
        </p:nvSpPr>
        <p:spPr>
          <a:xfrm rot="1084800">
            <a:off x="3276720" y="5013360"/>
            <a:ext cx="3671640" cy="936720"/>
          </a:xfrm>
          <a:prstGeom prst="rightArrow">
            <a:avLst>
              <a:gd name="adj1" fmla="val 50000"/>
              <a:gd name="adj2" fmla="val 97992"/>
            </a:avLst>
          </a:prstGeom>
          <a:solidFill>
            <a:srgbClr val="c9ddf1">
              <a:alpha val="5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К КОШКА С СОБАК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AutoShape 20"/>
          <p:cNvSpPr/>
          <p:nvPr/>
        </p:nvSpPr>
        <p:spPr>
          <a:xfrm rot="20413200">
            <a:off x="2484360" y="5660640"/>
            <a:ext cx="2376720" cy="792360"/>
          </a:xfrm>
          <a:prstGeom prst="rightArrow">
            <a:avLst>
              <a:gd name="adj1" fmla="val 50000"/>
              <a:gd name="adj2" fmla="val 74989"/>
            </a:avLst>
          </a:prstGeom>
          <a:solidFill>
            <a:srgbClr val="c9ddf1">
              <a:alpha val="5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ДНИМ ДУХ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AutoShape 21"/>
          <p:cNvSpPr/>
          <p:nvPr/>
        </p:nvSpPr>
        <p:spPr>
          <a:xfrm rot="19993800">
            <a:off x="5364000" y="4076640"/>
            <a:ext cx="3946680" cy="792360"/>
          </a:xfrm>
          <a:prstGeom prst="leftArrow">
            <a:avLst>
              <a:gd name="adj1" fmla="val 50000"/>
              <a:gd name="adj2" fmla="val 124523"/>
            </a:avLst>
          </a:prstGeom>
          <a:solidFill>
            <a:srgbClr val="c9ddf1">
              <a:alpha val="4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ЧАС ПО ЧАЙНОЙ ЛОЖ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7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2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ac16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1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a3d7a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a3d7a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1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7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3e68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3e684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32000" y="151920"/>
            <a:ext cx="6696000" cy="9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2060"/>
                </a:solidFill>
                <a:latin typeface="Times New Roman"/>
              </a:rPr>
              <a:t>  </a:t>
            </a:r>
            <a:r>
              <a:rPr b="0" i="1" lang="ru-RU" sz="4400" spc="-1" strike="noStrike">
                <a:solidFill>
                  <a:srgbClr val="002060"/>
                </a:solidFill>
                <a:latin typeface="Times New Roman"/>
              </a:rPr>
              <a:t>Подбери фразеологизм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91" name="Picture 3" descr="Untitled14"/>
          <p:cNvPicPr/>
          <p:nvPr/>
        </p:nvPicPr>
        <p:blipFill>
          <a:blip r:embed="rId1"/>
          <a:stretch/>
        </p:blipFill>
        <p:spPr>
          <a:xfrm>
            <a:off x="5364000" y="1363680"/>
            <a:ext cx="2737080" cy="26971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Untitled16"/>
          <p:cNvPicPr/>
          <p:nvPr/>
        </p:nvPicPr>
        <p:blipFill>
          <a:blip r:embed="rId2"/>
          <a:stretch/>
        </p:blipFill>
        <p:spPr>
          <a:xfrm>
            <a:off x="1476360" y="1341360"/>
            <a:ext cx="3006720" cy="2610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Untitled15"/>
          <p:cNvPicPr/>
          <p:nvPr/>
        </p:nvPicPr>
        <p:blipFill>
          <a:blip r:embed="rId3"/>
          <a:stretch/>
        </p:blipFill>
        <p:spPr>
          <a:xfrm>
            <a:off x="1547640" y="4221000"/>
            <a:ext cx="3086280" cy="2562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Untitled17"/>
          <p:cNvPicPr/>
          <p:nvPr/>
        </p:nvPicPr>
        <p:blipFill>
          <a:blip r:embed="rId4"/>
          <a:stretch/>
        </p:blipFill>
        <p:spPr>
          <a:xfrm>
            <a:off x="5380200" y="4221000"/>
            <a:ext cx="2720880" cy="26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mbria"/>
              </a:rPr>
              <a:t>Спасибо за внимание!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96" name="Рисунок 1" descr=""/>
          <p:cNvPicPr/>
          <p:nvPr/>
        </p:nvPicPr>
        <p:blipFill>
          <a:blip r:embed="rId1"/>
          <a:stretch/>
        </p:blipFill>
        <p:spPr>
          <a:xfrm>
            <a:off x="2411280" y="2724120"/>
            <a:ext cx="3635640" cy="36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Oval 10"/>
          <p:cNvSpPr/>
          <p:nvPr/>
        </p:nvSpPr>
        <p:spPr>
          <a:xfrm>
            <a:off x="147600" y="5645160"/>
            <a:ext cx="2879640" cy="7207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ЭПИТЕ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3419640" y="3421080"/>
            <a:ext cx="3097080" cy="9144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овосочет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Oval 8"/>
          <p:cNvSpPr/>
          <p:nvPr/>
        </p:nvSpPr>
        <p:spPr>
          <a:xfrm>
            <a:off x="228600" y="3502080"/>
            <a:ext cx="3238560" cy="1008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Verdana"/>
              </a:rPr>
              <a:t>Фразеологизм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6397560" y="4745160"/>
            <a:ext cx="2665440" cy="86364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едлож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Oval 6"/>
          <p:cNvSpPr/>
          <p:nvPr/>
        </p:nvSpPr>
        <p:spPr>
          <a:xfrm>
            <a:off x="6012000" y="2781360"/>
            <a:ext cx="2808000" cy="7189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РАВН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Oval 5"/>
          <p:cNvSpPr/>
          <p:nvPr/>
        </p:nvSpPr>
        <p:spPr>
          <a:xfrm>
            <a:off x="5076720" y="2046240"/>
            <a:ext cx="2880000" cy="7192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ЕТАФОР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67960" y="188640"/>
            <a:ext cx="651852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Кто жители? Кто гости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000" y="5734080"/>
            <a:ext cx="331164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317080" y="1916280"/>
            <a:ext cx="2253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                 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76320" y="1268280"/>
            <a:ext cx="3024000" cy="9144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Сло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Oval 12"/>
          <p:cNvSpPr/>
          <p:nvPr/>
        </p:nvSpPr>
        <p:spPr>
          <a:xfrm>
            <a:off x="250920" y="2421000"/>
            <a:ext cx="4968720" cy="1008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Verdana"/>
              </a:rPr>
              <a:t>Однозначны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Verdana"/>
              </a:rPr>
              <a:t>и многозначные сло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Oval 12"/>
          <p:cNvSpPr/>
          <p:nvPr/>
        </p:nvSpPr>
        <p:spPr>
          <a:xfrm>
            <a:off x="6415200" y="3421080"/>
            <a:ext cx="2728800" cy="108900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антони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Oval 12"/>
          <p:cNvSpPr/>
          <p:nvPr/>
        </p:nvSpPr>
        <p:spPr>
          <a:xfrm>
            <a:off x="6181560" y="5907240"/>
            <a:ext cx="2881440" cy="9172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Синони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Oval 12"/>
          <p:cNvSpPr/>
          <p:nvPr/>
        </p:nvSpPr>
        <p:spPr>
          <a:xfrm>
            <a:off x="3179880" y="4505400"/>
            <a:ext cx="3287520" cy="9367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Омони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Oval 5"/>
          <p:cNvSpPr/>
          <p:nvPr/>
        </p:nvSpPr>
        <p:spPr>
          <a:xfrm>
            <a:off x="6089760" y="1252440"/>
            <a:ext cx="2879640" cy="71928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асти реч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Oval 5"/>
          <p:cNvSpPr/>
          <p:nvPr/>
        </p:nvSpPr>
        <p:spPr>
          <a:xfrm>
            <a:off x="3187800" y="1378080"/>
            <a:ext cx="2879640" cy="7189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вук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Oval 12"/>
          <p:cNvSpPr/>
          <p:nvPr/>
        </p:nvSpPr>
        <p:spPr>
          <a:xfrm>
            <a:off x="2982960" y="5486400"/>
            <a:ext cx="3287520" cy="9367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Verdana"/>
              </a:rPr>
              <a:t>Стилистическ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Verdana"/>
              </a:rPr>
              <a:t>окрашенные сл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Oval 10"/>
          <p:cNvSpPr/>
          <p:nvPr/>
        </p:nvSpPr>
        <p:spPr>
          <a:xfrm>
            <a:off x="147600" y="4662360"/>
            <a:ext cx="2879640" cy="720720"/>
          </a:xfrm>
          <a:prstGeom prst="ellipse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морфем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3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2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animClr clrSpc="rgb">
                                      <p:cBhvr>
                                        <p:cTn id="13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animClr clrSpc="rgb">
                                      <p:cBhvr>
                                        <p:cTn id="1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4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5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animClr clrSpc="rgb">
                                      <p:cBhvr>
                                        <p:cTn id="15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ae6a"/>
                                      </p:to>
                                    </p:animClr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) Слова, недавно вошедшие в употребление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) Слова, вошедшие в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ский язык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из других языков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) Слова, употребляемые жителями той или иной местности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) Слова, вышедшие из активного употребления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) Слова, которые называют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едметы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и явления, исчезнувшие из нашей жизни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) Специальные слова, обозначающие научные понятия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466560" y="773280"/>
            <a:ext cx="8569440" cy="155628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мствован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Box 10"/>
          <p:cNvSpPr/>
          <p:nvPr/>
        </p:nvSpPr>
        <p:spPr>
          <a:xfrm>
            <a:off x="455760" y="1755720"/>
            <a:ext cx="8580240" cy="106884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ек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Box 11"/>
          <p:cNvSpPr/>
          <p:nvPr/>
        </p:nvSpPr>
        <p:spPr>
          <a:xfrm>
            <a:off x="468360" y="2616120"/>
            <a:ext cx="8567640" cy="155628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аиз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250920" y="4869000"/>
            <a:ext cx="8729640" cy="155628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390600" y="3943440"/>
            <a:ext cx="8589960" cy="106884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з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Box 15"/>
          <p:cNvSpPr/>
          <p:nvPr/>
        </p:nvSpPr>
        <p:spPr>
          <a:xfrm>
            <a:off x="420840" y="63360"/>
            <a:ext cx="8569080" cy="5814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логиз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a3d7a"/>
                </a:solidFill>
                <a:latin typeface="Times New Roman"/>
              </a:rPr>
              <a:t>                </a:t>
            </a:r>
            <a:r>
              <a:rPr b="1" lang="ru-RU" sz="3600" spc="-1" strike="noStrike">
                <a:solidFill>
                  <a:srgbClr val="2a3d7a"/>
                </a:solidFill>
                <a:latin typeface="Times New Roman"/>
              </a:rPr>
              <a:t>Цифровой диктант 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50560" y="691920"/>
            <a:ext cx="8893080" cy="51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Знаменитый художник – известный художник;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умный ребенок – понятливый ребенок;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бальный наряд – наряд на уголь;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храбрец – трус;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почитать старших – уважать старших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дверной косяк – косяк рыбы;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крошечный кусочек – здоровенный кусок; зеленые косы березы – песчаная коса на море; смелый воин – храбрый воин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– синоним; 2 – омоним, 3 – антоним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847440"/>
          </a:xfrm>
          <a:prstGeom prst="rect">
            <a:avLst/>
          </a:prstGeom>
          <a:gradFill rotWithShape="0">
            <a:gsLst>
              <a:gs pos="0">
                <a:srgbClr val="c9ddf1">
                  <a:alpha val="70196"/>
                </a:srgbClr>
              </a:gs>
              <a:gs pos="100000">
                <a:srgbClr val="ffffff">
                  <a:alpha val="60392"/>
                </a:srgbClr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                        </a:t>
            </a: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ответ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59" name="Rectangle 3" descr=""/>
          <p:cNvPicPr/>
          <p:nvPr/>
        </p:nvPicPr>
        <p:blipFill>
          <a:blip r:embed="rId1"/>
          <a:stretch/>
        </p:blipFill>
        <p:spPr>
          <a:xfrm>
            <a:off x="469800" y="1268280"/>
            <a:ext cx="8204400" cy="285840"/>
          </a:xfrm>
          <a:prstGeom prst="rect">
            <a:avLst/>
          </a:prstGeom>
          <a:ln w="0">
            <a:noFill/>
          </a:ln>
        </p:spPr>
      </p:pic>
      <p:sp>
        <p:nvSpPr>
          <p:cNvPr id="260" name="TextBox 1"/>
          <p:cNvSpPr/>
          <p:nvPr/>
        </p:nvSpPr>
        <p:spPr>
          <a:xfrm>
            <a:off x="1782720" y="2425680"/>
            <a:ext cx="512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1, 1, 2, 3, 1, 2, 3, 2, 1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899640" y="1699920"/>
            <a:ext cx="7559640" cy="4624200"/>
          </a:xfrm>
          <a:prstGeom prst="rect">
            <a:avLst/>
          </a:prstGeom>
          <a:blipFill rotWithShape="0">
            <a:blip r:embed="rId1">
              <a:alphaModFix amt="80000"/>
            </a:blip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Georgia"/>
              </a:rPr>
              <a:t>Доктор прописал пациенту инъекции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Georgia"/>
              </a:rPr>
              <a:t>Разъярённая вьюга замела тропинки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Georgia"/>
              </a:rPr>
              <a:t>Шофёр вновь стал внимательно всматриваться во мрак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c00000"/>
                </a:solidFill>
                <a:latin typeface="Georgia"/>
              </a:rPr>
              <a:t>Караульный спрятался от ливня под кровлей здания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5651640" y="1268280"/>
            <a:ext cx="3095640" cy="432000"/>
          </a:xfrm>
          <a:prstGeom prst="rect">
            <a:avLst/>
          </a:prstGeom>
          <a:gradFill rotWithShape="0">
            <a:gsLst>
              <a:gs pos="0">
                <a:srgbClr val="ffffcc">
                  <a:alpha val="60392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3" name="Rectangle 9"/>
          <p:cNvGrpSpPr/>
          <p:nvPr/>
        </p:nvGrpSpPr>
        <p:grpSpPr>
          <a:xfrm>
            <a:off x="396720" y="401760"/>
            <a:ext cx="7845480" cy="866520"/>
            <a:chOff x="396720" y="401760"/>
            <a:chExt cx="7845480" cy="866520"/>
          </a:xfrm>
        </p:grpSpPr>
        <p:pic>
          <p:nvPicPr>
            <p:cNvPr id="264" name="Rectangle 9" descr=""/>
            <p:cNvPicPr/>
            <p:nvPr/>
          </p:nvPicPr>
          <p:blipFill>
            <a:blip r:embed="rId2"/>
            <a:stretch/>
          </p:blipFill>
          <p:spPr>
            <a:xfrm>
              <a:off x="397800" y="401760"/>
              <a:ext cx="7842240" cy="86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396720" y="404640"/>
              <a:ext cx="78454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Замените синонимами  все слова в предложении  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0" y="259920"/>
            <a:ext cx="91440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Стилистически окрашенные слова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Calibri"/>
              </a:rPr>
              <a:t>- это такие слова, которые употребляются только в определенных стилях. К ним относятся: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Calibri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учная лексика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Calibri"/>
              </a:rPr>
              <a:t>- слова, употребляемые в области науки, образования, техники: кислород, радиус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Calibri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Политическая лексика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Calibri"/>
              </a:rPr>
              <a:t> - слова, употребляемые в политическом, общественной жизни: Верховная Рада, депутат, митинг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Calibri"/>
              </a:rPr>
              <a:t>-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азговорная лексика 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  <a:ea typeface="Calibri"/>
              </a:rPr>
              <a:t>- слова, которые используют в устной, преимущественно бытовом общении: бездельничать, велик, видик.</a:t>
            </a:r>
            <a:br>
              <a:rPr sz="2800"/>
            </a:b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108000" y="333360"/>
            <a:ext cx="90360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5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Calibri"/>
              </a:rPr>
              <a:t>В художественных произведениях разговорная лексика употребляется для характеристики персонажей. Слово может иметь дополнительную экспрессивную окраску – положительную или отрицательную, и тогда она будет дополнением к лексическому значению. Например, в паре слов </a:t>
            </a:r>
            <a:r>
              <a:rPr b="0" i="1" lang="ru-RU" sz="3200" spc="-1" strike="noStrike">
                <a:solidFill>
                  <a:srgbClr val="5b5249"/>
                </a:solidFill>
                <a:latin typeface="Times New Roman"/>
                <a:ea typeface="Calibri"/>
              </a:rPr>
              <a:t>лошадь – кляча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  <a:ea typeface="Calibri"/>
              </a:rPr>
              <a:t> одно слово не несет дополнительной окраски (определите какое), другое имеет отрицательную окраску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79280" y="1412640"/>
            <a:ext cx="878544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1625"/>
                </a:solidFill>
                <a:latin typeface="Times New Roman"/>
                <a:ea typeface="Calibri"/>
              </a:rPr>
              <a:t>Над Герасимом, однако, </a:t>
            </a:r>
            <a:r>
              <a:rPr b="0" i="1" lang="ru-RU" sz="3200" spc="-1" strike="noStrike">
                <a:solidFill>
                  <a:srgbClr val="0a1625"/>
                </a:solidFill>
                <a:latin typeface="Times New Roman"/>
                <a:ea typeface="Calibri"/>
              </a:rPr>
              <a:t>глумиться</a:t>
            </a:r>
            <a:r>
              <a:rPr b="0" lang="ru-RU" sz="3200" spc="-1" strike="noStrike">
                <a:solidFill>
                  <a:srgbClr val="0a1625"/>
                </a:solidFill>
                <a:latin typeface="Times New Roman"/>
                <a:ea typeface="Calibri"/>
              </a:rPr>
              <a:t> не все решались: он шуток не любил. 2. «Госпожа, – думал он [дворецкий], посиживая у окна, – конечно, </a:t>
            </a:r>
            <a:r>
              <a:rPr b="0" i="1" lang="ru-RU" sz="3200" spc="-1" strike="noStrike">
                <a:solidFill>
                  <a:srgbClr val="0a1625"/>
                </a:solidFill>
                <a:latin typeface="Times New Roman"/>
                <a:ea typeface="Calibri"/>
              </a:rPr>
              <a:t>жалует</a:t>
            </a:r>
            <a:r>
              <a:rPr b="0" lang="ru-RU" sz="3200" spc="-1" strike="noStrike">
                <a:solidFill>
                  <a:srgbClr val="0a1625"/>
                </a:solidFill>
                <a:latin typeface="Times New Roman"/>
                <a:ea typeface="Calibri"/>
              </a:rPr>
              <a:t> Герасима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a1625"/>
                </a:solidFill>
                <a:latin typeface="Times New Roman"/>
                <a:ea typeface="Calibri"/>
              </a:rPr>
              <a:t>Гавриле хорошо это было известно, и оттого он сам ему </a:t>
            </a:r>
            <a:r>
              <a:rPr b="0" i="1" lang="ru-RU" sz="3200" spc="-1" strike="noStrike">
                <a:solidFill>
                  <a:srgbClr val="0a1625"/>
                </a:solidFill>
                <a:latin typeface="Times New Roman"/>
                <a:ea typeface="Calibri"/>
              </a:rPr>
              <a:t>потакал</a:t>
            </a:r>
            <a:r>
              <a:rPr b="0" lang="ru-RU" sz="3200" spc="-1" strike="noStrike">
                <a:solidFill>
                  <a:srgbClr val="0a1625"/>
                </a:solidFill>
                <a:latin typeface="Times New Roman"/>
                <a:ea typeface="Calibri"/>
              </a:rPr>
              <a:t>)». 3. «А ты остался, гусь, на улице. Ах ты, </a:t>
            </a:r>
            <a:r>
              <a:rPr b="0" i="1" lang="ru-RU" sz="3200" spc="-1" strike="noStrike">
                <a:solidFill>
                  <a:srgbClr val="0a1625"/>
                </a:solidFill>
                <a:latin typeface="Times New Roman"/>
                <a:ea typeface="Calibri"/>
              </a:rPr>
              <a:t>забубенный</a:t>
            </a:r>
            <a:r>
              <a:rPr b="0" lang="ru-RU" sz="3200" spc="-1" strike="noStrike">
                <a:solidFill>
                  <a:srgbClr val="0a1625"/>
                </a:solidFill>
                <a:latin typeface="Times New Roman"/>
                <a:ea typeface="Calibri"/>
              </a:rPr>
              <a:t> человек!» </a:t>
            </a:r>
            <a:r>
              <a:rPr b="0" i="1" lang="ru-RU" sz="3200" spc="-1" strike="noStrike">
                <a:solidFill>
                  <a:srgbClr val="0a1625"/>
                </a:solidFill>
                <a:latin typeface="Times New Roman"/>
                <a:ea typeface="Calibri"/>
              </a:rPr>
              <a:t>(И.Тургенев</a:t>
            </a:r>
            <a:r>
              <a:rPr b="0" i="1" lang="ru-RU" sz="3200" spc="-1" strike="noStrike">
                <a:solidFill>
                  <a:srgbClr val="5b5249"/>
                </a:solidFill>
                <a:latin typeface="Times New Roman"/>
                <a:ea typeface="Calibri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r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Calibri"/>
              </a:rPr>
              <a:t>Определите значение выделенных слов. Какую окраску они имеют?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  <a:ea typeface="Calibri"/>
              </a:rPr>
              <a:t>	</a:t>
            </a:r>
            <a:br>
              <a:rPr sz="2400"/>
            </a:b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09:55:09Z</dcterms:created>
  <dc:creator>*</dc:creator>
  <dc:description/>
  <dc:language>en-US</dc:language>
  <cp:lastModifiedBy>user</cp:lastModifiedBy>
  <dcterms:modified xsi:type="dcterms:W3CDTF">2024-01-29T15:18:47Z</dcterms:modified>
  <cp:revision>46</cp:revision>
  <dc:subject/>
  <dc:title>Путешествие в Страну Лексики и Фразе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