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749-1D5C-4B2D-B301-522B6E42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AAC-A979-4CD7-804D-B33589B5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664-7D8D-43C5-A6C1-E504C677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C4E-175C-49F9-B3A3-77E1EBA2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C8A-46FE-4A86-99A8-3B029B3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E7A-E911-40E4-8776-DCCE1C00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F0C-1A8B-429D-B330-09286E8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CBE4-FCE3-48BB-B218-131DB8E0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115-9C56-48BC-9F93-32C5D070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C7C-7D65-407D-8994-FB488D16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681C-7190-4FA6-A761-7D1DE87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ED9-2540-420E-8AFE-A40DCE24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BBD-21F2-4855-82CD-1B5D346DA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9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0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ставка.mp3" descr=""/>
          <p:cNvPicPr/>
          <p:nvPr/>
        </p:nvPicPr>
        <p:blipFill>
          <a:blip r:embed="rId2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Елена\Desktop\Khsm_logo_big.jpg"/>
          <p:cNvPicPr/>
          <p:nvPr/>
        </p:nvPicPr>
        <p:blipFill>
          <a:blip r:embed="rId3"/>
          <a:srcRect l="10293" t="0" r="78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94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762120" y="510552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нимальная ячейка оперативной памяти компьют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5642280" y="6324480"/>
            <a:ext cx="122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ло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060280" y="6324480"/>
            <a:ext cx="619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65960" y="5867280"/>
            <a:ext cx="1363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ло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984680" y="5867280"/>
            <a:ext cx="761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6172200" y="25146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6"/>
          <p:cNvSpPr/>
          <p:nvPr/>
        </p:nvSpPr>
        <p:spPr>
          <a:xfrm>
            <a:off x="6172200" y="2819520"/>
            <a:ext cx="83808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4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9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86" dur="indefinite" restart="never" nodeType="tmRoot">
          <p:childTnLst>
            <p:seq>
              <p:cTn id="787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788" nodeType="clickEffect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892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685800" y="502920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вес будет у 50 килограммового те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909080" y="5867280"/>
            <a:ext cx="718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5642640" y="6324480"/>
            <a:ext cx="860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490720" y="5867280"/>
            <a:ext cx="1002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0 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721880" y="6321600"/>
            <a:ext cx="121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000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6172200" y="22860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6172200" y="2590920"/>
            <a:ext cx="838080" cy="19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8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1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6" dur="indefinite" restart="never" nodeType="tmRoot">
          <p:childTnLst>
            <p:seq>
              <p:cTn id="897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898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0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0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8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7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958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2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963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9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8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7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7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7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1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8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86" nodeType="clickEffect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9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0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689040" y="518148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 является … чис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1909800" y="5867280"/>
            <a:ext cx="1047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4830480" y="6357960"/>
            <a:ext cx="2530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ррацион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5011200" y="5837400"/>
            <a:ext cx="1989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тураль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1724040" y="6321600"/>
            <a:ext cx="212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цион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6248520" y="203832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6"/>
          <p:cNvSpPr/>
          <p:nvPr/>
        </p:nvSpPr>
        <p:spPr>
          <a:xfrm>
            <a:off x="6172200" y="2343240"/>
            <a:ext cx="990720" cy="22287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6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3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6" dur="indefinite" restart="never" nodeType="tmRoot">
          <p:childTnLst>
            <p:seq>
              <p:cTn id="100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2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8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068" nodeType="clickEffect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0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7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78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8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96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0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762120" y="502920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то является отцом математи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1584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1584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1600560" y="6321600"/>
            <a:ext cx="130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1604520" y="5867280"/>
            <a:ext cx="1451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5111640" y="5867280"/>
            <a:ext cx="1127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вкл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5262480" y="6324480"/>
            <a:ext cx="1054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6095880" y="175248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6095880" y="2057400"/>
            <a:ext cx="1143000" cy="2514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32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59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16" dur="indefinite" restart="never" nodeType="tmRoot">
          <p:childTnLst>
            <p:seq>
              <p:cTn id="111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2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5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3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17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18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1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7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1188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9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5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1206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1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3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214" nodeType="clickEffect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222" nodeType="clickEffect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09480" y="510552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ись числа 15 в шестнадцатеричной сис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числ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364480" y="63244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5870520" y="6324480"/>
            <a:ext cx="406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5869800" y="58672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2364480" y="5867280"/>
            <a:ext cx="365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6095880" y="1523880"/>
            <a:ext cx="12193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6"/>
          <p:cNvSpPr/>
          <p:nvPr/>
        </p:nvSpPr>
        <p:spPr>
          <a:xfrm>
            <a:off x="6095880" y="1828800"/>
            <a:ext cx="12193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909720" y="304920"/>
            <a:ext cx="330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64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279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6" dur="indefinite" restart="never" nodeType="tmRoot">
          <p:childTnLst>
            <p:seq>
              <p:cTn id="122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228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263" nodeType="clickEffect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6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8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8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2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283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7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288" nodeType="clickEffect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293" nodeType="clickEffect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2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29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2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открыл атмосферу на Вене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684440" y="5867280"/>
            <a:ext cx="2149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алилео Гали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8"/>
          <p:cNvSpPr/>
          <p:nvPr/>
        </p:nvSpPr>
        <p:spPr>
          <a:xfrm>
            <a:off x="1859040" y="6353280"/>
            <a:ext cx="147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959720" y="5886360"/>
            <a:ext cx="1192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хи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4802760" y="6324480"/>
            <a:ext cx="1238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рч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6095880" y="12952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6"/>
          <p:cNvSpPr/>
          <p:nvPr/>
        </p:nvSpPr>
        <p:spPr>
          <a:xfrm>
            <a:off x="6019920" y="1600200"/>
            <a:ext cx="1295280" cy="2971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6"/>
          <p:cNvSpPr/>
          <p:nvPr/>
        </p:nvSpPr>
        <p:spPr>
          <a:xfrm>
            <a:off x="2286000" y="2274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8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25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Овал 19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00" name="Овал 19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6" dur="indefinite" restart="never" nodeType="tmRoot">
          <p:childTnLst>
            <p:seq>
              <p:cTn id="133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133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4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137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8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3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8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139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39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403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4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1408" nodeType="clickEffect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6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1426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3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1434" nodeType="clickEffect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762120" y="5029200"/>
            <a:ext cx="6781680" cy="3373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то из учёных родился в день рождения числа П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1754280" y="5867280"/>
            <a:ext cx="829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жоб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5352120" y="6324480"/>
            <a:ext cx="12002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йнштей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266080" y="5867280"/>
            <a:ext cx="10724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ифаг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1684080" y="6324480"/>
            <a:ext cx="15400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ль- Хоре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095880" y="106668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6"/>
          <p:cNvSpPr/>
          <p:nvPr/>
        </p:nvSpPr>
        <p:spPr>
          <a:xfrm>
            <a:off x="6019920" y="1371600"/>
            <a:ext cx="1295280" cy="3200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7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50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20" name="Овал 18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6" dur="indefinite" restart="never" nodeType="tmRoot">
          <p:childTnLst>
            <p:seq>
              <p:cTn id="144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448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45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2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483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8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50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2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513" nodeType="clickEffect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51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518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2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6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5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536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4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3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544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5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762120" y="495288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втор слов: «Математику уже затем учить надо, что она ум в порядок приводит.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5394600" y="6305400"/>
            <a:ext cx="1230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лута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5336280" y="5867280"/>
            <a:ext cx="162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1753920" y="6324480"/>
            <a:ext cx="1684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1832400" y="5867280"/>
            <a:ext cx="131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хим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6095880" y="762120"/>
            <a:ext cx="1219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6"/>
          <p:cNvSpPr/>
          <p:nvPr/>
        </p:nvSpPr>
        <p:spPr>
          <a:xfrm>
            <a:off x="6095880" y="1143000"/>
            <a:ext cx="1067040" cy="34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27"/>
          <p:cNvSpPr/>
          <p:nvPr/>
        </p:nvSpPr>
        <p:spPr>
          <a:xfrm>
            <a:off x="2209680" y="2209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8"/>
          <p:cNvSpPr/>
          <p:nvPr/>
        </p:nvSpPr>
        <p:spPr>
          <a:xfrm>
            <a:off x="910800" y="3049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500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Овал 19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341" name="Овал 19" descr=""/>
            <p:cNvPicPr/>
            <p:nvPr/>
          </p:nvPicPr>
          <p:blipFill>
            <a:blip r:embed="rId2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56" dur="indefinite" restart="never" nodeType="tmRoot">
          <p:childTnLst>
            <p:seq>
              <p:cTn id="1557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558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56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3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3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1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5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646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4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3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654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6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6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662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- миллионер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6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0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49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1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0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nodeType="clickEffect" fill="hold">
                      <p:stCondLst>
                        <p:cond delay="0"/>
                      </p:stCondLst>
                      <p:childTnLst>
                        <p:par>
                          <p:cTn id="1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0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2"/>
          <p:cNvSpPr/>
          <p:nvPr/>
        </p:nvSpPr>
        <p:spPr>
          <a:xfrm>
            <a:off x="152280" y="152280"/>
            <a:ext cx="5639040" cy="6477120"/>
          </a:xfrm>
          <a:custGeom>
            <a:avLst/>
            <a:gdLst>
              <a:gd name="textAreaLeft" fmla="*/ 275040 w 5639040"/>
              <a:gd name="textAreaRight" fmla="*/ 5364000 w 5639040"/>
              <a:gd name="textAreaTop" fmla="*/ 275040 h 6477120"/>
              <a:gd name="textAreaBottom" fmla="*/ 6202080 h 6477120"/>
            </a:gdLst>
            <a:ahLst/>
            <a:rect l="textAreaLeft" t="textAreaTop" r="textAreaRight" b="textAreaBottom"/>
            <a:pathLst>
              <a:path w="21600" h="24810">
                <a:moveTo>
                  <a:pt x="3600" y="0"/>
                </a:moveTo>
                <a:arcTo wR="3600" hR="3600" stAng="16200000" swAng="-5400000"/>
                <a:lnTo>
                  <a:pt x="0" y="21210"/>
                </a:lnTo>
                <a:arcTo wR="3600" hR="3600" stAng="10800000" swAng="-5400000"/>
                <a:lnTo>
                  <a:pt x="18000" y="248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81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и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гре есть понятие "несгораемая сумма". Её нельзя проиграть, даже если после был дан неправильный от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всю игру игроку даётся т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ДСКАЗ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50 на 50» - компьютер скроет два ошибочных ответа, оставив лишь правильный вариант и один не правильный. Это позволяет легко пройти очередной ша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вонок другу» - возможность позвонить любому своему знакомому и попросить подсказать отв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мощь зала» - зрители, пришедшие посмотреть игру, подсказывают свои варианты ответов, которые при желании можно при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53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10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0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Снимок"/>
          <p:cNvPicPr/>
          <p:nvPr/>
        </p:nvPicPr>
        <p:blipFill>
          <a:blip r:embed="rId1"/>
          <a:srcRect l="0" t="10324" r="1638" b="1656"/>
          <a:stretch/>
        </p:blipFill>
        <p:spPr>
          <a:xfrm>
            <a:off x="2133720" y="152280"/>
            <a:ext cx="5105160" cy="4102200"/>
          </a:xfrm>
          <a:prstGeom prst="rect">
            <a:avLst/>
          </a:prstGeom>
          <a:ln w="0">
            <a:noFill/>
          </a:ln>
        </p:spPr>
      </p:pic>
      <p:sp>
        <p:nvSpPr>
          <p:cNvPr id="357" name="WordArt 8"/>
          <p:cNvSpPr txBox="1"/>
          <p:nvPr/>
        </p:nvSpPr>
        <p:spPr>
          <a:xfrm>
            <a:off x="2133720" y="43434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здравляем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 – выиграли 32 000 !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AutoShape 10">
            <a:hlinkClick r:id="" action="ppaction://hlinkshowjump?jump=endshow"/>
          </p:cNvPr>
          <p:cNvSpPr/>
          <p:nvPr/>
        </p:nvSpPr>
        <p:spPr>
          <a:xfrm>
            <a:off x="6934320" y="6477120"/>
            <a:ext cx="2133360" cy="380880"/>
          </a:xfrm>
          <a:custGeom>
            <a:avLst/>
            <a:gdLst>
              <a:gd name="textAreaLeft" fmla="*/ 24480 w 2133360"/>
              <a:gd name="textAreaRight" fmla="*/ 2108880 w 2133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0891" h="21600">
                <a:moveTo>
                  <a:pt x="0" y="0"/>
                </a:moveTo>
                <a:lnTo>
                  <a:pt x="120891" y="0"/>
                </a:lnTo>
                <a:lnTo>
                  <a:pt x="120891" y="21600"/>
                </a:lnTo>
                <a:lnTo>
                  <a:pt x="0" y="21600"/>
                </a:lnTo>
                <a:close/>
              </a:path>
              <a:path fill="lightenLess" w="120891" h="21600">
                <a:moveTo>
                  <a:pt x="0" y="0"/>
                </a:moveTo>
                <a:lnTo>
                  <a:pt x="120891" y="0"/>
                </a:lnTo>
                <a:lnTo>
                  <a:pt x="119491" y="1400"/>
                </a:lnTo>
                <a:lnTo>
                  <a:pt x="1400" y="1400"/>
                </a:lnTo>
                <a:close/>
              </a:path>
              <a:path fill="darken" w="120891" h="21600">
                <a:moveTo>
                  <a:pt x="120891" y="0"/>
                </a:moveTo>
                <a:lnTo>
                  <a:pt x="120891" y="21600"/>
                </a:lnTo>
                <a:lnTo>
                  <a:pt x="119491" y="20200"/>
                </a:lnTo>
                <a:lnTo>
                  <a:pt x="119491" y="1400"/>
                </a:lnTo>
                <a:close/>
              </a:path>
              <a:path fill="darkenLess" w="120891" h="21600">
                <a:moveTo>
                  <a:pt x="1208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491" y="20200"/>
                </a:lnTo>
                <a:close/>
              </a:path>
              <a:path fill="lighten" w="1208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 из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nodeType="clickEffect" fill="hold">
                      <p:stCondLst>
                        <p:cond delay="0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635040" y="5181480"/>
            <a:ext cx="7086600" cy="3682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ой последний месяц года с 31 дн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865400" y="6332400"/>
            <a:ext cx="691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261080" y="6324480"/>
            <a:ext cx="1243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ка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729680" y="5867280"/>
            <a:ext cx="1312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евр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1222560" y="5867280"/>
            <a:ext cx="1128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Янва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6172200" y="42670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7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906120" y="304920"/>
            <a:ext cx="39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ничего не выигра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79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609480" y="4952880"/>
            <a:ext cx="7086600" cy="703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олько времени понадобится для создания изображения в музыкальном редакто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29920" y="5867280"/>
            <a:ext cx="828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952520" y="6324480"/>
            <a:ext cx="1518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сколь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454040" y="6324480"/>
            <a:ext cx="1076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527120" y="5867280"/>
            <a:ext cx="94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2"/>
          <p:cNvSpPr/>
          <p:nvPr/>
        </p:nvSpPr>
        <p:spPr>
          <a:xfrm>
            <a:off x="7086600" y="16020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6"/>
          <p:cNvSpPr/>
          <p:nvPr/>
        </p:nvSpPr>
        <p:spPr>
          <a:xfrm>
            <a:off x="6248520" y="426708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291680" y="30636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Овал 1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79" name="Овал 1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62120" y="502920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цепт» решения чего-либ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182560" y="5867280"/>
            <a:ext cx="575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д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295280" y="5867280"/>
            <a:ext cx="1348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у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290600" y="6324480"/>
            <a:ext cx="9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х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107320" y="6324480"/>
            <a:ext cx="87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172200" y="37339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6"/>
          <p:cNvSpPr/>
          <p:nvPr/>
        </p:nvSpPr>
        <p:spPr>
          <a:xfrm>
            <a:off x="6172200" y="403848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9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то является первым космонавтом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9921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9921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602360" y="5867280"/>
            <a:ext cx="1622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32800" y="6324480"/>
            <a:ext cx="1181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955400" y="5867280"/>
            <a:ext cx="1290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м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528560" y="6324480"/>
            <a:ext cx="1155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172200" y="35053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6"/>
          <p:cNvSpPr/>
          <p:nvPr/>
        </p:nvSpPr>
        <p:spPr>
          <a:xfrm>
            <a:off x="6172200" y="3809880"/>
            <a:ext cx="838080" cy="762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3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1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6" dur="indefinite" restart="never" nodeType="tmRoot">
          <p:childTnLst>
            <p:seq>
              <p:cTn id="34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4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3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08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418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52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762120" y="518148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ите анаграмму ТАКЕДИС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923480" y="6321600"/>
            <a:ext cx="1213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е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5499000" y="5867280"/>
            <a:ext cx="131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ске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487840" y="632448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с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07640" y="5867280"/>
            <a:ext cx="1142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сс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6172200" y="32004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6"/>
          <p:cNvSpPr/>
          <p:nvPr/>
        </p:nvSpPr>
        <p:spPr>
          <a:xfrm>
            <a:off x="6172200" y="3581280"/>
            <a:ext cx="83808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7"/>
          <p:cNvSpPr/>
          <p:nvPr/>
        </p:nvSpPr>
        <p:spPr>
          <a:xfrm>
            <a:off x="907560" y="3049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5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3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6" dur="indefinite" restart="never" nodeType="tmRoot">
          <p:childTnLst>
            <p:seq>
              <p:cTn id="45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58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4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9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18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523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28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562" nodeType="clickEffect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762120" y="510552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шите пример 334*7+3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1584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91584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49712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5332320" y="6324480"/>
            <a:ext cx="103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42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058120" y="5867280"/>
            <a:ext cx="747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6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414040" y="5867280"/>
            <a:ext cx="747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6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903320" y="6324480"/>
            <a:ext cx="1031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142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172200" y="30481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6172200" y="3276720"/>
            <a:ext cx="83808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1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5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6" dur="indefinite" restart="never" nodeType="tmRoot">
          <p:childTnLst>
            <p:seq>
              <p:cTn id="56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68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57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5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3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623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628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6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7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638" nodeType="clickEffect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5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656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3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664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672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762120" y="5029200"/>
            <a:ext cx="7086600" cy="3988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из приведённого является явление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6336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25560" y="6324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497120" y="63244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510080" y="5867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2061360" y="6324480"/>
            <a:ext cx="7826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491080" y="5867280"/>
            <a:ext cx="1320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ер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562720" y="6324480"/>
            <a:ext cx="621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986120" y="5867280"/>
            <a:ext cx="1183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172200" y="27432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>
            <a:hlinkClick r:id="" action="ppaction://hlinkshowjump?jump=nextslide"/>
          </p:cNvPr>
          <p:cNvSpPr/>
          <p:nvPr/>
        </p:nvSpPr>
        <p:spPr>
          <a:xfrm>
            <a:off x="8077320" y="579132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3794"/>
                </a:moveTo>
                <a:lnTo>
                  <a:pt x="20503" y="10800"/>
                </a:lnTo>
                <a:lnTo>
                  <a:pt x="6490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8"/>
          <p:cNvSpPr/>
          <p:nvPr/>
        </p:nvSpPr>
        <p:spPr>
          <a:xfrm>
            <a:off x="579132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0"/>
          <p:cNvSpPr/>
          <p:nvPr/>
        </p:nvSpPr>
        <p:spPr>
          <a:xfrm>
            <a:off x="64008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2"/>
          <p:cNvSpPr/>
          <p:nvPr/>
        </p:nvSpPr>
        <p:spPr>
          <a:xfrm>
            <a:off x="70866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3"/>
          <p:cNvSpPr/>
          <p:nvPr/>
        </p:nvSpPr>
        <p:spPr>
          <a:xfrm>
            <a:off x="7772400" y="152280"/>
            <a:ext cx="6094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6172200" y="3048120"/>
            <a:ext cx="838080" cy="1523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908640" y="304920"/>
            <a:ext cx="31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ы выиграли 200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Овал 18"/>
          <p:cNvGrpSpPr/>
          <p:nvPr/>
        </p:nvGrpSpPr>
        <p:grpSpPr>
          <a:xfrm>
            <a:off x="79200" y="5456160"/>
            <a:ext cx="676440" cy="542880"/>
            <a:chOff x="79200" y="5456160"/>
            <a:chExt cx="676440" cy="542880"/>
          </a:xfrm>
        </p:grpSpPr>
        <p:pic>
          <p:nvPicPr>
            <p:cNvPr id="179" name="Овал 18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9200" y="5456160"/>
              <a:ext cx="6764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184320" y="5537160"/>
              <a:ext cx="46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78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71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3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38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74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mph" presetID="3" presetSubtype="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7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4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5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766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7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7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1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782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6:46:09Z</dcterms:created>
  <dc:creator>Макс</dc:creator>
  <dc:description/>
  <dc:language>en-US</dc:language>
  <cp:lastModifiedBy>Учетная запись Майкрософт</cp:lastModifiedBy>
  <dcterms:modified xsi:type="dcterms:W3CDTF">2023-11-01T08:25:22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