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6959-63CA-4903-BC01-84D382D8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300D-3538-42EF-B548-B4D35F8F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0D4E-1045-4356-98C6-7F2FCE16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7BDC-8696-4251-8223-AB4B7278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29B9-8CF2-4CC8-9B91-67374462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7CE2-79BE-4696-97F6-CB7F027F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B58B-9641-4174-82A6-7CD51198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23EA-183C-4720-8FDC-C3E7DA05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B697-6C8F-47F1-A604-A83CAB8B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22FB-1C02-4866-B444-6979D236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ED1F-6783-4BA9-9FE2-DB2AE16E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DAB6-E90D-47BC-ACC8-9E3E7EA7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8DC2-9CFC-42DF-8C11-50FD7C536A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0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0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0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9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9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9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9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0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0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>
            <a:hlinkClick r:id="" action="ppaction://hlinkshowjump?jump=nextslide"/>
          </p:cNvPr>
          <p:cNvSpPr/>
          <p:nvPr/>
        </p:nvSpPr>
        <p:spPr>
          <a:xfrm>
            <a:off x="80773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заставка.mp3" descr=""/>
          <p:cNvPicPr/>
          <p:nvPr/>
        </p:nvPicPr>
        <p:blipFill>
          <a:blip r:embed="rId2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Елена\Desktop\Khsm_logo_big.jpg"/>
          <p:cNvPicPr/>
          <p:nvPr/>
        </p:nvPicPr>
        <p:blipFill>
          <a:blip r:embed="rId3"/>
          <a:srcRect l="10293" t="0" r="782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943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762120" y="5105520"/>
            <a:ext cx="7086600" cy="7038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нимальная ячейка оперативной памяти компьюте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99216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992160" y="63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4497120" y="63244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449712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5642280" y="6324480"/>
            <a:ext cx="1221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лоб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2060280" y="6324480"/>
            <a:ext cx="619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5565960" y="5867280"/>
            <a:ext cx="1363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ло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1984680" y="5867280"/>
            <a:ext cx="761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172200" y="25146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2">
            <a:hlinkClick r:id="" action="ppaction://hlinkshowjump?jump=nextslide"/>
          </p:cNvPr>
          <p:cNvSpPr/>
          <p:nvPr/>
        </p:nvSpPr>
        <p:spPr>
          <a:xfrm>
            <a:off x="80773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8"/>
          <p:cNvSpPr/>
          <p:nvPr/>
        </p:nvSpPr>
        <p:spPr>
          <a:xfrm>
            <a:off x="579132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0"/>
          <p:cNvSpPr/>
          <p:nvPr/>
        </p:nvSpPr>
        <p:spPr>
          <a:xfrm>
            <a:off x="64008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2"/>
          <p:cNvSpPr/>
          <p:nvPr/>
        </p:nvSpPr>
        <p:spPr>
          <a:xfrm>
            <a:off x="70866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3"/>
          <p:cNvSpPr/>
          <p:nvPr/>
        </p:nvSpPr>
        <p:spPr>
          <a:xfrm>
            <a:off x="77724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6"/>
          <p:cNvSpPr/>
          <p:nvPr/>
        </p:nvSpPr>
        <p:spPr>
          <a:xfrm>
            <a:off x="6172200" y="2819520"/>
            <a:ext cx="83808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7"/>
          <p:cNvSpPr/>
          <p:nvPr/>
        </p:nvSpPr>
        <p:spPr>
          <a:xfrm>
            <a:off x="908640" y="304920"/>
            <a:ext cx="31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ы выиграли 40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Овал 18"/>
          <p:cNvGrpSpPr/>
          <p:nvPr/>
        </p:nvGrpSpPr>
        <p:grpSpPr>
          <a:xfrm>
            <a:off x="79200" y="5456160"/>
            <a:ext cx="676440" cy="542880"/>
            <a:chOff x="79200" y="5456160"/>
            <a:chExt cx="676440" cy="542880"/>
          </a:xfrm>
        </p:grpSpPr>
        <p:pic>
          <p:nvPicPr>
            <p:cNvPr id="199" name="Овал 18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9200" y="5456160"/>
              <a:ext cx="6764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184320" y="5537160"/>
              <a:ext cx="46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86" dur="indefinite" restart="never" nodeType="tmRoot">
          <p:childTnLst>
            <p:seq>
              <p:cTn id="787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788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7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7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7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8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8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3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8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843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848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8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858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6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5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876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8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3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884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8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8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1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892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685800" y="5029200"/>
            <a:ext cx="7086600" cy="3682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ой вес будет у 50 килограммового тел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9216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992160" y="63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4497120" y="63244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49712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1909080" y="5867280"/>
            <a:ext cx="71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0 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5642640" y="6324480"/>
            <a:ext cx="860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00 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5490720" y="5867280"/>
            <a:ext cx="1002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000 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1721880" y="6321600"/>
            <a:ext cx="1215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00000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6172200" y="22860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2">
            <a:hlinkClick r:id="" action="ppaction://hlinkshowjump?jump=nextslide"/>
          </p:cNvPr>
          <p:cNvSpPr/>
          <p:nvPr/>
        </p:nvSpPr>
        <p:spPr>
          <a:xfrm>
            <a:off x="80773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8"/>
          <p:cNvSpPr/>
          <p:nvPr/>
        </p:nvSpPr>
        <p:spPr>
          <a:xfrm>
            <a:off x="579132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0"/>
          <p:cNvSpPr/>
          <p:nvPr/>
        </p:nvSpPr>
        <p:spPr>
          <a:xfrm>
            <a:off x="64008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2"/>
          <p:cNvSpPr/>
          <p:nvPr/>
        </p:nvSpPr>
        <p:spPr>
          <a:xfrm>
            <a:off x="70866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3"/>
          <p:cNvSpPr/>
          <p:nvPr/>
        </p:nvSpPr>
        <p:spPr>
          <a:xfrm>
            <a:off x="77724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6"/>
          <p:cNvSpPr/>
          <p:nvPr/>
        </p:nvSpPr>
        <p:spPr>
          <a:xfrm>
            <a:off x="6172200" y="2590920"/>
            <a:ext cx="83808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7"/>
          <p:cNvSpPr/>
          <p:nvPr/>
        </p:nvSpPr>
        <p:spPr>
          <a:xfrm>
            <a:off x="908640" y="304920"/>
            <a:ext cx="31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ы выиграли 80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Овал 18"/>
          <p:cNvGrpSpPr/>
          <p:nvPr/>
        </p:nvGrpSpPr>
        <p:grpSpPr>
          <a:xfrm>
            <a:off x="79200" y="5456160"/>
            <a:ext cx="676440" cy="542880"/>
            <a:chOff x="79200" y="5456160"/>
            <a:chExt cx="676440" cy="542880"/>
          </a:xfrm>
        </p:grpSpPr>
        <p:pic>
          <p:nvPicPr>
            <p:cNvPr id="219" name="Овал 18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9200" y="5456160"/>
              <a:ext cx="6764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184320" y="5537160"/>
              <a:ext cx="46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96" dur="indefinite" restart="never" nodeType="tmRoot">
          <p:childTnLst>
            <p:seq>
              <p:cTn id="897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898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9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9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933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8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8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953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958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2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963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9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968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97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97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9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1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5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986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9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9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9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3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994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99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99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0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1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002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689040" y="5181480"/>
            <a:ext cx="7086600" cy="3682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 является … числ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99216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992160" y="63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4497120" y="63244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449712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1909800" y="5867280"/>
            <a:ext cx="1047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л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4830480" y="6357960"/>
            <a:ext cx="2530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ррациональ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5011200" y="5837400"/>
            <a:ext cx="1989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тураль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1724040" y="6321600"/>
            <a:ext cx="2122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цион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6248520" y="203832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2">
            <a:hlinkClick r:id="" action="ppaction://hlinkshowjump?jump=nextslide"/>
          </p:cNvPr>
          <p:cNvSpPr/>
          <p:nvPr/>
        </p:nvSpPr>
        <p:spPr>
          <a:xfrm>
            <a:off x="80773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8"/>
          <p:cNvSpPr/>
          <p:nvPr/>
        </p:nvSpPr>
        <p:spPr>
          <a:xfrm>
            <a:off x="579132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20"/>
          <p:cNvSpPr/>
          <p:nvPr/>
        </p:nvSpPr>
        <p:spPr>
          <a:xfrm>
            <a:off x="64008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22"/>
          <p:cNvSpPr/>
          <p:nvPr/>
        </p:nvSpPr>
        <p:spPr>
          <a:xfrm>
            <a:off x="70866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23"/>
          <p:cNvSpPr/>
          <p:nvPr/>
        </p:nvSpPr>
        <p:spPr>
          <a:xfrm>
            <a:off x="77724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6"/>
          <p:cNvSpPr/>
          <p:nvPr/>
        </p:nvSpPr>
        <p:spPr>
          <a:xfrm>
            <a:off x="6172200" y="2343240"/>
            <a:ext cx="990720" cy="2228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7"/>
          <p:cNvSpPr/>
          <p:nvPr/>
        </p:nvSpPr>
        <p:spPr>
          <a:xfrm>
            <a:off x="909720" y="30492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ы выиграли 160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Овал 18"/>
          <p:cNvGrpSpPr/>
          <p:nvPr/>
        </p:nvGrpSpPr>
        <p:grpSpPr>
          <a:xfrm>
            <a:off x="79200" y="5456160"/>
            <a:ext cx="676440" cy="542880"/>
            <a:chOff x="79200" y="5456160"/>
            <a:chExt cx="676440" cy="542880"/>
          </a:xfrm>
        </p:grpSpPr>
        <p:pic>
          <p:nvPicPr>
            <p:cNvPr id="239" name="Овал 18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9200" y="5456160"/>
              <a:ext cx="6764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184320" y="5537160"/>
              <a:ext cx="46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06" dur="indefinite" restart="never" nodeType="tmRoot">
          <p:childTnLst>
            <p:seq>
              <p:cTn id="1007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008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0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0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01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2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043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8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3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8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063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7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1068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07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7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078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0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0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0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1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5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096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10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10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10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3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104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0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10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1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1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1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1112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762120" y="5029200"/>
            <a:ext cx="7086600" cy="3682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то является отцом математи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91584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915840" y="63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4497120" y="63244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49712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1600560" y="6321600"/>
            <a:ext cx="1302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фаг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1604520" y="5867280"/>
            <a:ext cx="1451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химе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5111640" y="5867280"/>
            <a:ext cx="11271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вкл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5262480" y="6324480"/>
            <a:ext cx="1054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ка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6095880" y="175248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2">
            <a:hlinkClick r:id="" action="ppaction://hlinkshowjump?jump=nextslide"/>
          </p:cNvPr>
          <p:cNvSpPr/>
          <p:nvPr/>
        </p:nvSpPr>
        <p:spPr>
          <a:xfrm>
            <a:off x="80773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8"/>
          <p:cNvSpPr/>
          <p:nvPr/>
        </p:nvSpPr>
        <p:spPr>
          <a:xfrm>
            <a:off x="579132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20"/>
          <p:cNvSpPr/>
          <p:nvPr/>
        </p:nvSpPr>
        <p:spPr>
          <a:xfrm>
            <a:off x="64008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22"/>
          <p:cNvSpPr/>
          <p:nvPr/>
        </p:nvSpPr>
        <p:spPr>
          <a:xfrm>
            <a:off x="70866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23"/>
          <p:cNvSpPr/>
          <p:nvPr/>
        </p:nvSpPr>
        <p:spPr>
          <a:xfrm>
            <a:off x="77724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6095880" y="2057400"/>
            <a:ext cx="1143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7"/>
          <p:cNvSpPr/>
          <p:nvPr/>
        </p:nvSpPr>
        <p:spPr>
          <a:xfrm>
            <a:off x="909720" y="30492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ы выиграли 320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Овал 18"/>
          <p:cNvGrpSpPr/>
          <p:nvPr/>
        </p:nvGrpSpPr>
        <p:grpSpPr>
          <a:xfrm>
            <a:off x="79200" y="5456160"/>
            <a:ext cx="676440" cy="542880"/>
            <a:chOff x="79200" y="5456160"/>
            <a:chExt cx="676440" cy="542880"/>
          </a:xfrm>
        </p:grpSpPr>
        <p:pic>
          <p:nvPicPr>
            <p:cNvPr id="259" name="Овал 18" descr=""/>
            <p:cNvPicPr/>
            <p:nvPr/>
          </p:nvPicPr>
          <p:blipFill>
            <a:blip r:embed="rId2"/>
            <a:stretch/>
          </p:blipFill>
          <p:spPr>
            <a:xfrm>
              <a:off x="79200" y="5456160"/>
              <a:ext cx="6764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84320" y="5537160"/>
              <a:ext cx="46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16" dur="indefinite" restart="never" nodeType="tmRoot">
          <p:childTnLst>
            <p:seq>
              <p:cTn id="1117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118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1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1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1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1153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5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3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8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1173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7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1178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183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1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7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1188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9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19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1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1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5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1206" nodeType="clickEffect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1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1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21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3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1214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22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1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222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609480" y="5105520"/>
            <a:ext cx="7315200" cy="6426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ись числа 15 в шестнадцатеричной систе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числ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99216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992160" y="63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4497120" y="63244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449712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2364480" y="6324480"/>
            <a:ext cx="365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5870520" y="6324480"/>
            <a:ext cx="406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5869800" y="5867280"/>
            <a:ext cx="365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2364480" y="5867280"/>
            <a:ext cx="365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6095880" y="1523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2">
            <a:hlinkClick r:id="" action="ppaction://hlinkshowjump?jump=nextslide"/>
          </p:cNvPr>
          <p:cNvSpPr/>
          <p:nvPr/>
        </p:nvSpPr>
        <p:spPr>
          <a:xfrm>
            <a:off x="80773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8"/>
          <p:cNvSpPr/>
          <p:nvPr/>
        </p:nvSpPr>
        <p:spPr>
          <a:xfrm>
            <a:off x="579132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0"/>
          <p:cNvSpPr/>
          <p:nvPr/>
        </p:nvSpPr>
        <p:spPr>
          <a:xfrm>
            <a:off x="64008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"/>
          <p:cNvSpPr/>
          <p:nvPr/>
        </p:nvSpPr>
        <p:spPr>
          <a:xfrm>
            <a:off x="70866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23"/>
          <p:cNvSpPr/>
          <p:nvPr/>
        </p:nvSpPr>
        <p:spPr>
          <a:xfrm>
            <a:off x="77724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6"/>
          <p:cNvSpPr/>
          <p:nvPr/>
        </p:nvSpPr>
        <p:spPr>
          <a:xfrm>
            <a:off x="6095880" y="1828800"/>
            <a:ext cx="1219320" cy="2743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909720" y="30492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ы выиграли 640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Овал 18"/>
          <p:cNvGrpSpPr/>
          <p:nvPr/>
        </p:nvGrpSpPr>
        <p:grpSpPr>
          <a:xfrm>
            <a:off x="79200" y="5456160"/>
            <a:ext cx="676440" cy="542880"/>
            <a:chOff x="79200" y="5456160"/>
            <a:chExt cx="676440" cy="542880"/>
          </a:xfrm>
        </p:grpSpPr>
        <p:pic>
          <p:nvPicPr>
            <p:cNvPr id="279" name="Овал 18" descr=""/>
            <p:cNvPicPr/>
            <p:nvPr/>
          </p:nvPicPr>
          <p:blipFill>
            <a:blip r:embed="rId2"/>
            <a:stretch/>
          </p:blipFill>
          <p:spPr>
            <a:xfrm>
              <a:off x="79200" y="5456160"/>
              <a:ext cx="6764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184320" y="5537160"/>
              <a:ext cx="46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26" dur="indefinite" restart="never" nodeType="tmRoot">
          <p:childTnLst>
            <p:seq>
              <p:cTn id="1227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228" nodeType="clickEffect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3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2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2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263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8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3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8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2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1283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288" nodeType="clickEffect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2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293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2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7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1298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0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30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6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1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5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1316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1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2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2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3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324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2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3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1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1332" nodeType="clickEffect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762120" y="5105520"/>
            <a:ext cx="7086600" cy="3988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то открыл атмосферу на Венер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99216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992160" y="63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4497120" y="63244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449712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684440" y="5867280"/>
            <a:ext cx="2149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алилео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1859040" y="6353280"/>
            <a:ext cx="1476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4959720" y="5886360"/>
            <a:ext cx="1192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хи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4802760" y="6324480"/>
            <a:ext cx="1238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урч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6095880" y="12952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2">
            <a:hlinkClick r:id="" action="ppaction://hlinkshowjump?jump=nextslide"/>
          </p:cNvPr>
          <p:cNvSpPr/>
          <p:nvPr/>
        </p:nvSpPr>
        <p:spPr>
          <a:xfrm>
            <a:off x="80773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8"/>
          <p:cNvSpPr/>
          <p:nvPr/>
        </p:nvSpPr>
        <p:spPr>
          <a:xfrm>
            <a:off x="579132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0"/>
          <p:cNvSpPr/>
          <p:nvPr/>
        </p:nvSpPr>
        <p:spPr>
          <a:xfrm>
            <a:off x="64008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2"/>
          <p:cNvSpPr/>
          <p:nvPr/>
        </p:nvSpPr>
        <p:spPr>
          <a:xfrm>
            <a:off x="70866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3"/>
          <p:cNvSpPr/>
          <p:nvPr/>
        </p:nvSpPr>
        <p:spPr>
          <a:xfrm>
            <a:off x="77724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6"/>
          <p:cNvSpPr/>
          <p:nvPr/>
        </p:nvSpPr>
        <p:spPr>
          <a:xfrm>
            <a:off x="6019920" y="1600200"/>
            <a:ext cx="1295280" cy="2971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6"/>
          <p:cNvSpPr/>
          <p:nvPr/>
        </p:nvSpPr>
        <p:spPr>
          <a:xfrm>
            <a:off x="2286000" y="2274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8"/>
          <p:cNvSpPr/>
          <p:nvPr/>
        </p:nvSpPr>
        <p:spPr>
          <a:xfrm>
            <a:off x="910800" y="30492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ы выиграли 1250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Овал 19"/>
          <p:cNvGrpSpPr/>
          <p:nvPr/>
        </p:nvGrpSpPr>
        <p:grpSpPr>
          <a:xfrm>
            <a:off x="79200" y="5456160"/>
            <a:ext cx="676440" cy="542880"/>
            <a:chOff x="79200" y="5456160"/>
            <a:chExt cx="676440" cy="542880"/>
          </a:xfrm>
        </p:grpSpPr>
        <p:pic>
          <p:nvPicPr>
            <p:cNvPr id="300" name="Овал 19" descr=""/>
            <p:cNvPicPr/>
            <p:nvPr/>
          </p:nvPicPr>
          <p:blipFill>
            <a:blip r:embed="rId2"/>
            <a:stretch/>
          </p:blipFill>
          <p:spPr>
            <a:xfrm>
              <a:off x="79200" y="5456160"/>
              <a:ext cx="6764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184320" y="5537160"/>
              <a:ext cx="46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36" dur="indefinite" restart="never" nodeType="tmRoot">
          <p:childTnLst>
            <p:seq>
              <p:cTn id="133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338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4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34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373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7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8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3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8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2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1393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7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398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2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1403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4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7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1408" nodeType="clickEffect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4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4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41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6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1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5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1426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2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43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43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43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3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1434" nodeType="clickEffect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3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43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43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44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1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1442" nodeType="clickEffect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762120" y="5029200"/>
            <a:ext cx="6781680" cy="3373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то из учёных родился в день рождения числа П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99216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992160" y="63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4497120" y="63244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449712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1754280" y="5867280"/>
            <a:ext cx="8298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жоб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5352120" y="6324480"/>
            <a:ext cx="12002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йнштей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5266080" y="5867280"/>
            <a:ext cx="1072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ифаг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1684080" y="6324480"/>
            <a:ext cx="15400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ль- Хорез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6095880" y="10666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2">
            <a:hlinkClick r:id="" action="ppaction://hlinkshowjump?jump=nextslide"/>
          </p:cNvPr>
          <p:cNvSpPr/>
          <p:nvPr/>
        </p:nvSpPr>
        <p:spPr>
          <a:xfrm>
            <a:off x="80773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8"/>
          <p:cNvSpPr/>
          <p:nvPr/>
        </p:nvSpPr>
        <p:spPr>
          <a:xfrm>
            <a:off x="579132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20"/>
          <p:cNvSpPr/>
          <p:nvPr/>
        </p:nvSpPr>
        <p:spPr>
          <a:xfrm>
            <a:off x="64008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22"/>
          <p:cNvSpPr/>
          <p:nvPr/>
        </p:nvSpPr>
        <p:spPr>
          <a:xfrm>
            <a:off x="70866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23"/>
          <p:cNvSpPr/>
          <p:nvPr/>
        </p:nvSpPr>
        <p:spPr>
          <a:xfrm>
            <a:off x="77724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6"/>
          <p:cNvSpPr/>
          <p:nvPr/>
        </p:nvSpPr>
        <p:spPr>
          <a:xfrm>
            <a:off x="6019920" y="1371600"/>
            <a:ext cx="1295280" cy="3200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7"/>
          <p:cNvSpPr/>
          <p:nvPr/>
        </p:nvSpPr>
        <p:spPr>
          <a:xfrm>
            <a:off x="910800" y="30492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ы выиграли 2500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Овал 18"/>
          <p:cNvGrpSpPr/>
          <p:nvPr/>
        </p:nvGrpSpPr>
        <p:grpSpPr>
          <a:xfrm>
            <a:off x="79200" y="5456160"/>
            <a:ext cx="676440" cy="542880"/>
            <a:chOff x="79200" y="5456160"/>
            <a:chExt cx="676440" cy="542880"/>
          </a:xfrm>
        </p:grpSpPr>
        <p:pic>
          <p:nvPicPr>
            <p:cNvPr id="320" name="Овал 18" descr=""/>
            <p:cNvPicPr/>
            <p:nvPr/>
          </p:nvPicPr>
          <p:blipFill>
            <a:blip r:embed="rId2"/>
            <a:stretch/>
          </p:blipFill>
          <p:spPr>
            <a:xfrm>
              <a:off x="79200" y="5456160"/>
              <a:ext cx="6764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184320" y="5537160"/>
              <a:ext cx="46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46" dur="indefinite" restart="never" nodeType="tmRoot">
          <p:childTnLst>
            <p:seq>
              <p:cTn id="1447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1448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45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45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4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2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483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8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8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3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8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2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503" nodeType="clickEffect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7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508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2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1513" nodeType="clickEffect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1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5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7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1518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2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52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5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5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6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1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5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1536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3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54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54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5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3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1544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4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54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54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55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1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1552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762120" y="4952880"/>
            <a:ext cx="7086600" cy="7038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тор слов: «Математику уже затем учить надо, что она ум в порядок приводит.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96336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925560" y="63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4497120" y="63244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451008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5394600" y="6305400"/>
            <a:ext cx="1230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утар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5336280" y="5867280"/>
            <a:ext cx="16225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мон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1753920" y="6324480"/>
            <a:ext cx="1684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1832400" y="5867280"/>
            <a:ext cx="1311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хим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6095880" y="762120"/>
            <a:ext cx="1219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2">
            <a:hlinkClick r:id="" action="ppaction://hlinkshowjump?jump=nextslide"/>
          </p:cNvPr>
          <p:cNvSpPr/>
          <p:nvPr/>
        </p:nvSpPr>
        <p:spPr>
          <a:xfrm>
            <a:off x="80773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8"/>
          <p:cNvSpPr/>
          <p:nvPr/>
        </p:nvSpPr>
        <p:spPr>
          <a:xfrm>
            <a:off x="579132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20"/>
          <p:cNvSpPr/>
          <p:nvPr/>
        </p:nvSpPr>
        <p:spPr>
          <a:xfrm>
            <a:off x="64008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22"/>
          <p:cNvSpPr/>
          <p:nvPr/>
        </p:nvSpPr>
        <p:spPr>
          <a:xfrm>
            <a:off x="70866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3"/>
          <p:cNvSpPr/>
          <p:nvPr/>
        </p:nvSpPr>
        <p:spPr>
          <a:xfrm>
            <a:off x="77724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6"/>
          <p:cNvSpPr/>
          <p:nvPr/>
        </p:nvSpPr>
        <p:spPr>
          <a:xfrm>
            <a:off x="6095880" y="1143000"/>
            <a:ext cx="1067040" cy="34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27"/>
          <p:cNvSpPr/>
          <p:nvPr/>
        </p:nvSpPr>
        <p:spPr>
          <a:xfrm>
            <a:off x="2209680" y="2209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8"/>
          <p:cNvSpPr/>
          <p:nvPr/>
        </p:nvSpPr>
        <p:spPr>
          <a:xfrm>
            <a:off x="910800" y="30492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ы выиграли 5000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Овал 19"/>
          <p:cNvGrpSpPr/>
          <p:nvPr/>
        </p:nvGrpSpPr>
        <p:grpSpPr>
          <a:xfrm>
            <a:off x="79200" y="5456160"/>
            <a:ext cx="676440" cy="542880"/>
            <a:chOff x="79200" y="5456160"/>
            <a:chExt cx="676440" cy="542880"/>
          </a:xfrm>
        </p:grpSpPr>
        <p:pic>
          <p:nvPicPr>
            <p:cNvPr id="341" name="Овал 19" descr=""/>
            <p:cNvPicPr/>
            <p:nvPr/>
          </p:nvPicPr>
          <p:blipFill>
            <a:blip r:embed="rId2"/>
            <a:stretch/>
          </p:blipFill>
          <p:spPr>
            <a:xfrm>
              <a:off x="79200" y="5456160"/>
              <a:ext cx="6764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184320" y="5537160"/>
              <a:ext cx="46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56" dur="indefinite" restart="never" nodeType="tmRoot">
          <p:childTnLst>
            <p:seq>
              <p:cTn id="1557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1558" nodeType="clickEffect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1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6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56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56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56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2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1593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1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8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3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8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2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1613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7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618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2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623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62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7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628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3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63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63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63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6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1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5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1646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4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6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6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65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3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1654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6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6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66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1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1662" nodeType="clickEffect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1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6" descr="Снимок"/>
          <p:cNvPicPr/>
          <p:nvPr/>
        </p:nvPicPr>
        <p:blipFill>
          <a:blip r:embed="rId1"/>
          <a:srcRect l="0" t="10324" r="1638" b="1656"/>
          <a:stretch/>
        </p:blipFill>
        <p:spPr>
          <a:xfrm>
            <a:off x="2133720" y="152280"/>
            <a:ext cx="5105160" cy="4102200"/>
          </a:xfrm>
          <a:prstGeom prst="rect">
            <a:avLst/>
          </a:prstGeom>
          <a:ln w="0">
            <a:noFill/>
          </a:ln>
        </p:spPr>
      </p:pic>
      <p:sp>
        <p:nvSpPr>
          <p:cNvPr id="345" name="WordArt 8"/>
          <p:cNvSpPr txBox="1"/>
          <p:nvPr/>
        </p:nvSpPr>
        <p:spPr>
          <a:xfrm>
            <a:off x="2133720" y="4343400"/>
            <a:ext cx="5486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здравляем!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ы - миллионер!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6" name="AutoShape 10">
            <a:hlinkClick r:id="" action="ppaction://hlinkshowjump?jump=endshow"/>
          </p:cNvPr>
          <p:cNvSpPr/>
          <p:nvPr/>
        </p:nvSpPr>
        <p:spPr>
          <a:xfrm>
            <a:off x="6934320" y="6477120"/>
            <a:ext cx="2133360" cy="380880"/>
          </a:xfrm>
          <a:custGeom>
            <a:avLst/>
            <a:gdLst>
              <a:gd name="textAreaLeft" fmla="*/ 24480 w 2133360"/>
              <a:gd name="textAreaRight" fmla="*/ 2108880 w 2133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0891" h="21600">
                <a:moveTo>
                  <a:pt x="0" y="0"/>
                </a:moveTo>
                <a:lnTo>
                  <a:pt x="120891" y="0"/>
                </a:lnTo>
                <a:lnTo>
                  <a:pt x="120891" y="21600"/>
                </a:lnTo>
                <a:lnTo>
                  <a:pt x="0" y="21600"/>
                </a:lnTo>
                <a:close/>
              </a:path>
              <a:path fill="lightenLess" w="120891" h="21600">
                <a:moveTo>
                  <a:pt x="0" y="0"/>
                </a:moveTo>
                <a:lnTo>
                  <a:pt x="120891" y="0"/>
                </a:lnTo>
                <a:lnTo>
                  <a:pt x="119491" y="1400"/>
                </a:lnTo>
                <a:lnTo>
                  <a:pt x="1400" y="1400"/>
                </a:lnTo>
                <a:close/>
              </a:path>
              <a:path fill="darken" w="120891" h="21600">
                <a:moveTo>
                  <a:pt x="120891" y="0"/>
                </a:moveTo>
                <a:lnTo>
                  <a:pt x="120891" y="21600"/>
                </a:lnTo>
                <a:lnTo>
                  <a:pt x="119491" y="20200"/>
                </a:lnTo>
                <a:lnTo>
                  <a:pt x="119491" y="1400"/>
                </a:lnTo>
                <a:close/>
              </a:path>
              <a:path fill="darkenLess" w="120891" h="21600">
                <a:moveTo>
                  <a:pt x="120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491" y="20200"/>
                </a:lnTo>
                <a:close/>
              </a:path>
              <a:path fill="lighten" w="120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ход из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6" dur="indefinite" restart="never" nodeType="tmRoot">
          <p:childTnLst>
            <p:seq>
              <p:cTn id="1667" dur="indefinite" nodeType="mainSeq">
                <p:childTnLst>
                  <p:par>
                    <p:cTn id="1668" nodeType="clickEffect" fill="hold">
                      <p:stCondLst>
                        <p:cond delay="0"/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2" dur="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6" descr="Снимок"/>
          <p:cNvPicPr/>
          <p:nvPr/>
        </p:nvPicPr>
        <p:blipFill>
          <a:blip r:embed="rId1"/>
          <a:srcRect l="0" t="10324" r="1638" b="1656"/>
          <a:stretch/>
        </p:blipFill>
        <p:spPr>
          <a:xfrm>
            <a:off x="2133720" y="152280"/>
            <a:ext cx="5105160" cy="4102200"/>
          </a:xfrm>
          <a:prstGeom prst="rect">
            <a:avLst/>
          </a:prstGeom>
          <a:ln w="0">
            <a:noFill/>
          </a:ln>
        </p:spPr>
      </p:pic>
      <p:sp>
        <p:nvSpPr>
          <p:cNvPr id="349" name="WordArt 8"/>
          <p:cNvSpPr txBox="1"/>
          <p:nvPr/>
        </p:nvSpPr>
        <p:spPr>
          <a:xfrm>
            <a:off x="2133720" y="4343400"/>
            <a:ext cx="5486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здравляем!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ы – выиграли 100 !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0" name="AutoShape 10">
            <a:hlinkClick r:id="" action="ppaction://hlinkshowjump?jump=endshow"/>
          </p:cNvPr>
          <p:cNvSpPr/>
          <p:nvPr/>
        </p:nvSpPr>
        <p:spPr>
          <a:xfrm>
            <a:off x="6934320" y="6477120"/>
            <a:ext cx="2133360" cy="380880"/>
          </a:xfrm>
          <a:custGeom>
            <a:avLst/>
            <a:gdLst>
              <a:gd name="textAreaLeft" fmla="*/ 24480 w 2133360"/>
              <a:gd name="textAreaRight" fmla="*/ 2108880 w 2133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0891" h="21600">
                <a:moveTo>
                  <a:pt x="0" y="0"/>
                </a:moveTo>
                <a:lnTo>
                  <a:pt x="120891" y="0"/>
                </a:lnTo>
                <a:lnTo>
                  <a:pt x="120891" y="21600"/>
                </a:lnTo>
                <a:lnTo>
                  <a:pt x="0" y="21600"/>
                </a:lnTo>
                <a:close/>
              </a:path>
              <a:path fill="lightenLess" w="120891" h="21600">
                <a:moveTo>
                  <a:pt x="0" y="0"/>
                </a:moveTo>
                <a:lnTo>
                  <a:pt x="120891" y="0"/>
                </a:lnTo>
                <a:lnTo>
                  <a:pt x="119491" y="1400"/>
                </a:lnTo>
                <a:lnTo>
                  <a:pt x="1400" y="1400"/>
                </a:lnTo>
                <a:close/>
              </a:path>
              <a:path fill="darken" w="120891" h="21600">
                <a:moveTo>
                  <a:pt x="120891" y="0"/>
                </a:moveTo>
                <a:lnTo>
                  <a:pt x="120891" y="21600"/>
                </a:lnTo>
                <a:lnTo>
                  <a:pt x="119491" y="20200"/>
                </a:lnTo>
                <a:lnTo>
                  <a:pt x="119491" y="1400"/>
                </a:lnTo>
                <a:close/>
              </a:path>
              <a:path fill="darkenLess" w="120891" h="21600">
                <a:moveTo>
                  <a:pt x="120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491" y="20200"/>
                </a:lnTo>
                <a:close/>
              </a:path>
              <a:path fill="lighten" w="120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ход из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4" dur="indefinite" restart="never" nodeType="tmRoot">
          <p:childTnLst>
            <p:seq>
              <p:cTn id="1675" dur="indefinite" nodeType="mainSeq">
                <p:childTnLst>
                  <p:par>
                    <p:cTn id="1676" nodeType="clickEffect" fill="hold">
                      <p:stCondLst>
                        <p:cond delay="0"/>
                      </p:stCondLst>
                      <p:childTnLst>
                        <p:par>
                          <p:cTn id="1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0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кругленный прямоугольник 2"/>
          <p:cNvSpPr/>
          <p:nvPr/>
        </p:nvSpPr>
        <p:spPr>
          <a:xfrm>
            <a:off x="152280" y="152280"/>
            <a:ext cx="5639040" cy="6477120"/>
          </a:xfrm>
          <a:custGeom>
            <a:avLst/>
            <a:gdLst>
              <a:gd name="textAreaLeft" fmla="*/ 275040 w 5639040"/>
              <a:gd name="textAreaRight" fmla="*/ 5364000 w 5639040"/>
              <a:gd name="textAreaTop" fmla="*/ 275040 h 6477120"/>
              <a:gd name="textAreaBottom" fmla="*/ 6202080 h 6477120"/>
            </a:gdLst>
            <a:ahLst/>
            <a:rect l="textAreaLeft" t="textAreaTop" r="textAreaRight" b="textAreaBottom"/>
            <a:pathLst>
              <a:path w="21600" h="24810">
                <a:moveTo>
                  <a:pt x="3600" y="0"/>
                </a:moveTo>
                <a:arcTo wR="3600" hR="3600" stAng="16200000" swAng="-5400000"/>
                <a:lnTo>
                  <a:pt x="0" y="21210"/>
                </a:lnTo>
                <a:arcTo wR="3600" hR="3600" stAng="10800000" swAng="-5400000"/>
                <a:lnTo>
                  <a:pt x="18000" y="24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81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игре есть понятие "несгораемая сумма". Её нельзя проиграть, даже если после был дан неправильный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всю игру игроку даётся т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ОДСКАЗКИ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50 на 50» - компьютер скроет два ошибочных ответа, оставив лишь правильный вариант и один не правильный. Это позволяет легко пройти очередной ша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звонок другу» - возможность позвонить любому своему знакомому и попросить подсказать отв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омощь зала» - зрители, пришедшие посмотреть игру, подсказывают свои варианты ответов, которые при желании можно прин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6" descr="Снимок"/>
          <p:cNvPicPr/>
          <p:nvPr/>
        </p:nvPicPr>
        <p:blipFill>
          <a:blip r:embed="rId1"/>
          <a:srcRect l="0" t="10324" r="1638" b="1656"/>
          <a:stretch/>
        </p:blipFill>
        <p:spPr>
          <a:xfrm>
            <a:off x="2133720" y="152280"/>
            <a:ext cx="5105160" cy="4102200"/>
          </a:xfrm>
          <a:prstGeom prst="rect">
            <a:avLst/>
          </a:prstGeom>
          <a:ln w="0">
            <a:noFill/>
          </a:ln>
        </p:spPr>
      </p:pic>
      <p:sp>
        <p:nvSpPr>
          <p:cNvPr id="353" name="WordArt 8"/>
          <p:cNvSpPr txBox="1"/>
          <p:nvPr/>
        </p:nvSpPr>
        <p:spPr>
          <a:xfrm>
            <a:off x="2133720" y="4343400"/>
            <a:ext cx="5486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здравляем!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ы – выиграли 1000 !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4" name="AutoShape 10">
            <a:hlinkClick r:id="" action="ppaction://hlinkshowjump?jump=endshow"/>
          </p:cNvPr>
          <p:cNvSpPr/>
          <p:nvPr/>
        </p:nvSpPr>
        <p:spPr>
          <a:xfrm>
            <a:off x="6934320" y="6477120"/>
            <a:ext cx="2133360" cy="380880"/>
          </a:xfrm>
          <a:custGeom>
            <a:avLst/>
            <a:gdLst>
              <a:gd name="textAreaLeft" fmla="*/ 24480 w 2133360"/>
              <a:gd name="textAreaRight" fmla="*/ 2108880 w 2133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0891" h="21600">
                <a:moveTo>
                  <a:pt x="0" y="0"/>
                </a:moveTo>
                <a:lnTo>
                  <a:pt x="120891" y="0"/>
                </a:lnTo>
                <a:lnTo>
                  <a:pt x="120891" y="21600"/>
                </a:lnTo>
                <a:lnTo>
                  <a:pt x="0" y="21600"/>
                </a:lnTo>
                <a:close/>
              </a:path>
              <a:path fill="lightenLess" w="120891" h="21600">
                <a:moveTo>
                  <a:pt x="0" y="0"/>
                </a:moveTo>
                <a:lnTo>
                  <a:pt x="120891" y="0"/>
                </a:lnTo>
                <a:lnTo>
                  <a:pt x="119491" y="1400"/>
                </a:lnTo>
                <a:lnTo>
                  <a:pt x="1400" y="1400"/>
                </a:lnTo>
                <a:close/>
              </a:path>
              <a:path fill="darken" w="120891" h="21600">
                <a:moveTo>
                  <a:pt x="120891" y="0"/>
                </a:moveTo>
                <a:lnTo>
                  <a:pt x="120891" y="21600"/>
                </a:lnTo>
                <a:lnTo>
                  <a:pt x="119491" y="20200"/>
                </a:lnTo>
                <a:lnTo>
                  <a:pt x="119491" y="1400"/>
                </a:lnTo>
                <a:close/>
              </a:path>
              <a:path fill="darkenLess" w="120891" h="21600">
                <a:moveTo>
                  <a:pt x="120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491" y="20200"/>
                </a:lnTo>
                <a:close/>
              </a:path>
              <a:path fill="lighten" w="120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ход из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nodeType="clickEffect" fill="hold">
                      <p:stCondLst>
                        <p:cond delay="0"/>
                      </p:stCondLst>
                      <p:childTnLst>
                        <p:par>
                          <p:cTn id="1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8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6" descr="Снимок"/>
          <p:cNvPicPr/>
          <p:nvPr/>
        </p:nvPicPr>
        <p:blipFill>
          <a:blip r:embed="rId1"/>
          <a:srcRect l="0" t="10324" r="1638" b="1656"/>
          <a:stretch/>
        </p:blipFill>
        <p:spPr>
          <a:xfrm>
            <a:off x="2133720" y="152280"/>
            <a:ext cx="5105160" cy="4102200"/>
          </a:xfrm>
          <a:prstGeom prst="rect">
            <a:avLst/>
          </a:prstGeom>
          <a:ln w="0">
            <a:noFill/>
          </a:ln>
        </p:spPr>
      </p:pic>
      <p:sp>
        <p:nvSpPr>
          <p:cNvPr id="357" name="WordArt 8"/>
          <p:cNvSpPr txBox="1"/>
          <p:nvPr/>
        </p:nvSpPr>
        <p:spPr>
          <a:xfrm>
            <a:off x="2133720" y="4343400"/>
            <a:ext cx="5486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здравляем!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ы – выиграли 32 000 !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8" name="AutoShape 10">
            <a:hlinkClick r:id="" action="ppaction://hlinkshowjump?jump=endshow"/>
          </p:cNvPr>
          <p:cNvSpPr/>
          <p:nvPr/>
        </p:nvSpPr>
        <p:spPr>
          <a:xfrm>
            <a:off x="6934320" y="6477120"/>
            <a:ext cx="2133360" cy="380880"/>
          </a:xfrm>
          <a:custGeom>
            <a:avLst/>
            <a:gdLst>
              <a:gd name="textAreaLeft" fmla="*/ 24480 w 2133360"/>
              <a:gd name="textAreaRight" fmla="*/ 2108880 w 2133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0891" h="21600">
                <a:moveTo>
                  <a:pt x="0" y="0"/>
                </a:moveTo>
                <a:lnTo>
                  <a:pt x="120891" y="0"/>
                </a:lnTo>
                <a:lnTo>
                  <a:pt x="120891" y="21600"/>
                </a:lnTo>
                <a:lnTo>
                  <a:pt x="0" y="21600"/>
                </a:lnTo>
                <a:close/>
              </a:path>
              <a:path fill="lightenLess" w="120891" h="21600">
                <a:moveTo>
                  <a:pt x="0" y="0"/>
                </a:moveTo>
                <a:lnTo>
                  <a:pt x="120891" y="0"/>
                </a:lnTo>
                <a:lnTo>
                  <a:pt x="119491" y="1400"/>
                </a:lnTo>
                <a:lnTo>
                  <a:pt x="1400" y="1400"/>
                </a:lnTo>
                <a:close/>
              </a:path>
              <a:path fill="darken" w="120891" h="21600">
                <a:moveTo>
                  <a:pt x="120891" y="0"/>
                </a:moveTo>
                <a:lnTo>
                  <a:pt x="120891" y="21600"/>
                </a:lnTo>
                <a:lnTo>
                  <a:pt x="119491" y="20200"/>
                </a:lnTo>
                <a:lnTo>
                  <a:pt x="119491" y="1400"/>
                </a:lnTo>
                <a:close/>
              </a:path>
              <a:path fill="darkenLess" w="120891" h="21600">
                <a:moveTo>
                  <a:pt x="120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491" y="20200"/>
                </a:lnTo>
                <a:close/>
              </a:path>
              <a:path fill="lighten" w="120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ход из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0" dur="indefinite" restart="never" nodeType="tmRoot">
          <p:childTnLst>
            <p:seq>
              <p:cTn id="1691" dur="indefinite" nodeType="mainSeq">
                <p:childTnLst>
                  <p:par>
                    <p:cTn id="1692" nodeType="clickEffect" fill="hold">
                      <p:stCondLst>
                        <p:cond delay="0"/>
                      </p:stCondLst>
                      <p:childTnLst>
                        <p:par>
                          <p:cTn id="1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6"/>
          <p:cNvSpPr/>
          <p:nvPr/>
        </p:nvSpPr>
        <p:spPr>
          <a:xfrm>
            <a:off x="635040" y="5181480"/>
            <a:ext cx="7086600" cy="3682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ой последний месяц года с 31 дне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99216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992160" y="63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497120" y="63244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49712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4865400" y="6332400"/>
            <a:ext cx="691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1261080" y="6324480"/>
            <a:ext cx="1243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каб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729680" y="5867280"/>
            <a:ext cx="1312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евра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1222560" y="5867280"/>
            <a:ext cx="1128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нва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6172200" y="42670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>
            <a:hlinkClick r:id="" action="ppaction://hlinkshowjump?jump=nextslide"/>
          </p:cNvPr>
          <p:cNvSpPr/>
          <p:nvPr/>
        </p:nvSpPr>
        <p:spPr>
          <a:xfrm>
            <a:off x="80773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2"/>
          <p:cNvSpPr/>
          <p:nvPr/>
        </p:nvSpPr>
        <p:spPr>
          <a:xfrm>
            <a:off x="579132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4"/>
          <p:cNvSpPr/>
          <p:nvPr/>
        </p:nvSpPr>
        <p:spPr>
          <a:xfrm>
            <a:off x="64008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6"/>
          <p:cNvSpPr/>
          <p:nvPr/>
        </p:nvSpPr>
        <p:spPr>
          <a:xfrm>
            <a:off x="70866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7"/>
          <p:cNvSpPr/>
          <p:nvPr/>
        </p:nvSpPr>
        <p:spPr>
          <a:xfrm>
            <a:off x="77724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906120" y="304920"/>
            <a:ext cx="39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ы ничего не выигра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64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0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09480" y="4952880"/>
            <a:ext cx="7086600" cy="7038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олько времени понадобится для создания изображения в музыкальном редактор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99216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992160" y="63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497120" y="63244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49712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029920" y="5867280"/>
            <a:ext cx="828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4952520" y="6324480"/>
            <a:ext cx="1518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иск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454040" y="6324480"/>
            <a:ext cx="1076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1527120" y="5867280"/>
            <a:ext cx="941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>
            <a:hlinkClick r:id="" action="ppaction://hlinkshowjump?jump=nextslide"/>
          </p:cNvPr>
          <p:cNvSpPr/>
          <p:nvPr/>
        </p:nvSpPr>
        <p:spPr>
          <a:xfrm>
            <a:off x="80773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8"/>
          <p:cNvSpPr/>
          <p:nvPr/>
        </p:nvSpPr>
        <p:spPr>
          <a:xfrm>
            <a:off x="579132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0"/>
          <p:cNvSpPr/>
          <p:nvPr/>
        </p:nvSpPr>
        <p:spPr>
          <a:xfrm>
            <a:off x="64008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2"/>
          <p:cNvSpPr/>
          <p:nvPr/>
        </p:nvSpPr>
        <p:spPr>
          <a:xfrm>
            <a:off x="7086600" y="16020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3"/>
          <p:cNvSpPr/>
          <p:nvPr/>
        </p:nvSpPr>
        <p:spPr>
          <a:xfrm>
            <a:off x="77724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6"/>
          <p:cNvSpPr/>
          <p:nvPr/>
        </p:nvSpPr>
        <p:spPr>
          <a:xfrm>
            <a:off x="6248520" y="4267080"/>
            <a:ext cx="6094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1291680" y="30636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ы выиграли 1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Овал 1"/>
          <p:cNvGrpSpPr/>
          <p:nvPr/>
        </p:nvGrpSpPr>
        <p:grpSpPr>
          <a:xfrm>
            <a:off x="79200" y="5456160"/>
            <a:ext cx="676440" cy="542880"/>
            <a:chOff x="79200" y="5456160"/>
            <a:chExt cx="676440" cy="542880"/>
          </a:xfrm>
        </p:grpSpPr>
        <p:pic>
          <p:nvPicPr>
            <p:cNvPr id="79" name="Овал 1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9200" y="5456160"/>
              <a:ext cx="6764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184320" y="5537160"/>
              <a:ext cx="46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79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2" dur="1" fill="hold">
                                    <p:stCondLst>
                                      <p:cond evt="end">
                                        <p:tn val="217"/>
                                      </p:cond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24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762120" y="5029200"/>
            <a:ext cx="7086600" cy="3988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цепт» решения чего-либ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99216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92160" y="63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497120" y="63244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49712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182560" y="5867280"/>
            <a:ext cx="575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д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295280" y="5867280"/>
            <a:ext cx="1348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290600" y="6324480"/>
            <a:ext cx="9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х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5107320" y="6324480"/>
            <a:ext cx="872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6172200" y="3733920"/>
            <a:ext cx="838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2">
            <a:hlinkClick r:id="" action="ppaction://hlinkshowjump?jump=nextslide"/>
          </p:cNvPr>
          <p:cNvSpPr/>
          <p:nvPr/>
        </p:nvSpPr>
        <p:spPr>
          <a:xfrm>
            <a:off x="80773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8"/>
          <p:cNvSpPr/>
          <p:nvPr/>
        </p:nvSpPr>
        <p:spPr>
          <a:xfrm>
            <a:off x="579132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0"/>
          <p:cNvSpPr/>
          <p:nvPr/>
        </p:nvSpPr>
        <p:spPr>
          <a:xfrm>
            <a:off x="64008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2"/>
          <p:cNvSpPr/>
          <p:nvPr/>
        </p:nvSpPr>
        <p:spPr>
          <a:xfrm>
            <a:off x="70866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3"/>
          <p:cNvSpPr/>
          <p:nvPr/>
        </p:nvSpPr>
        <p:spPr>
          <a:xfrm>
            <a:off x="77724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6"/>
          <p:cNvSpPr/>
          <p:nvPr/>
        </p:nvSpPr>
        <p:spPr>
          <a:xfrm>
            <a:off x="6172200" y="4038480"/>
            <a:ext cx="8380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7"/>
          <p:cNvSpPr/>
          <p:nvPr/>
        </p:nvSpPr>
        <p:spPr>
          <a:xfrm>
            <a:off x="907560" y="30492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ы выиграли 2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Овал 18"/>
          <p:cNvGrpSpPr/>
          <p:nvPr/>
        </p:nvGrpSpPr>
        <p:grpSpPr>
          <a:xfrm>
            <a:off x="79200" y="5456160"/>
            <a:ext cx="676440" cy="542880"/>
            <a:chOff x="79200" y="5456160"/>
            <a:chExt cx="676440" cy="542880"/>
          </a:xfrm>
        </p:grpSpPr>
        <p:pic>
          <p:nvPicPr>
            <p:cNvPr id="99" name="Овал 18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9200" y="5456160"/>
              <a:ext cx="6764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184320" y="5537160"/>
              <a:ext cx="46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90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00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05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762120" y="5105520"/>
            <a:ext cx="7086600" cy="3988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то является первым космонавтом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99216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992160" y="63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497120" y="63244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49712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602360" y="5867280"/>
            <a:ext cx="16225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мон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032800" y="6324480"/>
            <a:ext cx="1181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ага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4955400" y="5867280"/>
            <a:ext cx="1290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528560" y="6324480"/>
            <a:ext cx="1155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ш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6172200" y="3505320"/>
            <a:ext cx="838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2">
            <a:hlinkClick r:id="" action="ppaction://hlinkshowjump?jump=nextslide"/>
          </p:cNvPr>
          <p:cNvSpPr/>
          <p:nvPr/>
        </p:nvSpPr>
        <p:spPr>
          <a:xfrm>
            <a:off x="80773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8"/>
          <p:cNvSpPr/>
          <p:nvPr/>
        </p:nvSpPr>
        <p:spPr>
          <a:xfrm>
            <a:off x="579132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0"/>
          <p:cNvSpPr/>
          <p:nvPr/>
        </p:nvSpPr>
        <p:spPr>
          <a:xfrm>
            <a:off x="64008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2"/>
          <p:cNvSpPr/>
          <p:nvPr/>
        </p:nvSpPr>
        <p:spPr>
          <a:xfrm>
            <a:off x="70866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3"/>
          <p:cNvSpPr/>
          <p:nvPr/>
        </p:nvSpPr>
        <p:spPr>
          <a:xfrm>
            <a:off x="77724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6"/>
          <p:cNvSpPr/>
          <p:nvPr/>
        </p:nvSpPr>
        <p:spPr>
          <a:xfrm>
            <a:off x="6172200" y="3809880"/>
            <a:ext cx="83808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7"/>
          <p:cNvSpPr/>
          <p:nvPr/>
        </p:nvSpPr>
        <p:spPr>
          <a:xfrm>
            <a:off x="907560" y="30492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ы выиграли 3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Овал 18"/>
          <p:cNvGrpSpPr/>
          <p:nvPr/>
        </p:nvGrpSpPr>
        <p:grpSpPr>
          <a:xfrm>
            <a:off x="79200" y="5456160"/>
            <a:ext cx="676440" cy="542880"/>
            <a:chOff x="79200" y="5456160"/>
            <a:chExt cx="676440" cy="542880"/>
          </a:xfrm>
        </p:grpSpPr>
        <p:pic>
          <p:nvPicPr>
            <p:cNvPr id="119" name="Овал 18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9200" y="5456160"/>
              <a:ext cx="6764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84320" y="5537160"/>
              <a:ext cx="46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6" dur="indefinite" restart="never" nodeType="tmRoot">
          <p:childTnLst>
            <p:seq>
              <p:cTn id="34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48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83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403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408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13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418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436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444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452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762120" y="5181480"/>
            <a:ext cx="7086600" cy="3988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шите анаграмму ТАКЕДИС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96336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925560" y="63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497120" y="63244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451008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923480" y="6321600"/>
            <a:ext cx="1213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ск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499000" y="5867280"/>
            <a:ext cx="131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скет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5487840" y="632448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ск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907640" y="5867280"/>
            <a:ext cx="1142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сс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6172200" y="32004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>
            <a:hlinkClick r:id="" action="ppaction://hlinkshowjump?jump=nextslide"/>
          </p:cNvPr>
          <p:cNvSpPr/>
          <p:nvPr/>
        </p:nvSpPr>
        <p:spPr>
          <a:xfrm>
            <a:off x="80773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8"/>
          <p:cNvSpPr/>
          <p:nvPr/>
        </p:nvSpPr>
        <p:spPr>
          <a:xfrm>
            <a:off x="579132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0"/>
          <p:cNvSpPr/>
          <p:nvPr/>
        </p:nvSpPr>
        <p:spPr>
          <a:xfrm>
            <a:off x="64008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22"/>
          <p:cNvSpPr/>
          <p:nvPr/>
        </p:nvSpPr>
        <p:spPr>
          <a:xfrm>
            <a:off x="70866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23"/>
          <p:cNvSpPr/>
          <p:nvPr/>
        </p:nvSpPr>
        <p:spPr>
          <a:xfrm>
            <a:off x="77724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6172200" y="3581280"/>
            <a:ext cx="83808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7"/>
          <p:cNvSpPr/>
          <p:nvPr/>
        </p:nvSpPr>
        <p:spPr>
          <a:xfrm>
            <a:off x="907560" y="30492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ы выиграли 5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Овал 18"/>
          <p:cNvGrpSpPr/>
          <p:nvPr/>
        </p:nvGrpSpPr>
        <p:grpSpPr>
          <a:xfrm>
            <a:off x="79200" y="5456160"/>
            <a:ext cx="676440" cy="542880"/>
            <a:chOff x="79200" y="5456160"/>
            <a:chExt cx="676440" cy="542880"/>
          </a:xfrm>
        </p:grpSpPr>
        <p:pic>
          <p:nvPicPr>
            <p:cNvPr id="139" name="Овал 18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9200" y="5456160"/>
              <a:ext cx="6764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84320" y="5537160"/>
              <a:ext cx="46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6" dur="indefinite" restart="never" nodeType="tmRoot">
          <p:childTnLst>
            <p:seq>
              <p:cTn id="457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458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2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493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3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513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518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23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5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2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5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546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5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554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5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562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762120" y="5105520"/>
            <a:ext cx="7086600" cy="3988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шите пример 334*7+3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1584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915840" y="63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497120" y="63244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49712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5332320" y="6324480"/>
            <a:ext cx="1031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142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058120" y="5867280"/>
            <a:ext cx="747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6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414040" y="5867280"/>
            <a:ext cx="747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6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1903320" y="6324480"/>
            <a:ext cx="1031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142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6172200" y="3048120"/>
            <a:ext cx="838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2">
            <a:hlinkClick r:id="" action="ppaction://hlinkshowjump?jump=nextslide"/>
          </p:cNvPr>
          <p:cNvSpPr/>
          <p:nvPr/>
        </p:nvSpPr>
        <p:spPr>
          <a:xfrm>
            <a:off x="80773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579132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20"/>
          <p:cNvSpPr/>
          <p:nvPr/>
        </p:nvSpPr>
        <p:spPr>
          <a:xfrm>
            <a:off x="64008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22"/>
          <p:cNvSpPr/>
          <p:nvPr/>
        </p:nvSpPr>
        <p:spPr>
          <a:xfrm>
            <a:off x="70866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3"/>
          <p:cNvSpPr/>
          <p:nvPr/>
        </p:nvSpPr>
        <p:spPr>
          <a:xfrm>
            <a:off x="77724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6172200" y="3276720"/>
            <a:ext cx="83808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7"/>
          <p:cNvSpPr/>
          <p:nvPr/>
        </p:nvSpPr>
        <p:spPr>
          <a:xfrm>
            <a:off x="908640" y="304920"/>
            <a:ext cx="31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ы выиграли 10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Овал 18"/>
          <p:cNvGrpSpPr/>
          <p:nvPr/>
        </p:nvGrpSpPr>
        <p:grpSpPr>
          <a:xfrm>
            <a:off x="79200" y="5456160"/>
            <a:ext cx="676440" cy="542880"/>
            <a:chOff x="79200" y="5456160"/>
            <a:chExt cx="676440" cy="542880"/>
          </a:xfrm>
        </p:grpSpPr>
        <p:pic>
          <p:nvPicPr>
            <p:cNvPr id="159" name="Овал 18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9200" y="5456160"/>
              <a:ext cx="6764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84320" y="5537160"/>
              <a:ext cx="46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6" dur="indefinite" restart="never" nodeType="tmRoot">
          <p:childTnLst>
            <p:seq>
              <p:cTn id="56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68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5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603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3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8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623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628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6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638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6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6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6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1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5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656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6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6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6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664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672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762120" y="5029200"/>
            <a:ext cx="7086600" cy="3988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то из приведённого является явление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96336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925560" y="63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497120" y="63244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451008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061360" y="6324480"/>
            <a:ext cx="782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5491080" y="5867280"/>
            <a:ext cx="1320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ер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5562720" y="6324480"/>
            <a:ext cx="621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1986120" y="5867280"/>
            <a:ext cx="1183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р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6172200" y="27432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>
            <a:hlinkClick r:id="" action="ppaction://hlinkshowjump?jump=nextslide"/>
          </p:cNvPr>
          <p:cNvSpPr/>
          <p:nvPr/>
        </p:nvSpPr>
        <p:spPr>
          <a:xfrm>
            <a:off x="80773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8"/>
          <p:cNvSpPr/>
          <p:nvPr/>
        </p:nvSpPr>
        <p:spPr>
          <a:xfrm>
            <a:off x="579132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0"/>
          <p:cNvSpPr/>
          <p:nvPr/>
        </p:nvSpPr>
        <p:spPr>
          <a:xfrm>
            <a:off x="64008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2"/>
          <p:cNvSpPr/>
          <p:nvPr/>
        </p:nvSpPr>
        <p:spPr>
          <a:xfrm>
            <a:off x="70866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3"/>
          <p:cNvSpPr/>
          <p:nvPr/>
        </p:nvSpPr>
        <p:spPr>
          <a:xfrm>
            <a:off x="77724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6"/>
          <p:cNvSpPr/>
          <p:nvPr/>
        </p:nvSpPr>
        <p:spPr>
          <a:xfrm>
            <a:off x="6172200" y="3048120"/>
            <a:ext cx="83808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908640" y="304920"/>
            <a:ext cx="31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ы выиграли 20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Овал 18"/>
          <p:cNvGrpSpPr/>
          <p:nvPr/>
        </p:nvGrpSpPr>
        <p:grpSpPr>
          <a:xfrm>
            <a:off x="79200" y="5456160"/>
            <a:ext cx="676440" cy="542880"/>
            <a:chOff x="79200" y="5456160"/>
            <a:chExt cx="676440" cy="542880"/>
          </a:xfrm>
        </p:grpSpPr>
        <p:pic>
          <p:nvPicPr>
            <p:cNvPr id="179" name="Овал 18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9200" y="5456160"/>
              <a:ext cx="6764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184320" y="5537160"/>
              <a:ext cx="46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76" dur="indefinite" restart="never" nodeType="tmRoot">
          <p:childTnLst>
            <p:seq>
              <p:cTn id="677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678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6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6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6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71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3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8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2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733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7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738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2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743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7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7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74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7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7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7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6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1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5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766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7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7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7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3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774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7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7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7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1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782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6:46:09Z</dcterms:created>
  <dc:creator>Макс</dc:creator>
  <dc:description/>
  <dc:language>en-US</dc:language>
  <cp:lastModifiedBy>Учетная запись Майкрософт</cp:lastModifiedBy>
  <dcterms:modified xsi:type="dcterms:W3CDTF">2023-11-01T08:25:22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