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2C2-9851-477D-B765-9347F51A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C72-A08C-42B6-B8C1-A1CCCC52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A5E-CA9C-4FBC-BA10-0570E956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615-4588-4216-85B1-E0A07AA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B19-2C6E-490A-A476-FE3FF4F5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473-49A8-4569-A004-F29974DF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BB34-66B4-423F-8640-5CA20B7A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61C-0660-4B94-AB7F-4E846AF0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5C94-CD9E-4548-8300-D86443B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06F-96B7-4650-8916-15C2A5F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7F5-A06A-48A1-9A8E-D59048D3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028-AB67-47F7-9F65-E716CAB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1979-E374-458D-8C79-E790881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21A-35E9-46E8-8942-E6F054FE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676C-99ED-4312-AE0D-CDCCBED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39F-16D8-46BD-BC57-B7474A81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D775-7C1C-47B5-B414-4E606D27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525-5AB1-4B54-A938-B56FFC10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B99-81F9-472B-B91C-10F6E567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A7D-7AA5-4990-AA6D-C2E138A3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1DF-E73A-40B2-84BB-33D366B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C7F-88C3-4394-9EC1-55B4BFA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22D-E804-404A-8891-FC34812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F1C-2407-49AF-AE23-4F8EEC9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D9F-1969-491F-9C20-4B2DF4158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0CB-C2B4-4F9F-AF81-DE4B3B6418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9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687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ТЕМА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обенности применения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диации в образовательной организации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-684360" y="1484280"/>
            <a:ext cx="9020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рись, мирись, мирись и больше не дер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Picture 7" descr="%D0%A1%D0%B8%D1%81%D1%82%D0%B5%D0%BC%D0%BD%D0%B0%D1%8F-%D0%BC%D0%B5%D0%B4%D0%B8%D0%B0%D1%86%D0%B8%D1%8F-490x225"/>
          <p:cNvPicPr/>
          <p:nvPr/>
        </p:nvPicPr>
        <p:blipFill>
          <a:blip r:embed="rId1"/>
          <a:stretch/>
        </p:blipFill>
        <p:spPr>
          <a:xfrm>
            <a:off x="0" y="4714920"/>
            <a:ext cx="466740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572436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: Свиридова Л.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БОУ «ССШ№2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учащихс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щеобразовательных 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363384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Учител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поведение в школе – несоблюдение школьных норм и правил- 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64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частые опоздания на уроки – отсутствие дисциплины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5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пропуски занятий без уважительных причин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(нет справки)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47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360" y="3141360"/>
            <a:ext cx="35020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Учащиес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мне не нравятся некоторые предметы – 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4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учителя несправедливо ставят оценк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32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непонятное объяснение учебного материала – материал плохо усваивается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32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скучные уроки – отсутствие заинтересованности в обучени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мой неуступчивый характер – всегда стою на своем мнени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01200" y="1557360"/>
            <a:ext cx="45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Причины конфликтного повед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324000" y="2781360"/>
            <a:ext cx="1079280" cy="251928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8101080" y="2708280"/>
            <a:ext cx="1042920" cy="3960720"/>
          </a:xfrm>
          <a:custGeom>
            <a:avLst/>
            <a:gdLst>
              <a:gd name="textAreaLeft" fmla="*/ 139680 w 1042920"/>
              <a:gd name="textAreaRight" fmla="*/ 903240 w 1042920"/>
              <a:gd name="textAreaTop" fmla="*/ 693000 h 3960720"/>
              <a:gd name="textAreaBottom" fmla="*/ 2871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ипичные способы реагирования на конфликты в школ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624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Административно-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карательн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Направление к психологу или           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социальному педагог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«Стрелки» среди подрост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Замалч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51"/>
          <p:cNvPicPr/>
          <p:nvPr/>
        </p:nvPicPr>
        <p:blipFill>
          <a:blip r:embed="rId1"/>
          <a:stretch/>
        </p:blipFill>
        <p:spPr>
          <a:xfrm>
            <a:off x="108000" y="4276800"/>
            <a:ext cx="3240000" cy="217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hH_LinY_3Lg_mYFaJ5-AX_t4q_12N7BOVw-_qX0XN0h5BpMwinw"/>
          <p:cNvPicPr/>
          <p:nvPr/>
        </p:nvPicPr>
        <p:blipFill>
          <a:blip r:embed="rId2"/>
          <a:stretch/>
        </p:blipFill>
        <p:spPr>
          <a:xfrm>
            <a:off x="5435640" y="4149720"/>
            <a:ext cx="3116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Миссия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 школьной службы медиации — развить и закрепить как культурную традицию способность людей к взаимопониман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Цель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 школьной службы медиации -   развитие в образовательной организации восстановительного способа реагирования на конфликты и правонару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3_photo"/>
          <p:cNvPicPr/>
          <p:nvPr/>
        </p:nvPicPr>
        <p:blipFill>
          <a:blip r:embed="rId1"/>
          <a:stretch/>
        </p:blipFill>
        <p:spPr>
          <a:xfrm>
            <a:off x="5796000" y="249120"/>
            <a:ext cx="3240000" cy="209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9"/>
          <p:cNvPicPr/>
          <p:nvPr/>
        </p:nvPicPr>
        <p:blipFill>
          <a:blip r:embed="rId2"/>
          <a:stretch/>
        </p:blipFill>
        <p:spPr>
          <a:xfrm>
            <a:off x="971640" y="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лужб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кольной медиаци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это служба, созданная в образовательной организации и состоящая из работников образовательной организации, учащихся и их родителей, прошедших необходимую подготовку и обучение основам метода школьной медиации и медиативного под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SDC14511"/>
          <p:cNvPicPr/>
          <p:nvPr/>
        </p:nvPicPr>
        <p:blipFill>
          <a:blip r:embed="rId1"/>
          <a:stretch/>
        </p:blipFill>
        <p:spPr>
          <a:xfrm>
            <a:off x="5219640" y="155736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389098087063927300"/>
          <p:cNvPicPr/>
          <p:nvPr/>
        </p:nvPicPr>
        <p:blipFill>
          <a:blip r:embed="rId2"/>
          <a:stretch/>
        </p:blipFill>
        <p:spPr>
          <a:xfrm>
            <a:off x="5003640" y="4076640"/>
            <a:ext cx="3606840" cy="2401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1-404x256"/>
          <p:cNvPicPr/>
          <p:nvPr/>
        </p:nvPicPr>
        <p:blipFill>
          <a:blip r:embed="rId3"/>
          <a:stretch/>
        </p:blipFill>
        <p:spPr>
          <a:xfrm>
            <a:off x="179280" y="115920"/>
            <a:ext cx="2808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980640"/>
            <a:ext cx="7313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Деятельность службы школьной медиации направлена на формирование безопасного пространства (среды) не только для детей, но и для взрослых, путем содействия воспитанию у них культуры конструктивного поведения в различных конфликтных ситуация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ункционирование служб школьной медиации в образовательной организации позволит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сократить общее количество конфликтных ситуаций, в которые вовлекаются дети, а также их острот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повысить эффективность ведения профилактической и коррекционной работы, направленной на снижение проявления асоциального поведения обучающихс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сократить количество правонарушений, совершаемых несовершеннолетними, в том числе повторных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укварь медиатор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69800" y="928800"/>
            <a:ext cx="7313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диация - способ разрешения споров мирным путем на основе выработки сторонами спора, добровольно участвующими в процедуре меди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кольная медиация – метод для интеграции медиативных технологий в образовательное простран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диативный подход - подход, основанный на принципах медиации, предполагающий владение навыками позитивного осознанного общения, создающими основу для предотвращения и (или) эффективного разрешения спо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ординатор службы школьной медиации – сотрудник , осуществляющий координацию действий по созданию и организации работы Службы Ш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кольный медиатор – медиатор, помогающий в разрешении возникающих споров, разногласий, конфликтов при помощи Метода Ш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Группы равных» - учащиеся, знающие основы школьной медиации и имеющие навыки медиативного подход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7280" y="189000"/>
            <a:ext cx="662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СПАСИБО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ЗА ВНИМАНИЕ!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3hvXpgT_p5w"/>
          <p:cNvPicPr/>
          <p:nvPr/>
        </p:nvPicPr>
        <p:blipFill>
          <a:blip r:embed="rId1"/>
          <a:stretch/>
        </p:blipFill>
        <p:spPr>
          <a:xfrm>
            <a:off x="324000" y="2781360"/>
            <a:ext cx="5752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исьмо министерства образования и науки Российской Федерации от 18.11.2013 г. № ВК-844/07 «О направлении методических рекомендаций по организации служб школьной медиации»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циональная стратегия действий в интересах детей на 2012 – 2017 годы (Указ Президента Российской Федерации №761 от 01.06.2012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деральный закон от 27.07.2010 N 193-ФЗ (ред. от 23.07.2013) «Об альтернативной процедуре урегулирования споров с участием посредника (процедуре медиации)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атегия развития воспитания в Российской Федерации на период до 2025 года. Распоряжение Правительства Российской Федерации № 996-р от 29 мая 2015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6227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ичин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2421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социальное расслоение в обществ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усиление миграционных процесс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ослабление роли семьи как фундаментального общественного институ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9" descr="XEbzNErV_0U"/>
          <p:cNvPicPr/>
          <p:nvPr/>
        </p:nvPicPr>
        <p:blipFill>
          <a:blip r:embed="rId1"/>
          <a:stretch/>
        </p:blipFill>
        <p:spPr>
          <a:xfrm>
            <a:off x="0" y="0"/>
            <a:ext cx="39956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Медиац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68760" y="1484280"/>
            <a:ext cx="805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диация – оди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з вариантов стратегии примирени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работанный человеческой практико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1" descr="10"/>
          <p:cNvPicPr/>
          <p:nvPr/>
        </p:nvPicPr>
        <p:blipFill>
          <a:blip r:embed="rId1"/>
          <a:stretch/>
        </p:blipFill>
        <p:spPr>
          <a:xfrm>
            <a:off x="2771640" y="2924280"/>
            <a:ext cx="432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63007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оцедура медиации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1844640"/>
            <a:ext cx="66657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пособ урегулирования споров при содействии медиатора (независимое лицо либо независимые лица, привлекаемые сторонами в качестве посредников в урегулировании спора для содействия в выработке сторонами решения по существу спора) на основе добровольного согласия сторон в целях достижения ими взаимоприемлемого реш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primirenie-3"/>
          <p:cNvPicPr/>
          <p:nvPr/>
        </p:nvPicPr>
        <p:blipFill>
          <a:blip r:embed="rId1"/>
          <a:stretch/>
        </p:blipFill>
        <p:spPr>
          <a:xfrm>
            <a:off x="173160" y="46080"/>
            <a:ext cx="281448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19-350x251"/>
          <p:cNvPicPr/>
          <p:nvPr/>
        </p:nvPicPr>
        <p:blipFill>
          <a:blip r:embed="rId2"/>
          <a:stretch/>
        </p:blipFill>
        <p:spPr>
          <a:xfrm>
            <a:off x="179280" y="4292640"/>
            <a:ext cx="2521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инципы меди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бровольность участия стор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ированность сторон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йтральность 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 процес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ь сторон и 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ь сторон и 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ediation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«Школьная медиация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это инновационный метод, который применяется для разрешения споров и предотвращения конфликтных ситуаций между участниками образовательных отношений в качестве современного альтернативного способа разрешения спор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учащихс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щеобразовательных 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Verdana"/>
              </a:rPr>
              <a:t>Учителя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на вопрос,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 «Как обычно Вы ведете себя в конфликтной ситуации»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, ответили следующее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внешне не реагировать на слова – ухожу от конфликта     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1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огу накричать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3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быстрее забыть конфликтную ситуацию – не люблю ругаться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1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обращаюсь за помощью (к родителям, коллегам, педагогу-психологу, социальному педагогу и т. д.)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не обострять конфликтной ситуации, а договориться по-хорошему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разрабатываю схему благоприятного выхода из конфликтной ситуации и действую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2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у меня никогда конфликтов не бывает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3%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banner4"/>
          <p:cNvPicPr/>
          <p:nvPr/>
        </p:nvPicPr>
        <p:blipFill>
          <a:blip r:embed="rId1"/>
          <a:stretch/>
        </p:blipFill>
        <p:spPr>
          <a:xfrm>
            <a:off x="3348000" y="5492880"/>
            <a:ext cx="4248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учащихся общеобразовательных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743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На вопрос,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«Как обычно ты ведешь себя в конфликтной ситуации?»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учащиеся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ответили, чт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внешне не реагировать на слова – ухожу от конфликта         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3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могу ударить, поскольку трудно себя сдерживать                      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15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быстрее забыть конфликтную ситуацию – не люблю ни с кем ругаться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22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обращаюсь за помощью (к родителям, учителям, педагогу-психологу и т. д.)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3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не обострять конфликт, а договориться по-хорошему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24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у меня конфликтов не бывает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6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20130206-101244-263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04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000000"/>
          <p:cNvPicPr/>
          <p:nvPr/>
        </p:nvPicPr>
        <p:blipFill>
          <a:blip r:embed="rId2"/>
          <a:stretch/>
        </p:blipFill>
        <p:spPr>
          <a:xfrm>
            <a:off x="25092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notitle91"/>
          <p:cNvPicPr/>
          <p:nvPr/>
        </p:nvPicPr>
        <p:blipFill>
          <a:blip r:embed="rId3"/>
          <a:stretch/>
        </p:blipFill>
        <p:spPr>
          <a:xfrm rot="274800">
            <a:off x="2700360" y="1341360"/>
            <a:ext cx="2016000" cy="138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devochka-plachet"/>
          <p:cNvPicPr/>
          <p:nvPr/>
        </p:nvPicPr>
        <p:blipFill>
          <a:blip r:embed="rId4"/>
          <a:stretch/>
        </p:blipFill>
        <p:spPr>
          <a:xfrm>
            <a:off x="5076720" y="134136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12:03:06Z</dcterms:created>
  <dc:creator>Admin</dc:creator>
  <dc:description/>
  <dc:language>en-US</dc:language>
  <cp:lastModifiedBy>uchitel</cp:lastModifiedBy>
  <dcterms:modified xsi:type="dcterms:W3CDTF">2024-01-24T04:59:12Z</dcterms:modified>
  <cp:revision>69</cp:revision>
  <dc:subject/>
  <dc:title>Родительское собрание</dc:title>
</cp:coreProperties>
</file>