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F32-366F-4869-91E4-3E276621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C1D-A7E4-4A26-9F2A-EBABFE21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5C8-25A0-4A1E-B374-8C6935E4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1669-5F02-4FF2-BBC9-19887EB7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E293-05F9-40E1-95BD-5D6D0DF1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4799-8413-45B2-A8BE-BC1AC9FA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8BA1-E72B-47E8-A6C9-8FF5EEEB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5AEE-6A55-4269-A013-373BC82A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AE9A-EAA3-42CC-9BAA-E99F5F22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4005-C161-412A-BFB2-40DAE43F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5327-67B6-4065-96B0-20117216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E51-C960-4459-A0CA-E850304B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76AF-CC0C-46EA-8393-CE2945C5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BD4F-5E91-4870-A2E8-5BE6A982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271B-7D31-4EFC-BCDD-14914864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63F5-C2AA-41DA-9FCD-DC16CA56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DC2F-667B-4671-A6FF-43660415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E6E48-EEC3-483D-973A-65288460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916C2-8CA0-49BE-9BF0-E31F9DEB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1F64-0EBE-44AC-BC5A-E6848CC8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A2231-C9D2-45C7-8AE9-0ABEFAAB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6F8DC-C4F1-45F4-A74F-B00C0746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D98-AE38-43F5-AF4F-4297C9FE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2151-EDA7-4CB2-BAB0-94DCFC13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C5E81-91FB-4534-AA45-577CA26C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386A3-A807-40E3-AED9-B1137B0F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B7949-85E8-41B5-842C-64FB1692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3846C-DE99-4CC2-8663-C09DD761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45AC4-25FB-430F-B3DF-C8780DF3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290D1-E6DF-4910-914D-F7AFEC30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2E0C4-3103-4693-B0E3-189F8BA6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211C3-6E05-4B9A-A6BE-37DCA6AE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69B9D-EDD0-41CE-A5D3-B9828114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169-E315-4AEE-B41D-7A55A5DA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1173E-9197-452A-9143-BA325409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B978-6556-4A4B-8CCC-0A618195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23E06-91F0-4DCD-A1EF-68EE971C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E0CAB-0491-433E-96AD-0482915C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51B4B-D4ED-4F58-8CDF-C81080DB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FE612-3C2C-49A7-B211-92F6EEF7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B683F-7BE4-4B40-A101-2E158380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EFBDD-0D51-4226-897F-EE495AC8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65B4-3D08-4913-9673-7A3C009A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00313-E7ED-43DD-A7B5-D50AF569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4E7-6495-4EDA-9CCE-DEEA8825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44CA3-B67D-49D8-9EBE-4CD9E7C0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9CE5B-7D90-4223-92EF-52BBC13F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6354C-657A-42A8-A304-647EA3AA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8E023-CB8C-4415-B850-CF0E1C88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F2E5-5323-4B00-BF92-A3E3FB88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4A891-142F-4349-A191-769B7746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D876C-DD2A-45B0-96D5-8E648FC3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BE5ED-6529-4830-A006-7F05DB45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8D223-14E4-4157-9409-9F7E867F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4FA6B-54DD-44B7-AA5C-F032CDDE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0FE-C0EB-4266-BFF3-83B13843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77E96-E5D3-40C8-ABD9-04E9C4B6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84155-19F7-4955-BC42-9ED0C531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63E59-13AB-4A9F-9915-EE039660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42F55-B56B-4355-9ACB-0B83524B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52643-B89F-4DB2-A17B-F1EA875E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ECC81-235A-4BF0-BD51-B34FAAAE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B1667-1476-4D78-8D3A-9795BD4A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8C2E4-CCFA-4FF8-9659-C56CFD64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DBC05-03AE-4E72-85F1-2FBDB7BC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00C6F-5B7C-4C47-B8A4-66C4E11E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309-4A8B-4946-8DB7-780FC7C2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ADAD6-A272-4AE5-8D0A-D79E2431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4C0CB-BC88-4AEA-B691-38CA1C57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4D408-6768-4B6C-8DED-356BD385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BD5FD-348E-4796-8E04-F1EF3012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7F215-C534-4875-8D9D-22CFF9E4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312AB-B0A4-4808-8859-477C3D8A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C460C-57EF-4658-BA6F-FBB94E02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9A0E7-5A5F-48AA-8D8C-172B4F1D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0CFBD-3F6C-4313-8C28-F24E33A4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35A56-4B82-42CF-8330-D8E7FC8C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B3E-6F59-44AB-8ECC-A5BCA47E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43A13-9BC3-45F4-90BD-BE56F4F7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A3E45-4B67-472B-9DFB-A27AFD7B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6E54D-EC6C-4DB5-885F-A420698E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84A90-3A2B-4C37-9DDC-C9495AE3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7B677-3876-4629-AC9B-B8C4E02C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6B3-88BA-4C8A-862B-FC21C7FF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Stenci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21E9-7126-448A-9C4D-0CF86598B27B}" type="slidenum">
              <a:rPr b="0" lang="ru-RU" sz="1200" spc="-1" strike="noStrike">
                <a:solidFill>
                  <a:srgbClr val="f8f8f8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Stenci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7FB8-A6F9-452E-A687-A94AF70F3167}" type="slidenum">
              <a:rPr b="0" lang="ru-RU" sz="1200" spc="-1" strike="noStrike">
                <a:solidFill>
                  <a:srgbClr val="f8f8f8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b2b2b2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b2b2b2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3f3f3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Stenci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2C4F-1F96-4DD4-9252-0E0FA425C135}" type="slidenum">
              <a:rPr b="0" lang="ru-RU" sz="1200" spc="-1" strike="noStrike">
                <a:solidFill>
                  <a:srgbClr val="f8f8f8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Stenci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83D0-8C5D-4F6A-BC53-26B5E2D11FCC}" type="slidenum">
              <a:rPr b="0" lang="ru-RU" sz="1200" spc="-1" strike="noStrike">
                <a:solidFill>
                  <a:srgbClr val="f8f8f8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3f3f3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Stenci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7E55-9603-4491-A2B7-545CCC009A10}" type="slidenum">
              <a:rPr b="0" lang="ru-RU" sz="1200" spc="-1" strike="noStrike">
                <a:solidFill>
                  <a:srgbClr val="f8f8f8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Stenci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8C2F-E14E-4FD8-A182-063AA10E754B}" type="slidenum">
              <a:rPr b="0" lang="ru-RU" sz="1200" spc="-1" strike="noStrike">
                <a:solidFill>
                  <a:srgbClr val="f8f8f8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Stenci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59FF-830F-4A31-AD22-27B56F0FBBD5}" type="slidenum">
              <a:rPr b="0" lang="ru-RU" sz="1200" spc="-1" strike="noStrike">
                <a:solidFill>
                  <a:srgbClr val="f8f8f8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4280" y="713880"/>
            <a:ext cx="73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Consolas"/>
              </a:rPr>
              <a:t>В чем виноват Колумб? </a:t>
            </a:r>
            <a:br>
              <a:rPr sz="2400"/>
            </a:br>
            <a:r>
              <a:rPr b="1" lang="ru-RU" sz="2400" spc="-1" strike="noStrike">
                <a:solidFill>
                  <a:srgbClr val="f8f8f8"/>
                </a:solidFill>
                <a:latin typeface="Consolas"/>
              </a:rPr>
              <a:t>(презентация к уроку по биологии)</a:t>
            </a:r>
            <a:br>
              <a:rPr sz="2400"/>
            </a:br>
            <a:r>
              <a:rPr b="1" lang="ru-RU" sz="2400" spc="-1" strike="noStrike">
                <a:solidFill>
                  <a:srgbClr val="f8f8f8"/>
                </a:solidFill>
                <a:latin typeface="Consolas"/>
              </a:rPr>
              <a:t>«Вредные привычки»</a:t>
            </a:r>
            <a:endParaRPr b="0" lang="en-US" sz="24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69" name="WordArt 5"/>
          <p:cNvSpPr txBox="1"/>
          <p:nvPr/>
        </p:nvSpPr>
        <p:spPr>
          <a:xfrm>
            <a:off x="1071720" y="428760"/>
            <a:ext cx="64008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6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0" name="Text Box 14"/>
          <p:cNvSpPr/>
          <p:nvPr/>
        </p:nvSpPr>
        <p:spPr>
          <a:xfrm>
            <a:off x="4881600" y="4156200"/>
            <a:ext cx="3676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Горло Анжела Вячеславона</a:t>
            </a: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914400" y="11430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Никотин включается в процессы обмена, происходящие в организме человека и становится необходимым. Однако если некурящий человек в один прием получит значительную дозу никотина, может наступить смерть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В последние годы ученые уделяют пристальное внимание веществам, вызывающим рак. К ним в первую очередь относятся бензопирен и радиоактивный изотоп полоний – 210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В табачном дегте особенно много веществ вызывающих рак. В табаке насчитывают 1200 вредных веществ!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914400" y="356760"/>
            <a:ext cx="5229360" cy="599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 организм девушки табак действует гораздо сильнее: «вянет кожа», быстрее сипнет голос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 детей, матери которых курили во время беременности, имеется предрасположение к припадкам. Они значительно чаще заболевают эпилепсией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6129360" y="3143160"/>
            <a:ext cx="30146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olas"/>
              </a:rPr>
              <a:t>Мифы об алкоголе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928800" y="1143000"/>
          <a:ext cx="7772400" cy="5334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миф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еаль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оголь – пищевой продук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оголь не переваривается в желудке, как пища. Он попадает прямо в кровь, а затем в моз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оголь – не основанная причина смертности среди молодеж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дростки и молодежь чаще всего погибают в результате несчастных случаев, связанных со злоупотреблением алкогол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ыпившие люди дружелюбны и общительн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ычно напившиеся люди теряют над собой контроль, становятся агрессивными и злыми, ввязываются в драки. Половина всех убийств связана со злоупотреблением алкогол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оголь стимулирует, придает сил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оголь угнетает центральную нервную систему, затормаживает нормальные реакции организм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8f8f8"/>
                </a:solidFill>
                <a:latin typeface="Consolas"/>
              </a:rPr>
              <a:t>Из чего </a:t>
            </a:r>
            <a:r>
              <a:rPr b="0" lang="ru-RU" sz="4000" spc="-1" strike="noStrike">
                <a:solidFill>
                  <a:srgbClr val="ff0000"/>
                </a:solidFill>
                <a:latin typeface="Consolas"/>
              </a:rPr>
              <a:t>она</a:t>
            </a:r>
            <a:r>
              <a:rPr b="0" lang="ru-RU" sz="4000" spc="-1" strike="noStrike">
                <a:solidFill>
                  <a:srgbClr val="f8f8f8"/>
                </a:solidFill>
                <a:latin typeface="Consolas"/>
              </a:rPr>
              <a:t> состоит: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pic>
        <p:nvPicPr>
          <p:cNvPr id="412" name="Рисунок 2" descr=""/>
          <p:cNvPicPr/>
          <p:nvPr/>
        </p:nvPicPr>
        <p:blipFill>
          <a:blip r:embed="rId1"/>
          <a:stretch/>
        </p:blipFill>
        <p:spPr>
          <a:xfrm>
            <a:off x="1835280" y="2714760"/>
            <a:ext cx="58323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Consolas"/>
              </a:rPr>
              <a:t>Употребление никотина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pic>
        <p:nvPicPr>
          <p:cNvPr id="414" name="Picture 4" descr="HM00250_"/>
          <p:cNvPicPr/>
          <p:nvPr/>
        </p:nvPicPr>
        <p:blipFill>
          <a:blip r:embed="rId1"/>
          <a:stretch/>
        </p:blipFill>
        <p:spPr>
          <a:xfrm>
            <a:off x="533520" y="4952880"/>
            <a:ext cx="1317600" cy="152424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11"/>
          <p:cNvSpPr/>
          <p:nvPr/>
        </p:nvSpPr>
        <p:spPr>
          <a:xfrm>
            <a:off x="228600" y="358128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Stencil"/>
              </a:rPr>
              <a:t>Хронический бронхит</a:t>
            </a:r>
            <a:endParaRPr b="0" lang="en-US" sz="1800" spc="-1" strike="noStrike">
              <a:solidFill>
                <a:srgbClr val="ffffff"/>
              </a:solidFill>
              <a:latin typeface="Stenci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Stencil"/>
              </a:rPr>
              <a:t>Рак легких</a:t>
            </a:r>
            <a:endParaRPr b="0" lang="en-US" sz="18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2209680" y="3505320"/>
            <a:ext cx="23623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Stencil"/>
              </a:rPr>
              <a:t>Хроническая сердечная недостаточность</a:t>
            </a:r>
            <a:endParaRPr b="0" lang="en-US" sz="1800" spc="-1" strike="noStrike">
              <a:solidFill>
                <a:srgbClr val="ffffff"/>
              </a:solidFill>
              <a:latin typeface="Stenci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Stencil"/>
              </a:rPr>
              <a:t>Повышение нагрузки на сердце</a:t>
            </a:r>
            <a:endParaRPr b="0" lang="en-US" sz="18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4572000" y="2971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Stencil"/>
              </a:rPr>
              <a:t>Тяжелые повреждения головного мозга</a:t>
            </a:r>
            <a:endParaRPr b="0" lang="en-US" sz="1800" spc="-1" strike="noStrike">
              <a:solidFill>
                <a:srgbClr val="ffffff"/>
              </a:solidFill>
              <a:latin typeface="Stencil"/>
            </a:endParaRPr>
          </a:p>
        </p:txBody>
      </p:sp>
      <p:grpSp>
        <p:nvGrpSpPr>
          <p:cNvPr id="418" name="Group 18"/>
          <p:cNvGrpSpPr/>
          <p:nvPr/>
        </p:nvGrpSpPr>
        <p:grpSpPr>
          <a:xfrm>
            <a:off x="1143000" y="1752480"/>
            <a:ext cx="6781680" cy="1752840"/>
            <a:chOff x="1143000" y="1752480"/>
            <a:chExt cx="6781680" cy="1752840"/>
          </a:xfrm>
        </p:grpSpPr>
        <p:sp>
          <p:nvSpPr>
            <p:cNvPr id="419" name="Line 7"/>
            <p:cNvSpPr/>
            <p:nvPr/>
          </p:nvSpPr>
          <p:spPr>
            <a:xfrm>
              <a:off x="1143000" y="1752480"/>
              <a:ext cx="6781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420" name="Line 10"/>
            <p:cNvSpPr/>
            <p:nvPr/>
          </p:nvSpPr>
          <p:spPr>
            <a:xfrm>
              <a:off x="1143000" y="1752480"/>
              <a:ext cx="0" cy="1752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>
              <a:off x="3200400" y="1752480"/>
              <a:ext cx="0" cy="167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422" name="Line 14"/>
            <p:cNvSpPr/>
            <p:nvPr/>
          </p:nvSpPr>
          <p:spPr>
            <a:xfrm>
              <a:off x="5486400" y="1752480"/>
              <a:ext cx="0" cy="9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423" name="Line 16"/>
            <p:cNvSpPr/>
            <p:nvPr/>
          </p:nvSpPr>
          <p:spPr>
            <a:xfrm>
              <a:off x="7924680" y="1752480"/>
              <a:ext cx="0" cy="9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</p:grpSp>
      <p:sp>
        <p:nvSpPr>
          <p:cNvPr id="424" name="Text Box 17"/>
          <p:cNvSpPr/>
          <p:nvPr/>
        </p:nvSpPr>
        <p:spPr>
          <a:xfrm>
            <a:off x="7086600" y="281952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Stencil"/>
              </a:rPr>
              <a:t>Ослабление иммунитета</a:t>
            </a:r>
            <a:endParaRPr b="0" lang="en-US" sz="18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425" name="Text Box 19"/>
          <p:cNvSpPr/>
          <p:nvPr/>
        </p:nvSpPr>
        <p:spPr>
          <a:xfrm>
            <a:off x="1371600" y="1143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ffffff"/>
              </a:solidFill>
              <a:latin typeface="Stencil"/>
            </a:endParaRPr>
          </a:p>
        </p:txBody>
      </p:sp>
      <p:pic>
        <p:nvPicPr>
          <p:cNvPr id="426" name="Picture 20" descr="j0234673"/>
          <p:cNvPicPr/>
          <p:nvPr/>
        </p:nvPicPr>
        <p:blipFill>
          <a:blip r:embed="rId2"/>
          <a:stretch/>
        </p:blipFill>
        <p:spPr>
          <a:xfrm>
            <a:off x="4952880" y="4292640"/>
            <a:ext cx="1143000" cy="10810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1" descr="j0234734"/>
          <p:cNvPicPr/>
          <p:nvPr/>
        </p:nvPicPr>
        <p:blipFill>
          <a:blip r:embed="rId3"/>
          <a:stretch/>
        </p:blipFill>
        <p:spPr>
          <a:xfrm>
            <a:off x="2903400" y="52783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1634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8f8f8"/>
                </a:solidFill>
                <a:latin typeface="Consolas"/>
              </a:rPr>
              <a:t>Последствия: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pic>
        <p:nvPicPr>
          <p:cNvPr id="429" name="Picture 4" descr="http://im2-tub-ua.yandex.net/i?id=aadf6c2d4c4663fdcd0bc30756d0aec7-106-144&amp;n=21"/>
          <p:cNvPicPr/>
          <p:nvPr/>
        </p:nvPicPr>
        <p:blipFill>
          <a:blip r:embed="rId1"/>
          <a:stretch/>
        </p:blipFill>
        <p:spPr>
          <a:xfrm>
            <a:off x="5467320" y="0"/>
            <a:ext cx="3706920" cy="3068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http://im1-tub-ua.yandex.net/i?id=a6ecddcf3fd34a873860865834bc9fac-63-144&amp;n=21"/>
          <p:cNvPicPr/>
          <p:nvPr/>
        </p:nvPicPr>
        <p:blipFill>
          <a:blip r:embed="rId2"/>
          <a:stretch/>
        </p:blipFill>
        <p:spPr>
          <a:xfrm>
            <a:off x="366840" y="836640"/>
            <a:ext cx="3106440" cy="27813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Вскрытие показало."/>
          <p:cNvPicPr/>
          <p:nvPr/>
        </p:nvPicPr>
        <p:blipFill>
          <a:blip r:embed="rId3"/>
          <a:stretch/>
        </p:blipFill>
        <p:spPr>
          <a:xfrm>
            <a:off x="5467320" y="3594240"/>
            <a:ext cx="3706920" cy="31683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0" descr="http://im2-tub-ua.yandex.net/i?id=e6e7c8059c806e913155d431500916bd-60-144&amp;n=21"/>
          <p:cNvPicPr/>
          <p:nvPr/>
        </p:nvPicPr>
        <p:blipFill>
          <a:blip r:embed="rId4"/>
          <a:stretch/>
        </p:blipFill>
        <p:spPr>
          <a:xfrm>
            <a:off x="395280" y="3594240"/>
            <a:ext cx="2700360" cy="32637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2" descr="http://im3-tub-ua.yandex.net/i?id=9540704f09542568362f8bc20c17814c-53-144&amp;n=21"/>
          <p:cNvPicPr/>
          <p:nvPr/>
        </p:nvPicPr>
        <p:blipFill>
          <a:blip r:embed="rId5"/>
          <a:stretch/>
        </p:blipFill>
        <p:spPr>
          <a:xfrm>
            <a:off x="3095640" y="2519280"/>
            <a:ext cx="2522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8f8f8"/>
              </a:solidFill>
              <a:latin typeface="Consolas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705960" y="512640"/>
            <a:ext cx="8156520" cy="56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 </a:t>
            </a: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	</a:t>
            </a: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Трудно себе представить то благотворное изменение, которое произошло бы во всей жизни людской, если бы люди перестали одурманивать и отравлять себя водкой, вином, табаком и опиумом.</a:t>
            </a:r>
            <a:br>
              <a:rPr sz="3800"/>
            </a:b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                                                                                           </a:t>
            </a: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	</a:t>
            </a: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	</a:t>
            </a: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	</a:t>
            </a: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	</a:t>
            </a: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	</a:t>
            </a: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Л.Н.Толстой.</a:t>
            </a:r>
            <a:endParaRPr b="0" lang="en-US" sz="3800" spc="-1" strike="noStrike">
              <a:solidFill>
                <a:srgbClr val="f8f8f8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5" descr=""/>
          <p:cNvPicPr/>
          <p:nvPr/>
        </p:nvPicPr>
        <p:blipFill>
          <a:blip r:embed="rId1"/>
          <a:stretch/>
        </p:blipFill>
        <p:spPr>
          <a:xfrm>
            <a:off x="6148440" y="1500120"/>
            <a:ext cx="2995560" cy="278604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2"/>
          <p:cNvSpPr/>
          <p:nvPr/>
        </p:nvSpPr>
        <p:spPr>
          <a:xfrm>
            <a:off x="63828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3000240" y="478620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Человечески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ороки</a:t>
            </a:r>
            <a:endParaRPr b="0" lang="en-US" sz="40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76" name="Line 10"/>
          <p:cNvSpPr/>
          <p:nvPr/>
        </p:nvSpPr>
        <p:spPr>
          <a:xfrm flipH="1" flipV="1">
            <a:off x="4707000" y="3429000"/>
            <a:ext cx="46080" cy="1509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77" name="Line 11"/>
          <p:cNvSpPr/>
          <p:nvPr/>
        </p:nvSpPr>
        <p:spPr>
          <a:xfrm flipV="1">
            <a:off x="6505560" y="4710240"/>
            <a:ext cx="9144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78" name="Line 12"/>
          <p:cNvSpPr/>
          <p:nvPr/>
        </p:nvSpPr>
        <p:spPr>
          <a:xfrm flipH="1" flipV="1">
            <a:off x="2009520" y="4710240"/>
            <a:ext cx="99036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485640" y="4329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Times New Roman"/>
              </a:rPr>
              <a:t>Курение</a:t>
            </a:r>
            <a:endParaRPr b="0" lang="en-US" sz="28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3357720" y="30002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Times New Roman"/>
              </a:rPr>
              <a:t>Алкоголизм</a:t>
            </a:r>
            <a:endParaRPr b="0" lang="en-US" sz="28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81" name="Text Box 16"/>
          <p:cNvSpPr/>
          <p:nvPr/>
        </p:nvSpPr>
        <p:spPr>
          <a:xfrm>
            <a:off x="6505560" y="4176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Times New Roman"/>
              </a:rPr>
              <a:t>Наркомания</a:t>
            </a:r>
            <a:endParaRPr b="0" lang="en-US" sz="2800" spc="-1" strike="noStrike">
              <a:solidFill>
                <a:srgbClr val="ffffff"/>
              </a:solidFill>
              <a:latin typeface="Stencil"/>
            </a:endParaRPr>
          </a:p>
        </p:txBody>
      </p:sp>
      <p:pic>
        <p:nvPicPr>
          <p:cNvPr id="382" name="Picture 13" descr=""/>
          <p:cNvPicPr/>
          <p:nvPr/>
        </p:nvPicPr>
        <p:blipFill>
          <a:blip r:embed="rId2"/>
          <a:stretch/>
        </p:blipFill>
        <p:spPr>
          <a:xfrm>
            <a:off x="533520" y="1814400"/>
            <a:ext cx="2692440" cy="2571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4" descr=""/>
          <p:cNvPicPr/>
          <p:nvPr/>
        </p:nvPicPr>
        <p:blipFill>
          <a:blip r:embed="rId3"/>
          <a:stretch/>
        </p:blipFill>
        <p:spPr>
          <a:xfrm>
            <a:off x="3214800" y="428760"/>
            <a:ext cx="3039840" cy="23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5960" y="214200"/>
            <a:ext cx="815652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8f8f8"/>
                </a:solidFill>
                <a:latin typeface="Consolas"/>
              </a:rPr>
              <a:t>Немного о курении</a:t>
            </a:r>
            <a:endParaRPr b="0" lang="en-US" sz="9600" spc="-1" strike="noStrike">
              <a:solidFill>
                <a:srgbClr val="f8f8f8"/>
              </a:solidFill>
              <a:latin typeface="Consolas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5718240" y="1925640"/>
            <a:ext cx="34257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28760" y="142920"/>
            <a:ext cx="8572320" cy="650088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rbel"/>
              </a:rPr>
              <a:t>История приобщения к курению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табак родом из Америки, 12 октября 1942 года Христофор Колумб причалил к неизвестному острову, жители которого поднесли гостям сушеные на солнце листья, свернутые в трубочку. Они курили это растение “петум” – так они его называли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- после второго похода Колумба, семена табака были занесены в Испанию, а оттуда во все уголки Земного шара. Быстрому распространению способствовало удивительное свойство табака - привычная тяга к курению, с которой трудно совладать человеку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- в Россию табак завезен английскими купцами в 1585 году через Архангельск. Царь Михаил Федорович вел жестокую борьбу с курильщиками: уличая 1 раз в курении – 60 ударов палок по стопам; 2 раз – резали носы, уши, ссылали в дальние города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6510240" y="1805040"/>
            <a:ext cx="2584440" cy="4767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914040" y="571680"/>
            <a:ext cx="57294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-каждый из нас выкуривает за год 1,55 кг табака. Если я не курю, то тот кто рядом выкуривает 3,1 кг; а если и он не курит, то тот, следующий выкуривает 4,5 кг, а то и 6 кг табак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- каждая выкуренная сигарета сокращает жизнь на 15 мин. Каждые 13 секунд умирает человек от заболевания, связанного с курением. За год – это 2,5 млн. человек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-  население земного шара за год выкуривает 12 биллионов папирос и сигарет! Общая масса окурков – 2 520 000 тонн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-курение в ДВА раза опаснее для растущего организма, чем для взрослого. Смертельная доза взрослого человека содержится в одной пачке сигарет, если ее выкурить сразу, а для подростков полпачки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914400" y="571320"/>
            <a:ext cx="777240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рост количества курящих параллельно увеличивает количество опасных болезней. Если человек курит в день от 1 до 9 сигарет, то сокращает свою жизнь (в среднем) на 4,6 года по сравнению с некурящими; если курит от 10 до 19 сигарет, то на 5,5 года; если выкуренных 20 до 39 сигарет – на 6,2 го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люди, начавшие курить до 15 летнего возраста, умирают от рака легких в 5 раз чаще, чем те которые начали курить после 25 лет. Нет такого органа, который не поражался табаком: почки и мочевой пузырь, половые железы и кровеносные сосуды, головной мозг и печень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914400" y="500040"/>
            <a:ext cx="7772400" cy="58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-Никотин – один из самых опасных ядов растительного происхождения. Птицы погибают, если к их клюву всего лишь поднести стеклянную палочку, смоченную никотином. Кролик погибает от ¼ капли никотина, собака – от ½ капли. Для человека смертельная доза никотина составляет от 50 до 100 мг, или 2-3 капл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-Именно такая доза поступает ежедневно в кровь после выкуривания 20-25 сигарет (в одной сигарете содержится примерно 6-8 мг никотина, из которых 3-4мг попадает в кровь)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-Курильщик не погибает по тому, что доза вводиться постепенно, не в один прием. Систематическое поглощение небольших, не смертельных доз никотина вызывает привычку, пристрастие к курению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200400" y="297180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"/>
              </a:rPr>
              <a:t>Никотин наносит удар</a:t>
            </a:r>
            <a:endParaRPr b="0" lang="en-US" sz="3200" spc="-1" strike="noStrike">
              <a:solidFill>
                <a:srgbClr val="ffffff"/>
              </a:solidFill>
              <a:latin typeface="Stencil"/>
            </a:endParaRPr>
          </a:p>
        </p:txBody>
      </p:sp>
      <p:pic>
        <p:nvPicPr>
          <p:cNvPr id="392" name="Picture 5" descr="легкие2"/>
          <p:cNvPicPr/>
          <p:nvPr/>
        </p:nvPicPr>
        <p:blipFill>
          <a:blip r:embed="rId1"/>
          <a:stretch/>
        </p:blipFill>
        <p:spPr>
          <a:xfrm>
            <a:off x="3481560" y="184320"/>
            <a:ext cx="1981080" cy="1823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желудок"/>
          <p:cNvPicPr/>
          <p:nvPr/>
        </p:nvPicPr>
        <p:blipFill>
          <a:blip r:embed="rId2"/>
          <a:stretch/>
        </p:blipFill>
        <p:spPr>
          <a:xfrm>
            <a:off x="0" y="4724280"/>
            <a:ext cx="1828800" cy="213372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14"/>
          <p:cNvSpPr/>
          <p:nvPr/>
        </p:nvSpPr>
        <p:spPr>
          <a:xfrm rot="19633800">
            <a:off x="2081160" y="4402080"/>
            <a:ext cx="137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95" name="AutoShape 15"/>
          <p:cNvSpPr/>
          <p:nvPr/>
        </p:nvSpPr>
        <p:spPr>
          <a:xfrm rot="13290600">
            <a:off x="5194080" y="4409640"/>
            <a:ext cx="1004760" cy="533520"/>
          </a:xfrm>
          <a:prstGeom prst="leftArrow">
            <a:avLst>
              <a:gd name="adj1" fmla="val 50000"/>
              <a:gd name="adj2" fmla="val 3926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3643200" y="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егкие</a:t>
            </a:r>
            <a:endParaRPr b="0" lang="en-US" sz="28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0" y="428616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Желудок</a:t>
            </a:r>
            <a:endParaRPr b="0" lang="en-US" sz="28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7072200" y="29289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ердце</a:t>
            </a:r>
            <a:endParaRPr b="0" lang="en-US" sz="2800" spc="-1" strike="noStrike">
              <a:solidFill>
                <a:srgbClr val="ffffff"/>
              </a:solidFill>
              <a:latin typeface="Stencil"/>
            </a:endParaRPr>
          </a:p>
        </p:txBody>
      </p:sp>
      <p:pic>
        <p:nvPicPr>
          <p:cNvPr id="399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2054160" cy="24987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17"/>
          <p:cNvSpPr/>
          <p:nvPr/>
        </p:nvSpPr>
        <p:spPr>
          <a:xfrm>
            <a:off x="0" y="23572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чки</a:t>
            </a:r>
            <a:endParaRPr b="0" lang="en-US" sz="2800" spc="-1" strike="noStrike">
              <a:solidFill>
                <a:srgbClr val="ffffff"/>
              </a:solidFill>
              <a:latin typeface="Stencil"/>
            </a:endParaRPr>
          </a:p>
        </p:txBody>
      </p:sp>
      <p:pic>
        <p:nvPicPr>
          <p:cNvPr id="401" name="Picture 15" descr=""/>
          <p:cNvPicPr/>
          <p:nvPr/>
        </p:nvPicPr>
        <p:blipFill>
          <a:blip r:embed="rId4"/>
          <a:stretch/>
        </p:blipFill>
        <p:spPr>
          <a:xfrm>
            <a:off x="6931080" y="139680"/>
            <a:ext cx="2011320" cy="296388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15"/>
          <p:cNvSpPr/>
          <p:nvPr/>
        </p:nvSpPr>
        <p:spPr>
          <a:xfrm rot="8966400">
            <a:off x="5308200" y="2877480"/>
            <a:ext cx="1628640" cy="533160"/>
          </a:xfrm>
          <a:prstGeom prst="leftArrow">
            <a:avLst>
              <a:gd name="adj1" fmla="val 50000"/>
              <a:gd name="adj2" fmla="val 3928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403" name="AutoShape 15"/>
          <p:cNvSpPr/>
          <p:nvPr/>
        </p:nvSpPr>
        <p:spPr>
          <a:xfrm rot="5400000">
            <a:off x="4142880" y="2282760"/>
            <a:ext cx="838080" cy="533160"/>
          </a:xfrm>
          <a:prstGeom prst="leftArrow">
            <a:avLst>
              <a:gd name="adj1" fmla="val 50000"/>
              <a:gd name="adj2" fmla="val 3929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404" name="AutoShape 15"/>
          <p:cNvSpPr/>
          <p:nvPr/>
        </p:nvSpPr>
        <p:spPr>
          <a:xfrm rot="2458800">
            <a:off x="2074680" y="2538360"/>
            <a:ext cx="14032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pic>
        <p:nvPicPr>
          <p:cNvPr id="405" name="Picture 17" descr=""/>
          <p:cNvPicPr/>
          <p:nvPr/>
        </p:nvPicPr>
        <p:blipFill>
          <a:blip r:embed="rId5"/>
          <a:stretch/>
        </p:blipFill>
        <p:spPr>
          <a:xfrm>
            <a:off x="6278400" y="4889520"/>
            <a:ext cx="2865600" cy="19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4:56:38Z</dcterms:created>
  <dc:creator>NikulinaII</dc:creator>
  <dc:description/>
  <dc:language>en-US</dc:language>
  <cp:lastModifiedBy>Admin</cp:lastModifiedBy>
  <dcterms:modified xsi:type="dcterms:W3CDTF">2024-01-25T12:34:20Z</dcterms:modified>
  <cp:revision>38</cp:revision>
  <dc:subject/>
  <dc:title>Жизнь дается один раз</dc:title>
</cp:coreProperties>
</file>