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17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D05B-1F0C-49CC-B6DC-56C9730D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2233-4F1D-4203-B7F6-446AC398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348-6B62-4850-ACDE-E2FBC997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F8E-0413-4A46-91FC-B29D8C362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4C82-E4E8-4552-B63F-556FEAA2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B6CC-31F6-4909-98CD-D2F37F0D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88CF-6905-4269-8707-9269F97D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66B6-392A-4BF2-9B0C-B5893BFE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E994-D42A-43AB-B233-5D7EA341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1F9F-F077-42C6-9E54-68E4F479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C2C7-0137-4609-8E66-5439FCB9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793-B29D-439B-9E84-377B44AB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C3D1-8D7D-476C-A306-E6B5F827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CC8C-ACB8-4CA9-B15F-0CF70241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0894-63CC-4FDE-9AD0-DEA424B5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595D-8886-4A23-BC38-8F5B5F34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627D-3A95-4282-A7E8-837EA36E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C26DE-B9CF-4653-9D34-1CCCF111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833AB-A5F2-487D-A1F7-217D3297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C9DF-84AA-4CB2-802B-A9F4F9FF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7273-D61D-40D2-9AC2-CE72CE4E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0B53-33D9-45FF-B178-375D7362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9D9-F0B5-4F09-9F78-5F59338B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49E51-124C-48CB-87C1-AF24BAB6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38480-61DF-4FB9-B587-E8182749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BCEF-F2B8-4888-99A6-18943492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44534-0F14-44E1-B53C-5A4E5A4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0C1AA-762E-4C47-8C01-9E2AC7EF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50EB-72D4-4F95-A8E7-BF6727B7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8A16F-023C-4B60-99DE-97166F6E1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D59EA-DD62-4851-A992-ED5C59BD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ABF51-3012-4C2F-B81F-99E2041C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D1F19-CF53-4789-AF20-0F25A8CF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7182-4555-4710-9DBA-0BB25856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ABF0F-D5CA-4945-9AAE-979B17A6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73BB2-D6CE-483D-9362-43270C7F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422F5-2644-4145-874B-CCECDD03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09E5-D378-44DD-BFEB-4DD13C33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E666F-9511-436C-AF92-7563BF21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4CBB9-C089-4F34-A842-0E60BF05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FBB9-B6E8-4244-9BBD-B62A8AC6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B95AC-3552-4027-AA92-CEC69BADF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CC885-68F1-48CD-B0D8-0C104FCA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0BCE6-6CA8-406C-A48E-2617F3EF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4582-B8DD-4919-9DF4-47E88ADD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98D81-0485-40FB-806D-96727FCB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BBB9B-D15E-41FF-8545-6E7E7566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7B910-CAE2-463E-B61D-A981D3EA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5440E-0F8C-4907-ABB2-BE910C09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224F5-9376-47C6-82A7-E1A6D29A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E092B-1DD9-4D49-B6F2-1FACD62F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9B525-7FAC-446B-BB24-5E5C0C08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DDD71-3ADC-4C57-9F2D-ED30828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815C3-931B-45B3-9858-44445982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2D12-D315-462A-87C6-97FE6242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1175-6276-484C-B34C-E1FB80F5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B6FAE-8B4F-4C07-8038-8811DF58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623AD-3314-42D8-9031-B9275696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607EF-06A0-43B6-B58F-92D42BE8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309BF-A59A-425C-8266-4AF21C68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380A3-8BDF-4593-8C9B-51249E15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72DA8-7010-4B20-8B42-417FF2CE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24F7F-1BBF-46F8-89CB-0EB608C0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6F758-E607-471C-A441-E86AAAAC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E8EF3-A6D7-45FD-8BA8-BD3FB916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86515-016C-4CA3-BE0D-18397114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09E-49BE-4ADF-8EE7-57347DA9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CD931-E416-46B4-B931-66C4A90F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93F10-9E54-46B8-A6A9-8AF62ED8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72465-5388-4E4B-B183-1B56485BD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FC0BB-7F2B-4FD0-952E-284D9583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59D00-A559-4F61-A870-24F64E3B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8D539-81E4-4BF7-B52A-10541E84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0C42E-53FF-4D45-BED7-F5725819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D76CE-3593-439F-A65C-1A7C244E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FCC6D-8AFD-4780-A857-FBCEBEC4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760AC-2D58-476E-A678-44ECB4AE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A80-8FA2-4AA4-848E-65C8F099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858E9-36C8-4DEF-91B7-80FC6645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1729F-DD3E-4BF5-A9EA-1758E5E9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2F42B-240E-4F18-AE05-F71504C1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1F1CF-AB04-46DE-A782-BC5A0E05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5E4D8-71CD-4C01-8D98-EC14BC9D7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7CE-309C-42D4-A2C1-54D17251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4A26-4AAE-4AE5-A3AA-7829389AC86B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DFD5-15BC-4B59-AD1E-E73EA7904EAB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b2b2b2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b2b2b2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3f3f3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3f3f3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F6CB-E9BF-458D-9005-19771A658532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E07E-43EA-421C-BC66-E17C5BB23E92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3f3f3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8C1B-2FBA-4FD9-93EF-4CDCBA854E53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708F-B903-43DD-BF85-4C6101D32FD4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16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520" cy="131400"/>
            <a:chOff x="851688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5920" y="12175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5920" y="12823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400"/>
            <a:chOff x="866916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200" y="1370160"/>
              <a:ext cx="6984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320"/>
              <a:ext cx="986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200" y="1434960"/>
              <a:ext cx="6984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520" cy="131400"/>
            <a:chOff x="832176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0800" y="1473120"/>
              <a:ext cx="694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82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0800" y="1537920"/>
              <a:ext cx="694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b2b2b2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969696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96969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8f8f8"/>
                </a:solidFill>
                <a:latin typeface="Stenci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8AC0-4D67-4070-BE2B-D6A00DDBA1C0}" type="slidenum">
              <a:rPr b="0" lang="ru-RU" sz="1200" spc="-1" strike="noStrike">
                <a:solidFill>
                  <a:srgbClr val="f8f8f8"/>
                </a:solidFill>
                <a:latin typeface="Stenci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tenci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4280" y="713880"/>
            <a:ext cx="73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Consolas"/>
              </a:rPr>
              <a:t>В чем виноват Колумб? </a:t>
            </a:r>
            <a:br>
              <a:rPr sz="2400"/>
            </a:br>
            <a:r>
              <a:rPr b="1" lang="ru-RU" sz="2400" spc="-1" strike="noStrike">
                <a:solidFill>
                  <a:srgbClr val="f8f8f8"/>
                </a:solidFill>
                <a:latin typeface="Consolas"/>
              </a:rPr>
              <a:t>(презентация к уроку по биологии)</a:t>
            </a:r>
            <a:br>
              <a:rPr sz="2400"/>
            </a:br>
            <a:r>
              <a:rPr b="1" lang="ru-RU" sz="2400" spc="-1" strike="noStrike">
                <a:solidFill>
                  <a:srgbClr val="f8f8f8"/>
                </a:solidFill>
                <a:latin typeface="Consolas"/>
              </a:rPr>
              <a:t>«Вредные привычки»</a:t>
            </a:r>
            <a:endParaRPr b="0" lang="en-US" sz="2400" spc="-1" strike="noStrike">
              <a:solidFill>
                <a:srgbClr val="f8f8f8"/>
              </a:solidFill>
              <a:latin typeface="Consolas"/>
            </a:endParaRPr>
          </a:p>
        </p:txBody>
      </p:sp>
      <p:sp>
        <p:nvSpPr>
          <p:cNvPr id="369" name="WordArt 5"/>
          <p:cNvSpPr txBox="1"/>
          <p:nvPr/>
        </p:nvSpPr>
        <p:spPr>
          <a:xfrm>
            <a:off x="1071720" y="428760"/>
            <a:ext cx="640080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36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4881600" y="4156200"/>
            <a:ext cx="3676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Выполнила:</a:t>
            </a: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2b2b2"/>
                </a:solidFill>
                <a:latin typeface="Times New Roman"/>
              </a:rPr>
              <a:t>Горло Анжела Вячеславона</a:t>
            </a: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914400" y="1143000"/>
            <a:ext cx="777240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Никотин включается в процессы обмена, происходящие в организме человека и становится необходимым. Однако если некурящий человек в один прием получит значительную дозу никотина, может наступить смерть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В последние годы ученые уделяют пристальное внимание веществам, вызывающим рак. К ним в первую очередь относятся бензопирен и радиоактивный изотоп полоний – 210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 В табачном дегте особенно много веществ вызывающих рак. В табаке насчитывают 1200 вредных веществ!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914400" y="356760"/>
            <a:ext cx="5229360" cy="599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 организм девушки табак действует гораздо сильнее: «вянет кожа», быстрее сипнет голос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2840" indent="-335520"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 детей, матери которых курили во время беременности, имеется предрасположение к припадкам. Они значительно чаще заболевают эпилепсией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8" name="Picture 4" descr=""/>
          <p:cNvPicPr/>
          <p:nvPr/>
        </p:nvPicPr>
        <p:blipFill>
          <a:blip r:embed="rId1"/>
          <a:stretch/>
        </p:blipFill>
        <p:spPr>
          <a:xfrm>
            <a:off x="6129360" y="3143160"/>
            <a:ext cx="30146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olas"/>
              </a:rPr>
              <a:t>Мифы об алкоголе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928800" y="1143000"/>
          <a:ext cx="7772400" cy="5334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миф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реальност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оголь – пищевой продукт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оголь не переваривается в желудке, как пища. Он попадает прямо в кровь, а затем в моз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оголь – не основанная причина смертности среди молодеж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дростки и молодежь чаще всего погибают в результате несчастных случаев, связанных со злоупотреблением алкогол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пившие люди дружелюбны и общительн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ычно напившиеся люди теряют над собой контроль, становятся агрессивными и злыми, ввязываются в драки. Половина всех убийств связана со злоупотреблением алкоголем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оголь стимулирует, придает сил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лкоголь угнетает центральную нервную систему, затормаживает нормальные реакции организм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tenci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Consolas"/>
              </a:rPr>
              <a:t>Из чего </a:t>
            </a:r>
            <a:r>
              <a:rPr b="0" lang="ru-RU" sz="4000" spc="-1" strike="noStrike">
                <a:solidFill>
                  <a:srgbClr val="ff0000"/>
                </a:solidFill>
                <a:latin typeface="Consolas"/>
              </a:rPr>
              <a:t>она</a:t>
            </a:r>
            <a:r>
              <a:rPr b="0" lang="ru-RU" sz="4000" spc="-1" strike="noStrike">
                <a:solidFill>
                  <a:srgbClr val="f8f8f8"/>
                </a:solidFill>
                <a:latin typeface="Consolas"/>
              </a:rPr>
              <a:t> состоит: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pic>
        <p:nvPicPr>
          <p:cNvPr id="412" name="Рисунок 2" descr=""/>
          <p:cNvPicPr/>
          <p:nvPr/>
        </p:nvPicPr>
        <p:blipFill>
          <a:blip r:embed="rId1"/>
          <a:stretch/>
        </p:blipFill>
        <p:spPr>
          <a:xfrm>
            <a:off x="1835280" y="2714760"/>
            <a:ext cx="58323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2d050"/>
                </a:solidFill>
                <a:latin typeface="Consolas"/>
              </a:rPr>
              <a:t>Употребление никотина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pic>
        <p:nvPicPr>
          <p:cNvPr id="414" name="Picture 4" descr="HM00250_"/>
          <p:cNvPicPr/>
          <p:nvPr/>
        </p:nvPicPr>
        <p:blipFill>
          <a:blip r:embed="rId1"/>
          <a:stretch/>
        </p:blipFill>
        <p:spPr>
          <a:xfrm>
            <a:off x="533520" y="4952880"/>
            <a:ext cx="1317600" cy="152424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1"/>
          <p:cNvSpPr/>
          <p:nvPr/>
        </p:nvSpPr>
        <p:spPr>
          <a:xfrm>
            <a:off x="228600" y="3581280"/>
            <a:ext cx="1981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Хронический бронхит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Рак легких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2209680" y="3505320"/>
            <a:ext cx="23623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Хроническая сердечная недостаточность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Повышение нагрузки на сердце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17" name="Text Box 15"/>
          <p:cNvSpPr/>
          <p:nvPr/>
        </p:nvSpPr>
        <p:spPr>
          <a:xfrm>
            <a:off x="4572000" y="2971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Тяжелые повреждения головного мозга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</p:txBody>
      </p:sp>
      <p:grpSp>
        <p:nvGrpSpPr>
          <p:cNvPr id="418" name="Group 18"/>
          <p:cNvGrpSpPr/>
          <p:nvPr/>
        </p:nvGrpSpPr>
        <p:grpSpPr>
          <a:xfrm>
            <a:off x="1143000" y="1752480"/>
            <a:ext cx="6781680" cy="1752840"/>
            <a:chOff x="1143000" y="1752480"/>
            <a:chExt cx="6781680" cy="1752840"/>
          </a:xfrm>
        </p:grpSpPr>
        <p:sp>
          <p:nvSpPr>
            <p:cNvPr id="419" name="Line 7"/>
            <p:cNvSpPr/>
            <p:nvPr/>
          </p:nvSpPr>
          <p:spPr>
            <a:xfrm>
              <a:off x="1143000" y="1752480"/>
              <a:ext cx="6781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420" name="Line 10"/>
            <p:cNvSpPr/>
            <p:nvPr/>
          </p:nvSpPr>
          <p:spPr>
            <a:xfrm>
              <a:off x="1143000" y="1752480"/>
              <a:ext cx="0" cy="1752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>
              <a:off x="3200400" y="1752480"/>
              <a:ext cx="0" cy="1676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422" name="Line 14"/>
            <p:cNvSpPr/>
            <p:nvPr/>
          </p:nvSpPr>
          <p:spPr>
            <a:xfrm>
              <a:off x="5486400" y="1752480"/>
              <a:ext cx="0" cy="990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  <p:sp>
          <p:nvSpPr>
            <p:cNvPr id="423" name="Line 16"/>
            <p:cNvSpPr/>
            <p:nvPr/>
          </p:nvSpPr>
          <p:spPr>
            <a:xfrm>
              <a:off x="7924680" y="1752480"/>
              <a:ext cx="0" cy="914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Stencil"/>
              </a:endParaRPr>
            </a:p>
          </p:txBody>
        </p:sp>
      </p:grpSp>
      <p:sp>
        <p:nvSpPr>
          <p:cNvPr id="424" name="Text Box 17"/>
          <p:cNvSpPr/>
          <p:nvPr/>
        </p:nvSpPr>
        <p:spPr>
          <a:xfrm>
            <a:off x="7086600" y="2819520"/>
            <a:ext cx="16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d050"/>
                </a:solidFill>
                <a:latin typeface="Stencil"/>
              </a:rPr>
              <a:t>Ослабление иммунитета</a:t>
            </a:r>
            <a:endParaRPr b="0" lang="en-US" sz="1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25" name="Text Box 19"/>
          <p:cNvSpPr/>
          <p:nvPr/>
        </p:nvSpPr>
        <p:spPr>
          <a:xfrm>
            <a:off x="1371600" y="11430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d050"/>
                </a:solidFill>
                <a:latin typeface="Stencil"/>
              </a:rPr>
              <a:t>Нарушения в организме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426" name="Picture 20" descr="j0234673"/>
          <p:cNvPicPr/>
          <p:nvPr/>
        </p:nvPicPr>
        <p:blipFill>
          <a:blip r:embed="rId2"/>
          <a:stretch/>
        </p:blipFill>
        <p:spPr>
          <a:xfrm>
            <a:off x="4952880" y="4292640"/>
            <a:ext cx="1143000" cy="1081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1" descr="j0234734"/>
          <p:cNvPicPr/>
          <p:nvPr/>
        </p:nvPicPr>
        <p:blipFill>
          <a:blip r:embed="rId3"/>
          <a:stretch/>
        </p:blipFill>
        <p:spPr>
          <a:xfrm>
            <a:off x="2903400" y="527832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1634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8f8f8"/>
                </a:solidFill>
                <a:latin typeface="Consolas"/>
              </a:rPr>
              <a:t>Последствия:</a:t>
            </a:r>
            <a:endParaRPr b="0" lang="en-US" sz="4000" spc="-1" strike="noStrike">
              <a:solidFill>
                <a:srgbClr val="f8f8f8"/>
              </a:solidFill>
              <a:latin typeface="Consolas"/>
            </a:endParaRPr>
          </a:p>
        </p:txBody>
      </p:sp>
      <p:pic>
        <p:nvPicPr>
          <p:cNvPr id="429" name="Picture 4" descr="http://im2-tub-ua.yandex.net/i?id=aadf6c2d4c4663fdcd0bc30756d0aec7-106-144&amp;n=21"/>
          <p:cNvPicPr/>
          <p:nvPr/>
        </p:nvPicPr>
        <p:blipFill>
          <a:blip r:embed="rId1"/>
          <a:stretch/>
        </p:blipFill>
        <p:spPr>
          <a:xfrm>
            <a:off x="5467320" y="0"/>
            <a:ext cx="3706920" cy="30686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http://im1-tub-ua.yandex.net/i?id=a6ecddcf3fd34a873860865834bc9fac-63-144&amp;n=21"/>
          <p:cNvPicPr/>
          <p:nvPr/>
        </p:nvPicPr>
        <p:blipFill>
          <a:blip r:embed="rId2"/>
          <a:stretch/>
        </p:blipFill>
        <p:spPr>
          <a:xfrm>
            <a:off x="366840" y="836640"/>
            <a:ext cx="3106440" cy="27813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Вскрытие показало."/>
          <p:cNvPicPr/>
          <p:nvPr/>
        </p:nvPicPr>
        <p:blipFill>
          <a:blip r:embed="rId3"/>
          <a:stretch/>
        </p:blipFill>
        <p:spPr>
          <a:xfrm>
            <a:off x="5467320" y="3594240"/>
            <a:ext cx="3706920" cy="31683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0" descr="http://im2-tub-ua.yandex.net/i?id=e6e7c8059c806e913155d431500916bd-60-144&amp;n=21"/>
          <p:cNvPicPr/>
          <p:nvPr/>
        </p:nvPicPr>
        <p:blipFill>
          <a:blip r:embed="rId4"/>
          <a:stretch/>
        </p:blipFill>
        <p:spPr>
          <a:xfrm>
            <a:off x="395280" y="3594240"/>
            <a:ext cx="2700360" cy="326376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12" descr="http://im3-tub-ua.yandex.net/i?id=9540704f09542568362f8bc20c17814c-53-144&amp;n=21"/>
          <p:cNvPicPr/>
          <p:nvPr/>
        </p:nvPicPr>
        <p:blipFill>
          <a:blip r:embed="rId5"/>
          <a:stretch/>
        </p:blipFill>
        <p:spPr>
          <a:xfrm>
            <a:off x="3095640" y="2519280"/>
            <a:ext cx="2522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8f8f8"/>
              </a:solidFill>
              <a:latin typeface="Consolas"/>
            </a:endParaRPr>
          </a:p>
        </p:txBody>
      </p:sp>
      <p:pic>
        <p:nvPicPr>
          <p:cNvPr id="4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706320" y="1351080"/>
            <a:ext cx="571824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705960" y="512640"/>
            <a:ext cx="8156520" cy="56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 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Трудно себе представить то благотворное изменение, которое произошло бы во всей жизни людской, если бы люди перестали одурманивать и отравлять себя водкой, вином, табаком и опиумом.</a:t>
            </a:r>
            <a:br>
              <a:rPr sz="3800"/>
            </a:b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                                                                                           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	</a:t>
            </a:r>
            <a:r>
              <a:rPr b="0" lang="ru-RU" sz="3800" spc="-1" strike="noStrike">
                <a:solidFill>
                  <a:srgbClr val="f8f8f8"/>
                </a:solidFill>
                <a:latin typeface="Consolas"/>
              </a:rPr>
              <a:t>Л.Н.Толстой.</a:t>
            </a:r>
            <a:endParaRPr b="0" lang="en-US" sz="3800" spc="-1" strike="noStrike">
              <a:solidFill>
                <a:srgbClr val="f8f8f8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5" descr=""/>
          <p:cNvPicPr/>
          <p:nvPr/>
        </p:nvPicPr>
        <p:blipFill>
          <a:blip r:embed="rId1"/>
          <a:stretch/>
        </p:blipFill>
        <p:spPr>
          <a:xfrm>
            <a:off x="6148440" y="1500120"/>
            <a:ext cx="2995560" cy="27860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2"/>
          <p:cNvSpPr/>
          <p:nvPr/>
        </p:nvSpPr>
        <p:spPr>
          <a:xfrm>
            <a:off x="63828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3000240" y="478620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Человеческие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ороки</a:t>
            </a:r>
            <a:endParaRPr b="0" lang="en-US" sz="40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76" name="Line 10"/>
          <p:cNvSpPr/>
          <p:nvPr/>
        </p:nvSpPr>
        <p:spPr>
          <a:xfrm flipH="1" flipV="1">
            <a:off x="4707000" y="3429000"/>
            <a:ext cx="46080" cy="15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77" name="Line 11"/>
          <p:cNvSpPr/>
          <p:nvPr/>
        </p:nvSpPr>
        <p:spPr>
          <a:xfrm flipV="1">
            <a:off x="6505560" y="4710240"/>
            <a:ext cx="9144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78" name="Line 12"/>
          <p:cNvSpPr/>
          <p:nvPr/>
        </p:nvSpPr>
        <p:spPr>
          <a:xfrm flipH="1" flipV="1">
            <a:off x="2009520" y="4710240"/>
            <a:ext cx="990360" cy="838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485640" y="4329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80" name="Text Box 15"/>
          <p:cNvSpPr/>
          <p:nvPr/>
        </p:nvSpPr>
        <p:spPr>
          <a:xfrm>
            <a:off x="3357720" y="300024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Алкоголизм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81" name="Text Box 16"/>
          <p:cNvSpPr/>
          <p:nvPr/>
        </p:nvSpPr>
        <p:spPr>
          <a:xfrm>
            <a:off x="6505560" y="4176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Times New Roman"/>
              </a:rPr>
              <a:t>Наркомания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382" name="Picture 13" descr=""/>
          <p:cNvPicPr/>
          <p:nvPr/>
        </p:nvPicPr>
        <p:blipFill>
          <a:blip r:embed="rId2"/>
          <a:stretch/>
        </p:blipFill>
        <p:spPr>
          <a:xfrm>
            <a:off x="533520" y="1814400"/>
            <a:ext cx="2692440" cy="25718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4" descr=""/>
          <p:cNvPicPr/>
          <p:nvPr/>
        </p:nvPicPr>
        <p:blipFill>
          <a:blip r:embed="rId3"/>
          <a:stretch/>
        </p:blipFill>
        <p:spPr>
          <a:xfrm>
            <a:off x="3214800" y="428760"/>
            <a:ext cx="3039840" cy="23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5960" y="214200"/>
            <a:ext cx="8156520" cy="54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8f8f8"/>
                </a:solidFill>
                <a:latin typeface="Consolas"/>
              </a:rPr>
              <a:t>Немного о курении</a:t>
            </a:r>
            <a:endParaRPr b="0" lang="en-US" sz="9600" spc="-1" strike="noStrike">
              <a:solidFill>
                <a:srgbClr val="f8f8f8"/>
              </a:solidFill>
              <a:latin typeface="Consolas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5718240" y="1925640"/>
            <a:ext cx="34257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28760" y="142920"/>
            <a:ext cx="8572320" cy="650088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orbel"/>
              </a:rPr>
              <a:t>История приобщения к курению</a:t>
            </a: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-</a:t>
            </a: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табак родом из Америки, 12 октября 1942 года Христофор Колумб причалил к неизвестному острову, жители которого поднесли гостям сушеные на солнце листья, свернутые в трубочку. Они курили это растение “петум” – так они его называли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- после второго похода Колумба, семена табака были занесены в Испанию, а оттуда во все уголки Земного шара. Быстрому распространению способствовало удивительное свойство табака - привычная тяга к курению, с которой трудно совладать человеку.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- в Россию табак завезен английскими купцами в 1585 году через Архангельск. Царь Михаил Федорович вел жестокую борьбу с курильщиками: уличая 1 раз в курении – 60 ударов палок по стопам; 2 раз – резали носы, уши, ссылали в дальние города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"/>
          <p:cNvPicPr/>
          <p:nvPr/>
        </p:nvPicPr>
        <p:blipFill>
          <a:blip r:embed="rId1"/>
          <a:stretch/>
        </p:blipFill>
        <p:spPr>
          <a:xfrm>
            <a:off x="6510240" y="1805040"/>
            <a:ext cx="2584440" cy="47671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914040" y="571680"/>
            <a:ext cx="57294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-каждый из нас выкуривает за год 1,55 кг табака. Если я не курю, то тот кто рядом выкуривает 3,1 кг; а если и он не курит, то тот, следующий выкуривает 4,5 кг, а то и 6 кг табак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- каждая выкуренная сигарета сокращает жизнь на 15 мин. Каждые 13 секунд умирает человек от заболевания, связанного с курением. За год – это 2,5 млн. человек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-  население земного шара за год выкуривает 12 биллионов папирос и сигарет! Общая масса окурков – 2 520 000 тонн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-курение в ДВА раза опаснее для растущего организма, чем для взрослого. Смертельная доза взрослого человека содержится в одной пачке сигарет, если ее выкурить сразу, а для подростков полпачки. 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914400" y="571320"/>
            <a:ext cx="777240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рост количества курящих параллельно увеличивает количество опасных болезней. Если человек курит в день от 1 до 9 сигарет, то сокращает свою жизнь (в среднем) на 4,6 года по сравнению с некурящими; если курит от 10 до 19 сигарет, то на 5,5 года; если выкуренных 20 до 39 сигарет – на 6,2 го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-люди, начавшие курить до 15 летнего возраста, умирают от рака легких в 5 раз чаще, чем те которые начали курить после 25 лет. Нет такого органа, который не поражался табаком: почки и мочевой пузырь, половые железы и кровеносные сосуды, головной мозг и печень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914400" y="500040"/>
            <a:ext cx="7772400" cy="58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-Никотин – один из самых опасных ядов растительного происхождения. Птицы погибают, если к их клюву всего лишь поднести стеклянную палочку, смоченную никотином. Кролик погибает от ¼ капли никотина, собака – от ½ капли. Для человека смертельная доза никотина составляет от 50 до 100 мг, или 2-3 капл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-Именно такая доза поступает ежедневно в кровь после выкуривания 20-25 сигарет (в одной сигарете содержится примерно 6-8 мг никотина, из которых 3-4мг попадает в кровь)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-Курильщик не погибает по тому, что доза вводиться постепенно, не в один прием. Систематическое поглощение небольших, не смертельных доз никотина вызывает привычку, пристрастие к курению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f8f8f8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200400" y="2971800"/>
            <a:ext cx="22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"/>
              </a:rPr>
              <a:t>Никотин наносит удар</a:t>
            </a:r>
            <a:endParaRPr b="0" lang="en-US" sz="32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392" name="Picture 5" descr="легкие2"/>
          <p:cNvPicPr/>
          <p:nvPr/>
        </p:nvPicPr>
        <p:blipFill>
          <a:blip r:embed="rId1"/>
          <a:stretch/>
        </p:blipFill>
        <p:spPr>
          <a:xfrm>
            <a:off x="3481560" y="184320"/>
            <a:ext cx="1981080" cy="18237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желудок"/>
          <p:cNvPicPr/>
          <p:nvPr/>
        </p:nvPicPr>
        <p:blipFill>
          <a:blip r:embed="rId2"/>
          <a:stretch/>
        </p:blipFill>
        <p:spPr>
          <a:xfrm>
            <a:off x="0" y="4724280"/>
            <a:ext cx="1828800" cy="213372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14"/>
          <p:cNvSpPr/>
          <p:nvPr/>
        </p:nvSpPr>
        <p:spPr>
          <a:xfrm rot="19633800">
            <a:off x="2081160" y="4402080"/>
            <a:ext cx="137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95" name="AutoShape 15"/>
          <p:cNvSpPr/>
          <p:nvPr/>
        </p:nvSpPr>
        <p:spPr>
          <a:xfrm rot="13290600">
            <a:off x="5194080" y="4409640"/>
            <a:ext cx="1004760" cy="533520"/>
          </a:xfrm>
          <a:prstGeom prst="leftArrow">
            <a:avLst>
              <a:gd name="adj1" fmla="val 50000"/>
              <a:gd name="adj2" fmla="val 39269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96" name="Text Box 16"/>
          <p:cNvSpPr/>
          <p:nvPr/>
        </p:nvSpPr>
        <p:spPr>
          <a:xfrm>
            <a:off x="3643200" y="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егкие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0" y="428616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Желудок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398" name="Text Box 18"/>
          <p:cNvSpPr/>
          <p:nvPr/>
        </p:nvSpPr>
        <p:spPr>
          <a:xfrm>
            <a:off x="7072200" y="29289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ердце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399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2054160" cy="24987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17"/>
          <p:cNvSpPr/>
          <p:nvPr/>
        </p:nvSpPr>
        <p:spPr>
          <a:xfrm>
            <a:off x="0" y="235728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чки</a:t>
            </a:r>
            <a:endParaRPr b="0" lang="en-US" sz="28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401" name="Picture 15" descr=""/>
          <p:cNvPicPr/>
          <p:nvPr/>
        </p:nvPicPr>
        <p:blipFill>
          <a:blip r:embed="rId4"/>
          <a:stretch/>
        </p:blipFill>
        <p:spPr>
          <a:xfrm>
            <a:off x="6931080" y="139680"/>
            <a:ext cx="2011320" cy="2963880"/>
          </a:xfrm>
          <a:prstGeom prst="rect">
            <a:avLst/>
          </a:prstGeom>
          <a:ln w="0">
            <a:noFill/>
          </a:ln>
        </p:spPr>
      </p:pic>
      <p:sp>
        <p:nvSpPr>
          <p:cNvPr id="402" name="AutoShape 15"/>
          <p:cNvSpPr/>
          <p:nvPr/>
        </p:nvSpPr>
        <p:spPr>
          <a:xfrm rot="8966400">
            <a:off x="5308200" y="2877480"/>
            <a:ext cx="1628640" cy="533160"/>
          </a:xfrm>
          <a:prstGeom prst="leftArrow">
            <a:avLst>
              <a:gd name="adj1" fmla="val 50000"/>
              <a:gd name="adj2" fmla="val 3928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03" name="AutoShape 15"/>
          <p:cNvSpPr/>
          <p:nvPr/>
        </p:nvSpPr>
        <p:spPr>
          <a:xfrm rot="5400000">
            <a:off x="4142880" y="2282760"/>
            <a:ext cx="838080" cy="533160"/>
          </a:xfrm>
          <a:prstGeom prst="leftArrow">
            <a:avLst>
              <a:gd name="adj1" fmla="val 50000"/>
              <a:gd name="adj2" fmla="val 3929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sp>
        <p:nvSpPr>
          <p:cNvPr id="404" name="AutoShape 15"/>
          <p:cNvSpPr/>
          <p:nvPr/>
        </p:nvSpPr>
        <p:spPr>
          <a:xfrm rot="2458800">
            <a:off x="2074680" y="2538360"/>
            <a:ext cx="14032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tencil"/>
            </a:endParaRPr>
          </a:p>
        </p:txBody>
      </p:sp>
      <p:pic>
        <p:nvPicPr>
          <p:cNvPr id="405" name="Picture 17" descr=""/>
          <p:cNvPicPr/>
          <p:nvPr/>
        </p:nvPicPr>
        <p:blipFill>
          <a:blip r:embed="rId5"/>
          <a:stretch/>
        </p:blipFill>
        <p:spPr>
          <a:xfrm>
            <a:off x="6278400" y="4889520"/>
            <a:ext cx="2865600" cy="196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4:56:38Z</dcterms:created>
  <dc:creator>NikulinaII</dc:creator>
  <dc:description/>
  <dc:language>en-US</dc:language>
  <cp:lastModifiedBy>Admin</cp:lastModifiedBy>
  <dcterms:modified xsi:type="dcterms:W3CDTF">2024-01-25T12:34:20Z</dcterms:modified>
  <cp:revision>38</cp:revision>
  <dc:subject/>
  <dc:title>Жизнь дается один раз</dc:title>
</cp:coreProperties>
</file>