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3455-7289-4FD8-8D09-30979E6D13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2B5-CDA6-4BAE-A59B-901690B6F52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9EA8-B501-4D35-BCDC-1CA2488FBA1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E488-1777-41BA-8365-C6697634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E81-71EE-446C-8A4F-8C243079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81B-E2EC-4840-995B-2E34F1703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830-9FEB-4873-AF2B-F4790DDD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592B1-3F48-4D6A-A3EA-E24969CB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B7FA79-15EA-4429-A31C-5DA73E8D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A1ABCE-F4B9-4E01-81C1-2F3EF68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17279-2D66-4514-A85C-2377256B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DE75C-DA1D-476E-A5AD-38B584AA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C015D-F308-492D-BAB5-58CE249A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DB6E4-BBA8-4A4D-AE1E-CE8E25B3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70D-5274-463C-9EC0-320B9713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BDFA12-B9A9-44E6-BBD7-FCC8CE2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C38F3-7E19-4437-9E0D-91E62B82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40723-CE0D-4151-84C2-FF406BE0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CF94-F3D2-4B62-9EB9-B784DC50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C253D-F6E7-420A-A8E1-7AA31DA6A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33A-4C7D-4A7E-855F-B66322EE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1B6-3810-42BD-AC3A-B2351BA2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F460-2656-4B0F-ADC4-29AB350E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B8F-7433-417E-8108-7312F559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D991-B195-4E99-8ECB-C6230C49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899E-05DB-4900-AFBB-349A319E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0D0-BBB6-4D79-93AA-06D9DC8A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1E72-0408-47CC-B735-922F9B0451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D2F1-1376-47B8-BE38-FD4690BB16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8920" y="404640"/>
            <a:ext cx="4248360" cy="305928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Monotype Corsiva"/>
              </a:rPr>
              <a:t>Педагогическая династия Феоктистовых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1" descr=""/>
          <p:cNvPicPr/>
          <p:nvPr/>
        </p:nvPicPr>
        <p:blipFill>
          <a:blip r:embed="rId2"/>
          <a:stretch/>
        </p:blipFill>
        <p:spPr>
          <a:xfrm>
            <a:off x="4859280" y="404640"/>
            <a:ext cx="4091040" cy="3059280"/>
          </a:xfrm>
          <a:prstGeom prst="rect">
            <a:avLst/>
          </a:prstGeom>
          <a:ln w="0">
            <a:noFill/>
          </a:ln>
        </p:spPr>
      </p:pic>
      <p:sp>
        <p:nvSpPr>
          <p:cNvPr id="92" name="Горизонтальный свиток 1"/>
          <p:cNvSpPr/>
          <p:nvPr/>
        </p:nvSpPr>
        <p:spPr>
          <a:xfrm>
            <a:off x="5867280" y="3463920"/>
            <a:ext cx="2952720" cy="2016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Байкальская СОШ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Колпакова Тан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199"/>
                </a:solidFill>
                <a:latin typeface="Tahoma"/>
              </a:rPr>
              <a:t>Руководитель: Семенова Г.А, учитель истории, руководитель школьного музе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95280" y="115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Во славу педагогами-то рождают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Tahoma"/>
              </a:rPr>
              <a:t>Трудна та работа, но есть преимущество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Счастье заново    прожить    детство!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105520" y="463320"/>
            <a:ext cx="40384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 Pro Black"/>
              </a:rPr>
              <a:t>Слава - всем труженикам ! Слава - педагогам! Слава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 Pro Black"/>
              </a:rPr>
              <a:t>Да и не переведутся еще педагоги на Земле русской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8569080" cy="62694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lIns="38160" rIns="38160" tIns="38160" bIns="381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5400" spc="-1" strike="noStrike">
              <a:solidFill>
                <a:srgbClr val="ff0000"/>
              </a:solidFill>
              <a:latin typeface="Monotype Corsiva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2"/>
          <a:srcRect l="0" t="0" r="13446" b="29057"/>
          <a:stretch/>
        </p:blipFill>
        <p:spPr>
          <a:xfrm>
            <a:off x="216000" y="260280"/>
            <a:ext cx="8713800" cy="62118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>
            <a:hlinkClick r:id="rId3" action="ppaction://hlinksldjump"/>
          </p:cNvPr>
          <p:cNvSpPr/>
          <p:nvPr/>
        </p:nvSpPr>
        <p:spPr>
          <a:xfrm>
            <a:off x="3554280" y="4508640"/>
            <a:ext cx="576360" cy="10810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Прямоугольник 2">
            <a:hlinkClick r:id="rId4" action="ppaction://hlinksldjump"/>
          </p:cNvPr>
          <p:cNvSpPr/>
          <p:nvPr/>
        </p:nvSpPr>
        <p:spPr>
          <a:xfrm>
            <a:off x="1908000" y="443700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>
            <a:hlinkClick r:id="rId5" action="ppaction://hlinksldjump"/>
          </p:cNvPr>
          <p:cNvSpPr/>
          <p:nvPr/>
        </p:nvSpPr>
        <p:spPr>
          <a:xfrm>
            <a:off x="351000" y="4437000"/>
            <a:ext cx="64764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>
            <a:hlinkClick r:id="rId6" action="ppaction://hlinksldjump"/>
          </p:cNvPr>
          <p:cNvSpPr/>
          <p:nvPr/>
        </p:nvSpPr>
        <p:spPr>
          <a:xfrm>
            <a:off x="1916280" y="2852640"/>
            <a:ext cx="64908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1908000" y="144936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1136520" y="1442880"/>
            <a:ext cx="64800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50920" y="1442880"/>
            <a:ext cx="647640" cy="122400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Управляющая кнопка: далее 3"/>
          <p:cNvSpPr/>
          <p:nvPr/>
        </p:nvSpPr>
        <p:spPr>
          <a:xfrm>
            <a:off x="817236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189080" y="4929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Феоктистова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Антонина Тигреевна-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родоначальник династ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787640" y="576000"/>
            <a:ext cx="4064040" cy="410508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лась 7.07.1884 году в селе Косолапово Вятской губернии. «Милая,добрая,интеллигентная» (из воспоминаний Андриевской А.Д., учителя Байкальской школы) учительница нач. классов работала в школах Шилкинского, Улётовского и Карымского районов. С 1936 года работает в Байкальской семилетней школе. Награждена орденами Ленина и Трудового Красного Знамени, медалями. Стаж работы – 50 л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Рисунок 1" descr=""/>
          <p:cNvPicPr/>
          <p:nvPr/>
        </p:nvPicPr>
        <p:blipFill>
          <a:blip r:embed="rId2"/>
          <a:stretch/>
        </p:blipFill>
        <p:spPr>
          <a:xfrm>
            <a:off x="593640" y="404640"/>
            <a:ext cx="3384720" cy="452448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домой 1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7760" y="4890600"/>
            <a:ext cx="4173480" cy="170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Феоктистов Леонид 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асильевич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тор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сы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818240" y="404640"/>
            <a:ext cx="4032000" cy="482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Родился 26.09.1902 года в г. Чита. Свою педагогическую деятельность начал с 19 лет. Работал учителем русского языка, был директором в школах Читы, Шилкинского района (ныне Тунгокоченского), Байкальской семилетней школы п. Вершино-Дарасунского. «Очень спокойный, умелый организатор, как в учебной, так и в хозяйственной части. Никогда ни на кого  не повысил тона. Всех называл: «Моя хорошая..» ( Из воспоминаний Андриевской А.Д.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В 1941 году призван на фронт. В 1945 году мобилизован,работал учителем русского языка и литератур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«Отличник народного просвещения» (1956 г.). Награжден орденом «Знак почёта»(1947 г.), медалями: «За боевые заслуги», «За победу над Германией в Великой Отечественной войне 1941-1945 годов»(1947). Умер в 1958 году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Рисунок 4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3587760" cy="4459320"/>
          </a:xfrm>
          <a:prstGeom prst="rect">
            <a:avLst/>
          </a:prstGeom>
          <a:ln w="0">
            <a:noFill/>
          </a:ln>
        </p:spPr>
      </p:pic>
      <p:sp>
        <p:nvSpPr>
          <p:cNvPr id="110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1116000" y="530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Феоктистова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Вера Васильевна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второе поколение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Monotype Corsiva"/>
              </a:rPr>
              <a:t>(невест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87640" y="576000"/>
            <a:ext cx="4064040" cy="5445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лась в селе Большой Тонтой Забайкальской области. В 1916 году окончила педагогический класс Читинской женской гимназии. С 1916 года работала учителем в с. Копунь Нерчинского Улуса, Иргенской школе первой ступени Титовского района Читинского округа, Работала в Черновской (на копях) школы первой ступени Читинского уезда, в Образцовой школе первой ступени города Шилка,учителем начальных классов Байкальской школы, завучем, учителем русского языка. В годы Гражданской войны участвовала в партизанском движении.. Являлась «одной из лучших учительниц в школе, ударницей. Уроки ее всегда подготовлены, проходят живо, интересно и методически правильно…Всегда была исполнительна. Принимала активное участие в общественной работе..Как работница сильная»(из характеристики с места работы)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3481200" cy="465300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7760" y="4890600"/>
            <a:ext cx="4173480" cy="1706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Виктория Леонидо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треть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внуч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818240" y="404640"/>
            <a:ext cx="4032000" cy="482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Родилась 18.03. 1929 года. После переезда из Шилки в шахтовый поселок Вершино-Дарасунский училась в Байкальской школе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(7 классов), затем 8 и 9 класс закончила в Дарасунской школе. В 1946 году уехала учиться в Балейское педучилище, в 1948 году поступила на исторический факультет Читинского пединститута, работала в Дарасунской средней школе № 1. (ст. Дарасун). Вела курс краеведения. Основатель и хранитель краеведческого музея. «Этот музей – гордость школы, его истории, жизни людей. Это радость вдохновенного труда, увлеченность любимым делом, сознание того, что нужно людям..» (Н. Гладких «Источник душевной теплоты). Имеет звания: «Старший учитель», «Заслуженный учитель школ России», награждена орденом Трудового Красного Знамени, юбилейной медалью к 100-летию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Monotype Corsiva"/>
              </a:rPr>
              <a:t>В.И. Ленин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Рисунок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3095640" cy="4227840"/>
          </a:xfrm>
          <a:prstGeom prst="rect">
            <a:avLst/>
          </a:prstGeom>
          <a:ln w="0">
            <a:noFill/>
          </a:ln>
        </p:spPr>
      </p:pic>
      <p:sp>
        <p:nvSpPr>
          <p:cNvPr id="118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9760" y="4508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асновская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Наталья Юрье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правнуч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3240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Наталья Юрьевна Красновская (Крылова),9.02.1961 года рождения, проработала 36 лет в Орловской школе Агинского района учителем биологии, завучем. Живет в Орловс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2" descr=""/>
          <p:cNvPicPr/>
          <p:nvPr/>
        </p:nvPicPr>
        <p:blipFill>
          <a:blip r:embed="rId2"/>
          <a:stretch/>
        </p:blipFill>
        <p:spPr>
          <a:xfrm>
            <a:off x="684360" y="431640"/>
            <a:ext cx="3465360" cy="3961080"/>
          </a:xfrm>
          <a:prstGeom prst="rect">
            <a:avLst/>
          </a:prstGeom>
          <a:ln w="0">
            <a:noFill/>
          </a:ln>
        </p:spPr>
      </p:pic>
      <p:sp>
        <p:nvSpPr>
          <p:cNvPr id="122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292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Алексей Юрьевич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правну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324000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Алексей Юрьевич закончил Читинский педагогический университет . Работал учителем биологии, в центре образования в Дарасу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Управляющая кнопка: домой 4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9760" y="4508640"/>
            <a:ext cx="4173480" cy="1706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Крыл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Галина Сергеевн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 четвертое поко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(жена  правну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788000" y="620640"/>
            <a:ext cx="4032000" cy="1944720"/>
          </a:xfrm>
          <a:prstGeom prst="rect">
            <a:avLst/>
          </a:prstGeom>
          <a:solidFill>
            <a:srgbClr val="eff9f9"/>
          </a:solidFill>
          <a:ln w="76320">
            <a:solidFill>
              <a:srgbClr val="00004d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Monotype Corsiva"/>
              </a:rPr>
              <a:t>Галина Сергеевна Крылова – учитель географии в Дарасунской средней школе №3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Рисунок 1" descr=""/>
          <p:cNvPicPr/>
          <p:nvPr/>
        </p:nvPicPr>
        <p:blipFill>
          <a:blip r:embed="rId2"/>
          <a:stretch/>
        </p:blipFill>
        <p:spPr>
          <a:xfrm>
            <a:off x="1039680" y="476280"/>
            <a:ext cx="2811600" cy="3809880"/>
          </a:xfrm>
          <a:prstGeom prst="rect">
            <a:avLst/>
          </a:prstGeom>
          <a:ln w="0">
            <a:noFill/>
          </a:ln>
        </p:spPr>
      </p:pic>
      <p:sp>
        <p:nvSpPr>
          <p:cNvPr id="129" name="Управляющая кнопка: домой 5"/>
          <p:cNvSpPr/>
          <p:nvPr/>
        </p:nvSpPr>
        <p:spPr>
          <a:xfrm>
            <a:off x="8427960" y="6108840"/>
            <a:ext cx="716040" cy="504720"/>
          </a:xfrm>
          <a:custGeom>
            <a:avLst/>
            <a:gdLst>
              <a:gd name="textAreaLeft" fmla="*/ 32400 w 716040"/>
              <a:gd name="textAreaRight" fmla="*/ 683640 w 7160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637" h="21600">
                <a:moveTo>
                  <a:pt x="0" y="0"/>
                </a:moveTo>
                <a:lnTo>
                  <a:pt x="30637" y="0"/>
                </a:lnTo>
                <a:lnTo>
                  <a:pt x="30637" y="21600"/>
                </a:lnTo>
                <a:lnTo>
                  <a:pt x="0" y="21600"/>
                </a:lnTo>
                <a:close/>
              </a:path>
              <a:path fill="lightenLess" w="30637" h="21600">
                <a:moveTo>
                  <a:pt x="0" y="0"/>
                </a:moveTo>
                <a:lnTo>
                  <a:pt x="30637" y="0"/>
                </a:lnTo>
                <a:lnTo>
                  <a:pt x="29237" y="1400"/>
                </a:lnTo>
                <a:lnTo>
                  <a:pt x="1400" y="1400"/>
                </a:lnTo>
                <a:close/>
              </a:path>
              <a:path fill="darken" w="30637" h="21600">
                <a:moveTo>
                  <a:pt x="30637" y="0"/>
                </a:moveTo>
                <a:lnTo>
                  <a:pt x="30637" y="21600"/>
                </a:lnTo>
                <a:lnTo>
                  <a:pt x="29237" y="20200"/>
                </a:lnTo>
                <a:lnTo>
                  <a:pt x="29237" y="1400"/>
                </a:lnTo>
                <a:close/>
              </a:path>
              <a:path fill="darkenLess" w="30637" h="21600">
                <a:moveTo>
                  <a:pt x="30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37" y="20200"/>
                </a:lnTo>
                <a:close/>
              </a:path>
              <a:path fill="lighten" w="30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37" h="21600">
                <a:moveTo>
                  <a:pt x="15319" y="3837"/>
                </a:moveTo>
                <a:lnTo>
                  <a:pt x="17895" y="6448"/>
                </a:ln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lnTo>
                  <a:pt x="22282" y="10800"/>
                </a:lnTo>
                <a:lnTo>
                  <a:pt x="20628" y="10800"/>
                </a:lnTo>
                <a:lnTo>
                  <a:pt x="20628" y="17989"/>
                </a:lnTo>
                <a:lnTo>
                  <a:pt x="10009" y="17989"/>
                </a:lnTo>
                <a:lnTo>
                  <a:pt x="10009" y="10800"/>
                </a:lnTo>
                <a:lnTo>
                  <a:pt x="8356" y="10800"/>
                </a:lnTo>
                <a:close/>
              </a:path>
              <a:path fill="darkenLess" w="30637" h="21600">
                <a:moveTo>
                  <a:pt x="17895" y="6448"/>
                </a:moveTo>
                <a:lnTo>
                  <a:pt x="17895" y="4707"/>
                </a:lnTo>
                <a:lnTo>
                  <a:pt x="19670" y="4707"/>
                </a:lnTo>
                <a:lnTo>
                  <a:pt x="19670" y="8224"/>
                </a:lnTo>
                <a:close/>
              </a:path>
              <a:path fill="darkenLess" w="30637" h="21600">
                <a:moveTo>
                  <a:pt x="14396" y="14299"/>
                </a:moveTo>
                <a:lnTo>
                  <a:pt x="16241" y="14299"/>
                </a:lnTo>
                <a:lnTo>
                  <a:pt x="16241" y="17989"/>
                </a:lnTo>
                <a:lnTo>
                  <a:pt x="20628" y="17989"/>
                </a:lnTo>
                <a:lnTo>
                  <a:pt x="20628" y="10800"/>
                </a:lnTo>
                <a:lnTo>
                  <a:pt x="10009" y="10800"/>
                </a:lnTo>
                <a:lnTo>
                  <a:pt x="10009" y="17989"/>
                </a:lnTo>
                <a:lnTo>
                  <a:pt x="14396" y="17989"/>
                </a:lnTo>
                <a:close/>
              </a:path>
            </a:pathLst>
          </a:custGeom>
          <a:solidFill>
            <a:srgbClr val="33cc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5:22:08Z</dcterms:created>
  <dc:creator>SamLab.ws</dc:creator>
  <dc:description/>
  <dc:language>en-US</dc:language>
  <cp:lastModifiedBy>история</cp:lastModifiedBy>
  <dcterms:modified xsi:type="dcterms:W3CDTF">2023-11-16T04:25:23Z</dcterms:modified>
  <cp:revision>27</cp:revision>
  <dc:subject/>
  <dc:title>Слайд 1</dc:title>
</cp:coreProperties>
</file>