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8485-512E-47D2-877A-8BD4D80E23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03BD-D9B8-4F77-A224-8A8EAD285DE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22F8-6133-4F40-96AB-570F6EF4F3E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250A-8F4F-44F1-A99F-73868201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BA35-8E31-4E93-AF24-B1551F3A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2B7-7973-44D9-9238-98A3E0DB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2B6-30DB-49C1-93CC-61C40EA9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A46A6-806C-4A3D-A656-646ACEAF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FDC5E-DBBE-4B5C-A215-1697D9A3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083E6-ACED-4F6C-884B-B92A0220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F0034-3E92-49C7-B05A-AE4DE263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B1AC9-2F2A-499A-8561-6F32745E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11181-B7E6-4491-81B0-4B592D84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FD0F7-ECC5-4FE1-B47A-E93CBDC6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8F3A-113D-4586-97EC-6BE0DCD4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F96B7-25C9-47BE-9077-FC40F60F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DF509-9BCF-4CFA-B114-DAA5F02F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84648-05BB-4E29-B06C-470E9248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DB691-6EA7-4566-B173-3D32CB16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AB942-8406-486C-A7EE-66E19023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5FDF-C377-4C7C-AF66-1E613C73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958-EA77-4CF0-89E5-D787FAD5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D1E-DD66-40CC-956B-A8F38FA4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E8D-5F5D-4FCE-9F16-4EF5BDE3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DA4-D9D0-4D2D-B1A4-3DF82D7A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5445-9638-4CFA-9889-454D75F1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0820-E7C1-420B-A1A7-989084EB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9967-BB77-455B-B496-28D83F6B42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B27D-8C7C-4ED3-9CEF-1B6194F049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78920" y="404640"/>
            <a:ext cx="4248360" cy="3059280"/>
          </a:xfrm>
          <a:prstGeom prst="rect">
            <a:avLst/>
          </a:prstGeom>
          <a:solidFill>
            <a:srgbClr val="eff9f9"/>
          </a:solidFill>
          <a:ln w="76320">
            <a:solidFill>
              <a:srgbClr val="00004d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Monotype Corsiva"/>
              </a:rPr>
              <a:t>Педагогическая династия Феоктистовых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4091040" cy="3059280"/>
          </a:xfrm>
          <a:prstGeom prst="rect">
            <a:avLst/>
          </a:prstGeom>
          <a:ln w="0">
            <a:noFill/>
          </a:ln>
        </p:spPr>
      </p:pic>
      <p:sp>
        <p:nvSpPr>
          <p:cNvPr id="92" name="Горизонтальный свиток 1"/>
          <p:cNvSpPr/>
          <p:nvPr/>
        </p:nvSpPr>
        <p:spPr>
          <a:xfrm>
            <a:off x="5867280" y="3463920"/>
            <a:ext cx="2952720" cy="2016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99"/>
                </a:solidFill>
                <a:latin typeface="Tahoma"/>
              </a:rPr>
              <a:t>Байкальская СОШ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99"/>
                </a:solidFill>
                <a:latin typeface="Tahoma"/>
              </a:rPr>
              <a:t>Колпакова Тан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99"/>
                </a:solidFill>
                <a:latin typeface="Tahoma"/>
              </a:rPr>
              <a:t>Руководитель: Семенова Г.А, учитель истории, руководитель школьного музе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95280" y="115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ahoma"/>
              </a:rPr>
              <a:t>Во славу педагогами-то рождают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ahoma"/>
              </a:rPr>
              <a:t>Трудна та работа, но есть преимущество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Счастье заново    прожить    детство!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105520" y="46332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 Pro Black"/>
              </a:rPr>
              <a:t>Слава - всем труженикам ! Слава - педагогам! Слава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 Pro Black"/>
              </a:rPr>
              <a:t>Да и не переведутся еще педагоги на Земле русской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569080" cy="6269400"/>
          </a:xfrm>
          <a:prstGeom prst="rect">
            <a:avLst/>
          </a:prstGeom>
          <a:solidFill>
            <a:srgbClr val="eff9f9"/>
          </a:solidFill>
          <a:ln w="76320">
            <a:solidFill>
              <a:srgbClr val="00004d"/>
            </a:solidFill>
            <a:miter/>
          </a:ln>
        </p:spPr>
        <p:txBody>
          <a:bodyPr lIns="38160" rIns="38160" tIns="38160" bIns="381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5400" spc="-1" strike="noStrike">
              <a:solidFill>
                <a:srgbClr val="ff0000"/>
              </a:solidFill>
              <a:latin typeface="Monotype Corsiva"/>
            </a:endParaRPr>
          </a:p>
        </p:txBody>
      </p:sp>
      <p:pic>
        <p:nvPicPr>
          <p:cNvPr id="94" name="Рисунок 4" descr=""/>
          <p:cNvPicPr/>
          <p:nvPr/>
        </p:nvPicPr>
        <p:blipFill>
          <a:blip r:embed="rId2"/>
          <a:srcRect l="0" t="0" r="13446" b="29057"/>
          <a:stretch/>
        </p:blipFill>
        <p:spPr>
          <a:xfrm>
            <a:off x="216000" y="260280"/>
            <a:ext cx="8713800" cy="62118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">
            <a:hlinkClick r:id="rId3" action="ppaction://hlinksldjump"/>
          </p:cNvPr>
          <p:cNvSpPr/>
          <p:nvPr/>
        </p:nvSpPr>
        <p:spPr>
          <a:xfrm>
            <a:off x="3554280" y="4508640"/>
            <a:ext cx="576360" cy="10810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Прямоугольник 2">
            <a:hlinkClick r:id="rId4" action="ppaction://hlinksldjump"/>
          </p:cNvPr>
          <p:cNvSpPr/>
          <p:nvPr/>
        </p:nvSpPr>
        <p:spPr>
          <a:xfrm>
            <a:off x="1908000" y="4437000"/>
            <a:ext cx="648000" cy="1224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5">
            <a:hlinkClick r:id="rId5" action="ppaction://hlinksldjump"/>
          </p:cNvPr>
          <p:cNvSpPr/>
          <p:nvPr/>
        </p:nvSpPr>
        <p:spPr>
          <a:xfrm>
            <a:off x="351000" y="4437000"/>
            <a:ext cx="647640" cy="1224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Прямоугольник 6">
            <a:hlinkClick r:id="rId6" action="ppaction://hlinksldjump"/>
          </p:cNvPr>
          <p:cNvSpPr/>
          <p:nvPr/>
        </p:nvSpPr>
        <p:spPr>
          <a:xfrm>
            <a:off x="1916280" y="2852640"/>
            <a:ext cx="649080" cy="1224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1908000" y="1449360"/>
            <a:ext cx="648000" cy="1224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1136520" y="1442880"/>
            <a:ext cx="648000" cy="1224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50920" y="1442880"/>
            <a:ext cx="647640" cy="1224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Управляющая кнопка: далее 3"/>
          <p:cNvSpPr/>
          <p:nvPr/>
        </p:nvSpPr>
        <p:spPr>
          <a:xfrm>
            <a:off x="817236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189080" y="4929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Monotype Corsiva"/>
              </a:rPr>
              <a:t>Феоктистова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Monotype Corsiva"/>
              </a:rPr>
              <a:t>Антонина Тигреевна-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Monotype Corsiva"/>
              </a:rPr>
              <a:t>родоначальник динас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787640" y="576000"/>
            <a:ext cx="4064040" cy="4105080"/>
          </a:xfrm>
          <a:prstGeom prst="rect">
            <a:avLst/>
          </a:prstGeom>
          <a:solidFill>
            <a:srgbClr val="eff9f9"/>
          </a:solidFill>
          <a:ln w="76320">
            <a:solidFill>
              <a:srgbClr val="00004d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лась 7.07.1884 году в селе Косолапово Вятской губернии. «Милая,добрая,интеллигентная» (из воспоминаний Андриевской А.Д., учителя Байкальской школы) учительница нач. классов работала в школах Шилкинского, Улётовского и Карымского районов. С 1936 года работает в Байкальской семилетней школе. Награждена орденами Ленина и Трудового Красного Знамени, медалями. Стаж работы – 50 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2"/>
          <a:stretch/>
        </p:blipFill>
        <p:spPr>
          <a:xfrm>
            <a:off x="593640" y="404640"/>
            <a:ext cx="3384720" cy="4524480"/>
          </a:xfrm>
          <a:prstGeom prst="rect">
            <a:avLst/>
          </a:prstGeom>
          <a:ln w="0">
            <a:noFill/>
          </a:ln>
        </p:spPr>
      </p:pic>
      <p:sp>
        <p:nvSpPr>
          <p:cNvPr id="106" name="Управляющая кнопка: домой 1"/>
          <p:cNvSpPr/>
          <p:nvPr/>
        </p:nvSpPr>
        <p:spPr>
          <a:xfrm>
            <a:off x="8427960" y="6108840"/>
            <a:ext cx="716040" cy="504720"/>
          </a:xfrm>
          <a:custGeom>
            <a:avLst/>
            <a:gdLst>
              <a:gd name="textAreaLeft" fmla="*/ 32400 w 716040"/>
              <a:gd name="textAreaRight" fmla="*/ 683640 w 716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637" h="21600">
                <a:moveTo>
                  <a:pt x="0" y="0"/>
                </a:moveTo>
                <a:lnTo>
                  <a:pt x="30637" y="0"/>
                </a:lnTo>
                <a:lnTo>
                  <a:pt x="30637" y="21600"/>
                </a:lnTo>
                <a:lnTo>
                  <a:pt x="0" y="21600"/>
                </a:lnTo>
                <a:close/>
              </a:path>
              <a:path fill="lightenLess" w="30637" h="21600">
                <a:moveTo>
                  <a:pt x="0" y="0"/>
                </a:moveTo>
                <a:lnTo>
                  <a:pt x="30637" y="0"/>
                </a:lnTo>
                <a:lnTo>
                  <a:pt x="29237" y="1400"/>
                </a:lnTo>
                <a:lnTo>
                  <a:pt x="1400" y="1400"/>
                </a:lnTo>
                <a:close/>
              </a:path>
              <a:path fill="darken" w="30637" h="21600">
                <a:moveTo>
                  <a:pt x="30637" y="0"/>
                </a:moveTo>
                <a:lnTo>
                  <a:pt x="30637" y="21600"/>
                </a:lnTo>
                <a:lnTo>
                  <a:pt x="29237" y="20200"/>
                </a:lnTo>
                <a:lnTo>
                  <a:pt x="29237" y="1400"/>
                </a:lnTo>
                <a:close/>
              </a:path>
              <a:path fill="darkenLess" w="30637" h="21600">
                <a:moveTo>
                  <a:pt x="30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37" y="20200"/>
                </a:lnTo>
                <a:close/>
              </a:path>
              <a:path fill="lighten" w="30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37" h="21600">
                <a:moveTo>
                  <a:pt x="15319" y="3837"/>
                </a:moveTo>
                <a:lnTo>
                  <a:pt x="17895" y="6448"/>
                </a:ln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lnTo>
                  <a:pt x="22282" y="10800"/>
                </a:lnTo>
                <a:lnTo>
                  <a:pt x="20628" y="10800"/>
                </a:lnTo>
                <a:lnTo>
                  <a:pt x="20628" y="17989"/>
                </a:lnTo>
                <a:lnTo>
                  <a:pt x="10009" y="17989"/>
                </a:lnTo>
                <a:lnTo>
                  <a:pt x="10009" y="10800"/>
                </a:lnTo>
                <a:lnTo>
                  <a:pt x="8356" y="10800"/>
                </a:lnTo>
                <a:close/>
              </a:path>
              <a:path fill="darkenLess" w="30637" h="21600">
                <a:moveTo>
                  <a:pt x="17895" y="6448"/>
                </a:move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close/>
              </a:path>
              <a:path fill="darkenLess" w="30637" h="21600">
                <a:moveTo>
                  <a:pt x="14396" y="14299"/>
                </a:moveTo>
                <a:lnTo>
                  <a:pt x="16241" y="14299"/>
                </a:lnTo>
                <a:lnTo>
                  <a:pt x="16241" y="17989"/>
                </a:lnTo>
                <a:lnTo>
                  <a:pt x="20628" y="17989"/>
                </a:lnTo>
                <a:lnTo>
                  <a:pt x="20628" y="10800"/>
                </a:lnTo>
                <a:lnTo>
                  <a:pt x="10009" y="10800"/>
                </a:lnTo>
                <a:lnTo>
                  <a:pt x="10009" y="17989"/>
                </a:lnTo>
                <a:lnTo>
                  <a:pt x="14396" y="1798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7760" y="4890600"/>
            <a:ext cx="4173480" cy="1706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Феоктистов Леонид  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Васильевич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второе поколение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(сы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818240" y="404640"/>
            <a:ext cx="4032000" cy="4824720"/>
          </a:xfrm>
          <a:prstGeom prst="rect">
            <a:avLst/>
          </a:prstGeom>
          <a:solidFill>
            <a:srgbClr val="eff9f9"/>
          </a:solidFill>
          <a:ln w="76320">
            <a:solidFill>
              <a:srgbClr val="00004d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Monotype Corsiva"/>
              </a:rPr>
              <a:t>Родился 26.09.1902 года в г. Чита. Свою педагогическую деятельность начал с 19 лет. Работал учителем русского языка, был директором в школах Читы, Шилкинского района (ныне Тунгокоченского), Байкальской семилетней школы п. Вершино-Дарасунского. «Очень спокойный, умелый организатор, как в учебной, так и в хозяйственной части. Никогда ни на кого  не повысил тона. Всех называл: «Моя хорошая..» ( Из воспоминаний Андриевской А.Д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0" i="1" lang="ru-RU" sz="1600" spc="-1" strike="noStrike">
                <a:solidFill>
                  <a:srgbClr val="ff0000"/>
                </a:solidFill>
                <a:latin typeface="Monotype Corsiva"/>
              </a:rPr>
              <a:t>В 1941 году призван на фронт. В 1945 году мобилизован,работал учителем русского языка и литератур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Monotype Corsiva"/>
              </a:rPr>
              <a:t>«Отличник народного просвещения» (1956 г.). Награжден орденом «Знак почёта»(1947 г.), медалями: «За боевые заслуги», «За победу над Германией в Великой Отечественной войне 1941-1945 годов»(1947). Умер в 1958 год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Рисунок 4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587760" cy="4459320"/>
          </a:xfrm>
          <a:prstGeom prst="rect">
            <a:avLst/>
          </a:prstGeom>
          <a:ln w="0">
            <a:noFill/>
          </a:ln>
        </p:spPr>
      </p:pic>
      <p:sp>
        <p:nvSpPr>
          <p:cNvPr id="110" name="Управляющая кнопка: домой 5"/>
          <p:cNvSpPr/>
          <p:nvPr/>
        </p:nvSpPr>
        <p:spPr>
          <a:xfrm>
            <a:off x="8427960" y="6108840"/>
            <a:ext cx="716040" cy="504720"/>
          </a:xfrm>
          <a:custGeom>
            <a:avLst/>
            <a:gdLst>
              <a:gd name="textAreaLeft" fmla="*/ 32400 w 716040"/>
              <a:gd name="textAreaRight" fmla="*/ 683640 w 716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637" h="21600">
                <a:moveTo>
                  <a:pt x="0" y="0"/>
                </a:moveTo>
                <a:lnTo>
                  <a:pt x="30637" y="0"/>
                </a:lnTo>
                <a:lnTo>
                  <a:pt x="30637" y="21600"/>
                </a:lnTo>
                <a:lnTo>
                  <a:pt x="0" y="21600"/>
                </a:lnTo>
                <a:close/>
              </a:path>
              <a:path fill="lightenLess" w="30637" h="21600">
                <a:moveTo>
                  <a:pt x="0" y="0"/>
                </a:moveTo>
                <a:lnTo>
                  <a:pt x="30637" y="0"/>
                </a:lnTo>
                <a:lnTo>
                  <a:pt x="29237" y="1400"/>
                </a:lnTo>
                <a:lnTo>
                  <a:pt x="1400" y="1400"/>
                </a:lnTo>
                <a:close/>
              </a:path>
              <a:path fill="darken" w="30637" h="21600">
                <a:moveTo>
                  <a:pt x="30637" y="0"/>
                </a:moveTo>
                <a:lnTo>
                  <a:pt x="30637" y="21600"/>
                </a:lnTo>
                <a:lnTo>
                  <a:pt x="29237" y="20200"/>
                </a:lnTo>
                <a:lnTo>
                  <a:pt x="29237" y="1400"/>
                </a:lnTo>
                <a:close/>
              </a:path>
              <a:path fill="darkenLess" w="30637" h="21600">
                <a:moveTo>
                  <a:pt x="30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37" y="20200"/>
                </a:lnTo>
                <a:close/>
              </a:path>
              <a:path fill="lighten" w="30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37" h="21600">
                <a:moveTo>
                  <a:pt x="15319" y="3837"/>
                </a:moveTo>
                <a:lnTo>
                  <a:pt x="17895" y="6448"/>
                </a:ln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lnTo>
                  <a:pt x="22282" y="10800"/>
                </a:lnTo>
                <a:lnTo>
                  <a:pt x="20628" y="10800"/>
                </a:lnTo>
                <a:lnTo>
                  <a:pt x="20628" y="17989"/>
                </a:lnTo>
                <a:lnTo>
                  <a:pt x="10009" y="17989"/>
                </a:lnTo>
                <a:lnTo>
                  <a:pt x="10009" y="10800"/>
                </a:lnTo>
                <a:lnTo>
                  <a:pt x="8356" y="10800"/>
                </a:lnTo>
                <a:close/>
              </a:path>
              <a:path fill="darkenLess" w="30637" h="21600">
                <a:moveTo>
                  <a:pt x="17895" y="6448"/>
                </a:move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close/>
              </a:path>
              <a:path fill="darkenLess" w="30637" h="21600">
                <a:moveTo>
                  <a:pt x="14396" y="14299"/>
                </a:moveTo>
                <a:lnTo>
                  <a:pt x="16241" y="14299"/>
                </a:lnTo>
                <a:lnTo>
                  <a:pt x="16241" y="17989"/>
                </a:lnTo>
                <a:lnTo>
                  <a:pt x="20628" y="17989"/>
                </a:lnTo>
                <a:lnTo>
                  <a:pt x="20628" y="10800"/>
                </a:lnTo>
                <a:lnTo>
                  <a:pt x="10009" y="10800"/>
                </a:lnTo>
                <a:lnTo>
                  <a:pt x="10009" y="17989"/>
                </a:lnTo>
                <a:lnTo>
                  <a:pt x="14396" y="1798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116000" y="5300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Monotype Corsiva"/>
              </a:rPr>
              <a:t>Феоктистова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Monotype Corsiva"/>
              </a:rPr>
              <a:t>Вера Васильевна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Monotype Corsiva"/>
              </a:rPr>
              <a:t>второе поколение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Monotype Corsiva"/>
              </a:rPr>
              <a:t>(невест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87640" y="576000"/>
            <a:ext cx="4064040" cy="5445000"/>
          </a:xfrm>
          <a:prstGeom prst="rect">
            <a:avLst/>
          </a:prstGeom>
          <a:solidFill>
            <a:srgbClr val="eff9f9"/>
          </a:solidFill>
          <a:ln w="76320">
            <a:solidFill>
              <a:srgbClr val="00004d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лась в селе Большой Тонтой Забайкальской области. В 1916 году окончила педагогический класс Читинской женской гимназии. С 1916 года работала учителем в с. Копунь Нерчинского Улуса, Иргенской школе первой ступени Титовского района Читинского округа, Работала в Черновской (на копях) школы первой ступени Читинского уезда, в Образцовой школе первой ступени города Шилка,учителем начальных классов Байкальской школы, завучем, учителем русского языка. В годы Гражданской войны участвовала в партизанском движении.. Являлась «одной из лучших учительниц в школе, ударницей. Уроки ее всегда подготовлены, проходят живо, интересно и методически правильно…Всегда была исполнительна. Принимала активное участие в общественной работе..Как работница сильная»(из характеристики с места работы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Рисунок 2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3481200" cy="4653000"/>
          </a:xfrm>
          <a:prstGeom prst="rect">
            <a:avLst/>
          </a:prstGeom>
          <a:ln w="0">
            <a:noFill/>
          </a:ln>
        </p:spPr>
      </p:pic>
      <p:sp>
        <p:nvSpPr>
          <p:cNvPr id="114" name="Управляющая кнопка: домой 5"/>
          <p:cNvSpPr/>
          <p:nvPr/>
        </p:nvSpPr>
        <p:spPr>
          <a:xfrm>
            <a:off x="8427960" y="6108840"/>
            <a:ext cx="716040" cy="504720"/>
          </a:xfrm>
          <a:custGeom>
            <a:avLst/>
            <a:gdLst>
              <a:gd name="textAreaLeft" fmla="*/ 32400 w 716040"/>
              <a:gd name="textAreaRight" fmla="*/ 683640 w 716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637" h="21600">
                <a:moveTo>
                  <a:pt x="0" y="0"/>
                </a:moveTo>
                <a:lnTo>
                  <a:pt x="30637" y="0"/>
                </a:lnTo>
                <a:lnTo>
                  <a:pt x="30637" y="21600"/>
                </a:lnTo>
                <a:lnTo>
                  <a:pt x="0" y="21600"/>
                </a:lnTo>
                <a:close/>
              </a:path>
              <a:path fill="lightenLess" w="30637" h="21600">
                <a:moveTo>
                  <a:pt x="0" y="0"/>
                </a:moveTo>
                <a:lnTo>
                  <a:pt x="30637" y="0"/>
                </a:lnTo>
                <a:lnTo>
                  <a:pt x="29237" y="1400"/>
                </a:lnTo>
                <a:lnTo>
                  <a:pt x="1400" y="1400"/>
                </a:lnTo>
                <a:close/>
              </a:path>
              <a:path fill="darken" w="30637" h="21600">
                <a:moveTo>
                  <a:pt x="30637" y="0"/>
                </a:moveTo>
                <a:lnTo>
                  <a:pt x="30637" y="21600"/>
                </a:lnTo>
                <a:lnTo>
                  <a:pt x="29237" y="20200"/>
                </a:lnTo>
                <a:lnTo>
                  <a:pt x="29237" y="1400"/>
                </a:lnTo>
                <a:close/>
              </a:path>
              <a:path fill="darkenLess" w="30637" h="21600">
                <a:moveTo>
                  <a:pt x="30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37" y="20200"/>
                </a:lnTo>
                <a:close/>
              </a:path>
              <a:path fill="lighten" w="30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37" h="21600">
                <a:moveTo>
                  <a:pt x="15319" y="3837"/>
                </a:moveTo>
                <a:lnTo>
                  <a:pt x="17895" y="6448"/>
                </a:ln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lnTo>
                  <a:pt x="22282" y="10800"/>
                </a:lnTo>
                <a:lnTo>
                  <a:pt x="20628" y="10800"/>
                </a:lnTo>
                <a:lnTo>
                  <a:pt x="20628" y="17989"/>
                </a:lnTo>
                <a:lnTo>
                  <a:pt x="10009" y="17989"/>
                </a:lnTo>
                <a:lnTo>
                  <a:pt x="10009" y="10800"/>
                </a:lnTo>
                <a:lnTo>
                  <a:pt x="8356" y="10800"/>
                </a:lnTo>
                <a:close/>
              </a:path>
              <a:path fill="darkenLess" w="30637" h="21600">
                <a:moveTo>
                  <a:pt x="17895" y="6448"/>
                </a:move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close/>
              </a:path>
              <a:path fill="darkenLess" w="30637" h="21600">
                <a:moveTo>
                  <a:pt x="14396" y="14299"/>
                </a:moveTo>
                <a:lnTo>
                  <a:pt x="16241" y="14299"/>
                </a:lnTo>
                <a:lnTo>
                  <a:pt x="16241" y="17989"/>
                </a:lnTo>
                <a:lnTo>
                  <a:pt x="20628" y="17989"/>
                </a:lnTo>
                <a:lnTo>
                  <a:pt x="20628" y="10800"/>
                </a:lnTo>
                <a:lnTo>
                  <a:pt x="10009" y="10800"/>
                </a:lnTo>
                <a:lnTo>
                  <a:pt x="10009" y="17989"/>
                </a:lnTo>
                <a:lnTo>
                  <a:pt x="14396" y="1798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7760" y="4890600"/>
            <a:ext cx="4173480" cy="1706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Крылова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Виктория Леонидовна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 третье поколение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(внуч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818240" y="404640"/>
            <a:ext cx="4032000" cy="4824720"/>
          </a:xfrm>
          <a:prstGeom prst="rect">
            <a:avLst/>
          </a:prstGeom>
          <a:solidFill>
            <a:srgbClr val="eff9f9"/>
          </a:solidFill>
          <a:ln w="76320">
            <a:solidFill>
              <a:srgbClr val="00004d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Monotype Corsiva"/>
              </a:rPr>
              <a:t>Родилась 18.03. 1929 года. После переезда из Шилки в шахтовый поселок Вершино-Дарасунский училась в Байкальской школ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Monotype Corsiva"/>
              </a:rPr>
              <a:t>(7 классов), затем 8 и 9 класс закончила в Дарасунской школе. В 1946 году уехала учиться в Балейское педучилище, в 1948 году поступила на исторический факультет Читинского пединститута, работала в Дарасунской средней школе № 1. (ст. Дарасун). Вела курс краеведения. Основатель и хранитель краеведческого музея. «Этот музей – гордость школы, его истории, жизни людей. Это радость вдохновенного труда, увлеченность любимым делом, сознание того, что нужно людям..» (Н. Гладких «Источник душевной теплоты). Имеет звания: «Старший учитель», «Заслуженный учитель школ России», награждена орденом Трудового Красного Знамени, юбилейной медалью к 100-летию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Monotype Corsiva"/>
              </a:rPr>
              <a:t>В.И. Ленин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Рисунок 1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3095640" cy="4227840"/>
          </a:xfrm>
          <a:prstGeom prst="rect">
            <a:avLst/>
          </a:prstGeom>
          <a:ln w="0">
            <a:noFill/>
          </a:ln>
        </p:spPr>
      </p:pic>
      <p:sp>
        <p:nvSpPr>
          <p:cNvPr id="118" name="Управляющая кнопка: домой 5"/>
          <p:cNvSpPr/>
          <p:nvPr/>
        </p:nvSpPr>
        <p:spPr>
          <a:xfrm>
            <a:off x="8427960" y="6108840"/>
            <a:ext cx="716040" cy="504720"/>
          </a:xfrm>
          <a:custGeom>
            <a:avLst/>
            <a:gdLst>
              <a:gd name="textAreaLeft" fmla="*/ 32400 w 716040"/>
              <a:gd name="textAreaRight" fmla="*/ 683640 w 716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637" h="21600">
                <a:moveTo>
                  <a:pt x="0" y="0"/>
                </a:moveTo>
                <a:lnTo>
                  <a:pt x="30637" y="0"/>
                </a:lnTo>
                <a:lnTo>
                  <a:pt x="30637" y="21600"/>
                </a:lnTo>
                <a:lnTo>
                  <a:pt x="0" y="21600"/>
                </a:lnTo>
                <a:close/>
              </a:path>
              <a:path fill="lightenLess" w="30637" h="21600">
                <a:moveTo>
                  <a:pt x="0" y="0"/>
                </a:moveTo>
                <a:lnTo>
                  <a:pt x="30637" y="0"/>
                </a:lnTo>
                <a:lnTo>
                  <a:pt x="29237" y="1400"/>
                </a:lnTo>
                <a:lnTo>
                  <a:pt x="1400" y="1400"/>
                </a:lnTo>
                <a:close/>
              </a:path>
              <a:path fill="darken" w="30637" h="21600">
                <a:moveTo>
                  <a:pt x="30637" y="0"/>
                </a:moveTo>
                <a:lnTo>
                  <a:pt x="30637" y="21600"/>
                </a:lnTo>
                <a:lnTo>
                  <a:pt x="29237" y="20200"/>
                </a:lnTo>
                <a:lnTo>
                  <a:pt x="29237" y="1400"/>
                </a:lnTo>
                <a:close/>
              </a:path>
              <a:path fill="darkenLess" w="30637" h="21600">
                <a:moveTo>
                  <a:pt x="30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37" y="20200"/>
                </a:lnTo>
                <a:close/>
              </a:path>
              <a:path fill="lighten" w="30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37" h="21600">
                <a:moveTo>
                  <a:pt x="15319" y="3837"/>
                </a:moveTo>
                <a:lnTo>
                  <a:pt x="17895" y="6448"/>
                </a:ln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lnTo>
                  <a:pt x="22282" y="10800"/>
                </a:lnTo>
                <a:lnTo>
                  <a:pt x="20628" y="10800"/>
                </a:lnTo>
                <a:lnTo>
                  <a:pt x="20628" y="17989"/>
                </a:lnTo>
                <a:lnTo>
                  <a:pt x="10009" y="17989"/>
                </a:lnTo>
                <a:lnTo>
                  <a:pt x="10009" y="10800"/>
                </a:lnTo>
                <a:lnTo>
                  <a:pt x="8356" y="10800"/>
                </a:lnTo>
                <a:close/>
              </a:path>
              <a:path fill="darkenLess" w="30637" h="21600">
                <a:moveTo>
                  <a:pt x="17895" y="6448"/>
                </a:move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close/>
              </a:path>
              <a:path fill="darkenLess" w="30637" h="21600">
                <a:moveTo>
                  <a:pt x="14396" y="14299"/>
                </a:moveTo>
                <a:lnTo>
                  <a:pt x="16241" y="14299"/>
                </a:lnTo>
                <a:lnTo>
                  <a:pt x="16241" y="17989"/>
                </a:lnTo>
                <a:lnTo>
                  <a:pt x="20628" y="17989"/>
                </a:lnTo>
                <a:lnTo>
                  <a:pt x="20628" y="10800"/>
                </a:lnTo>
                <a:lnTo>
                  <a:pt x="10009" y="10800"/>
                </a:lnTo>
                <a:lnTo>
                  <a:pt x="10009" y="17989"/>
                </a:lnTo>
                <a:lnTo>
                  <a:pt x="14396" y="1798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9760" y="4508640"/>
            <a:ext cx="4173480" cy="1706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Красновская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Наталья Юрьевна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 четвертое поколение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(правнуч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788000" y="620640"/>
            <a:ext cx="4032000" cy="3240000"/>
          </a:xfrm>
          <a:prstGeom prst="rect">
            <a:avLst/>
          </a:prstGeom>
          <a:solidFill>
            <a:srgbClr val="eff9f9"/>
          </a:solidFill>
          <a:ln w="76320">
            <a:solidFill>
              <a:srgbClr val="00004d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Monotype Corsiva"/>
              </a:rPr>
              <a:t>Наталья Юрьевна Красновская (Крылова),9.02.1961 года рождения, проработала 36 лет в Орловской школе Агинского района учителем биологии, завучем. Живет в Орловс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Рисунок 2" descr=""/>
          <p:cNvPicPr/>
          <p:nvPr/>
        </p:nvPicPr>
        <p:blipFill>
          <a:blip r:embed="rId2"/>
          <a:stretch/>
        </p:blipFill>
        <p:spPr>
          <a:xfrm>
            <a:off x="684360" y="431640"/>
            <a:ext cx="3465360" cy="3961080"/>
          </a:xfrm>
          <a:prstGeom prst="rect">
            <a:avLst/>
          </a:prstGeom>
          <a:ln w="0">
            <a:noFill/>
          </a:ln>
        </p:spPr>
      </p:pic>
      <p:sp>
        <p:nvSpPr>
          <p:cNvPr id="122" name="Управляющая кнопка: домой 5"/>
          <p:cNvSpPr/>
          <p:nvPr/>
        </p:nvSpPr>
        <p:spPr>
          <a:xfrm>
            <a:off x="8427960" y="6108840"/>
            <a:ext cx="716040" cy="504720"/>
          </a:xfrm>
          <a:custGeom>
            <a:avLst/>
            <a:gdLst>
              <a:gd name="textAreaLeft" fmla="*/ 32400 w 716040"/>
              <a:gd name="textAreaRight" fmla="*/ 683640 w 716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637" h="21600">
                <a:moveTo>
                  <a:pt x="0" y="0"/>
                </a:moveTo>
                <a:lnTo>
                  <a:pt x="30637" y="0"/>
                </a:lnTo>
                <a:lnTo>
                  <a:pt x="30637" y="21600"/>
                </a:lnTo>
                <a:lnTo>
                  <a:pt x="0" y="21600"/>
                </a:lnTo>
                <a:close/>
              </a:path>
              <a:path fill="lightenLess" w="30637" h="21600">
                <a:moveTo>
                  <a:pt x="0" y="0"/>
                </a:moveTo>
                <a:lnTo>
                  <a:pt x="30637" y="0"/>
                </a:lnTo>
                <a:lnTo>
                  <a:pt x="29237" y="1400"/>
                </a:lnTo>
                <a:lnTo>
                  <a:pt x="1400" y="1400"/>
                </a:lnTo>
                <a:close/>
              </a:path>
              <a:path fill="darken" w="30637" h="21600">
                <a:moveTo>
                  <a:pt x="30637" y="0"/>
                </a:moveTo>
                <a:lnTo>
                  <a:pt x="30637" y="21600"/>
                </a:lnTo>
                <a:lnTo>
                  <a:pt x="29237" y="20200"/>
                </a:lnTo>
                <a:lnTo>
                  <a:pt x="29237" y="1400"/>
                </a:lnTo>
                <a:close/>
              </a:path>
              <a:path fill="darkenLess" w="30637" h="21600">
                <a:moveTo>
                  <a:pt x="30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37" y="20200"/>
                </a:lnTo>
                <a:close/>
              </a:path>
              <a:path fill="lighten" w="30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37" h="21600">
                <a:moveTo>
                  <a:pt x="15319" y="3837"/>
                </a:moveTo>
                <a:lnTo>
                  <a:pt x="17895" y="6448"/>
                </a:ln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lnTo>
                  <a:pt x="22282" y="10800"/>
                </a:lnTo>
                <a:lnTo>
                  <a:pt x="20628" y="10800"/>
                </a:lnTo>
                <a:lnTo>
                  <a:pt x="20628" y="17989"/>
                </a:lnTo>
                <a:lnTo>
                  <a:pt x="10009" y="17989"/>
                </a:lnTo>
                <a:lnTo>
                  <a:pt x="10009" y="10800"/>
                </a:lnTo>
                <a:lnTo>
                  <a:pt x="8356" y="10800"/>
                </a:lnTo>
                <a:close/>
              </a:path>
              <a:path fill="darkenLess" w="30637" h="21600">
                <a:moveTo>
                  <a:pt x="17895" y="6448"/>
                </a:move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close/>
              </a:path>
              <a:path fill="darkenLess" w="30637" h="21600">
                <a:moveTo>
                  <a:pt x="14396" y="14299"/>
                </a:moveTo>
                <a:lnTo>
                  <a:pt x="16241" y="14299"/>
                </a:lnTo>
                <a:lnTo>
                  <a:pt x="16241" y="17989"/>
                </a:lnTo>
                <a:lnTo>
                  <a:pt x="20628" y="17989"/>
                </a:lnTo>
                <a:lnTo>
                  <a:pt x="20628" y="10800"/>
                </a:lnTo>
                <a:lnTo>
                  <a:pt x="10009" y="10800"/>
                </a:lnTo>
                <a:lnTo>
                  <a:pt x="10009" y="17989"/>
                </a:lnTo>
                <a:lnTo>
                  <a:pt x="14396" y="1798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4292640"/>
            <a:ext cx="4173480" cy="1706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Крылов 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Алексей Юрьевич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четвертое поколение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(правну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788000" y="620640"/>
            <a:ext cx="4032000" cy="3240000"/>
          </a:xfrm>
          <a:prstGeom prst="rect">
            <a:avLst/>
          </a:prstGeom>
          <a:solidFill>
            <a:srgbClr val="eff9f9"/>
          </a:solidFill>
          <a:ln w="76320">
            <a:solidFill>
              <a:srgbClr val="00004d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Monotype Corsiva"/>
              </a:rPr>
              <a:t>Алексей Юрьевич закончил Читинский педагогический университет . Работал учителем биологии, в центре образования в Дарасу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Управляющая кнопка: домой 4"/>
          <p:cNvSpPr/>
          <p:nvPr/>
        </p:nvSpPr>
        <p:spPr>
          <a:xfrm>
            <a:off x="8427960" y="6108840"/>
            <a:ext cx="716040" cy="504720"/>
          </a:xfrm>
          <a:custGeom>
            <a:avLst/>
            <a:gdLst>
              <a:gd name="textAreaLeft" fmla="*/ 32400 w 716040"/>
              <a:gd name="textAreaRight" fmla="*/ 683640 w 716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637" h="21600">
                <a:moveTo>
                  <a:pt x="0" y="0"/>
                </a:moveTo>
                <a:lnTo>
                  <a:pt x="30637" y="0"/>
                </a:lnTo>
                <a:lnTo>
                  <a:pt x="30637" y="21600"/>
                </a:lnTo>
                <a:lnTo>
                  <a:pt x="0" y="21600"/>
                </a:lnTo>
                <a:close/>
              </a:path>
              <a:path fill="lightenLess" w="30637" h="21600">
                <a:moveTo>
                  <a:pt x="0" y="0"/>
                </a:moveTo>
                <a:lnTo>
                  <a:pt x="30637" y="0"/>
                </a:lnTo>
                <a:lnTo>
                  <a:pt x="29237" y="1400"/>
                </a:lnTo>
                <a:lnTo>
                  <a:pt x="1400" y="1400"/>
                </a:lnTo>
                <a:close/>
              </a:path>
              <a:path fill="darken" w="30637" h="21600">
                <a:moveTo>
                  <a:pt x="30637" y="0"/>
                </a:moveTo>
                <a:lnTo>
                  <a:pt x="30637" y="21600"/>
                </a:lnTo>
                <a:lnTo>
                  <a:pt x="29237" y="20200"/>
                </a:lnTo>
                <a:lnTo>
                  <a:pt x="29237" y="1400"/>
                </a:lnTo>
                <a:close/>
              </a:path>
              <a:path fill="darkenLess" w="30637" h="21600">
                <a:moveTo>
                  <a:pt x="30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37" y="20200"/>
                </a:lnTo>
                <a:close/>
              </a:path>
              <a:path fill="lighten" w="30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37" h="21600">
                <a:moveTo>
                  <a:pt x="15319" y="3837"/>
                </a:moveTo>
                <a:lnTo>
                  <a:pt x="17895" y="6448"/>
                </a:ln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lnTo>
                  <a:pt x="22282" y="10800"/>
                </a:lnTo>
                <a:lnTo>
                  <a:pt x="20628" y="10800"/>
                </a:lnTo>
                <a:lnTo>
                  <a:pt x="20628" y="17989"/>
                </a:lnTo>
                <a:lnTo>
                  <a:pt x="10009" y="17989"/>
                </a:lnTo>
                <a:lnTo>
                  <a:pt x="10009" y="10800"/>
                </a:lnTo>
                <a:lnTo>
                  <a:pt x="8356" y="10800"/>
                </a:lnTo>
                <a:close/>
              </a:path>
              <a:path fill="darkenLess" w="30637" h="21600">
                <a:moveTo>
                  <a:pt x="17895" y="6448"/>
                </a:move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close/>
              </a:path>
              <a:path fill="darkenLess" w="30637" h="21600">
                <a:moveTo>
                  <a:pt x="14396" y="14299"/>
                </a:moveTo>
                <a:lnTo>
                  <a:pt x="16241" y="14299"/>
                </a:lnTo>
                <a:lnTo>
                  <a:pt x="16241" y="17989"/>
                </a:lnTo>
                <a:lnTo>
                  <a:pt x="20628" y="17989"/>
                </a:lnTo>
                <a:lnTo>
                  <a:pt x="20628" y="10800"/>
                </a:lnTo>
                <a:lnTo>
                  <a:pt x="10009" y="10800"/>
                </a:lnTo>
                <a:lnTo>
                  <a:pt x="10009" y="17989"/>
                </a:lnTo>
                <a:lnTo>
                  <a:pt x="14396" y="1798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9760" y="4508640"/>
            <a:ext cx="4173480" cy="1706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Крылова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Галина Сергеевна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 четвертое поколение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(жена  правну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788000" y="620640"/>
            <a:ext cx="4032000" cy="1944720"/>
          </a:xfrm>
          <a:prstGeom prst="rect">
            <a:avLst/>
          </a:prstGeom>
          <a:solidFill>
            <a:srgbClr val="eff9f9"/>
          </a:solidFill>
          <a:ln w="76320">
            <a:solidFill>
              <a:srgbClr val="00004d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Monotype Corsiva"/>
              </a:rPr>
              <a:t>Галина Сергеевна Крылова – учитель географии в Дарасунской средней школе №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2"/>
          <a:stretch/>
        </p:blipFill>
        <p:spPr>
          <a:xfrm>
            <a:off x="1039680" y="476280"/>
            <a:ext cx="2811600" cy="3809880"/>
          </a:xfrm>
          <a:prstGeom prst="rect">
            <a:avLst/>
          </a:prstGeom>
          <a:ln w="0">
            <a:noFill/>
          </a:ln>
        </p:spPr>
      </p:pic>
      <p:sp>
        <p:nvSpPr>
          <p:cNvPr id="129" name="Управляющая кнопка: домой 5"/>
          <p:cNvSpPr/>
          <p:nvPr/>
        </p:nvSpPr>
        <p:spPr>
          <a:xfrm>
            <a:off x="8427960" y="6108840"/>
            <a:ext cx="716040" cy="504720"/>
          </a:xfrm>
          <a:custGeom>
            <a:avLst/>
            <a:gdLst>
              <a:gd name="textAreaLeft" fmla="*/ 32400 w 716040"/>
              <a:gd name="textAreaRight" fmla="*/ 683640 w 716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637" h="21600">
                <a:moveTo>
                  <a:pt x="0" y="0"/>
                </a:moveTo>
                <a:lnTo>
                  <a:pt x="30637" y="0"/>
                </a:lnTo>
                <a:lnTo>
                  <a:pt x="30637" y="21600"/>
                </a:lnTo>
                <a:lnTo>
                  <a:pt x="0" y="21600"/>
                </a:lnTo>
                <a:close/>
              </a:path>
              <a:path fill="lightenLess" w="30637" h="21600">
                <a:moveTo>
                  <a:pt x="0" y="0"/>
                </a:moveTo>
                <a:lnTo>
                  <a:pt x="30637" y="0"/>
                </a:lnTo>
                <a:lnTo>
                  <a:pt x="29237" y="1400"/>
                </a:lnTo>
                <a:lnTo>
                  <a:pt x="1400" y="1400"/>
                </a:lnTo>
                <a:close/>
              </a:path>
              <a:path fill="darken" w="30637" h="21600">
                <a:moveTo>
                  <a:pt x="30637" y="0"/>
                </a:moveTo>
                <a:lnTo>
                  <a:pt x="30637" y="21600"/>
                </a:lnTo>
                <a:lnTo>
                  <a:pt x="29237" y="20200"/>
                </a:lnTo>
                <a:lnTo>
                  <a:pt x="29237" y="1400"/>
                </a:lnTo>
                <a:close/>
              </a:path>
              <a:path fill="darkenLess" w="30637" h="21600">
                <a:moveTo>
                  <a:pt x="30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37" y="20200"/>
                </a:lnTo>
                <a:close/>
              </a:path>
              <a:path fill="lighten" w="30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37" h="21600">
                <a:moveTo>
                  <a:pt x="15319" y="3837"/>
                </a:moveTo>
                <a:lnTo>
                  <a:pt x="17895" y="6448"/>
                </a:ln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lnTo>
                  <a:pt x="22282" y="10800"/>
                </a:lnTo>
                <a:lnTo>
                  <a:pt x="20628" y="10800"/>
                </a:lnTo>
                <a:lnTo>
                  <a:pt x="20628" y="17989"/>
                </a:lnTo>
                <a:lnTo>
                  <a:pt x="10009" y="17989"/>
                </a:lnTo>
                <a:lnTo>
                  <a:pt x="10009" y="10800"/>
                </a:lnTo>
                <a:lnTo>
                  <a:pt x="8356" y="10800"/>
                </a:lnTo>
                <a:close/>
              </a:path>
              <a:path fill="darkenLess" w="30637" h="21600">
                <a:moveTo>
                  <a:pt x="17895" y="6448"/>
                </a:move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close/>
              </a:path>
              <a:path fill="darkenLess" w="30637" h="21600">
                <a:moveTo>
                  <a:pt x="14396" y="14299"/>
                </a:moveTo>
                <a:lnTo>
                  <a:pt x="16241" y="14299"/>
                </a:lnTo>
                <a:lnTo>
                  <a:pt x="16241" y="17989"/>
                </a:lnTo>
                <a:lnTo>
                  <a:pt x="20628" y="17989"/>
                </a:lnTo>
                <a:lnTo>
                  <a:pt x="20628" y="10800"/>
                </a:lnTo>
                <a:lnTo>
                  <a:pt x="10009" y="10800"/>
                </a:lnTo>
                <a:lnTo>
                  <a:pt x="10009" y="17989"/>
                </a:lnTo>
                <a:lnTo>
                  <a:pt x="14396" y="1798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5:22:08Z</dcterms:created>
  <dc:creator>SamLab.ws</dc:creator>
  <dc:description/>
  <dc:language>en-US</dc:language>
  <cp:lastModifiedBy>история</cp:lastModifiedBy>
  <dcterms:modified xsi:type="dcterms:W3CDTF">2023-11-16T04:25:23Z</dcterms:modified>
  <cp:revision>27</cp:revision>
  <dc:subject/>
  <dc:title>Слайд 1</dc:title>
</cp:coreProperties>
</file>