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CB3A-DAA1-45B5-AB61-86DA92BC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3267-8BA6-4ED4-916F-ED8F3C68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24A-145E-4390-B089-946F747DB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F14-F8C5-4FFB-A3DC-08D46113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9D12-6290-48FA-A188-D1C29D93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0D270-8DE9-4F2D-9570-9C7687C8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C31A-14C9-48B2-9925-E519ABB6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81D1-4637-4C69-904D-5225E9E7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33C4-CE70-40B5-A4CC-2152A4FC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2E6A-4BDB-4F37-8295-F1EDC380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DC07-8D7F-4002-8421-F59AEE02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86E6-6604-4F1B-8DA8-139FAF15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360C-9461-4E93-B040-D0FA3638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D4A2-5C3B-403E-AEBD-1D038B96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3E29-1C34-4F8D-A471-69039426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4AB91-F6F4-4509-8125-207F2DEB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CA69-8D9A-4403-AAB0-5B207B90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D44D9-4808-4951-B795-B8849CBA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C1EEF-AD76-45C1-9409-758F8B11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A143D-ABF4-4561-8BE4-54BFD4C1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AE2A-E4CF-4452-9B18-790D8320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EA2B-53E7-439F-8292-C1F7E754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ABD-4B58-469E-B6E0-2C3B61DC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8297-8454-40C5-9246-6062D24B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0748-574B-4AC6-ACE5-B3C102A2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BFBF-14B3-4603-A7BD-1C5E844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66F4A-B411-4B97-9ECF-DD81F15A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BE3F1-45CA-453B-B4AD-461D5399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A96E-CAD2-49D8-8CF5-FABA0340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259E-DE8A-47B3-9CA9-8E8110CD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29A91-FFEB-4B9D-A4B7-C2C46A8D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FF76F-EF50-48B4-9BA5-A7A58BD4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D7258-E840-4E9A-9194-759175AE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92C-C2E9-442F-AB8B-321A7FA0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B01D5-7FD3-48D6-A2B5-A62621CA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CC2B5-1748-4120-BC06-C9225242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AD873-E0BF-49AE-ABE8-9D7A742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0A7BE-7759-4323-9DA7-331E5FFE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18610-A747-4942-BDFB-90988742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ACE7-7959-4DAE-8E2C-F0E95302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A373-4CEA-4809-B427-47B9B7B1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BD50-B60C-4DF2-84BA-9687E19F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132F1-9B74-4462-A2A4-E8B4699A1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BCCE-4BC2-49F9-AF21-913F71D4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62CD-CF74-45EC-AFF0-91255355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D36C-01EA-44ED-B8ED-D4950420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701-B63F-4754-8C91-C22B56D6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65E-C3AB-40A4-8E79-A6B5C20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5BBC-17DB-4613-9B2B-D2B4204A6C9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6D28-C212-49B6-91B9-DEED5176A80D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4469-1783-45B1-BAC3-41C260A70008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2241-00AD-4985-8A1A-B6C6E7451220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09120" y="2852640"/>
            <a:ext cx="7923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ожноподчинённые предложени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9 класс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356000" y="515772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йлова Надежд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Рисунок 5"/>
          <p:cNvSpPr/>
          <p:nvPr/>
        </p:nvSpPr>
        <p:spPr>
          <a:xfrm>
            <a:off x="468360" y="115920"/>
            <a:ext cx="239400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466560" y="123840"/>
            <a:ext cx="337356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Содержимое 2"/>
          <p:cNvSpPr/>
          <p:nvPr/>
        </p:nvSpPr>
        <p:spPr>
          <a:xfrm>
            <a:off x="1500120" y="42876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Содержимое 2"/>
          <p:cNvSpPr/>
          <p:nvPr/>
        </p:nvSpPr>
        <p:spPr>
          <a:xfrm>
            <a:off x="684360" y="428760"/>
            <a:ext cx="803088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даточное ОПРЕДЕЛИТЕЛЬНОЕ. КА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826920" y="90792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[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сущ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]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,(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союзное слово               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одержимое 2"/>
          <p:cNvSpPr/>
          <p:nvPr/>
        </p:nvSpPr>
        <p:spPr>
          <a:xfrm>
            <a:off x="4071960" y="4500720"/>
            <a:ext cx="635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Выгнутая вверх стрелка 8"/>
          <p:cNvSpPr/>
          <p:nvPr/>
        </p:nvSpPr>
        <p:spPr>
          <a:xfrm>
            <a:off x="2897280" y="801720"/>
            <a:ext cx="1643040" cy="500040"/>
          </a:xfrm>
          <a:custGeom>
            <a:avLst/>
            <a:gdLst>
              <a:gd name="textAreaLeft" fmla="*/ 388440 w 1643040"/>
              <a:gd name="textAreaRight" fmla="*/ 1166040 w 164304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20" hR="21600" stAng="10800000" swAng="5400000"/>
                <a:lnTo>
                  <a:pt x="10221" y="0"/>
                </a:lnTo>
                <a:arcTo wR="10220" hR="21600" stAng="-5400000" swAng="2476458"/>
                <a:lnTo>
                  <a:pt x="20376" y="11351"/>
                </a:lnTo>
                <a:lnTo>
                  <a:pt x="20440" y="21600"/>
                </a:lnTo>
                <a:lnTo>
                  <a:pt x="18055" y="11351"/>
                </a:lnTo>
                <a:lnTo>
                  <a:pt x="19215" y="11351"/>
                </a:lnTo>
                <a:arcTo wR="10220" hR="21600" stAng="-2923542" swAng="-2476378"/>
                <a:lnTo>
                  <a:pt x="10220" y="0"/>
                </a:lnTo>
                <a:arcTo wR="10220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220" hR="21600" stAng="10800000" swAng="5400000"/>
                <a:lnTo>
                  <a:pt x="10220" y="0"/>
                </a:lnTo>
                <a:arcTo wR="10220" hR="21600" stAng="-5400000" swAng="80"/>
                <a:lnTo>
                  <a:pt x="10220" y="0"/>
                </a:lnTo>
                <a:arcTo wR="10220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0"/>
          <p:cNvSpPr/>
          <p:nvPr/>
        </p:nvSpPr>
        <p:spPr>
          <a:xfrm>
            <a:off x="684360" y="2205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даточное ИЗЪЯСНИТЕЛЬ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1"/>
          <p:cNvSpPr/>
          <p:nvPr/>
        </p:nvSpPr>
        <p:spPr>
          <a:xfrm>
            <a:off x="468360" y="2665440"/>
            <a:ext cx="760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[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           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]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,(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союз, союзное слово               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Выгнутая вверх стрелка 13"/>
          <p:cNvSpPr/>
          <p:nvPr/>
        </p:nvSpPr>
        <p:spPr>
          <a:xfrm>
            <a:off x="2771640" y="2665440"/>
            <a:ext cx="1768680" cy="458640"/>
          </a:xfrm>
          <a:custGeom>
            <a:avLst/>
            <a:gdLst>
              <a:gd name="textAreaLeft" fmla="*/ 421920 w 1768680"/>
              <a:gd name="textAreaRight" fmla="*/ 1265760 w 1768680"/>
              <a:gd name="textAreaTop" fmla="*/ 61200 h 458640"/>
              <a:gd name="textAreaBottom" fmla="*/ 397440 h 458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06" hR="21600" stAng="10800000" swAng="5400000"/>
                <a:lnTo>
                  <a:pt x="10306" y="0"/>
                </a:lnTo>
                <a:arcTo wR="10306" hR="21600" stAng="-5400000" swAng="2252713"/>
                <a:lnTo>
                  <a:pt x="20050" y="10208"/>
                </a:lnTo>
                <a:lnTo>
                  <a:pt x="20611" y="21600"/>
                </a:lnTo>
                <a:lnTo>
                  <a:pt x="18072" y="10208"/>
                </a:lnTo>
                <a:lnTo>
                  <a:pt x="19061" y="10208"/>
                </a:lnTo>
                <a:arcTo wR="10306" hR="21600" stAng="-3147287" swAng="-2252713"/>
                <a:lnTo>
                  <a:pt x="10306" y="0"/>
                </a:lnTo>
                <a:arcTo wR="10306" hR="21600" stAng="-5400000" swAng="-5400000"/>
                <a:close/>
              </a:path>
              <a:path fill="darkenLess" w="21600" h="21600">
                <a:moveTo>
                  <a:pt x="0" y="21600"/>
                </a:moveTo>
                <a:arcTo wR="10306" hR="21600" stAng="10800000" swAng="5400000"/>
                <a:lnTo>
                  <a:pt x="10306" y="0"/>
                </a:lnTo>
                <a:arcTo wR="10306" hR="21600" stAng="-5400000" swAng="0"/>
                <a:lnTo>
                  <a:pt x="10306" y="0"/>
                </a:lnTo>
                <a:arcTo wR="10306" hR="21600" stAng="-5400000" swAng="-540000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одержимое 2"/>
          <p:cNvSpPr/>
          <p:nvPr/>
        </p:nvSpPr>
        <p:spPr>
          <a:xfrm>
            <a:off x="684360" y="3583080"/>
            <a:ext cx="80071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даточные ОБСТОЯТЕЛЬСТВЕНН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? КОГДА? КУДА? ОТКУДА? ПОЧЕМУ? ЗАЧЕМ? КА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одготовка к ОГЭ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09480" y="1628280"/>
            <a:ext cx="7850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риведённых ниже предложениях из прочитанного текста пронумерованы все запятые. Выпишите цифры, которые обозначают в сложном предложении запятые между частями, соединёнными подчинительной связью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етстве я не знал,(1) кем хочу стать. Мне все люди вокруг нравились и все работы тоже. В голове у меня была путаница,(2) я был какой-то растерянный и никак не мог толком решить,(3) за что же мне приниматьс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приведённых ниже предложениях из прочитанного текста пронумерованы все запятые. Выпишите цифры, обозначающие запятые между частями сложноподчинённого предложения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не чувствовал света,(1) не видел того,(2) что видит обычный фотограф,(3) казалось бы,(4) в обычной ситуации. Я не умел выбирать людей,(5) которые на фотографиях были выразительными,(6) а в жизни невидными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</a:rPr>
              <a:t>Цель урока: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480" y="2160360"/>
            <a:ext cx="7994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знакомиться со структурой СПП и постановкой знаков препинания в них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ить в СПП главное и придаточное предложения, устанавливать смысловые отношения с помощью вопроса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ходить СПП в текстах разных стилей и типов реч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Объект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Содержимое 2"/>
          <p:cNvSpPr/>
          <p:nvPr/>
        </p:nvSpPr>
        <p:spPr>
          <a:xfrm>
            <a:off x="1571760" y="2143080"/>
            <a:ext cx="7286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Я и не дум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все это вас так взволну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Умножение 7"/>
          <p:cNvSpPr/>
          <p:nvPr/>
        </p:nvSpPr>
        <p:spPr>
          <a:xfrm flipH="1">
            <a:off x="3142440" y="2428920"/>
            <a:ext cx="142920" cy="189000"/>
          </a:xfrm>
          <a:custGeom>
            <a:avLst/>
            <a:gdLst/>
            <a:ahLst/>
            <a:rect l="l" t="t" r="r" b="b"/>
            <a:pathLst>
              <a:path w="142875" h="188913">
                <a:moveTo>
                  <a:pt x="20914" y="55507"/>
                </a:moveTo>
                <a:lnTo>
                  <a:pt x="47716" y="35237"/>
                </a:lnTo>
                <a:lnTo>
                  <a:pt x="71438" y="66602"/>
                </a:lnTo>
                <a:lnTo>
                  <a:pt x="95159" y="35237"/>
                </a:lnTo>
                <a:lnTo>
                  <a:pt x="121961" y="55507"/>
                </a:lnTo>
                <a:lnTo>
                  <a:pt x="92504" y="94457"/>
                </a:lnTo>
                <a:lnTo>
                  <a:pt x="121961" y="133406"/>
                </a:lnTo>
                <a:lnTo>
                  <a:pt x="95159" y="153676"/>
                </a:lnTo>
                <a:lnTo>
                  <a:pt x="71438" y="122311"/>
                </a:lnTo>
                <a:lnTo>
                  <a:pt x="47716" y="153676"/>
                </a:lnTo>
                <a:lnTo>
                  <a:pt x="20914" y="133406"/>
                </a:lnTo>
                <a:lnTo>
                  <a:pt x="50371" y="94457"/>
                </a:lnTo>
                <a:lnTo>
                  <a:pt x="20914" y="55507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Выгнутая вверх стрелка 8"/>
          <p:cNvSpPr/>
          <p:nvPr/>
        </p:nvSpPr>
        <p:spPr>
          <a:xfrm>
            <a:off x="3286080" y="2286000"/>
            <a:ext cx="1714680" cy="214200"/>
          </a:xfrm>
          <a:custGeom>
            <a:avLst/>
            <a:gdLst>
              <a:gd name="textAreaLeft" fmla="*/ 419040 w 1714680"/>
              <a:gd name="textAreaRight" fmla="*/ 1257840 w 17146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62" hR="21600" stAng="10800000" swAng="5400000"/>
                <a:lnTo>
                  <a:pt x="10563" y="0"/>
                </a:lnTo>
                <a:arcTo wR="10562" hR="21600" stAng="-5400000" swAng="2532671"/>
                <a:lnTo>
                  <a:pt x="20335" y="11351"/>
                </a:lnTo>
                <a:lnTo>
                  <a:pt x="21124" y="21600"/>
                </a:lnTo>
                <a:lnTo>
                  <a:pt x="19382" y="11351"/>
                </a:lnTo>
                <a:lnTo>
                  <a:pt x="19858" y="11351"/>
                </a:lnTo>
                <a:arcTo wR="10562" hR="21600" stAng="-2867329" swAng="-2532591"/>
                <a:lnTo>
                  <a:pt x="10562" y="0"/>
                </a:lnTo>
                <a:arcTo wR="10562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562" hR="21600" stAng="10800000" swAng="5400000"/>
                <a:lnTo>
                  <a:pt x="10562" y="0"/>
                </a:lnTo>
                <a:arcTo wR="10562" hR="21600" stAng="-5400000" swAng="80"/>
                <a:lnTo>
                  <a:pt x="10562" y="0"/>
                </a:lnTo>
                <a:arcTo wR="10562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Содержимое 2"/>
          <p:cNvSpPr/>
          <p:nvPr/>
        </p:nvSpPr>
        <p:spPr>
          <a:xfrm>
            <a:off x="3714840" y="1571760"/>
            <a:ext cx="635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о че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Содержимое 2"/>
          <p:cNvSpPr/>
          <p:nvPr/>
        </p:nvSpPr>
        <p:spPr>
          <a:xfrm>
            <a:off x="1500120" y="264312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Легко себе представить, что я чувствов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одержимое 2"/>
          <p:cNvSpPr/>
          <p:nvPr/>
        </p:nvSpPr>
        <p:spPr>
          <a:xfrm>
            <a:off x="1571760" y="3357720"/>
            <a:ext cx="72864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егко себе представ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 я чувствов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множение 12"/>
          <p:cNvSpPr/>
          <p:nvPr/>
        </p:nvSpPr>
        <p:spPr>
          <a:xfrm flipH="1">
            <a:off x="3499560" y="3714840"/>
            <a:ext cx="142920" cy="189000"/>
          </a:xfrm>
          <a:custGeom>
            <a:avLst/>
            <a:gdLst/>
            <a:ahLst/>
            <a:rect l="l" t="t" r="r" b="b"/>
            <a:pathLst>
              <a:path w="142875" h="188913">
                <a:moveTo>
                  <a:pt x="20914" y="55507"/>
                </a:moveTo>
                <a:lnTo>
                  <a:pt x="47716" y="35237"/>
                </a:lnTo>
                <a:lnTo>
                  <a:pt x="71438" y="66602"/>
                </a:lnTo>
                <a:lnTo>
                  <a:pt x="95159" y="35237"/>
                </a:lnTo>
                <a:lnTo>
                  <a:pt x="121961" y="55507"/>
                </a:lnTo>
                <a:lnTo>
                  <a:pt x="92504" y="94457"/>
                </a:lnTo>
                <a:lnTo>
                  <a:pt x="121961" y="133406"/>
                </a:lnTo>
                <a:lnTo>
                  <a:pt x="95159" y="153676"/>
                </a:lnTo>
                <a:lnTo>
                  <a:pt x="71438" y="122311"/>
                </a:lnTo>
                <a:lnTo>
                  <a:pt x="47716" y="153676"/>
                </a:lnTo>
                <a:lnTo>
                  <a:pt x="20914" y="133406"/>
                </a:lnTo>
                <a:lnTo>
                  <a:pt x="50371" y="94457"/>
                </a:lnTo>
                <a:lnTo>
                  <a:pt x="20914" y="55507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Выгнутая вверх стрелка 13"/>
          <p:cNvSpPr/>
          <p:nvPr/>
        </p:nvSpPr>
        <p:spPr>
          <a:xfrm>
            <a:off x="3643200" y="3643200"/>
            <a:ext cx="1714680" cy="214560"/>
          </a:xfrm>
          <a:custGeom>
            <a:avLst/>
            <a:gdLst>
              <a:gd name="textAreaLeft" fmla="*/ 419040 w 1714680"/>
              <a:gd name="textAreaRight" fmla="*/ 1257840 w 1714680"/>
              <a:gd name="textAreaTop" fmla="*/ 28440 h 214560"/>
              <a:gd name="textAreaBottom" fmla="*/ 1861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62" hR="21600" stAng="10800000" swAng="5400000"/>
                <a:lnTo>
                  <a:pt x="10563" y="0"/>
                </a:lnTo>
                <a:arcTo wR="10562" hR="21600" stAng="-5400000" swAng="2532671"/>
                <a:lnTo>
                  <a:pt x="20335" y="11351"/>
                </a:lnTo>
                <a:lnTo>
                  <a:pt x="21124" y="21600"/>
                </a:lnTo>
                <a:lnTo>
                  <a:pt x="19382" y="11351"/>
                </a:lnTo>
                <a:lnTo>
                  <a:pt x="19858" y="11351"/>
                </a:lnTo>
                <a:arcTo wR="10562" hR="21600" stAng="-2867329" swAng="-2532591"/>
                <a:lnTo>
                  <a:pt x="10562" y="0"/>
                </a:lnTo>
                <a:arcTo wR="10562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562" hR="21600" stAng="10800000" swAng="5400000"/>
                <a:lnTo>
                  <a:pt x="10562" y="0"/>
                </a:lnTo>
                <a:arcTo wR="10562" hR="21600" stAng="-5400000" swAng="80"/>
                <a:lnTo>
                  <a:pt x="10562" y="0"/>
                </a:lnTo>
                <a:arcTo wR="10562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одержимое 2"/>
          <p:cNvSpPr/>
          <p:nvPr/>
        </p:nvSpPr>
        <p:spPr>
          <a:xfrm>
            <a:off x="4000680" y="2928960"/>
            <a:ext cx="6357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одержимое 2"/>
          <p:cNvSpPr/>
          <p:nvPr/>
        </p:nvSpPr>
        <p:spPr>
          <a:xfrm>
            <a:off x="1357200" y="392904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Никто  не видел, как это произош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1357200" y="5000760"/>
            <a:ext cx="72867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икто  не виде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к это произош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Умножение 17"/>
          <p:cNvSpPr/>
          <p:nvPr/>
        </p:nvSpPr>
        <p:spPr>
          <a:xfrm flipH="1">
            <a:off x="3214080" y="5357880"/>
            <a:ext cx="142920" cy="189000"/>
          </a:xfrm>
          <a:custGeom>
            <a:avLst/>
            <a:gdLst/>
            <a:ahLst/>
            <a:rect l="l" t="t" r="r" b="b"/>
            <a:pathLst>
              <a:path w="142875" h="188912">
                <a:moveTo>
                  <a:pt x="20914" y="55507"/>
                </a:moveTo>
                <a:lnTo>
                  <a:pt x="47716" y="35237"/>
                </a:lnTo>
                <a:lnTo>
                  <a:pt x="71438" y="66602"/>
                </a:lnTo>
                <a:lnTo>
                  <a:pt x="95159" y="35237"/>
                </a:lnTo>
                <a:lnTo>
                  <a:pt x="121961" y="55507"/>
                </a:lnTo>
                <a:lnTo>
                  <a:pt x="92504" y="94456"/>
                </a:lnTo>
                <a:lnTo>
                  <a:pt x="121961" y="133405"/>
                </a:lnTo>
                <a:lnTo>
                  <a:pt x="95159" y="153675"/>
                </a:lnTo>
                <a:lnTo>
                  <a:pt x="71438" y="122310"/>
                </a:lnTo>
                <a:lnTo>
                  <a:pt x="47716" y="153675"/>
                </a:lnTo>
                <a:lnTo>
                  <a:pt x="20914" y="133405"/>
                </a:lnTo>
                <a:lnTo>
                  <a:pt x="50371" y="94456"/>
                </a:lnTo>
                <a:lnTo>
                  <a:pt x="20914" y="55507"/>
                </a:lnTo>
                <a:close/>
              </a:path>
            </a:pathLst>
          </a:custGeom>
          <a:solidFill>
            <a:srgbClr val="90c226"/>
          </a:solidFill>
          <a:ln cap="rnd" w="19080">
            <a:solidFill>
              <a:srgbClr val="688e1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Выгнутая вверх стрелка 18"/>
          <p:cNvSpPr/>
          <p:nvPr/>
        </p:nvSpPr>
        <p:spPr>
          <a:xfrm>
            <a:off x="3357720" y="5214960"/>
            <a:ext cx="1714320" cy="214200"/>
          </a:xfrm>
          <a:custGeom>
            <a:avLst/>
            <a:gdLst>
              <a:gd name="textAreaLeft" fmla="*/ 419040 w 1714320"/>
              <a:gd name="textAreaRight" fmla="*/ 1257480 w 171432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562" hR="21600" stAng="10800000" swAng="5400000"/>
                <a:lnTo>
                  <a:pt x="10563" y="0"/>
                </a:lnTo>
                <a:arcTo wR="10562" hR="21600" stAng="-5400000" swAng="2532671"/>
                <a:lnTo>
                  <a:pt x="20335" y="11351"/>
                </a:lnTo>
                <a:lnTo>
                  <a:pt x="21124" y="21600"/>
                </a:lnTo>
                <a:lnTo>
                  <a:pt x="19382" y="11351"/>
                </a:lnTo>
                <a:lnTo>
                  <a:pt x="19858" y="11351"/>
                </a:lnTo>
                <a:arcTo wR="10562" hR="21600" stAng="-2867329" swAng="-2532591"/>
                <a:lnTo>
                  <a:pt x="10562" y="0"/>
                </a:lnTo>
                <a:arcTo wR="10562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562" hR="21600" stAng="10800000" swAng="5400000"/>
                <a:lnTo>
                  <a:pt x="10562" y="0"/>
                </a:lnTo>
                <a:arcTo wR="10562" hR="21600" stAng="-5400000" swAng="80"/>
                <a:lnTo>
                  <a:pt x="10562" y="0"/>
                </a:lnTo>
                <a:arcTo wR="10562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одержимое 2"/>
          <p:cNvSpPr/>
          <p:nvPr/>
        </p:nvSpPr>
        <p:spPr>
          <a:xfrm>
            <a:off x="3857760" y="4500720"/>
            <a:ext cx="6357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чег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1684440" y="148428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Я не думала, что все это вас так взволн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2" descr=""/>
          <p:cNvPicPr/>
          <p:nvPr/>
        </p:nvPicPr>
        <p:blipFill>
          <a:blip r:embed="rId1"/>
          <a:stretch/>
        </p:blipFill>
        <p:spPr>
          <a:xfrm>
            <a:off x="101520" y="114480"/>
            <a:ext cx="158292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Выгнутая вверх стрелка 1"/>
          <p:cNvSpPr/>
          <p:nvPr/>
        </p:nvSpPr>
        <p:spPr>
          <a:xfrm>
            <a:off x="3286080" y="2071800"/>
            <a:ext cx="2857680" cy="500040"/>
          </a:xfrm>
          <a:custGeom>
            <a:avLst/>
            <a:gdLst>
              <a:gd name="textAreaLeft" fmla="*/ 692280 w 2857680"/>
              <a:gd name="textAreaRight" fmla="*/ 2077200 w 28576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66" hR="21600" stAng="10800000" swAng="5400000"/>
                <a:lnTo>
                  <a:pt x="10467" y="0"/>
                </a:lnTo>
                <a:arcTo wR="10466" hR="21600" stAng="-5400000" swAng="2517139"/>
                <a:lnTo>
                  <a:pt x="20347" y="11351"/>
                </a:lnTo>
                <a:lnTo>
                  <a:pt x="20933" y="21600"/>
                </a:lnTo>
                <a:lnTo>
                  <a:pt x="19012" y="11351"/>
                </a:lnTo>
                <a:lnTo>
                  <a:pt x="19679" y="11351"/>
                </a:lnTo>
                <a:arcTo wR="10466" hR="21600" stAng="-2882861" swAng="-2517059"/>
                <a:lnTo>
                  <a:pt x="10467" y="0"/>
                </a:lnTo>
                <a:arcTo wR="10466" hR="21600" stAng="-5400080" swAng="-5399920"/>
                <a:close/>
              </a:path>
              <a:path fill="darkenLess" w="21600" h="21600">
                <a:moveTo>
                  <a:pt x="0" y="21600"/>
                </a:moveTo>
                <a:arcTo wR="10466" hR="21600" stAng="10800000" swAng="5400000"/>
                <a:lnTo>
                  <a:pt x="10466" y="0"/>
                </a:lnTo>
                <a:arcTo wR="10466" hR="21600" stAng="-5400000" swAng="80"/>
                <a:lnTo>
                  <a:pt x="10467" y="0"/>
                </a:lnTo>
                <a:arcTo wR="10466" hR="21600" stAng="-5400080" swAng="-5399920"/>
                <a:close/>
              </a:path>
            </a:pathLst>
          </a:custGeom>
          <a:solidFill>
            <a:srgbClr val="0d0d0d"/>
          </a:solidFill>
          <a:ln cap="rnd"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2"/>
          <p:cNvSpPr/>
          <p:nvPr/>
        </p:nvSpPr>
        <p:spPr>
          <a:xfrm>
            <a:off x="1643040" y="2357280"/>
            <a:ext cx="657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[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663300"/>
                </a:solidFill>
                <a:latin typeface="Arial"/>
              </a:rPr>
              <a:t>]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,(</a:t>
            </a:r>
            <a:r>
              <a:rPr b="1" lang="ru-RU" sz="1400" spc="-1" strike="noStrike">
                <a:solidFill>
                  <a:srgbClr val="663300"/>
                </a:solidFill>
                <a:latin typeface="Arial"/>
              </a:rPr>
              <a:t>подчин. союз, союзное слово             </a:t>
            </a: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1176480" y="146160"/>
            <a:ext cx="7791480" cy="1847880"/>
          </a:xfrm>
          <a:prstGeom prst="rect">
            <a:avLst/>
          </a:prstGeom>
          <a:ln w="0">
            <a:noFill/>
          </a:ln>
        </p:spPr>
      </p:pic>
      <p:sp>
        <p:nvSpPr>
          <p:cNvPr id="243" name="Стрелка вниз 4"/>
          <p:cNvSpPr/>
          <p:nvPr/>
        </p:nvSpPr>
        <p:spPr>
          <a:xfrm>
            <a:off x="2786040" y="3571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8432a">
              <a:alpha val="40000"/>
            </a:srgbClr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низ 5"/>
          <p:cNvSpPr/>
          <p:nvPr/>
        </p:nvSpPr>
        <p:spPr>
          <a:xfrm>
            <a:off x="6500880" y="35719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8432a">
              <a:alpha val="40000"/>
            </a:srgbClr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одержимое 2"/>
          <p:cNvSpPr/>
          <p:nvPr/>
        </p:nvSpPr>
        <p:spPr>
          <a:xfrm>
            <a:off x="1357200" y="4071960"/>
            <a:ext cx="31435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лавная ча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главное предло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одержимое 2"/>
          <p:cNvSpPr/>
          <p:nvPr/>
        </p:nvSpPr>
        <p:spPr>
          <a:xfrm>
            <a:off x="5000760" y="4143240"/>
            <a:ext cx="3571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даточная част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придаточное предло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вопрос"/>
          <p:cNvPicPr/>
          <p:nvPr/>
        </p:nvPicPr>
        <p:blipFill>
          <a:blip r:embed="rId2"/>
          <a:stretch/>
        </p:blipFill>
        <p:spPr>
          <a:xfrm>
            <a:off x="4572000" y="1714680"/>
            <a:ext cx="4287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139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е типы сложных предложений. Подчеркните грамматические основы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авьте схемы предложений. 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7923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Я не сделал домашнее задание, потому что вчера у нас отключили электричест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 тренировке нужно выкладываться на все 100%, чтобы добиться успех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не нравятся небольшие города, где спокойное, размеренное течение жизн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вочка выбрала карандашики сиреневого цвета, а мальчик хотел рисовать только зелёны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бята собрали все листья, и в парке стало чисто и красиво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920" y="1196640"/>
            <a:ext cx="83534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Запишите сложноподчинённые предложения, расставляя запятые </a:t>
            </a:r>
            <a:br>
              <a:rPr sz="2000"/>
            </a:br>
            <a:r>
              <a:rPr b="1" i="1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и выделяя графически все признаки, позволяющие обнаружить придаточное предложение (грамматическую основу придаточного, союз или относительное местоимение — союзное слово, вопрос к придаточному).</a:t>
            </a: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1) Мы вышли в дорогу когда рассеялся туман.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2) Когда труд — удовольствие жизнь хороша. (М. Горький) 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3) Мой старший брат когда учился в институте стал печататься в журнале «Юность». 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4) Теперь известно что объём человеческой памяти очень велик. Чтобы легче «заполнялась» память её надо тренировать. (П. Капица)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5)Каждый должен считать что его работа самая важная. (П. Капица) </a:t>
            </a:r>
            <a:br>
              <a:rPr sz="2000"/>
            </a:br>
            <a:r>
              <a:rPr b="0" lang="ru-RU" sz="20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6) Честь российского народа требует чтоб показать способность и остроту его в науках. (М. Ломоносов)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TextBox 3"/>
          <p:cNvSpPr/>
          <p:nvPr/>
        </p:nvSpPr>
        <p:spPr>
          <a:xfrm>
            <a:off x="630720" y="476280"/>
            <a:ext cx="39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стоятельная раб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5:24:03Z</dcterms:created>
  <dc:creator>Comp</dc:creator>
  <dc:description/>
  <dc:language>en-US</dc:language>
  <cp:lastModifiedBy>Школа</cp:lastModifiedBy>
  <cp:lastPrinted>2012-10-25T19:25:30Z</cp:lastPrinted>
  <dcterms:modified xsi:type="dcterms:W3CDTF">2024-01-29T12:43:23Z</dcterms:modified>
  <cp:revision>95</cp:revision>
  <dc:subject/>
  <dc:title>Слайд 1</dc:title>
</cp:coreProperties>
</file>