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C89E-B259-4D8A-BDE2-AD50EE4DD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99F3-1B5C-4E2E-92A3-1A3746AD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49BA-5EF6-444E-B97B-2471C2BA4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534A-5E04-461B-B510-F62A608E4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0177-F80D-4724-9D6E-6F3AD074E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02C9-D68D-440B-95FE-03FE3B97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19A1-D4C9-46D3-A88F-DE64132D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32F2-1DD5-41E9-B177-54F2FEBF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607C-14A7-4386-A365-1086127D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AA77-53B9-4077-ADA9-C800B6C0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ADFA-708E-47D9-B078-495A5C95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2AF1-4399-42E2-A3C2-14F5DEFC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A450-1C88-4AB0-B302-F5606F60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8848-8E69-40C4-9F1D-C3748FF6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0547-BB3E-4231-9D88-F209CAE0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4726-FDC9-45B9-9F78-E35866ABB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B234-4479-44F3-B336-CF0E9522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22715-CDBB-4CC0-A88D-2CB4A0068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458FE-A5EA-44AC-9655-2D1E983A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39498-9C40-46CF-A485-8FB03E79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F9D19-2342-44BF-9DEC-0135DC6A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88FE5-4F0D-4D39-9BEC-7B880FDB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3A42-1B86-4E0A-8096-4D46F1CA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35465-F257-4679-9579-BB3F07B0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26742-E4FC-4A0C-B352-0C4C08BF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4A80B-3793-447A-BAC0-7EE365A2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7F526-AE9D-4C0F-9D42-65DB758D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208AC-599E-43B3-82BB-D0F73576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52395-E4E5-461D-91BF-F935E5ED8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ADDB8-67BB-40CB-9656-3B409F5EE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70777-4B94-482D-9608-BBA2D51F7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D73CB-3265-4C53-81C8-8B7C40FE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8AE5B-E15F-4B4C-9F7F-4D2B9747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916D-2415-4941-A24C-C2130E33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25EDC-72F2-4E7F-A387-9F9CCF62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03542-73B6-4CBB-BDF0-F03F6C1F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40975-85E4-432B-B2A6-304F3B98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AC7AA-2279-46EE-870E-28333C21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22E83-A87A-4A14-90C1-8B4DBA0D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925F1-9DF9-4B65-81EC-2A76BCE3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075CF-6F16-4C3D-9851-F24CCC02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C41CB-7407-4C3C-88C1-D9435A501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A331A-51D0-48A9-B3C9-B8C695E6B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3C03-0CC6-4DD6-9D4C-C544290B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CFD7-F692-4A8B-A229-0865F456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4F87-82F7-4882-8EA0-B244DEA7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82A8-A6F0-4844-A4E6-8F34EFFE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A5DA-4355-4835-9019-97F12E6F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DAAC-68A2-4BFF-8F88-400A81E5EDB9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EFEB-F272-44DC-9083-8052C7FBFF48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D511-2DDC-475A-A2AC-82A187F231E0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7C4A-5AFA-4981-BC07-9DC51B236F3F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609120" y="2852640"/>
            <a:ext cx="79232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ложноподчинённые предложения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9 класс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4356000" y="515772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хайлова Надежда Вале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Рисунок 5"/>
          <p:cNvSpPr/>
          <p:nvPr/>
        </p:nvSpPr>
        <p:spPr>
          <a:xfrm>
            <a:off x="468360" y="115920"/>
            <a:ext cx="239400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Рисунок 1" descr=""/>
          <p:cNvPicPr/>
          <p:nvPr/>
        </p:nvPicPr>
        <p:blipFill>
          <a:blip r:embed="rId1"/>
          <a:stretch/>
        </p:blipFill>
        <p:spPr>
          <a:xfrm>
            <a:off x="466560" y="123840"/>
            <a:ext cx="337356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Содержимое 2"/>
          <p:cNvSpPr/>
          <p:nvPr/>
        </p:nvSpPr>
        <p:spPr>
          <a:xfrm>
            <a:off x="1500120" y="428760"/>
            <a:ext cx="72867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одержимое 2"/>
          <p:cNvSpPr/>
          <p:nvPr/>
        </p:nvSpPr>
        <p:spPr>
          <a:xfrm>
            <a:off x="684360" y="428760"/>
            <a:ext cx="803088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даточное ОПРЕДЕЛИТЕЛЬНОЕ. КАК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4"/>
          <p:cNvSpPr/>
          <p:nvPr/>
        </p:nvSpPr>
        <p:spPr>
          <a:xfrm>
            <a:off x="826920" y="907920"/>
            <a:ext cx="763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[     </a:t>
            </a: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сущ</a:t>
            </a: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]</a:t>
            </a: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,(</a:t>
            </a:r>
            <a:r>
              <a:rPr b="1" lang="ru-RU" sz="1400" spc="-1" strike="noStrike">
                <a:solidFill>
                  <a:srgbClr val="663300"/>
                </a:solidFill>
                <a:latin typeface="Arial"/>
              </a:rPr>
              <a:t>союзное слово                    </a:t>
            </a: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Содержимое 2"/>
          <p:cNvSpPr/>
          <p:nvPr/>
        </p:nvSpPr>
        <p:spPr>
          <a:xfrm>
            <a:off x="4071960" y="4500720"/>
            <a:ext cx="6357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Выгнутая вверх стрелка 8"/>
          <p:cNvSpPr/>
          <p:nvPr/>
        </p:nvSpPr>
        <p:spPr>
          <a:xfrm>
            <a:off x="2897280" y="801720"/>
            <a:ext cx="1643040" cy="500040"/>
          </a:xfrm>
          <a:custGeom>
            <a:avLst/>
            <a:gdLst>
              <a:gd name="textAreaLeft" fmla="*/ 388440 w 1643040"/>
              <a:gd name="textAreaRight" fmla="*/ 1166040 w 164304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20" hR="21600" stAng="10800000" swAng="5400000"/>
                <a:lnTo>
                  <a:pt x="10221" y="0"/>
                </a:lnTo>
                <a:arcTo wR="10220" hR="21600" stAng="-5400000" swAng="2476458"/>
                <a:lnTo>
                  <a:pt x="20376" y="11351"/>
                </a:lnTo>
                <a:lnTo>
                  <a:pt x="20440" y="21600"/>
                </a:lnTo>
                <a:lnTo>
                  <a:pt x="18055" y="11351"/>
                </a:lnTo>
                <a:lnTo>
                  <a:pt x="19215" y="11351"/>
                </a:lnTo>
                <a:arcTo wR="10220" hR="21600" stAng="-2923542" swAng="-2476378"/>
                <a:lnTo>
                  <a:pt x="10220" y="0"/>
                </a:lnTo>
                <a:arcTo wR="10220" hR="21600" stAng="-5400080" swAng="-5399920"/>
                <a:close/>
              </a:path>
              <a:path fill="darkenLess" w="21600" h="21600">
                <a:moveTo>
                  <a:pt x="0" y="21600"/>
                </a:moveTo>
                <a:arcTo wR="10220" hR="21600" stAng="10800000" swAng="5400000"/>
                <a:lnTo>
                  <a:pt x="10220" y="0"/>
                </a:lnTo>
                <a:arcTo wR="10220" hR="21600" stAng="-5400000" swAng="80"/>
                <a:lnTo>
                  <a:pt x="10220" y="0"/>
                </a:lnTo>
                <a:arcTo wR="10220" hR="21600" stAng="-5400080" swAng="-5399920"/>
                <a:close/>
              </a:path>
            </a:pathLst>
          </a:custGeom>
          <a:solidFill>
            <a:srgbClr val="0d0d0d"/>
          </a:solidFill>
          <a:ln cap="rnd"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10"/>
          <p:cNvSpPr/>
          <p:nvPr/>
        </p:nvSpPr>
        <p:spPr>
          <a:xfrm>
            <a:off x="684360" y="220500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даточное ИЗЪЯСНИТЕЛЬНО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1"/>
          <p:cNvSpPr/>
          <p:nvPr/>
        </p:nvSpPr>
        <p:spPr>
          <a:xfrm>
            <a:off x="468360" y="2665440"/>
            <a:ext cx="7603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[</a:t>
            </a: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             </a:t>
            </a: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]</a:t>
            </a: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,(</a:t>
            </a:r>
            <a:r>
              <a:rPr b="1" lang="ru-RU" sz="1400" spc="-1" strike="noStrike">
                <a:solidFill>
                  <a:srgbClr val="663300"/>
                </a:solidFill>
                <a:latin typeface="Arial"/>
              </a:rPr>
              <a:t>союз, союзное слово                    </a:t>
            </a: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Выгнутая вверх стрелка 13"/>
          <p:cNvSpPr/>
          <p:nvPr/>
        </p:nvSpPr>
        <p:spPr>
          <a:xfrm>
            <a:off x="2771640" y="2665440"/>
            <a:ext cx="1768680" cy="458640"/>
          </a:xfrm>
          <a:custGeom>
            <a:avLst/>
            <a:gdLst>
              <a:gd name="textAreaLeft" fmla="*/ 421920 w 1768680"/>
              <a:gd name="textAreaRight" fmla="*/ 1265760 w 1768680"/>
              <a:gd name="textAreaTop" fmla="*/ 61200 h 458640"/>
              <a:gd name="textAreaBottom" fmla="*/ 397440 h 458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306" hR="21600" stAng="10800000" swAng="5400000"/>
                <a:lnTo>
                  <a:pt x="10306" y="0"/>
                </a:lnTo>
                <a:arcTo wR="10306" hR="21600" stAng="-5400000" swAng="2252713"/>
                <a:lnTo>
                  <a:pt x="20050" y="10208"/>
                </a:lnTo>
                <a:lnTo>
                  <a:pt x="20611" y="21600"/>
                </a:lnTo>
                <a:lnTo>
                  <a:pt x="18072" y="10208"/>
                </a:lnTo>
                <a:lnTo>
                  <a:pt x="19061" y="10208"/>
                </a:lnTo>
                <a:arcTo wR="10306" hR="21600" stAng="-3147287" swAng="-2252713"/>
                <a:lnTo>
                  <a:pt x="10306" y="0"/>
                </a:lnTo>
                <a:arcTo wR="10306" hR="21600" stAng="-5400000" swAng="-5400000"/>
                <a:close/>
              </a:path>
              <a:path fill="darkenLess" w="21600" h="21600">
                <a:moveTo>
                  <a:pt x="0" y="21600"/>
                </a:moveTo>
                <a:arcTo wR="10306" hR="21600" stAng="10800000" swAng="5400000"/>
                <a:lnTo>
                  <a:pt x="10306" y="0"/>
                </a:lnTo>
                <a:arcTo wR="10306" hR="21600" stAng="-5400000" swAng="0"/>
                <a:lnTo>
                  <a:pt x="10306" y="0"/>
                </a:lnTo>
                <a:arcTo wR="10306" hR="21600" stAng="-5400000" swAng="-5400000"/>
                <a:close/>
              </a:path>
            </a:pathLst>
          </a:custGeom>
          <a:solidFill>
            <a:srgbClr val="0d0d0d"/>
          </a:solidFill>
          <a:ln cap="rnd"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Содержимое 2"/>
          <p:cNvSpPr/>
          <p:nvPr/>
        </p:nvSpPr>
        <p:spPr>
          <a:xfrm>
            <a:off x="684360" y="3583080"/>
            <a:ext cx="80071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даточные ОБСТОЯТЕЛЬСТВЕНН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ДЕ? КОГДА? КУДА? ОТКУДА? ПОЧЕМУ? ЗАЧЕМ? КАК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Подготовка к ОГЭ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09480" y="1628280"/>
            <a:ext cx="785016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приведённых ниже предложениях из прочитанного текста пронумерованы все запятые. Выпишите цифры, которые обозначают в сложном предложении запятые между частями, соединёнными подчинительной связью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детстве я не знал,(1) кем хочу стать. Мне все люди вокруг нравились и все работы тоже. В голове у меня была путаница,(2) я был какой-то растерянный и никак не мог толком решить,(3) за что же мне приниматьс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приведённых ниже предложениях из прочитанного текста пронумерованы все запятые. Выпишите цифры, обозначающие запятые между частями сложноподчинённого предложен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Я не чувствовал света,(1) не видел того,(2) что видит обычный фотограф,(3) казалось бы,(4) в обычной ситуации. Я не умел выбирать людей,(5) которые на фотографиях были выразительными,(6) а в жизни невидным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rebuchet MS"/>
              </a:rPr>
              <a:t>Цель урока: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480" y="2160360"/>
            <a:ext cx="7994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знакомиться со структурой СПП и постановкой знаков препинания в них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ходить в СПП главное и придаточное предложения, устанавливать смысловые отношения с помощью вопроса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ходить СПП в текстах разных стилей и типов реч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9" name="Объект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64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1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3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Содержимое 2"/>
          <p:cNvSpPr/>
          <p:nvPr/>
        </p:nvSpPr>
        <p:spPr>
          <a:xfrm>
            <a:off x="1571760" y="2143080"/>
            <a:ext cx="7286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Я и не дума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о все это вас так взволну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Умножение 7"/>
          <p:cNvSpPr/>
          <p:nvPr/>
        </p:nvSpPr>
        <p:spPr>
          <a:xfrm flipH="1">
            <a:off x="3142440" y="2428920"/>
            <a:ext cx="142920" cy="189000"/>
          </a:xfrm>
          <a:custGeom>
            <a:avLst/>
            <a:gdLst/>
            <a:ahLst/>
            <a:rect l="l" t="t" r="r" b="b"/>
            <a:pathLst>
              <a:path w="142875" h="188913">
                <a:moveTo>
                  <a:pt x="20914" y="55507"/>
                </a:moveTo>
                <a:lnTo>
                  <a:pt x="47716" y="35237"/>
                </a:lnTo>
                <a:lnTo>
                  <a:pt x="71438" y="66602"/>
                </a:lnTo>
                <a:lnTo>
                  <a:pt x="95159" y="35237"/>
                </a:lnTo>
                <a:lnTo>
                  <a:pt x="121961" y="55507"/>
                </a:lnTo>
                <a:lnTo>
                  <a:pt x="92504" y="94457"/>
                </a:lnTo>
                <a:lnTo>
                  <a:pt x="121961" y="133406"/>
                </a:lnTo>
                <a:lnTo>
                  <a:pt x="95159" y="153676"/>
                </a:lnTo>
                <a:lnTo>
                  <a:pt x="71438" y="122311"/>
                </a:lnTo>
                <a:lnTo>
                  <a:pt x="47716" y="153676"/>
                </a:lnTo>
                <a:lnTo>
                  <a:pt x="20914" y="133406"/>
                </a:lnTo>
                <a:lnTo>
                  <a:pt x="50371" y="94457"/>
                </a:lnTo>
                <a:lnTo>
                  <a:pt x="20914" y="55507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Выгнутая вверх стрелка 8"/>
          <p:cNvSpPr/>
          <p:nvPr/>
        </p:nvSpPr>
        <p:spPr>
          <a:xfrm>
            <a:off x="3286080" y="2286000"/>
            <a:ext cx="1714680" cy="214200"/>
          </a:xfrm>
          <a:custGeom>
            <a:avLst/>
            <a:gdLst>
              <a:gd name="textAreaLeft" fmla="*/ 419040 w 1714680"/>
              <a:gd name="textAreaRight" fmla="*/ 1257840 w 1714680"/>
              <a:gd name="textAreaTop" fmla="*/ 28440 h 214200"/>
              <a:gd name="textAreaBottom" fmla="*/ 1857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562" hR="21600" stAng="10800000" swAng="5400000"/>
                <a:lnTo>
                  <a:pt x="10563" y="0"/>
                </a:lnTo>
                <a:arcTo wR="10562" hR="21600" stAng="-5400000" swAng="2532671"/>
                <a:lnTo>
                  <a:pt x="20335" y="11351"/>
                </a:lnTo>
                <a:lnTo>
                  <a:pt x="21124" y="21600"/>
                </a:lnTo>
                <a:lnTo>
                  <a:pt x="19382" y="11351"/>
                </a:lnTo>
                <a:lnTo>
                  <a:pt x="19858" y="11351"/>
                </a:lnTo>
                <a:arcTo wR="10562" hR="21600" stAng="-2867329" swAng="-2532591"/>
                <a:lnTo>
                  <a:pt x="10562" y="0"/>
                </a:lnTo>
                <a:arcTo wR="10562" hR="21600" stAng="-5400080" swAng="-5399920"/>
                <a:close/>
              </a:path>
              <a:path fill="darkenLess" w="21600" h="21600">
                <a:moveTo>
                  <a:pt x="0" y="21600"/>
                </a:moveTo>
                <a:arcTo wR="10562" hR="21600" stAng="10800000" swAng="5400000"/>
                <a:lnTo>
                  <a:pt x="10562" y="0"/>
                </a:lnTo>
                <a:arcTo wR="10562" hR="21600" stAng="-5400000" swAng="80"/>
                <a:lnTo>
                  <a:pt x="10562" y="0"/>
                </a:lnTo>
                <a:arcTo wR="10562" hR="21600" stAng="-5400080" swAng="-5399920"/>
                <a:close/>
              </a:path>
            </a:pathLst>
          </a:custGeom>
          <a:solidFill>
            <a:srgbClr val="0d0d0d"/>
          </a:solidFill>
          <a:ln cap="rnd"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Содержимое 2"/>
          <p:cNvSpPr/>
          <p:nvPr/>
        </p:nvSpPr>
        <p:spPr>
          <a:xfrm>
            <a:off x="3714840" y="1571760"/>
            <a:ext cx="6357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о че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Содержимое 2"/>
          <p:cNvSpPr/>
          <p:nvPr/>
        </p:nvSpPr>
        <p:spPr>
          <a:xfrm>
            <a:off x="1500120" y="2643120"/>
            <a:ext cx="72867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Легко себе представить, что я чувствов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одержимое 2"/>
          <p:cNvSpPr/>
          <p:nvPr/>
        </p:nvSpPr>
        <p:spPr>
          <a:xfrm>
            <a:off x="1571760" y="3357720"/>
            <a:ext cx="7286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Легко себе представи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о я чувствова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Умножение 12"/>
          <p:cNvSpPr/>
          <p:nvPr/>
        </p:nvSpPr>
        <p:spPr>
          <a:xfrm flipH="1">
            <a:off x="3499560" y="3714840"/>
            <a:ext cx="142920" cy="189000"/>
          </a:xfrm>
          <a:custGeom>
            <a:avLst/>
            <a:gdLst/>
            <a:ahLst/>
            <a:rect l="l" t="t" r="r" b="b"/>
            <a:pathLst>
              <a:path w="142875" h="188913">
                <a:moveTo>
                  <a:pt x="20914" y="55507"/>
                </a:moveTo>
                <a:lnTo>
                  <a:pt x="47716" y="35237"/>
                </a:lnTo>
                <a:lnTo>
                  <a:pt x="71438" y="66602"/>
                </a:lnTo>
                <a:lnTo>
                  <a:pt x="95159" y="35237"/>
                </a:lnTo>
                <a:lnTo>
                  <a:pt x="121961" y="55507"/>
                </a:lnTo>
                <a:lnTo>
                  <a:pt x="92504" y="94457"/>
                </a:lnTo>
                <a:lnTo>
                  <a:pt x="121961" y="133406"/>
                </a:lnTo>
                <a:lnTo>
                  <a:pt x="95159" y="153676"/>
                </a:lnTo>
                <a:lnTo>
                  <a:pt x="71438" y="122311"/>
                </a:lnTo>
                <a:lnTo>
                  <a:pt x="47716" y="153676"/>
                </a:lnTo>
                <a:lnTo>
                  <a:pt x="20914" y="133406"/>
                </a:lnTo>
                <a:lnTo>
                  <a:pt x="50371" y="94457"/>
                </a:lnTo>
                <a:lnTo>
                  <a:pt x="20914" y="55507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Выгнутая вверх стрелка 13"/>
          <p:cNvSpPr/>
          <p:nvPr/>
        </p:nvSpPr>
        <p:spPr>
          <a:xfrm>
            <a:off x="3643200" y="3643200"/>
            <a:ext cx="1714680" cy="214560"/>
          </a:xfrm>
          <a:custGeom>
            <a:avLst/>
            <a:gdLst>
              <a:gd name="textAreaLeft" fmla="*/ 419040 w 1714680"/>
              <a:gd name="textAreaRight" fmla="*/ 1257840 w 1714680"/>
              <a:gd name="textAreaTop" fmla="*/ 28440 h 214560"/>
              <a:gd name="textAreaBottom" fmla="*/ 1861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562" hR="21600" stAng="10800000" swAng="5400000"/>
                <a:lnTo>
                  <a:pt x="10563" y="0"/>
                </a:lnTo>
                <a:arcTo wR="10562" hR="21600" stAng="-5400000" swAng="2532671"/>
                <a:lnTo>
                  <a:pt x="20335" y="11351"/>
                </a:lnTo>
                <a:lnTo>
                  <a:pt x="21124" y="21600"/>
                </a:lnTo>
                <a:lnTo>
                  <a:pt x="19382" y="11351"/>
                </a:lnTo>
                <a:lnTo>
                  <a:pt x="19858" y="11351"/>
                </a:lnTo>
                <a:arcTo wR="10562" hR="21600" stAng="-2867329" swAng="-2532591"/>
                <a:lnTo>
                  <a:pt x="10562" y="0"/>
                </a:lnTo>
                <a:arcTo wR="10562" hR="21600" stAng="-5400080" swAng="-5399920"/>
                <a:close/>
              </a:path>
              <a:path fill="darkenLess" w="21600" h="21600">
                <a:moveTo>
                  <a:pt x="0" y="21600"/>
                </a:moveTo>
                <a:arcTo wR="10562" hR="21600" stAng="10800000" swAng="5400000"/>
                <a:lnTo>
                  <a:pt x="10562" y="0"/>
                </a:lnTo>
                <a:arcTo wR="10562" hR="21600" stAng="-5400000" swAng="80"/>
                <a:lnTo>
                  <a:pt x="10562" y="0"/>
                </a:lnTo>
                <a:arcTo wR="10562" hR="21600" stAng="-5400080" swAng="-5399920"/>
                <a:close/>
              </a:path>
            </a:pathLst>
          </a:custGeom>
          <a:solidFill>
            <a:srgbClr val="0d0d0d"/>
          </a:solidFill>
          <a:ln cap="rnd"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одержимое 2"/>
          <p:cNvSpPr/>
          <p:nvPr/>
        </p:nvSpPr>
        <p:spPr>
          <a:xfrm>
            <a:off x="4000680" y="2928960"/>
            <a:ext cx="6357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ч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одержимое 2"/>
          <p:cNvSpPr/>
          <p:nvPr/>
        </p:nvSpPr>
        <p:spPr>
          <a:xfrm>
            <a:off x="1357200" y="3929040"/>
            <a:ext cx="72867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 Никто  не видел, как это произош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одержимое 2"/>
          <p:cNvSpPr/>
          <p:nvPr/>
        </p:nvSpPr>
        <p:spPr>
          <a:xfrm>
            <a:off x="1357200" y="5000760"/>
            <a:ext cx="72867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икто  не виде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ак это произошл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Умножение 17"/>
          <p:cNvSpPr/>
          <p:nvPr/>
        </p:nvSpPr>
        <p:spPr>
          <a:xfrm flipH="1">
            <a:off x="3214080" y="5357880"/>
            <a:ext cx="142920" cy="189000"/>
          </a:xfrm>
          <a:custGeom>
            <a:avLst/>
            <a:gdLst/>
            <a:ahLst/>
            <a:rect l="l" t="t" r="r" b="b"/>
            <a:pathLst>
              <a:path w="142875" h="188912">
                <a:moveTo>
                  <a:pt x="20914" y="55507"/>
                </a:moveTo>
                <a:lnTo>
                  <a:pt x="47716" y="35237"/>
                </a:lnTo>
                <a:lnTo>
                  <a:pt x="71438" y="66602"/>
                </a:lnTo>
                <a:lnTo>
                  <a:pt x="95159" y="35237"/>
                </a:lnTo>
                <a:lnTo>
                  <a:pt x="121961" y="55507"/>
                </a:lnTo>
                <a:lnTo>
                  <a:pt x="92504" y="94456"/>
                </a:lnTo>
                <a:lnTo>
                  <a:pt x="121961" y="133405"/>
                </a:lnTo>
                <a:lnTo>
                  <a:pt x="95159" y="153675"/>
                </a:lnTo>
                <a:lnTo>
                  <a:pt x="71438" y="122310"/>
                </a:lnTo>
                <a:lnTo>
                  <a:pt x="47716" y="153675"/>
                </a:lnTo>
                <a:lnTo>
                  <a:pt x="20914" y="133405"/>
                </a:lnTo>
                <a:lnTo>
                  <a:pt x="50371" y="94456"/>
                </a:lnTo>
                <a:lnTo>
                  <a:pt x="20914" y="55507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Выгнутая вверх стрелка 18"/>
          <p:cNvSpPr/>
          <p:nvPr/>
        </p:nvSpPr>
        <p:spPr>
          <a:xfrm>
            <a:off x="3357720" y="5214960"/>
            <a:ext cx="1714320" cy="214200"/>
          </a:xfrm>
          <a:custGeom>
            <a:avLst/>
            <a:gdLst>
              <a:gd name="textAreaLeft" fmla="*/ 419040 w 1714320"/>
              <a:gd name="textAreaRight" fmla="*/ 1257480 w 1714320"/>
              <a:gd name="textAreaTop" fmla="*/ 28440 h 214200"/>
              <a:gd name="textAreaBottom" fmla="*/ 1857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562" hR="21600" stAng="10800000" swAng="5400000"/>
                <a:lnTo>
                  <a:pt x="10563" y="0"/>
                </a:lnTo>
                <a:arcTo wR="10562" hR="21600" stAng="-5400000" swAng="2532671"/>
                <a:lnTo>
                  <a:pt x="20335" y="11351"/>
                </a:lnTo>
                <a:lnTo>
                  <a:pt x="21124" y="21600"/>
                </a:lnTo>
                <a:lnTo>
                  <a:pt x="19382" y="11351"/>
                </a:lnTo>
                <a:lnTo>
                  <a:pt x="19858" y="11351"/>
                </a:lnTo>
                <a:arcTo wR="10562" hR="21600" stAng="-2867329" swAng="-2532591"/>
                <a:lnTo>
                  <a:pt x="10562" y="0"/>
                </a:lnTo>
                <a:arcTo wR="10562" hR="21600" stAng="-5400080" swAng="-5399920"/>
                <a:close/>
              </a:path>
              <a:path fill="darkenLess" w="21600" h="21600">
                <a:moveTo>
                  <a:pt x="0" y="21600"/>
                </a:moveTo>
                <a:arcTo wR="10562" hR="21600" stAng="10800000" swAng="5400000"/>
                <a:lnTo>
                  <a:pt x="10562" y="0"/>
                </a:lnTo>
                <a:arcTo wR="10562" hR="21600" stAng="-5400000" swAng="80"/>
                <a:lnTo>
                  <a:pt x="10562" y="0"/>
                </a:lnTo>
                <a:arcTo wR="10562" hR="21600" stAng="-5400080" swAng="-5399920"/>
                <a:close/>
              </a:path>
            </a:pathLst>
          </a:custGeom>
          <a:solidFill>
            <a:srgbClr val="0d0d0d"/>
          </a:solidFill>
          <a:ln cap="rnd"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одержимое 2"/>
          <p:cNvSpPr/>
          <p:nvPr/>
        </p:nvSpPr>
        <p:spPr>
          <a:xfrm>
            <a:off x="3857760" y="4500720"/>
            <a:ext cx="6357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чег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"/>
          <p:cNvSpPr/>
          <p:nvPr/>
        </p:nvSpPr>
        <p:spPr>
          <a:xfrm>
            <a:off x="1684440" y="1484280"/>
            <a:ext cx="569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Я не думала, что все это вас так взволну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Рисунок 2" descr=""/>
          <p:cNvPicPr/>
          <p:nvPr/>
        </p:nvPicPr>
        <p:blipFill>
          <a:blip r:embed="rId1"/>
          <a:stretch/>
        </p:blipFill>
        <p:spPr>
          <a:xfrm>
            <a:off x="101520" y="114480"/>
            <a:ext cx="1582920" cy="20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Выгнутая вверх стрелка 1"/>
          <p:cNvSpPr/>
          <p:nvPr/>
        </p:nvSpPr>
        <p:spPr>
          <a:xfrm>
            <a:off x="3286080" y="2071800"/>
            <a:ext cx="2857680" cy="500040"/>
          </a:xfrm>
          <a:custGeom>
            <a:avLst/>
            <a:gdLst>
              <a:gd name="textAreaLeft" fmla="*/ 692280 w 2857680"/>
              <a:gd name="textAreaRight" fmla="*/ 2077200 w 285768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466" hR="21600" stAng="10800000" swAng="5400000"/>
                <a:lnTo>
                  <a:pt x="10467" y="0"/>
                </a:lnTo>
                <a:arcTo wR="10466" hR="21600" stAng="-5400000" swAng="2517139"/>
                <a:lnTo>
                  <a:pt x="20347" y="11351"/>
                </a:lnTo>
                <a:lnTo>
                  <a:pt x="20933" y="21600"/>
                </a:lnTo>
                <a:lnTo>
                  <a:pt x="19012" y="11351"/>
                </a:lnTo>
                <a:lnTo>
                  <a:pt x="19679" y="11351"/>
                </a:lnTo>
                <a:arcTo wR="10466" hR="21600" stAng="-2882861" swAng="-2517059"/>
                <a:lnTo>
                  <a:pt x="10467" y="0"/>
                </a:lnTo>
                <a:arcTo wR="10466" hR="21600" stAng="-5400080" swAng="-5399920"/>
                <a:close/>
              </a:path>
              <a:path fill="darkenLess" w="21600" h="21600">
                <a:moveTo>
                  <a:pt x="0" y="21600"/>
                </a:moveTo>
                <a:arcTo wR="10466" hR="21600" stAng="10800000" swAng="5400000"/>
                <a:lnTo>
                  <a:pt x="10466" y="0"/>
                </a:lnTo>
                <a:arcTo wR="10466" hR="21600" stAng="-5400000" swAng="80"/>
                <a:lnTo>
                  <a:pt x="10467" y="0"/>
                </a:lnTo>
                <a:arcTo wR="10466" hR="21600" stAng="-5400080" swAng="-5399920"/>
                <a:close/>
              </a:path>
            </a:pathLst>
          </a:custGeom>
          <a:solidFill>
            <a:srgbClr val="0d0d0d"/>
          </a:solidFill>
          <a:ln cap="rnd"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2"/>
          <p:cNvSpPr/>
          <p:nvPr/>
        </p:nvSpPr>
        <p:spPr>
          <a:xfrm>
            <a:off x="1643040" y="2357280"/>
            <a:ext cx="6572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[     </a:t>
            </a: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]</a:t>
            </a: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,(</a:t>
            </a:r>
            <a:r>
              <a:rPr b="1" lang="ru-RU" sz="1400" spc="-1" strike="noStrike">
                <a:solidFill>
                  <a:srgbClr val="663300"/>
                </a:solidFill>
                <a:latin typeface="Arial"/>
              </a:rPr>
              <a:t>подчин. союз, союзное слово             </a:t>
            </a: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1176480" y="146160"/>
            <a:ext cx="7791480" cy="1847880"/>
          </a:xfrm>
          <a:prstGeom prst="rect">
            <a:avLst/>
          </a:prstGeom>
          <a:ln w="0">
            <a:noFill/>
          </a:ln>
        </p:spPr>
      </p:pic>
      <p:sp>
        <p:nvSpPr>
          <p:cNvPr id="243" name="Стрелка вниз 4"/>
          <p:cNvSpPr/>
          <p:nvPr/>
        </p:nvSpPr>
        <p:spPr>
          <a:xfrm>
            <a:off x="2786040" y="357192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48432a">
              <a:alpha val="40000"/>
            </a:srgbClr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трелка вниз 5"/>
          <p:cNvSpPr/>
          <p:nvPr/>
        </p:nvSpPr>
        <p:spPr>
          <a:xfrm>
            <a:off x="6500880" y="357192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48432a">
              <a:alpha val="40000"/>
            </a:srgbClr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Содержимое 2"/>
          <p:cNvSpPr/>
          <p:nvPr/>
        </p:nvSpPr>
        <p:spPr>
          <a:xfrm>
            <a:off x="1357200" y="4071960"/>
            <a:ext cx="31435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лавная час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главное предло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одержимое 2"/>
          <p:cNvSpPr/>
          <p:nvPr/>
        </p:nvSpPr>
        <p:spPr>
          <a:xfrm>
            <a:off x="5000760" y="4143240"/>
            <a:ext cx="3571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идаточная час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придаточное предло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7" descr="вопрос"/>
          <p:cNvPicPr/>
          <p:nvPr/>
        </p:nvPicPr>
        <p:blipFill>
          <a:blip r:embed="rId2"/>
          <a:stretch/>
        </p:blipFill>
        <p:spPr>
          <a:xfrm>
            <a:off x="4572000" y="1714680"/>
            <a:ext cx="42876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139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ите типы сложных предложений. Подчеркните грамматические основы.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ставьте схемы предложений. 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120" y="2160360"/>
            <a:ext cx="79232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Я не сделал домашнее задание, потому что вчера у нас отключили электричеств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 тренировке нужно выкладываться на все 100%, чтобы добиться успех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не нравятся небольшие города, где спокойное, размеренное течение жизн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евочка выбрала карандашики сиреневого цвета, а мальчик хотел рисовать только зелёны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ебята собрали все листья, и в парке стало чисто и красив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920" y="1196640"/>
            <a:ext cx="83534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Запишите сложноподчинённые предложения, расставляя запятые </a:t>
            </a:r>
            <a:br>
              <a:rPr sz="2000"/>
            </a:br>
            <a:r>
              <a:rPr b="1" i="1" lang="ru-RU" sz="20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и выделяя графически все признаки, позволяющие обнаружить придаточное предложение (грамматическую основу придаточного, союз или относительное местоимение — союзное слово, вопрос к придаточному).</a:t>
            </a:r>
            <a:r>
              <a:rPr b="0" lang="ru-RU" sz="20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1) Мы вышли в дорогу когда рассеялся туман.</a:t>
            </a:r>
            <a:br>
              <a:rPr sz="2000"/>
            </a:br>
            <a:r>
              <a:rPr b="0" lang="ru-RU" sz="20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2) Когда труд — удовольствие жизнь хороша. (М. Горький) </a:t>
            </a:r>
            <a:br>
              <a:rPr sz="2000"/>
            </a:br>
            <a:r>
              <a:rPr b="0" lang="ru-RU" sz="20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3) Мой старший брат когда учился в институте стал печататься в журнале «Юность». </a:t>
            </a:r>
            <a:br>
              <a:rPr sz="2000"/>
            </a:br>
            <a:r>
              <a:rPr b="0" lang="ru-RU" sz="20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4) Теперь известно что объём человеческой памяти очень велик. Чтобы легче «заполнялась» память её надо тренировать. (П. Капица)</a:t>
            </a:r>
            <a:br>
              <a:rPr sz="2000"/>
            </a:br>
            <a:r>
              <a:rPr b="0" lang="ru-RU" sz="20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5)Каждый должен считать что его работа самая важная. (П. Капица) </a:t>
            </a:r>
            <a:br>
              <a:rPr sz="2000"/>
            </a:br>
            <a:r>
              <a:rPr b="0" lang="ru-RU" sz="20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6) Честь российского народа требует чтоб показать способность и остроту его в науках. (М. Ломоносов)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TextBox 3"/>
          <p:cNvSpPr/>
          <p:nvPr/>
        </p:nvSpPr>
        <p:spPr>
          <a:xfrm>
            <a:off x="630720" y="476280"/>
            <a:ext cx="397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мостоятельная раб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05:24:03Z</dcterms:created>
  <dc:creator>Comp</dc:creator>
  <dc:description/>
  <dc:language>en-US</dc:language>
  <cp:lastModifiedBy>Школа</cp:lastModifiedBy>
  <cp:lastPrinted>2012-10-25T19:25:30Z</cp:lastPrinted>
  <dcterms:modified xsi:type="dcterms:W3CDTF">2024-01-29T12:43:23Z</dcterms:modified>
  <cp:revision>95</cp:revision>
  <dc:subject/>
  <dc:title>Слайд 1</dc:title>
</cp:coreProperties>
</file>