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45.jpeg" ContentType="image/jpeg"/>
  <Override PartName="/ppt/media/image44.png" ContentType="image/png"/>
  <Override PartName="/ppt/media/image13.jpeg" ContentType="image/jpeg"/>
  <Override PartName="/ppt/media/image23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6.jpeg" ContentType="image/jpeg"/>
  <Override PartName="/ppt/media/image20.png" ContentType="image/png"/>
  <Override PartName="/ppt/media/image34.jpeg" ContentType="image/jpeg"/>
  <Override PartName="/ppt/media/image37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AAA-D9A8-4515-88D2-E0075522E6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C46-F782-41B3-B75D-11FCBCDA2F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954-B544-4091-BFAC-CD9EE1B7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447-85C3-4B73-838F-64DF3C16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07608-006D-4EC6-91EA-254905C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B9B8C-FC42-4F84-8325-B272710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1ED87-7925-49A4-8E92-A9C39ED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0DC8-E4B9-4249-8E24-FDCD608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7D118-C346-44F9-9AE3-38288E3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7EE60-5A7B-4F7B-9A37-13ACA692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CB507-22E7-4C20-9A6B-7B86BE9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DA36A-0BB6-44F7-9AAE-F018558F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C302-3F62-4C38-9295-F1A007EC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374F-AA0A-49E5-B8EB-D4807DF5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E16-5FEC-4DF7-ABFF-F3792E58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77DB-1F8E-4750-891A-C159C36A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6D6E-A35A-4AE8-99F1-74CFDCB4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FAE2-EAF7-4E6E-A85A-F048547F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E0E9-A4FA-4EA8-BE70-679A4E01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5F6A-8812-4820-ADB4-5C9E27D0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5329-D4FC-4A62-ACC0-BF32D0B9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F8A4-90A1-4CF9-8182-45AEF151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2DD-F598-4307-AD9B-1DDBADE3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9B91-8764-406A-A7A9-A13CEA8E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5749-72A4-4FE2-B3EE-1F5A64BF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3DF1-CEC2-45D4-AF7D-B4596C2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A58E-2373-4950-A08C-60AC23E8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1B86-C664-4329-9D13-E9C9A154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C1A9-7DA0-42A7-9102-96A186CD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B554-5EC1-40D8-9A9E-6D55959A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5022-7DF4-4674-BC25-F334993B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00F8-CD87-47EC-8C7A-5C7A14FD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CB517-8591-4FDD-9643-3E021259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3EB5-A119-4200-97E4-CAAB039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E9C18-3DD0-425A-B9F0-2ECD8926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1E691-0C6D-4918-8D70-6639E5DD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5A3A-1532-4843-8CB4-0DD77B06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3CF45-7925-42DA-9D02-1BF992FB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9135-5190-4669-A854-E714C23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9CD26-2299-4DD9-A86A-A308C787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349A2-8C57-47D6-AF59-22DAD3F4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EA9DA-C27D-467C-8603-FF501142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6820-263F-4BAD-90C8-CC01B974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02DB9-4BCB-406A-9873-CFC786E2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8772-7A57-4BF5-8E35-785D5249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36027-1350-4955-9CC0-BF60292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D4AF4-0F5A-4667-9A7A-36330605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D2799-1D05-428B-A7C4-E227F0F3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41AA-D644-4521-9327-E240A58F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78DAE-4836-4EC4-BE87-CFFCD852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81D1F-F1A8-4045-9D7E-653E917D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616EF-9F39-46AD-82DA-A9306455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3CCB9-D7FB-4C2B-B9C7-654C43F8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52A48-2169-44F2-9B8C-CA27E208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E29C2-4B97-4A7E-8630-EC1CB13D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0E3-2AB2-431F-8C8B-B3AA32E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82B6E-CBF4-4E11-9367-3245C967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B309-2C84-44E9-87B2-0561CE26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C62F9-F589-4D93-A53B-9A5DD092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2D5A-7D35-4103-B729-8C0BEDF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7CD04-71A9-4DC6-BD1A-2A5C53E7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03D5-5788-46D8-BAF9-4F166DC8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516C3-3F71-4629-B79B-98EAB4A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A0E9E-4F0F-4D67-A4F8-CCFA662A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0F84-8F60-4CC4-9F17-C4D56FE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53FA-EDFC-4532-BC23-35EBE823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765-4C64-4296-819C-73B3E69A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3F746-4FD8-4FB7-95CF-05F8F989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6342-27CA-4AE1-BCCC-AEA78E602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6D47D-19AF-4BF7-85AF-5A0EB2F9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1A3E5-E16E-4504-ADB0-B0B9ECD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AE800-F8EC-4AEE-B3C0-1222B81B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1D831-36D1-45C2-AD7B-C7052EA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BF5AC-8842-40BC-ADA0-F3ECFD97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57BB-4312-440D-B72F-687F0121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7D313-5F3E-43E4-B634-97395CF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705B-AA28-4413-9AC6-964B696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7896-41D5-4FCA-8BE3-C4F8F007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D52DE-73F0-4B59-B7FD-53D5062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811D-8D71-4C56-A145-03625491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23CFF-9642-49A3-A537-7D21B7AFF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583CA-DB89-4901-949F-82C8E1BC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2AA61-1DFB-4FDE-A9FF-3D8C2521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BC57A-033F-47E8-B4D0-46B4681A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7C4F6-2FEF-48B6-B1DE-D54F768D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70B98-AD74-4D93-B66B-8965CC83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7809F-EC15-4365-8BF6-2C2452F5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3FA66A-A8BF-4BB8-9D19-B64F4F05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448-6FF0-4CC4-B278-BFB80836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D201-D261-4BB3-BB57-2920DCA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22733-FFEB-4EF5-86BD-876A82E4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AE99C-7E1A-4849-8523-A0C6FBC4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AE296-5BD5-4B3F-B823-34D1957E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00DC-A8C4-477B-A027-FF62CB92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4ADC9-866F-48B7-802C-DBB1F5D1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11757-E88C-4897-BD35-CA136C6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3F0D8-1C86-4C9A-ABD6-37761D56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B5410-0763-4D0C-9584-7211778B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A9EC9A-CDB9-4C32-9546-169027EA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81E1-808B-4EE7-A3FC-043347F8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9DD81-C396-48EF-973D-CAF79AAC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5C06B-F968-4017-AC09-FDC5ED3F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00B6B-9E42-45DF-947F-E61A56A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CAF8E-EFA0-49B2-AA0A-5647BF0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226CA-B78F-4945-97D1-44BC771C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01B2F-C970-4368-A968-926DA1BBF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E9D6F-7832-477B-B26B-0B2F3171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44BC5-A93C-4D3C-AC91-83A3FCE32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681C1-A432-4FDE-80A7-CBDFE9FE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FB9E8-D229-4289-AC9B-83C3B768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39D7-BCCC-4F8C-AC60-0886DE2129F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6225-7344-48F9-A085-80550A81D9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5415-150C-4BD0-B752-4C2EEE704D0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0C8B-565B-418A-86BC-364DD037515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1027-38FF-47EF-B671-E9E56CE36D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9D88-1D6F-482B-AF24-769AF9E912F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73E5-56C1-4D6A-BD41-4EC55C3BA7B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1964-339B-4FAB-B497-D831AA008F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F119-F441-462E-AAAF-8D9E9AA8749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8" name="Picture 2" descr="http://player.myshared.ru/9/908749/slides/slide_1.jpg"/>
          <p:cNvPicPr/>
          <p:nvPr/>
        </p:nvPicPr>
        <p:blipFill>
          <a:blip r:embed="rId1"/>
          <a:stretch/>
        </p:blipFill>
        <p:spPr>
          <a:xfrm>
            <a:off x="428760" y="214200"/>
            <a:ext cx="8429400" cy="615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C:\Users\acer aspire one\Desktop\семинар\slide_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" descr="C:\Users\acer aspire one\Desktop\семинар\slide_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46160" y="19080"/>
            <a:ext cx="8291520" cy="1773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285840" y="1499760"/>
            <a:ext cx="8858160" cy="46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  <a:ea typeface="Arial"/>
              </a:rPr>
              <a:t>Развиваем активное самостоятельное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Arial"/>
                <a:ea typeface="Arial"/>
              </a:rPr>
              <a:t>мышление учащихся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1" name="Picture 3" descr="C:\Users\acer aspire one\Desktop\семинар\qlA2wKicOEM.jpg"/>
          <p:cNvPicPr/>
          <p:nvPr/>
        </p:nvPicPr>
        <p:blipFill>
          <a:blip r:embed="rId2"/>
          <a:stretch/>
        </p:blipFill>
        <p:spPr>
          <a:xfrm rot="21283200">
            <a:off x="509400" y="2560320"/>
            <a:ext cx="4597200" cy="35431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C:\Users\acer aspire one\Desktop\семинар\0FM-v2U3mXY.jpg"/>
          <p:cNvPicPr/>
          <p:nvPr/>
        </p:nvPicPr>
        <p:blipFill>
          <a:blip r:embed="rId3"/>
          <a:stretch/>
        </p:blipFill>
        <p:spPr>
          <a:xfrm rot="603000">
            <a:off x="4935240" y="3671640"/>
            <a:ext cx="38322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"/>
          <p:cNvPicPr/>
          <p:nvPr/>
        </p:nvPicPr>
        <p:blipFill>
          <a:blip r:embed="rId1"/>
          <a:stretch/>
        </p:blipFill>
        <p:spPr>
          <a:xfrm>
            <a:off x="755640" y="4221000"/>
            <a:ext cx="2027160" cy="1446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"/>
          <p:cNvPicPr/>
          <p:nvPr/>
        </p:nvPicPr>
        <p:blipFill>
          <a:blip r:embed="rId2"/>
          <a:stretch/>
        </p:blipFill>
        <p:spPr>
          <a:xfrm>
            <a:off x="3143160" y="2428920"/>
            <a:ext cx="1455840" cy="232236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1614600" cy="12906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9" descr=""/>
          <p:cNvPicPr/>
          <p:nvPr/>
        </p:nvPicPr>
        <p:blipFill>
          <a:blip r:embed="rId4"/>
          <a:stretch/>
        </p:blipFill>
        <p:spPr>
          <a:xfrm>
            <a:off x="7286760" y="2928960"/>
            <a:ext cx="1409400" cy="14288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"/>
          <p:cNvPicPr/>
          <p:nvPr/>
        </p:nvPicPr>
        <p:blipFill>
          <a:blip r:embed="rId5"/>
          <a:stretch/>
        </p:blipFill>
        <p:spPr>
          <a:xfrm>
            <a:off x="3348000" y="5300640"/>
            <a:ext cx="1860480" cy="1192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"/>
          <p:cNvPicPr/>
          <p:nvPr/>
        </p:nvPicPr>
        <p:blipFill>
          <a:blip r:embed="rId6"/>
          <a:stretch/>
        </p:blipFill>
        <p:spPr>
          <a:xfrm>
            <a:off x="6664320" y="4767120"/>
            <a:ext cx="2168640" cy="14464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"/>
          <p:cNvPicPr/>
          <p:nvPr/>
        </p:nvPicPr>
        <p:blipFill>
          <a:blip r:embed="rId7"/>
          <a:stretch/>
        </p:blipFill>
        <p:spPr>
          <a:xfrm>
            <a:off x="4932360" y="3952800"/>
            <a:ext cx="1428840" cy="1352520"/>
          </a:xfrm>
          <a:prstGeom prst="rect">
            <a:avLst/>
          </a:prstGeom>
          <a:ln w="0">
            <a:noFill/>
          </a:ln>
        </p:spPr>
      </p:pic>
      <p:pic>
        <p:nvPicPr>
          <p:cNvPr id="450" name="Заголовок 2" descr=""/>
          <p:cNvPicPr/>
          <p:nvPr/>
        </p:nvPicPr>
        <p:blipFill>
          <a:blip r:embed="rId8"/>
          <a:stretch/>
        </p:blipFill>
        <p:spPr>
          <a:xfrm>
            <a:off x="4925880" y="1779480"/>
            <a:ext cx="4010040" cy="14400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0"/>
          <p:cNvSpPr/>
          <p:nvPr/>
        </p:nvSpPr>
        <p:spPr>
          <a:xfrm>
            <a:off x="1214280" y="0"/>
            <a:ext cx="435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pple Garamond"/>
              </a:rPr>
              <a:t>Proj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1"/>
          <p:cNvSpPr/>
          <p:nvPr/>
        </p:nvSpPr>
        <p:spPr>
          <a:xfrm>
            <a:off x="1071720" y="1071720"/>
            <a:ext cx="785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ple Garamond"/>
              </a:rPr>
              <a:t>Now you will compose your own menu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pple Garamond"/>
              </a:rPr>
              <a:t>– What do you usually have for breakfast, lunch, su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9"/>
          <a:stretch/>
        </p:blipFill>
        <p:spPr>
          <a:xfrm>
            <a:off x="1000080" y="2571840"/>
            <a:ext cx="14288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5" name="Picture 5" descr="C:\Users\acer aspire one\Desktop\семинар\X44mXGDK4H0.jpg"/>
          <p:cNvPicPr/>
          <p:nvPr/>
        </p:nvPicPr>
        <p:blipFill>
          <a:blip r:embed="rId1"/>
          <a:stretch/>
        </p:blipFill>
        <p:spPr>
          <a:xfrm>
            <a:off x="214200" y="214200"/>
            <a:ext cx="4714920" cy="31435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C:\Users\acer aspire one\Desktop\семинар\R2fhlYCfhCM.jpg"/>
          <p:cNvPicPr/>
          <p:nvPr/>
        </p:nvPicPr>
        <p:blipFill>
          <a:blip r:embed="rId2"/>
          <a:stretch/>
        </p:blipFill>
        <p:spPr>
          <a:xfrm>
            <a:off x="5000760" y="1000080"/>
            <a:ext cx="3857400" cy="3786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C:\Users\acer aspire one\Desktop\семинар\P7o6b2a4PKA.jpg"/>
          <p:cNvPicPr/>
          <p:nvPr/>
        </p:nvPicPr>
        <p:blipFill>
          <a:blip r:embed="rId3"/>
          <a:stretch/>
        </p:blipFill>
        <p:spPr>
          <a:xfrm>
            <a:off x="642960" y="3143160"/>
            <a:ext cx="442908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85480" y="500040"/>
            <a:ext cx="870588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рок, основанный на имитации. Ролевая (учебная игра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0" name="Picture 5" descr="C:\Users\acer aspire one\Desktop\семинар\YCTgxcbKqSw (1).jpg"/>
          <p:cNvPicPr/>
          <p:nvPr/>
        </p:nvPicPr>
        <p:blipFill>
          <a:blip r:embed="rId1"/>
          <a:stretch/>
        </p:blipFill>
        <p:spPr>
          <a:xfrm>
            <a:off x="1071720" y="1714680"/>
            <a:ext cx="6429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1" descr=""/>
          <p:cNvPicPr/>
          <p:nvPr/>
        </p:nvPicPr>
        <p:blipFill>
          <a:blip r:embed="rId1"/>
          <a:stretch/>
        </p:blipFill>
        <p:spPr>
          <a:xfrm>
            <a:off x="165240" y="133200"/>
            <a:ext cx="8832600" cy="17258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" descr="C:\Users\acer aspire one\Desktop\семинар\7K51yNOwnXM.jpg"/>
          <p:cNvPicPr/>
          <p:nvPr/>
        </p:nvPicPr>
        <p:blipFill>
          <a:blip r:embed="rId2"/>
          <a:stretch/>
        </p:blipFill>
        <p:spPr>
          <a:xfrm>
            <a:off x="285840" y="1500120"/>
            <a:ext cx="4201920" cy="31510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C:\Users\acer aspire one\Desktop\семинар\hNEa4TLfp80.jpg"/>
          <p:cNvPicPr/>
          <p:nvPr/>
        </p:nvPicPr>
        <p:blipFill>
          <a:blip r:embed="rId3"/>
          <a:stretch/>
        </p:blipFill>
        <p:spPr>
          <a:xfrm>
            <a:off x="4500720" y="1071720"/>
            <a:ext cx="4143240" cy="2849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4" descr="C:\Users\acer aspire one\Desktop\семинар\UeIpjmFJq4g.jpg"/>
          <p:cNvPicPr/>
          <p:nvPr/>
        </p:nvPicPr>
        <p:blipFill>
          <a:blip r:embed="rId4"/>
          <a:stretch/>
        </p:blipFill>
        <p:spPr>
          <a:xfrm>
            <a:off x="3143160" y="3929040"/>
            <a:ext cx="428652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Заголовок 1" descr=""/>
          <p:cNvPicPr/>
          <p:nvPr/>
        </p:nvPicPr>
        <p:blipFill>
          <a:blip r:embed="rId1"/>
          <a:stretch/>
        </p:blipFill>
        <p:spPr>
          <a:xfrm>
            <a:off x="133200" y="2376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бразовательные ресурсы сети Интернет по иностранным язык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The New York Times http://nytimes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NN World New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cnn.com/WORLD European Schoolnet.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Европейская школьная сеть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chool English: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азета для изучающих английский язык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schoolenglish.ru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rambler.ru/diet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Энциклопедия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“Britannica Online”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9040" indent="-32904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http://www.ed.co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1428480" y="1285560"/>
            <a:ext cx="5700600" cy="41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32a05"/>
                </a:solidFill>
                <a:uFillTx/>
                <a:latin typeface="Franklin Gothic Book"/>
              </a:rPr>
              <a:t>  </a:t>
            </a:r>
            <a:r>
              <a:rPr b="1" lang="en-US" sz="2800" spc="-1" strike="noStrike" u="sng">
                <a:solidFill>
                  <a:srgbClr val="432a05"/>
                </a:solidFill>
                <a:uFillTx/>
                <a:latin typeface="Franklin Gothic Book"/>
              </a:rPr>
              <a:t>Evaluation Card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know the meaning of the words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answer the question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understand the text and answer the question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7a64"/>
                </a:solidFill>
                <a:latin typeface="Franklin Gothic Book"/>
              </a:rPr>
              <a:t>I can talk about my favourite food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9" name="Рисунок 3" descr="C:\Users\user\Saved Games\Desktop\смайл.jpg"/>
          <p:cNvPicPr/>
          <p:nvPr/>
        </p:nvPicPr>
        <p:blipFill>
          <a:blip r:embed="rId2"/>
          <a:stretch/>
        </p:blipFill>
        <p:spPr>
          <a:xfrm>
            <a:off x="785880" y="4246560"/>
            <a:ext cx="1928880" cy="1754280"/>
          </a:xfrm>
          <a:prstGeom prst="rect">
            <a:avLst/>
          </a:prstGeom>
          <a:ln w="0">
            <a:noFill/>
          </a:ln>
        </p:spPr>
      </p:pic>
      <p:pic>
        <p:nvPicPr>
          <p:cNvPr id="470" name="Рисунок 4" descr="C:\Users\user\Saved Games\Desktop\var--www--waploga--data--www--sasisa.in--dload--files--Animacii--po_kategoriyam--3D_Smajly--Smiles_9--Angry007.gif.gif"/>
          <p:cNvPicPr/>
          <p:nvPr/>
        </p:nvPicPr>
        <p:blipFill>
          <a:blip r:embed="rId3"/>
          <a:stretch/>
        </p:blipFill>
        <p:spPr>
          <a:xfrm>
            <a:off x="3714840" y="5214960"/>
            <a:ext cx="1428840" cy="1370160"/>
          </a:xfrm>
          <a:prstGeom prst="rect">
            <a:avLst/>
          </a:prstGeom>
          <a:ln w="0">
            <a:noFill/>
          </a:ln>
        </p:spPr>
      </p:pic>
      <p:pic>
        <p:nvPicPr>
          <p:cNvPr id="471" name="Рисунок 5" descr="C:\Users\user\Saved Games\Desktop\i.jpg"/>
          <p:cNvPicPr/>
          <p:nvPr/>
        </p:nvPicPr>
        <p:blipFill>
          <a:blip r:embed="rId4"/>
          <a:stretch/>
        </p:blipFill>
        <p:spPr>
          <a:xfrm>
            <a:off x="5929200" y="557208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Заголовок 1" descr=""/>
          <p:cNvPicPr/>
          <p:nvPr/>
        </p:nvPicPr>
        <p:blipFill>
          <a:blip r:embed="rId1"/>
          <a:stretch/>
        </p:blipFill>
        <p:spPr>
          <a:xfrm>
            <a:off x="317520" y="73080"/>
            <a:ext cx="7716960" cy="181116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785880" y="1500120"/>
            <a:ext cx="72151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шаяся за предыдущие  годы устойчивая методика проведения уро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ать возможность ученику самому искать информацию и исследовать её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вать учебные ситуации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подход  к анализу урока и стремление придерживаться старых подходов к оценке деятельности учител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известных планов-конспектов технологическими картами уро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" descr="C:\Users\acer aspire one\Desktop\семинар\slide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Заголовок 1" descr=""/>
          <p:cNvPicPr/>
          <p:nvPr/>
        </p:nvPicPr>
        <p:blipFill>
          <a:blip r:embed="rId1"/>
          <a:stretch/>
        </p:blipFill>
        <p:spPr>
          <a:xfrm>
            <a:off x="189000" y="396720"/>
            <a:ext cx="8808840" cy="11764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ступает не объектом, а субъектом учеб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рименяются разнообразные источники знаний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структура уро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индивидуальная и коллективная деятельность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ется приоритет деятельности ученика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критерии оценивания деятельности обучающихс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285480" y="428760"/>
            <a:ext cx="8705880" cy="56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и одному великому ум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знавшему учительскую прыть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 удалось открыть глаза тому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то сам не захотел бы их откры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. Губерма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78" name="Picture 2" descr=""/>
          <p:cNvPicPr/>
          <p:nvPr/>
        </p:nvPicPr>
        <p:blipFill>
          <a:blip r:embed="rId1"/>
          <a:stretch/>
        </p:blipFill>
        <p:spPr>
          <a:xfrm>
            <a:off x="785880" y="2928960"/>
            <a:ext cx="528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E:\семинар\slide_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acer aspire one\Desktop\семинар\slide_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acer aspire one\Desktop\семинар\slide_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Users\acer aspire one\Desktop\семинар\slide_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Users\acer aspire one\Desktop\семинар\slide_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acer aspire one\Desktop\семинар\slide_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Users\acer aspire one\Desktop\семинар\slide_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C:\Users\acer aspire one\Desktop\семинар\slide_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3T15:54:12Z</dcterms:created>
  <dc:creator>acer aspire one</dc:creator>
  <dc:description/>
  <dc:language>en-US</dc:language>
  <cp:lastModifiedBy>acer aspire one</cp:lastModifiedBy>
  <dcterms:modified xsi:type="dcterms:W3CDTF">2018-11-14T20:01:20Z</dcterms:modified>
  <cp:revision>8</cp:revision>
  <dc:subject/>
  <dc:title>Слайд 1</dc:title>
</cp:coreProperties>
</file>