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45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6.jpeg" ContentType="image/jpeg"/>
  <Override PartName="/ppt/media/image20.png" ContentType="image/png"/>
  <Override PartName="/ppt/media/image34.jpeg" ContentType="image/jpeg"/>
  <Override PartName="/ppt/media/image37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960D-BC2C-4C5E-8C96-F3F0DC1241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E51C-2061-4DA3-BC95-510B85E1E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A85-1AB0-4AB6-901E-DB06FEF7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513-54D1-4324-85CD-ACD44C18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3FBEE-164E-44F7-9BCB-CD1760CB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9AFF6-99BC-4990-8AAB-13BF280C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928E6-5992-46CC-8C73-7061F7FE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ACB60-A31E-4DE1-A871-A2FEA635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FBD21-94E7-4279-882D-1A63D53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65406-F465-46CC-87D7-107358E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FC36D-0FBF-475E-AE85-C28455C5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D1116-8025-4E31-A582-2B43F514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0E54C-5B56-4440-A59F-5E10587E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45C-6F49-4744-93CA-86DE2E2F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1F5-82E6-4512-8E0A-2605893C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B5AE-77F5-4EE3-B963-30EF1AFF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2FCF-991B-4F2B-9A0B-1174F3E1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BB90-13BE-438A-B145-648C58E9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D6BF-0406-471F-A593-DD485225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BD86-814D-4780-A938-BAA857A7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04F5-8DD7-4E2E-9A93-85CFEC17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9F1B-15AC-459F-BF67-404F090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3AE-6D3D-493B-BE6C-0C5BE4B6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FFA3-C411-4AF7-A52F-B5B3A66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57E0-2C0D-4457-98CA-0BE2553E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4228-B39D-4E4C-B488-BB0265F4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106A-5459-4A1A-9697-66584E7B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7AF2-EE5D-47BA-8EC4-8866F347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FF00-1270-47CC-B5C2-D02753CF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0D24-167D-430C-ADE1-AF20FFAE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892A-4B51-40D5-B5F5-969E3CA9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1303-2DB8-4E7F-84FA-89DC2C6C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9F56-5372-47CC-821D-A8C880FC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95E-9FA6-4831-9426-44051469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45B5-1FD2-4212-B7EC-43B8C60E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834F-83F1-49D9-8DD0-30AA5BD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CD04-79FF-4233-ADA2-584E3A6E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55A5-AE85-4FF9-9A6F-5EF89D7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5560-3206-4609-BD1B-AE38F077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B448-B418-443D-BDBB-9277E5F9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4FD6-A0EA-4C86-87A0-02C8C89A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0FFB-313A-4927-BA57-06C62EFA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EE82A-44A5-408A-8FB3-B9BD868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C7B6F-739C-4520-BF7F-473F791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F8B-6B96-41C9-B599-80E51D5A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46AC-A5AB-4F0B-AF36-F3D81F85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A11B5-4BE6-477D-8FCF-B2A87AF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5182-B4B7-405D-9BD6-32F350F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11646-D371-4EE1-80EB-C2F6A59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4F96-0207-4105-9568-0BFABD5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EC22-9C7B-427C-8D1E-78C41483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04277-FD9C-4065-B28D-02C4D5F6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AED1-8386-4F6D-8D4A-DDAB332D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504F-D262-4A4F-973F-B952A0F4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71F9-F232-4432-BAA0-FD569072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BBD-475E-445A-8EBD-F4B7B7C9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AB60-A155-467D-85CA-B5FE4F7B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B20D-6A5A-4DA5-8E83-A89392BE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095A7-FC53-4927-9BB8-62FFF412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0E75-ECD0-4DF9-91B2-1C289F9F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795CC-A035-4C16-8A69-3A23F9E4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6B12-8010-43E1-BBA8-24D38A2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6FD2E-2349-4996-83F6-BE626C3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C7EE-A47A-4A2F-AF5D-5CB04FF3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1A7F-2C99-48CB-96E8-18909C31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9FD5-90DF-478F-8E8F-7B08239B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1EE-3F97-4109-9F99-BF959327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4E07-FFC8-437F-AF72-7C9F98C5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FCC4-41E3-4A07-8F7B-D3F4905C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A2A65-B53A-4F53-A59B-FCB7623D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7C1B-DBF6-47E2-8E54-CEFC97EB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4D52-58C7-4BD1-8FC5-C53C1391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1AB7-9D3A-4CFD-82C8-8190ECB0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7C6FA-D541-4345-9E6C-60431CDF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E840C-08C6-42E7-803F-0796367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F61AD-12E3-4AA6-9C28-FE79096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F8EA-4B1B-4960-A881-B8B489EA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A29-5D4F-41FD-88CE-0025BCA6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C6D4-F0C1-409D-A3AE-73808020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A47B-EE60-4F68-808C-4F643CE3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1CECD-F085-4A68-935C-51C7A384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5204-6A70-458D-97A4-C8964EE1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1C3A9-18DC-4AF2-B1D5-B5ED61BC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F9976-776B-4649-ADBC-4ED50F15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470C-D1A8-4DA2-B3AA-326059E6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B06B7-0105-47DA-ABB8-DEEE6F1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7F5BA-2642-48DC-8FC1-29F67C5B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B41EF-50E8-490B-B694-A051FA9C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AD5-2236-4420-9D4A-B37D3EE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164D4-557B-4E21-B1CD-939BCBC6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113A2-0E7A-46E4-ADDF-F2AF76A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14EC-8952-4EDB-A287-10F2F807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E196F-1D82-4C93-AE8F-FC4B9112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ABE5-E6C6-4612-9474-9A4D42BD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0C6AE-9674-4D46-98D9-A560BB1A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ECCE3-805A-4C30-B5E3-D50BDB05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EF6DE-531B-4336-B7F7-B6F66ADE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76299-EF2C-432E-BF74-053BE29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63D50-6C08-4D31-998E-8A2D74A2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835-EBE4-4268-B8C4-8F3EA8B9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AFFB9-AC6B-456D-A95E-8162D86D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EEC05-F903-4035-9F1B-CC883675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5C4E1-5605-415B-B1F8-240A936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A3263-1B8C-4C0D-B250-F0FAEA11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B03D5-890D-48C8-99A9-C13E4213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A8F75-F62E-4FC5-9E11-1A809208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3BB0-8534-42D6-926E-A2AB21D6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499BA-1594-44E4-BCAC-EE3430C1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1F694-3F55-428A-96AC-E3315719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8309C-9619-498D-BA8C-BDB63C8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55D5-403E-4AD5-B9B1-3C5FC77D18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015D-9BB2-43F8-BAE3-80E4284A01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6B6-E3FA-47EF-B5B2-38AC663A49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1840-BACA-4882-BD0A-10C563E149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E05E-E19C-40C2-B527-0327CB49D0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F5DB-679D-4029-A93D-4F44234482A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96A-B8FA-412D-B1AD-0C60100F7E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03C-9E2A-4417-9209-7A91CD0470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47B8-1444-4FC9-A75E-5DB1E99B2B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http://player.myshared.ru/9/908749/slides/slide_1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C:\Users\acer aspire one\Desktop\семинар\slide_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C:\Users\acer aspire one\Desktop\семинар\slide_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46160" y="19080"/>
            <a:ext cx="8291520" cy="1773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285840" y="1499760"/>
            <a:ext cx="885816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  <a:ea typeface="Arial"/>
              </a:rPr>
              <a:t>Развиваем активное самостоятельно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  <a:ea typeface="Arial"/>
              </a:rPr>
              <a:t>мышление учащих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Picture 3" descr="C:\Users\acer aspire one\Desktop\семинар\qlA2wKicOEM.jpg"/>
          <p:cNvPicPr/>
          <p:nvPr/>
        </p:nvPicPr>
        <p:blipFill>
          <a:blip r:embed="rId2"/>
          <a:stretch/>
        </p:blipFill>
        <p:spPr>
          <a:xfrm rot="21283200">
            <a:off x="509400" y="2560320"/>
            <a:ext cx="4597200" cy="3543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Users\acer aspire one\Desktop\семинар\0FM-v2U3mXY.jpg"/>
          <p:cNvPicPr/>
          <p:nvPr/>
        </p:nvPicPr>
        <p:blipFill>
          <a:blip r:embed="rId3"/>
          <a:stretch/>
        </p:blipFill>
        <p:spPr>
          <a:xfrm rot="603000">
            <a:off x="4935240" y="3671640"/>
            <a:ext cx="38322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027160" cy="1446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"/>
          <p:cNvPicPr/>
          <p:nvPr/>
        </p:nvPicPr>
        <p:blipFill>
          <a:blip r:embed="rId2"/>
          <a:stretch/>
        </p:blipFill>
        <p:spPr>
          <a:xfrm>
            <a:off x="3143160" y="2428920"/>
            <a:ext cx="1455840" cy="2322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1614600" cy="1290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" descr=""/>
          <p:cNvPicPr/>
          <p:nvPr/>
        </p:nvPicPr>
        <p:blipFill>
          <a:blip r:embed="rId4"/>
          <a:stretch/>
        </p:blipFill>
        <p:spPr>
          <a:xfrm>
            <a:off x="7286760" y="2928960"/>
            <a:ext cx="1409400" cy="1428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"/>
          <p:cNvPicPr/>
          <p:nvPr/>
        </p:nvPicPr>
        <p:blipFill>
          <a:blip r:embed="rId5"/>
          <a:stretch/>
        </p:blipFill>
        <p:spPr>
          <a:xfrm>
            <a:off x="3348000" y="5300640"/>
            <a:ext cx="1860480" cy="1192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"/>
          <p:cNvPicPr/>
          <p:nvPr/>
        </p:nvPicPr>
        <p:blipFill>
          <a:blip r:embed="rId6"/>
          <a:stretch/>
        </p:blipFill>
        <p:spPr>
          <a:xfrm>
            <a:off x="6664320" y="4767120"/>
            <a:ext cx="2168640" cy="1446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"/>
          <p:cNvPicPr/>
          <p:nvPr/>
        </p:nvPicPr>
        <p:blipFill>
          <a:blip r:embed="rId7"/>
          <a:stretch/>
        </p:blipFill>
        <p:spPr>
          <a:xfrm>
            <a:off x="4932360" y="3952800"/>
            <a:ext cx="1428840" cy="1352520"/>
          </a:xfrm>
          <a:prstGeom prst="rect">
            <a:avLst/>
          </a:prstGeom>
          <a:ln w="0">
            <a:noFill/>
          </a:ln>
        </p:spPr>
      </p:pic>
      <p:pic>
        <p:nvPicPr>
          <p:cNvPr id="450" name="Заголовок 2" descr=""/>
          <p:cNvPicPr/>
          <p:nvPr/>
        </p:nvPicPr>
        <p:blipFill>
          <a:blip r:embed="rId8"/>
          <a:stretch/>
        </p:blipFill>
        <p:spPr>
          <a:xfrm>
            <a:off x="4925880" y="1779480"/>
            <a:ext cx="4010040" cy="14400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10"/>
          <p:cNvSpPr/>
          <p:nvPr/>
        </p:nvSpPr>
        <p:spPr>
          <a:xfrm>
            <a:off x="1214280" y="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pple Garamond"/>
              </a:rPr>
              <a:t>Proj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1"/>
          <p:cNvSpPr/>
          <p:nvPr/>
        </p:nvSpPr>
        <p:spPr>
          <a:xfrm>
            <a:off x="1071720" y="107172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Garamond"/>
              </a:rPr>
              <a:t>Now you will compose your own menu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pple Garamond"/>
              </a:rPr>
              <a:t>– What do you usually have for breakfast, lunch, su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9"/>
          <a:stretch/>
        </p:blipFill>
        <p:spPr>
          <a:xfrm>
            <a:off x="1000080" y="2571840"/>
            <a:ext cx="14288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5" name="Picture 5" descr="C:\Users\acer aspire one\Desktop\семинар\X44mXGDK4H0.jpg"/>
          <p:cNvPicPr/>
          <p:nvPr/>
        </p:nvPicPr>
        <p:blipFill>
          <a:blip r:embed="rId1"/>
          <a:stretch/>
        </p:blipFill>
        <p:spPr>
          <a:xfrm>
            <a:off x="214200" y="214200"/>
            <a:ext cx="4714920" cy="31435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C:\Users\acer aspire one\Desktop\семинар\R2fhlYCfhCM.jpg"/>
          <p:cNvPicPr/>
          <p:nvPr/>
        </p:nvPicPr>
        <p:blipFill>
          <a:blip r:embed="rId2"/>
          <a:stretch/>
        </p:blipFill>
        <p:spPr>
          <a:xfrm>
            <a:off x="5000760" y="1000080"/>
            <a:ext cx="3857400" cy="3786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C:\Users\acer aspire one\Desktop\семинар\P7o6b2a4PKA.jpg"/>
          <p:cNvPicPr/>
          <p:nvPr/>
        </p:nvPicPr>
        <p:blipFill>
          <a:blip r:embed="rId3"/>
          <a:stretch/>
        </p:blipFill>
        <p:spPr>
          <a:xfrm>
            <a:off x="642960" y="3143160"/>
            <a:ext cx="44290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85480" y="500040"/>
            <a:ext cx="870588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рок, основанный на имитации. Ролевая (учебная игр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icture 5" descr="C:\Users\acer aspire one\Desktop\семинар\YCTgxcbKqSw (1).jpg"/>
          <p:cNvPicPr/>
          <p:nvPr/>
        </p:nvPicPr>
        <p:blipFill>
          <a:blip r:embed="rId1"/>
          <a:stretch/>
        </p:blipFill>
        <p:spPr>
          <a:xfrm>
            <a:off x="1071720" y="1714680"/>
            <a:ext cx="6429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165240" y="133200"/>
            <a:ext cx="8832600" cy="17258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C:\Users\acer aspire one\Desktop\семинар\7K51yNOwnXM.jpg"/>
          <p:cNvPicPr/>
          <p:nvPr/>
        </p:nvPicPr>
        <p:blipFill>
          <a:blip r:embed="rId2"/>
          <a:stretch/>
        </p:blipFill>
        <p:spPr>
          <a:xfrm>
            <a:off x="285840" y="1500120"/>
            <a:ext cx="4201920" cy="3151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C:\Users\acer aspire one\Desktop\семинар\hNEa4TLfp80.jpg"/>
          <p:cNvPicPr/>
          <p:nvPr/>
        </p:nvPicPr>
        <p:blipFill>
          <a:blip r:embed="rId3"/>
          <a:stretch/>
        </p:blipFill>
        <p:spPr>
          <a:xfrm>
            <a:off x="4500720" y="1071720"/>
            <a:ext cx="4143240" cy="2849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C:\Users\acer aspire one\Desktop\семинар\UeIpjmFJq4g.jpg"/>
          <p:cNvPicPr/>
          <p:nvPr/>
        </p:nvPicPr>
        <p:blipFill>
          <a:blip r:embed="rId4"/>
          <a:stretch/>
        </p:blipFill>
        <p:spPr>
          <a:xfrm>
            <a:off x="3143160" y="3929040"/>
            <a:ext cx="4286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разовательные ресурсы сети Интернет по иностранным язы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 New York Times http://nytimes.co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NN World New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www.cnn.com/WORLD European Schoolnet.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Европейская школьная се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chool English: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газета для изучающих английский язы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www.schoolenglish.ru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www.rambler.ru/diet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нциклопедия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“Britannica Online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www.ed.co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1428480" y="1285560"/>
            <a:ext cx="57006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32a05"/>
                </a:solidFill>
                <a:uFillTx/>
                <a:latin typeface="Franklin Gothic Book"/>
              </a:rPr>
              <a:t>  </a:t>
            </a:r>
            <a:r>
              <a:rPr b="1" lang="en-US" sz="2800" spc="-1" strike="noStrike" u="sng">
                <a:solidFill>
                  <a:srgbClr val="432a05"/>
                </a:solidFill>
                <a:uFillTx/>
                <a:latin typeface="Franklin Gothic Book"/>
              </a:rPr>
              <a:t>Evaluation Card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7a64"/>
                </a:solidFill>
                <a:latin typeface="Franklin Gothic Book"/>
              </a:rPr>
              <a:t>I know the meaning of the word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7a64"/>
                </a:solidFill>
                <a:latin typeface="Franklin Gothic Book"/>
              </a:rPr>
              <a:t>I can answer the question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7a64"/>
                </a:solidFill>
                <a:latin typeface="Franklin Gothic Book"/>
              </a:rPr>
              <a:t>I can understand the text and answer the ques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7a64"/>
                </a:solidFill>
                <a:latin typeface="Franklin Gothic Book"/>
              </a:rPr>
              <a:t>I can talk about my favourite foo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9" name="Рисунок 3" descr="C:\Users\user\Saved Games\Desktop\смайл.jpg"/>
          <p:cNvPicPr/>
          <p:nvPr/>
        </p:nvPicPr>
        <p:blipFill>
          <a:blip r:embed="rId2"/>
          <a:stretch/>
        </p:blipFill>
        <p:spPr>
          <a:xfrm>
            <a:off x="785880" y="4246560"/>
            <a:ext cx="1928880" cy="175428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4" descr="C:\Users\user\Saved Games\Desktop\var--www--waploga--data--www--sasisa.in--dload--files--Animacii--po_kategoriyam--3D_Smajly--Smiles_9--Angry007.gif.gif"/>
          <p:cNvPicPr/>
          <p:nvPr/>
        </p:nvPicPr>
        <p:blipFill>
          <a:blip r:embed="rId3"/>
          <a:stretch/>
        </p:blipFill>
        <p:spPr>
          <a:xfrm>
            <a:off x="3714840" y="5214960"/>
            <a:ext cx="1428840" cy="1370160"/>
          </a:xfrm>
          <a:prstGeom prst="rect">
            <a:avLst/>
          </a:prstGeom>
          <a:ln w="0">
            <a:noFill/>
          </a:ln>
        </p:spPr>
      </p:pic>
      <p:pic>
        <p:nvPicPr>
          <p:cNvPr id="471" name="Рисунок 5" descr="C:\Users\user\Saved Games\Desktop\i.jpg"/>
          <p:cNvPicPr/>
          <p:nvPr/>
        </p:nvPicPr>
        <p:blipFill>
          <a:blip r:embed="rId4"/>
          <a:stretch/>
        </p:blipFill>
        <p:spPr>
          <a:xfrm>
            <a:off x="5929200" y="557208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317520" y="73080"/>
            <a:ext cx="7716960" cy="18111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785880" y="1500120"/>
            <a:ext cx="72151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вшаяся за предыдущие  годы устойчивая методика проведения уро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дать возможность ученику самому искать информацию и исследовать её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создавать учебные ситуации как особые структурные единицы учебной деятельности, а также уметь переводить учебные задачи в учебную ситуаци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подход  к анализу урока и стремление придерживаться старых подходов к оценке деятельности учител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известных планов-конспектов технологическими картами уро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ая деятельност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acer aspire one\Desktop\семинар\slide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189000" y="396720"/>
            <a:ext cx="8808840" cy="11764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выступает не объектом, а субъектом учебн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применяются разнообразные источники знан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структура уро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т индивидуальная и коллективная деятельность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ется приоритет деятельности учени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новые критерии оценивания деятельности обучающихс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85480" y="428760"/>
            <a:ext cx="870588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и одному великому ум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знавшему учительскую прыть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 удалось открыть глаза тому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то сам не захотел бы их откры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. Губерма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785880" y="2928960"/>
            <a:ext cx="5286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E:\семинар\slide_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Users\acer aspire one\Desktop\семинар\slide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acer aspire one\Desktop\семинар\slid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acer aspire one\Desktop\семинар\slide_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acer aspire one\Desktop\семинар\slid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Users\acer aspire one\Desktop\семинар\slide_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Users\acer aspire one\Desktop\семинар\slide_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C:\Users\acer aspire one\Desktop\семинар\slide_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5:54:12Z</dcterms:created>
  <dc:creator>acer aspire one</dc:creator>
  <dc:description/>
  <dc:language>en-US</dc:language>
  <cp:lastModifiedBy>acer aspire one</cp:lastModifiedBy>
  <dcterms:modified xsi:type="dcterms:W3CDTF">2018-11-14T20:01:20Z</dcterms:modified>
  <cp:revision>8</cp:revision>
  <dc:subject/>
  <dc:title>Слайд 1</dc:title>
</cp:coreProperties>
</file>