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FE1-4F27-4D7B-ACC5-765DC5B5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DC09-E6E7-4E47-9493-7C574FCD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8CD3-ADA0-4699-817F-E5983995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F9B8-C3C1-4596-92D7-C39B0291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17DF-087D-4F4A-B970-029251D6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73B9-695A-4649-86B5-50C3A218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39EE-7547-40AE-B4D0-16632DF7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4870-7BB2-42CB-8533-CEF611EA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B1F2-40A8-4C07-802B-8AC120B0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1F0-0476-4F4E-8029-1F1D00AC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1F51-360F-4ABC-9C00-BCFA55FB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EC04-59C5-4D75-99F6-20C7FB21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A636-D15C-480B-8A0A-B757EB23E2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Verdana"/>
              </a:rPr>
              <a:t>Берегись</a:t>
            </a: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993300"/>
                </a:solidFill>
                <a:latin typeface="Verdana"/>
              </a:rPr>
              <a:t>автомобил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77336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Verdana"/>
              </a:rPr>
              <a:t>2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i="1" lang="ru-RU" sz="5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C:\Users\эльдорадо\Desktop\hello_html_74a44f7c.jpg"/>
          <p:cNvPicPr/>
          <p:nvPr/>
        </p:nvPicPr>
        <p:blipFill>
          <a:blip r:embed="rId1"/>
          <a:stretch/>
        </p:blipFill>
        <p:spPr>
          <a:xfrm>
            <a:off x="250920" y="2205000"/>
            <a:ext cx="370836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Verdana"/>
              </a:rPr>
              <a:t>Что такое фликеры?</a:t>
            </a:r>
            <a:br>
              <a:rPr sz="3600"/>
            </a:b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фликер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(flicker анг. — мерцание, сверкание)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C:\Users\эльдорадо\Desktop\Светоотражающий-мягкий-брелок-«Смайлик»-фликер.jpg"/>
          <p:cNvPicPr/>
          <p:nvPr/>
        </p:nvPicPr>
        <p:blipFill>
          <a:blip r:embed="rId1"/>
          <a:stretch/>
        </p:blipFill>
        <p:spPr>
          <a:xfrm>
            <a:off x="1476360" y="4508640"/>
            <a:ext cx="1727280" cy="1633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C:\Users\эльдорадо\Desktop\a3a811u-960.jpg"/>
          <p:cNvPicPr/>
          <p:nvPr/>
        </p:nvPicPr>
        <p:blipFill>
          <a:blip r:embed="rId2"/>
          <a:srcRect l="5042" t="20264" r="0" b="17101"/>
          <a:stretch/>
        </p:blipFill>
        <p:spPr>
          <a:xfrm>
            <a:off x="4500720" y="3933720"/>
            <a:ext cx="4066920" cy="244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Users\эльдорадо\Desktop\f9fee4e47ad44d87aced9b66fae62d2f.jpg"/>
          <p:cNvPicPr/>
          <p:nvPr/>
        </p:nvPicPr>
        <p:blipFill>
          <a:blip r:embed="rId3"/>
          <a:srcRect l="27767" t="12501" r="0" b="12501"/>
          <a:stretch/>
        </p:blipFill>
        <p:spPr>
          <a:xfrm>
            <a:off x="324000" y="1484280"/>
            <a:ext cx="3960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93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Georgia"/>
              </a:rPr>
              <a:t>Проверь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ются белые параллельные полосы, нарисованные на проезжей части дорог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мустанг;          зебра;            по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дорожный знак должен находиться рядом с пешеходным переход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«Пешеходный переход»;   «Пешеходная зон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«Пешеходная дорож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значает красный цвет на дорожном зна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«Разрешаю!»   «Запрещаю!» «Предупреждаю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й сигнал светофора пешеход может переходить дорог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на красный  сигнал светофо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на желтый сигнал светофо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на зелёный сигнал светоф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кой части загородной дороги должны двигаться пешеходы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по проезжей части дороги;       по обочине дорог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 каком порядке должны идти пешеходы по загородной дороге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как удобно;            парами;         колонной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направлении должен идти пешеход по обочине загородной дорог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навстречу движению машин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по направлению движения машин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олжен обязательно прикрепить к своей одежде и сумке пешеход, если он движется по дороге с плохой видимостью или в тёмное время   суток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165d5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5d5d"/>
                </a:solidFill>
                <a:latin typeface="Times New Roman"/>
                <a:ea typeface="Times New Roman"/>
              </a:rPr>
              <a:t>несколько стикеров;                  несколько фликер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C:\Users\эльдорадо\Desktop\img2.jpg"/>
          <p:cNvPicPr/>
          <p:nvPr/>
        </p:nvPicPr>
        <p:blipFill>
          <a:blip r:embed="rId1"/>
          <a:srcRect l="0" t="19512" r="0" b="0"/>
          <a:stretch/>
        </p:blipFill>
        <p:spPr>
          <a:xfrm>
            <a:off x="826920" y="836640"/>
            <a:ext cx="7848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Verdana"/>
              </a:rPr>
              <a:t>         </a:t>
            </a:r>
            <a:r>
              <a:rPr b="1" lang="ru-RU" sz="3600" spc="-1" strike="noStrike">
                <a:solidFill>
                  <a:srgbClr val="993300"/>
                </a:solidFill>
                <a:latin typeface="Verdana"/>
              </a:rPr>
              <a:t>Литератур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.    Плешаков А.А. Мир вокруг нас: 2 класс, М.: «Просвещение», 20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   Плешаков А.А. Рабочая тетрадь: 2 класс, М.: «Просвещение», 201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ртинк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s://yandex.ru/image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Verdana"/>
              </a:rPr>
              <a:t>Это интересно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8000" y="1599840"/>
            <a:ext cx="353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KMO_085444_02037_1_t207"/>
          <p:cNvPicPr/>
          <p:nvPr/>
        </p:nvPicPr>
        <p:blipFill>
          <a:blip r:embed="rId1"/>
          <a:stretch/>
        </p:blipFill>
        <p:spPr>
          <a:xfrm>
            <a:off x="5219640" y="1628640"/>
            <a:ext cx="3313080" cy="38163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5219640" y="5445000"/>
            <a:ext cx="367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вы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ическ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ветоф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ША  20-е годы  ХХ ве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1095480" y="5303880"/>
            <a:ext cx="3692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Picture 14" descr="225"/>
          <p:cNvPicPr/>
          <p:nvPr/>
        </p:nvPicPr>
        <p:blipFill>
          <a:blip r:embed="rId2"/>
          <a:stretch/>
        </p:blipFill>
        <p:spPr>
          <a:xfrm>
            <a:off x="468360" y="1268280"/>
            <a:ext cx="2808360" cy="4176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5"/>
          <p:cNvSpPr/>
          <p:nvPr/>
        </p:nvSpPr>
        <p:spPr>
          <a:xfrm>
            <a:off x="0" y="5807160"/>
            <a:ext cx="44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ервый уличный семаф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ондон     1868 г.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IX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8"/>
          <p:cNvSpPr/>
          <p:nvPr/>
        </p:nvSpPr>
        <p:spPr>
          <a:xfrm>
            <a:off x="611280" y="1484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ешеходные               Транспор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Verdana"/>
              </a:rPr>
              <a:t>Знаете ли вы сигналы светофо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:\Users\эльдорадо\Desktop\2173114.png"/>
          <p:cNvPicPr/>
          <p:nvPr/>
        </p:nvPicPr>
        <p:blipFill>
          <a:blip r:embed="rId1"/>
          <a:srcRect l="33622" t="32472" r="5899" b="6173"/>
          <a:stretch/>
        </p:blipFill>
        <p:spPr>
          <a:xfrm>
            <a:off x="395280" y="2637000"/>
            <a:ext cx="8461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C:\Users\эльдорадо\Desktop\10.jpg"/>
          <p:cNvPicPr/>
          <p:nvPr/>
        </p:nvPicPr>
        <p:blipFill>
          <a:blip r:embed="rId1"/>
          <a:stretch/>
        </p:blipFill>
        <p:spPr>
          <a:xfrm>
            <a:off x="611280" y="620640"/>
            <a:ext cx="3771720" cy="4915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C:\Users\эльдорадо\Desktop\9.jpg"/>
          <p:cNvPicPr/>
          <p:nvPr/>
        </p:nvPicPr>
        <p:blipFill>
          <a:blip r:embed="rId2"/>
          <a:stretch/>
        </p:blipFill>
        <p:spPr>
          <a:xfrm>
            <a:off x="4788000" y="620640"/>
            <a:ext cx="37814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Verdana"/>
              </a:rPr>
              <a:t>Как переходить улиц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rcRect l="6977" t="5792" r="7780" b="14763"/>
          <a:stretch/>
        </p:blipFill>
        <p:spPr>
          <a:xfrm>
            <a:off x="971640" y="3429000"/>
            <a:ext cx="7488000" cy="295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ДЗ 1"/>
          <p:cNvPicPr/>
          <p:nvPr/>
        </p:nvPicPr>
        <p:blipFill>
          <a:blip r:embed="rId2"/>
          <a:stretch/>
        </p:blipFill>
        <p:spPr>
          <a:xfrm>
            <a:off x="755640" y="1052640"/>
            <a:ext cx="2160720" cy="20890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1y.gif"/>
          <p:cNvPicPr/>
          <p:nvPr/>
        </p:nvPicPr>
        <p:blipFill>
          <a:blip r:embed="rId3"/>
          <a:stretch/>
        </p:blipFill>
        <p:spPr>
          <a:xfrm>
            <a:off x="3348000" y="981000"/>
            <a:ext cx="2305080" cy="214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Безымянный"/>
          <p:cNvPicPr/>
          <p:nvPr/>
        </p:nvPicPr>
        <p:blipFill>
          <a:blip r:embed="rId4"/>
          <a:stretch/>
        </p:blipFill>
        <p:spPr>
          <a:xfrm>
            <a:off x="6516720" y="907920"/>
            <a:ext cx="2160720" cy="19465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1y.gif"/>
          <p:cNvPicPr/>
          <p:nvPr/>
        </p:nvPicPr>
        <p:blipFill>
          <a:blip r:embed="rId5"/>
          <a:stretch/>
        </p:blipFill>
        <p:spPr>
          <a:xfrm>
            <a:off x="6372360" y="5013360"/>
            <a:ext cx="792000" cy="792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1y.gif"/>
          <p:cNvPicPr/>
          <p:nvPr/>
        </p:nvPicPr>
        <p:blipFill>
          <a:blip r:embed="rId6"/>
          <a:stretch/>
        </p:blipFill>
        <p:spPr>
          <a:xfrm>
            <a:off x="1042920" y="364500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Verdana"/>
              </a:rPr>
              <a:t>Знаете ли вы дорожные зна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68360" y="5519880"/>
            <a:ext cx="3311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440" y="5516640"/>
            <a:ext cx="914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5076720" y="5013360"/>
            <a:ext cx="37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дземный пешеходный перех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50920" y="5157720"/>
            <a:ext cx="424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дземный пешеходный перех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13" descr="Безымянный"/>
          <p:cNvPicPr/>
          <p:nvPr/>
        </p:nvPicPr>
        <p:blipFill>
          <a:blip r:embed="rId1"/>
          <a:stretch/>
        </p:blipFill>
        <p:spPr>
          <a:xfrm>
            <a:off x="5076720" y="1700280"/>
            <a:ext cx="3598920" cy="3241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ДЗ 1"/>
          <p:cNvPicPr/>
          <p:nvPr/>
        </p:nvPicPr>
        <p:blipFill>
          <a:blip r:embed="rId2"/>
          <a:stretch/>
        </p:blipFill>
        <p:spPr>
          <a:xfrm>
            <a:off x="755640" y="1700280"/>
            <a:ext cx="37450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Verdana"/>
              </a:rPr>
              <a:t>Знаете ли вы дорожные зна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Содержимое 6" descr="4.gif"/>
          <p:cNvPicPr/>
          <p:nvPr/>
        </p:nvPicPr>
        <p:blipFill>
          <a:blip r:embed="rId1"/>
          <a:stretch/>
        </p:blipFill>
        <p:spPr>
          <a:xfrm>
            <a:off x="4932360" y="1557360"/>
            <a:ext cx="3527280" cy="354168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6" descr="1.gif"/>
          <p:cNvPicPr/>
          <p:nvPr/>
        </p:nvPicPr>
        <p:blipFill>
          <a:blip r:embed="rId2"/>
          <a:stretch/>
        </p:blipFill>
        <p:spPr>
          <a:xfrm>
            <a:off x="324000" y="1484280"/>
            <a:ext cx="3456000" cy="3600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555480" y="58672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003640" y="5013360"/>
            <a:ext cx="38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Движение н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велосипед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запреще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324000" y="5013360"/>
            <a:ext cx="35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Движени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ешеход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запреще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Verdana"/>
              </a:rPr>
              <a:t>Знаете ли вы дорожные зна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5" descr="CG33.png"/>
          <p:cNvPicPr/>
          <p:nvPr/>
        </p:nvPicPr>
        <p:blipFill>
          <a:blip r:embed="rId1"/>
          <a:stretch/>
        </p:blipFill>
        <p:spPr>
          <a:xfrm>
            <a:off x="324000" y="1484280"/>
            <a:ext cx="3600360" cy="35625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26.gif"/>
          <p:cNvPicPr/>
          <p:nvPr/>
        </p:nvPicPr>
        <p:blipFill>
          <a:blip r:embed="rId2"/>
          <a:stretch/>
        </p:blipFill>
        <p:spPr>
          <a:xfrm>
            <a:off x="5003640" y="1552680"/>
            <a:ext cx="3708720" cy="3535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108000" y="522936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Пешеходны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перехо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932360" y="5157720"/>
            <a:ext cx="37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Пешеходная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Verdana"/>
              </a:rPr>
              <a:t>дорож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Verdana"/>
              </a:rPr>
              <a:t>Как идти по загородной дорог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C:\Users\эльдорадо\Desktop\0006-010-.jpg"/>
          <p:cNvPicPr/>
          <p:nvPr/>
        </p:nvPicPr>
        <p:blipFill>
          <a:blip r:embed="rId1"/>
          <a:stretch/>
        </p:blipFill>
        <p:spPr>
          <a:xfrm>
            <a:off x="762120" y="1916280"/>
            <a:ext cx="7619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53:19Z</dcterms:created>
  <dc:creator>марина</dc:creator>
  <dc:description/>
  <dc:language>en-US</dc:language>
  <cp:lastModifiedBy>Пользователь</cp:lastModifiedBy>
  <dcterms:modified xsi:type="dcterms:W3CDTF">2024-01-29T10:58:34Z</dcterms:modified>
  <cp:revision>21</cp:revision>
  <dc:subject/>
  <dc:title>Берегись автомобиля!</dc:title>
</cp:coreProperties>
</file>