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jpeg" ContentType="image/jpeg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D57B-E9FF-4EDA-AE62-63BE0FB85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74D3-07CE-448F-8FEB-200A93A80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8711-E888-4208-88E8-5E73971EF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F526-CC23-48B1-BB27-9D90EFDC4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2DF2-AEB1-4B2A-BDFB-398B76664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AD86-83A5-473D-A643-D9688028C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CE17-8A74-4A21-BEBC-7BF575C50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2546-37EB-4A32-AD2A-FE6B7E1AC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7790-415F-4EF8-8036-9F7A3B646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1886-167A-4A4F-8399-95554A02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6164-AF8F-4B62-A105-39787B3E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D91B-0806-4F09-9A25-4047FBAF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C9A11-013C-466A-BCB7-3B5C3FC92A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Verdana"/>
              </a:rPr>
              <a:t>Берегись</a:t>
            </a: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4400" spc="-1" strike="noStrike">
                <a:solidFill>
                  <a:srgbClr val="993300"/>
                </a:solidFill>
                <a:latin typeface="Verdana"/>
              </a:rPr>
              <a:t>автомобил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1773360"/>
            <a:ext cx="9144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Verdana"/>
              </a:rPr>
              <a:t>2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   </a:t>
            </a: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1" i="1" lang="ru-RU" sz="5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C:\Users\эльдорадо\Desktop\hello_html_74a44f7c.jpg"/>
          <p:cNvPicPr/>
          <p:nvPr/>
        </p:nvPicPr>
        <p:blipFill>
          <a:blip r:embed="rId1"/>
          <a:stretch/>
        </p:blipFill>
        <p:spPr>
          <a:xfrm>
            <a:off x="250920" y="2205000"/>
            <a:ext cx="370836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Verdana"/>
              </a:rPr>
              <a:t>Что такое фликеры?</a:t>
            </a:r>
            <a:br>
              <a:rPr sz="3600"/>
            </a:b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фликер</a:t>
            </a: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 (flicker анг. — мерцание, сверкание)</a:t>
            </a: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C:\Users\эльдорадо\Desktop\Светоотражающий-мягкий-брелок-«Смайлик»-фликер.jpg"/>
          <p:cNvPicPr/>
          <p:nvPr/>
        </p:nvPicPr>
        <p:blipFill>
          <a:blip r:embed="rId1"/>
          <a:stretch/>
        </p:blipFill>
        <p:spPr>
          <a:xfrm>
            <a:off x="1476360" y="4508640"/>
            <a:ext cx="1727280" cy="16333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C:\Users\эльдорадо\Desktop\a3a811u-960.jpg"/>
          <p:cNvPicPr/>
          <p:nvPr/>
        </p:nvPicPr>
        <p:blipFill>
          <a:blip r:embed="rId2"/>
          <a:srcRect l="5042" t="20264" r="0" b="17101"/>
          <a:stretch/>
        </p:blipFill>
        <p:spPr>
          <a:xfrm>
            <a:off x="4500720" y="3933720"/>
            <a:ext cx="4066920" cy="244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C:\Users\эльдорадо\Desktop\f9fee4e47ad44d87aced9b66fae62d2f.jpg"/>
          <p:cNvPicPr/>
          <p:nvPr/>
        </p:nvPicPr>
        <p:blipFill>
          <a:blip r:embed="rId3"/>
          <a:srcRect l="27767" t="12501" r="0" b="12501"/>
          <a:stretch/>
        </p:blipFill>
        <p:spPr>
          <a:xfrm>
            <a:off x="324000" y="1484280"/>
            <a:ext cx="396072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893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Проверь себ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зываются белые параллельные полосы, нарисованные на проезжей части дорог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65d5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5d5d"/>
                </a:solidFill>
                <a:latin typeface="Times New Roman"/>
                <a:ea typeface="Times New Roman"/>
              </a:rPr>
              <a:t>мустанг;          зебра;            по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дорожный знак должен находиться рядом с пешеходным переход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65d5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5d5d"/>
                </a:solidFill>
                <a:latin typeface="Times New Roman"/>
                <a:ea typeface="Times New Roman"/>
              </a:rPr>
              <a:t>«Пешеходный переход»;   «Пешеходная зона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65d5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5d5d"/>
                </a:solidFill>
                <a:latin typeface="Times New Roman"/>
                <a:ea typeface="Times New Roman"/>
              </a:rPr>
              <a:t>«Пешеходная дорожк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означает красный цвет на дорожном зна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65d5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5d5d"/>
                </a:solidFill>
                <a:latin typeface="Times New Roman"/>
                <a:ea typeface="Times New Roman"/>
              </a:rPr>
              <a:t>«Разрешаю!»   «Запрещаю!» «Предупреждаю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кой сигнал светофора пешеход может переходить дорог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65d5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5d5d"/>
                </a:solidFill>
                <a:latin typeface="Times New Roman"/>
                <a:ea typeface="Times New Roman"/>
              </a:rPr>
              <a:t>на красный  сигнал светофор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65d5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5d5d"/>
                </a:solidFill>
                <a:latin typeface="Times New Roman"/>
                <a:ea typeface="Times New Roman"/>
              </a:rPr>
              <a:t>на желтый сигнал светофор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65d5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5d5d"/>
                </a:solidFill>
                <a:latin typeface="Times New Roman"/>
                <a:ea typeface="Times New Roman"/>
              </a:rPr>
              <a:t>на зелёный сигнал светоф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0" y="0"/>
            <a:ext cx="9144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акой части загородной дороги должны двигаться пешеходы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65d5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5d5d"/>
                </a:solidFill>
                <a:latin typeface="Times New Roman"/>
                <a:ea typeface="Times New Roman"/>
              </a:rPr>
              <a:t>по проезжей части дороги;       по обочине дорог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В каком порядке должны идти пешеходы по загородной дороге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65d5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5d5d"/>
                </a:solidFill>
                <a:latin typeface="Times New Roman"/>
                <a:ea typeface="Times New Roman"/>
              </a:rPr>
              <a:t>как удобно;            парами;         колонной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ом направлении должен идти пешеход по обочине загородной дороги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65d5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5d5d"/>
                </a:solidFill>
                <a:latin typeface="Times New Roman"/>
                <a:ea typeface="Times New Roman"/>
              </a:rPr>
              <a:t>навстречу движению машин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65d5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5d5d"/>
                </a:solidFill>
                <a:latin typeface="Times New Roman"/>
                <a:ea typeface="Times New Roman"/>
              </a:rPr>
              <a:t>по направлению движения машин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должен обязательно прикрепить к своей одежде и сумке пешеход, если он движется по дороге с плохой видимостью или в тёмное время   суток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65d5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5d5d"/>
                </a:solidFill>
                <a:latin typeface="Times New Roman"/>
                <a:ea typeface="Times New Roman"/>
              </a:rPr>
              <a:t>несколько стикеров;                  несколько фликер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7" descr="C:\Users\эльдорадо\Desktop\img2.jpg"/>
          <p:cNvPicPr/>
          <p:nvPr/>
        </p:nvPicPr>
        <p:blipFill>
          <a:blip r:embed="rId1"/>
          <a:srcRect l="0" t="19512" r="0" b="0"/>
          <a:stretch/>
        </p:blipFill>
        <p:spPr>
          <a:xfrm>
            <a:off x="826920" y="836640"/>
            <a:ext cx="78487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Verdana"/>
              </a:rPr>
              <a:t>         </a:t>
            </a:r>
            <a:r>
              <a:rPr b="1" lang="ru-RU" sz="3600" spc="-1" strike="noStrike">
                <a:solidFill>
                  <a:srgbClr val="993300"/>
                </a:solidFill>
                <a:latin typeface="Verdana"/>
              </a:rPr>
              <a:t>Литератур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1.    Плешаков А.А. Мир вокруг нас: 2 класс, М.: «Просвещение», 201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2.    Плешаков А.А. Рабочая тетрадь: 2 класс, М.: «Просвещение», 201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ртинк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s://yandex.ru/image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Verdana"/>
              </a:rPr>
              <a:t>Это интересно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148000" y="1599840"/>
            <a:ext cx="3538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KMO_085444_02037_1_t207"/>
          <p:cNvPicPr/>
          <p:nvPr/>
        </p:nvPicPr>
        <p:blipFill>
          <a:blip r:embed="rId1"/>
          <a:stretch/>
        </p:blipFill>
        <p:spPr>
          <a:xfrm>
            <a:off x="5219640" y="1628640"/>
            <a:ext cx="3313080" cy="38163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8"/>
          <p:cNvSpPr/>
          <p:nvPr/>
        </p:nvSpPr>
        <p:spPr>
          <a:xfrm>
            <a:off x="5219640" y="5445000"/>
            <a:ext cx="3673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ервый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электрическ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ветофор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ША  20-е годы  ХХ ве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Text Box 13"/>
          <p:cNvSpPr/>
          <p:nvPr/>
        </p:nvSpPr>
        <p:spPr>
          <a:xfrm>
            <a:off x="1095480" y="5303880"/>
            <a:ext cx="3692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" name="Picture 14" descr="225"/>
          <p:cNvPicPr/>
          <p:nvPr/>
        </p:nvPicPr>
        <p:blipFill>
          <a:blip r:embed="rId2"/>
          <a:stretch/>
        </p:blipFill>
        <p:spPr>
          <a:xfrm>
            <a:off x="468360" y="1268280"/>
            <a:ext cx="2808360" cy="41767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5"/>
          <p:cNvSpPr/>
          <p:nvPr/>
        </p:nvSpPr>
        <p:spPr>
          <a:xfrm>
            <a:off x="0" y="5807160"/>
            <a:ext cx="442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ервый уличный семафор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ондон     1868 г.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IX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е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8"/>
          <p:cNvSpPr/>
          <p:nvPr/>
        </p:nvSpPr>
        <p:spPr>
          <a:xfrm>
            <a:off x="611280" y="148428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Пешеходные               Транспорт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Verdana"/>
              </a:rPr>
              <a:t>Знаете ли вы сигналы светофор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C:\Users\эльдорадо\Desktop\2173114.png"/>
          <p:cNvPicPr/>
          <p:nvPr/>
        </p:nvPicPr>
        <p:blipFill>
          <a:blip r:embed="rId1"/>
          <a:srcRect l="33622" t="32472" r="5899" b="6173"/>
          <a:stretch/>
        </p:blipFill>
        <p:spPr>
          <a:xfrm>
            <a:off x="395280" y="2637000"/>
            <a:ext cx="846144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C:\Users\эльдорадо\Desktop\10.jpg"/>
          <p:cNvPicPr/>
          <p:nvPr/>
        </p:nvPicPr>
        <p:blipFill>
          <a:blip r:embed="rId1"/>
          <a:stretch/>
        </p:blipFill>
        <p:spPr>
          <a:xfrm>
            <a:off x="611280" y="620640"/>
            <a:ext cx="3771720" cy="4915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C:\Users\эльдорадо\Desktop\9.jpg"/>
          <p:cNvPicPr/>
          <p:nvPr/>
        </p:nvPicPr>
        <p:blipFill>
          <a:blip r:embed="rId2"/>
          <a:stretch/>
        </p:blipFill>
        <p:spPr>
          <a:xfrm>
            <a:off x="4788000" y="620640"/>
            <a:ext cx="378144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Verdana"/>
              </a:rPr>
              <a:t>Как переходить улиц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rcRect l="6977" t="5792" r="7780" b="14763"/>
          <a:stretch/>
        </p:blipFill>
        <p:spPr>
          <a:xfrm>
            <a:off x="971640" y="3429000"/>
            <a:ext cx="7488000" cy="2952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ДЗ 1"/>
          <p:cNvPicPr/>
          <p:nvPr/>
        </p:nvPicPr>
        <p:blipFill>
          <a:blip r:embed="rId2"/>
          <a:stretch/>
        </p:blipFill>
        <p:spPr>
          <a:xfrm>
            <a:off x="755640" y="1052640"/>
            <a:ext cx="2160720" cy="20890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2" descr="1y.gif"/>
          <p:cNvPicPr/>
          <p:nvPr/>
        </p:nvPicPr>
        <p:blipFill>
          <a:blip r:embed="rId3"/>
          <a:stretch/>
        </p:blipFill>
        <p:spPr>
          <a:xfrm>
            <a:off x="3348000" y="981000"/>
            <a:ext cx="2305080" cy="2141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Безымянный"/>
          <p:cNvPicPr/>
          <p:nvPr/>
        </p:nvPicPr>
        <p:blipFill>
          <a:blip r:embed="rId4"/>
          <a:stretch/>
        </p:blipFill>
        <p:spPr>
          <a:xfrm>
            <a:off x="6516720" y="907920"/>
            <a:ext cx="2160720" cy="19465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2" descr="1y.gif"/>
          <p:cNvPicPr/>
          <p:nvPr/>
        </p:nvPicPr>
        <p:blipFill>
          <a:blip r:embed="rId5"/>
          <a:stretch/>
        </p:blipFill>
        <p:spPr>
          <a:xfrm>
            <a:off x="6372360" y="501336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2" descr="1y.gif"/>
          <p:cNvPicPr/>
          <p:nvPr/>
        </p:nvPicPr>
        <p:blipFill>
          <a:blip r:embed="rId6"/>
          <a:stretch/>
        </p:blipFill>
        <p:spPr>
          <a:xfrm>
            <a:off x="1042920" y="3645000"/>
            <a:ext cx="79236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Verdana"/>
              </a:rPr>
              <a:t>Знаете ли вы дорожные знак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468360" y="5519880"/>
            <a:ext cx="3311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1440" y="5516640"/>
            <a:ext cx="9142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5076720" y="5013360"/>
            <a:ext cx="374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одземный пешеходный перехо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250920" y="5157720"/>
            <a:ext cx="424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адземный пешеходный перехо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8" name="Picture 13" descr="Безымянный"/>
          <p:cNvPicPr/>
          <p:nvPr/>
        </p:nvPicPr>
        <p:blipFill>
          <a:blip r:embed="rId1"/>
          <a:stretch/>
        </p:blipFill>
        <p:spPr>
          <a:xfrm>
            <a:off x="5076720" y="1700280"/>
            <a:ext cx="3598920" cy="3241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" descr="ДЗ 1"/>
          <p:cNvPicPr/>
          <p:nvPr/>
        </p:nvPicPr>
        <p:blipFill>
          <a:blip r:embed="rId2"/>
          <a:stretch/>
        </p:blipFill>
        <p:spPr>
          <a:xfrm>
            <a:off x="755640" y="1700280"/>
            <a:ext cx="374508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Verdana"/>
              </a:rPr>
              <a:t>Знаете ли вы дорожные знак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Содержимое 6" descr="4.gif"/>
          <p:cNvPicPr/>
          <p:nvPr/>
        </p:nvPicPr>
        <p:blipFill>
          <a:blip r:embed="rId1"/>
          <a:stretch/>
        </p:blipFill>
        <p:spPr>
          <a:xfrm>
            <a:off x="4932360" y="1557360"/>
            <a:ext cx="3527280" cy="3541680"/>
          </a:xfrm>
          <a:prstGeom prst="rect">
            <a:avLst/>
          </a:prstGeom>
          <a:ln w="0">
            <a:noFill/>
          </a:ln>
        </p:spPr>
      </p:pic>
      <p:pic>
        <p:nvPicPr>
          <p:cNvPr id="72" name="Содержимое 6" descr="1.gif"/>
          <p:cNvPicPr/>
          <p:nvPr/>
        </p:nvPicPr>
        <p:blipFill>
          <a:blip r:embed="rId2"/>
          <a:stretch/>
        </p:blipFill>
        <p:spPr>
          <a:xfrm>
            <a:off x="324000" y="1484280"/>
            <a:ext cx="3456000" cy="36003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555480" y="586728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5003640" y="5013360"/>
            <a:ext cx="388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Движение н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велосипеде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запрещен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324000" y="5013360"/>
            <a:ext cx="352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Движение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пешеходов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запрещен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Verdana"/>
              </a:rPr>
              <a:t>Знаете ли вы дорожные знак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5" descr="CG33.png"/>
          <p:cNvPicPr/>
          <p:nvPr/>
        </p:nvPicPr>
        <p:blipFill>
          <a:blip r:embed="rId1"/>
          <a:stretch/>
        </p:blipFill>
        <p:spPr>
          <a:xfrm>
            <a:off x="324000" y="1484280"/>
            <a:ext cx="3600360" cy="356256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3" descr="26.gif"/>
          <p:cNvPicPr/>
          <p:nvPr/>
        </p:nvPicPr>
        <p:blipFill>
          <a:blip r:embed="rId2"/>
          <a:stretch/>
        </p:blipFill>
        <p:spPr>
          <a:xfrm>
            <a:off x="5003640" y="1552680"/>
            <a:ext cx="3708720" cy="35352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7"/>
          <p:cNvSpPr/>
          <p:nvPr/>
        </p:nvSpPr>
        <p:spPr>
          <a:xfrm>
            <a:off x="108000" y="5229360"/>
            <a:ext cx="38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Verdana"/>
              </a:rPr>
              <a:t>Пешеходны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Verdana"/>
              </a:rPr>
              <a:t>перехо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4932360" y="5157720"/>
            <a:ext cx="374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Verdana"/>
              </a:rPr>
              <a:t>Пешеходная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Verdana"/>
              </a:rPr>
              <a:t>дорож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Verdana"/>
              </a:rPr>
              <a:t>Как идти по загородной дорог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9" descr="C:\Users\эльдорадо\Desktop\0006-010-.jpg"/>
          <p:cNvPicPr/>
          <p:nvPr/>
        </p:nvPicPr>
        <p:blipFill>
          <a:blip r:embed="rId1"/>
          <a:stretch/>
        </p:blipFill>
        <p:spPr>
          <a:xfrm>
            <a:off x="762120" y="1916280"/>
            <a:ext cx="76197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7:53:19Z</dcterms:created>
  <dc:creator>марина</dc:creator>
  <dc:description/>
  <dc:language>en-US</dc:language>
  <cp:lastModifiedBy>Пользователь</cp:lastModifiedBy>
  <dcterms:modified xsi:type="dcterms:W3CDTF">2024-01-29T10:58:34Z</dcterms:modified>
  <cp:revision>21</cp:revision>
  <dc:subject/>
  <dc:title>Берегись автомобиля!</dc:title>
</cp:coreProperties>
</file>