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F4D4-D1C3-4CDA-9FF3-6501B356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BA8-63FF-4191-ABEF-8F32303A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97F-2DA7-4C29-BECA-61549CB4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EE6-86A7-436E-902A-3F12F6E6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53EF-1537-4743-BFB3-92FC8BFA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0905-C9E0-4BF7-863A-0B184D0C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A1A3-8038-4691-B559-1569E047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D7BE-0936-4888-A434-B59AE10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B87-FB88-4BCE-93E7-E5B89821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D94-1245-4BDF-A48C-0C9A1D47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3EA-C38D-49E9-ACDC-74DAF52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31A-BD92-4F64-90FD-39B50AD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4CBC-7225-4D64-88E4-13CF3BAE61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58800" y="691920"/>
            <a:ext cx="65530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сский язык </a:t>
            </a:r>
            <a:br>
              <a:rPr sz="4000"/>
            </a:b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3 классе</a:t>
            </a: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МА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:  </a:t>
            </a:r>
            <a:br>
              <a:rPr sz="4800"/>
            </a:b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УЧИМСЯ СЧИТАТЬ ДО СТА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80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у́ю кни́гу Аль-Хорезми́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писа́л как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е́рвый а́втор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"/>
          <p:cNvSpPr/>
          <p:nvPr/>
        </p:nvSpPr>
        <p:spPr>
          <a:xfrm>
            <a:off x="3205800" y="3645000"/>
            <a:ext cx="577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атематическ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2"/>
          <p:cNvSpPr/>
          <p:nvPr/>
        </p:nvSpPr>
        <p:spPr>
          <a:xfrm>
            <a:off x="3026160" y="476280"/>
            <a:ext cx="515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осо́бенно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бы́ло в ней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Прямая со стрелкой 5"/>
          <p:cNvCxnSpPr>
            <a:stCxn id="70" idx="2"/>
          </p:cNvCxnSpPr>
          <p:nvPr/>
        </p:nvCxnSpPr>
        <p:spPr>
          <a:xfrm flipH="1">
            <a:off x="5590440" y="2045880"/>
            <a:ext cx="10440" cy="109620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2" name="Рисунок 6" descr=""/>
          <p:cNvPicPr/>
          <p:nvPr/>
        </p:nvPicPr>
        <p:blipFill>
          <a:blip r:embed="rId1"/>
          <a:stretch/>
        </p:blipFill>
        <p:spPr>
          <a:xfrm>
            <a:off x="3002040" y="3162240"/>
            <a:ext cx="651816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2210760" y="890640"/>
            <a:ext cx="777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Зе́мли с подро́бным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ка́ртами, на кото́р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ы́ли ре́ки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моря́ и океа́ны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ажне́йш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населённые пу́нкты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"/>
          <p:cNvPicPr/>
          <p:nvPr/>
        </p:nvPicPr>
        <p:blipFill>
          <a:blip r:embed="rId1"/>
          <a:stretch/>
        </p:blipFill>
        <p:spPr>
          <a:xfrm>
            <a:off x="2781360" y="763560"/>
            <a:ext cx="72914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2"/>
          <p:cNvSpPr/>
          <p:nvPr/>
        </p:nvSpPr>
        <p:spPr>
          <a:xfrm>
            <a:off x="2482920" y="430200"/>
            <a:ext cx="1097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дре́вних ру́сских кни́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́фры обознача́л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039800" y="820800"/>
            <a:ext cx="228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4a4a"/>
                </a:solidFill>
                <a:latin typeface="Georgia"/>
              </a:rPr>
              <a:t> </a:t>
            </a:r>
            <a:r>
              <a:rPr b="1" lang="ru-RU" sz="4800" spc="-1" strike="noStrike">
                <a:solidFill>
                  <a:srgbClr val="4a4a4a"/>
                </a:solidFill>
                <a:latin typeface="Georgia"/>
              </a:rPr>
              <a:t>букв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2694240" y="1652760"/>
            <a:ext cx="63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́мские ци́фры похо́жи 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8975880" y="16398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́ль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6"/>
          <p:cNvSpPr/>
          <p:nvPr/>
        </p:nvSpPr>
        <p:spPr>
          <a:xfrm>
            <a:off x="2761560" y="2443320"/>
            <a:ext cx="609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́фры, кото́рые мы пи́ше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́ют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7"/>
          <p:cNvSpPr/>
          <p:nvPr/>
        </p:nvSpPr>
        <p:spPr>
          <a:xfrm>
            <a:off x="5946480" y="2944800"/>
            <a:ext cx="290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ра́бски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8"/>
          <p:cNvSpPr/>
          <p:nvPr/>
        </p:nvSpPr>
        <p:spPr>
          <a:xfrm>
            <a:off x="2786040" y="4022640"/>
            <a:ext cx="737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́бские ци́фры пришли́ и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9"/>
          <p:cNvSpPr/>
          <p:nvPr/>
        </p:nvSpPr>
        <p:spPr>
          <a:xfrm>
            <a:off x="6755040" y="473076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́нд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1125000"/>
            <a:ext cx="8366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3" descr=""/>
          <p:cNvPicPr/>
          <p:nvPr/>
        </p:nvPicPr>
        <p:blipFill>
          <a:blip r:embed="rId1"/>
          <a:srcRect l="0" t="9776" r="28575" b="0"/>
          <a:stretch/>
        </p:blipFill>
        <p:spPr>
          <a:xfrm>
            <a:off x="3287880" y="2060640"/>
            <a:ext cx="5545080" cy="2016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3301920" y="4545000"/>
            <a:ext cx="597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тр 75, задание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2711520" y="112536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ветло-пуш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нежинка бел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ч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смела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295880" y="3252960"/>
            <a:ext cx="609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Лежит пуш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нежинка смелая.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чистая,</a:t>
            </a:r>
            <a:br>
              <a:rPr sz="3200"/>
            </a:br>
            <a:r>
              <a:rPr b="1" lang="ru-RU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белая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492120" y="100080"/>
            <a:ext cx="1120788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16000" y="981000"/>
            <a:ext cx="242892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а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н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Цифры 1 PNG"/>
          <p:cNvPicPr/>
          <p:nvPr/>
        </p:nvPicPr>
        <p:blipFill>
          <a:blip r:embed="rId1"/>
          <a:stretch/>
        </p:blipFill>
        <p:spPr>
          <a:xfrm>
            <a:off x="2711520" y="2351160"/>
            <a:ext cx="2371680" cy="23716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" descr=""/>
          <p:cNvPicPr/>
          <p:nvPr/>
        </p:nvPicPr>
        <p:blipFill>
          <a:blip r:embed="rId2"/>
          <a:stretch/>
        </p:blipFill>
        <p:spPr>
          <a:xfrm>
            <a:off x="7736040" y="922320"/>
            <a:ext cx="1680840" cy="17985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Показываются смайлы. Как набрать смайлы на клавиатуре"/>
          <p:cNvPicPr/>
          <p:nvPr/>
        </p:nvPicPr>
        <p:blipFill>
          <a:blip r:embed="rId3"/>
          <a:stretch/>
        </p:blipFill>
        <p:spPr>
          <a:xfrm>
            <a:off x="7897680" y="2720880"/>
            <a:ext cx="1478160" cy="1622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Смайлики картинки гиф анимации: Задорное солнышко скачать"/>
          <p:cNvPicPr/>
          <p:nvPr/>
        </p:nvPicPr>
        <p:blipFill>
          <a:blip r:embed="rId4"/>
          <a:stretch/>
        </p:blipFill>
        <p:spPr>
          <a:xfrm>
            <a:off x="7736040" y="4519440"/>
            <a:ext cx="1815840" cy="17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D:\клипарт\Еда\фрукты\_9.png"/>
          <p:cNvPicPr/>
          <p:nvPr/>
        </p:nvPicPr>
        <p:blipFill>
          <a:blip r:embed="rId1"/>
          <a:stretch/>
        </p:blipFill>
        <p:spPr>
          <a:xfrm>
            <a:off x="7731000" y="4673520"/>
            <a:ext cx="1562400" cy="1592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D:\клипарт\Еда\фрукты\eda-klipart-25_small.png"/>
          <p:cNvPicPr/>
          <p:nvPr/>
        </p:nvPicPr>
        <p:blipFill>
          <a:blip r:embed="rId2"/>
          <a:stretch/>
        </p:blipFill>
        <p:spPr>
          <a:xfrm>
            <a:off x="7751880" y="2532240"/>
            <a:ext cx="1579320" cy="2141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D:\клипарт\Еда\фрукты\гранат1.png"/>
          <p:cNvPicPr/>
          <p:nvPr/>
        </p:nvPicPr>
        <p:blipFill>
          <a:blip r:embed="rId3"/>
          <a:srcRect l="19364" t="9951" r="18211" b="11943"/>
          <a:stretch/>
        </p:blipFill>
        <p:spPr>
          <a:xfrm>
            <a:off x="7751880" y="765000"/>
            <a:ext cx="1465200" cy="1791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3575160" y="907920"/>
            <a:ext cx="4064040" cy="74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гранат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уш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блок</a:t>
            </a: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2" descr=""/>
          <p:cNvPicPr/>
          <p:nvPr/>
        </p:nvPicPr>
        <p:blipFill>
          <a:blip r:embed="rId1"/>
          <a:stretch/>
        </p:blipFill>
        <p:spPr>
          <a:xfrm>
            <a:off x="2762280" y="620640"/>
            <a:ext cx="6667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2826720" y="1444680"/>
            <a:ext cx="65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тако́й Аль-Хорезми́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503520" y="2859120"/>
            <a:ext cx="634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ухамма́д Аль-Хорезми́ — вели́кий учёный: матема́тик, астроно́м, исто́рик, гео́граф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3648240" y="3429000"/>
            <a:ext cx="640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н роди́лся в 783 (семьсо́т во́семьдесят тре́тьем) году́ в Хоре́з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312360" y="1500120"/>
            <a:ext cx="61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де он роди́лся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"/>
          <p:cNvSpPr/>
          <p:nvPr/>
        </p:nvSpPr>
        <p:spPr>
          <a:xfrm>
            <a:off x="2679480" y="1420920"/>
            <a:ext cx="726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и́е кни́ги он написа́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2855880" y="257508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«Кни́га об инди́йском счёте», «Кни́га карти́ны Земли́»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«Кни́га о со́лнечных часа́х», «Кни́- га исто́рии», «Астрономи́ческие табли́ц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Windows 10</cp:lastModifiedBy>
  <dcterms:modified xsi:type="dcterms:W3CDTF">2024-01-29T11:03:52Z</dcterms:modified>
  <cp:revision>56</cp:revision>
  <dc:subject/>
  <dc:title>Слайд 1</dc:title>
</cp:coreProperties>
</file>