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ABC-E4B5-4446-BD32-C9F9C330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9F8B-CC18-4630-A660-CF7E6C12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51F9-4D10-4E0C-B2FE-7AA65BB0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8EB7-3D45-4FC7-94D6-15710F6A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35E-2AEC-425A-ABDF-660ACA2B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0DE8-6807-4C1D-AF6E-40E6AC21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C264-265B-4197-9125-03EED1EB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E62-2C72-492B-B50B-DD53F0FE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E7D-4D81-4D56-8B8D-2C25572C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1DE-3C67-4CAE-9414-58577C4C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D43A-65AD-409C-B318-AD663F17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500-7F2E-4EEC-853E-CE02BE1F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0413-10C5-465E-B4FC-D465411154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58800" y="691920"/>
            <a:ext cx="655308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усский язык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3 классе</a:t>
            </a:r>
            <a:br>
              <a:rPr sz="4000"/>
            </a:br>
            <a:br>
              <a:rPr sz="40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МА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 </a:t>
            </a:r>
            <a:br>
              <a:rPr sz="4800"/>
            </a:b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УЧИМСЯ СЧИТАТЬ ДО СТА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8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у́ю кни́гу Аль-Хорезми́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писа́л как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́рвый а́втор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3205800" y="3645000"/>
            <a:ext cx="577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атематическ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2"/>
          <p:cNvSpPr/>
          <p:nvPr/>
        </p:nvSpPr>
        <p:spPr>
          <a:xfrm>
            <a:off x="3026160" y="476280"/>
            <a:ext cx="515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то осо́бенн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ы́ло в не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Прямая со стрелкой 5"/>
          <p:cNvCxnSpPr>
            <a:stCxn id="70" idx="2"/>
          </p:cNvCxnSpPr>
          <p:nvPr/>
        </p:nvCxnSpPr>
        <p:spPr>
          <a:xfrm flipH="1">
            <a:off x="5590440" y="2045880"/>
            <a:ext cx="10440" cy="10962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72" name="Рисунок 6" descr=""/>
          <p:cNvPicPr/>
          <p:nvPr/>
        </p:nvPicPr>
        <p:blipFill>
          <a:blip r:embed="rId1"/>
          <a:stretch/>
        </p:blipFill>
        <p:spPr>
          <a:xfrm>
            <a:off x="3002040" y="3162240"/>
            <a:ext cx="651816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2"/>
          <p:cNvSpPr/>
          <p:nvPr/>
        </p:nvSpPr>
        <p:spPr>
          <a:xfrm>
            <a:off x="2210760" y="890640"/>
            <a:ext cx="777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Зе́мли с подро́бным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а́ртами, на кото́р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ы́ли ре́ки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оря́ и океа́ны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ажне́йш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аселённые пу́нкты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2781360" y="763560"/>
            <a:ext cx="729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2"/>
          <p:cNvSpPr/>
          <p:nvPr/>
        </p:nvSpPr>
        <p:spPr>
          <a:xfrm>
            <a:off x="2482920" y="430200"/>
            <a:ext cx="1097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дре́вних ру́сских кни́г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и́фры обознача́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7039800" y="820800"/>
            <a:ext cx="228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4a4a"/>
                </a:solidFill>
                <a:latin typeface="Georgia"/>
              </a:rPr>
              <a:t> </a:t>
            </a:r>
            <a:r>
              <a:rPr b="1" lang="ru-RU" sz="4800" spc="-1" strike="noStrike">
                <a:solidFill>
                  <a:srgbClr val="4a4a4a"/>
                </a:solidFill>
                <a:latin typeface="Georgia"/>
              </a:rPr>
              <a:t>букв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2694240" y="1652760"/>
            <a:ext cx="63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и́мские ци́фры похо́жи 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8975880" y="163980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́ль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2761560" y="2443320"/>
            <a:ext cx="609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и́фры, кото́рые мы пи́ше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ыва́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5946480" y="2944800"/>
            <a:ext cx="290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ра́бски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8"/>
          <p:cNvSpPr/>
          <p:nvPr/>
        </p:nvSpPr>
        <p:spPr>
          <a:xfrm>
            <a:off x="2786040" y="4022640"/>
            <a:ext cx="737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́бские ци́фры пришли́ 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9"/>
          <p:cNvSpPr/>
          <p:nvPr/>
        </p:nvSpPr>
        <p:spPr>
          <a:xfrm>
            <a:off x="6755040" y="4730760"/>
            <a:ext cx="179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́нд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12680" y="112500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rcRect l="0" t="9776" r="28575" b="0"/>
          <a:stretch/>
        </p:blipFill>
        <p:spPr>
          <a:xfrm>
            <a:off x="3287880" y="2060640"/>
            <a:ext cx="5545080" cy="2016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3301920" y="4545000"/>
            <a:ext cx="597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р 75, задание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2711520" y="1125360"/>
            <a:ext cx="6095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ветло-пушистая,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нежинка белая,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акая чистая,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акая смелая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4295880" y="3252960"/>
            <a:ext cx="6095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Лежит пушистая,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нежинка смелая.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акая чистая,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акая белая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492120" y="100080"/>
            <a:ext cx="1120788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16000" y="981000"/>
            <a:ext cx="242892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а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Цифры 1 PNG"/>
          <p:cNvPicPr/>
          <p:nvPr/>
        </p:nvPicPr>
        <p:blipFill>
          <a:blip r:embed="rId1"/>
          <a:stretch/>
        </p:blipFill>
        <p:spPr>
          <a:xfrm>
            <a:off x="2711520" y="2351160"/>
            <a:ext cx="2371680" cy="23716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" descr=""/>
          <p:cNvPicPr/>
          <p:nvPr/>
        </p:nvPicPr>
        <p:blipFill>
          <a:blip r:embed="rId2"/>
          <a:stretch/>
        </p:blipFill>
        <p:spPr>
          <a:xfrm>
            <a:off x="7736040" y="922320"/>
            <a:ext cx="1680840" cy="17985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Показываются смайлы. Как набрать смайлы на клавиатуре"/>
          <p:cNvPicPr/>
          <p:nvPr/>
        </p:nvPicPr>
        <p:blipFill>
          <a:blip r:embed="rId3"/>
          <a:stretch/>
        </p:blipFill>
        <p:spPr>
          <a:xfrm>
            <a:off x="7897680" y="2720880"/>
            <a:ext cx="1478160" cy="162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Смайлики картинки гиф анимации: Задорное солнышко скачать"/>
          <p:cNvPicPr/>
          <p:nvPr/>
        </p:nvPicPr>
        <p:blipFill>
          <a:blip r:embed="rId4"/>
          <a:stretch/>
        </p:blipFill>
        <p:spPr>
          <a:xfrm>
            <a:off x="7736040" y="4519440"/>
            <a:ext cx="181584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клипарт\Еда\фрукты\_9.png"/>
          <p:cNvPicPr/>
          <p:nvPr/>
        </p:nvPicPr>
        <p:blipFill>
          <a:blip r:embed="rId1"/>
          <a:stretch/>
        </p:blipFill>
        <p:spPr>
          <a:xfrm>
            <a:off x="7731000" y="4673520"/>
            <a:ext cx="1562400" cy="1592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D:\клипарт\Еда\фрукты\eda-klipart-25_small.png"/>
          <p:cNvPicPr/>
          <p:nvPr/>
        </p:nvPicPr>
        <p:blipFill>
          <a:blip r:embed="rId2"/>
          <a:stretch/>
        </p:blipFill>
        <p:spPr>
          <a:xfrm>
            <a:off x="7751880" y="2532240"/>
            <a:ext cx="1579320" cy="214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D:\клипарт\Еда\фрукты\гранат1.png"/>
          <p:cNvPicPr/>
          <p:nvPr/>
        </p:nvPicPr>
        <p:blipFill>
          <a:blip r:embed="rId3"/>
          <a:srcRect l="19364" t="9951" r="18211" b="11943"/>
          <a:stretch/>
        </p:blipFill>
        <p:spPr>
          <a:xfrm>
            <a:off x="7751880" y="765000"/>
            <a:ext cx="1465200" cy="1791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3575160" y="907920"/>
            <a:ext cx="406404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гранат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ш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блок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2762280" y="620640"/>
            <a:ext cx="66675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2826720" y="144468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то тако́й Аль-Хорезми́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3503520" y="2859120"/>
            <a:ext cx="6340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ухамма́д Аль-Хорезми́ — вели́кий учёный: матема́тик, астроно́м, исто́рик, гео́граф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"/>
          <p:cNvSpPr/>
          <p:nvPr/>
        </p:nvSpPr>
        <p:spPr>
          <a:xfrm>
            <a:off x="3648240" y="3429000"/>
            <a:ext cx="640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н роди́лся в 783 (семьсо́т во́семьдесят тре́тьем) году́ в Хоре́з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3312360" y="1500120"/>
            <a:ext cx="612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Где он роди́лся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2679480" y="1420920"/>
            <a:ext cx="726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и́е кни́ги он написа́л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2855880" y="257508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«Кни́га об инди́йском счёте», «Кни́га карти́ны Земли́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«Кни́га о со́лнечных часа́х», «Кни́- га исто́рии», «Астрономи́ческие табли́цы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8:23:50Z</dcterms:created>
  <dc:creator>home</dc:creator>
  <dc:description/>
  <dc:language>en-US</dc:language>
  <cp:lastModifiedBy>Windows 10</cp:lastModifiedBy>
  <dcterms:modified xsi:type="dcterms:W3CDTF">2024-01-29T11:03:52Z</dcterms:modified>
  <cp:revision>56</cp:revision>
  <dc:subject/>
  <dc:title>Слайд 1</dc:title>
</cp:coreProperties>
</file>