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8CC9-5037-4F38-A100-493A6FA8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4C9-C4FF-48E1-A73C-5EDF1A5F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564-E6BE-4250-B291-388026F86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74B3-79AF-4D33-9486-7904878C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9C40-D26A-4FB2-912E-2AA9B68B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4463-E86B-4F93-B855-6CA2478A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8CB1-A4F9-46BD-8294-B908935A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3CE0-981B-4499-9E36-B59F1F54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0107-AFC0-490B-9C95-160346CA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C498-2F0F-46D8-9226-9564B696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4164C-4EEC-497F-8351-29E98EF6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988-B839-4FCB-AA8D-E604C951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18C2-0E74-4B48-8E76-465B4075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A8AE-BDA2-4B51-B5B2-736AEBEE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0D5-7EFA-413E-88C4-7FFE68FD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9AD1-EE0D-49AF-AA43-C60B487C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A24D-8FF2-494F-A461-FA5BF566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004-916A-4839-B9E1-15DD4F6B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F3D-519F-4CC6-B400-0DCBD1DA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8FD-F183-4F95-B0D6-D2E760DE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822-6349-4C09-B7B2-7A42D25B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7A13-775F-4BAA-AC89-639A9D85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B43-18F4-4369-BAA1-6959CD79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2F78-7AD5-4DA8-8B95-123480E8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333B-1E31-4734-8FA8-A69889711BC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752F-68FE-4501-8B60-AE62C1FDD1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"/>
              </a:rPr>
              <a:t>Иван Сергеевич Тургенев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1818 – 1883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cc"/>
                </a:solidFill>
                <a:latin typeface="Arial"/>
              </a:rPr>
              <a:t>«Правда – воздух, без которого дышать нельзя» (И.С. Тургенев)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Портрет Тургенева"/>
          <p:cNvPicPr/>
          <p:nvPr/>
        </p:nvPicPr>
        <p:blipFill>
          <a:blip r:embed="rId1"/>
          <a:stretch/>
        </p:blipFill>
        <p:spPr>
          <a:xfrm>
            <a:off x="914400" y="1600200"/>
            <a:ext cx="377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290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Варвара Петровна Лутовинов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362320" y="838080"/>
            <a:ext cx="437832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Варвара Петровна в молодост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3938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Спасское – Лутовинов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Полина (Пелагея) Тургенева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842 - 1918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«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Дочь Тургенева - Полина"/>
          <p:cNvPicPr/>
          <p:nvPr/>
        </p:nvPicPr>
        <p:blipFill>
          <a:blip r:embed="rId1"/>
          <a:stretch/>
        </p:blipFill>
        <p:spPr>
          <a:xfrm>
            <a:off x="0" y="1752480"/>
            <a:ext cx="4572000" cy="3657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Полина (Пелагея) Тургенева, дочь писателя"/>
          <p:cNvPicPr/>
          <p:nvPr/>
        </p:nvPicPr>
        <p:blipFill>
          <a:blip r:embed="rId2"/>
          <a:stretch/>
        </p:blipFill>
        <p:spPr>
          <a:xfrm>
            <a:off x="4572000" y="175248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Тургеневу 19 лет</a:t>
            </a:r>
            <a:br>
              <a:rPr sz="3700"/>
            </a:br>
            <a:r>
              <a:rPr b="1" lang="en-US" sz="3700" spc="-1" strike="noStrike">
                <a:solidFill>
                  <a:srgbClr val="ffffcc"/>
                </a:solidFill>
                <a:latin typeface="Arial"/>
              </a:rPr>
              <a:t>Тургенева огорчало, что в дочери нет художественного начала.</a:t>
            </a:r>
            <a:endParaRPr b="0" lang="en-US" sz="37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Иван Тургенев в 19 лет"/>
          <p:cNvPicPr/>
          <p:nvPr/>
        </p:nvPicPr>
        <p:blipFill>
          <a:blip r:embed="rId1"/>
          <a:stretch/>
        </p:blipFill>
        <p:spPr>
          <a:xfrm>
            <a:off x="1600200" y="1905120"/>
            <a:ext cx="60199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Полина Виардо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" descr="картинка Arlett"/>
          <p:cNvPicPr/>
          <p:nvPr/>
        </p:nvPicPr>
        <p:blipFill>
          <a:blip r:embed="rId1"/>
          <a:stretch/>
        </p:blipFill>
        <p:spPr>
          <a:xfrm>
            <a:off x="457200" y="914400"/>
            <a:ext cx="3387600" cy="5791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62520" y="914400"/>
            <a:ext cx="47768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В 1868 г. Тургенев писал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«Я не мог дышать одним воздухом, оставаться рядом с тем, что я возненавидел; для этого у меня, вероятно, недоставало надлежащей выдержки, твёрдости характера. Мне необходимо нужно было удалиться от моего врага за тем, чтобы из самой моей дали сильнее напасть на него. В моих глазах враг этот имел определённый образ, носил известное имя: враг этот был — крепостное право»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9T14:41:56Z</dcterms:created>
  <dc:creator>Илья</dc:creator>
  <dc:description/>
  <dc:language>en-US</dc:language>
  <cp:lastModifiedBy>Илья</cp:lastModifiedBy>
  <dcterms:modified xsi:type="dcterms:W3CDTF">2021-12-20T15:12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