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995-F12D-4883-97B3-FCC43E8C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2B2-8C1E-4BDF-A965-97AC2347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F59-2504-4103-92AA-CAB832BD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702-BD72-4350-A737-26A6E579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C55-7F5C-4B9A-976C-ECEBBA09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440-708C-4248-86A4-470D8BD7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C4D5-A429-4728-9DA1-4585352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5C38-B854-4C75-9719-F75A455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981-BF8C-4A70-A707-2B7D1D5C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8F2C-7D16-4628-8752-1DBA10B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488D-DCEC-4A11-AB25-56081ED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5F8-B9C0-46C2-A41D-76F4C00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05A-D322-4718-A848-06A3AE5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CFEF-4E49-4DEF-8DF4-BEEB8F6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F962-FF3F-4C10-A155-D6D6E7C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45C7-E06A-4716-BBCB-453894C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8E9-AEB8-4692-B9F6-A6DC46E8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DB8-756E-455B-B567-68A6A9CA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A54-B56B-4580-8347-B394B337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318-43C5-450C-AFB8-4DA283DD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188-0B2D-4D38-9FFA-AA5B036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B0F-D2CE-487D-AE37-038130B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948-3153-4BE3-BB71-CA9B46D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D18-B2A3-4A0E-A8C3-5C3F283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A6D2-C49B-42F2-874F-25252B73FA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5B3-005F-4BD2-8BE1-5CB5F9B92E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Иван Сергеевич Тургенев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1818 – 1883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cc"/>
                </a:solidFill>
                <a:latin typeface="Arial"/>
              </a:rPr>
              <a:t>«Правда – воздух, без которого дышать нельзя» (И.С. Тургенев)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Портрет Тургенева"/>
          <p:cNvPicPr/>
          <p:nvPr/>
        </p:nvPicPr>
        <p:blipFill>
          <a:blip r:embed="rId1"/>
          <a:stretch/>
        </p:blipFill>
        <p:spPr>
          <a:xfrm>
            <a:off x="914400" y="1600200"/>
            <a:ext cx="377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290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Варвара Петровна Лутовин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78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арвара Петровна в молод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3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пасское – Лутовино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Полина (Пелагея) Тургенев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842 - 1918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Дочь Тургенева - Полина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Полина (Пелагея) Тургенева, дочь писателя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Тургеневу 19 лет</a:t>
            </a:r>
            <a:br>
              <a:rPr sz="3700"/>
            </a:b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Тургенева огорчало, что в дочери нет художественного начала.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Иван Тургенев в 19 лет"/>
          <p:cNvPicPr/>
          <p:nvPr/>
        </p:nvPicPr>
        <p:blipFill>
          <a:blip r:embed="rId1"/>
          <a:stretch/>
        </p:blipFill>
        <p:spPr>
          <a:xfrm>
            <a:off x="1600200" y="1905120"/>
            <a:ext cx="60199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олина Виард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картинка Arlett"/>
          <p:cNvPicPr/>
          <p:nvPr/>
        </p:nvPicPr>
        <p:blipFill>
          <a:blip r:embed="rId1"/>
          <a:stretch/>
        </p:blipFill>
        <p:spPr>
          <a:xfrm>
            <a:off x="457200" y="914400"/>
            <a:ext cx="3387600" cy="5791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62520" y="914400"/>
            <a:ext cx="4776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 1868 г. Тургенев писал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Я не мог дышать одним воздухом, оставаться рядом с тем, что я возненавидел; для этого у меня, вероятно, недоставало надлежащей выдержки, твёрдости характера. Мне необходимо нужно было удалиться от моего врага за тем, чтобы из самой моей дали сильнее напасть на него. В моих глазах враг этот имел определённый образ, носил известное имя: враг этот был — крепостное право»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9T14:41:56Z</dcterms:created>
  <dc:creator>Илья</dc:creator>
  <dc:description/>
  <dc:language>en-US</dc:language>
  <cp:lastModifiedBy>Илья</cp:lastModifiedBy>
  <dcterms:modified xsi:type="dcterms:W3CDTF">2021-12-20T15:12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