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84807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984807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4C86-2F75-4354-8959-EF2B64979F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C3B7-6B2B-4286-9B2B-65F8353B91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DA59-7320-40CF-BD94-CFD0329555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32E1-262B-45B2-B97D-4CC9305AF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3920" y="274320"/>
            <a:ext cx="75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8480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572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3920" y="4122720"/>
            <a:ext cx="7572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7F2A-6197-4AAD-91CE-5A6C20E2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3920" y="274320"/>
            <a:ext cx="75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8480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95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94360" y="1600200"/>
            <a:ext cx="3695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3920" y="4122720"/>
            <a:ext cx="3695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94360" y="4122720"/>
            <a:ext cx="3695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6E89-8C48-408E-B932-45F95CD0F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3920" y="274320"/>
            <a:ext cx="75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8480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24382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74600" y="1600200"/>
            <a:ext cx="24382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34920" y="1600200"/>
            <a:ext cx="24382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3920" y="4122720"/>
            <a:ext cx="24382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74600" y="4122720"/>
            <a:ext cx="24382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34920" y="4122720"/>
            <a:ext cx="24382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7083-6B12-473D-974C-6D4CA2401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953B5-4349-455A-A845-4E4D0D89B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3920" y="274320"/>
            <a:ext cx="75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84807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3920" y="1600200"/>
            <a:ext cx="75726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A980C-838C-4908-B2BC-8C8B77DB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3920" y="274320"/>
            <a:ext cx="75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8480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572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A0331-DFDB-4D72-82A5-6E83E8CD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3920" y="274320"/>
            <a:ext cx="75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8480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954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94360" y="1600200"/>
            <a:ext cx="36954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A04C-D8EB-4239-8D4D-49F41E7C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3920" y="274320"/>
            <a:ext cx="75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8480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E708-D61F-40E4-B1BA-E6C5A13D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3920" y="274320"/>
            <a:ext cx="7572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0157-B6C0-4CB9-96C5-BD04D132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3920" y="274320"/>
            <a:ext cx="75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8480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95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4360" y="1600200"/>
            <a:ext cx="36954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3920" y="4122720"/>
            <a:ext cx="3695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6045-FC2E-4607-8628-7DA8EA78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3920" y="274320"/>
            <a:ext cx="75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8480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3920" y="1600200"/>
            <a:ext cx="75726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8F9E-4878-43E4-A2AC-F67E553F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3920" y="274320"/>
            <a:ext cx="75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8480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954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94360" y="1600200"/>
            <a:ext cx="3695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94360" y="4122720"/>
            <a:ext cx="3695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67BE-29CF-4CDC-B74D-2466107E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3920" y="274320"/>
            <a:ext cx="75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8480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95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94360" y="1600200"/>
            <a:ext cx="3695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3920" y="4122720"/>
            <a:ext cx="7572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39FC-F3D6-4FA5-8780-C4C1ADF2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3920" y="274320"/>
            <a:ext cx="75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8480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572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3920" y="4122720"/>
            <a:ext cx="7572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8B3C-EBAB-41C2-A94A-04101875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3920" y="274320"/>
            <a:ext cx="75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8480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95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94360" y="1600200"/>
            <a:ext cx="3695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3920" y="4122720"/>
            <a:ext cx="3695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94360" y="4122720"/>
            <a:ext cx="3695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8C35-5006-44FA-B4C8-3AD243CBB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3920" y="274320"/>
            <a:ext cx="75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84807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24382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74600" y="1600200"/>
            <a:ext cx="24382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34920" y="1600200"/>
            <a:ext cx="24382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3920" y="4122720"/>
            <a:ext cx="24382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74600" y="4122720"/>
            <a:ext cx="24382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34920" y="4122720"/>
            <a:ext cx="24382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A40F-B9C2-43FA-B946-258097954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3920" y="274320"/>
            <a:ext cx="75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8480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7572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20A8-C759-4713-822E-688BFC10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3920" y="274320"/>
            <a:ext cx="75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8480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954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94360" y="1600200"/>
            <a:ext cx="36954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17D9-54C2-406E-B08B-BCC5A455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3920" y="274320"/>
            <a:ext cx="75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8480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93CE-226A-4806-BC43-8E51D23E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3920" y="274320"/>
            <a:ext cx="7572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34A3-6977-413E-B895-5B95F52F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3920" y="274320"/>
            <a:ext cx="75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8480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95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94360" y="1600200"/>
            <a:ext cx="36954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3920" y="4122720"/>
            <a:ext cx="3695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2E98-A8A3-4D99-9441-6B0E6D20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3920" y="274320"/>
            <a:ext cx="75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8480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954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94360" y="1600200"/>
            <a:ext cx="3695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94360" y="4122720"/>
            <a:ext cx="3695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2D81-F989-4201-AA18-F73C337F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3920" y="274320"/>
            <a:ext cx="75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8480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3920" y="1600200"/>
            <a:ext cx="3695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94360" y="1600200"/>
            <a:ext cx="36954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3920" y="4122720"/>
            <a:ext cx="7572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87ED-0DF8-48A3-8EB9-AAC7CE5B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3920" y="274320"/>
            <a:ext cx="75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8480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98480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3920" y="1600200"/>
            <a:ext cx="7572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5938-9C6F-4A84-8153-E068B62206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3920" y="274320"/>
            <a:ext cx="75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8480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984807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3920" y="1600200"/>
            <a:ext cx="7572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4EFA-D1CE-4D42-BFB4-CC544A332E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5"/>
          <p:cNvSpPr/>
          <p:nvPr/>
        </p:nvSpPr>
        <p:spPr>
          <a:xfrm>
            <a:off x="4427640" y="2997360"/>
            <a:ext cx="43066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ЮНЧЕВ АЗАМ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ИЗ КОСМОСА         ВИДЕН ЭЛЬБРУ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Звук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2" descr=""/>
          <p:cNvPicPr/>
          <p:nvPr/>
        </p:nvPicPr>
        <p:blipFill>
          <a:blip r:embed="rId2"/>
          <a:stretch/>
        </p:blipFill>
        <p:spPr>
          <a:xfrm>
            <a:off x="34920" y="115920"/>
            <a:ext cx="8928000" cy="674208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7"/>
          <p:cNvSpPr/>
          <p:nvPr/>
        </p:nvSpPr>
        <p:spPr>
          <a:xfrm>
            <a:off x="614520" y="5705640"/>
            <a:ext cx="776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21 век - век без наркотиков"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вук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2" descr=""/>
          <p:cNvPicPr/>
          <p:nvPr/>
        </p:nvPicPr>
        <p:blipFill>
          <a:blip r:embed="rId2"/>
          <a:srcRect l="5764" t="5260" r="6171" b="5110"/>
          <a:stretch/>
        </p:blipFill>
        <p:spPr>
          <a:xfrm>
            <a:off x="108000" y="189000"/>
            <a:ext cx="8820000" cy="655308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Звук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3" descr=""/>
          <p:cNvPicPr/>
          <p:nvPr/>
        </p:nvPicPr>
        <p:blipFill>
          <a:blip r:embed="rId2"/>
          <a:srcRect l="4122" t="9622" r="6183" b="6528"/>
          <a:stretch/>
        </p:blipFill>
        <p:spPr>
          <a:xfrm>
            <a:off x="0" y="189000"/>
            <a:ext cx="8928000" cy="64530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вук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2" descr=""/>
          <p:cNvPicPr/>
          <p:nvPr/>
        </p:nvPicPr>
        <p:blipFill>
          <a:blip r:embed="rId2"/>
          <a:srcRect l="0" t="5898" r="-785" b="9055"/>
          <a:stretch/>
        </p:blipFill>
        <p:spPr>
          <a:xfrm>
            <a:off x="108000" y="189000"/>
            <a:ext cx="8820000" cy="64530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вук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2" descr=""/>
          <p:cNvPicPr/>
          <p:nvPr/>
        </p:nvPicPr>
        <p:blipFill>
          <a:blip r:embed="rId2"/>
          <a:srcRect l="6295" t="2748" r="7477" b="24803"/>
          <a:stretch/>
        </p:blipFill>
        <p:spPr>
          <a:xfrm>
            <a:off x="193680" y="189000"/>
            <a:ext cx="8734320" cy="64530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вук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2" descr=""/>
          <p:cNvPicPr/>
          <p:nvPr/>
        </p:nvPicPr>
        <p:blipFill>
          <a:blip r:embed="rId2"/>
          <a:srcRect l="6295" t="2748" r="6295" b="4323"/>
          <a:stretch/>
        </p:blipFill>
        <p:spPr>
          <a:xfrm>
            <a:off x="0" y="219240"/>
            <a:ext cx="8928000" cy="642276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вук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2" descr=""/>
          <p:cNvPicPr/>
          <p:nvPr/>
        </p:nvPicPr>
        <p:blipFill>
          <a:blip r:embed="rId2"/>
          <a:srcRect l="6295" t="2748" r="6295" b="4323"/>
          <a:stretch/>
        </p:blipFill>
        <p:spPr>
          <a:xfrm>
            <a:off x="179280" y="115920"/>
            <a:ext cx="8748720" cy="652608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вук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Головка мака фигурирует также во многих мифах Древней Греции как символ забвения боли, мук, страданий. Древние греки верили, что он цветок мака вырос из слез Венеры, которые она проливала, узнав о смерти своего дорогого Адониса, и считали его необходимым атрибутом бога сна - Гипноса и его родного брата, бога смерти - Танатоса."/>
          <p:cNvPicPr/>
          <p:nvPr/>
        </p:nvPicPr>
        <p:blipFill>
          <a:blip r:embed="rId2"/>
          <a:srcRect l="5908" t="4725" r="6683" b="3927"/>
          <a:stretch/>
        </p:blipFill>
        <p:spPr>
          <a:xfrm>
            <a:off x="179280" y="189000"/>
            <a:ext cx="8748720" cy="64530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вук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В конце XIII в. крестоносцы привезли с Ближнего Востока в Европу опиум как средство одурманивания. Но благодаря средневековой инквизиции использование опиума притормозилось на несколько веков."/>
          <p:cNvPicPr/>
          <p:nvPr/>
        </p:nvPicPr>
        <p:blipFill>
          <a:blip r:embed="rId2"/>
          <a:srcRect l="5908" t="4725" r="5501" b="3148"/>
          <a:stretch/>
        </p:blipFill>
        <p:spPr>
          <a:xfrm>
            <a:off x="0" y="189000"/>
            <a:ext cx="8675640" cy="64530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вук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2" descr=""/>
          <p:cNvPicPr/>
          <p:nvPr/>
        </p:nvPicPr>
        <p:blipFill>
          <a:blip r:embed="rId2"/>
          <a:stretch/>
        </p:blipFill>
        <p:spPr>
          <a:xfrm>
            <a:off x="108000" y="81000"/>
            <a:ext cx="8820000" cy="65610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вук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2" descr=""/>
          <p:cNvPicPr/>
          <p:nvPr/>
        </p:nvPicPr>
        <p:blipFill>
          <a:blip r:embed="rId2"/>
          <a:stretch/>
        </p:blipFill>
        <p:spPr>
          <a:xfrm>
            <a:off x="0" y="189000"/>
            <a:ext cx="8928000" cy="64530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вук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2" descr=""/>
          <p:cNvPicPr/>
          <p:nvPr/>
        </p:nvPicPr>
        <p:blipFill>
          <a:blip r:embed="rId2"/>
          <a:stretch/>
        </p:blipFill>
        <p:spPr>
          <a:xfrm>
            <a:off x="108000" y="135000"/>
            <a:ext cx="8853480" cy="65070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05:24:03Z</dcterms:created>
  <dc:creator>Comp</dc:creator>
  <dc:description/>
  <dc:language>en-US</dc:language>
  <cp:lastModifiedBy>школа 10</cp:lastModifiedBy>
  <cp:lastPrinted>2023-02-14T07:13:27Z</cp:lastPrinted>
  <dcterms:modified xsi:type="dcterms:W3CDTF">2023-11-16T11:26:16Z</dcterms:modified>
  <cp:revision>200</cp:revision>
  <dc:subject/>
  <dc:title>Слайд 1</dc:title>
</cp:coreProperties>
</file>