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57A6-BA0E-4FDE-A036-5EF4A9DB6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EBC8-ED75-4CED-BF0C-F9FFD6271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E36F-4AE3-453A-80E1-1FF33C8E0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AD8-9E43-472B-9C02-509AB1D7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3920" y="412272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B7A-85F2-42D0-82AA-2469701E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436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E73-E336-4115-A1D6-DA1BC32A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460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492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392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460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492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EFD-F7DD-4601-8233-91A15AFD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AA2C-88A8-49F4-A49C-85E9517D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CD1C-E921-4180-8EB0-BC080F91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D5D2-5CA7-495A-8E4A-D9A308A5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E8E2-172C-45C7-BD72-E465CFDA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7B73-E521-44F8-8815-F5776252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3920" y="274320"/>
            <a:ext cx="757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68EB-7C70-4ED7-B604-7756AD5C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90ED-66E0-4DA0-8A4E-BEEA0AB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CC1-C513-4A19-9C1F-5A925602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436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40DD-18AE-4EE9-9D38-C741E38A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D2A6-05D9-479A-8099-EA7909B3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3920" y="412272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E4A4-B50C-4063-ADC9-7422A89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436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4C1A-39B0-4536-B661-B5C594D6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460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492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392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460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492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CE3C-ACB5-4FCE-ADD1-5CF26766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A18-A6C6-4B01-8D2D-82AAC6B0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C03-3AE0-4FDB-950C-6FB537A5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E3B-7F8A-438F-87EB-1B492822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3920" y="274320"/>
            <a:ext cx="757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6DE-8837-4EAA-8FFB-6669AC75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BB4-0DFE-4E77-A990-4CB6B70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436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970-DCBA-4B05-B7B9-91929B5D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C95-662F-4266-88B9-27A6C0C9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6479-7F1B-4C76-96F8-9D5F6A5F3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A831-343F-4178-B9F5-5986E97F30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/>
          <p:cNvSpPr/>
          <p:nvPr/>
        </p:nvSpPr>
        <p:spPr>
          <a:xfrm>
            <a:off x="4427640" y="2997360"/>
            <a:ext cx="4306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ЮНЧЕВ АЗА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З КОСМОСА         ВИДЕН ЭЛЬБРУ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2"/>
          <a:stretch/>
        </p:blipFill>
        <p:spPr>
          <a:xfrm>
            <a:off x="34920" y="115920"/>
            <a:ext cx="8928000" cy="6742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614520" y="5705640"/>
            <a:ext cx="776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21 век - век без наркотиков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2"/>
          <a:srcRect l="5764" t="5260" r="6171" b="5110"/>
          <a:stretch/>
        </p:blipFill>
        <p:spPr>
          <a:xfrm>
            <a:off x="108000" y="189000"/>
            <a:ext cx="882000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2"/>
          <a:srcRect l="4122" t="9622" r="6183" b="6528"/>
          <a:stretch/>
        </p:blipFill>
        <p:spPr>
          <a:xfrm>
            <a:off x="0" y="189000"/>
            <a:ext cx="892800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"/>
          <p:cNvPicPr/>
          <p:nvPr/>
        </p:nvPicPr>
        <p:blipFill>
          <a:blip r:embed="rId2"/>
          <a:srcRect l="0" t="5898" r="-785" b="9055"/>
          <a:stretch/>
        </p:blipFill>
        <p:spPr>
          <a:xfrm>
            <a:off x="108000" y="189000"/>
            <a:ext cx="882000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2"/>
          <a:srcRect l="6295" t="2748" r="7477" b="24803"/>
          <a:stretch/>
        </p:blipFill>
        <p:spPr>
          <a:xfrm>
            <a:off x="193680" y="189000"/>
            <a:ext cx="873432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"/>
          <p:cNvPicPr/>
          <p:nvPr/>
        </p:nvPicPr>
        <p:blipFill>
          <a:blip r:embed="rId2"/>
          <a:srcRect l="6295" t="2748" r="6295" b="4323"/>
          <a:stretch/>
        </p:blipFill>
        <p:spPr>
          <a:xfrm>
            <a:off x="0" y="219240"/>
            <a:ext cx="8928000" cy="64227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2"/>
          <a:srcRect l="6295" t="2748" r="6295" b="4323"/>
          <a:stretch/>
        </p:blipFill>
        <p:spPr>
          <a:xfrm>
            <a:off x="179280" y="115920"/>
            <a:ext cx="8748720" cy="6526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Головка мака фигурирует также во многих мифах Древней Греции как символ забвения боли, мук, страданий. Древние греки верили, что он цветок мака вырос из слез Венеры, которые она проливала, узнав о смерти своего дорогого Адониса, и считали его необходимым атрибутом бога сна - Гипноса и его родного брата, бога смерти - Танатоса."/>
          <p:cNvPicPr/>
          <p:nvPr/>
        </p:nvPicPr>
        <p:blipFill>
          <a:blip r:embed="rId2"/>
          <a:srcRect l="5908" t="4725" r="6683" b="3927"/>
          <a:stretch/>
        </p:blipFill>
        <p:spPr>
          <a:xfrm>
            <a:off x="179280" y="189000"/>
            <a:ext cx="874872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В конце XIII в. крестоносцы привезли с Ближнего Востока в Европу опиум как средство одурманивания. Но благодаря средневековой инквизиции использование опиума притормозилось на несколько веков."/>
          <p:cNvPicPr/>
          <p:nvPr/>
        </p:nvPicPr>
        <p:blipFill>
          <a:blip r:embed="rId2"/>
          <a:srcRect l="5908" t="4725" r="5501" b="3148"/>
          <a:stretch/>
        </p:blipFill>
        <p:spPr>
          <a:xfrm>
            <a:off x="0" y="189000"/>
            <a:ext cx="867564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2"/>
          <a:stretch/>
        </p:blipFill>
        <p:spPr>
          <a:xfrm>
            <a:off x="108000" y="81000"/>
            <a:ext cx="8820000" cy="6561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2"/>
          <a:stretch/>
        </p:blipFill>
        <p:spPr>
          <a:xfrm>
            <a:off x="0" y="189000"/>
            <a:ext cx="892800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108000" y="135000"/>
            <a:ext cx="8853480" cy="6507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5:24:03Z</dcterms:created>
  <dc:creator>Comp</dc:creator>
  <dc:description/>
  <dc:language>en-US</dc:language>
  <cp:lastModifiedBy>школа 10</cp:lastModifiedBy>
  <cp:lastPrinted>2023-02-14T07:13:27Z</cp:lastPrinted>
  <dcterms:modified xsi:type="dcterms:W3CDTF">2023-11-16T11:26:16Z</dcterms:modified>
  <cp:revision>200</cp:revision>
  <dc:subject/>
  <dc:title>Слайд 1</dc:title>
</cp:coreProperties>
</file>