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E7B-6472-44ED-BAC6-49CD9125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735-9C54-4B03-A0DF-9AE6C84F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AED-40EC-49C4-B155-569E7348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FC1-A883-4750-905A-88D6684A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B2D-06A1-46AC-BF94-73BAABAB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DEC-F2E9-4111-9D61-6B837DD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8E3-952B-4E29-A4E7-017AA7BF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FEA-CDB4-4646-8B32-BB0BCF5E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417-DCDF-4F20-AAFB-777E703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A4A-92B4-40B9-9E73-E1DE93A3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D63-71F9-4B92-8FC3-99B4556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E76-558E-420D-9C9F-82A50202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961-099E-430C-BB8B-3818AECE7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ляпная технология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ая шляпа - мыслим фактами, циф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ая шляпа - позитивное мыш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ая шляпа- противоположность желтой шляпе ( негативное мыш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ая шляпа – эмоциональное состояние (грусть, радость, интерес, удивление, агрессия, разд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яя шляпа – философская, обобщающ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979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сть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ответа (не 6- 7 доказатель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своей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интерес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я могу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чувствовал, чт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риобрел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не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6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60480"/>
            <a:ext cx="705816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198900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МЕНЧИВОСТЬ-ОБЩЕ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 ЖИВЫХ ОРГАНИЗМ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интерес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я могу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чувствовал, чт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риобрел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не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м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хотворная форма из семи строк, первая и последняя из которых  - понятия  с противоположным  зна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1, 7 строчки – существительные антони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2 – два прилагательных к первому существитель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3 – три глагола к первому существитель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4 – два словосочетания с существитель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5 – три глагола ко второму существитель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6 – два прилагательных ко второму существитель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8:02:13Z</dcterms:created>
  <dc:creator>Трофимова О.В.</dc:creator>
  <dc:description/>
  <dc:language>en-US</dc:language>
  <cp:lastModifiedBy>Трофимова О.В.</cp:lastModifiedBy>
  <dcterms:modified xsi:type="dcterms:W3CDTF">2013-03-12T18:09:57Z</dcterms:modified>
  <cp:revision>5</cp:revision>
  <dc:subject/>
  <dc:title>Слайд 1</dc:title>
</cp:coreProperties>
</file>