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4E9C-156D-4C4F-B029-4BE09118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02F2-F7C9-4216-A7BB-6D59D23D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57F6-134F-490A-83DC-7F48183B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292E-E902-47D6-9918-4E8EB413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D804-7B3E-48AD-B3F0-63CB336A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77FD-A059-4C9B-A013-C48FA950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A76F-CE21-4C54-B4D0-E0C36166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AED8-2A1A-43C2-87E7-EA0E2225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8828-99B9-4952-96F5-B4F32640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BC2A-2040-44E2-BDE3-4A34592A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01B2-D950-43B8-AD55-F3CEEC40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FED3-5593-4CD1-92BC-A2D3B28F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70FD-7A46-4E7B-BAFA-57D4AAB92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Шляпная технология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елая шляпа - мыслим фактами, циф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лтая шляпа - позитивное мыш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рная шляпа- противоположность желтой шляпе ( негативное мышл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расная шляпа – эмоциональное состояние (грусть, радость, интерес, удивление, агрессия, раздраж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няя шляпа – философская, обобщающ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948360" y="189000"/>
            <a:ext cx="197964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итерии оцени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оверность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ота ответа (не 6- 7 доказательст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ветствие своей р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тог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ыло интересно…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ыло трудно…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перь я могу…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почувствовал, что…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приобрел…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меня получилось …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меня не получилось …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е захотелось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6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42920" y="60480"/>
            <a:ext cx="7058160" cy="67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8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4360" y="1989000"/>
            <a:ext cx="7777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ЗМЕНЧИВОСТЬ-ОБЩЕЕ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ВОЙСТВО ЖИВЫХ ОРГАНИЗМ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тог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ыло интересно…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ыло трудно…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перь я могу…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почувствовал, что…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 приобрел…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меня получилось …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меня не получилось …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е захотелось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ама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ихотворная форма из семи строк, первая и последняя из которых  - понятия  с противоположным  знач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  1, 7 строчки – существительные антони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  2 – два прилагательных к первому существительно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  3 – три глагола к первому существительно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  4 – два словосочетания с существительны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  5 – три глагола ко второму существительно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      6 – два прилагательных ко второму существительн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08:02:13Z</dcterms:created>
  <dc:creator>Трофимова О.В.</dc:creator>
  <dc:description/>
  <dc:language>en-US</dc:language>
  <cp:lastModifiedBy>Трофимова О.В.</cp:lastModifiedBy>
  <dcterms:modified xsi:type="dcterms:W3CDTF">2013-03-12T18:09:57Z</dcterms:modified>
  <cp:revision>5</cp:revision>
  <dc:subject/>
  <dc:title>Слайд 1</dc:title>
</cp:coreProperties>
</file>