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9B6-6B44-40E7-A587-9A2AF2A7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6D8-31D5-4AFF-A03E-482E7699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BE8A-7BF6-4523-90FF-AB0ABEE3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448-3A80-440C-A98E-C0059B7E0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1A2F-C1FE-42E9-814E-CFE2AD02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BDC6-AF9D-4B70-9EED-27974CFE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F882-357F-4D86-AF7E-0865BCBA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7F7F-86CF-4E52-8815-D367A6F9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0F40-834D-4885-88E0-7243783B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5DFF-A474-408B-B4D1-9FE15CEB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7196F-E891-43A1-BE9E-558CCB5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9DC-6464-4CAB-BDAF-0D3E1056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74FB-1A6C-433D-B633-F61CF82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0C48-8A5E-4ED1-874A-42E8127C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A680-612A-47A7-B7BA-A1245FF5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8030-6246-4220-B5D1-F542665CF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3059-04A6-4C91-B274-268E509A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A2D-4D65-4914-BDA2-49627369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5F5-61E3-4F28-8625-2BA9A2DD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E15-E8A2-4CD6-AA78-1032FC6D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F882-1DA8-4550-8676-223014FA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A2A-91C4-46CE-9E65-BC60496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FE2-ACE2-45B4-A6DF-83B0CE2C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954-D886-440C-A2DA-D56044A4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F2F-86A8-4411-AB0F-EFC4B9EA94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687-AD04-49BF-B884-318FC284CF2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hyperlink" Target="file:///&#1064;&#1072;&#1073;&#1083;&#1086;&#1085;%20&#1087;&#1088;&#1077;&#1079;&#1077;&#1085;&#1090;&#1072;&#1094;&#1080;&#1080;%20(&#1061;&#1086;&#1084;&#1103;&#1082;&#1086;&#1074;&#1072;%20&#1053;.&#1042;.).ppt" TargetMode="Externa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" Target="slide20.xml"/><Relationship Id="rId4" Type="http://schemas.openxmlformats.org/officeDocument/2006/relationships/slide" Target="slide17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5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6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845480" cy="28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ffffcc"/>
                </a:solidFill>
                <a:latin typeface="Arial"/>
              </a:rPr>
              <a:t>Викторина «Край Родной – навек любимый»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К 100-летию Каслинского муниципального района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067280" y="4941720"/>
            <a:ext cx="4897440" cy="172728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Автор: учитель обществознания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МОУ «Шабуровская СОШ»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Ряпосова С.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Прямоугольник 1">
            <a:hlinkClick r:id="rId1" action="ppaction://hlinksldjump"/>
          </p:cNvPr>
          <p:cNvSpPr/>
          <p:nvPr/>
        </p:nvSpPr>
        <p:spPr>
          <a:xfrm>
            <a:off x="890640" y="5516640"/>
            <a:ext cx="1728720" cy="914400"/>
          </a:xfrm>
          <a:prstGeom prst="rect">
            <a:avLst/>
          </a:prstGeom>
          <a:solidFill>
            <a:srgbClr val="339966"/>
          </a:solidFill>
          <a:ln w="25560">
            <a:solidFill>
              <a:srgbClr val="23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чать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гру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очему город Касли называют «уральской Венецией»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AutoShape 3">
            <a:hlinkClick r:id="rId1" action="ppaction://hlinksldjump"/>
          </p:cNvPr>
          <p:cNvSpPr/>
          <p:nvPr/>
        </p:nvSpPr>
        <p:spPr>
          <a:xfrm>
            <a:off x="395280" y="2565360"/>
            <a:ext cx="3960720" cy="1440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AutoShape 4">
            <a:hlinkClick r:id="rId2" action="ppaction://hlinksldjump"/>
          </p:cNvPr>
          <p:cNvSpPr/>
          <p:nvPr/>
        </p:nvSpPr>
        <p:spPr>
          <a:xfrm>
            <a:off x="4500720" y="2565360"/>
            <a:ext cx="4464000" cy="144000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Каслинском районе 54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больших и малых озер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AutoShape 5">
            <a:hlinkClick r:id="rId3" action="ppaction://hlinksldjump"/>
          </p:cNvPr>
          <p:cNvSpPr/>
          <p:nvPr/>
        </p:nvSpPr>
        <p:spPr>
          <a:xfrm>
            <a:off x="468360" y="4508640"/>
            <a:ext cx="3816360" cy="129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AutoShape 6">
            <a:hlinkClick r:id="rId4" action="ppaction://hlinksldjump"/>
          </p:cNvPr>
          <p:cNvSpPr/>
          <p:nvPr/>
        </p:nvSpPr>
        <p:spPr>
          <a:xfrm>
            <a:off x="4643280" y="4508640"/>
            <a:ext cx="417672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еправильны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твет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то основал Каслинский чугуноплавильный и железоделательный завод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емид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4859280" y="304308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аритон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сторгуе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роб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ое самое крупное озеро каслинской системы озер вы знаете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унгу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ртяш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сег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ил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Знаменитый музей Каслинского района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AutoShape 3">
            <a:hlinkClick r:id="rId1" action="ppaction://hlinksldjump"/>
          </p:cNvPr>
          <p:cNvSpPr/>
          <p:nvPr/>
        </p:nvSpPr>
        <p:spPr>
          <a:xfrm>
            <a:off x="179280" y="2637000"/>
            <a:ext cx="417672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ишневогорск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торико-краеведчески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з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AutoShape 4">
            <a:hlinkClick r:id="rId2" action="ppaction://hlinksldjump"/>
          </p:cNvPr>
          <p:cNvSpPr/>
          <p:nvPr/>
        </p:nvSpPr>
        <p:spPr>
          <a:xfrm>
            <a:off x="4859280" y="2637000"/>
            <a:ext cx="388944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удожественный муз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AutoShape 5">
            <a:hlinkClick r:id="rId3" action="ppaction://hlinksldjump"/>
          </p:cNvPr>
          <p:cNvSpPr/>
          <p:nvPr/>
        </p:nvSpPr>
        <p:spPr>
          <a:xfrm>
            <a:off x="539640" y="4508640"/>
            <a:ext cx="381816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и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раеведческий музе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417672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Дом-музей скульптора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А.В. Чирк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 честь какого революционера Каслинский скульптор С.П. Манаенков в 1957 году создал памятни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AutoShape 3">
            <a:hlinkClick r:id="rId1" action="ppaction://hlinksldjump"/>
          </p:cNvPr>
          <p:cNvSpPr/>
          <p:nvPr/>
        </p:nvSpPr>
        <p:spPr>
          <a:xfrm>
            <a:off x="179280" y="2637000"/>
            <a:ext cx="417672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.И.Лен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AutoShape 4">
            <a:hlinkClick r:id="rId2" action="ppaction://hlinksldjump"/>
          </p:cNvPr>
          <p:cNvSpPr/>
          <p:nvPr/>
        </p:nvSpPr>
        <p:spPr>
          <a:xfrm>
            <a:off x="4859280" y="2637000"/>
            <a:ext cx="388944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.С.Пушк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1" name="AutoShape 5">
            <a:hlinkClick r:id="rId3" action="ppaction://hlinksldjump"/>
          </p:cNvPr>
          <p:cNvSpPr/>
          <p:nvPr/>
        </p:nvSpPr>
        <p:spPr>
          <a:xfrm>
            <a:off x="539640" y="4508640"/>
            <a:ext cx="381816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честь рабочи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417672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.М. Захарову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Храм города Касл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AutoShape 3">
            <a:hlinkClick r:id="rId1" action="ppaction://hlinksldjump"/>
          </p:cNvPr>
          <p:cNvSpPr/>
          <p:nvPr/>
        </p:nvSpPr>
        <p:spPr>
          <a:xfrm>
            <a:off x="684360" y="3068640"/>
            <a:ext cx="36716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льинская Церков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96072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ерковь в честь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ознесения Господн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684360" y="4508640"/>
            <a:ext cx="360036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Церковь Троицы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ивоначальн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4859280" y="4508640"/>
            <a:ext cx="396072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уховская церков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Молодец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340000" y="4724280"/>
            <a:ext cx="4394160" cy="57636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Picture 6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 сожалению, Вы плохо знаете материал.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твет неверный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аши знания можно оценить только на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2»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3" name="Picture 4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6" name="Picture 4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5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огда был основан Каслинский муниципальный район Челябинской области? 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AutoShape 5">
            <a:hlinkClick r:id="rId1" action="ppaction://hlinksldjump"/>
          </p:cNvPr>
          <p:cNvSpPr/>
          <p:nvPr/>
        </p:nvSpPr>
        <p:spPr>
          <a:xfrm>
            <a:off x="1258920" y="30812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94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AutoShape 6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960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" name="AutoShape 7">
            <a:hlinkClick r:id="rId3"/>
          </p:cNvPr>
          <p:cNvSpPr/>
          <p:nvPr/>
        </p:nvSpPr>
        <p:spPr>
          <a:xfrm>
            <a:off x="1165320" y="4508640"/>
            <a:ext cx="309708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eec85e"/>
                </a:solidFill>
                <a:uFillTx/>
                <a:latin typeface="Verdana"/>
                <a:hlinkClick r:id="rId4" action="ppaction://hlinksldjump"/>
              </a:rPr>
              <a:t>1944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AutoShape 8">
            <a:hlinkClick r:id="rId5" action="ppaction://hlinksldjump"/>
          </p:cNvPr>
          <p:cNvSpPr/>
          <p:nvPr/>
        </p:nvSpPr>
        <p:spPr>
          <a:xfrm>
            <a:off x="4822920" y="448308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97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206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плохо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ы прошли первый рубеж и Ваши знания можно оценить на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3»</a:t>
            </a:r>
            <a:r>
              <a:rPr b="0" lang="ru-RU" sz="40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700360" y="4292640"/>
            <a:ext cx="3887640" cy="5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Увы!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Больше чем на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3»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Вы не знаете,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ледует подготовиться лучше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5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8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013600" cy="367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Молодец!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Вы достаточно хорошо владеете материалом, оценку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«4»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Вы уже заработали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2340000" y="5013360"/>
            <a:ext cx="4608360" cy="72072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6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Очень жаль, что не получилось дойти до самой вершины, но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Вы заработали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68360" y="3141720"/>
            <a:ext cx="460872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Arial"/>
              </a:rPr>
              <a:t>Так держать!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0" name="Picture 3" descr="099_Es"/>
          <p:cNvPicPr/>
          <p:nvPr/>
        </p:nvPicPr>
        <p:blipFill>
          <a:blip r:embed="rId1"/>
          <a:stretch/>
        </p:blipFill>
        <p:spPr>
          <a:xfrm>
            <a:off x="5915160" y="463680"/>
            <a:ext cx="2539800" cy="2323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2556000" y="4508640"/>
            <a:ext cx="417672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означает название “Касли”? 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итьё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AutoShape 4">
            <a:hlinkClick r:id="rId2" action="ppaction://hlinksldjump"/>
          </p:cNvPr>
          <p:cNvSpPr/>
          <p:nvPr/>
        </p:nvSpPr>
        <p:spPr>
          <a:xfrm>
            <a:off x="4859280" y="30560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усиное озер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6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Железные воро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менные воро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Хорошо!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сего один вопрос отделяет Вас от победы.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Соберитесь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2556000" y="4797360"/>
            <a:ext cx="4248000" cy="719280"/>
          </a:xfrm>
          <a:prstGeom prst="flowChart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ледующий вопро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Отлично!</a:t>
            </a: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 показали глубокие и прочные знания и заслуженно получаете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«5»</a:t>
            </a:r>
            <a:br>
              <a:rPr sz="5400"/>
            </a:b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Поздравляем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Сколько сёл входит в состав Каслинского муниципального район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6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Кто является главой администрации Каслинского района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AutoShape 3">
            <a:hlinkClick r:id="rId1" action="ppaction://hlinksldjump"/>
          </p:cNvPr>
          <p:cNvSpPr/>
          <p:nvPr/>
        </p:nvSpPr>
        <p:spPr>
          <a:xfrm>
            <a:off x="1042920" y="3068640"/>
            <a:ext cx="3313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асенина Екатери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иколаевн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AutoShape 4">
            <a:hlinkClick r:id="rId2" action="ppaction://hlinksldjump"/>
          </p:cNvPr>
          <p:cNvSpPr/>
          <p:nvPr/>
        </p:nvSpPr>
        <p:spPr>
          <a:xfrm>
            <a:off x="4716360" y="3068640"/>
            <a:ext cx="33116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ерябин Дмитри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Николаеви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AutoShape 5">
            <a:hlinkClick r:id="rId3" action="ppaction://hlinksldjump"/>
          </p:cNvPr>
          <p:cNvSpPr/>
          <p:nvPr/>
        </p:nvSpPr>
        <p:spPr>
          <a:xfrm>
            <a:off x="1042920" y="4508640"/>
            <a:ext cx="324180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ышев Игор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ладиславови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" name="AutoShape 6">
            <a:hlinkClick r:id="rId4" action="ppaction://hlinksldjump"/>
          </p:cNvPr>
          <p:cNvSpPr/>
          <p:nvPr/>
        </p:nvSpPr>
        <p:spPr>
          <a:xfrm>
            <a:off x="4643280" y="4508640"/>
            <a:ext cx="345780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лексей Леонидович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кслер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ое промышленное предприятие является главным в экономике района?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AutoShape 3">
            <a:hlinkClick r:id="rId1" action="ppaction://hlinksldjump"/>
          </p:cNvPr>
          <p:cNvSpPr/>
          <p:nvPr/>
        </p:nvSpPr>
        <p:spPr>
          <a:xfrm>
            <a:off x="1187280" y="3068640"/>
            <a:ext cx="3168720" cy="10810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о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еханическое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едприяти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" name="AutoShape 4">
            <a:hlinkClick r:id="rId2" action="ppaction://hlinksldjump"/>
          </p:cNvPr>
          <p:cNvSpPr/>
          <p:nvPr/>
        </p:nvSpPr>
        <p:spPr>
          <a:xfrm>
            <a:off x="4572000" y="3068640"/>
            <a:ext cx="4176720" cy="1152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орно-обогатительный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мбинат г.Вишневогорс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овхоз Береговой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AutoShape 6">
            <a:hlinkClick r:id="rId4" action="ppaction://hlinksldjump"/>
          </p:cNvPr>
          <p:cNvSpPr/>
          <p:nvPr/>
        </p:nvSpPr>
        <p:spPr>
          <a:xfrm>
            <a:off x="4572000" y="4508640"/>
            <a:ext cx="360036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ОАО “Радий”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Чем славится Каслинский край в области культуры и искусств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AutoShape 3">
            <a:hlinkClick r:id="rId1" action="ppaction://hlinksldjump"/>
          </p:cNvPr>
          <p:cNvSpPr/>
          <p:nvPr/>
        </p:nvSpPr>
        <p:spPr>
          <a:xfrm>
            <a:off x="108000" y="3068640"/>
            <a:ext cx="424800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удожественны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итьё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4105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атральны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кусство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AutoShape 5">
            <a:hlinkClick r:id="rId3" action="ppaction://hlinksldjump"/>
          </p:cNvPr>
          <p:cNvSpPr/>
          <p:nvPr/>
        </p:nvSpPr>
        <p:spPr>
          <a:xfrm>
            <a:off x="108000" y="4527720"/>
            <a:ext cx="4392720" cy="1295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ворцом культуры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м. Захаров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AutoShape 6">
            <a:hlinkClick r:id="rId4" action="ppaction://hlinksldjump"/>
          </p:cNvPr>
          <p:cNvSpPr/>
          <p:nvPr/>
        </p:nvSpPr>
        <p:spPr>
          <a:xfrm>
            <a:off x="4572000" y="4508640"/>
            <a:ext cx="4392720" cy="129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и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историко-художественным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музеем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кая река протекает через район? 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AutoShape 3">
            <a:hlinkClick r:id="rId1" action="ppaction://hlinksldjump"/>
          </p:cNvPr>
          <p:cNvSpPr/>
          <p:nvPr/>
        </p:nvSpPr>
        <p:spPr>
          <a:xfrm>
            <a:off x="1258920" y="3068640"/>
            <a:ext cx="309708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исегач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AutoShape 4">
            <a:hlinkClick r:id="rId2" action="ppaction://hlinksldjump"/>
          </p:cNvPr>
          <p:cNvSpPr/>
          <p:nvPr/>
        </p:nvSpPr>
        <p:spPr>
          <a:xfrm>
            <a:off x="4859280" y="3068640"/>
            <a:ext cx="3097440" cy="93672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инар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какуль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AutoShape 6">
            <a:hlinkClick r:id="rId4" action="ppaction://hlinksldjump"/>
          </p:cNvPr>
          <p:cNvSpPr/>
          <p:nvPr/>
        </p:nvSpPr>
        <p:spPr>
          <a:xfrm>
            <a:off x="4859280" y="4508640"/>
            <a:ext cx="3097440" cy="936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ургая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277560"/>
            <a:ext cx="821844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Что такое Уральский чугунный павильон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AutoShape 3">
            <a:hlinkClick r:id="rId1" action="ppaction://hlinksldjump"/>
          </p:cNvPr>
          <p:cNvSpPr/>
          <p:nvPr/>
        </p:nvSpPr>
        <p:spPr>
          <a:xfrm>
            <a:off x="1258920" y="2781360"/>
            <a:ext cx="309708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танк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AutoShape 4">
            <a:hlinkClick r:id="rId2" action="ppaction://hlinksldjump"/>
          </p:cNvPr>
          <p:cNvSpPr/>
          <p:nvPr/>
        </p:nvSpPr>
        <p:spPr>
          <a:xfrm>
            <a:off x="4751280" y="2781360"/>
            <a:ext cx="3097440" cy="129528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угунных ложе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6" name="AutoShape 5">
            <a:hlinkClick r:id="rId3" action="ppaction://hlinksldjump"/>
          </p:cNvPr>
          <p:cNvSpPr/>
          <p:nvPr/>
        </p:nvSpPr>
        <p:spPr>
          <a:xfrm>
            <a:off x="1187280" y="4508640"/>
            <a:ext cx="316872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аслинского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художественного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ить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AutoShape 6">
            <a:hlinkClick r:id="rId4" action="ppaction://hlinksldjump"/>
          </p:cNvPr>
          <p:cNvSpPr/>
          <p:nvPr/>
        </p:nvSpPr>
        <p:spPr>
          <a:xfrm>
            <a:off x="4643280" y="4508640"/>
            <a:ext cx="3313440" cy="1368360"/>
          </a:xfrm>
          <a:prstGeom prst="flowChartAlternateProcess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Коллекция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антиквариат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08:20:33Z</dcterms:created>
  <dc:creator>Your User Name</dc:creator>
  <dc:description/>
  <dc:language>en-US</dc:language>
  <cp:lastModifiedBy>Admin</cp:lastModifiedBy>
  <dcterms:modified xsi:type="dcterms:W3CDTF">2024-01-19T07:07:11Z</dcterms:modified>
  <cp:revision>73</cp:revision>
  <dc:subject/>
  <dc:title>Слайд 1</dc:title>
</cp:coreProperties>
</file>