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079C-C6D9-4A0B-94DE-B2E3E0FC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D394-7A62-40B8-A1AE-6D3673F7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DEF89-6740-4EDC-A0DA-8BBDF4D8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7FDD66-EA42-4F3E-8050-73CC742C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B333C-AFDE-4E3F-A25F-3DA5D754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8E433-1700-4715-BFAA-87258765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B70CA-1F8D-4442-8468-7BC0CBEA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8A6F52-63AB-45F0-8315-34395427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73E66-7612-41BA-A163-AD990492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49C9F-08F5-4A01-A5CC-41FF032D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9FC7C-9BA2-44DC-9292-F861E21CE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F4BA2B-3809-49A4-93CC-F1495086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E104-0490-4295-B4F0-C9253A017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E47873-C289-4CCA-A328-1390B607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CE2D5-4E5B-41AC-A440-5398F97F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BFBD35-BC17-4085-A47C-AB98CBEE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83730F-F130-446D-8730-BAEE36FB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E01F29-4F85-4C38-996D-6CD7CB91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EA6B58-9ADB-4644-BC6F-AD79536C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405535A-BCCE-46A3-896F-15E3CB6A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432B9-1002-46A5-B923-1BF3868A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5859EF-55FD-4F5E-9FBD-194E3D96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8A0DA4-892A-429E-A891-CB79DA0D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32BB-0B7B-4551-B39C-EB5E4836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5E7FD5-EC42-4322-BAAE-E848835DC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F4514F-E46F-480A-9D92-5C9CB2D4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7667303-61D1-452A-9ED9-992F64BC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44695E-849C-43DD-9D33-6F3C488C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76A5E1-F4BC-45B6-A4E2-3E17C81F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3C9E79-3E11-426F-B642-3409BE7F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48DA1F-8A68-417F-92E5-C8F3F159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4C73B4-AAD7-4B70-B18F-E33CB9CA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E6E0D7-38BD-442B-87FA-D8D03CBB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C3A4A4-5295-4F4C-8271-763A7237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ED10-C98E-403E-B281-2D6C7827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8DEA2C-553C-4D4A-9A2F-9B2FB1AC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F18A5F-3F2E-49B4-8796-4C43F2D8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3143EAE-89C7-4C99-9DC6-9BCC51DE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AE13D-8D51-4D27-A0FD-D35BC275C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FA9C8-F017-4F3F-954A-EFDC97CA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5AC4C-D323-4E21-85A2-AECE7BAE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053B7-186C-4A8B-B11B-C6CD13C5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4A1F0-452F-4346-ACF7-30BBB89D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69248-CE44-4561-8888-463B93CA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B4A79-7975-4C26-976C-9087FDED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6AED-2CC6-4450-BDB9-0D721EB2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354FC-E08C-4F98-8273-F7474CA8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24C59-4DF2-475C-8FF8-0B4F37E0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A656C-1157-48FA-8217-43F9B381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FB584-E4EC-4BFD-B92B-2927D3F6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5C97C-6614-44D8-A364-EAE1FD017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FBACD02-1107-493C-B1EF-F17B5941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B33B28-22BF-435C-9682-0C4D0753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5457C0D-C3C0-4454-B257-CB368D5B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A67CEA7-C2DD-4B87-9EAD-39D26126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7EA544-777B-4268-A33A-3B15E706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0775-C1CE-46C2-8D06-B0BB8D07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EBA7DC-9B17-4827-938F-CE729CD0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EE452F-985A-4743-9628-1DD73D54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97FABD-77CC-4349-94E5-6B2CEFD5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756523F-AB45-406A-A311-C3201D24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F7DED20-46AD-42A5-ACFE-03DB9E98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A29E5A-854C-4037-A180-61FE4866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05B424-D311-46BF-AFCE-0D0500CC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94BC74-C279-4870-95CB-33E58047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77749A-D53E-4F9B-B761-FB4A7936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F1F90E-9A28-4812-A1AD-CEF1A73E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93C9-F545-47E6-AE9B-C5800220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4F7A29-F6DE-4DA1-810A-9AF33B3D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2A3E93-E9CE-482B-A0C8-6E2E38B3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7733DF-B92C-4885-91B5-7D763084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28F569-04CA-4DB8-B0F7-4481D239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9091D-E585-4FF8-AA0D-3F972059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8D1C19-EC94-496C-BA70-7779A9CA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A41916-D4AE-4D76-A824-C15EB411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DD406E-0405-44C8-BB3C-CBE1C51D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170479-707C-48B5-B6EB-FAC187951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0DCBFA-3B49-4128-B242-503B028A2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3D6D3-CEDD-43DE-9F5E-AFE52273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AE65D0-FDDC-47B2-8462-A6457F28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AB3837-9DB7-4798-B954-0D0D23D2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68F992-3306-4121-8641-7561B15E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E9870A-89FB-4554-99E9-10B10F0C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AF7E76-90BA-46E5-8AE5-0A69B84F1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799784-F402-4F0E-8019-F60FC921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30CA1A-59AD-4B6B-95BE-B109E5D0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2E71E1-C706-4950-BECF-8A7DF7D8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4B29E2-CFCA-448E-8A31-7CCF3741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F15346-8BF0-4B48-BDE7-8A7ABA3F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9F1A-D835-40CA-A857-643F5605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329C96-2F5B-446D-BCD3-DEAD9D1B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A0E1BF-5E48-4B6E-9EFB-12406E88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9BD7AE-3A8B-41D3-8A92-12EAA7BD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2969C2-40EF-4049-B0EB-AE093472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80F8E0-731D-461B-8D86-D0F6EA06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5742C5-C890-44CD-B812-2EA62994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4889EF-6B62-4794-ABFC-06123468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7AED84-A9BA-4CB9-A109-E3D3F2FF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AE066F-C282-4DB3-864B-AD16ACB2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D7C377-002B-4EE5-881A-620E29BB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AA9C-004B-4A34-96B2-E231C2E9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B695C7-546F-4BF4-8D63-CAEB2A8F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1E2E12-FF66-4870-8FBC-027CF97A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734E75-DCC9-405C-9F31-D4806356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085029-2249-4124-8BEC-FB45576F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1FBF06-D8E0-4082-B29C-AA8A7190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F259EB-1C7D-4269-A324-D4D44FA9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3ECEE4-4417-4635-8D1A-5B3560C8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38EFA4-E5C9-43F7-8168-CB734A09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35E389-EC1E-4C87-8054-CD575AE1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333541-6CFA-4FBC-9E85-BAE28D4C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34AE-8E0D-4332-AD5D-450663923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FFD0-40F6-4777-9439-3263E459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165189-DE70-43FD-BF57-0DB08008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D26313-D8DE-4891-85E6-E52B6BD1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7B946D-C127-4F1C-A142-211F3100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6D2706-60EF-498E-A883-85958B56B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B79F07-C56B-4757-BB0A-00B6999A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F61A46-F1A1-4293-92BF-F0B0C44B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D36DDB-99B6-442D-836D-6ADFE5AC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5FC9AD-41D7-47E8-8C2A-669EB2CB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198F38-FDD4-4785-93BD-A7D544D3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A49BAC-B3C3-40A4-8986-FD95D1EE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303C-63F8-40E6-A9C2-CC29180B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B2B3FD-197C-48D7-B751-DC8C4062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18DB52-57A1-49CE-BCB8-B0283A65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5A2330-940E-4C65-BE8F-45CB3149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5F43DE-2331-413C-9A40-1FE1A5EE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4232A8-38FA-4316-A7D9-E9F15CDD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C2572B-8279-4CF6-AD81-78DCD4C9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779EC8-78E3-4A5B-97E7-F1503004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A3B4F1-2C70-4CF7-9E79-7EA8A5F2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AE21CD-D76E-40C6-A6F4-D48FCE30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7A83C2-3D62-48C3-B125-E07D5C68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8C55-5D19-4685-B34E-76F4B32F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840394-195D-4CA2-BF91-6E7A7923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5200A2-6042-45DF-89B0-C76B9AB3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512725-A9B3-422A-9336-A03FB6E6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F7BD27-DD63-4F61-85D5-D6615A76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8C9A97-49AD-47E7-9CA1-A2A0D2B1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6C4EA4-1136-4CF0-BBE5-4AD0CB4A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201996-79C6-483A-825B-A60C5429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82B47E-287C-4032-A70F-B5921008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6271D1-9EEF-40AF-B730-D17559426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40C014-EAD7-4826-ABDA-0F6678C4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7B5B-AEAD-4B04-88AB-012BB264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EF6582-CC1C-42BA-8909-B17FE914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CD05CD-F2BB-44DD-9E3C-EBBCEABF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6F0AEB-816E-402C-BC88-599538E6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C90505-832B-45F7-B326-5332FDF0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B811A4-C85C-4BF6-A6F2-1973348A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4EF7C2-93FE-4368-A397-5A9138AF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0F497F-786C-4C94-9E5F-805EE620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920DCB-E509-4AEC-8B3B-ABAAB970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4FB6E4-3BB9-491B-8FE4-C4502C8A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359961-5DF5-409B-88AB-A0F3FFD5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D687-892E-4EC9-B053-6252AE59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1E5C19-A44F-4182-847F-C21310477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30223C-895C-4A37-95B9-55721712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8390B2-7183-4365-8AAB-C1AF7F64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8A2F83-1AC2-4F33-B28A-B0439E14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DAFD17-1501-4AA1-90F0-4949FFEA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1A4246-C680-4DA3-B2B1-72601CFF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872D59-4B75-4A1F-96C6-980F0899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039B96-A688-4E26-BA9C-84E36898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830F94-D59F-431F-BC73-B81D0325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3F599F-2C42-4009-8865-2C0D4E24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53AF9-D4F1-449A-A822-24333B82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602D91-9D56-4937-B301-1F5151A3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02F89F-3326-42A5-9D3F-48215258D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A1D9E2-BA50-4289-8611-2E1AE40A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22689A-9878-4A26-91BD-7D1AC82D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4F47D4-41C1-42E4-90ED-5B4F062D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C6C209-18C7-4007-852D-390DB83E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E0E5DA-403E-447F-8550-E0176981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398446-34DE-4B64-AC20-9C7209EB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423AC5-EF62-4AEE-A6C1-66DF235E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505C83-21F5-475B-BE64-3F51C8A8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B3ACC-7ACF-43D3-9223-ED3DB431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EEEE3F-FED1-4E08-BE51-B3706DC9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B54040-770D-4690-8401-C72EEF42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B428C2-999C-4236-9B32-C80409B5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410835-E13D-4C5A-9229-BD3DBCCC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A7FF6F-2FE6-45EC-979F-A9CBFF87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FBF3BA-8332-4F46-AB3B-94DAE463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DF9296-0BE7-4A2B-84E9-1D6DF398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58BD0A-75B8-4164-B8E5-312BD73F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11F726-4790-40E7-896C-02AC7C6E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A10B2D-744D-485F-A5B7-7C82AB1E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FB620-92C3-45B9-B1CF-21B64EE8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2C7F56-C452-4C2F-AA8D-6F94CB1C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C97B4A-E67D-48A7-B0D8-3CC67DD8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60C673-586E-40C7-A1CC-88AAEDB3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453DB7-06F3-4A1C-9057-02B52CAA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270FCD-692F-4EF7-B8E9-FC90D580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3C4CD3-336C-42BA-A3EA-CAE60701F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DDD206-2BCC-4F42-9223-8C1B4C8D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3609D7-6C08-41BE-B563-377D2493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28F27B-4B74-4653-A316-5AA3932D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6B9B9E7-93B3-4A14-BC4A-4A853BCE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56597-F405-466A-A1E2-5B827804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93D2FD-7EF2-49BE-B22C-6C89D344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640E4D-1EC2-401A-83F7-9413F86D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214E3C-9160-4CD1-AAE3-6BCBF1BA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B8951C-BF74-4492-8B9C-824B103B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C4240B-CF9B-4B58-95AD-7D5ED2D3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E5FD2B-8062-47C0-8A26-212B0CF2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CA152E-850C-412B-A954-D1378BFB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44DD5C-34E7-4F1C-B27A-3A3331C4C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16CF6C-D5ED-4CE5-B91B-D6880B70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ECED23F-4989-4057-B4C0-EA551276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EBB54-ADCB-493B-8D2C-C944F299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81DC0E-E4C5-49E2-AF98-17014C49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C08F18-12E2-494E-B448-F3075D3E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CE413E-F2E6-4713-8890-702FB9A8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1097B0-CD8B-40FF-B089-D6DC04E9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7C71D6-07DE-4B4B-9A0A-51D6676E3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663972-D607-4C7A-8BE6-FDBEE5AA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8C1F57-BCE0-4BA1-894B-950B1E05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F53E0A-259B-468B-956E-C5BC080F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CB39CE-6FC7-4838-B5EE-D3B2BB78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0F20455-9A32-42B5-BA18-7E80AD4C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976B-0665-4745-9A6E-DDCD0A22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FE9B1-AF4D-4C87-8254-6876F855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48FEEF-8F69-4AAB-939F-057E2043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068BBB-4173-4F69-A54F-9B19DD52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4C4B0F-BD5B-4B0C-9E62-A4431421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DF9585-EFE2-466D-B56A-8083D0ED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8845A0-206E-4EF5-8FD1-C3C1BA3F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78953D-BD51-4314-87DE-1474265C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71231E-5FF9-4D5E-B33F-F20F72C5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E469FE-293F-4DBF-A84A-7945E27F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A95CFF-D43E-4AA4-96FB-06598519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D788BE-CA56-4CDF-BADA-A7661852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0084F-0CE4-4AF1-8BCF-6840225F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B015FE-6579-4F08-A0E9-A6AB1B59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DEF5FE-E7A0-4A7B-BFF1-34C7B1CB1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208041-5FD1-49AA-AE7C-CCB15F5E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9D8239-B9F1-48EC-AD04-67C45F5B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BE21AB-DE4F-41D9-A20B-3108DB5A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36E1CCB-0451-4A6F-9461-28752EF6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172B85-2464-4605-8953-D4EE26EB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EEC73F-70FE-4819-BFA2-CD19E604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F49AC3-D499-4B3F-9424-3ED23898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94C364-DB89-4A39-87C0-71F45DEC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EE51D-87AC-4273-BA09-D2A18E13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AA0F1D-50E3-40DF-949B-DD92A724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DEB427-6001-4530-B65F-EAB6D2A5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FF9729-B82B-4778-B4DE-908B44F2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4A22CF-D69E-4DF9-962C-0876909FA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A8B921-142F-400E-B4C6-5FC631A3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7E0933-D7D4-4523-927D-E40300A6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5E31A0-D765-4DF9-B815-AF68D775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297B95-18BE-49EB-B5AB-CF2A4BF2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359AB0-A294-4BB4-BF78-816A0D77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A91313-88E5-4F7C-AE5C-84B1E40D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27FE1-3D70-45D4-89CB-FFD84CB8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E9DB74-FAE8-4746-8390-5602F419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380899-448F-48C6-A333-C72151BD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2E9B00-1E47-4F1C-81AD-4A3349F8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94AB4E-6469-4653-B03C-04FDC4D0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BB0A2C-B4D7-4D4C-9ACD-8253F110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E1E77B-EF82-4FEA-9CB8-9D0FDD602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A4C261-EF02-424E-A52E-C2123CFC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F89E25-0358-4A3E-A909-2628ECBD6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25AED5-A065-45C0-BCB1-F5D47AA5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049959-92CA-4B96-AE01-C46D1D03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8082B-91FA-4165-8F32-A14F16FE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96D4EE-3343-4629-9AC1-1AF0BA5A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D583DB6-7ADC-4D94-9778-523B8ABA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C603B5C-5078-491E-8213-D0E6953B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D67A9F-2F9D-434D-9389-F5088416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C80B1AB-7A56-471B-926A-988428CE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4510FF-3F13-4452-8EA2-9192E8B6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AD636E-8827-499E-9CD8-2B299DE4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6AC255-965E-435E-BDEB-2E04305D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022558-4FF6-49BC-8F3C-884A54866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55932-EE82-49E6-B37D-CFABD7F1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F42A8-D745-4C61-B7D3-331CE67E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3C49C-1D7F-403B-AD2C-963FEE2D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BB912-5D0E-479D-A398-13D2EC1E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0CB60-93B8-4187-BEA4-6956B53E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14C-7D82-4C98-8F11-AB4AC8FD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F5372-AEF9-493A-AA1F-FB2630B2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35086-1799-4097-9DA4-86420A25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3D8AE-DC3D-4604-B2F0-D52316D1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BE2D1-5004-40D3-8A35-9D9CF252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95BA1-D928-4920-98AE-2061721F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89E69-96C3-4932-80B8-08FE3A5F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34C7E-A879-49F7-9018-8ACD2CC2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6168C-AC31-4482-BFCB-6ADC37F5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33304-5E1F-42AC-8F24-27B0A444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64166-6E2F-45BF-B613-08C8B09F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CF66-D98C-44AD-B967-85AE8283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842C2-3FF5-4821-9029-0709ABE8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8AD4C-8F27-42C1-9D48-F9C4BF99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B57BB-6286-412B-85F4-99121D18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50E9C-2398-4141-857F-79C41BF6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ECED4-A092-460A-A957-2075923C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19A96-42C7-4546-81EF-951B896C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6FB0F-F8F1-4B80-B1DC-A76A04CE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5AC61-7923-4D50-9D5B-65F02320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91C7A-0011-41AB-A70F-C3041AB6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6D02E-C4CD-4733-8ABD-E9519C30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D31-24FC-44AE-B977-C5CAA886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CD4D6-9322-4A65-B8AA-1F4D4805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A7A83-98DE-4250-9C1D-AE260554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5E6FA-A62C-4B97-927E-E89A1623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3854D-85EF-467F-B6EE-514366BC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A840F-41EC-45E0-810E-F19BE439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03ADA-7FA4-4C61-9A88-F137FFEB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5EF40-8724-426A-A4A3-CAD68C68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28CDC-3035-4621-A50C-085B77DF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51705-C003-4736-9A64-861BBA1E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4BFA2-8405-4EC0-87BC-646BFED0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08B2-3C5C-41EB-A3EE-E2A5F7DF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49F4C-BB66-4FAA-B7AE-DAB082CA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8F92B-E905-4333-AD10-93B33787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ED11B-3F33-4BFC-AB02-E3A15B9B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2C690-D1B8-497B-A953-7A14AAA6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B9A75-1CEB-4DAC-9270-007BE070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8CAEA-A1F0-492E-B4E3-ACD31E31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B4CE1-0E65-4334-9232-D0345B70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99CC6-A983-47DA-971C-7D74E2DB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D4E05-796D-4E11-AFC6-68F31099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EE21E-71EF-44E6-9D6D-B6733550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EAFE-2FB7-4ABE-9DAB-7E440A2F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DDF1D-0FBE-4DE2-94EC-5E25FD8E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9AB13-A08D-4C48-8988-82FD54C2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BD436-AF0C-4449-920A-42BF7AAB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27D4D-061B-4479-9123-39F8AD18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2555E-F3E2-4588-BDD7-13561869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15335-C043-42E8-B0B4-8152CC05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DF0D0-CDEF-4993-9840-E6216AEB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C0F93-F571-470D-B19D-3BD72CCC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3968F-A941-4B2E-8D8A-4489B528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3956E-193B-4EEA-AC97-77FEDDD0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DB74-ED52-4398-90FF-FEB56880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E04BF-8754-4834-AB56-8B13BC6A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90F99-D708-4C9E-83A8-474CAD4E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A2EAE-331A-4FE0-A36B-F54D935D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558B7-4114-4A6E-B6FF-7937349A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E60CD-CF37-4C6A-81A7-A428DD04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77FB8-8DB0-4D06-A8AD-8850FE18A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83808-3EAE-44E7-91FC-BFB22031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FBFF2-E9C4-45D6-BB43-AB028333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7A1EEC-DC5D-4F94-AF28-F17391FB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31513-885E-4938-AF7E-E9783458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a2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D69E-5E81-4016-86EF-E697DEF10496}" type="slidenum">
              <a:rPr b="0" lang="ru-RU" sz="1600" spc="-1" strike="noStrike">
                <a:solidFill>
                  <a:srgbClr val="e0a20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a2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652D-86A3-431C-B51F-F6647C73FFBE}" type="slidenum">
              <a:rPr b="0" lang="ru-RU" sz="1600" spc="-1" strike="noStrike">
                <a:solidFill>
                  <a:srgbClr val="e0a20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dt" idx="2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Num" idx="31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a2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711D-437A-4396-B7C7-68BA6CDE3EA8}" type="slidenum">
              <a:rPr b="0" lang="ru-RU" sz="1600" spc="-1" strike="noStrike">
                <a:solidFill>
                  <a:srgbClr val="e0a20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dt" idx="32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33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3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3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3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a2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8D56-5905-4201-8CBD-75616149C1BC}" type="slidenum">
              <a:rPr b="0" lang="ru-RU" sz="1600" spc="-1" strike="noStrike">
                <a:solidFill>
                  <a:srgbClr val="e0a20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Num" idx="37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a2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F6BE-31D8-47D0-9776-0BDF38AA018A}" type="slidenum">
              <a:rPr b="0" lang="ru-RU" sz="1600" spc="-1" strike="noStrike">
                <a:solidFill>
                  <a:srgbClr val="e0a20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dt" idx="3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3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7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8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42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F057-8806-4E0E-8628-2BFA758CD68B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5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3B1D-9F80-4CC3-B99E-DB26941D27BF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1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48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5DAF-6234-4774-8693-63E10620D9F5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8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9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A955-1053-4DDC-BE6C-C6882E8FDA4A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5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6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164D-A414-46B4-AD2D-A29CC1660962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2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3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 type="dt" idx="5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 type="ftr" idx="5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 type="sldNum" idx="5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F1DF-2522-40A7-B52E-8E95CA8CA187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3F71-579C-445E-8529-AE68EDFDA848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8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0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 type="dt" idx="5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 type="ftr" idx="5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 type="sldNum" idx="60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1B02-0F54-4D46-832E-528FC167F99A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5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7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6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ftr" idx="6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sldNum" idx="6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E4D4-8E9F-480C-ACC3-25D5E6176271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2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4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 type="dt" idx="6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 type="ftr" idx="6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 type="sldNum" idx="66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5DD6-0283-4CC0-8E76-BBD18CBEB924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29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30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 type="dt" idx="6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 type="ftr" idx="6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5"/>
          <p:cNvSpPr>
            <a:spLocks noGrp="1"/>
          </p:cNvSpPr>
          <p:nvPr>
            <p:ph type="sldNum" idx="69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6F74-B16A-47EF-B9A1-F06C61F4777D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6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37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7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7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7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E859-E6E3-41DA-A140-F1DC37B18ECE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3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4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 type="dt" idx="7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 type="ftr" idx="7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 type="sldNum" idx="7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56D1-659A-44B1-AD8A-81F91A224201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50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 type="dt" idx="7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 type="ftr" idx="7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 type="sldNum" idx="78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0F73-4AED-45BE-9A4B-9D82A38A6500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5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 type="dt" idx="7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 type="ftr" idx="8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 type="sldNum" idx="81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0F91-11AF-42C1-9F39-36DCFCD0607B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6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 type="dt" idx="8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 type="ftr" idx="8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 type="sldNum" idx="8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D144-1F78-4270-A9CF-910609D597DB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7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7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 type="dt" idx="8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 type="ftr" idx="8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5"/>
          <p:cNvSpPr>
            <a:spLocks noGrp="1"/>
          </p:cNvSpPr>
          <p:nvPr>
            <p:ph type="sldNum" idx="8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D8D1-3A5A-497D-8574-869ED2605ED4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a2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5C98-3F31-4537-987D-6DF6C894C2BF}" type="slidenum">
              <a:rPr b="0" lang="ru-RU" sz="1600" spc="-1" strike="noStrike">
                <a:solidFill>
                  <a:srgbClr val="e0a20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2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a2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25FE-3755-4450-ACB0-A43387DCD933}" type="slidenum">
              <a:rPr b="0" lang="ru-RU" sz="1600" spc="-1" strike="noStrike">
                <a:solidFill>
                  <a:srgbClr val="e0a20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1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dt" idx="1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5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a2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526A-13B5-4806-8F61-58F324B452DE}" type="slidenum">
              <a:rPr b="0" lang="ru-RU" sz="1600" spc="-1" strike="noStrike">
                <a:solidFill>
                  <a:srgbClr val="e0a20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e5b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8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a2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1BC7-F7A7-41B5-8305-56C4A3D9CEBB}" type="slidenum">
              <a:rPr b="0" lang="ru-RU" sz="1600" spc="-1" strike="noStrike">
                <a:solidFill>
                  <a:srgbClr val="e0a20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e5b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a2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EFC0-B5DA-44C7-84D4-686DE29AD0BF}" type="slidenum">
              <a:rPr b="0" lang="ru-RU" sz="1600" spc="-1" strike="noStrike">
                <a:solidFill>
                  <a:srgbClr val="e0a20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e0a20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4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a20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C740-EA8E-4492-8C7D-06A6C63F6245}" type="slidenum">
              <a:rPr b="0" lang="ru-RU" sz="1600" spc="-1" strike="noStrike">
                <a:solidFill>
                  <a:srgbClr val="e0a208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e0a2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0a20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a157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feb80a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00add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38ac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27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ADE6-1986-411E-898B-D851340C722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1441440" y="2871360"/>
            <a:ext cx="64008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ОПОРНАЯ БАЗОВАЯ ПЛОЩАДК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«СОВРЕМЕННЫЕ ТЕХНОЛОГИИ В ПОЗНАВАТЕЛЬНОМ РАЗВИТИЕ ДЕТЕЙ ДОШКОЛЬНОГО ВОЗРАСТА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20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6d19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3f6d19"/>
                </a:solidFill>
                <a:latin typeface="Georgia"/>
              </a:rPr>
              <a:t>«Игровые занимательные задачи для развития логического мышления детей дошкольного возраста»</a:t>
            </a:r>
            <a:endParaRPr b="0" lang="en-US" sz="3200" spc="-1" strike="noStrike">
              <a:solidFill>
                <a:srgbClr val="e0a208"/>
              </a:solidFill>
              <a:latin typeface="Georgia"/>
            </a:endParaRPr>
          </a:p>
        </p:txBody>
      </p:sp>
      <p:pic>
        <p:nvPicPr>
          <p:cNvPr id="1784" name="Рисунок 1" descr=""/>
          <p:cNvPicPr/>
          <p:nvPr/>
        </p:nvPicPr>
        <p:blipFill>
          <a:blip r:embed="rId1"/>
          <a:stretch/>
        </p:blipFill>
        <p:spPr>
          <a:xfrm>
            <a:off x="5711760" y="3998880"/>
            <a:ext cx="3087720" cy="2336760"/>
          </a:xfrm>
          <a:prstGeom prst="rect">
            <a:avLst/>
          </a:prstGeom>
          <a:ln w="0">
            <a:noFill/>
          </a:ln>
        </p:spPr>
      </p:pic>
      <p:sp>
        <p:nvSpPr>
          <p:cNvPr id="1785" name="TextBox 1"/>
          <p:cNvSpPr/>
          <p:nvPr/>
        </p:nvSpPr>
        <p:spPr>
          <a:xfrm>
            <a:off x="344520" y="5157720"/>
            <a:ext cx="422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ДОБУ д/с «Бурат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Шубина К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8 ноября 2023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TextBox 2"/>
          <p:cNvSpPr/>
          <p:nvPr/>
        </p:nvSpPr>
        <p:spPr>
          <a:xfrm>
            <a:off x="539640" y="404640"/>
            <a:ext cx="761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Arial"/>
              </a:rPr>
              <a:t>Как с помощью двух палочек образовать на столе квадра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TextBox 4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Скругленный прямоугольник 10"/>
          <p:cNvSpPr/>
          <p:nvPr/>
        </p:nvSpPr>
        <p:spPr>
          <a:xfrm>
            <a:off x="1785960" y="1890720"/>
            <a:ext cx="5572080" cy="2428920"/>
          </a:xfrm>
          <a:prstGeom prst="roundRect">
            <a:avLst>
              <a:gd name="adj" fmla="val 16667"/>
            </a:avLst>
          </a:prstGeom>
          <a:solidFill>
            <a:srgbClr val="c4c4c4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Box 6"/>
          <p:cNvSpPr/>
          <p:nvPr/>
        </p:nvSpPr>
        <p:spPr>
          <a:xfrm>
            <a:off x="2033640" y="2741760"/>
            <a:ext cx="507672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положить на угол стола</a:t>
            </a:r>
            <a:r>
              <a:rPr b="0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TextBox 2"/>
          <p:cNvSpPr/>
          <p:nvPr/>
        </p:nvSpPr>
        <p:spPr>
          <a:xfrm>
            <a:off x="395280" y="333360"/>
            <a:ext cx="8569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осло четыре берёз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 каждой берёзе по четыре больших вет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 каждой большой ветке по четыре маленьких вет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 каждой маленькой ветке по четыре ябл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колько всего ябло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Скругленный прямоугольник 10"/>
          <p:cNvSpPr/>
          <p:nvPr/>
        </p:nvSpPr>
        <p:spPr>
          <a:xfrm>
            <a:off x="1916280" y="3000240"/>
            <a:ext cx="5572080" cy="242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a6a6"/>
              </a:gs>
              <a:gs pos="100000">
                <a:srgbClr val="f8e7e7"/>
              </a:gs>
            </a:gsLst>
            <a:lin ang="16200000"/>
          </a:gradFill>
          <a:ln w="9360">
            <a:solidFill>
              <a:srgbClr val="8e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TextBox 4"/>
          <p:cNvSpPr/>
          <p:nvPr/>
        </p:nvSpPr>
        <p:spPr>
          <a:xfrm>
            <a:off x="2655720" y="37908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ерёзе яблоки не раст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 ОДН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TextBox 2"/>
          <p:cNvSpPr/>
          <p:nvPr/>
        </p:nvSpPr>
        <p:spPr>
          <a:xfrm>
            <a:off x="611280" y="33336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 столе лежало 4 яблока, одно разрезали пополам. Сколько яблок стало на стол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1" name="Picture 10" descr="E:\ПРЕЗЕНТАЦИЯ УЧЕНИК\КАРТИНКИ\Картинки для счета\1481509.png"/>
          <p:cNvPicPr/>
          <p:nvPr/>
        </p:nvPicPr>
        <p:blipFill>
          <a:blip r:embed="rId1"/>
          <a:stretch/>
        </p:blipFill>
        <p:spPr>
          <a:xfrm>
            <a:off x="1790640" y="2354400"/>
            <a:ext cx="1887480" cy="1682640"/>
          </a:xfrm>
          <a:prstGeom prst="rect">
            <a:avLst/>
          </a:prstGeom>
          <a:ln w="0">
            <a:noFill/>
          </a:ln>
        </p:spPr>
      </p:pic>
      <p:pic>
        <p:nvPicPr>
          <p:cNvPr id="1822" name="Picture 10" descr="E:\ПРЕЗЕНТАЦИЯ УЧЕНИК\КАРТИНКИ\Картинки для счета\1481509.png"/>
          <p:cNvPicPr/>
          <p:nvPr/>
        </p:nvPicPr>
        <p:blipFill>
          <a:blip r:embed="rId2"/>
          <a:stretch/>
        </p:blipFill>
        <p:spPr>
          <a:xfrm>
            <a:off x="4341960" y="2354400"/>
            <a:ext cx="1887480" cy="1682640"/>
          </a:xfrm>
          <a:prstGeom prst="rect">
            <a:avLst/>
          </a:prstGeom>
          <a:ln w="0">
            <a:noFill/>
          </a:ln>
        </p:spPr>
      </p:pic>
      <p:pic>
        <p:nvPicPr>
          <p:cNvPr id="1823" name="Picture 10" descr="E:\ПРЕЗЕНТАЦИЯ УЧЕНИК\КАРТИНКИ\Картинки для счета\1481509.png"/>
          <p:cNvPicPr/>
          <p:nvPr/>
        </p:nvPicPr>
        <p:blipFill>
          <a:blip r:embed="rId3"/>
          <a:stretch/>
        </p:blipFill>
        <p:spPr>
          <a:xfrm>
            <a:off x="3065400" y="2314440"/>
            <a:ext cx="1887480" cy="1683000"/>
          </a:xfrm>
          <a:prstGeom prst="rect">
            <a:avLst/>
          </a:prstGeom>
          <a:ln w="0">
            <a:noFill/>
          </a:ln>
        </p:spPr>
      </p:pic>
      <p:pic>
        <p:nvPicPr>
          <p:cNvPr id="1824" name="Picture 10" descr="E:\ПРЕЗЕНТАЦИЯ УЧЕНИК\КАРТИНКИ\Картинки для счета\1481509.png"/>
          <p:cNvPicPr/>
          <p:nvPr/>
        </p:nvPicPr>
        <p:blipFill>
          <a:blip r:embed="rId4"/>
          <a:stretch/>
        </p:blipFill>
        <p:spPr>
          <a:xfrm>
            <a:off x="5618160" y="2314440"/>
            <a:ext cx="1889280" cy="1683000"/>
          </a:xfrm>
          <a:prstGeom prst="rect">
            <a:avLst/>
          </a:prstGeom>
          <a:ln w="0">
            <a:noFill/>
          </a:ln>
        </p:spPr>
      </p:pic>
      <p:sp>
        <p:nvSpPr>
          <p:cNvPr id="1825" name="Скругленный прямоугольник 10"/>
          <p:cNvSpPr/>
          <p:nvPr/>
        </p:nvSpPr>
        <p:spPr>
          <a:xfrm>
            <a:off x="1735200" y="2214720"/>
            <a:ext cx="5572080" cy="2428560"/>
          </a:xfrm>
          <a:prstGeom prst="roundRect">
            <a:avLst>
              <a:gd name="adj" fmla="val 16667"/>
            </a:avLst>
          </a:prstGeom>
          <a:solidFill>
            <a:srgbClr val="c4c4c4"/>
          </a:soli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/>
          </p:nvPr>
        </p:nvSpPr>
        <p:spPr>
          <a:xfrm>
            <a:off x="722160" y="2743200"/>
            <a:ext cx="777240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5b6f"/>
                </a:solidFill>
                <a:latin typeface="Georgia"/>
              </a:rPr>
              <a:t>ПЕРЕД ВАМИ НЕСКОЛЬКО МАТЕМАТИЧЕСКИХ НАБОРОВ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5b6f"/>
                </a:solidFill>
                <a:latin typeface="Georgia"/>
              </a:rPr>
              <a:t>ВАША ЗАДАЧА, СОЗДАТЬ ИЗ ЭЛЕМЕНТОВ НАБОРА ПЕРСОНАЖЕЙ СКАЗКИ. ЗАТЕМ НУЖНО БУДЕТ РАССКАЗАТЬ ЕЕ НАМ. ЖЕЛАЮ ВАМ УДАЧИ! МОЖЕТЕ ДОПОЛНЯТЬ СКАЗКУ ЭЛЕМЕНТАМИ ПЕЙЗАЖА ИЛИ ЕЩЕ КАКИМИ-ТО ФИГУРАМИ. ЗДЕСЬ МОЖЕТЕ ДАТЬ ВОЛЮ СВОЕМУ ВООБРАЖЕНИЮ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 type="title"/>
          </p:nvPr>
        </p:nvSpPr>
        <p:spPr>
          <a:xfrm>
            <a:off x="722160" y="76500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«Головоломки»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(игры на составление плоскостных изображений предметов, животных, птиц, домов из специальных наборов геометрических фигур)</a:t>
            </a:r>
            <a:br>
              <a:rPr sz="2400"/>
            </a:br>
            <a:endParaRPr b="0" lang="en-US" sz="2400" spc="-1" strike="noStrike">
              <a:solidFill>
                <a:srgbClr val="e0a208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f6d19"/>
                </a:solidFill>
                <a:latin typeface="Georgia"/>
              </a:rPr>
              <a:t>Дидактические   игры с кружками</a:t>
            </a:r>
            <a:endParaRPr b="0" lang="en-US" sz="42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829" name="Блок-схема: узел 4"/>
          <p:cNvSpPr/>
          <p:nvPr/>
        </p:nvSpPr>
        <p:spPr>
          <a:xfrm>
            <a:off x="468360" y="3890880"/>
            <a:ext cx="1008000" cy="974880"/>
          </a:xfrm>
          <a:prstGeom prst="flowChartConnector">
            <a:avLst/>
          </a:prstGeom>
          <a:solidFill>
            <a:srgbClr val="ffff00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Блок-схема: узел 5"/>
          <p:cNvSpPr/>
          <p:nvPr/>
        </p:nvSpPr>
        <p:spPr>
          <a:xfrm>
            <a:off x="1258920" y="5207040"/>
            <a:ext cx="1008000" cy="973080"/>
          </a:xfrm>
          <a:prstGeom prst="flowChartConnector">
            <a:avLst/>
          </a:prstGeom>
          <a:solidFill>
            <a:srgbClr val="ff0000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Блок-схема: узел 6"/>
          <p:cNvSpPr/>
          <p:nvPr/>
        </p:nvSpPr>
        <p:spPr>
          <a:xfrm>
            <a:off x="6748560" y="5207040"/>
            <a:ext cx="1008000" cy="973080"/>
          </a:xfrm>
          <a:prstGeom prst="flowChartConnector">
            <a:avLst/>
          </a:prstGeom>
          <a:solidFill>
            <a:srgbClr val="00b0f0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Блок-схема: узел 7"/>
          <p:cNvSpPr/>
          <p:nvPr/>
        </p:nvSpPr>
        <p:spPr>
          <a:xfrm>
            <a:off x="7524720" y="3927600"/>
            <a:ext cx="1008000" cy="973080"/>
          </a:xfrm>
          <a:prstGeom prst="flowChartConnector">
            <a:avLst/>
          </a:prstGeom>
          <a:solidFill>
            <a:srgbClr val="ffc000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Блок-схема: узел 8"/>
          <p:cNvSpPr/>
          <p:nvPr/>
        </p:nvSpPr>
        <p:spPr>
          <a:xfrm>
            <a:off x="6875640" y="2565360"/>
            <a:ext cx="1009440" cy="974880"/>
          </a:xfrm>
          <a:prstGeom prst="flowChartConnector">
            <a:avLst/>
          </a:prstGeom>
          <a:solidFill>
            <a:srgbClr val="5fa326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27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499"/>
              </a:spcBef>
              <a:buClr>
                <a:srgbClr val="7fd13b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5b6f"/>
                </a:solidFill>
                <a:latin typeface="Georgia"/>
              </a:rPr>
              <a:t>РАССТАВЬ КРУЖКИ ТАК, ЧТОБЫ БЕЛЫЙ БЫЛ МЕЖДУ ЖЕЛТЫМ И КРАСНЫМ, А ЖЕЛТЫЙ БЫЛ РЯДОМ С ЗЕЛЕНЫ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ctr">
              <a:spcBef>
                <a:spcPts val="499"/>
              </a:spcBef>
              <a:buClr>
                <a:srgbClr val="7fd13b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5b6f"/>
                </a:solidFill>
                <a:latin typeface="Georgia"/>
              </a:rPr>
              <a:t>РАССТАВЬ КРУЖКИ ТАК, ЧТОБЫ КРАСНЫЙ БЫЛ МЕЖДУ СИНИМ И ЗЕЛЕНЫМ, А ЗЕЛЕНЫЙ БЫЛ РЯДОМ С ЖЕЛТЫ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 algn="ctr">
              <a:spcBef>
                <a:spcPts val="499"/>
              </a:spcBef>
              <a:buClr>
                <a:srgbClr val="7fd13b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Прямоугольник 31"/>
          <p:cNvSpPr/>
          <p:nvPr/>
        </p:nvSpPr>
        <p:spPr>
          <a:xfrm>
            <a:off x="755640" y="333360"/>
            <a:ext cx="7345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lnSpc>
                <a:spcPct val="100000"/>
              </a:lnSpc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истематическое использование дидактических игр в разных видах обучения, различного по характеру материала, является эффективным средством активизации учебной и воспитательной деятельности дошкольников, положительно влияющим на повышение качества знаний, умений и навыков детей, развитие умственной деятельности. Словом, дидактические игры  и игровые упражнения заслуживают право дополнить традиционные формы занятий дошколь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Прямоугольник 3"/>
          <p:cNvSpPr/>
          <p:nvPr/>
        </p:nvSpPr>
        <p:spPr>
          <a:xfrm>
            <a:off x="971640" y="3244680"/>
            <a:ext cx="7296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50"/>
                </a:solidFill>
                <a:latin typeface="Arial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7" name="Рисунок 4" descr=""/>
          <p:cNvPicPr/>
          <p:nvPr/>
        </p:nvPicPr>
        <p:blipFill>
          <a:blip r:embed="rId1"/>
          <a:stretch/>
        </p:blipFill>
        <p:spPr>
          <a:xfrm>
            <a:off x="2771640" y="0"/>
            <a:ext cx="3349800" cy="3416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/>
          </p:nvPr>
        </p:nvSpPr>
        <p:spPr>
          <a:xfrm>
            <a:off x="1042560" y="2743200"/>
            <a:ext cx="6805800" cy="32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5b6f"/>
                </a:solidFill>
                <a:latin typeface="Georgia"/>
              </a:rPr>
              <a:t>ОСНОВНАЯ ФОРМА ПОЗНАНИЯ РЕБЕНКОМ ОКРУЖАЮЩЕЙ ДЕЙСТВИТЕЛЬНОСТИ. ДИДАКТИЧЕСКАЯ ИГРА ПРЕДСТАВЛЯЕТ СОБОЙ МНОГОПЛАНОВОЕ, СЛОЖНОЕ ПЕДАГОГИЧЕСКОЕ ЯВЛЕНИЕ: ОНА ЯВЛЯЕТСЯ И ИГРОВЫМ МЕТОДОМ ОБУЧЕНИЯ ДЕТЕЙ ДОШКОЛЬНОГО ВОЗРАСТА, И ФОРМОЙ ОБУЧЕНИЯ, И САМОСТОЯТЕЛЬНОЙ ИГРОВОЙ ДЕЯТЕЛЬНОСТЬЮ, И СРЕДСТВОМ ВСЕСТОРОННЕГО ВОСПИТАНИЯ ЛИЧНОСТИ РЕБЕН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Georgia"/>
              </a:rPr>
              <a:t>Игра в дошкольном возрасте –</a:t>
            </a:r>
            <a:endParaRPr b="0" lang="en-US" sz="4200" spc="-1" strike="noStrike">
              <a:solidFill>
                <a:srgbClr val="e0a208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271080" y="3794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f6d19"/>
                </a:solidFill>
                <a:latin typeface="Georgia"/>
              </a:rPr>
              <a:t>Дидактическая  игра с палочками на пространственное преобразование</a:t>
            </a: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pic>
        <p:nvPicPr>
          <p:cNvPr id="1789" name="Содержимое 7" descr=""/>
          <p:cNvPicPr/>
          <p:nvPr/>
        </p:nvPicPr>
        <p:blipFill>
          <a:blip r:embed="rId1"/>
          <a:stretch/>
        </p:blipFill>
        <p:spPr>
          <a:xfrm>
            <a:off x="109440" y="1341360"/>
            <a:ext cx="8925120" cy="5138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1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3f6d19"/>
                </a:solidFill>
                <a:latin typeface="Georgia"/>
              </a:rPr>
              <a:t>ИГРА СО СЧЕТНЫМИ ПАЛОЧКАМИ</a:t>
            </a:r>
            <a:br>
              <a:rPr sz="3300"/>
            </a:br>
            <a:endParaRPr b="0" lang="en-US" sz="3300" spc="-1" strike="noStrike">
              <a:solidFill>
                <a:srgbClr val="e0a208"/>
              </a:solidFill>
              <a:latin typeface="Georgia"/>
            </a:endParaRPr>
          </a:p>
        </p:txBody>
      </p:sp>
      <p:sp>
        <p:nvSpPr>
          <p:cNvPr id="1791" name="Прямоугольник 3"/>
          <p:cNvSpPr/>
          <p:nvPr/>
        </p:nvSpPr>
        <p:spPr>
          <a:xfrm>
            <a:off x="395280" y="1268280"/>
            <a:ext cx="3960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Мы шесть палочек возьм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И построим новый дом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Если 2 переложи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В доме том не смогут жи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Он уже не дом, а фла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Кто сумеет сделать та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Захотелось покопат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Надо палочку убр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И переложить друг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Так лопатку получу 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А у вас она готов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Передвинем палку с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А внизу одну возьм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И в коробку убер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Вышел стульчик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Отдыхайте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Сколько палочек? Считай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Сосчитал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Их 4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Прямоугольник 4"/>
          <p:cNvSpPr/>
          <p:nvPr/>
        </p:nvSpPr>
        <p:spPr>
          <a:xfrm>
            <a:off x="4932360" y="1341360"/>
            <a:ext cx="338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Ножки вы раздвиньте шир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Спинку надо положить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Будет стул столом служить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Если вам не надоел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Принимаемся за дел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Сделаем дорожный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Или треугольный фла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Снова 2 перелож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И стрелу мы получил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Только вот стрела сломалась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Палочка одна осталас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Мы ее на стол положим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f75"/>
                </a:solidFill>
                <a:latin typeface="Arial"/>
              </a:rPr>
              <a:t>Треугольник сделать смож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3" name="Рисунок 1" descr=""/>
          <p:cNvPicPr/>
          <p:nvPr/>
        </p:nvPicPr>
        <p:blipFill>
          <a:blip r:embed="rId1"/>
          <a:stretch/>
        </p:blipFill>
        <p:spPr>
          <a:xfrm>
            <a:off x="669960" y="244440"/>
            <a:ext cx="8109000" cy="5643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TextBox 2"/>
          <p:cNvSpPr/>
          <p:nvPr/>
        </p:nvSpPr>
        <p:spPr>
          <a:xfrm>
            <a:off x="468360" y="260280"/>
            <a:ext cx="8280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врик-головоломка "Круги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внимания, памяти, мелкой моторики, пространственного представления, логического мышления, вообра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5" name="Picture 2" descr=""/>
          <p:cNvPicPr/>
          <p:nvPr/>
        </p:nvPicPr>
        <p:blipFill>
          <a:blip r:embed="rId1"/>
          <a:stretch/>
        </p:blipFill>
        <p:spPr>
          <a:xfrm>
            <a:off x="324000" y="1390680"/>
            <a:ext cx="3024000" cy="3024000"/>
          </a:xfrm>
          <a:prstGeom prst="rect">
            <a:avLst/>
          </a:prstGeom>
          <a:ln w="0">
            <a:noFill/>
          </a:ln>
        </p:spPr>
      </p:pic>
      <p:pic>
        <p:nvPicPr>
          <p:cNvPr id="1796" name="Рисунок 6" descr=""/>
          <p:cNvPicPr/>
          <p:nvPr/>
        </p:nvPicPr>
        <p:blipFill>
          <a:blip r:embed="rId2"/>
          <a:stretch/>
        </p:blipFill>
        <p:spPr>
          <a:xfrm>
            <a:off x="3419640" y="2708280"/>
            <a:ext cx="5506920" cy="3673440"/>
          </a:xfrm>
          <a:prstGeom prst="rect">
            <a:avLst/>
          </a:prstGeom>
          <a:ln w="0">
            <a:noFill/>
          </a:ln>
        </p:spPr>
      </p:pic>
      <p:sp>
        <p:nvSpPr>
          <p:cNvPr id="1797" name="Блок-схема: узел 8"/>
          <p:cNvSpPr/>
          <p:nvPr/>
        </p:nvSpPr>
        <p:spPr>
          <a:xfrm>
            <a:off x="6691320" y="1112760"/>
            <a:ext cx="1008000" cy="974880"/>
          </a:xfrm>
          <a:prstGeom prst="flowChartConnector">
            <a:avLst/>
          </a:prstGeom>
          <a:solidFill>
            <a:srgbClr val="ffff00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Блок-схема: узел 9"/>
          <p:cNvSpPr/>
          <p:nvPr/>
        </p:nvSpPr>
        <p:spPr>
          <a:xfrm>
            <a:off x="7770960" y="1862280"/>
            <a:ext cx="1008000" cy="973080"/>
          </a:xfrm>
          <a:prstGeom prst="flowChartConnector">
            <a:avLst/>
          </a:prstGeom>
          <a:solidFill>
            <a:srgbClr val="ff0000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Блок-схема: узел 10"/>
          <p:cNvSpPr/>
          <p:nvPr/>
        </p:nvSpPr>
        <p:spPr>
          <a:xfrm>
            <a:off x="488880" y="4653000"/>
            <a:ext cx="1008000" cy="973080"/>
          </a:xfrm>
          <a:prstGeom prst="flowChartConnector">
            <a:avLst/>
          </a:prstGeom>
          <a:solidFill>
            <a:srgbClr val="00b0f0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Блок-схема: узел 11"/>
          <p:cNvSpPr/>
          <p:nvPr/>
        </p:nvSpPr>
        <p:spPr>
          <a:xfrm>
            <a:off x="1954080" y="5300640"/>
            <a:ext cx="1008360" cy="974880"/>
          </a:xfrm>
          <a:prstGeom prst="flowChartConnector">
            <a:avLst/>
          </a:prstGeom>
          <a:solidFill>
            <a:srgbClr val="5fa326"/>
          </a:solidFill>
          <a:ln w="11520">
            <a:solidFill>
              <a:srgbClr val="5c992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TextBox 2"/>
          <p:cNvSpPr/>
          <p:nvPr/>
        </p:nvSpPr>
        <p:spPr>
          <a:xfrm>
            <a:off x="1619280" y="260280"/>
            <a:ext cx="705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111111"/>
                </a:solidFill>
                <a:latin typeface="Arial"/>
                <a:ea typeface="Arial"/>
              </a:rPr>
              <a:t>Игра </a:t>
            </a:r>
            <a:r>
              <a:rPr b="1" i="1" lang="ru-RU" sz="2400" spc="-1" strike="noStrike">
                <a:solidFill>
                  <a:srgbClr val="111111"/>
                </a:solidFill>
                <a:latin typeface="Arial"/>
                <a:ea typeface="Arial"/>
              </a:rPr>
              <a:t>«Собери круги по цвету»</a:t>
            </a:r>
            <a:br>
              <a:rPr sz="2400"/>
            </a:br>
            <a:r>
              <a:rPr b="1" lang="ru-RU" sz="2400" spc="-1" strike="noStrike">
                <a:solidFill>
                  <a:srgbClr val="111111"/>
                </a:solidFill>
                <a:latin typeface="Arial"/>
                <a:ea typeface="Arial"/>
              </a:rPr>
              <a:t>Ребенку дается инструкция найти половинки кругов красного </a:t>
            </a:r>
            <a:r>
              <a:rPr b="1" i="1" lang="ru-RU" sz="2400" spc="-1" strike="noStrike">
                <a:solidFill>
                  <a:srgbClr val="111111"/>
                </a:solidFill>
                <a:latin typeface="Arial"/>
                <a:ea typeface="Arial"/>
              </a:rPr>
              <a:t>(желтого, зеленого, фиолетового)</a:t>
            </a:r>
            <a:r>
              <a:rPr b="1" lang="ru-RU" sz="2400" spc="-1" strike="noStrike">
                <a:solidFill>
                  <a:srgbClr val="111111"/>
                </a:solidFill>
                <a:latin typeface="Arial"/>
                <a:ea typeface="Arial"/>
              </a:rPr>
              <a:t> цвета и собрать цел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2" name="Рисунок 4" descr=""/>
          <p:cNvPicPr/>
          <p:nvPr/>
        </p:nvPicPr>
        <p:blipFill>
          <a:blip r:embed="rId1"/>
          <a:stretch/>
        </p:blipFill>
        <p:spPr>
          <a:xfrm>
            <a:off x="2705040" y="2200320"/>
            <a:ext cx="5940360" cy="4448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TextBox 2"/>
          <p:cNvSpPr/>
          <p:nvPr/>
        </p:nvSpPr>
        <p:spPr>
          <a:xfrm>
            <a:off x="2441520" y="946080"/>
            <a:ext cx="75596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alibri"/>
              </a:rPr>
              <a:t>Сколько концов у пал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alibri"/>
              </a:rPr>
              <a:t>Сколько концов у двух пал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e0000"/>
                </a:solidFill>
                <a:latin typeface="Calibri"/>
              </a:rPr>
              <a:t>А у двух с полови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Скругленный прямоугольник 9"/>
          <p:cNvSpPr/>
          <p:nvPr/>
        </p:nvSpPr>
        <p:spPr>
          <a:xfrm>
            <a:off x="2300400" y="3720960"/>
            <a:ext cx="4929120" cy="192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a6a6"/>
              </a:gs>
              <a:gs pos="100000">
                <a:srgbClr val="f8e7e7"/>
              </a:gs>
            </a:gsLst>
            <a:lin ang="16200000"/>
          </a:gradFill>
          <a:ln w="9360">
            <a:solidFill>
              <a:srgbClr val="8e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TextBox 3"/>
          <p:cNvSpPr/>
          <p:nvPr/>
        </p:nvSpPr>
        <p:spPr>
          <a:xfrm>
            <a:off x="4277520" y="523404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,4,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6" name="Picture 2" descr="C:\Documents and Settings\admin\Рабочий стол\escrima sticks копия.png"/>
          <p:cNvPicPr/>
          <p:nvPr/>
        </p:nvPicPr>
        <p:blipFill>
          <a:blip r:embed="rId1"/>
          <a:stretch/>
        </p:blipFill>
        <p:spPr>
          <a:xfrm rot="21540000">
            <a:off x="2482560" y="4506480"/>
            <a:ext cx="5452920" cy="78588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" descr="C:\Documents and Settings\admin\Рабочий стол\escrima sticks копия.png"/>
          <p:cNvPicPr/>
          <p:nvPr/>
        </p:nvPicPr>
        <p:blipFill>
          <a:blip r:embed="rId2"/>
          <a:stretch/>
        </p:blipFill>
        <p:spPr>
          <a:xfrm rot="21540000">
            <a:off x="2306160" y="3690720"/>
            <a:ext cx="5453280" cy="785520"/>
          </a:xfrm>
          <a:prstGeom prst="rect">
            <a:avLst/>
          </a:prstGeom>
          <a:ln w="0">
            <a:noFill/>
          </a:ln>
        </p:spPr>
      </p:pic>
      <p:sp>
        <p:nvSpPr>
          <p:cNvPr id="1808" name="TextBox 8"/>
          <p:cNvSpPr/>
          <p:nvPr/>
        </p:nvSpPr>
        <p:spPr>
          <a:xfrm>
            <a:off x="1108080" y="2998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eea"/>
                </a:solidFill>
                <a:latin typeface="Arial"/>
              </a:rPr>
              <a:t>Логические «Загадки – шут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TextBox 3"/>
          <p:cNvSpPr/>
          <p:nvPr/>
        </p:nvSpPr>
        <p:spPr>
          <a:xfrm>
            <a:off x="468360" y="8524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столе лежат в ряд три пало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 сделать среднюю крайней, не трогая е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0" name="Рисунок 5" descr=""/>
          <p:cNvPicPr/>
          <p:nvPr/>
        </p:nvPicPr>
        <p:blipFill>
          <a:blip r:embed="rId1"/>
          <a:stretch/>
        </p:blipFill>
        <p:spPr>
          <a:xfrm>
            <a:off x="468360" y="2309760"/>
            <a:ext cx="3301920" cy="3873600"/>
          </a:xfrm>
          <a:prstGeom prst="rect">
            <a:avLst/>
          </a:prstGeom>
          <a:ln w="0">
            <a:noFill/>
          </a:ln>
        </p:spPr>
      </p:pic>
      <p:sp>
        <p:nvSpPr>
          <p:cNvPr id="1811" name="Скругленный прямоугольник 14"/>
          <p:cNvSpPr/>
          <p:nvPr/>
        </p:nvSpPr>
        <p:spPr>
          <a:xfrm>
            <a:off x="3995640" y="2496960"/>
            <a:ext cx="4929120" cy="250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a6a6"/>
              </a:gs>
              <a:gs pos="100000">
                <a:srgbClr val="f8e7e7"/>
              </a:gs>
            </a:gsLst>
            <a:lin ang="16200000"/>
          </a:gradFill>
          <a:ln w="9360">
            <a:solidFill>
              <a:srgbClr val="8e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TextBox 7"/>
          <p:cNvSpPr/>
          <p:nvPr/>
        </p:nvSpPr>
        <p:spPr>
          <a:xfrm>
            <a:off x="4199040" y="3454560"/>
            <a:ext cx="49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</a:t>
            </a:r>
            <a:r>
              <a:rPr b="1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ереложить крайнюю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7:27:26Z</dcterms:created>
  <dc:creator>Helen</dc:creator>
  <dc:description/>
  <dc:language>en-US</dc:language>
  <cp:lastModifiedBy>User</cp:lastModifiedBy>
  <dcterms:modified xsi:type="dcterms:W3CDTF">2023-11-07T14:11:55Z</dcterms:modified>
  <cp:revision>72</cp:revision>
  <dc:subject/>
  <dc:title>Дидактическая   игра  в  дошкольном  возрасте</dc:title>
</cp:coreProperties>
</file>