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FA5-FE2F-467E-BCC3-F42E51B1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181-40CD-4B59-AC1E-22569F6C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7A056-00A1-473B-9A96-2E990FA9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92D0D-C9E7-4A0C-8522-61869067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5A5B3-5AF0-4344-8DA8-98E1F8A5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D6753-644C-47F7-9DA0-39D92827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B0FCB-1EAA-4584-ABFE-06829627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AE6B3-84D8-4C54-97D1-14B4BB15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A30CC-E2B5-4818-8952-A58081D0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30B89-148D-4C17-B19A-4ACDA2A6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81232-578F-4722-955C-7D6DDF97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03867-F743-4A8F-81C4-C91E0B41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E1A-4626-406E-84BA-BF0F764B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BF48A-56FE-4FB2-BF2D-90179B59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B389B-4B6B-4AC1-B083-BB360C17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3B9DB-D1B7-4A6D-AD6E-7C0CA363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9B3DE-16D2-421D-A273-F183791C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CD300-0A33-47BB-A1D1-08F3AC10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3B5B5-872D-47C7-9DAC-52C9CB19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7B00E-675C-4CD5-818E-EFD1D9E3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B17D9-4D0E-4000-965C-4F33C727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9F010-19F5-4656-9C98-8591B916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E3F2C-57DE-4C9A-8A97-04713535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9D5-CB6D-4938-972F-2D1B46C3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DCE2C-8B2B-4D5C-9269-0046FC93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379CFD-119A-48A3-9AB6-30BE1015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C821E7-6C5B-4948-A0EF-584EB9E0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E0C998-C36C-4B67-9920-D731752D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8EF7D2-3449-4E92-A037-BD49DA1C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469222-64A7-4697-A09E-E5DDEFD8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409AC0-9878-437D-9774-B67E19F0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308821-9291-4AB1-BC53-8F7D2B4C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9E6256-18F0-44B7-B019-8BFAD3F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FFDA4A-79C2-4E38-9A3D-1CFD8DAF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9E9D-C3E8-4CD7-A907-A848130A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D611ED-00B1-4133-9E6D-67D204F9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F3B4DC-065C-40C6-9FFC-BF78114E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D41B5D-953D-40A8-93BE-0E97F7DB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09524-3BAB-4D8F-B88B-73E1F3E0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98563-ADE8-43C7-8A8D-4FE27FF8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6602A-E477-4D12-8FEB-893F360F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A9197-00F8-49F4-92E1-FDF49305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4E6B9-26FC-4059-B1A4-D107AD3D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4EFB9-962F-4B23-B535-E9F0FAA3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F1048-7B9A-4BD6-9B38-5B8C9AD3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D2E2-CBEB-430B-B28E-09D821AF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40BD7-411B-4ABD-AC78-3A207BD6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14196-06EC-4F6A-9FFA-EBFC3E15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C8411-0CC0-4801-B966-EB9DF40D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D936D-7CED-4F08-A4E6-6D507548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1ABCF-51E0-4F5D-B195-021B282A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7EF130-4EB5-44F2-BEEE-9F93C29E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103DFE-619A-4D49-808A-23D4DE2A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6080C8-6EDD-495F-ADFE-448F8AD2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671943-6048-47DA-B77D-DF30A9EB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8D1719-CAFC-45D1-818C-BECE0258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4CB1-B474-48E3-990D-EEA2F48C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8D79FC-B7F4-452A-B507-2E3FCCDC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346970-651C-4C6F-87FD-128A75C9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9BF945-1326-4B60-8EF0-D40AC5EF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3893B0-77E9-4D2A-9557-0093E735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CF91DE-8ED0-40CC-9B03-446C6F72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0B4A2F-93B8-4E05-BE81-33DD857C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BC4188-8498-49CC-999E-DD72A63C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79D16-B59E-485D-8AAE-3C87AE4B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DBCB3-2FE3-4B21-B252-6469E2C5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04976-2AA2-4C31-B074-B0CE35D6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EE41-D51D-4BAA-A243-C8CE9EFB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C287B-5C30-46D8-A8B9-2BC61DD6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C6AD8-4CD9-4DEC-8D8A-C5D548F5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49A70-D929-495D-ADB0-460232C5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C6D22-D3E3-441F-9FD3-D245F6E8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9940A-6268-435E-9685-806D7C8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9BF63-8163-458E-BB98-30EBEC26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EB0141-D851-450A-8302-77BD9F3C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9FD54-78E0-4041-9F2D-B8F41E49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018AF-91DE-45AC-8BC6-81C74604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2777A-BC37-45DC-8EA8-78992A58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262C-DB5F-403C-88E9-AC8D95FF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2F37E-FD2D-44B5-AA5C-2CC7C7F3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7A023-C18B-4865-B4A1-DAFB2B3F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70A25-9673-4786-AFF6-769D613E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28E9C-10CA-4D44-8C2A-0FD7744A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22E24-95B9-4D67-99F5-2678BA64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3C0EB-3159-442E-BC30-24AC814F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5F921-E98E-42E5-BE3E-74B5F5AC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0B692-01D7-445A-8A80-B46630DC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C6D7B-3D92-4D15-8FF7-E2F9BE2B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69207-C3F8-4146-8098-AAE4841B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73F7-6522-4379-9B66-4DBDE668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6F3E7-2D64-4AF0-8BA5-340A6E27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6E8F7-3A86-4178-B7DB-568AC40E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4ABAF-4E7E-4B53-83B0-7661CBB5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4BD38-5686-4519-9D80-9E1F5570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2E601-084A-4151-983F-3FE094ED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263AC-4E74-49DD-A21A-A406B037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7E2A5-FC1F-440A-A90C-0B886557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9C964-99F1-4EE1-B5EF-8612D519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FDEF8-60D2-4F5E-9C41-5B118418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EE4D1-C282-42D7-BDFC-96C5C805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09E7-550E-40E1-9346-A88952E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61E4D-499A-4FCD-8F55-D311A0F3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9D27A-112A-49BD-AE10-CEE53D51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D00B1-7B9E-4113-9A2B-1E03B9FF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BE70B9-4585-4EEA-84E6-29BEF1D7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17BA17-FDA1-476C-8F8C-A54A68E8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5D0B9-28F5-4B43-AF6C-FC95BED0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5CE9E-1699-497F-B2F8-47373141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59E23-45DD-4F3C-9A92-8CCBF856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E0D6F-9C7A-406A-8F0C-C874AFC9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06C93-29BA-47F3-A84E-1B88B159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C29-2022-41F8-B3E5-91845555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9EDF-C0FE-4671-8B94-22C846ED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0997A-C669-4980-9AC7-9A047FF6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F49D4-DE93-4F3C-BFE8-74A8F657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3B074-11E8-4C56-B334-F079A6C5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502D9-842A-4F42-A7EC-92E35ACE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12ED2-B8E8-453C-9FE6-B1A9D6BF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85063-468C-4587-BC11-3C324443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074C4-CA2A-4E04-B895-3A635EE1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A2D0CE-7F77-4E35-9C40-B6A9DF53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BBC2F-4A81-43FD-B01A-7004FEE1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5F3882-D1D0-4BE6-AB7E-62E214BC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D340-BDC6-4714-8917-B5ACE181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52535C-994B-437E-9E13-819792E6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16B7F-1ADA-4844-8558-F7CD6BE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64C7EA-4285-4452-B386-F900D048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B25038-3E91-43F7-A8E3-945C730E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2F1E4-0023-4CB1-ACB1-EE8014BD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BBFAA-2147-411E-93A5-C6DDDD46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31B85-B3FA-4AF5-9C13-1F0C72C2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87634D-59E9-4E30-B81C-74FA924A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87C04F-BD80-45C2-9763-DFABF9EA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779D41-2F74-46A4-B4CA-8CFCC31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EAAD-D4C1-4BB2-B577-9F1233F8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82DB65-54E3-4475-A6E7-96C0876A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B80703-D31D-4843-A4E8-0AD82CAC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359BE-35DF-4665-ABDF-CEC1499F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DA1EF-97E7-4751-8594-A189A970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8D736-54E1-4EA8-B83B-9C83B8BC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E017E7-1C82-43D1-8888-7FDBE4DD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41D8F-2745-43A8-94B1-0F92E82D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DF935-5FBB-45A1-9EA7-BF94C4E0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7E88FE-6902-48C1-B9ED-25946C91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32613C-EA2D-488B-9785-869270C3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E5A0-E6E4-4BA1-B78D-00A70641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16143-BBAB-4CA2-B6FF-FCFF0DD0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B0BD3-75C4-4818-9C89-BC5591D0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EF2F07-E77C-4CFE-80C1-A3A0166F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8FA39F-1C96-4F23-A8C1-821779D1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37255-1DF9-47E6-813C-2F0C6809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A5762-1723-4B1D-B3D8-F77E6C97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7F80B1-CA5E-4890-BF22-7784337B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2909B6-7697-4582-AF58-7FF9100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1D2E9-EEA2-4D21-8697-CB65F8F8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19814F-236B-4675-87CC-416AB269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4FF6-D462-4884-98D0-C5C76BBD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D0DDA-28C0-4751-BA00-047AAF61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CA5497-AB57-4CD0-AC17-9BB76110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48BAA7-2447-4662-8C7E-29E971DB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F6679-FA0B-4297-87C5-B90FABE9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B577AE-DBBD-4114-9975-60F235DB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FD59A6-2B85-418E-B0C6-59998229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97D8BC-FBFD-4F69-9EEB-79D0A767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AC0B07-2367-41DE-9C21-7E81E682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91619-B148-4E57-8C3F-C5976543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D284A-AABF-4FA2-98F4-EA1BDAED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67D9-454B-4ED1-8EF1-EABD39A3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338983-F52E-4856-9194-583C2E88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EEE39-DF75-4654-BB4A-AAD13B85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AE8DFD-1BD3-4CF0-B715-3BCBA85D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D10D8F-659B-463B-84BC-9FB9E3D2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1A546F-4953-4386-A659-A978E08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2A109F-17E1-44E9-B5CD-47BE8184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8EFB0B-6B3D-4EFC-833F-E7C6239E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DC3570-C511-4D7F-A25C-8CFA2521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8208BE-AEC6-4817-8525-21A12C3C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AEF77D-8C16-4EC4-B513-6779824C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99D6-D26A-4A45-B7E9-4DEFBB24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61136F-D2DF-4EBF-AA56-748F0218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D14805-E5DC-433D-892E-CD0D826D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1FECEC-F254-480D-8FB1-44954AFA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3187C2-A26B-4D1E-96BA-6F178F6D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EF7117-EFB7-403D-BEDB-6E07FB56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8FC3A2-F1F7-46C9-8969-73E5F59D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466894-A171-409A-9F0C-B34CC1EC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638C27-F5C2-4C84-A376-554D1A54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7BFD44-3738-4F7B-9F42-4971AECD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CC4417-D3AF-482B-837C-31E71E2D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3A5E-8ED5-4C30-9868-13022F4E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EA6D9F-A76E-4FDF-BE53-B4260C0F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1B319D-EE86-450D-BDB1-F5FE3770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A40CC9-7D0B-4037-B905-7FD1A91E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D894BA-306D-4EC0-BA89-66EFA088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ECC2DE-6511-449D-8019-5AE2A895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08A8A9-CB2D-4FAF-9A21-7E1608F2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A8B739-3C3C-40F7-8759-42001699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6F9662-4F64-48EE-B24E-9066A788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D7BFA7-CDD7-45C3-9C50-4BD092A4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3F5DD1-3EE0-4A91-AF17-B595EEB4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B1548-0953-4BC6-A652-5D5CA9B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32CC04-89D3-49F1-8B34-EC943D10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035FB5-EF65-4D84-BB3D-1FCD9953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5FEBB8-5E2D-4884-9F1D-5BF3F2E2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97FD92-5D32-41E3-9781-D3CB4E4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732E1B-5024-47C7-90D4-7DEE3B67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7EE7B5-4074-483E-9C41-ADB63BD6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2C52FC-EA06-4A78-9F38-826FE8FE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96ADDA-1F6F-4BCA-A3FD-7EFBE3B6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4278C8-AE4B-4BAD-AA3A-B2FBFE82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DE3D39-99B9-420A-9D1C-3BBBD5BE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9EBDE-07B6-445E-BE3E-6F79AB6E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1EDF20-6B58-4F72-B39F-02BE1661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ADA02C-9A51-4E26-96B7-C57A8EFB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F6700D-DD1C-49AD-9731-2A1BDB41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7D3974-6EF5-4B7A-9BC8-8F66F519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AFDB16-9BF2-40E8-B133-3A0CD2E9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E9561A-93C4-4D86-9C82-4EB8634C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6EFC5E-925E-45FC-A3EC-F2E6E98A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A20ACC-FB81-4E14-A982-E1F0DD5A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FE9953-7F4A-4E82-84D8-0E854607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9AB72A-4A90-434E-BAC1-31C00879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64A-BB17-4FC3-8C5C-C01E00AF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DF9BF-E696-49C2-A6D8-BB218913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9E6A2F-6D04-487B-9261-A447B5BB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EF72D3-1229-4179-9774-9396E83A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64E934-3AED-4D92-8D30-11F46BAA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054C77-11BD-42B2-9F4B-5CB2F59E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E84309-2F4B-4D99-9E68-32AA753A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BD91FB-5E32-4044-BD9E-8923BE89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F7D056-0059-4689-A800-2FDCF1E3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471835-3530-4BC2-838B-6E5182FF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25F6FF-FB62-44E1-9AFB-1FCD6CC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70745F-4E17-48E2-99C3-0BFB48EA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6E9F-DC02-4E99-8EF7-7B190A56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06D12C-8028-4BED-B91D-2023DD36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4E2A99-579C-40AF-AD6B-DCE1C760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036C63-4B69-4B59-BBF6-92A57435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17B73F-8647-410D-8F5E-0CC278B8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10D3AC-9806-4089-B7DA-C5E3AE92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778758-C57E-4698-9D26-45667D0F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5705B7-F3F7-4BE0-B4E4-817974E9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E623D0-D7E3-42B8-867C-39AFEDBE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5ADEB0-FD05-4511-9C8C-0583DBF8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D523AC-B97C-4BB5-B7F5-AFE392F7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93C8-025E-4490-8C48-E18B9DCC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83DA91-80E5-4FF3-AB63-5539DE11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303656-57CE-4392-927A-306FE8B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4C5E40-E2AC-40E7-9267-939BDFB0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B68A98-5A76-4A12-9433-B32410AA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8D87EB-49C8-4F7D-A654-13CE5F2F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541730-641F-40A6-82C3-502578EE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900F90-714C-447B-B843-956E4114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C9F424-2D6F-4D07-B143-A065BEA1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32AE44-9428-4310-8A32-D1DA1113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1C5B49-40A4-44B3-A38F-000AC2B1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F35C-F0CE-4890-A4B5-A1849470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370E0F-B12A-41D1-8DBD-C7E2932D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1EAD78-AAC8-443B-A7AD-8699802A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01A09F-C93A-492F-9974-444C416A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3AF4D8-5494-44E3-A2F0-4C48879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726665-005D-4EC6-B3C4-CF8CC563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CB3240-DCED-41A2-9B1F-C170D1CB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90E7BC-AF1D-4B12-90E5-AF8215CD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B75CB0-0EA3-46FE-8FF7-2EA6CDDC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92C7CB-DC9F-46A7-96DA-F26C4FCB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45D2B7-B81B-4FF9-9528-17AB7C32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1642-CCFC-4DB7-B53F-157721F0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2E3F0B-3388-4F71-9681-1057EF22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75B2D7-7CF4-4B28-833B-FAD05413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B46E0B-0116-48B7-89CA-16DB27E5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C94500-8DD1-4ACE-B310-663E743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B59A41-ED6C-4E2A-BE85-7B7D7751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550F67-0238-4738-B3F9-8EBFAF04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4FCFC2-1281-42F2-BDDD-38AAD84D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8C02A7-3783-463A-B22C-F2D7A1A0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2454F7-16A5-48FB-AEB7-96B3C1DD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96FA-075C-4BE8-A2E2-F7F2B5F9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712E-FB1A-4686-8D43-8A329CEB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9582-B16B-43C7-9FAF-8B9E8B75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445B-A4D3-4AFC-8F0C-212AD816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C33E2-D1C6-4124-B731-B0233B2D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035-9C7A-461C-85C2-86AAB47E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3CE46-76C4-43B3-A1AE-DAC2E4A9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2054-34A9-42E3-9B9A-5020DCD5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72F81-81A6-44A9-997F-C9F275ED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BA3FE-BCF9-4132-9271-4267FD18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5720-931B-4D07-8311-E9F7710D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6E41-A3D8-4A7D-87AE-D58E9E29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08D23-A8C7-4221-8129-6DBA8F01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6084-300B-4839-9941-16ACEAF5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C45B-5BD2-4A87-93EA-A9B19422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9CF02-8649-41E6-B549-0975F901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A11-D203-4650-B291-8D0EEB3B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84D50-A862-48CB-A1EC-FFB79E7B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9C014-1510-4A6F-A619-A94BAF3B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C75CF-B7F8-4E2E-AE3F-B6563D95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2B4A-FB23-4F73-92FF-F9BB256B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85A8C-24E5-4782-8A4E-5C137684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6D21D-C56E-40B1-9186-373999D1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67B0D-BB88-479B-8C61-AAB0A14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04A6-7EB4-4A94-B751-7F46F59F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6C12-C928-40C1-BD22-D6B2F0B6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EAA8-F102-4B34-9B5F-8087FB96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32D-4BAA-446C-A0BA-4FA517BC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16E7-7291-45EE-9A1A-F13E8BF5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A62F-DF9D-4726-9E8E-D0FEA293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C1772-D412-4AA0-8EBC-52C9EC08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ADF96-BDEA-448C-9B1E-70142046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FCC92-D98A-4CBA-8424-3354345F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B2EBC-EDE0-4CA0-973D-0A85CF57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20216-63F5-4068-A451-07F93544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55FD6-43FD-423F-A2A0-8421543E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4EEAC-FFBE-40AF-A41E-3CCAC5E2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F1436-432A-4A7A-B089-82822732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79B-A341-4A60-A899-75FACDC1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443A0-7D78-4232-8866-B2076064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5EC6E-303D-477B-A04F-69BC70C5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39A26-45B9-4842-BB7B-A0625B50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507BB-4829-4769-9BAD-D68AD26A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3820A-A363-4949-86BC-D7741728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F0459-1F4D-4287-9606-E2003F36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173B3-58D2-4FB3-B6A4-6E994EC8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CFCB9-5B7D-4E11-8ED5-010A0C8B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5E812-5DD7-4014-9EAE-5E106D26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866A9-43D0-465F-BCFF-F0ADDCFD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D41-E579-46CC-B9F6-E9B99EDF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EB0FF-C2C0-478A-971E-96B53486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FC315-B3F9-4BC4-89B4-C2C9CE8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60394-2A44-4CD5-8502-5ADAD525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0737F-8683-4C5F-98F5-C5888829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88903-A918-4F7F-BC43-1703E93B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7E872-0550-464E-828E-50224FFA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9A807-A2FA-47F6-94DD-94727C7F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A5A38-5533-487F-A584-98237070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BA82F-6DD0-4118-BBDA-8F132ECD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20DE7-4858-450A-AA9D-E8409BFF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731-C093-4DB4-A27B-D894AC89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02043-749F-466F-BED3-987E5CEE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28AC1-A98D-437E-B1E3-9AB2788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89C84-EC7D-4800-805B-89827EB6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76AFD-EC6D-46D0-A8DB-5C2CF0F4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C58F7-5A98-4E96-8065-8D020F3A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50376-0EFC-4E9B-BD0A-7B736EAF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05850-6B82-4F0C-892D-21D3470F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231DF-59E9-452A-B141-4978B765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CF29E-C111-4A98-8BA8-8FA6926F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46161-76B9-4F06-AEF2-25FDF502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9523-E73F-4685-AA04-8C15C57ACBF7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CB9D-F1A4-48AC-A3FA-A87B581C72BF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dt" idx="2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A943-56EF-48F7-A52D-396627C60986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dt" idx="32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0B3E-66E7-4928-A426-8C65EBB5E978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37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7A80-53A7-4067-BCCB-D2E2FC50A785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7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8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2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3CFC-99A6-40F1-ABE0-955E6B652F9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809E-BA48-4700-B8A1-3867791B95F6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F034-1160-4702-B78B-66E916E1DE46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8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9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7D9F-0A47-47DE-AD82-64EED385460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5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6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49B2-1AFB-4481-A3F3-ECF56BEF5B8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2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3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sldNum" idx="5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BB83-1491-4332-8A1D-C103F5A33116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C73A-2AAE-4883-B239-6AB4CCEF1EC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8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0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6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8BE8-22AC-4485-B359-E2093EF6907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3137-EA02-457A-AF71-A312F6717FA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2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4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 type="sldNum" idx="66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10F9-4B0A-497F-A3C5-53987FFD6E0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sldNum" idx="6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23B2-6216-484E-B463-4124299DBC6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6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7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7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704F-840F-444E-BFA9-748F6EC1136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3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4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 type="dt" idx="7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 type="ftr" idx="7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 type="sldNum" idx="7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A045-163F-46C0-A0B5-3C54AC304B9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0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 type="dt" idx="7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 type="ftr" idx="7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 type="sldNum" idx="7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7B6C-5E37-4D67-80C5-8E2DEF876A38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dt" idx="7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ftr" idx="8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sldNum" idx="8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FB7A-6B7C-412F-B885-B7846693E98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6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8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8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8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1BD8-3256-4655-BB4B-2B4394CC2F7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7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7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 type="dt" idx="8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 type="ftr" idx="8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 type="sldNum" idx="8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28FF-2A4D-4B9B-9C1B-48ADFCE6657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3682-2E92-4173-910F-A1B8F4CD77BD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50DC-8B42-4E2F-A913-523428054F02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7B2E-8F56-4E3A-96B7-484F1102F9C7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5841-03AD-445E-9D16-05A8943A0295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5924-86D0-48E0-BFE3-8816EA95AC33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4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C358-87C3-4F28-9959-07BC6FBAF35B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034D-CEBE-4D94-A74E-2F06972A71E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1441440" y="2871360"/>
            <a:ext cx="64008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ПОРНАЯ БАЗОВАЯ ПЛОЩАДК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«СОВРЕМЕННЫЕ ТЕХНОЛОГИИ В ПОЗНАВАТЕЛЬНОМ РАЗВИТИЕ ДЕТЕЙ ДОШКОЛЬНОГО ВОЗРАСТА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20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6d19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f6d19"/>
                </a:solidFill>
                <a:latin typeface="Georgia"/>
              </a:rPr>
              <a:t>«Игровые занимательные задачи для развития логического мышления детей дошкольного возраста»</a:t>
            </a:r>
            <a:endParaRPr b="0" lang="en-US" sz="3200" spc="-1" strike="noStrike">
              <a:solidFill>
                <a:srgbClr val="e0a208"/>
              </a:solidFill>
              <a:latin typeface="Georgia"/>
            </a:endParaRPr>
          </a:p>
        </p:txBody>
      </p:sp>
      <p:pic>
        <p:nvPicPr>
          <p:cNvPr id="1784" name="Рисунок 1" descr=""/>
          <p:cNvPicPr/>
          <p:nvPr/>
        </p:nvPicPr>
        <p:blipFill>
          <a:blip r:embed="rId1"/>
          <a:stretch/>
        </p:blipFill>
        <p:spPr>
          <a:xfrm>
            <a:off x="5711760" y="3998880"/>
            <a:ext cx="3087720" cy="2336760"/>
          </a:xfrm>
          <a:prstGeom prst="rect">
            <a:avLst/>
          </a:prstGeom>
          <a:ln w="0">
            <a:noFill/>
          </a:ln>
        </p:spPr>
      </p:pic>
      <p:sp>
        <p:nvSpPr>
          <p:cNvPr id="1785" name="TextBox 1"/>
          <p:cNvSpPr/>
          <p:nvPr/>
        </p:nvSpPr>
        <p:spPr>
          <a:xfrm>
            <a:off x="344520" y="5157720"/>
            <a:ext cx="42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ДОБУ д/с «Бурат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Шубина К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8 ноября 202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TextBox 2"/>
          <p:cNvSpPr/>
          <p:nvPr/>
        </p:nvSpPr>
        <p:spPr>
          <a:xfrm>
            <a:off x="539640" y="404640"/>
            <a:ext cx="761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Как с помощью двух палочек образовать на столе квадр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TextBox 4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Скругленный прямоугольник 10"/>
          <p:cNvSpPr/>
          <p:nvPr/>
        </p:nvSpPr>
        <p:spPr>
          <a:xfrm>
            <a:off x="1785960" y="1890720"/>
            <a:ext cx="5572080" cy="2428920"/>
          </a:xfrm>
          <a:prstGeom prst="roundRect">
            <a:avLst>
              <a:gd name="adj" fmla="val 16667"/>
            </a:avLst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6"/>
          <p:cNvSpPr/>
          <p:nvPr/>
        </p:nvSpPr>
        <p:spPr>
          <a:xfrm>
            <a:off x="2033640" y="2741760"/>
            <a:ext cx="50767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положить на угол стола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TextBox 2"/>
          <p:cNvSpPr/>
          <p:nvPr/>
        </p:nvSpPr>
        <p:spPr>
          <a:xfrm>
            <a:off x="395280" y="333360"/>
            <a:ext cx="856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осло четыре берёз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 каждой берёзе по четыре больших вет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 каждой большой ветке по четыре маленьких вет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 каждой маленькой ветке по четыре ябл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колько всего ябл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10"/>
          <p:cNvSpPr/>
          <p:nvPr/>
        </p:nvSpPr>
        <p:spPr>
          <a:xfrm>
            <a:off x="1916280" y="3000240"/>
            <a:ext cx="5572080" cy="242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a6a6"/>
              </a:gs>
              <a:gs pos="100000">
                <a:srgbClr val="f8e7e7"/>
              </a:gs>
            </a:gsLst>
            <a:lin ang="16200000"/>
          </a:gradFill>
          <a:ln w="9360">
            <a:solidFill>
              <a:srgbClr val="8e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Box 4"/>
          <p:cNvSpPr/>
          <p:nvPr/>
        </p:nvSpPr>
        <p:spPr>
          <a:xfrm>
            <a:off x="2655720" y="3790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ёзе яблоки не раст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ОД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TextBox 2"/>
          <p:cNvSpPr/>
          <p:nvPr/>
        </p:nvSpPr>
        <p:spPr>
          <a:xfrm>
            <a:off x="611280" y="33336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столе лежало 4 яблока, одно разрезали пополам. Сколько яблок стало на стол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1" name="Picture 10" descr="E:\ПРЕЗЕНТАЦИЯ УЧЕНИК\КАРТИНКИ\Картинки для счета\1481509.png"/>
          <p:cNvPicPr/>
          <p:nvPr/>
        </p:nvPicPr>
        <p:blipFill>
          <a:blip r:embed="rId1"/>
          <a:stretch/>
        </p:blipFill>
        <p:spPr>
          <a:xfrm>
            <a:off x="1790640" y="2354400"/>
            <a:ext cx="1887480" cy="1682640"/>
          </a:xfrm>
          <a:prstGeom prst="rect">
            <a:avLst/>
          </a:prstGeom>
          <a:ln w="0">
            <a:noFill/>
          </a:ln>
        </p:spPr>
      </p:pic>
      <p:pic>
        <p:nvPicPr>
          <p:cNvPr id="1822" name="Picture 10" descr="E:\ПРЕЗЕНТАЦИЯ УЧЕНИК\КАРТИНКИ\Картинки для счета\1481509.png"/>
          <p:cNvPicPr/>
          <p:nvPr/>
        </p:nvPicPr>
        <p:blipFill>
          <a:blip r:embed="rId2"/>
          <a:stretch/>
        </p:blipFill>
        <p:spPr>
          <a:xfrm>
            <a:off x="4341960" y="2354400"/>
            <a:ext cx="1887480" cy="1682640"/>
          </a:xfrm>
          <a:prstGeom prst="rect">
            <a:avLst/>
          </a:prstGeom>
          <a:ln w="0">
            <a:noFill/>
          </a:ln>
        </p:spPr>
      </p:pic>
      <p:pic>
        <p:nvPicPr>
          <p:cNvPr id="1823" name="Picture 10" descr="E:\ПРЕЗЕНТАЦИЯ УЧЕНИК\КАРТИНКИ\Картинки для счета\1481509.png"/>
          <p:cNvPicPr/>
          <p:nvPr/>
        </p:nvPicPr>
        <p:blipFill>
          <a:blip r:embed="rId3"/>
          <a:stretch/>
        </p:blipFill>
        <p:spPr>
          <a:xfrm>
            <a:off x="3065400" y="2314440"/>
            <a:ext cx="1887480" cy="1683000"/>
          </a:xfrm>
          <a:prstGeom prst="rect">
            <a:avLst/>
          </a:prstGeom>
          <a:ln w="0">
            <a:noFill/>
          </a:ln>
        </p:spPr>
      </p:pic>
      <p:pic>
        <p:nvPicPr>
          <p:cNvPr id="1824" name="Picture 10" descr="E:\ПРЕЗЕНТАЦИЯ УЧЕНИК\КАРТИНКИ\Картинки для счета\1481509.png"/>
          <p:cNvPicPr/>
          <p:nvPr/>
        </p:nvPicPr>
        <p:blipFill>
          <a:blip r:embed="rId4"/>
          <a:stretch/>
        </p:blipFill>
        <p:spPr>
          <a:xfrm>
            <a:off x="5618160" y="2314440"/>
            <a:ext cx="1889280" cy="1683000"/>
          </a:xfrm>
          <a:prstGeom prst="rect">
            <a:avLst/>
          </a:prstGeom>
          <a:ln w="0">
            <a:noFill/>
          </a:ln>
        </p:spPr>
      </p:pic>
      <p:sp>
        <p:nvSpPr>
          <p:cNvPr id="1825" name="Скругленный прямоугольник 10"/>
          <p:cNvSpPr/>
          <p:nvPr/>
        </p:nvSpPr>
        <p:spPr>
          <a:xfrm>
            <a:off x="1735200" y="2214720"/>
            <a:ext cx="5572080" cy="2428560"/>
          </a:xfrm>
          <a:prstGeom prst="roundRect">
            <a:avLst>
              <a:gd name="adj" fmla="val 16667"/>
            </a:avLst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722160" y="2743200"/>
            <a:ext cx="77724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Georgia"/>
              </a:rPr>
              <a:t>ПЕРЕД ВАМИ НЕСКОЛЬКО МАТЕМАТИЧЕСКИХ НАБОРОВ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Georgia"/>
              </a:rPr>
              <a:t>ВАША ЗАДАЧА, СОЗДАТЬ ИЗ ЭЛЕМЕНТОВ НАБОРА ПЕРСОНАЖЕЙ СКАЗКИ. ЗАТЕМ НУЖНО БУДЕТ РАССКАЗАТЬ ЕЕ НАМ. ЖЕЛАЮ ВАМ УДАЧИ! МОЖЕТЕ ДОПОЛНЯТЬ СКАЗКУ ЭЛЕМЕНТАМИ ПЕЙЗАЖА ИЛИ ЕЩЕ КАКИМИ-ТО ФИГУРАМИ. ЗДЕСЬ МОЖЕТЕ ДАТЬ ВОЛЮ СВОЕМУ ВООБРАЖЕНИЮ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title"/>
          </p:nvPr>
        </p:nvSpPr>
        <p:spPr>
          <a:xfrm>
            <a:off x="722160" y="76500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«Головоломки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(игры на составление плоскостных изображений предметов, животных, птиц, домов из специальных наборов геометрических фигур)</a:t>
            </a:r>
            <a:br>
              <a:rPr sz="2400"/>
            </a:br>
            <a:endParaRPr b="0" lang="en-US" sz="2400" spc="-1" strike="noStrike">
              <a:solidFill>
                <a:srgbClr val="e0a208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f6d19"/>
                </a:solidFill>
                <a:latin typeface="Georgia"/>
              </a:rPr>
              <a:t>Дидактические   игры с кружками</a:t>
            </a:r>
            <a:endParaRPr b="0" lang="en-US" sz="42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29" name="Блок-схема: узел 4"/>
          <p:cNvSpPr/>
          <p:nvPr/>
        </p:nvSpPr>
        <p:spPr>
          <a:xfrm>
            <a:off x="468360" y="3890880"/>
            <a:ext cx="1008000" cy="974880"/>
          </a:xfrm>
          <a:prstGeom prst="flowChartConnector">
            <a:avLst/>
          </a:prstGeom>
          <a:solidFill>
            <a:srgbClr val="ffff0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Блок-схема: узел 5"/>
          <p:cNvSpPr/>
          <p:nvPr/>
        </p:nvSpPr>
        <p:spPr>
          <a:xfrm>
            <a:off x="1258920" y="5207040"/>
            <a:ext cx="1008000" cy="97308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Блок-схема: узел 6"/>
          <p:cNvSpPr/>
          <p:nvPr/>
        </p:nvSpPr>
        <p:spPr>
          <a:xfrm>
            <a:off x="6748560" y="5207040"/>
            <a:ext cx="1008000" cy="973080"/>
          </a:xfrm>
          <a:prstGeom prst="flowChartConnector">
            <a:avLst/>
          </a:prstGeom>
          <a:solidFill>
            <a:srgbClr val="00b0f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Блок-схема: узел 7"/>
          <p:cNvSpPr/>
          <p:nvPr/>
        </p:nvSpPr>
        <p:spPr>
          <a:xfrm>
            <a:off x="7524720" y="3927600"/>
            <a:ext cx="1008000" cy="973080"/>
          </a:xfrm>
          <a:prstGeom prst="flowChartConnector">
            <a:avLst/>
          </a:prstGeom>
          <a:solidFill>
            <a:srgbClr val="ffc00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Блок-схема: узел 8"/>
          <p:cNvSpPr/>
          <p:nvPr/>
        </p:nvSpPr>
        <p:spPr>
          <a:xfrm>
            <a:off x="6875640" y="2565360"/>
            <a:ext cx="1009440" cy="974880"/>
          </a:xfrm>
          <a:prstGeom prst="flowChartConnector">
            <a:avLst/>
          </a:prstGeom>
          <a:solidFill>
            <a:srgbClr val="5fa326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499"/>
              </a:spcBef>
              <a:buClr>
                <a:srgbClr val="7fd13b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Georgia"/>
              </a:rPr>
              <a:t>РАССТАВЬ КРУЖКИ ТАК, ЧТОБЫ БЕЛЫЙ БЫЛ МЕЖДУ ЖЕЛТЫМ И КРАСНЫМ, А ЖЕЛТЫЙ БЫЛ РЯДОМ С ЗЕЛЕНЫ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ctr">
              <a:spcBef>
                <a:spcPts val="499"/>
              </a:spcBef>
              <a:buClr>
                <a:srgbClr val="7fd13b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Georgia"/>
              </a:rPr>
              <a:t>РАССТАВЬ КРУЖКИ ТАК, ЧТОБЫ КРАСНЫЙ БЫЛ МЕЖДУ СИНИМ И ЗЕЛЕНЫМ, А ЗЕЛЕНЫЙ БЫЛ РЯДОМ С ЖЕЛТЫ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ctr">
              <a:spcBef>
                <a:spcPts val="499"/>
              </a:spcBef>
              <a:buClr>
                <a:srgbClr val="7fd13b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Прямоугольник 31"/>
          <p:cNvSpPr/>
          <p:nvPr/>
        </p:nvSpPr>
        <p:spPr>
          <a:xfrm>
            <a:off x="755640" y="333360"/>
            <a:ext cx="734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атическое использование дидактических игр в разных видах обучения, различного по характеру материала, является эффективным средством активизации учебной и воспитательной деятельности дошкольников, положительно влияющим на повышение качества знаний, умений и навыков детей, развитие умственной деятельности. Словом, дидактические игры  и игровые упражнения заслуживают право дополнить традиционные формы занятий дошк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Прямоугольник 3"/>
          <p:cNvSpPr/>
          <p:nvPr/>
        </p:nvSpPr>
        <p:spPr>
          <a:xfrm>
            <a:off x="971640" y="3244680"/>
            <a:ext cx="7296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7" name="Рисунок 4" descr=""/>
          <p:cNvPicPr/>
          <p:nvPr/>
        </p:nvPicPr>
        <p:blipFill>
          <a:blip r:embed="rId1"/>
          <a:stretch/>
        </p:blipFill>
        <p:spPr>
          <a:xfrm>
            <a:off x="2771640" y="0"/>
            <a:ext cx="3349800" cy="3416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/>
          </p:nvPr>
        </p:nvSpPr>
        <p:spPr>
          <a:xfrm>
            <a:off x="1042560" y="2743200"/>
            <a:ext cx="680580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5b6f"/>
                </a:solidFill>
                <a:latin typeface="Georgia"/>
              </a:rPr>
              <a:t>ОСНОВНАЯ ФОРМА ПОЗНАНИЯ РЕБЕНКОМ ОКРУЖАЮЩЕЙ ДЕЙСТВИТЕЛЬНОСТИ. ДИДАКТИЧЕСКАЯ ИГРА ПРЕДСТАВЛЯЕТ СОБОЙ МНОГОПЛАНОВОЕ, СЛОЖНОЕ ПЕДАГОГИЧЕСКОЕ ЯВЛЕНИЕ: ОНА ЯВЛЯЕТСЯ И ИГРОВЫМ МЕТОДОМ ОБУЧЕНИЯ ДЕТЕЙ ДОШКОЛЬНОГО ВОЗРАСТА, И ФОРМОЙ ОБУЧЕНИЯ, И САМОСТОЯТЕЛЬНОЙ ИГРОВОЙ ДЕЯТЕЛЬНОСТЬЮ, И СРЕДСТВОМ ВСЕСТОРОННЕГО ВОСПИТАНИЯ ЛИЧНОСТИ РЕБЕН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Игра в дошкольном возрасте –</a:t>
            </a:r>
            <a:endParaRPr b="0" lang="en-US" sz="4200" spc="-1" strike="noStrike">
              <a:solidFill>
                <a:srgbClr val="e0a208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271080" y="3794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f6d19"/>
                </a:solidFill>
                <a:latin typeface="Georgia"/>
              </a:rPr>
              <a:t>Дидактическая  игра с палочками на пространственное преобразование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pic>
        <p:nvPicPr>
          <p:cNvPr id="1789" name="Содержимое 7" descr=""/>
          <p:cNvPicPr/>
          <p:nvPr/>
        </p:nvPicPr>
        <p:blipFill>
          <a:blip r:embed="rId1"/>
          <a:stretch/>
        </p:blipFill>
        <p:spPr>
          <a:xfrm>
            <a:off x="109440" y="1341360"/>
            <a:ext cx="8925120" cy="5138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f6d19"/>
                </a:solidFill>
                <a:latin typeface="Georgia"/>
              </a:rPr>
              <a:t>ИГРА СО СЧЕТНЫМИ ПАЛОЧКАМИ</a:t>
            </a:r>
            <a:br>
              <a:rPr sz="3300"/>
            </a:b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91" name="Прямоугольник 3"/>
          <p:cNvSpPr/>
          <p:nvPr/>
        </p:nvSpPr>
        <p:spPr>
          <a:xfrm>
            <a:off x="395280" y="1268280"/>
            <a:ext cx="396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Мы шесть палочек возьм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 построим новый до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Если 2 перелож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В доме том не смогут ж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Он уже не дом, а фла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Кто сумеет сделать т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Захотелось покопа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Надо палочку убр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 переложить друг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Так лопатку получу 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А у вас она готов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Передвинем палку с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А внизу одну возьм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 в коробку убер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Вышел стульчи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Отдыхайт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Сколько палочек? Считай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Сосчитал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х 4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Прямоугольник 4"/>
          <p:cNvSpPr/>
          <p:nvPr/>
        </p:nvSpPr>
        <p:spPr>
          <a:xfrm>
            <a:off x="4932360" y="1341360"/>
            <a:ext cx="338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Ножки вы раздвиньте шир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Спинку надо положи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Будет стул столом служит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Если вам не надое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Принимаемся за де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Сделаем дорожны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ли треугольный фла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Снова 2 перелож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 стрелу мы получил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Только вот стрела сломалась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Палочка одна остала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Мы ее на стол положим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Треугольник сделать смож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Рисунок 1" descr=""/>
          <p:cNvPicPr/>
          <p:nvPr/>
        </p:nvPicPr>
        <p:blipFill>
          <a:blip r:embed="rId1"/>
          <a:stretch/>
        </p:blipFill>
        <p:spPr>
          <a:xfrm>
            <a:off x="669960" y="244440"/>
            <a:ext cx="810900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TextBox 2"/>
          <p:cNvSpPr/>
          <p:nvPr/>
        </p:nvSpPr>
        <p:spPr>
          <a:xfrm>
            <a:off x="468360" y="260280"/>
            <a:ext cx="828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врик-головоломка "Круги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внимания, памяти, мелкой моторики, пространственного представления, логического мышления, вооб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5" name="Picture 2" descr=""/>
          <p:cNvPicPr/>
          <p:nvPr/>
        </p:nvPicPr>
        <p:blipFill>
          <a:blip r:embed="rId1"/>
          <a:stretch/>
        </p:blipFill>
        <p:spPr>
          <a:xfrm>
            <a:off x="324000" y="139068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1796" name="Рисунок 6" descr=""/>
          <p:cNvPicPr/>
          <p:nvPr/>
        </p:nvPicPr>
        <p:blipFill>
          <a:blip r:embed="rId2"/>
          <a:stretch/>
        </p:blipFill>
        <p:spPr>
          <a:xfrm>
            <a:off x="3419640" y="2708280"/>
            <a:ext cx="5506920" cy="3673440"/>
          </a:xfrm>
          <a:prstGeom prst="rect">
            <a:avLst/>
          </a:prstGeom>
          <a:ln w="0">
            <a:noFill/>
          </a:ln>
        </p:spPr>
      </p:pic>
      <p:sp>
        <p:nvSpPr>
          <p:cNvPr id="1797" name="Блок-схема: узел 8"/>
          <p:cNvSpPr/>
          <p:nvPr/>
        </p:nvSpPr>
        <p:spPr>
          <a:xfrm>
            <a:off x="6691320" y="1112760"/>
            <a:ext cx="1008000" cy="974880"/>
          </a:xfrm>
          <a:prstGeom prst="flowChartConnector">
            <a:avLst/>
          </a:prstGeom>
          <a:solidFill>
            <a:srgbClr val="ffff0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Блок-схема: узел 9"/>
          <p:cNvSpPr/>
          <p:nvPr/>
        </p:nvSpPr>
        <p:spPr>
          <a:xfrm>
            <a:off x="7770960" y="1862280"/>
            <a:ext cx="1008000" cy="97308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Блок-схема: узел 10"/>
          <p:cNvSpPr/>
          <p:nvPr/>
        </p:nvSpPr>
        <p:spPr>
          <a:xfrm>
            <a:off x="488880" y="4653000"/>
            <a:ext cx="1008000" cy="973080"/>
          </a:xfrm>
          <a:prstGeom prst="flowChartConnector">
            <a:avLst/>
          </a:prstGeom>
          <a:solidFill>
            <a:srgbClr val="00b0f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Блок-схема: узел 11"/>
          <p:cNvSpPr/>
          <p:nvPr/>
        </p:nvSpPr>
        <p:spPr>
          <a:xfrm>
            <a:off x="1954080" y="5300640"/>
            <a:ext cx="1008360" cy="974880"/>
          </a:xfrm>
          <a:prstGeom prst="flowChartConnector">
            <a:avLst/>
          </a:prstGeom>
          <a:solidFill>
            <a:srgbClr val="5fa326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TextBox 2"/>
          <p:cNvSpPr/>
          <p:nvPr/>
        </p:nvSpPr>
        <p:spPr>
          <a:xfrm>
            <a:off x="1619280" y="26028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Arial"/>
                <a:ea typeface="Arial"/>
              </a:rPr>
              <a:t>Игра </a:t>
            </a:r>
            <a:r>
              <a:rPr b="1" i="1" lang="ru-RU" sz="2400" spc="-1" strike="noStrike">
                <a:solidFill>
                  <a:srgbClr val="111111"/>
                </a:solidFill>
                <a:latin typeface="Arial"/>
                <a:ea typeface="Arial"/>
              </a:rPr>
              <a:t>«Собери круги по цвету»</a:t>
            </a:r>
            <a:br>
              <a:rPr sz="2400"/>
            </a:br>
            <a:r>
              <a:rPr b="1" lang="ru-RU" sz="2400" spc="-1" strike="noStrike">
                <a:solidFill>
                  <a:srgbClr val="111111"/>
                </a:solidFill>
                <a:latin typeface="Arial"/>
                <a:ea typeface="Arial"/>
              </a:rPr>
              <a:t>Ребенку дается инструкция найти половинки кругов красного </a:t>
            </a:r>
            <a:r>
              <a:rPr b="1" i="1" lang="ru-RU" sz="2400" spc="-1" strike="noStrike">
                <a:solidFill>
                  <a:srgbClr val="111111"/>
                </a:solidFill>
                <a:latin typeface="Arial"/>
                <a:ea typeface="Arial"/>
              </a:rPr>
              <a:t>(желтого, зеленого, фиолетового)</a:t>
            </a:r>
            <a:r>
              <a:rPr b="1" lang="ru-RU" sz="2400" spc="-1" strike="noStrike">
                <a:solidFill>
                  <a:srgbClr val="111111"/>
                </a:solidFill>
                <a:latin typeface="Arial"/>
                <a:ea typeface="Arial"/>
              </a:rPr>
              <a:t> цвета и собрать цел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2" name="Рисунок 4" descr=""/>
          <p:cNvPicPr/>
          <p:nvPr/>
        </p:nvPicPr>
        <p:blipFill>
          <a:blip r:embed="rId1"/>
          <a:stretch/>
        </p:blipFill>
        <p:spPr>
          <a:xfrm>
            <a:off x="2705040" y="2200320"/>
            <a:ext cx="5940360" cy="4448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TextBox 2"/>
          <p:cNvSpPr/>
          <p:nvPr/>
        </p:nvSpPr>
        <p:spPr>
          <a:xfrm>
            <a:off x="2441520" y="946080"/>
            <a:ext cx="7559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Сколько концов у па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Сколько концов у двух пал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А у двух с полови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Скругленный прямоугольник 9"/>
          <p:cNvSpPr/>
          <p:nvPr/>
        </p:nvSpPr>
        <p:spPr>
          <a:xfrm>
            <a:off x="2300400" y="3720960"/>
            <a:ext cx="4929120" cy="19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a6a6"/>
              </a:gs>
              <a:gs pos="100000">
                <a:srgbClr val="f8e7e7"/>
              </a:gs>
            </a:gsLst>
            <a:lin ang="16200000"/>
          </a:gradFill>
          <a:ln w="9360">
            <a:solidFill>
              <a:srgbClr val="8e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Box 3"/>
          <p:cNvSpPr/>
          <p:nvPr/>
        </p:nvSpPr>
        <p:spPr>
          <a:xfrm>
            <a:off x="4277520" y="52340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,4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2" descr="C:\Documents and Settings\admin\Рабочий стол\escrima sticks копия.png"/>
          <p:cNvPicPr/>
          <p:nvPr/>
        </p:nvPicPr>
        <p:blipFill>
          <a:blip r:embed="rId1"/>
          <a:stretch/>
        </p:blipFill>
        <p:spPr>
          <a:xfrm rot="21540000">
            <a:off x="2482560" y="4506480"/>
            <a:ext cx="5452920" cy="78588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" descr="C:\Documents and Settings\admin\Рабочий стол\escrima sticks копия.png"/>
          <p:cNvPicPr/>
          <p:nvPr/>
        </p:nvPicPr>
        <p:blipFill>
          <a:blip r:embed="rId2"/>
          <a:stretch/>
        </p:blipFill>
        <p:spPr>
          <a:xfrm rot="21540000">
            <a:off x="2306160" y="3690720"/>
            <a:ext cx="5453280" cy="785520"/>
          </a:xfrm>
          <a:prstGeom prst="rect">
            <a:avLst/>
          </a:prstGeom>
          <a:ln w="0">
            <a:noFill/>
          </a:ln>
        </p:spPr>
      </p:pic>
      <p:sp>
        <p:nvSpPr>
          <p:cNvPr id="1808" name="TextBox 8"/>
          <p:cNvSpPr/>
          <p:nvPr/>
        </p:nvSpPr>
        <p:spPr>
          <a:xfrm>
            <a:off x="1108080" y="2998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eea"/>
                </a:solidFill>
                <a:latin typeface="Arial"/>
              </a:rPr>
              <a:t>Логические «Загадки – шут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TextBox 3"/>
          <p:cNvSpPr/>
          <p:nvPr/>
        </p:nvSpPr>
        <p:spPr>
          <a:xfrm>
            <a:off x="468360" y="8524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столе лежат в ряд три пал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сделать среднюю крайней, не трогая е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0" name="Рисунок 5" descr=""/>
          <p:cNvPicPr/>
          <p:nvPr/>
        </p:nvPicPr>
        <p:blipFill>
          <a:blip r:embed="rId1"/>
          <a:stretch/>
        </p:blipFill>
        <p:spPr>
          <a:xfrm>
            <a:off x="468360" y="2309760"/>
            <a:ext cx="3301920" cy="3873600"/>
          </a:xfrm>
          <a:prstGeom prst="rect">
            <a:avLst/>
          </a:prstGeom>
          <a:ln w="0">
            <a:noFill/>
          </a:ln>
        </p:spPr>
      </p:pic>
      <p:sp>
        <p:nvSpPr>
          <p:cNvPr id="1811" name="Скругленный прямоугольник 14"/>
          <p:cNvSpPr/>
          <p:nvPr/>
        </p:nvSpPr>
        <p:spPr>
          <a:xfrm>
            <a:off x="3995640" y="2496960"/>
            <a:ext cx="4929120" cy="250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a6a6"/>
              </a:gs>
              <a:gs pos="100000">
                <a:srgbClr val="f8e7e7"/>
              </a:gs>
            </a:gsLst>
            <a:lin ang="16200000"/>
          </a:gradFill>
          <a:ln w="9360">
            <a:solidFill>
              <a:srgbClr val="8e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Box 7"/>
          <p:cNvSpPr/>
          <p:nvPr/>
        </p:nvSpPr>
        <p:spPr>
          <a:xfrm>
            <a:off x="4199040" y="34545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ереложить крайнюю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7:27:26Z</dcterms:created>
  <dc:creator>Helen</dc:creator>
  <dc:description/>
  <dc:language>en-US</dc:language>
  <cp:lastModifiedBy>User</cp:lastModifiedBy>
  <dcterms:modified xsi:type="dcterms:W3CDTF">2023-11-07T14:11:55Z</dcterms:modified>
  <cp:revision>72</cp:revision>
  <dc:subject/>
  <dc:title>Дидактическая   игра  в  дошкольном  возрасте</dc:title>
</cp:coreProperties>
</file>