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22552-F8C9-4B79-A296-D4424D26AD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FE42-CB2B-451F-840A-ADEC9333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0F05-DA37-479B-802F-567AE738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4C72-1A18-4791-941B-00FC5293C8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2639-3537-4F8B-A2D1-A5495CEF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C6ADB-DB0D-40B6-9F86-F236BC6D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53252-CFCE-4D1F-B7CD-830C6FFD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9134-6764-4BAE-8884-199FC56A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6501-FFCD-4A3C-85EB-67F58AC4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3885-BE30-4C22-BC0E-E24CFBAB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A970D-8936-4F8A-84C7-1E17301D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BC9E-0854-4F85-841B-BE30D39C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C949FB-20F3-4DFF-800C-716CE42A28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92280"/>
            <a:ext cx="8229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  чисел.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ы счисл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2650680"/>
            <a:ext cx="835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313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Пифагор :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«Все вещи можно представить в виде чисел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13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13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Аристотель: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«Число – это начало и сущность вещей, их взаимодействие и состоян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а счисления называется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позиционной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если в ней количественные значения символов, используемых для записи чисел, не зависят от их положения (места, позиции, разряда) в коде числ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87640" y="2997360"/>
            <a:ext cx="309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9 един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деся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0 сот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тыся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1773360"/>
            <a:ext cx="3456000" cy="576000"/>
          </a:xfrm>
          <a:prstGeom prst="rightArrow">
            <a:avLst>
              <a:gd name="adj1" fmla="val 50000"/>
              <a:gd name="adj2" fmla="val 50028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а счисления называется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иционной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 если количественные значения символов, используемых для записи чисел, зависят от их положения (места, позиции, разряда) в коде числа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0040" y="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ячелетие до н. э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опотамия (Междуречье) (шумер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25360" y="1285920"/>
            <a:ext cx="56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вилонская  система счис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6253" t="13545" r="0" b="20371"/>
          <a:stretch/>
        </p:blipFill>
        <p:spPr>
          <a:xfrm>
            <a:off x="428760" y="2214720"/>
            <a:ext cx="8254800" cy="43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2 тыс. лет до н.э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евнекитайская десятичная система счис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0" t="15003" r="0" b="4982"/>
          <a:stretch/>
        </p:blipFill>
        <p:spPr>
          <a:xfrm>
            <a:off x="1071720" y="1428840"/>
            <a:ext cx="6786360" cy="4714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85840" y="62118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четные чис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Ян (небо благоприятность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етные чис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нь (земля, изменчивость и неблагоприят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28840" y="0"/>
            <a:ext cx="678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.н.э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сятичная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истема счисления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нди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4240" y="1357200"/>
            <a:ext cx="567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0 год н.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хаммед бен Муса аль-Хорез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38282" t="22630" r="0" b="0"/>
          <a:stretch/>
        </p:blipFill>
        <p:spPr>
          <a:xfrm>
            <a:off x="2214720" y="2571840"/>
            <a:ext cx="5143320" cy="36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85880" y="214200"/>
            <a:ext cx="7215120" cy="1143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ве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енадцатеричная   система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428840"/>
            <a:ext cx="6643800" cy="11912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оичная , Восьмерич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естнадцатиричная  системы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28760" y="3500280"/>
          <a:ext cx="8216280" cy="2469960"/>
        </p:xfrm>
        <a:graphic>
          <a:graphicData uri="http://schemas.openxmlformats.org/drawingml/2006/table">
            <a:tbl>
              <a:tblPr/>
              <a:tblGrid>
                <a:gridCol w="2738520"/>
                <a:gridCol w="2738880"/>
                <a:gridCol w="2738880"/>
              </a:tblGrid>
              <a:tr h="41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чис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фави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ятич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1;2;3;4;5;6;7;8;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ьмерич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1;2;3;4;5;6;7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оична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24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стнадцатерична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1;2;3;4;5;6;7;8;9;A;B;C;D;E;F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ответствие между числами десятичной и двоичной систем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411280" y="907920"/>
          <a:ext cx="4393800" cy="5789520"/>
        </p:xfrm>
        <a:graphic>
          <a:graphicData uri="http://schemas.openxmlformats.org/drawingml/2006/table">
            <a:tbl>
              <a:tblPr/>
              <a:tblGrid>
                <a:gridCol w="2197800"/>
                <a:gridCol w="219600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 с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75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39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0040" y="42876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вёрнутая форма записи числа</a:t>
            </a:r>
            <a:br>
              <a:rPr sz="2500"/>
            </a:b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сятичного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040" y="415908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*2³ + 1*2² + 0*2¹ +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2º 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+4+0+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760" y="328608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оично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4304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1  0    -1 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1680" y="41432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2  1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928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3*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¹ + 5*10º + 8*10ˉ¹ + 2*10ˉ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300 + 40 + 5 +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0, 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2892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ёрнутая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28920" y="242892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 а з в ё р н у т а я   ф о р м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7120" y="600084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Задание: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Представьте число 543,2 в развёрнут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215040" y="2928960"/>
            <a:ext cx="2444760" cy="3738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3280" y="5429160"/>
            <a:ext cx="1667160" cy="1011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57120" y="306360"/>
            <a:ext cx="55008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лько же лет девоч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какой класс она ходила? Сколько книг в портфеле? Сколько у неё ушей, рук и гл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 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 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 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0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 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43120" y="2643120"/>
            <a:ext cx="1785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 2 (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4 (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 5 (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 12 (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5840" y="4822920"/>
            <a:ext cx="55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вет: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12 лет, 5 класс, 4 книг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уха, 2 руки ,  2 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0"/>
            <a:ext cx="80010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палеолита 10-11 тысяч лет до н.э.</a:t>
            </a:r>
            <a:br>
              <a:rPr sz="3100"/>
            </a:br>
            <a:r>
              <a:rPr b="1" lang="ru-RU" sz="31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Унарные системы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сло образуется путем повторения одного знака,  символизирующего единиц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1827360" cy="3398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71840" y="2143080"/>
            <a:ext cx="1253880" cy="173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500880" y="5072040"/>
            <a:ext cx="2376360" cy="1513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85840" y="5929200"/>
            <a:ext cx="5333760" cy="38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85840" y="4357800"/>
            <a:ext cx="2209680" cy="636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857760" y="3714840"/>
            <a:ext cx="1428480" cy="171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rcRect l="10157" t="36462" r="10937" b="0"/>
          <a:stretch/>
        </p:blipFill>
        <p:spPr>
          <a:xfrm>
            <a:off x="5429160" y="2214720"/>
            <a:ext cx="37148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28760" y="576360"/>
            <a:ext cx="84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ые десять чисел в троичной системе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14200" y="2928960"/>
          <a:ext cx="8645400" cy="945720"/>
        </p:xfrm>
        <a:graphic>
          <a:graphicData uri="http://schemas.openxmlformats.org/drawingml/2006/table">
            <a:tbl>
              <a:tblPr/>
              <a:tblGrid>
                <a:gridCol w="717840"/>
                <a:gridCol w="717480"/>
                <a:gridCol w="717840"/>
                <a:gridCol w="671400"/>
                <a:gridCol w="798840"/>
                <a:gridCol w="717480"/>
                <a:gridCol w="717840"/>
                <a:gridCol w="717840"/>
                <a:gridCol w="716040"/>
                <a:gridCol w="717840"/>
                <a:gridCol w="717480"/>
                <a:gridCol w="717480"/>
              </a:tblGrid>
              <a:tr h="94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с/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14200" y="3857760"/>
          <a:ext cx="8645400" cy="945720"/>
        </p:xfrm>
        <a:graphic>
          <a:graphicData uri="http://schemas.openxmlformats.org/drawingml/2006/table">
            <a:tbl>
              <a:tblPr/>
              <a:tblGrid>
                <a:gridCol w="717840"/>
                <a:gridCol w="717480"/>
                <a:gridCol w="717840"/>
                <a:gridCol w="671400"/>
                <a:gridCol w="798840"/>
                <a:gridCol w="717480"/>
                <a:gridCol w="717840"/>
                <a:gridCol w="717840"/>
                <a:gridCol w="716040"/>
                <a:gridCol w="717840"/>
                <a:gridCol w="717480"/>
                <a:gridCol w="717480"/>
              </a:tblGrid>
              <a:tr h="94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/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14200" y="3857760"/>
          <a:ext cx="8645400" cy="945720"/>
        </p:xfrm>
        <a:graphic>
          <a:graphicData uri="http://schemas.openxmlformats.org/drawingml/2006/table">
            <a:tbl>
              <a:tblPr/>
              <a:tblGrid>
                <a:gridCol w="717840"/>
                <a:gridCol w="717480"/>
                <a:gridCol w="717840"/>
                <a:gridCol w="671400"/>
                <a:gridCol w="798840"/>
                <a:gridCol w="717480"/>
                <a:gridCol w="717840"/>
                <a:gridCol w="717840"/>
                <a:gridCol w="716040"/>
                <a:gridCol w="717840"/>
                <a:gridCol w="717480"/>
                <a:gridCol w="717480"/>
              </a:tblGrid>
              <a:tr h="94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/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040" y="1857240"/>
            <a:ext cx="822960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фры  – это знаки, с помощью которых записывают числа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истема счисления или нумерация – это способ записи чисел с помощью циф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ahoma"/>
              </a:rPr>
              <a:t>.</a:t>
            </a:r>
            <a:br>
              <a:rPr sz="25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0"/>
            <a:ext cx="80010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палеолита 10-11 тысяч лет до н.э.</a:t>
            </a:r>
            <a:br>
              <a:rPr sz="3100"/>
            </a:br>
            <a:r>
              <a:rPr b="1" lang="ru-RU" sz="31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Унарные системы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сло образуется путем повторения одного знака,  символизирующего единиц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1827360" cy="3398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71840" y="2143080"/>
            <a:ext cx="1253880" cy="1733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500880" y="5072040"/>
            <a:ext cx="2376360" cy="151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85840" y="5929200"/>
            <a:ext cx="533376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85840" y="4357800"/>
            <a:ext cx="2209680" cy="636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857760" y="3714840"/>
            <a:ext cx="1428480" cy="1714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rcRect l="10157" t="36462" r="10937" b="0"/>
          <a:stretch/>
        </p:blipFill>
        <p:spPr>
          <a:xfrm>
            <a:off x="5429160" y="2214720"/>
            <a:ext cx="37148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яч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 до н.э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  <a:ea typeface="Tahom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4624" t="14457" r="2640" b="3567"/>
          <a:stretch/>
        </p:blipFill>
        <p:spPr>
          <a:xfrm>
            <a:off x="1187280" y="907920"/>
            <a:ext cx="6624720" cy="4392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5373720"/>
            <a:ext cx="5491080" cy="121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227640" y="544500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31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7168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тысячи лет до н.э.</a:t>
            </a:r>
            <a:br>
              <a:rPr sz="2500"/>
            </a:br>
            <a:br>
              <a:rPr sz="25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имская система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42960" y="1928880"/>
            <a:ext cx="3143160" cy="4225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>
            <a:lum bright="-20000"/>
          </a:blip>
          <a:srcRect l="1252" t="12504" r="42500" b="5002"/>
          <a:stretch/>
        </p:blipFill>
        <p:spPr>
          <a:xfrm>
            <a:off x="4857840" y="1971720"/>
            <a:ext cx="385740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 считали древние римля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120" y="1225440"/>
            <a:ext cx="842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XXX   =  3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помните: 5, 50, 500 не повторяют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ифры  I, X, C, M  могут повторяться до 3-х р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DXXIV  = 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3240" y="507204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00040" y="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евние славя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929200" y="1000080"/>
            <a:ext cx="2590920" cy="3571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8984" r="58696" b="0"/>
          <a:stretch/>
        </p:blipFill>
        <p:spPr>
          <a:xfrm>
            <a:off x="357120" y="1000080"/>
            <a:ext cx="3357720" cy="5548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572160" y="4660920"/>
            <a:ext cx="2571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зда – тысяча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о – сто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 – десять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  - ру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  - коп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38760" y="4743360"/>
            <a:ext cx="271764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28760" y="0"/>
            <a:ext cx="822960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 век н.э. до конц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а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ахи братья Кирилл и Мефодий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Алфавитная система счисл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ahoma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17189" t="22919" r="17969" b="0"/>
          <a:stretch/>
        </p:blipFill>
        <p:spPr>
          <a:xfrm>
            <a:off x="601560" y="2000160"/>
            <a:ext cx="4327560" cy="3857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56252" t="26042" r="11720" b="11459"/>
          <a:stretch/>
        </p:blipFill>
        <p:spPr>
          <a:xfrm>
            <a:off x="5929200" y="2000160"/>
            <a:ext cx="2928960" cy="4286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43040" y="5929200"/>
            <a:ext cx="1785960" cy="9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0T21:10:04Z</dcterms:created>
  <dc:creator>Информ</dc:creator>
  <dc:description/>
  <dc:language>en-US</dc:language>
  <cp:lastModifiedBy>ИННА</cp:lastModifiedBy>
  <dcterms:modified xsi:type="dcterms:W3CDTF">2023-10-01T09:29:01Z</dcterms:modified>
  <cp:revision>51</cp:revision>
  <dc:subject/>
  <dc:title>Урок  по информатике в 8 классе на тему  «История чисел и системы счисления»</dc:title>
</cp:coreProperties>
</file>