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AC4A6-86E8-40CA-A993-00358BC267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99C5-107E-4F0D-A85C-EE4CC9A6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2D946-2A9F-4E83-9603-9AAC417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4E708-A800-4C88-8F76-2AF3CB3B2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A36F-2D28-4CB4-8FDA-7A432E7F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4CD23-E93C-4943-A9C5-31A71E1E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9CDF-DC57-45BA-8F81-3EA7B4E7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E0CA-7A9E-4F30-AFE6-1C235005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72452-AFA9-4B7E-B02F-1B5A678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D049F-A30B-4FE2-8415-337F2D25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D9294-D1F5-4D63-AD3B-CA3B49BF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794AC-3DFE-4E2E-8405-6EE7B45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671036-A7CE-4787-AADE-4F78EFE61B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692280"/>
            <a:ext cx="82296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тория  чисел.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ы счисл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265068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Пифагор :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«Все вещи можно представить в виде чисел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13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Аристотель: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Calibri"/>
              </a:rPr>
              <a:t>«Число – это начало и сущность вещей, их взаимодействие и состоян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счисления называется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позиционной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если в ней количественные значения символов, используемых для записи чисел, не зависят от их положения (места, позиции, разряда) в коде числ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87640" y="2997360"/>
            <a:ext cx="309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едини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 деся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0 сот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тыся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1773360"/>
            <a:ext cx="3456000" cy="576000"/>
          </a:xfrm>
          <a:prstGeom prst="rightArrow">
            <a:avLst>
              <a:gd name="adj1" fmla="val 50000"/>
              <a:gd name="adj2" fmla="val 50028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стема счисления называется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зиционной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,  если количественные значения символов, используемых для записи чисел, зависят от их положения (места, позиции, разряда) в коде числа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0040" y="0"/>
            <a:ext cx="82296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ысячелетие до н. э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опотамия (Междуречье) (шумер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25360" y="1285920"/>
            <a:ext cx="560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вилонская  система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6253" t="13545" r="0" b="20371"/>
          <a:stretch/>
        </p:blipFill>
        <p:spPr>
          <a:xfrm>
            <a:off x="428760" y="2214720"/>
            <a:ext cx="8254800" cy="43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 тыс. лет до н.э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евнекитайская десятичная система счис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0" t="15003" r="0" b="4982"/>
          <a:stretch/>
        </p:blipFill>
        <p:spPr>
          <a:xfrm>
            <a:off x="1071720" y="1428840"/>
            <a:ext cx="6786360" cy="471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85840" y="621180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четные чис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Ян (небо благоприятность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етные числ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нь (земля, изменчивость и неблагоприят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28840" y="0"/>
            <a:ext cx="678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.н.э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сятичная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истема счисления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нди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4240" y="1357200"/>
            <a:ext cx="567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0 год н.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хаммед бен Муса аль-Хорез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38282" t="22630" r="0" b="0"/>
          <a:stretch/>
        </p:blipFill>
        <p:spPr>
          <a:xfrm>
            <a:off x="2214720" y="2571840"/>
            <a:ext cx="5143320" cy="36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85880" y="214200"/>
            <a:ext cx="7215120" cy="11430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X век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енадцатеричная   система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428840"/>
            <a:ext cx="6643800" cy="119124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оичная , Восьмеричн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естнадцатиричная  системы счис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28760" y="3500280"/>
          <a:ext cx="8216280" cy="2469960"/>
        </p:xfrm>
        <a:graphic>
          <a:graphicData uri="http://schemas.openxmlformats.org/drawingml/2006/table">
            <a:tbl>
              <a:tblPr/>
              <a:tblGrid>
                <a:gridCol w="2738520"/>
                <a:gridCol w="2738880"/>
                <a:gridCol w="2738880"/>
              </a:tblGrid>
              <a:tr h="4114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а счис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фав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;8;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ьмеричн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оич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24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стнадцатерична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;1;2;3;4;5;6;7;8;9;A;B;C;D;E;F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6699"/>
                      </a:solidFill>
                    </a:lnL>
                    <a:lnR w="2880">
                      <a:solidFill>
                        <a:srgbClr val="006699"/>
                      </a:solidFill>
                    </a:lnR>
                    <a:lnT w="2880">
                      <a:solidFill>
                        <a:srgbClr val="006699"/>
                      </a:solidFill>
                    </a:lnT>
                    <a:lnB w="28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ответствие между числами десятичной и двоичной систем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411280" y="907920"/>
          <a:ext cx="4393800" cy="5789520"/>
        </p:xfrm>
        <a:graphic>
          <a:graphicData uri="http://schemas.openxmlformats.org/drawingml/2006/table">
            <a:tbl>
              <a:tblPr/>
              <a:tblGrid>
                <a:gridCol w="2197800"/>
                <a:gridCol w="219600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 с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675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0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00040" y="42876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вёрнутая форма записи числа</a:t>
            </a:r>
            <a:br>
              <a:rPr sz="2500"/>
            </a:b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сятичног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0040" y="415908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*2³ + 1*2² + 0*2¹ +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2º =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+4+0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8760" y="328608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оичног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64304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 1  0    -1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1680" y="41432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2  1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928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3*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¹ + 5*10º + 8*10ˉ¹ + 2*10ˉ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300 + 40 + 5 + 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+ 0, 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2892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вёрнутая 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28920" y="242892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 а з в ё р н у т а я   ф о р м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7120" y="6000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Задание: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едставьте число 543,2 в развёрнут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215040" y="2928960"/>
            <a:ext cx="2444760" cy="3738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3280" y="5429160"/>
            <a:ext cx="166716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57120" y="306360"/>
            <a:ext cx="55008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же лет девочк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какой класс она ходила? Сколько книг в портфеле? Сколько у неё ушей, рук и гл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(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43120" y="2643120"/>
            <a:ext cx="1785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2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4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5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= 12 (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10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5840" y="4822920"/>
            <a:ext cx="550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2 лет, 5 класс, 4 книг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 уха, 2 руки ,  2 гл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43000" y="0"/>
            <a:ext cx="8001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палеолита 10-11 тысяч лет до н.э.</a:t>
            </a:r>
            <a:br>
              <a:rPr sz="3100"/>
            </a:br>
            <a:r>
              <a:rPr b="1" lang="ru-RU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нарные системы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образуется путем повторения одного знака,  символизирующего еди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1827360" cy="3398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1253880" cy="173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500880" y="5072040"/>
            <a:ext cx="2376360" cy="151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85840" y="5929200"/>
            <a:ext cx="5333760" cy="38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5840" y="4357800"/>
            <a:ext cx="2209680" cy="636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28480" cy="17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10157" t="36462" r="10937" b="0"/>
          <a:stretch/>
        </p:blipFill>
        <p:spPr>
          <a:xfrm>
            <a:off x="5429160" y="2214720"/>
            <a:ext cx="37148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28760" y="57636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ые десять чисел в троичной системе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14200" y="29289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214200" y="38577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14200" y="3857760"/>
          <a:ext cx="8645400" cy="945720"/>
        </p:xfrm>
        <a:graphic>
          <a:graphicData uri="http://schemas.openxmlformats.org/drawingml/2006/table">
            <a:tbl>
              <a:tblPr/>
              <a:tblGrid>
                <a:gridCol w="717840"/>
                <a:gridCol w="717480"/>
                <a:gridCol w="717840"/>
                <a:gridCol w="671400"/>
                <a:gridCol w="798840"/>
                <a:gridCol w="717480"/>
                <a:gridCol w="717840"/>
                <a:gridCol w="717840"/>
                <a:gridCol w="716040"/>
                <a:gridCol w="717840"/>
                <a:gridCol w="717480"/>
                <a:gridCol w="717480"/>
              </a:tblGrid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/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040" y="1857240"/>
            <a:ext cx="822960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фры  – это знаки, с помощью которых записывают числа.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истема счисления или нумерация – это способ записи чисел с помощью циф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Tahoma"/>
              </a:rPr>
              <a:t>.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0"/>
            <a:ext cx="80010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 палеолита 10-11 тысяч лет до н.э.</a:t>
            </a:r>
            <a:br>
              <a:rPr sz="3100"/>
            </a:br>
            <a:r>
              <a:rPr b="1" lang="ru-RU" sz="31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Унарные системы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о образуется путем повторения одного знака,  символизирующего единиц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00040" y="785880"/>
            <a:ext cx="1827360" cy="3398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71840" y="2143080"/>
            <a:ext cx="1253880" cy="1733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6500880" y="5072040"/>
            <a:ext cx="2376360" cy="15130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285840" y="5929200"/>
            <a:ext cx="533376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285840" y="4357800"/>
            <a:ext cx="2209680" cy="636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857760" y="3714840"/>
            <a:ext cx="1428480" cy="1714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rcRect l="10157" t="36462" r="10937" b="0"/>
          <a:stretch/>
        </p:blipFill>
        <p:spPr>
          <a:xfrm>
            <a:off x="5429160" y="2214720"/>
            <a:ext cx="37148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ысяч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до н.э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  <a:ea typeface="Tahoma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4624" t="14457" r="2640" b="3567"/>
          <a:stretch/>
        </p:blipFill>
        <p:spPr>
          <a:xfrm>
            <a:off x="1187280" y="907920"/>
            <a:ext cx="6624720" cy="4392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5491080" cy="121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227640" y="5445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31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71680" y="42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тысячи лет до н.э.</a:t>
            </a:r>
            <a:br>
              <a:rPr sz="2500"/>
            </a:br>
            <a:br>
              <a:rPr sz="2500"/>
            </a:b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имская система с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3143160" cy="4225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>
            <a:lum bright="-20000"/>
          </a:blip>
          <a:srcRect l="1252" t="12504" r="42500" b="5002"/>
          <a:stretch/>
        </p:blipFill>
        <p:spPr>
          <a:xfrm>
            <a:off x="4857840" y="1971720"/>
            <a:ext cx="385740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00040" y="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 считали древние римля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120" y="1225440"/>
            <a:ext cx="842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XXX   =  3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помните: 5, 50, 500 не повторяют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ифры  I, X, C, M  могут повторяться до 3-х раз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CDXXIV  = 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3240" y="507204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4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евние славя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929200" y="1000080"/>
            <a:ext cx="2590920" cy="3571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rcRect l="0" t="8984" r="58696" b="0"/>
          <a:stretch/>
        </p:blipFill>
        <p:spPr>
          <a:xfrm>
            <a:off x="357120" y="1000080"/>
            <a:ext cx="3357720" cy="5548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72160" y="466092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 – тысяча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есо – сто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 – десять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  - ру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  - коп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38760" y="4743360"/>
            <a:ext cx="2717640" cy="127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28760" y="0"/>
            <a:ext cx="822960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X век н.э. до конц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VII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ахи братья Кирилл и Мефодий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alibri"/>
                <a:ea typeface="Tahoma"/>
              </a:rPr>
              <a:t>Алфавитная система счис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ahoma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7189" t="22919" r="17969" b="0"/>
          <a:stretch/>
        </p:blipFill>
        <p:spPr>
          <a:xfrm>
            <a:off x="601560" y="2000160"/>
            <a:ext cx="4327560" cy="3857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56252" t="26042" r="11720" b="11459"/>
          <a:stretch/>
        </p:blipFill>
        <p:spPr>
          <a:xfrm>
            <a:off x="5929200" y="2000160"/>
            <a:ext cx="2928960" cy="4286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43040" y="5929200"/>
            <a:ext cx="1785960" cy="92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10T21:10:04Z</dcterms:created>
  <dc:creator>Информ</dc:creator>
  <dc:description/>
  <dc:language>en-US</dc:language>
  <cp:lastModifiedBy>ИННА</cp:lastModifiedBy>
  <dcterms:modified xsi:type="dcterms:W3CDTF">2023-10-01T09:29:01Z</dcterms:modified>
  <cp:revision>51</cp:revision>
  <dc:subject/>
  <dc:title>Урок  по информатике в 8 классе на тему  «История чисел и системы счисления»</dc:title>
</cp:coreProperties>
</file>