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4.gif" ContentType="image/gif"/>
  <Override PartName="/ppt/media/image27.gif" ContentType="image/gif"/>
  <Override PartName="/ppt/media/image3.png" ContentType="image/png"/>
  <Override PartName="/ppt/media/image23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7635D-1837-4B7F-8317-E2EC4D8E7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630B1-D4CA-47D3-85A3-A5A370D21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8E139-DF63-487D-8D20-85463A224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д Симпсон увидел своего друга, который находился на расстоянии 140 м, и решил непременно его обогнать. Какое расстояние будет между ними через 5 минут, если скорость пешехода 50м/мин, скейтборда 120мин. Через сколько минут произойдёт встреча? Ситуация на слайде отображена не верно. Сначала движение вдогонку, а после встречи – с отстав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54E3E-0317-462E-9327-21CC203F1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B49A8-C6FC-4DFD-BFD6-C7C20492B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082CD-7AC1-4A14-80AB-DE7864DD2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52.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03A84-CD26-4379-A481-70A11E94F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м пока птицу без внимания. Что можем найти из данных условий задач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89E7F-440C-4538-B239-B1A173215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городов, расстояние между которыми 210км навстречу друг другу одновременно выехали два автомобиля. Вычислите время встречи, если скорость одного автомобиля 45 км/ч, а другого на 15 км/ч больш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0D45A-601A-45E5-8524-F8379B361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йского сада в противоположных направлениях вылетели две птицы, скорость одной была 16 м/с, а скорость другой 20м/с. На каком расстоянии будут птицы через 2с, если в райском саду расстояние между их гнёздами было 10 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62E08-50E4-4DCB-974E-9026C17B9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й любопытный цыплёнок хочет познакомиться с паучком. Сейчас между ними 40 м. Догонит ли он паучка, если скорость паучка 360м/мин, а цыплёнка 370 м/мин? Через сколько времени произойдёт встреча? Каким будет расстояние между ними через 1 мин, 2 мин, 3 ми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5D0BC-3B0A-48E8-B6A7-099C519B2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городов, расстояние между которыми 1220 км, навстречу друг другу движутся поезда. Скорость одного из них 65 км/ч. Найти скорость другого, если поезда встретились через 10 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529A1-6B15-46F7-8B6E-DBC8D5F6E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ка утащила сыр. Хозяин заметил её, когда расстояние между ними было всего 8 м, он бросился её догонять. Догонит ли он проказницу, если её скорость 2 м/с, а его 3м/с, а расстояние до норки 10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9F18E-B036-4AD3-90B5-B51F2E542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ака бросилась догонять отбившуюся от отары овцу, которая находилась на расстоянии 600 м, и через 12 мин догнала её. Найдите скорость овцы, если скорость собаки 360 м/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7C0D6-8626-4A5E-8125-FE055C91F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посёлков, расстояние между которыми 24 км, одновременно навстречу друг другу вышли два пешехода со скоростями 3км/ч и 5 км/ч. Какое расстояние будет между ними через 4 ч? Ошибка! За это время произойдет встреча и ситуация изменится: пешеходы после встречи будут двигаться в противоположных направлениях. На сладе не верно отображена ситу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40DF7-4DD2-4B11-8315-BB508CC90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C3B-FC05-4E53-9EDF-31B5D5D7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1B7-FC5E-44DE-AABC-6970617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08C-39FB-4C15-B06F-5DDDAAA9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6C6-FB6C-427A-AC61-2BAEB115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02A9-BB5E-4F79-9B53-94CC108C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4030-9599-44F5-B9B6-4E014A4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DD3C-2E96-43A3-8205-C6A40A59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B25F-17F4-418B-96E8-072ACB3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541E-8007-4F38-8784-6D29790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69F7-80E1-459A-8A74-9B8ACF4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B1D-0FFD-42A0-B4D1-F7BF25B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FF8-9D51-4C55-AEF8-734F623C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4021-A34D-41DD-A0F7-109FC23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3D3B-3F7D-4709-8D1A-5D86D31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8A1B-3477-40A5-8A5B-7A722040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EAB1-7D00-40D1-A535-EEC3BDF4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8C5-3658-4C8B-9CF4-91E2D10C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C6AB-1D30-4B4E-85F3-778372AF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3B71-BADA-493A-83D3-8A745D2F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BD77-E0B0-46F1-A2A1-066BD650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2CCF-D151-4950-A4CC-B8D590D1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9B54-FBE1-4DAB-AF56-A973C236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FF7-1EFF-4037-8695-3601EAE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F1F8-DCFA-4606-9A35-97E3AC86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1790-5D05-4653-B570-9B5F419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F1A3-0507-4665-8BEE-0D0B1E7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72A6-FA45-40CE-B709-363DFD13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7BD0-2E54-44D5-B2AF-13AC0C67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E32D-DC0A-4CAF-A67C-BCD64087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FA3E-2431-48D5-A37B-F2721D8B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069C-32CA-4777-B1E3-F5D9BDC0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4CFF-8EC4-49AB-AEB6-16AE6275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B970-49DD-405A-8391-9FEF6486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1C3-4184-4497-BE29-6CA67A00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1FF5-FE37-4738-90D9-B60F666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6868-EEE4-4BCF-AECA-F026BAB7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8BB43-2F41-4064-9338-DFC60324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BC7A-5800-4E91-BFF3-DF14C5F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6431-C477-440A-99F8-D299FC7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B801-B4D6-464A-AD6A-A1DB6F3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51E57-4F30-4EAA-AA64-084475FF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A738-DBD9-4065-8780-00CFF517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CDA1-985C-461B-A06C-F17B91A8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BB95-9BF8-4FCE-8B09-968D2FD6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6C1-6F7D-4816-8104-46694D34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1CE0-9DD1-4888-B3EA-E351D4FB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A7331-57FD-4090-B82E-1F2A03C5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6F0F6-D520-40A5-89CB-F56EADB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200B7-9935-4593-A64D-ACB914D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4105-F308-4F3B-8196-04354D8A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E55CD-6B4E-41B2-95C4-577C411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5CC37-B0E4-4BA5-B755-6B286AD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7660-F4CC-44FA-831D-3CE6D02C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A5CF-78DD-4006-B086-2D952959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8BC3-017F-4631-996C-7964E247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007-C1D5-4DE0-97B0-F6059B57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6A36-D89F-47B1-A413-A77334EC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E3F29-42C8-4A68-9D09-06000097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A926-FC00-4721-A19D-BD22604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36A27-B63A-48FD-BD10-40F57D9F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AF4D2-74EA-4971-89C2-461ADDF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FE90C-C574-4875-8BBA-68F0A18F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38C9-E5B6-430E-AB68-E771556A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17F1A-1B9E-477D-9D39-E22CBA0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CF2C-7B55-48E3-B5C7-F2988780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0996-79AF-4B63-82BD-312C4C47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DF1-2C52-4CC2-BD95-8064091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75A1-F88B-48A6-870F-B7EE4976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435C-9D36-4D8F-AA64-1A484C21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E571-0AFE-4BAB-A422-453C9C19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C4F-ED4B-4971-A468-F385466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A28-F588-4A94-826E-98E91EC8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DE792-35BB-4C71-A283-7FD1B5EB9204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739a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" name="Rectangle 10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44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62BD4-63AF-48AA-8C82-F5D70FB5108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9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88" name="Rectangle 9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0" name="Straight Connector 11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e6d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29E5B-B6CC-4E66-A70C-FA164DA7702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EADFC-5B81-4B88-B789-DB93EB99B1C8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18194-8C0F-48A5-AE08-7B07387EF3B7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B828E-4D15-4981-82BB-7FD3C05CD29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395280" y="549360"/>
            <a:ext cx="8394840" cy="27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lt"/>
              </a:rPr>
              <a:t>Задачи на движение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2987640" y="3213000"/>
            <a:ext cx="295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5 класс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6" name="WordArt 9"/>
          <p:cNvSpPr txBox="1"/>
          <p:nvPr/>
        </p:nvSpPr>
        <p:spPr>
          <a:xfrm>
            <a:off x="3965400" y="5732640"/>
            <a:ext cx="48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+mn-lt"/>
              </a:rPr>
              <a:t>МОУ « Кулябинская ООШ»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+mn-lt"/>
              </a:rPr>
              <a:t>Учитель Кузьмина О.П.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285840" y="0"/>
                <a:ext cx="8967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Line 4"/>
          <p:cNvSpPr/>
          <p:nvPr/>
        </p:nvSpPr>
        <p:spPr>
          <a:xfrm>
            <a:off x="241200" y="3220920"/>
            <a:ext cx="8610840" cy="144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52360" y="1494000"/>
            <a:ext cx="12600" cy="1828800"/>
          </a:xfrm>
          <a:custGeom>
            <a:avLst/>
            <a:gdLst/>
            <a:ahLst/>
            <a:rect l="l" t="t" r="r" b="b"/>
            <a:pathLst>
              <a:path w="8" h="1152">
                <a:moveTo>
                  <a:pt x="0" y="115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Freeform 6"/>
          <p:cNvSpPr/>
          <p:nvPr/>
        </p:nvSpPr>
        <p:spPr>
          <a:xfrm>
            <a:off x="8886960" y="1709640"/>
            <a:ext cx="15840" cy="1656000"/>
          </a:xfrm>
          <a:custGeom>
            <a:avLst/>
            <a:gdLst/>
            <a:ahLst/>
            <a:rect l="l" t="t" r="r" b="b"/>
            <a:pathLst>
              <a:path w="10" h="1043">
                <a:moveTo>
                  <a:pt x="0" y="1043"/>
                </a:moveTo>
                <a:lnTo>
                  <a:pt x="1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250920" y="1535040"/>
            <a:ext cx="1181160" cy="6480"/>
          </a:xfrm>
          <a:custGeom>
            <a:avLst/>
            <a:gdLst/>
            <a:ahLst/>
            <a:rect l="l" t="t" r="r" b="b"/>
            <a:pathLst>
              <a:path w="744" h="4">
                <a:moveTo>
                  <a:pt x="0" y="0"/>
                </a:moveTo>
                <a:lnTo>
                  <a:pt x="744" y="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Freeform 8"/>
          <p:cNvSpPr/>
          <p:nvPr/>
        </p:nvSpPr>
        <p:spPr>
          <a:xfrm>
            <a:off x="7021440" y="1685880"/>
            <a:ext cx="1881360" cy="17640"/>
          </a:xfrm>
          <a:custGeom>
            <a:avLst/>
            <a:gdLst/>
            <a:ahLst/>
            <a:rect l="l" t="t" r="r" b="b"/>
            <a:pathLst>
              <a:path w="1185" h="11">
                <a:moveTo>
                  <a:pt x="1185" y="0"/>
                </a:moveTo>
                <a:lnTo>
                  <a:pt x="0" y="1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419640" y="36450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24 км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Freeform 10"/>
          <p:cNvSpPr/>
          <p:nvPr/>
        </p:nvSpPr>
        <p:spPr>
          <a:xfrm>
            <a:off x="306360" y="3219480"/>
            <a:ext cx="8580600" cy="554040"/>
          </a:xfrm>
          <a:custGeom>
            <a:avLst/>
            <a:gdLst/>
            <a:ahLst/>
            <a:rect l="l" t="t" r="r" b="b"/>
            <a:pathLst>
              <a:path w="5405" h="349">
                <a:moveTo>
                  <a:pt x="0" y="0"/>
                </a:moveTo>
                <a:cubicBezTo>
                  <a:pt x="436" y="56"/>
                  <a:pt x="1714" y="321"/>
                  <a:pt x="2615" y="335"/>
                </a:cubicBezTo>
                <a:cubicBezTo>
                  <a:pt x="3516" y="349"/>
                  <a:pt x="4824" y="138"/>
                  <a:pt x="5405" y="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Freeform 11"/>
          <p:cNvSpPr/>
          <p:nvPr/>
        </p:nvSpPr>
        <p:spPr>
          <a:xfrm>
            <a:off x="2311560" y="2511360"/>
            <a:ext cx="2774880" cy="692280"/>
          </a:xfrm>
          <a:custGeom>
            <a:avLst/>
            <a:gdLst/>
            <a:ahLst/>
            <a:rect l="l" t="t" r="r" b="b"/>
            <a:pathLst>
              <a:path w="1642" h="416">
                <a:moveTo>
                  <a:pt x="0" y="397"/>
                </a:moveTo>
                <a:cubicBezTo>
                  <a:pt x="285" y="198"/>
                  <a:pt x="571" y="0"/>
                  <a:pt x="845" y="3"/>
                </a:cubicBezTo>
                <a:cubicBezTo>
                  <a:pt x="1119" y="6"/>
                  <a:pt x="1509" y="347"/>
                  <a:pt x="1642" y="4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3449880" y="1693800"/>
            <a:ext cx="4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4"/>
              <p:cNvSpPr txBox="1"/>
              <p:nvPr/>
            </p:nvSpPr>
            <p:spPr>
              <a:xfrm>
                <a:off x="4521240" y="2927520"/>
                <a:ext cx="1015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943760" y="149400"/>
                <a:ext cx="94608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Text Box 17"/>
          <p:cNvSpPr/>
          <p:nvPr/>
        </p:nvSpPr>
        <p:spPr>
          <a:xfrm>
            <a:off x="55440" y="3502080"/>
            <a:ext cx="16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ч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18" descr="aluno03"/>
          <p:cNvPicPr/>
          <p:nvPr/>
        </p:nvPicPr>
        <p:blipFill>
          <a:blip r:embed="rId1"/>
          <a:stretch/>
        </p:blipFill>
        <p:spPr>
          <a:xfrm>
            <a:off x="179280" y="1628640"/>
            <a:ext cx="1003320" cy="1505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9" descr="aluno03"/>
          <p:cNvPicPr/>
          <p:nvPr/>
        </p:nvPicPr>
        <p:blipFill>
          <a:blip r:embed="rId2"/>
          <a:stretch/>
        </p:blipFill>
        <p:spPr>
          <a:xfrm flipH="1">
            <a:off x="7884720" y="1628640"/>
            <a:ext cx="1003320" cy="15051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2"/>
          <p:cNvSpPr/>
          <p:nvPr/>
        </p:nvSpPr>
        <p:spPr>
          <a:xfrm>
            <a:off x="2390760" y="189000"/>
            <a:ext cx="43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беремся подробно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412920" y="4371840"/>
            <a:ext cx="811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2 способа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24:(3+5)=3(ч)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р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4-3 = 1(ч)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т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(3+5)*1= 8 (км)  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S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через 1ч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2) (3+5)*4 – 24 = 8 (км) 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S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через 4 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0.29167 4.07407E-006 E">
                                      <p:cBhvr>
                                        <p:cTn id="409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-0.46476 4.07407E-006 E">
                                      <p:cBhvr>
                                        <p:cTn id="411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67 4.07407E-006 L 0.48073 4.07407E-006 E">
                                      <p:cBhvr>
                                        <p:cTn id="415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476 4.07407E-006 L -0.69306 4.07407E-006 E">
                                      <p:cBhvr>
                                        <p:cTn id="417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87280" y="5506920"/>
            <a:ext cx="537696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40-(120-50)*5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3" descr="++++"/>
          <p:cNvPicPr/>
          <p:nvPr/>
        </p:nvPicPr>
        <p:blipFill>
          <a:blip r:embed="rId1"/>
          <a:stretch/>
        </p:blipFill>
        <p:spPr>
          <a:xfrm>
            <a:off x="212760" y="1450800"/>
            <a:ext cx="1403280" cy="1330560"/>
          </a:xfrm>
          <a:prstGeom prst="rect">
            <a:avLst/>
          </a:prstGeom>
          <a:ln w="0">
            <a:noFill/>
          </a:ln>
        </p:spPr>
      </p:pic>
      <p:sp>
        <p:nvSpPr>
          <p:cNvPr id="398" name="Line 4"/>
          <p:cNvSpPr/>
          <p:nvPr/>
        </p:nvSpPr>
        <p:spPr>
          <a:xfrm>
            <a:off x="527040" y="2781360"/>
            <a:ext cx="620568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318960" y="1268280"/>
            <a:ext cx="180036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5137200" y="1268280"/>
            <a:ext cx="1008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939680" y="2747880"/>
            <a:ext cx="15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alibri"/>
              </a:rPr>
              <a:t>140м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Oval 8"/>
          <p:cNvSpPr/>
          <p:nvPr/>
        </p:nvSpPr>
        <p:spPr>
          <a:xfrm>
            <a:off x="477720" y="3763800"/>
            <a:ext cx="4368960" cy="13417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?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через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=5мин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4365720" y="35388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5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171360" y="35388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alibri"/>
              </a:rPr>
              <a:t>12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Picture 11" descr="aluno03"/>
          <p:cNvPicPr/>
          <p:nvPr/>
        </p:nvPicPr>
        <p:blipFill>
          <a:blip r:embed="rId2"/>
          <a:stretch/>
        </p:blipFill>
        <p:spPr>
          <a:xfrm>
            <a:off x="5438880" y="1344600"/>
            <a:ext cx="91260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6"/>
          <p:cNvSpPr/>
          <p:nvPr/>
        </p:nvSpPr>
        <p:spPr>
          <a:xfrm>
            <a:off x="5843880" y="5907240"/>
            <a:ext cx="33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!!!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лайде ошибк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4624E-006 L 0.58299 4.04624E-006 E">
                                      <p:cBhvr>
                                        <p:cTn id="449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12139E-006 L 0.29705 3.12139E-006 E">
                                      <p:cBhvr>
                                        <p:cTn id="451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++++"/>
          <p:cNvPicPr/>
          <p:nvPr/>
        </p:nvPicPr>
        <p:blipFill>
          <a:blip r:embed="rId1"/>
          <a:stretch/>
        </p:blipFill>
        <p:spPr>
          <a:xfrm>
            <a:off x="509760" y="2187720"/>
            <a:ext cx="1152360" cy="1091880"/>
          </a:xfrm>
          <a:prstGeom prst="rect">
            <a:avLst/>
          </a:prstGeom>
          <a:ln w="0">
            <a:noFill/>
          </a:ln>
        </p:spPr>
      </p:pic>
      <p:sp>
        <p:nvSpPr>
          <p:cNvPr id="408" name="Freeform 3"/>
          <p:cNvSpPr/>
          <p:nvPr/>
        </p:nvSpPr>
        <p:spPr>
          <a:xfrm>
            <a:off x="307800" y="3578400"/>
            <a:ext cx="5835960" cy="45720"/>
          </a:xfrm>
          <a:custGeom>
            <a:avLst/>
            <a:gdLst/>
            <a:ahLst/>
            <a:rect l="l" t="t" r="r" b="b"/>
            <a:pathLst>
              <a:path w="1903" h="9">
                <a:moveTo>
                  <a:pt x="0" y="0"/>
                </a:moveTo>
                <a:lnTo>
                  <a:pt x="1903" y="9"/>
                </a:ln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324000" y="1413000"/>
            <a:ext cx="1800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Line 5"/>
          <p:cNvSpPr/>
          <p:nvPr/>
        </p:nvSpPr>
        <p:spPr>
          <a:xfrm>
            <a:off x="4481640" y="1413000"/>
            <a:ext cx="1008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202120" y="366552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14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Oval 7"/>
          <p:cNvSpPr/>
          <p:nvPr/>
        </p:nvSpPr>
        <p:spPr>
          <a:xfrm>
            <a:off x="307800" y="5062680"/>
            <a:ext cx="3025800" cy="76500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=5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3884760" y="62856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5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266400" y="51444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alibri"/>
              </a:rPr>
              <a:t>12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10" descr="aluno03"/>
          <p:cNvPicPr/>
          <p:nvPr/>
        </p:nvPicPr>
        <p:blipFill>
          <a:blip r:embed="rId2"/>
          <a:stretch/>
        </p:blipFill>
        <p:spPr>
          <a:xfrm>
            <a:off x="4716360" y="1955880"/>
            <a:ext cx="96228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9259E-006 L 0.87413 -0.01551 E">
                                      <p:cBhvr>
                                        <p:cTn id="471" dur="3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48148E-006 L 0.20468 1.48148E-006 E">
                                      <p:cBhvr>
                                        <p:cTn id="473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0"/>
          <p:cNvSpPr/>
          <p:nvPr/>
        </p:nvSpPr>
        <p:spPr>
          <a:xfrm>
            <a:off x="-41400" y="62064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alibri"/>
              </a:rPr>
              <a:t>12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2444760" y="62064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5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883800" y="299736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14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5" descr="++++"/>
          <p:cNvPicPr/>
          <p:nvPr/>
        </p:nvPicPr>
        <p:blipFill>
          <a:blip r:embed="rId1"/>
          <a:stretch/>
        </p:blipFill>
        <p:spPr>
          <a:xfrm>
            <a:off x="-108000" y="1987560"/>
            <a:ext cx="1152720" cy="1092240"/>
          </a:xfrm>
          <a:prstGeom prst="rect">
            <a:avLst/>
          </a:prstGeom>
          <a:ln w="0">
            <a:noFill/>
          </a:ln>
        </p:spPr>
      </p:pic>
      <p:sp>
        <p:nvSpPr>
          <p:cNvPr id="420" name="Freeform 6"/>
          <p:cNvSpPr/>
          <p:nvPr/>
        </p:nvSpPr>
        <p:spPr>
          <a:xfrm>
            <a:off x="395280" y="2997360"/>
            <a:ext cx="3529080" cy="45720"/>
          </a:xfrm>
          <a:custGeom>
            <a:avLst/>
            <a:gdLst/>
            <a:ahLst/>
            <a:rect l="l" t="t" r="r" b="b"/>
            <a:pathLst>
              <a:path w="1547" h="17">
                <a:moveTo>
                  <a:pt x="0" y="0"/>
                </a:moveTo>
                <a:lnTo>
                  <a:pt x="1547" y="17"/>
                </a:ln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250920" y="1268280"/>
            <a:ext cx="1800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2916360" y="1268280"/>
            <a:ext cx="1008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5219640" y="1760400"/>
            <a:ext cx="3024360" cy="7653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=5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11" descr="aluno03"/>
          <p:cNvPicPr/>
          <p:nvPr/>
        </p:nvPicPr>
        <p:blipFill>
          <a:blip r:embed="rId2"/>
          <a:stretch/>
        </p:blipFill>
        <p:spPr>
          <a:xfrm>
            <a:off x="2556000" y="1484280"/>
            <a:ext cx="961920" cy="14940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2"/>
          <p:cNvSpPr/>
          <p:nvPr/>
        </p:nvSpPr>
        <p:spPr>
          <a:xfrm>
            <a:off x="108000" y="378936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1) 140: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(120–50)=2(мин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  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т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101520" y="544500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2) 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(120–50) 3=210(м)  </a:t>
            </a:r>
            <a:r>
              <a:rPr b="1" lang="en-US" sz="4800" spc="-1" strike="noStrike">
                <a:solidFill>
                  <a:srgbClr val="000099"/>
                </a:solidFill>
                <a:latin typeface="Tw Cen MT"/>
              </a:rPr>
              <a:t>S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через 3мин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3059280" y="5661000"/>
                <a:ext cx="47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Text Box 15"/>
          <p:cNvSpPr/>
          <p:nvPr/>
        </p:nvSpPr>
        <p:spPr>
          <a:xfrm>
            <a:off x="761760" y="4875120"/>
            <a:ext cx="26449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3мин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-18360" y="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беремся подробно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4444E-006 L 0.43298 -0.00601 E">
                                      <p:cBhvr>
                                        <p:cTn id="487" dur="3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0.15226 -0.00532 E">
                                      <p:cBhvr>
                                        <p:cTn id="489" dur="3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98 -0.00601 L 0.89756 -0.00601 E">
                                      <p:cBhvr>
                                        <p:cTn id="498" dur="5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26 -0.00533 L 0.33351 -0.00533 E">
                                      <p:cBhvr>
                                        <p:cTn id="500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083"/>
          <p:cNvPicPr/>
          <p:nvPr/>
        </p:nvPicPr>
        <p:blipFill>
          <a:blip r:embed="rId1"/>
          <a:stretch/>
        </p:blipFill>
        <p:spPr>
          <a:xfrm>
            <a:off x="3606840" y="2739960"/>
            <a:ext cx="1085760" cy="145116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3"/>
          <p:cNvGrpSpPr/>
          <p:nvPr/>
        </p:nvGrpSpPr>
        <p:grpSpPr>
          <a:xfrm>
            <a:off x="9360" y="4543200"/>
            <a:ext cx="9153000" cy="1036080"/>
            <a:chOff x="9360" y="4543200"/>
            <a:chExt cx="9153000" cy="1036080"/>
          </a:xfrm>
        </p:grpSpPr>
        <p:sp>
          <p:nvSpPr>
            <p:cNvPr id="432" name="Freeform 4"/>
            <p:cNvSpPr/>
            <p:nvPr/>
          </p:nvSpPr>
          <p:spPr>
            <a:xfrm rot="371400">
              <a:off x="7551720" y="511272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 rot="371400">
              <a:off x="7812360" y="512424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 rot="371400">
              <a:off x="8109000" y="512496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 rot="371400">
              <a:off x="8417880" y="514116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 rot="371400">
              <a:off x="8727480" y="5137200"/>
              <a:ext cx="41364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 rot="371400">
              <a:off x="1632960" y="473724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371400">
              <a:off x="147960" y="45640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 rot="371400">
              <a:off x="430200" y="45946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 rot="371400">
              <a:off x="782640" y="463284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41" name="Group 13"/>
            <p:cNvGrpSpPr/>
            <p:nvPr/>
          </p:nvGrpSpPr>
          <p:grpSpPr>
            <a:xfrm>
              <a:off x="1108800" y="4650120"/>
              <a:ext cx="6601320" cy="897120"/>
              <a:chOff x="1108800" y="4650120"/>
              <a:chExt cx="6601320" cy="897120"/>
            </a:xfrm>
          </p:grpSpPr>
          <p:sp>
            <p:nvSpPr>
              <p:cNvPr id="442" name="Freeform 14"/>
              <p:cNvSpPr/>
              <p:nvPr/>
            </p:nvSpPr>
            <p:spPr>
              <a:xfrm rot="371400">
                <a:off x="1396440" y="4723920"/>
                <a:ext cx="439560" cy="3747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3" name="Freeform 15"/>
              <p:cNvSpPr/>
              <p:nvPr/>
            </p:nvSpPr>
            <p:spPr>
              <a:xfrm rot="371400">
                <a:off x="1973520" y="47638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 rot="371400">
                <a:off x="2326680" y="48020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 rot="371400">
                <a:off x="2679840" y="481896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 rot="371400">
                <a:off x="3038040" y="479988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 rot="371400">
                <a:off x="3318840" y="48304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8" name="Freeform 20"/>
              <p:cNvSpPr/>
              <p:nvPr/>
            </p:nvSpPr>
            <p:spPr>
              <a:xfrm rot="371400">
                <a:off x="3673440" y="4832280"/>
                <a:ext cx="41472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9" name="Freeform 21"/>
              <p:cNvSpPr/>
              <p:nvPr/>
            </p:nvSpPr>
            <p:spPr>
              <a:xfrm rot="371400">
                <a:off x="3954960" y="4865400"/>
                <a:ext cx="41328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0" name="Freeform 22"/>
              <p:cNvSpPr/>
              <p:nvPr/>
            </p:nvSpPr>
            <p:spPr>
              <a:xfrm rot="371400">
                <a:off x="4308120" y="488232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1" name="Freeform 23"/>
              <p:cNvSpPr/>
              <p:nvPr/>
            </p:nvSpPr>
            <p:spPr>
              <a:xfrm rot="371400">
                <a:off x="4592160" y="49118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2" name="Freeform 24"/>
              <p:cNvSpPr/>
              <p:nvPr/>
            </p:nvSpPr>
            <p:spPr>
              <a:xfrm rot="371400">
                <a:off x="5016240" y="492156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3" name="Freeform 25"/>
              <p:cNvSpPr/>
              <p:nvPr/>
            </p:nvSpPr>
            <p:spPr>
              <a:xfrm rot="371400">
                <a:off x="5296680" y="495180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4" name="Freeform 26"/>
              <p:cNvSpPr/>
              <p:nvPr/>
            </p:nvSpPr>
            <p:spPr>
              <a:xfrm rot="371400">
                <a:off x="5582880" y="496260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5" name="Freeform 27"/>
              <p:cNvSpPr/>
              <p:nvPr/>
            </p:nvSpPr>
            <p:spPr>
              <a:xfrm rot="371400">
                <a:off x="5861160" y="501408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6" name="Freeform 28"/>
              <p:cNvSpPr/>
              <p:nvPr/>
            </p:nvSpPr>
            <p:spPr>
              <a:xfrm rot="371400">
                <a:off x="6147000" y="50238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7" name="Freeform 29"/>
              <p:cNvSpPr/>
              <p:nvPr/>
            </p:nvSpPr>
            <p:spPr>
              <a:xfrm rot="371400">
                <a:off x="6430320" y="501732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8" name="Freeform 30"/>
              <p:cNvSpPr/>
              <p:nvPr/>
            </p:nvSpPr>
            <p:spPr>
              <a:xfrm rot="371400">
                <a:off x="6711120" y="50486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9" name="Freeform 31"/>
              <p:cNvSpPr/>
              <p:nvPr/>
            </p:nvSpPr>
            <p:spPr>
              <a:xfrm rot="371400">
                <a:off x="6993720" y="507924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0" name="Freeform 32"/>
              <p:cNvSpPr/>
              <p:nvPr/>
            </p:nvSpPr>
            <p:spPr>
              <a:xfrm rot="371400">
                <a:off x="7275600" y="510876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1" name="Freeform 33"/>
              <p:cNvSpPr/>
              <p:nvPr/>
            </p:nvSpPr>
            <p:spPr>
              <a:xfrm rot="371400">
                <a:off x="1130040" y="46710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62" name="Line 34"/>
            <p:cNvSpPr/>
            <p:nvPr/>
          </p:nvSpPr>
          <p:spPr>
            <a:xfrm flipH="1" flipV="1">
              <a:off x="9360" y="4754880"/>
              <a:ext cx="9119160" cy="5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3" name="Line 35"/>
            <p:cNvSpPr/>
            <p:nvPr/>
          </p:nvSpPr>
          <p:spPr>
            <a:xfrm flipH="1" flipV="1">
              <a:off x="66600" y="4875480"/>
              <a:ext cx="904968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64" name="Rectangle 36"/>
          <p:cNvSpPr/>
          <p:nvPr/>
        </p:nvSpPr>
        <p:spPr>
          <a:xfrm rot="289800">
            <a:off x="3352680" y="590976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Calibri"/>
              </a:rPr>
              <a:t>495 км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Rectangle 37"/>
          <p:cNvSpPr/>
          <p:nvPr/>
        </p:nvSpPr>
        <p:spPr>
          <a:xfrm>
            <a:off x="2791440" y="191628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р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3ч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Rectangle 38"/>
          <p:cNvSpPr/>
          <p:nvPr/>
        </p:nvSpPr>
        <p:spPr>
          <a:xfrm>
            <a:off x="684360" y="2965320"/>
            <a:ext cx="79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alibri"/>
              </a:rPr>
              <a:t>?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AutoShape 40"/>
          <p:cNvSpPr/>
          <p:nvPr/>
        </p:nvSpPr>
        <p:spPr>
          <a:xfrm rot="16453200">
            <a:off x="4131360" y="1535400"/>
            <a:ext cx="747720" cy="8229600"/>
          </a:xfrm>
          <a:custGeom>
            <a:avLst/>
            <a:gdLst>
              <a:gd name="textAreaLeft" fmla="*/ 477720 w 747720"/>
              <a:gd name="textAreaRight" fmla="*/ 748080 w 747720"/>
              <a:gd name="textAreaTop" fmla="*/ 214560 h 8229600"/>
              <a:gd name="textAreaBottom" fmla="*/ 8015040 h 822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68" name="Group 41"/>
          <p:cNvGrpSpPr/>
          <p:nvPr/>
        </p:nvGrpSpPr>
        <p:grpSpPr>
          <a:xfrm>
            <a:off x="6120" y="3995640"/>
            <a:ext cx="9153000" cy="1036080"/>
            <a:chOff x="6120" y="3995640"/>
            <a:chExt cx="9153000" cy="1036080"/>
          </a:xfrm>
        </p:grpSpPr>
        <p:sp>
          <p:nvSpPr>
            <p:cNvPr id="469" name="Freeform 42"/>
            <p:cNvSpPr/>
            <p:nvPr/>
          </p:nvSpPr>
          <p:spPr>
            <a:xfrm rot="371400">
              <a:off x="7548480" y="456516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0" name="Freeform 43"/>
            <p:cNvSpPr/>
            <p:nvPr/>
          </p:nvSpPr>
          <p:spPr>
            <a:xfrm rot="371400">
              <a:off x="7809120" y="457668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1" name="Freeform 44"/>
            <p:cNvSpPr/>
            <p:nvPr/>
          </p:nvSpPr>
          <p:spPr>
            <a:xfrm rot="371400">
              <a:off x="8105760" y="457740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2" name="Freeform 45"/>
            <p:cNvSpPr/>
            <p:nvPr/>
          </p:nvSpPr>
          <p:spPr>
            <a:xfrm rot="371400">
              <a:off x="8414640" y="459360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3" name="Freeform 46"/>
            <p:cNvSpPr/>
            <p:nvPr/>
          </p:nvSpPr>
          <p:spPr>
            <a:xfrm rot="371400">
              <a:off x="8724240" y="4589640"/>
              <a:ext cx="41364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4" name="Freeform 47"/>
            <p:cNvSpPr/>
            <p:nvPr/>
          </p:nvSpPr>
          <p:spPr>
            <a:xfrm rot="371400">
              <a:off x="1629720" y="41896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5" name="Freeform 48"/>
            <p:cNvSpPr/>
            <p:nvPr/>
          </p:nvSpPr>
          <p:spPr>
            <a:xfrm rot="371400">
              <a:off x="144720" y="401652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6" name="Freeform 49"/>
            <p:cNvSpPr/>
            <p:nvPr/>
          </p:nvSpPr>
          <p:spPr>
            <a:xfrm rot="371400">
              <a:off x="426960" y="404712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7" name="Freeform 50"/>
            <p:cNvSpPr/>
            <p:nvPr/>
          </p:nvSpPr>
          <p:spPr>
            <a:xfrm rot="371400">
              <a:off x="779400" y="40852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78" name="Group 51"/>
            <p:cNvGrpSpPr/>
            <p:nvPr/>
          </p:nvGrpSpPr>
          <p:grpSpPr>
            <a:xfrm>
              <a:off x="1105560" y="4102560"/>
              <a:ext cx="6601320" cy="897120"/>
              <a:chOff x="1105560" y="4102560"/>
              <a:chExt cx="6601320" cy="897120"/>
            </a:xfrm>
          </p:grpSpPr>
          <p:sp>
            <p:nvSpPr>
              <p:cNvPr id="479" name="Freeform 52"/>
              <p:cNvSpPr/>
              <p:nvPr/>
            </p:nvSpPr>
            <p:spPr>
              <a:xfrm rot="371400">
                <a:off x="1393200" y="4176360"/>
                <a:ext cx="439560" cy="3747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0" name="Freeform 53"/>
              <p:cNvSpPr/>
              <p:nvPr/>
            </p:nvSpPr>
            <p:spPr>
              <a:xfrm rot="371400">
                <a:off x="1970280" y="421632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1" name="Freeform 54"/>
              <p:cNvSpPr/>
              <p:nvPr/>
            </p:nvSpPr>
            <p:spPr>
              <a:xfrm rot="371400">
                <a:off x="2323440" y="42544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2" name="Freeform 55"/>
              <p:cNvSpPr/>
              <p:nvPr/>
            </p:nvSpPr>
            <p:spPr>
              <a:xfrm rot="371400">
                <a:off x="2676600" y="42714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3" name="Freeform 56"/>
              <p:cNvSpPr/>
              <p:nvPr/>
            </p:nvSpPr>
            <p:spPr>
              <a:xfrm rot="371400">
                <a:off x="3034800" y="425232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4" name="Freeform 57"/>
              <p:cNvSpPr/>
              <p:nvPr/>
            </p:nvSpPr>
            <p:spPr>
              <a:xfrm rot="371400">
                <a:off x="3315600" y="428292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5" name="Freeform 58"/>
              <p:cNvSpPr/>
              <p:nvPr/>
            </p:nvSpPr>
            <p:spPr>
              <a:xfrm rot="371400">
                <a:off x="3670200" y="4284720"/>
                <a:ext cx="41472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6" name="Freeform 59"/>
              <p:cNvSpPr/>
              <p:nvPr/>
            </p:nvSpPr>
            <p:spPr>
              <a:xfrm rot="371400">
                <a:off x="3951720" y="4317840"/>
                <a:ext cx="41328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7" name="Freeform 60"/>
              <p:cNvSpPr/>
              <p:nvPr/>
            </p:nvSpPr>
            <p:spPr>
              <a:xfrm rot="371400">
                <a:off x="4304880" y="433476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8" name="Freeform 61"/>
              <p:cNvSpPr/>
              <p:nvPr/>
            </p:nvSpPr>
            <p:spPr>
              <a:xfrm rot="371400">
                <a:off x="4588920" y="43642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9" name="Freeform 62"/>
              <p:cNvSpPr/>
              <p:nvPr/>
            </p:nvSpPr>
            <p:spPr>
              <a:xfrm rot="371400">
                <a:off x="5013000" y="437400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0" name="Freeform 63"/>
              <p:cNvSpPr/>
              <p:nvPr/>
            </p:nvSpPr>
            <p:spPr>
              <a:xfrm rot="371400">
                <a:off x="5293440" y="440424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1" name="Freeform 64"/>
              <p:cNvSpPr/>
              <p:nvPr/>
            </p:nvSpPr>
            <p:spPr>
              <a:xfrm rot="371400">
                <a:off x="5579640" y="441504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2" name="Freeform 65"/>
              <p:cNvSpPr/>
              <p:nvPr/>
            </p:nvSpPr>
            <p:spPr>
              <a:xfrm rot="371400">
                <a:off x="5857920" y="446652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3" name="Freeform 66"/>
              <p:cNvSpPr/>
              <p:nvPr/>
            </p:nvSpPr>
            <p:spPr>
              <a:xfrm rot="371400">
                <a:off x="6143760" y="44762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4" name="Freeform 67"/>
              <p:cNvSpPr/>
              <p:nvPr/>
            </p:nvSpPr>
            <p:spPr>
              <a:xfrm rot="371400">
                <a:off x="6427080" y="446976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5" name="Freeform 68"/>
              <p:cNvSpPr/>
              <p:nvPr/>
            </p:nvSpPr>
            <p:spPr>
              <a:xfrm rot="371400">
                <a:off x="6707880" y="450108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6" name="Freeform 69"/>
              <p:cNvSpPr/>
              <p:nvPr/>
            </p:nvSpPr>
            <p:spPr>
              <a:xfrm rot="371400">
                <a:off x="6990480" y="453168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7" name="Freeform 70"/>
              <p:cNvSpPr/>
              <p:nvPr/>
            </p:nvSpPr>
            <p:spPr>
              <a:xfrm rot="371400">
                <a:off x="7272360" y="45612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8" name="Freeform 71"/>
              <p:cNvSpPr/>
              <p:nvPr/>
            </p:nvSpPr>
            <p:spPr>
              <a:xfrm rot="371400">
                <a:off x="1126800" y="41234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99" name="Line 72"/>
            <p:cNvSpPr/>
            <p:nvPr/>
          </p:nvSpPr>
          <p:spPr>
            <a:xfrm flipH="1" flipV="1">
              <a:off x="6120" y="4207320"/>
              <a:ext cx="9119160" cy="5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Line 73"/>
            <p:cNvSpPr/>
            <p:nvPr/>
          </p:nvSpPr>
          <p:spPr>
            <a:xfrm flipH="1" flipV="1">
              <a:off x="63360" y="4327920"/>
              <a:ext cx="904968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501" name="Picture 74" descr="afficher_image111"/>
          <p:cNvPicPr/>
          <p:nvPr/>
        </p:nvPicPr>
        <p:blipFill>
          <a:blip r:embed="rId2"/>
          <a:stretch/>
        </p:blipFill>
        <p:spPr>
          <a:xfrm rot="206400">
            <a:off x="7395840" y="3629160"/>
            <a:ext cx="2415960" cy="1252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5" descr="afficher_image145"/>
          <p:cNvPicPr/>
          <p:nvPr/>
        </p:nvPicPr>
        <p:blipFill>
          <a:blip r:embed="rId3"/>
          <a:stretch/>
        </p:blipFill>
        <p:spPr>
          <a:xfrm flipH="1" rot="247200">
            <a:off x="-209880" y="4032000"/>
            <a:ext cx="2735280" cy="9363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76"/>
          <p:cNvSpPr/>
          <p:nvPr/>
        </p:nvSpPr>
        <p:spPr>
          <a:xfrm rot="337200">
            <a:off x="5904360" y="2292480"/>
            <a:ext cx="319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alibri"/>
              </a:rPr>
              <a:t>на 5 км/ч</a:t>
            </a:r>
            <a:r>
              <a:rPr b="1" lang="en-US" sz="6600" spc="-1" strike="noStrike">
                <a:solidFill>
                  <a:srgbClr val="ff0000"/>
                </a:solidFill>
                <a:latin typeface="Tw Cen MT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Line 77"/>
          <p:cNvSpPr/>
          <p:nvPr/>
        </p:nvSpPr>
        <p:spPr>
          <a:xfrm>
            <a:off x="250920" y="3716280"/>
            <a:ext cx="151272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Line 78"/>
          <p:cNvSpPr/>
          <p:nvPr/>
        </p:nvSpPr>
        <p:spPr>
          <a:xfrm flipH="1" flipV="1">
            <a:off x="7235640" y="3284280"/>
            <a:ext cx="1639800" cy="144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Text Box 79"/>
          <p:cNvSpPr/>
          <p:nvPr/>
        </p:nvSpPr>
        <p:spPr>
          <a:xfrm>
            <a:off x="0" y="-27000"/>
            <a:ext cx="932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а поезда вышли навстречу друг другу одновременно из двух городов, расстояние между которыми 495 км. Через 3 ч они встретились. Какова скорость каждого поезда, если известно, что скорость одного из них на 5 км/ч больше скорости другого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0.44427 0.03796 E">
                                      <p:cBhvr>
                                        <p:cTn id="55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-0.50573 -0.0419 E">
                                      <p:cBhvr>
                                        <p:cTn id="555" dur="5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100000">
              <a:srgbClr val="b0f5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 rot="237600">
            <a:off x="-250920" y="3946680"/>
            <a:ext cx="9542520" cy="12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08" name="Group 19"/>
          <p:cNvGrpSpPr/>
          <p:nvPr/>
        </p:nvGrpSpPr>
        <p:grpSpPr>
          <a:xfrm>
            <a:off x="5508720" y="1773360"/>
            <a:ext cx="3373200" cy="2630520"/>
            <a:chOff x="5508720" y="1773360"/>
            <a:chExt cx="3373200" cy="2630520"/>
          </a:xfrm>
        </p:grpSpPr>
        <p:pic>
          <p:nvPicPr>
            <p:cNvPr id="509" name="Picture 17" descr="083"/>
            <p:cNvPicPr/>
            <p:nvPr/>
          </p:nvPicPr>
          <p:blipFill>
            <a:blip r:embed="rId1"/>
            <a:stretch/>
          </p:blipFill>
          <p:spPr>
            <a:xfrm>
              <a:off x="7956720" y="2708280"/>
              <a:ext cx="9252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Oval 18"/>
            <p:cNvSpPr/>
            <p:nvPr/>
          </p:nvSpPr>
          <p:spPr>
            <a:xfrm>
              <a:off x="5508720" y="1773360"/>
              <a:ext cx="3024000" cy="76500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t</a:t>
              </a:r>
              <a:r>
                <a:rPr b="1" lang="ru-RU" sz="36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встр=2мин</a:t>
              </a:r>
              <a:endParaRPr b="0" lang="en-US" sz="36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11" name="Line 7"/>
          <p:cNvSpPr/>
          <p:nvPr/>
        </p:nvSpPr>
        <p:spPr>
          <a:xfrm>
            <a:off x="0" y="4272120"/>
            <a:ext cx="9475920" cy="7156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2" name="Picture 16" descr="aluno03"/>
          <p:cNvPicPr/>
          <p:nvPr/>
        </p:nvPicPr>
        <p:blipFill>
          <a:blip r:embed="rId2"/>
          <a:stretch/>
        </p:blipFill>
        <p:spPr>
          <a:xfrm>
            <a:off x="4152960" y="3225960"/>
            <a:ext cx="877680" cy="15127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car47"/>
          <p:cNvPicPr/>
          <p:nvPr/>
        </p:nvPicPr>
        <p:blipFill>
          <a:blip r:embed="rId3"/>
          <a:stretch/>
        </p:blipFill>
        <p:spPr>
          <a:xfrm>
            <a:off x="-1440" y="3537000"/>
            <a:ext cx="2377800" cy="176220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3"/>
          <p:cNvSpPr/>
          <p:nvPr/>
        </p:nvSpPr>
        <p:spPr>
          <a:xfrm rot="5684400">
            <a:off x="2484360" y="3611520"/>
            <a:ext cx="649080" cy="3528720"/>
          </a:xfrm>
          <a:custGeom>
            <a:avLst/>
            <a:gdLst>
              <a:gd name="textAreaLeft" fmla="*/ 0 w 649080"/>
              <a:gd name="textAreaRight" fmla="*/ 234360 w 649080"/>
              <a:gd name="textAreaTop" fmla="*/ 91800 h 3528720"/>
              <a:gd name="textAreaBottom" fmla="*/ 3436920 h 35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Text Box 14"/>
          <p:cNvSpPr/>
          <p:nvPr/>
        </p:nvSpPr>
        <p:spPr>
          <a:xfrm rot="273600">
            <a:off x="1580400" y="551664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90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0" y="50760"/>
            <a:ext cx="93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ша стал догонять Колю, идущего пешком, когда расстояние между ними было 900 м. Через 2 мин Саша догнал Колю, скорость которого была в 10 раз меньше. Найдите скорость Коли и Саши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5191 0.04745 E">
                                      <p:cBhvr>
                                        <p:cTn id="5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6 L 0.85451 0.07754 E">
                                      <p:cBhvr>
                                        <p:cTn id="563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100000">
              <a:srgbClr val="b0f5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 rot="4456800">
            <a:off x="2765880" y="3763080"/>
            <a:ext cx="458640" cy="3848040"/>
          </a:xfrm>
          <a:custGeom>
            <a:avLst/>
            <a:gdLst>
              <a:gd name="textAreaLeft" fmla="*/ 0 w 458640"/>
              <a:gd name="textAreaRight" fmla="*/ 165600 w 458640"/>
              <a:gd name="textAreaTop" fmla="*/ 100080 h 3848040"/>
              <a:gd name="textAreaBottom" fmla="*/ 3747960 h 384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3" descr="dinoz"/>
          <p:cNvPicPr/>
          <p:nvPr/>
        </p:nvPicPr>
        <p:blipFill>
          <a:blip r:embed="rId1"/>
          <a:stretch/>
        </p:blipFill>
        <p:spPr>
          <a:xfrm>
            <a:off x="4092480" y="2979720"/>
            <a:ext cx="2205000" cy="1349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dinoz"/>
          <p:cNvPicPr/>
          <p:nvPr/>
        </p:nvPicPr>
        <p:blipFill>
          <a:blip r:embed="rId2"/>
          <a:stretch/>
        </p:blipFill>
        <p:spPr>
          <a:xfrm>
            <a:off x="4276800" y="3538440"/>
            <a:ext cx="2268360" cy="1389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dinoz"/>
          <p:cNvPicPr/>
          <p:nvPr/>
        </p:nvPicPr>
        <p:blipFill>
          <a:blip r:embed="rId3"/>
          <a:stretch/>
        </p:blipFill>
        <p:spPr>
          <a:xfrm>
            <a:off x="4862520" y="3700440"/>
            <a:ext cx="2421000" cy="1482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rehis5"/>
          <p:cNvPicPr/>
          <p:nvPr/>
        </p:nvPicPr>
        <p:blipFill>
          <a:blip r:embed="rId4"/>
          <a:stretch/>
        </p:blipFill>
        <p:spPr>
          <a:xfrm>
            <a:off x="-36360" y="4437000"/>
            <a:ext cx="1353960" cy="176076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15"/>
          <p:cNvSpPr/>
          <p:nvPr/>
        </p:nvSpPr>
        <p:spPr>
          <a:xfrm>
            <a:off x="0" y="50760"/>
            <a:ext cx="93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хотник отправился вслед за динозаврами. Вместе с ним вылетела птица, догнав динозавров, она вернулась к охотнику. Затем снова к динозаврам и т.д. и летала между ними до тех пор пока они не встретились. Какое расстояние пролетела птица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Text Box 16"/>
          <p:cNvSpPr/>
          <p:nvPr/>
        </p:nvSpPr>
        <p:spPr>
          <a:xfrm rot="20697600">
            <a:off x="2427840" y="57340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12 км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Text Box 18"/>
          <p:cNvSpPr/>
          <p:nvPr/>
        </p:nvSpPr>
        <p:spPr>
          <a:xfrm rot="20499000">
            <a:off x="191520" y="339084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 км/ч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Text Box 19"/>
          <p:cNvSpPr/>
          <p:nvPr/>
        </p:nvSpPr>
        <p:spPr>
          <a:xfrm rot="20536800">
            <a:off x="5354280" y="189720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 км/ч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231120" y="1916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т</a:t>
            </a:r>
            <a:r>
              <a:rPr b="1" i="1" lang="en-US" sz="4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6 км/ч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7" name="Picture 14" descr="drakosha"/>
          <p:cNvPicPr/>
          <p:nvPr/>
        </p:nvPicPr>
        <p:blipFill>
          <a:blip r:embed="rId5"/>
          <a:stretch/>
        </p:blipFill>
        <p:spPr>
          <a:xfrm flipH="1">
            <a:off x="3441600" y="1343160"/>
            <a:ext cx="1656000" cy="1247760"/>
          </a:xfrm>
          <a:prstGeom prst="rect">
            <a:avLst/>
          </a:prstGeom>
          <a:ln w="0">
            <a:noFill/>
          </a:ln>
        </p:spPr>
      </p:pic>
      <p:sp>
        <p:nvSpPr>
          <p:cNvPr id="528" name="Line 10"/>
          <p:cNvSpPr/>
          <p:nvPr/>
        </p:nvSpPr>
        <p:spPr>
          <a:xfrm flipV="1">
            <a:off x="190440" y="3976200"/>
            <a:ext cx="1528920" cy="46044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Line 11"/>
          <p:cNvSpPr/>
          <p:nvPr/>
        </p:nvSpPr>
        <p:spPr>
          <a:xfrm flipV="1">
            <a:off x="5627520" y="2606760"/>
            <a:ext cx="1087560" cy="37296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3.7037E-007 C -0.00486 -0.01782 -0.00573 -0.03542 0.00104 -0.04468 C 0.00781 -0.05394 0.02656 -0.05579 0.03698 -0.05532 C 0.04739 -0.05509 0.05434 -0.03982 0.06319 -0.04329 C 0.07187 -0.04653 0.08489 -0.06991 0.08941 -0.07523 E">
                                      <p:cBhvr>
                                        <p:cTn id="573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C 2.5E-006 -0.02153 2.4999999999999E-006 -0.04306 0.00625 -0.05347 C 0.01267 -0.06389 0.03038 -0.06482 0.03837 -0.0632 C 0.04635 -0.06158 0.04774 -0.04607 0.05469 -0.04375 C 0.0618 -0.04144 0.06927 -0.04769 0.08038 -0.04861 C 0.09132 -0.04954 0.11389 -0.04861 0.12066 -0.04861 E">
                                      <p:cBhvr>
                                        <p:cTn id="575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C 0.00417 -0.0081 0.00851 -0.01597 0.01493 -0.01898 C 0.02136 -0.02199 0.03281 -0.01968 0.03837 -0.01829 C 0.04393 -0.01713 0.0441 -0.01296 0.04809 -0.01111 C 0.05226 -0.00926 0.0566 -0.00671 0.06302 -0.00741 C 0.06945 -0.00833 0.08004 -0.01204 0.08663 -0.01597 C 0.09323 -0.01968 0.10035 -0.02778 0.10295 -0.03032 E">
                                      <p:cBhvr>
                                        <p:cTn id="577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1.48148E-006 C 0.00937 -0.01551 0.01961 -0.03032 0.03263 -0.03611 C 0.04566 -0.04167 0.06475 -0.03542 0.07795 -0.03449 C 0.09097 -0.03403 0.09982 -0.02893 0.11163 -0.03194 C 0.12291 -0.03542 0.13628 -0.04792 0.14652 -0.0544 C 0.15677 -0.06111 0.16701 -0.07014 0.17326 -0.07176 C 0.17986 -0.07268 0.18333 -0.06528 0.18593 -0.06389 E">
                                      <p:cBhvr>
                                        <p:cTn id="579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93 -0.06389 C 0.22482 -0.07384 0.26388 -0.08356 0.29583 -0.09629 C 0.32777 -0.10903 0.35902 -0.1331 0.37743 -0.1412 C 0.39566 -0.1493 0.40138 -0.14491 0.40642 -0.14537 E">
                                      <p:cBhvr>
                                        <p:cTn id="582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66 -0.04861 C 0.14306 -0.06574 0.16546 -0.08287 0.18264 -0.08889 C 0.19983 -0.09491 0.2099 -0.08449 0.22344 -0.08542 C 0.23698 -0.08634 0.25053 -0.09028 0.26424 -0.09421 E">
                                      <p:cBhvr>
                                        <p:cTn id="584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41 -0.07523 C 0.10989 -0.08055 0.13038 -0.08588 0.15382 -0.0963 C 0.17725 -0.10671 0.21753 -0.13148 0.23021 -0.13842 E">
                                      <p:cBhvr>
                                        <p:cTn id="586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95 -0.03032 C 0.12726 -0.04676 0.15174 -0.0632 0.17674 -0.07523 C 0.20174 -0.0875 0.22709 -0.09583 0.25261 -0.1037 E">
                                      <p:cBhvr>
                                        <p:cTn id="588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42 -0.14537 C 0.43437 -0.16042 0.4625 -0.17547 0.50243 -0.1838 C 0.54236 -0.19213 0.59409 -0.19422 0.64583 -0.19607 E">
                                      <p:cBhvr>
                                        <p:cTn id="591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95 0.01528 C -0.0309 -0.01227 -0.00851 -0.03958 0.03125 -0.06412 C 0.07118 -0.08866 0.12569 -0.12546 0.18646 -0.13264 C 0.24722 -0.13981 0.32153 -0.12384 0.39583 -0.10787 E">
                                      <p:cBhvr>
                                        <p:cTn id="596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100000">
              <a:srgbClr val="b0f5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dinoz"/>
          <p:cNvPicPr/>
          <p:nvPr/>
        </p:nvPicPr>
        <p:blipFill>
          <a:blip r:embed="rId1"/>
          <a:stretch/>
        </p:blipFill>
        <p:spPr>
          <a:xfrm>
            <a:off x="4898880" y="4098960"/>
            <a:ext cx="1916280" cy="11732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2"/>
          <p:cNvSpPr/>
          <p:nvPr/>
        </p:nvSpPr>
        <p:spPr>
          <a:xfrm rot="20690400">
            <a:off x="6028560" y="3468240"/>
            <a:ext cx="13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км/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AutoShape 2"/>
          <p:cNvSpPr/>
          <p:nvPr/>
        </p:nvSpPr>
        <p:spPr>
          <a:xfrm rot="4732200">
            <a:off x="3251880" y="3699000"/>
            <a:ext cx="459000" cy="4398840"/>
          </a:xfrm>
          <a:custGeom>
            <a:avLst/>
            <a:gdLst>
              <a:gd name="textAreaLeft" fmla="*/ 0 w 459000"/>
              <a:gd name="textAreaRight" fmla="*/ 165600 w 459000"/>
              <a:gd name="textAreaTop" fmla="*/ 100080 h 4398840"/>
              <a:gd name="textAreaBottom" fmla="*/ 4298760 h 439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8"/>
                  <a:pt x="10800" y="1575"/>
                </a:cubicBezTo>
                <a:lnTo>
                  <a:pt x="10800" y="9225"/>
                </a:lnTo>
                <a:cubicBezTo>
                  <a:pt x="10800" y="10013"/>
                  <a:pt x="16200" y="10800"/>
                  <a:pt x="21600" y="10800"/>
                </a:cubicBezTo>
                <a:cubicBezTo>
                  <a:pt x="16200" y="10800"/>
                  <a:pt x="10800" y="11588"/>
                  <a:pt x="10800" y="12375"/>
                </a:cubicBezTo>
                <a:lnTo>
                  <a:pt x="10800" y="20025"/>
                </a:lnTo>
                <a:cubicBezTo>
                  <a:pt x="10800" y="20813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4" descr="dinoz"/>
          <p:cNvPicPr/>
          <p:nvPr/>
        </p:nvPicPr>
        <p:blipFill>
          <a:blip r:embed="rId2"/>
          <a:stretch/>
        </p:blipFill>
        <p:spPr>
          <a:xfrm>
            <a:off x="5572080" y="4510080"/>
            <a:ext cx="1943280" cy="1190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dinoz"/>
          <p:cNvPicPr/>
          <p:nvPr/>
        </p:nvPicPr>
        <p:blipFill>
          <a:blip r:embed="rId3"/>
          <a:stretch/>
        </p:blipFill>
        <p:spPr>
          <a:xfrm>
            <a:off x="5994360" y="4554360"/>
            <a:ext cx="2268720" cy="1390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prehis5"/>
          <p:cNvPicPr/>
          <p:nvPr/>
        </p:nvPicPr>
        <p:blipFill>
          <a:blip r:embed="rId4"/>
          <a:stretch/>
        </p:blipFill>
        <p:spPr>
          <a:xfrm>
            <a:off x="210960" y="4846680"/>
            <a:ext cx="1103400" cy="14349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9"/>
          <p:cNvSpPr/>
          <p:nvPr/>
        </p:nvSpPr>
        <p:spPr>
          <a:xfrm rot="20697600">
            <a:off x="100800" y="408780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км/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Line 10"/>
          <p:cNvSpPr/>
          <p:nvPr/>
        </p:nvSpPr>
        <p:spPr>
          <a:xfrm flipV="1">
            <a:off x="210960" y="4387320"/>
            <a:ext cx="1528920" cy="45900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Line 11"/>
          <p:cNvSpPr/>
          <p:nvPr/>
        </p:nvSpPr>
        <p:spPr>
          <a:xfrm flipV="1">
            <a:off x="6294600" y="3778200"/>
            <a:ext cx="1085760" cy="37296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Text Box 13"/>
          <p:cNvSpPr/>
          <p:nvPr/>
        </p:nvSpPr>
        <p:spPr>
          <a:xfrm rot="20697600">
            <a:off x="3185280" y="593100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12 км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21400" y="1700280"/>
            <a:ext cx="50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12: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-2) = 3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)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66680" y="2336760"/>
            <a:ext cx="850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3  56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= 168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м)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летит птица за 3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0"/>
              <p:cNvSpPr txBox="1"/>
              <p:nvPr/>
            </p:nvSpPr>
            <p:spPr>
              <a:xfrm>
                <a:off x="1098720" y="2552760"/>
                <a:ext cx="3650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3" name="Picture 21" descr="drakosha"/>
          <p:cNvPicPr/>
          <p:nvPr/>
        </p:nvPicPr>
        <p:blipFill>
          <a:blip r:embed="rId5"/>
          <a:stretch/>
        </p:blipFill>
        <p:spPr>
          <a:xfrm>
            <a:off x="2849400" y="3429000"/>
            <a:ext cx="1521000" cy="11462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2"/>
          <p:cNvSpPr/>
          <p:nvPr/>
        </p:nvSpPr>
        <p:spPr>
          <a:xfrm>
            <a:off x="5221440" y="1797120"/>
            <a:ext cx="30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тица летала 3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0" y="50760"/>
            <a:ext cx="93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хотник отправился вслед за динозаврами. Вместе с ним вылетела птица, догнав динозавров, она вернулась к охотнику. Затем снова к динозаврам и т.д. и летала между ними до тех пор пока они не встретились. Какое расстояние пролетела птица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3784680" y="36813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т</a:t>
            </a: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6 км/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3.7037E-007 C -0.00486 -0.01782 -0.00573 -0.03542 0.00104 -0.04468 C 0.00781 -0.05394 0.02656 -0.05579 0.03698 -0.05532 C 0.04739 -0.05509 0.05434 -0.03982 0.06319 -0.04329 C 0.07187 -0.04653 0.08489 -0.06991 0.08941 -0.07523 E">
                                      <p:cBhvr>
                                        <p:cTn id="633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C 2.5E-006 -0.02153 2.4999999999999E-006 -0.04306 0.00625 -0.05347 C 0.01267 -0.06389 0.03038 -0.06482 0.03837 -0.0632 C 0.04635 -0.06158 0.04774 -0.04607 0.05469 -0.04375 C 0.0618 -0.04144 0.06927 -0.04769 0.08038 -0.04861 C 0.09132 -0.04954 0.11389 -0.04861 0.12066 -0.04861 E">
                                      <p:cBhvr>
                                        <p:cTn id="635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C 0.00417 -0.0081 0.00851 -0.01597 0.01493 -0.01898 C 0.02136 -0.02199 0.03281 -0.01968 0.03837 -0.01829 C 0.04393 -0.01713 0.0441 -0.01296 0.04809 -0.01111 C 0.05226 -0.00926 0.0566 -0.00671 0.06302 -0.00741 C 0.06945 -0.00833 0.08004 -0.01204 0.08663 -0.01597 C 0.09323 -0.01968 0.10035 -0.02778 0.10295 -0.03032 E">
                                      <p:cBhvr>
                                        <p:cTn id="637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1.48148E-006 C 0.00937 -0.01551 0.01961 -0.03032 0.03263 -0.03611 C 0.04566 -0.04167 0.06475 -0.03542 0.07795 -0.03449 C 0.09097 -0.03403 0.09982 -0.02893 0.11163 -0.03194 C 0.12291 -0.03542 0.13628 -0.04792 0.14652 -0.0544 C 0.15677 -0.06111 0.16701 -0.07014 0.17326 -0.07176 C 0.17986 -0.07268 0.18333 -0.06528 0.18593 -0.06389 E">
                                      <p:cBhvr>
                                        <p:cTn id="639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94 -0.06389 C 0.22466 -0.07384 0.26354 -0.08287 0.29584 -0.0956 C 0.32743 -0.10764 0.35886 -0.13055 0.37726 -0.13819 C 0.39549 -0.14583 0.40122 -0.1419 0.40643 -0.14236 E">
                                      <p:cBhvr>
                                        <p:cTn id="642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66 -0.04861 C 0.14306 -0.06574 0.16546 -0.08287 0.18264 -0.08889 C 0.19983 -0.09491 0.2099 -0.08449 0.22344 -0.08542 C 0.23698 -0.08634 0.25053 -0.09028 0.26424 -0.09421 E">
                                      <p:cBhvr>
                                        <p:cTn id="644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41 -0.07523 C 0.10989 -0.08055 0.13038 -0.08588 0.15382 -0.0963 C 0.17725 -0.10671 0.21753 -0.13148 0.23021 -0.13842 E">
                                      <p:cBhvr>
                                        <p:cTn id="646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95 -0.03032 C 0.12726 -0.04676 0.15174 -0.0632 0.17674 -0.07523 C 0.20174 -0.0875 0.22709 -0.09583 0.25261 -0.1037 E">
                                      <p:cBhvr>
                                        <p:cTn id="64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861 -0.14537 C 0.42656 -0.16042 0.45468 -0.17547 0.49461 -0.1838 C 0.53454 -0.19213 0.58628 -0.19422 0.63802 -0.19607 E">
                                      <p:cBhvr>
                                        <p:cTn id="651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6529320" y="220500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45км/ч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Rectangle 3"/>
          <p:cNvSpPr/>
          <p:nvPr/>
        </p:nvSpPr>
        <p:spPr>
          <a:xfrm rot="237600">
            <a:off x="-398520" y="4005360"/>
            <a:ext cx="9542520" cy="12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9" name="Picture 4" descr="52r1"/>
          <p:cNvPicPr/>
          <p:nvPr/>
        </p:nvPicPr>
        <p:blipFill>
          <a:blip r:embed="rId2"/>
          <a:stretch/>
        </p:blipFill>
        <p:spPr>
          <a:xfrm>
            <a:off x="4284720" y="1773360"/>
            <a:ext cx="538200" cy="1476360"/>
          </a:xfrm>
          <a:prstGeom prst="rect">
            <a:avLst/>
          </a:prstGeom>
          <a:ln w="0">
            <a:noFill/>
          </a:ln>
        </p:spPr>
      </p:pic>
      <p:sp>
        <p:nvSpPr>
          <p:cNvPr id="270" name="Line 5"/>
          <p:cNvSpPr/>
          <p:nvPr/>
        </p:nvSpPr>
        <p:spPr>
          <a:xfrm>
            <a:off x="368280" y="3336840"/>
            <a:ext cx="1925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Line 6"/>
          <p:cNvSpPr/>
          <p:nvPr/>
        </p:nvSpPr>
        <p:spPr>
          <a:xfrm flipH="1">
            <a:off x="6876720" y="3284640"/>
            <a:ext cx="1731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9000" y="1773360"/>
            <a:ext cx="28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 15км/ч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ьше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AutoShape 9"/>
          <p:cNvSpPr/>
          <p:nvPr/>
        </p:nvSpPr>
        <p:spPr>
          <a:xfrm rot="5610600">
            <a:off x="4292280" y="1376280"/>
            <a:ext cx="731520" cy="8491320"/>
          </a:xfrm>
          <a:custGeom>
            <a:avLst/>
            <a:gdLst>
              <a:gd name="textAreaLeft" fmla="*/ 0 w 731520"/>
              <a:gd name="textAreaRight" fmla="*/ 264240 w 731520"/>
              <a:gd name="textAreaTop" fmla="*/ 323280 h 8491320"/>
              <a:gd name="textAreaBottom" fmla="*/ 8168040 h 84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5"/>
                  <a:pt x="10800" y="2630"/>
                </a:cubicBezTo>
                <a:lnTo>
                  <a:pt x="10800" y="8190"/>
                </a:lnTo>
                <a:cubicBezTo>
                  <a:pt x="10800" y="9505"/>
                  <a:pt x="16200" y="10820"/>
                  <a:pt x="21600" y="10820"/>
                </a:cubicBezTo>
                <a:cubicBezTo>
                  <a:pt x="16200" y="10820"/>
                  <a:pt x="10800" y="12135"/>
                  <a:pt x="10800" y="13450"/>
                </a:cubicBezTo>
                <a:lnTo>
                  <a:pt x="10800" y="18970"/>
                </a:lnTo>
                <a:cubicBezTo>
                  <a:pt x="10800" y="2028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Text Box 10"/>
          <p:cNvSpPr/>
          <p:nvPr/>
        </p:nvSpPr>
        <p:spPr>
          <a:xfrm rot="282000">
            <a:off x="3492000" y="5851080"/>
            <a:ext cx="28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210к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725280" y="692280"/>
            <a:ext cx="202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р.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0" y="4272120"/>
            <a:ext cx="9475920" cy="7156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7" name="Picture 13" descr="3"/>
          <p:cNvPicPr/>
          <p:nvPr/>
        </p:nvPicPr>
        <p:blipFill>
          <a:blip r:embed="rId3"/>
          <a:stretch/>
        </p:blipFill>
        <p:spPr>
          <a:xfrm flipH="1" rot="416400">
            <a:off x="7163640" y="4005000"/>
            <a:ext cx="2274840" cy="952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car37"/>
          <p:cNvPicPr/>
          <p:nvPr/>
        </p:nvPicPr>
        <p:blipFill>
          <a:blip r:embed="rId4"/>
          <a:stretch/>
        </p:blipFill>
        <p:spPr>
          <a:xfrm rot="21424800">
            <a:off x="0" y="4221000"/>
            <a:ext cx="187308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-0.42361 -0.04838 E">
                                      <p:cBhvr>
                                        <p:cTn id="32" dur="5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42118 0.03981 E">
                                      <p:cBhvr>
                                        <p:cTn id="34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3276720" y="189000"/>
            <a:ext cx="1800000" cy="115236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2с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4896000" y="1841400"/>
            <a:ext cx="1654200" cy="3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0" y="500364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2720" y="3516480"/>
            <a:ext cx="9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Calibri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8213760" y="35020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Calibri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4" name="Picture 7" descr="blbird1"/>
          <p:cNvPicPr/>
          <p:nvPr/>
        </p:nvPicPr>
        <p:blipFill>
          <a:blip r:embed="rId2"/>
          <a:stretch/>
        </p:blipFill>
        <p:spPr>
          <a:xfrm flipH="1">
            <a:off x="2339640" y="2627280"/>
            <a:ext cx="1584360" cy="801720"/>
          </a:xfrm>
          <a:prstGeom prst="rect">
            <a:avLst/>
          </a:prstGeom>
          <a:ln w="0">
            <a:noFill/>
          </a:ln>
        </p:spPr>
      </p:pic>
      <p:sp>
        <p:nvSpPr>
          <p:cNvPr id="285" name="Line 8"/>
          <p:cNvSpPr/>
          <p:nvPr/>
        </p:nvSpPr>
        <p:spPr>
          <a:xfrm flipH="1">
            <a:off x="2043000" y="1909800"/>
            <a:ext cx="1395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6" name="Picture 9" descr="blbird"/>
          <p:cNvPicPr/>
          <p:nvPr/>
        </p:nvPicPr>
        <p:blipFill>
          <a:blip r:embed="rId3"/>
          <a:stretch/>
        </p:blipFill>
        <p:spPr>
          <a:xfrm>
            <a:off x="4781520" y="21337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birdbathdone"/>
          <p:cNvPicPr/>
          <p:nvPr/>
        </p:nvPicPr>
        <p:blipFill>
          <a:blip r:embed="rId4"/>
          <a:stretch/>
        </p:blipFill>
        <p:spPr>
          <a:xfrm>
            <a:off x="3564000" y="2781360"/>
            <a:ext cx="1805040" cy="2555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1"/>
          <p:cNvSpPr/>
          <p:nvPr/>
        </p:nvSpPr>
        <p:spPr>
          <a:xfrm>
            <a:off x="4626000" y="885960"/>
            <a:ext cx="233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Calibri"/>
              </a:rPr>
              <a:t>16м/с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1628640" y="9810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20м/с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3457440" y="2610000"/>
            <a:ext cx="1414440" cy="17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4871880" y="1797120"/>
            <a:ext cx="0" cy="846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76520" y="1878120"/>
            <a:ext cx="15840" cy="731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3404520" y="1700280"/>
            <a:ext cx="14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10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AutoShape 17"/>
          <p:cNvSpPr/>
          <p:nvPr/>
        </p:nvSpPr>
        <p:spPr>
          <a:xfrm rot="16200000">
            <a:off x="4236840" y="1171440"/>
            <a:ext cx="900000" cy="8583480"/>
          </a:xfrm>
          <a:custGeom>
            <a:avLst/>
            <a:gdLst>
              <a:gd name="textAreaLeft" fmla="*/ 574920 w 900000"/>
              <a:gd name="textAreaRight" fmla="*/ 900360 w 900000"/>
              <a:gd name="textAreaTop" fmla="*/ 218160 h 8583480"/>
              <a:gd name="textAreaBottom" fmla="*/ 8365320 h 858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9"/>
                  <a:pt x="10800" y="1757"/>
                </a:cubicBezTo>
                <a:lnTo>
                  <a:pt x="10800" y="8961"/>
                </a:lnTo>
                <a:cubicBezTo>
                  <a:pt x="10800" y="9840"/>
                  <a:pt x="5400" y="10718"/>
                  <a:pt x="0" y="10718"/>
                </a:cubicBezTo>
                <a:cubicBezTo>
                  <a:pt x="5400" y="10718"/>
                  <a:pt x="10800" y="11597"/>
                  <a:pt x="10800" y="12475"/>
                </a:cubicBezTo>
                <a:lnTo>
                  <a:pt x="10800" y="19843"/>
                </a:lnTo>
                <a:cubicBezTo>
                  <a:pt x="10800" y="2072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4433040" y="5851440"/>
            <a:ext cx="107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?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5087 0.00463 E">
                                      <p:cBhvr>
                                        <p:cTn id="76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-0.25989 -0.0044 E">
                                      <p:cBhvr>
                                        <p:cTn id="78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hik"/>
          <p:cNvPicPr/>
          <p:nvPr/>
        </p:nvPicPr>
        <p:blipFill>
          <a:blip r:embed="rId2"/>
          <a:stretch/>
        </p:blipFill>
        <p:spPr>
          <a:xfrm>
            <a:off x="7596360" y="1971720"/>
            <a:ext cx="1311120" cy="1111320"/>
          </a:xfrm>
          <a:prstGeom prst="rect">
            <a:avLst/>
          </a:prstGeom>
          <a:ln w="0">
            <a:noFill/>
          </a:ln>
        </p:spPr>
      </p:pic>
      <p:sp>
        <p:nvSpPr>
          <p:cNvPr id="297" name="Line 3"/>
          <p:cNvSpPr/>
          <p:nvPr/>
        </p:nvSpPr>
        <p:spPr>
          <a:xfrm flipH="1">
            <a:off x="0" y="3606840"/>
            <a:ext cx="9144000" cy="17301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8" name="Picture 4" descr="13a2"/>
          <p:cNvPicPr/>
          <p:nvPr/>
        </p:nvPicPr>
        <p:blipFill>
          <a:blip r:embed="rId3"/>
          <a:stretch/>
        </p:blipFill>
        <p:spPr>
          <a:xfrm rot="20891400">
            <a:off x="4676400" y="3103200"/>
            <a:ext cx="2333520" cy="14191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5"/>
          <p:cNvSpPr/>
          <p:nvPr/>
        </p:nvSpPr>
        <p:spPr>
          <a:xfrm rot="4710000">
            <a:off x="7005600" y="2538000"/>
            <a:ext cx="650880" cy="3625920"/>
          </a:xfrm>
          <a:custGeom>
            <a:avLst/>
            <a:gdLst>
              <a:gd name="textAreaLeft" fmla="*/ 0 w 650880"/>
              <a:gd name="textAreaRight" fmla="*/ 235080 w 650880"/>
              <a:gd name="textAreaTop" fmla="*/ 94320 h 3625920"/>
              <a:gd name="textAreaBottom" fmla="*/ 3531600 h 362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Text Box 6"/>
          <p:cNvSpPr/>
          <p:nvPr/>
        </p:nvSpPr>
        <p:spPr>
          <a:xfrm rot="20870400">
            <a:off x="6591240" y="4377960"/>
            <a:ext cx="193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alibri"/>
              </a:rPr>
              <a:t>40м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Line 7"/>
          <p:cNvSpPr/>
          <p:nvPr/>
        </p:nvSpPr>
        <p:spPr>
          <a:xfrm flipH="1">
            <a:off x="4008600" y="2583000"/>
            <a:ext cx="139680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Line 8"/>
          <p:cNvSpPr/>
          <p:nvPr/>
        </p:nvSpPr>
        <p:spPr>
          <a:xfrm flipH="1">
            <a:off x="6804000" y="1052640"/>
            <a:ext cx="1828800" cy="352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Text Box 9"/>
          <p:cNvSpPr/>
          <p:nvPr/>
        </p:nvSpPr>
        <p:spPr>
          <a:xfrm rot="20786400">
            <a:off x="3089160" y="2012760"/>
            <a:ext cx="26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360м/мин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Text Box 10"/>
          <p:cNvSpPr/>
          <p:nvPr/>
        </p:nvSpPr>
        <p:spPr>
          <a:xfrm rot="20931000">
            <a:off x="5963400" y="468000"/>
            <a:ext cx="29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370м/мин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95280" y="1125360"/>
            <a:ext cx="290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стр?</a:t>
            </a:r>
            <a:r>
              <a:rPr b="1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10405E-006 L -0.48177 0.09411 E">
                                      <p:cBhvr>
                                        <p:cTn id="153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51445E-007 C -0.0198 -0.0504 -0.03941 -0.10058 -0.07032 -0.08694 C -0.10122 -0.07283 -0.14723 0.07746 -0.18525 0.08416 C -0.22309 0.09087 -0.25799 -0.04509 -0.29809 -0.04578 C -0.33785 -0.04647 -0.35886 0.04856 -0.42466 0.07977 C -0.49028 0.11075 -0.64827 0.1311 -0.69289 0.14173 E">
                                      <p:cBhvr>
                                        <p:cTn id="155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7"/>
          <p:cNvPicPr/>
          <p:nvPr/>
        </p:nvPicPr>
        <p:blipFill>
          <a:blip r:embed="rId1"/>
          <a:stretch/>
        </p:blipFill>
        <p:spPr>
          <a:xfrm>
            <a:off x="7093080" y="2624040"/>
            <a:ext cx="2025360" cy="1236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7"/>
          <p:cNvPicPr/>
          <p:nvPr/>
        </p:nvPicPr>
        <p:blipFill>
          <a:blip r:embed="rId2"/>
          <a:stretch/>
        </p:blipFill>
        <p:spPr>
          <a:xfrm flipH="1">
            <a:off x="107640" y="2846520"/>
            <a:ext cx="1568520" cy="1087200"/>
          </a:xfrm>
          <a:prstGeom prst="rect">
            <a:avLst/>
          </a:prstGeom>
          <a:ln w="0">
            <a:noFill/>
          </a:ln>
        </p:spPr>
      </p:pic>
      <p:sp>
        <p:nvSpPr>
          <p:cNvPr id="308" name="Line 4"/>
          <p:cNvSpPr/>
          <p:nvPr/>
        </p:nvSpPr>
        <p:spPr>
          <a:xfrm>
            <a:off x="214200" y="4525920"/>
            <a:ext cx="8701200" cy="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Line 5"/>
          <p:cNvSpPr/>
          <p:nvPr/>
        </p:nvSpPr>
        <p:spPr>
          <a:xfrm flipV="1">
            <a:off x="228600" y="396072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Line 6"/>
          <p:cNvSpPr/>
          <p:nvPr/>
        </p:nvSpPr>
        <p:spPr>
          <a:xfrm flipV="1">
            <a:off x="8916840" y="3885840"/>
            <a:ext cx="0" cy="65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27160" y="3992400"/>
            <a:ext cx="1265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Line 8"/>
          <p:cNvSpPr/>
          <p:nvPr/>
        </p:nvSpPr>
        <p:spPr>
          <a:xfrm flipH="1">
            <a:off x="7147080" y="3902040"/>
            <a:ext cx="1736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3151800" y="5211720"/>
            <a:ext cx="37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alibri"/>
              </a:rPr>
              <a:t>1220км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182520" y="4114800"/>
            <a:ext cx="9450360" cy="1328760"/>
          </a:xfrm>
          <a:custGeom>
            <a:avLst/>
            <a:gdLst/>
            <a:ahLst/>
            <a:rect l="l" t="t" r="r" b="b"/>
            <a:pathLst>
              <a:path w="5953" h="1116">
                <a:moveTo>
                  <a:pt x="0" y="413"/>
                </a:moveTo>
                <a:cubicBezTo>
                  <a:pt x="938" y="762"/>
                  <a:pt x="1877" y="1112"/>
                  <a:pt x="2784" y="1114"/>
                </a:cubicBezTo>
                <a:cubicBezTo>
                  <a:pt x="3691" y="1116"/>
                  <a:pt x="4933" y="609"/>
                  <a:pt x="5443" y="423"/>
                </a:cubicBezTo>
                <a:cubicBezTo>
                  <a:pt x="5953" y="237"/>
                  <a:pt x="5899" y="118"/>
                  <a:pt x="5846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3243240" y="198360"/>
            <a:ext cx="6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3598920" y="51264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тр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4581720" y="21276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10ч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419440" y="1730520"/>
            <a:ext cx="35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65 км/ч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9" name="Picture 15" descr="083"/>
          <p:cNvPicPr/>
          <p:nvPr/>
        </p:nvPicPr>
        <p:blipFill>
          <a:blip r:embed="rId3"/>
          <a:stretch/>
        </p:blipFill>
        <p:spPr>
          <a:xfrm>
            <a:off x="3274920" y="2914560"/>
            <a:ext cx="1086120" cy="19908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6"/>
          <p:cNvSpPr/>
          <p:nvPr/>
        </p:nvSpPr>
        <p:spPr>
          <a:xfrm>
            <a:off x="303120" y="10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204480" y="1839960"/>
            <a:ext cx="232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w Cen MT"/>
              </a:rPr>
              <a:t>V</a:t>
            </a:r>
            <a:r>
              <a:rPr b="1" i="1" lang="en-US" sz="3200" spc="-1" strike="noStrike">
                <a:solidFill>
                  <a:srgbClr val="ff0000"/>
                </a:solidFill>
                <a:latin typeface="Tw Cen MT"/>
              </a:rPr>
              <a:t>2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 =?</a:t>
            </a:r>
            <a:r>
              <a:rPr b="1" i="1" lang="en-US" sz="6000" spc="-1" strike="noStrike">
                <a:solidFill>
                  <a:srgbClr val="cc0000"/>
                </a:solidFill>
                <a:latin typeface="Tw Cen MT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3432E-007 L 0.20556 -0.00717 E">
                                      <p:cBhvr>
                                        <p:cTn id="181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57909E-006 L -0.39427 0.00809 E">
                                      <p:cBhvr>
                                        <p:cTn id="183" dur="5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 rot="555600">
            <a:off x="-144000" y="4510080"/>
            <a:ext cx="9540720" cy="12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142000"/>
          </a:gradFill>
          <a:ln w="936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395280" y="1557360"/>
            <a:ext cx="1941480" cy="32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Text Box 4"/>
          <p:cNvSpPr/>
          <p:nvPr/>
        </p:nvSpPr>
        <p:spPr>
          <a:xfrm rot="544800">
            <a:off x="405360" y="549360"/>
            <a:ext cx="188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м/с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Text Box 5"/>
          <p:cNvSpPr/>
          <p:nvPr/>
        </p:nvSpPr>
        <p:spPr>
          <a:xfrm rot="396000">
            <a:off x="1972440" y="5546520"/>
            <a:ext cx="188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м/с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AutoShape 6"/>
          <p:cNvSpPr/>
          <p:nvPr/>
        </p:nvSpPr>
        <p:spPr>
          <a:xfrm rot="16604400">
            <a:off x="7915320" y="5057640"/>
            <a:ext cx="1217520" cy="1274760"/>
          </a:xfrm>
          <a:prstGeom prst="flowChartDelay">
            <a:avLst/>
          </a:prstGeom>
          <a:gradFill rotWithShape="0">
            <a:gsLst>
              <a:gs pos="0">
                <a:srgbClr val="ffcc99"/>
              </a:gs>
              <a:gs pos="50000">
                <a:srgbClr val="cc6600"/>
              </a:gs>
              <a:gs pos="100000">
                <a:srgbClr val="ffcc99"/>
              </a:gs>
            </a:gsLst>
            <a:lin ang="2298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0" y="4475160"/>
            <a:ext cx="2843280" cy="46656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Text Box 9"/>
          <p:cNvSpPr/>
          <p:nvPr/>
        </p:nvSpPr>
        <p:spPr>
          <a:xfrm rot="485400">
            <a:off x="460800" y="463248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Calibri"/>
              </a:rPr>
              <a:t>8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Text Box 10"/>
          <p:cNvSpPr/>
          <p:nvPr/>
        </p:nvSpPr>
        <p:spPr>
          <a:xfrm rot="606600">
            <a:off x="4957200" y="5403600"/>
            <a:ext cx="13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Calibri"/>
              </a:rPr>
              <a:t>1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0" name="Picture 11" descr="janitor"/>
          <p:cNvPicPr/>
          <p:nvPr/>
        </p:nvPicPr>
        <p:blipFill>
          <a:blip r:embed="rId2"/>
          <a:stretch/>
        </p:blipFill>
        <p:spPr>
          <a:xfrm>
            <a:off x="-184320" y="2271600"/>
            <a:ext cx="2816280" cy="2535480"/>
          </a:xfrm>
          <a:prstGeom prst="rect">
            <a:avLst/>
          </a:prstGeom>
          <a:ln w="0">
            <a:noFill/>
          </a:ln>
        </p:spPr>
      </p:pic>
      <p:sp>
        <p:nvSpPr>
          <p:cNvPr id="331" name="Line 12"/>
          <p:cNvSpPr/>
          <p:nvPr/>
        </p:nvSpPr>
        <p:spPr>
          <a:xfrm>
            <a:off x="2197080" y="5533920"/>
            <a:ext cx="1495440" cy="20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2" name="Picture 13" descr="065"/>
          <p:cNvPicPr/>
          <p:nvPr/>
        </p:nvPicPr>
        <p:blipFill>
          <a:blip r:embed="rId3"/>
          <a:stretch/>
        </p:blipFill>
        <p:spPr>
          <a:xfrm>
            <a:off x="7610400" y="5775480"/>
            <a:ext cx="949320" cy="971280"/>
          </a:xfrm>
          <a:prstGeom prst="rect">
            <a:avLst/>
          </a:prstGeom>
          <a:ln w="0">
            <a:noFill/>
          </a:ln>
        </p:spPr>
      </p:pic>
      <p:sp>
        <p:nvSpPr>
          <p:cNvPr id="333" name="Line 14"/>
          <p:cNvSpPr/>
          <p:nvPr/>
        </p:nvSpPr>
        <p:spPr>
          <a:xfrm>
            <a:off x="3348000" y="5052960"/>
            <a:ext cx="4537080" cy="6811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4" name="Picture 8" descr="MOUSE_1"/>
          <p:cNvPicPr/>
          <p:nvPr/>
        </p:nvPicPr>
        <p:blipFill>
          <a:blip r:embed="rId4"/>
          <a:stretch/>
        </p:blipFill>
        <p:spPr>
          <a:xfrm>
            <a:off x="2016000" y="4098960"/>
            <a:ext cx="1893960" cy="10335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"/>
          <p:cNvSpPr/>
          <p:nvPr/>
        </p:nvSpPr>
        <p:spPr>
          <a:xfrm>
            <a:off x="5003640" y="227160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 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22222E-006 L 0.64618 0.17107 E">
                                      <p:cBhvr>
                                        <p:cTn id="264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0.63055 0.14652 E">
                                      <p:cBhvr>
                                        <p:cTn id="266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2"/>
          <p:cNvSpPr/>
          <p:nvPr/>
        </p:nvSpPr>
        <p:spPr>
          <a:xfrm rot="315600">
            <a:off x="-11160" y="1698120"/>
            <a:ext cx="3564000" cy="10083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858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60м/мин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7" name="Picture 3" descr="an_sheep"/>
          <p:cNvPicPr/>
          <p:nvPr/>
        </p:nvPicPr>
        <p:blipFill>
          <a:blip r:embed="rId1"/>
          <a:stretch/>
        </p:blipFill>
        <p:spPr>
          <a:xfrm rot="404400">
            <a:off x="4044600" y="3341520"/>
            <a:ext cx="1693800" cy="1146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15a4"/>
          <p:cNvPicPr/>
          <p:nvPr/>
        </p:nvPicPr>
        <p:blipFill>
          <a:blip r:embed="rId2"/>
          <a:stretch/>
        </p:blipFill>
        <p:spPr>
          <a:xfrm rot="439200">
            <a:off x="0" y="2781000"/>
            <a:ext cx="2073240" cy="125712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5"/>
          <p:cNvSpPr/>
          <p:nvPr/>
        </p:nvSpPr>
        <p:spPr>
          <a:xfrm>
            <a:off x="257040" y="4010040"/>
            <a:ext cx="4122720" cy="901800"/>
          </a:xfrm>
          <a:custGeom>
            <a:avLst/>
            <a:gdLst/>
            <a:ahLst/>
            <a:rect l="l" t="t" r="r" b="b"/>
            <a:pathLst>
              <a:path w="2597" h="568">
                <a:moveTo>
                  <a:pt x="0" y="0"/>
                </a:moveTo>
                <a:cubicBezTo>
                  <a:pt x="379" y="232"/>
                  <a:pt x="759" y="464"/>
                  <a:pt x="1192" y="516"/>
                </a:cubicBezTo>
                <a:cubicBezTo>
                  <a:pt x="1625" y="568"/>
                  <a:pt x="2363" y="348"/>
                  <a:pt x="2597" y="314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Text Box 6"/>
          <p:cNvSpPr/>
          <p:nvPr/>
        </p:nvSpPr>
        <p:spPr>
          <a:xfrm rot="478200">
            <a:off x="1302480" y="4833720"/>
            <a:ext cx="18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Calibri"/>
              </a:rPr>
              <a:t>600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250920" y="2708280"/>
            <a:ext cx="2178000" cy="1857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067280" y="2997360"/>
            <a:ext cx="1492200" cy="968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Text Box 9"/>
          <p:cNvSpPr/>
          <p:nvPr/>
        </p:nvSpPr>
        <p:spPr>
          <a:xfrm rot="339000">
            <a:off x="3600" y="841320"/>
            <a:ext cx="39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4458240" y="0"/>
            <a:ext cx="426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стр</a:t>
            </a:r>
            <a:r>
              <a:rPr b="1" lang="ru-RU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=12мин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0" y="3978360"/>
            <a:ext cx="9144000" cy="10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Text Box 14"/>
          <p:cNvSpPr/>
          <p:nvPr/>
        </p:nvSpPr>
        <p:spPr>
          <a:xfrm rot="250800">
            <a:off x="3874680" y="1955880"/>
            <a:ext cx="28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Tw Cen MT"/>
              </a:rPr>
              <a:t>V</a:t>
            </a:r>
            <a:r>
              <a:rPr b="1" i="1" lang="ru-RU" sz="4400" spc="-1" strike="noStrike">
                <a:solidFill>
                  <a:srgbClr val="cc0000"/>
                </a:solidFill>
                <a:latin typeface="Calibri"/>
              </a:rPr>
              <a:t>овцы</a:t>
            </a:r>
            <a:r>
              <a:rPr b="1" i="1" lang="ru-RU" sz="6000" spc="-1" strike="noStrike">
                <a:solidFill>
                  <a:srgbClr val="cc0000"/>
                </a:solidFill>
                <a:latin typeface="Calibri"/>
              </a:rPr>
              <a:t>?</a:t>
            </a:r>
            <a:r>
              <a:rPr b="1" i="1" lang="en-US" sz="6000" spc="-1" strike="noStrike">
                <a:solidFill>
                  <a:srgbClr val="cc0000"/>
                </a:solidFill>
                <a:latin typeface="Tw Cen MT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0.38246 0.0551 E">
                                      <p:cBhvr>
                                        <p:cTn id="307" dur="5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76458 0.10787 E">
                                      <p:cBhvr>
                                        <p:cTn id="309" dur="5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79280" y="189000"/>
                <a:ext cx="10843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Text Box 3"/>
          <p:cNvSpPr/>
          <p:nvPr/>
        </p:nvSpPr>
        <p:spPr>
          <a:xfrm>
            <a:off x="514440" y="5505480"/>
            <a:ext cx="4562280" cy="1008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w Cen MT"/>
                <a:ea typeface="Times New Roman"/>
              </a:rPr>
              <a:t>24 – (3+5)</a:t>
            </a:r>
            <a:r>
              <a:rPr b="1" lang="ru-RU" sz="6000" spc="-1" strike="noStrike">
                <a:solidFill>
                  <a:srgbClr val="000099"/>
                </a:solidFill>
                <a:latin typeface="Calibri"/>
                <a:ea typeface="Times New Roman"/>
              </a:rPr>
              <a:t>*4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228600" y="3749760"/>
            <a:ext cx="8610480" cy="140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Freeform 5"/>
          <p:cNvSpPr/>
          <p:nvPr/>
        </p:nvSpPr>
        <p:spPr>
          <a:xfrm>
            <a:off x="252360" y="1925640"/>
            <a:ext cx="12600" cy="1828800"/>
          </a:xfrm>
          <a:custGeom>
            <a:avLst/>
            <a:gdLst/>
            <a:ahLst/>
            <a:rect l="l" t="t" r="r" b="b"/>
            <a:pathLst>
              <a:path w="8" h="1152">
                <a:moveTo>
                  <a:pt x="0" y="115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Freeform 6"/>
          <p:cNvSpPr/>
          <p:nvPr/>
        </p:nvSpPr>
        <p:spPr>
          <a:xfrm>
            <a:off x="8886960" y="2141640"/>
            <a:ext cx="15840" cy="1655640"/>
          </a:xfrm>
          <a:custGeom>
            <a:avLst/>
            <a:gdLst/>
            <a:ahLst/>
            <a:rect l="l" t="t" r="r" b="b"/>
            <a:pathLst>
              <a:path w="10" h="1043">
                <a:moveTo>
                  <a:pt x="0" y="1043"/>
                </a:moveTo>
                <a:lnTo>
                  <a:pt x="1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Freeform 7"/>
          <p:cNvSpPr/>
          <p:nvPr/>
        </p:nvSpPr>
        <p:spPr>
          <a:xfrm>
            <a:off x="250920" y="1967040"/>
            <a:ext cx="1181160" cy="6120"/>
          </a:xfrm>
          <a:custGeom>
            <a:avLst/>
            <a:gdLst/>
            <a:ahLst/>
            <a:rect l="l" t="t" r="r" b="b"/>
            <a:pathLst>
              <a:path w="744" h="4">
                <a:moveTo>
                  <a:pt x="0" y="0"/>
                </a:moveTo>
                <a:lnTo>
                  <a:pt x="744" y="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Freeform 8"/>
          <p:cNvSpPr/>
          <p:nvPr/>
        </p:nvSpPr>
        <p:spPr>
          <a:xfrm>
            <a:off x="7021440" y="2117880"/>
            <a:ext cx="1881360" cy="17280"/>
          </a:xfrm>
          <a:custGeom>
            <a:avLst/>
            <a:gdLst/>
            <a:ahLst/>
            <a:rect l="l" t="t" r="r" b="b"/>
            <a:pathLst>
              <a:path w="1185" h="11">
                <a:moveTo>
                  <a:pt x="1185" y="0"/>
                </a:moveTo>
                <a:lnTo>
                  <a:pt x="0" y="1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141800" y="436248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24 к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Freeform 10"/>
          <p:cNvSpPr/>
          <p:nvPr/>
        </p:nvSpPr>
        <p:spPr>
          <a:xfrm>
            <a:off x="260280" y="3805200"/>
            <a:ext cx="8580600" cy="673200"/>
          </a:xfrm>
          <a:custGeom>
            <a:avLst/>
            <a:gdLst/>
            <a:ahLst/>
            <a:rect l="l" t="t" r="r" b="b"/>
            <a:pathLst>
              <a:path w="5405" h="714">
                <a:moveTo>
                  <a:pt x="0" y="0"/>
                </a:moveTo>
                <a:cubicBezTo>
                  <a:pt x="855" y="343"/>
                  <a:pt x="1710" y="686"/>
                  <a:pt x="2611" y="700"/>
                </a:cubicBezTo>
                <a:cubicBezTo>
                  <a:pt x="3512" y="714"/>
                  <a:pt x="4947" y="187"/>
                  <a:pt x="5405" y="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2743200" y="3089160"/>
            <a:ext cx="2333520" cy="627120"/>
          </a:xfrm>
          <a:custGeom>
            <a:avLst/>
            <a:gdLst/>
            <a:ahLst/>
            <a:rect l="l" t="t" r="r" b="b"/>
            <a:pathLst>
              <a:path w="1642" h="416">
                <a:moveTo>
                  <a:pt x="0" y="397"/>
                </a:moveTo>
                <a:cubicBezTo>
                  <a:pt x="285" y="198"/>
                  <a:pt x="571" y="0"/>
                  <a:pt x="845" y="3"/>
                </a:cubicBezTo>
                <a:cubicBezTo>
                  <a:pt x="1119" y="6"/>
                  <a:pt x="1509" y="347"/>
                  <a:pt x="1642" y="4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753360" y="1967040"/>
            <a:ext cx="145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?к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6"/>
              <p:cNvSpPr txBox="1"/>
              <p:nvPr/>
            </p:nvSpPr>
            <p:spPr>
              <a:xfrm>
                <a:off x="4521240" y="3359160"/>
                <a:ext cx="1015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9"/>
              <p:cNvSpPr txBox="1"/>
              <p:nvPr/>
            </p:nvSpPr>
            <p:spPr>
              <a:xfrm>
                <a:off x="7628040" y="115920"/>
                <a:ext cx="123012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Text Box 20"/>
          <p:cNvSpPr/>
          <p:nvPr/>
        </p:nvSpPr>
        <p:spPr>
          <a:xfrm>
            <a:off x="199080" y="4365720"/>
            <a:ext cx="379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ез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ч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22" descr="aluno03"/>
          <p:cNvPicPr/>
          <p:nvPr/>
        </p:nvPicPr>
        <p:blipFill>
          <a:blip r:embed="rId1"/>
          <a:stretch/>
        </p:blipFill>
        <p:spPr>
          <a:xfrm>
            <a:off x="179280" y="2060640"/>
            <a:ext cx="1003320" cy="1728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3" descr="aluno03"/>
          <p:cNvPicPr/>
          <p:nvPr/>
        </p:nvPicPr>
        <p:blipFill>
          <a:blip r:embed="rId2"/>
          <a:stretch/>
        </p:blipFill>
        <p:spPr>
          <a:xfrm flipH="1">
            <a:off x="7884720" y="206064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24"/>
          <p:cNvSpPr/>
          <p:nvPr/>
        </p:nvSpPr>
        <p:spPr>
          <a:xfrm>
            <a:off x="5499000" y="5746680"/>
            <a:ext cx="35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!!!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лайде ошибк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22083 1.11111E-006 E">
                                      <p:cBhvr>
                                        <p:cTn id="327" dur="5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-0.35417 1.11111E-006 E">
                                      <p:cBhvr>
                                        <p:cTn id="329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179280" y="765000"/>
                <a:ext cx="12812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Line 3"/>
          <p:cNvSpPr/>
          <p:nvPr/>
        </p:nvSpPr>
        <p:spPr>
          <a:xfrm>
            <a:off x="228600" y="4400640"/>
            <a:ext cx="8610480" cy="140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Freeform 4"/>
          <p:cNvSpPr/>
          <p:nvPr/>
        </p:nvSpPr>
        <p:spPr>
          <a:xfrm>
            <a:off x="252360" y="2576520"/>
            <a:ext cx="12600" cy="1828800"/>
          </a:xfrm>
          <a:custGeom>
            <a:avLst/>
            <a:gdLst/>
            <a:ahLst/>
            <a:rect l="l" t="t" r="r" b="b"/>
            <a:pathLst>
              <a:path w="8" h="1152">
                <a:moveTo>
                  <a:pt x="0" y="115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Freeform 5"/>
          <p:cNvSpPr/>
          <p:nvPr/>
        </p:nvSpPr>
        <p:spPr>
          <a:xfrm>
            <a:off x="8886960" y="2792520"/>
            <a:ext cx="15840" cy="1655640"/>
          </a:xfrm>
          <a:custGeom>
            <a:avLst/>
            <a:gdLst/>
            <a:ahLst/>
            <a:rect l="l" t="t" r="r" b="b"/>
            <a:pathLst>
              <a:path w="10" h="1043">
                <a:moveTo>
                  <a:pt x="0" y="1043"/>
                </a:moveTo>
                <a:lnTo>
                  <a:pt x="1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Freeform 6"/>
          <p:cNvSpPr/>
          <p:nvPr/>
        </p:nvSpPr>
        <p:spPr>
          <a:xfrm>
            <a:off x="250920" y="2617920"/>
            <a:ext cx="1181160" cy="6120"/>
          </a:xfrm>
          <a:custGeom>
            <a:avLst/>
            <a:gdLst/>
            <a:ahLst/>
            <a:rect l="l" t="t" r="r" b="b"/>
            <a:pathLst>
              <a:path w="744" h="4">
                <a:moveTo>
                  <a:pt x="0" y="0"/>
                </a:moveTo>
                <a:lnTo>
                  <a:pt x="744" y="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Freeform 7"/>
          <p:cNvSpPr/>
          <p:nvPr/>
        </p:nvSpPr>
        <p:spPr>
          <a:xfrm>
            <a:off x="7021440" y="2768760"/>
            <a:ext cx="1881360" cy="17280"/>
          </a:xfrm>
          <a:custGeom>
            <a:avLst/>
            <a:gdLst/>
            <a:ahLst/>
            <a:rect l="l" t="t" r="r" b="b"/>
            <a:pathLst>
              <a:path w="1185" h="11">
                <a:moveTo>
                  <a:pt x="1185" y="0"/>
                </a:moveTo>
                <a:lnTo>
                  <a:pt x="0" y="1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419640" y="47275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24 к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Freeform 9"/>
          <p:cNvSpPr/>
          <p:nvPr/>
        </p:nvSpPr>
        <p:spPr>
          <a:xfrm>
            <a:off x="289080" y="4414680"/>
            <a:ext cx="8580240" cy="554040"/>
          </a:xfrm>
          <a:custGeom>
            <a:avLst/>
            <a:gdLst/>
            <a:ahLst/>
            <a:rect l="l" t="t" r="r" b="b"/>
            <a:pathLst>
              <a:path w="5405" h="349">
                <a:moveTo>
                  <a:pt x="0" y="0"/>
                </a:moveTo>
                <a:cubicBezTo>
                  <a:pt x="436" y="56"/>
                  <a:pt x="1714" y="321"/>
                  <a:pt x="2615" y="335"/>
                </a:cubicBezTo>
                <a:cubicBezTo>
                  <a:pt x="3516" y="349"/>
                  <a:pt x="4824" y="138"/>
                  <a:pt x="5405" y="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Freeform 10"/>
          <p:cNvSpPr/>
          <p:nvPr/>
        </p:nvSpPr>
        <p:spPr>
          <a:xfrm>
            <a:off x="2743200" y="3740040"/>
            <a:ext cx="2774880" cy="692280"/>
          </a:xfrm>
          <a:custGeom>
            <a:avLst/>
            <a:gdLst/>
            <a:ahLst/>
            <a:rect l="l" t="t" r="r" b="b"/>
            <a:pathLst>
              <a:path w="1642" h="416">
                <a:moveTo>
                  <a:pt x="0" y="397"/>
                </a:moveTo>
                <a:cubicBezTo>
                  <a:pt x="285" y="198"/>
                  <a:pt x="571" y="0"/>
                  <a:pt x="845" y="3"/>
                </a:cubicBezTo>
                <a:cubicBezTo>
                  <a:pt x="1119" y="6"/>
                  <a:pt x="1509" y="347"/>
                  <a:pt x="1642" y="4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3875040" y="2351160"/>
            <a:ext cx="74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21240" y="4010040"/>
                <a:ext cx="1015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7451640" y="765000"/>
                <a:ext cx="140832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6" name="Text Box 14"/>
          <p:cNvSpPr/>
          <p:nvPr/>
        </p:nvSpPr>
        <p:spPr>
          <a:xfrm>
            <a:off x="1800" y="458460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ч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15" descr="aluno03"/>
          <p:cNvPicPr/>
          <p:nvPr/>
        </p:nvPicPr>
        <p:blipFill>
          <a:blip r:embed="rId1"/>
          <a:stretch/>
        </p:blipFill>
        <p:spPr>
          <a:xfrm>
            <a:off x="179280" y="2711520"/>
            <a:ext cx="1003320" cy="1728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aluno03"/>
          <p:cNvPicPr/>
          <p:nvPr/>
        </p:nvPicPr>
        <p:blipFill>
          <a:blip r:embed="rId2"/>
          <a:stretch/>
        </p:blipFill>
        <p:spPr>
          <a:xfrm flipH="1">
            <a:off x="7884720" y="2711520"/>
            <a:ext cx="10033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54358 1.11111E-006 E">
                                      <p:cBhvr>
                                        <p:cTn id="373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-0.6849 1.11111E-006 E">
                                      <p:cBhvr>
                                        <p:cTn id="375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6:26:34Z</dcterms:created>
  <dc:creator>ADMINISTRATION</dc:creator>
  <dc:description/>
  <dc:language>en-US</dc:language>
  <cp:lastModifiedBy>Админ</cp:lastModifiedBy>
  <dcterms:modified xsi:type="dcterms:W3CDTF">2024-01-29T10:31:48Z</dcterms:modified>
  <cp:revision>41</cp:revision>
  <dc:subject/>
  <dc:title>Слайд 1</dc:title>
</cp:coreProperties>
</file>