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18A-FA1F-4AE5-847B-0C7E7CA4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E38-C956-4481-A621-399688C2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776F9-10B6-4A6F-A122-265400AD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E502C-1D64-4B93-A3EE-CD57BF72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71A9F-257A-45F6-AE07-BC416908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A2F55-53F6-4C63-8767-C97C4BB4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DD066-1107-40DA-905A-2FF3B8BC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06D47-595A-4CDA-B846-059E5181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496EA-22AC-4EAF-9445-0C959A9F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CCF9A-BCB4-46C9-B21E-9D7344C0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2A781-DECD-4B3C-8351-695CC5B9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448DA-6F31-422F-84D6-B7AB136D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7EC-F662-4598-8DF3-16880683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8B060-8FE7-4A09-8909-6281F771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BC1AC-78B0-429D-B89E-A68BAF11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70385-2C11-4A98-82C2-FA86EFDF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9F456-93F5-49C0-A3FE-7A73A1D6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70C42-4268-4A8A-A4BF-53210CB7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F5C60-4639-4D30-9094-0C3436F0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1E79C-9BDE-4E70-B9EE-A132CCA2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CD109-D18D-48C2-9DDE-9A7D5BDC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47BB4-6CD3-498E-A616-CAFFE296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67135-2061-4C24-9602-857465D3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586-EE95-4621-9160-3A53BBF9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D713E-7A4B-4BE6-9077-E688526E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114C7-4119-4031-B705-DD6982B5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4D0F4-F8FA-45BE-8E8F-BBE602D3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CA755-5CC7-4D52-B6A7-358CE790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E703B-A4FE-4E22-9CA7-8A94CF34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8A223-1FAB-4B82-B879-7629BC4F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7A242-96AF-44C3-8077-558E7956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6A1DC-F277-4043-AE29-320BC523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3C0DC-8FF7-4BF8-8EE4-04E6CFB9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17C28-2701-45D0-9AD5-48E87C71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976E-EAFE-4C2C-A31F-07D5D19A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E926A-F535-429C-A421-43FCA6AB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74DBA-DDB0-4BB1-8BDE-37A74435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E893A-541A-4C1D-93F1-8A29039B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32DE5-F3C7-4523-B6F5-BB1E4721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8FE5C-30E4-4EA3-890A-940FF3DF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85167-A917-4BE9-8E02-CD889D4C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A973A-B32D-48F0-A9E9-0F9C30FE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739D9-F844-4536-85F8-9AF03F1C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92E8F-9E29-4DE7-9A2F-A2D0B0CF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B7354-F1D7-42A4-85C8-BA618BE6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69A5-2D6E-49AD-BEE7-48EE19B0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D4FFD-2894-42BA-8C1F-CC6E5506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C1E00-3E24-48AE-A5F1-DF0559DC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3C740-DFBC-4727-9D5B-9D33CD1A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42EAB-057B-4C97-A16E-F256DF15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ED321-222A-4E59-9978-352D7391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E3F3-99BF-4755-ADD0-0CD4A103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B31C-4540-44CF-9293-3902471C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DB4B-99CE-467A-B866-A5B8EA7C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834E-8554-4B3C-BC17-AADDD2EE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39AA-A68E-464E-A649-BC244DB6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9AD-120C-4974-AB2F-69F94BA2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F0E4-F79B-4989-A28A-2BD29735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64A5-65F3-472D-BAD6-3119666A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B1A2-1BBF-41B1-BE77-05F399FD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0303-06AC-423E-A9CB-070CE0CB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9C7A-12F4-4DCE-ADDF-17C3C671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01F50-23E9-455A-BF93-B196394C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D50D-1418-4B87-BAA4-56B7AD8A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8858-E8F7-40EE-B456-C096BF41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99A8A-191F-4D74-9492-C9A7FF25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6D33-E5AF-4044-AC42-90C9E856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FCF-E293-48F0-A064-01ED6EBA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3D20-7A2B-4A34-8892-036DD058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82751-EB1F-464E-9359-736BEEB5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CFCA2-FB2F-4423-B61A-5BCA06B9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CFA4F-5030-4FE8-BD3B-12A042D8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86B9-8DFC-4C8E-825B-A0380C6F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0B5C-EB36-489D-A546-EFBC6574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2BB3-654C-4B8E-9C7D-F5581A71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EEBD5-DBD2-4705-B37B-1837F4CA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551C-A788-4166-9030-0741E638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8D895-2A74-4B85-B8BF-40674549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B7B-1D12-48B9-B5AA-FFBEABF2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3A3E1-4D03-4D4D-A20B-168B3FE5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60322-AB28-4D3B-A75C-E89CEE08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6231A-F7BE-4879-B2BD-2A9EAC79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49EA0-F1F9-47CA-919A-116E0975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9D35D-6AC0-4F55-8D62-55A85842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7B1CF-387B-431E-8AB0-FA271D12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4A2C0-94F2-4B9A-A466-87638913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15696-9526-4741-94AB-BD1801CA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1FEFA-461B-4F05-8167-A01628E4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EC353-B8E9-4EAC-8070-726DD0B2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402-077D-4CE0-9CDF-4A798D0F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3F8FF-77C0-4A7B-8A12-8EAC4DA5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94FBE-357C-485C-AD0A-3246D892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B8DC2-5432-44F2-BFB7-3743E86D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73741-EBB5-4255-9F9E-526395E4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CB40B-D187-4C50-A6FB-54C5011E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95910-B220-4380-8A24-7832F841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2E03B-82B3-44D3-BEFD-32A80C1C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2F2AF-E2B6-4B12-B891-00F8FB23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3C474-F838-4F0F-A19F-01B5CB8F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508C0-0363-4C15-832A-08E05A82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AAD-FE1A-4BC2-ACC4-8C617E43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F78C-30B4-4F6D-91BE-08A50F79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A5563-88C1-4522-A7F8-8BEE8586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AD2B2-CD10-4BE6-852A-8996A540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C4CDB-D031-4464-B1B7-4FEA12DF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E8821-C70E-4269-B183-8924E6A6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F1211-5ED0-4F91-807D-874DBB1B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497B5-BEA5-40DB-B2DF-EDA343D3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AF22F-F881-428B-8038-330B07D7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93BDE-E9CF-4B0D-844B-26A94462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DE4AE-76F5-4DCD-BCD6-73AF7E88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F22-FCE4-4843-BFBA-C02EFA7D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84D2F-B39F-44C4-94E5-F9BD3180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82DA3-0F23-4A0D-B3CE-21F9BB54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5F18-1AA2-48CD-8228-AC15F8C8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160E5-6FC2-48DD-B885-F3651E36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10687-87AB-4A81-A0DA-F4310DE9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DD71F-BD89-4B7D-9081-B244FEB2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D505D-70BF-48FC-8879-87105B33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43F4B-7803-46F5-AA54-6E0BDABD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AD5CB-DC53-40D2-9D16-3910B154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A4B33-0F80-4B1C-B7B5-91C35AC8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DD8-8BB7-4C4A-BC66-4A804970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5B507-4F7B-414B-A8E3-B38B4839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10AEE-413F-4876-BF26-2CED28C7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7ACEC-8B10-48FA-906C-315967C0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4455A-6CF2-47C7-A71E-3D6574B0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9F922-5FBC-4A43-8492-9B6CDEE3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FE604-A922-4971-979E-9035705E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5E18D-7FBA-4C25-B886-B915488E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41960-5F81-4851-94B1-BBE4691D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B7CB5-05DC-46B3-B6F8-EC6BA946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3930D-4028-41CF-8A26-76C3462A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B84-6D40-4A4C-AF82-83DCC17B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7F948-C4FC-4014-9D15-F2E6C460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A6E08-86BF-42C1-ACCE-4C9C7461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0AC06-64CA-4167-B565-DE8A2CC9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748F4-5364-4D17-A3F1-FAEF9263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D58D-824D-4882-932C-50BD9E95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FA26B-C3D0-4172-B689-7B1BBE9C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29768-1157-44F6-A3DC-765B2D47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2F674-7DF8-4EAB-B69D-FF28BBF8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CB7A6-0F03-4328-A94F-078F42C1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C1EB8-1AC5-473C-977F-5F305A7B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2205-B7AE-46D8-A7B1-8A13B49667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F6F0-D935-4CB9-A546-D3671F0BED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D6C8-C281-4531-AC1F-90CF0597AA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9220-D99E-4BB1-A27D-9ABB2FF24C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1352-FA6D-43D5-A2C2-B9584DE452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F7CD-F8A1-4657-BEDB-26B512E870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45CA-16C0-4F1D-927A-D8CE7CA19A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47CD-4F0B-4D0B-A8C6-4C01FF50D4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6990-9DFF-4D0F-B50C-017E7B7E97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C18D-0BC2-4E84-B05C-1FFDCD6460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4DE4-7467-4D91-8092-0F2DCF8B33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6992-2E33-4CD5-A364-05B1BD00C8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699320" cy="966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ак вести себя в гостях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26920" y="335772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МУДО ЦТЭ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ная Н. 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3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6" name="Picture 6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4032360" cy="315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9.Вы садитесь за праздничный стол, берёте салфетку и …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вешаете её на спинку сту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кладёте на коле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заправляете за воротн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) кладёте рядом с тарелк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кладёте на коле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1" name="Picture 13" descr=""/>
          <p:cNvPicPr/>
          <p:nvPr/>
        </p:nvPicPr>
        <p:blipFill>
          <a:blip r:embed="rId1"/>
          <a:stretch/>
        </p:blipFill>
        <p:spPr>
          <a:xfrm>
            <a:off x="5867280" y="1944720"/>
            <a:ext cx="2665440" cy="27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0.Нужны ли цветы на праздничном столе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цветы обязательны, и чем больше и пышнее букеты, тем лучш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цветы желательны, но в небольших буке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цветы на столе только мешаю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цветы желательны, но в небольших буке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4" name="Picture 4" descr="C:\Users\User\Desktop\s1200.jpg"/>
          <p:cNvPicPr/>
          <p:nvPr/>
        </p:nvPicPr>
        <p:blipFill>
          <a:blip r:embed="rId1"/>
          <a:stretch/>
        </p:blipFill>
        <p:spPr>
          <a:xfrm>
            <a:off x="250920" y="3789360"/>
            <a:ext cx="4849560" cy="21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11.Во время обеда в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будете следить за тем, чтобы руки ни в коем случае не лежали на сто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положите локти на сто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будете стараться, чтобы только кисти рук лежали на сто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будете стараться, чтобы только кисти рук лежали на сто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7" name="Picture 12" descr=""/>
          <p:cNvPicPr/>
          <p:nvPr/>
        </p:nvPicPr>
        <p:blipFill>
          <a:blip r:embed="rId1"/>
          <a:stretch/>
        </p:blipFill>
        <p:spPr>
          <a:xfrm>
            <a:off x="3492360" y="3429000"/>
            <a:ext cx="5183280" cy="220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2.Как поступить, чтобы вычерпать суп до последней ложки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наклоните тарелку к себ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наклоните тарелку от себ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не жадничайте – оставьте последнюю ложку супа на дне тарел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не жадничайте – оставьте последнюю ложку супа на дне тарел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0" name="Picture 11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2047680" cy="23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13. Зачем на праздничном столе иногда ставят маленькие мисочки с водой и ломтиком лимона?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чтобы запить крепкие напит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чтобы разбавить крепкие напит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чтобы ополоснуть жирные пальц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чтобы ополоснуть жирные пальц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3" name="Picture 4" descr="C:\Users\User\Desktop\296441-1515089408.jpg"/>
          <p:cNvPicPr/>
          <p:nvPr/>
        </p:nvPicPr>
        <p:blipFill>
          <a:blip r:embed="rId1"/>
          <a:stretch/>
        </p:blipFill>
        <p:spPr>
          <a:xfrm>
            <a:off x="6649920" y="3429000"/>
            <a:ext cx="2305080" cy="24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4.С какой стороны подают жидкие блюд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 пра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 ле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это безразлич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 пра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6" name="Picture 4" descr="C:\Users\User\Desktop\1cb27dc62a5fbc0d2144e84e83ef02ea.jpg"/>
          <p:cNvPicPr/>
          <p:nvPr/>
        </p:nvPicPr>
        <p:blipFill>
          <a:blip r:embed="rId1"/>
          <a:stretch/>
        </p:blipFill>
        <p:spPr>
          <a:xfrm>
            <a:off x="4487760" y="1773360"/>
            <a:ext cx="4308480" cy="313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5. С какой стороны подают закуски и вторые блюд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 пра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 ле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это безразлич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 ле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9" name="Picture 4" descr="C:\Users\User\Desktop\закус.jpg"/>
          <p:cNvPicPr/>
          <p:nvPr/>
        </p:nvPicPr>
        <p:blipFill>
          <a:blip r:embed="rId1"/>
          <a:stretch/>
        </p:blipFill>
        <p:spPr>
          <a:xfrm>
            <a:off x="3924360" y="1773360"/>
            <a:ext cx="4876920" cy="324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6. Какие куски из общих блюд следует выбирать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амые большие и жир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амые маленькие и невзрач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те, что лежат ближе к ва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те, что лежат ближе к ва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72" name="Picture 4" descr="C:\Users\User\Desktop\kak-est-piccu.jpg"/>
          <p:cNvPicPr/>
          <p:nvPr/>
        </p:nvPicPr>
        <p:blipFill>
          <a:blip r:embed="rId1"/>
          <a:stretch/>
        </p:blipFill>
        <p:spPr>
          <a:xfrm>
            <a:off x="4643280" y="3284640"/>
            <a:ext cx="417672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7.Как поступить, если вам захотелось попробовать блюдо, стоящее далеко от вас?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7640" y="1773000"/>
            <a:ext cx="8785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тихо выйти с тарелкой из-за стола и взять угощ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попросить, чтобы вам передали нужное блюд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ередать с помощью соседей свою тарелку, чтобы её наполнили нужным угощени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попросить, чтобы вам передали нужное блюд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8.Что делать, если вы уронили нож или вилку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незаметно поднять и продолжать е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продолжать есть с тем прибором, который остал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опросить у хозяйки другой приб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опросить у хозяйки другой приб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77" name="Picture 4" descr="C:\Users\User\Desktop\fork-spoon-and-knife-png-2.png"/>
          <p:cNvPicPr/>
          <p:nvPr/>
        </p:nvPicPr>
        <p:blipFill>
          <a:blip r:embed="rId1"/>
          <a:stretch/>
        </p:blipFill>
        <p:spPr>
          <a:xfrm>
            <a:off x="6531120" y="3716280"/>
            <a:ext cx="2041560" cy="20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395280" y="260280"/>
            <a:ext cx="7504200" cy="64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.Кто знакомит гостей друг с другом за праздничным столо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хозя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тамада за праздничным стол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гости вполне могут перезнакомиться без посторонней помощ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хозя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5614920" cy="23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9. Ваш гость случайно разбил чашку: как поступить?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порадоваться, что чашка разбилась «на счастье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делать вид, что ничего не замети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убрать осколки и без комментариев заменить чашку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убрать осколки и без комментариев заменить чашку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0" name="Picture 4" descr="C:\Users\User\Desktop\1024.jpg"/>
          <p:cNvPicPr/>
          <p:nvPr/>
        </p:nvPicPr>
        <p:blipFill>
          <a:blip r:embed="rId1"/>
          <a:stretch/>
        </p:blipFill>
        <p:spPr>
          <a:xfrm>
            <a:off x="5076720" y="3429000"/>
            <a:ext cx="375300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20.Как разрезается торт перед подачей на стол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на кусочки по количеству г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обязательно весь – независимо от количества г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разрезать половину торта и, если он понравится, разрезать оставшуюся полов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обязательно весь – независимо от количества г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3" name="Picture 12" descr=""/>
          <p:cNvPicPr/>
          <p:nvPr/>
        </p:nvPicPr>
        <p:blipFill>
          <a:blip r:embed="rId1"/>
          <a:stretch/>
        </p:blipFill>
        <p:spPr>
          <a:xfrm>
            <a:off x="6875640" y="4365720"/>
            <a:ext cx="1942920" cy="129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21.Если гости принесли торт, обязательно ли угощать им гостей?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обязательно – это правило вежлив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овсем необязатель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лучше прибереч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обязательно – это правило вежлив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6" name="Picture 4" descr="C:\Users\User\Desktop\a1.jpg"/>
          <p:cNvPicPr/>
          <p:nvPr/>
        </p:nvPicPr>
        <p:blipFill>
          <a:blip r:embed="rId1"/>
          <a:stretch/>
        </p:blipFill>
        <p:spPr>
          <a:xfrm>
            <a:off x="5076720" y="2421000"/>
            <a:ext cx="3382920" cy="26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22. С какой стороны от сидящего за столом убирают использованные тарелки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только спра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только сл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лучше забрать тарелку пронеся над его гол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только спра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9" name="Picture 4" descr="C:\Users\User\Desktop\bzk6q-10-eda-na-banket.jpg"/>
          <p:cNvPicPr/>
          <p:nvPr/>
        </p:nvPicPr>
        <p:blipFill>
          <a:blip r:embed="rId1"/>
          <a:stretch/>
        </p:blipFill>
        <p:spPr>
          <a:xfrm>
            <a:off x="4680000" y="3573360"/>
            <a:ext cx="4140000" cy="21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23. Как поступить, если нужно уйти из гостей пораньше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заблаговременно подготовить всех г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попросить хозяев объявить о вашем ухо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уйти незаметно, попрощавшись с хозяев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уйти незаметно, попрощавшись с хозяев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2" name="Picture 4" descr="C:\Users\User\Desktop\img.jpg"/>
          <p:cNvPicPr/>
          <p:nvPr/>
        </p:nvPicPr>
        <p:blipFill>
          <a:blip r:embed="rId1"/>
          <a:stretch/>
        </p:blipFill>
        <p:spPr>
          <a:xfrm>
            <a:off x="5364000" y="3429000"/>
            <a:ext cx="3384720" cy="165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24. Должны ли хозяева, прощаясь с гостями, благодарить их?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уж если кто и должен благодарить, так это гости- хозя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хозяева тактично молч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хозяева должны благодарить гостей за то, что они приш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хозяева должны благодарить гостей за то, что они приш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5" name="Picture 4" descr="C:\Users\User\Desktop\5a522de3e690b.jpg"/>
          <p:cNvPicPr/>
          <p:nvPr/>
        </p:nvPicPr>
        <p:blipFill>
          <a:blip r:embed="rId1"/>
          <a:stretch/>
        </p:blipFill>
        <p:spPr>
          <a:xfrm>
            <a:off x="5292720" y="3789360"/>
            <a:ext cx="3201840" cy="18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2.Как долго следует ждать опаздывающих гостей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85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только, сколько вытерпят уже пришедшие г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не более 15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ждать вообще не следует, так как гости обязаны прийти к назначенному време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не более 15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1" name="Picture 4" descr="C:\Users\User\Desktop\c4f144b365d4bfa0b0c2e47e980c5448.jpg"/>
          <p:cNvPicPr/>
          <p:nvPr/>
        </p:nvPicPr>
        <p:blipFill>
          <a:blip r:embed="rId1"/>
          <a:stretch/>
        </p:blipFill>
        <p:spPr>
          <a:xfrm>
            <a:off x="6443640" y="3573360"/>
            <a:ext cx="1793880" cy="19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3.Когда можно сесть за праздничный стол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856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как только вы зашли в комнату, где накрыт сто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только после того, как сядут наиболее важные и авторитетные г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осле приглашения хозяина (хозяйки)и после того, как сядут женщи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осле приглашения хозяина (хозяйки)и после того, как сядут женщи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4" name="Picture 4" descr="C:\Users\User\Desktop\97824.jpg"/>
          <p:cNvPicPr/>
          <p:nvPr/>
        </p:nvPicPr>
        <p:blipFill>
          <a:blip r:embed="rId1"/>
          <a:stretch/>
        </p:blipFill>
        <p:spPr>
          <a:xfrm>
            <a:off x="1042920" y="4352760"/>
            <a:ext cx="3544920" cy="122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4.За которой из девушек – слева или справа-ухаживает юноша за столом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за девушкой, сидящей спра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за девушкой, сидящей сл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за обеи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за девушкой, сидящей спра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7" name="Picture 4" descr="C:\Users\User\Desktop\etiket-za-stolom.orig.jpg"/>
          <p:cNvPicPr/>
          <p:nvPr/>
        </p:nvPicPr>
        <p:blipFill>
          <a:blip r:embed="rId1"/>
          <a:stretch/>
        </p:blipFill>
        <p:spPr>
          <a:xfrm>
            <a:off x="468360" y="3573360"/>
            <a:ext cx="4967280" cy="21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5.Как сидят за праздничным столом хозяин и хозяйк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8567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рядом, в центре ст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хозяин- в торце стола, хозяйка – ближе к двери, ведущей на кухн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в торцах стола( напротив друг друг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в торцах стола( напротив друг друг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0" name="Picture 4" descr="C:\Users\User\Desktop\fe1a1336-71fd-4bd1-8993-01c7e9dee86f.jpg"/>
          <p:cNvPicPr/>
          <p:nvPr/>
        </p:nvPicPr>
        <p:blipFill>
          <a:blip r:embed="rId1"/>
          <a:stretch/>
        </p:blipFill>
        <p:spPr>
          <a:xfrm>
            <a:off x="250920" y="4005360"/>
            <a:ext cx="6913440" cy="216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6.Вы опоздали, гости уже сидят за столом . Как в этом случае вести себя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8000" y="1842840"/>
            <a:ext cx="89280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ледует поочередно обойти всех гостей, поздоров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пройти к месту за столом и занять его как ни в чем не бывал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оздороваться с хозяйкой и извиниться за опозд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оздороваться с хозяйкой и извиниться за опозд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7.Кому из гостей первым подают угощение?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гостю, сидящему по ходу часовой стрелки от хозяй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тому, кто проявляет явное нетерпение и признаки гол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тому, кто сидит по правую руку от хозяй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тому, кто сидит по правую руку от хозяй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5" name="Picture 12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230508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8.Где находятся салфетки перед началом застолья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на тарелк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права от тарел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развешаны на спинках стул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) лежат на сиденьях стул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на тарелк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8" name="Picture 4" descr="C:\Users\User\Desktop\e0fcdb5c07445724fc795d808e67f8ae.jpg"/>
          <p:cNvPicPr/>
          <p:nvPr/>
        </p:nvPicPr>
        <p:blipFill>
          <a:blip r:embed="rId1"/>
          <a:stretch/>
        </p:blipFill>
        <p:spPr>
          <a:xfrm>
            <a:off x="5970600" y="3213000"/>
            <a:ext cx="2986200" cy="293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2:13:28Z</dcterms:created>
  <dc:creator>1</dc:creator>
  <dc:description/>
  <dc:language>en-US</dc:language>
  <cp:lastModifiedBy>Пользователь</cp:lastModifiedBy>
  <dcterms:modified xsi:type="dcterms:W3CDTF">2023-01-11T12:12:14Z</dcterms:modified>
  <cp:revision>23</cp:revision>
  <dc:subject/>
  <dc:title>Как вести себя в гостях</dc:title>
</cp:coreProperties>
</file>