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D25-A4D7-40DB-B37C-CA6CED2A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5221-061D-437B-976C-7632825F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3C2C9-47EA-4EF2-81A7-55961EEA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30250C-104F-42B1-A6BF-F4C6872E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341AB-3F3C-4E04-A147-63022C46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686A9-ED5A-4EEC-8D44-7876BB8F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5B4D00-65D3-45E6-A07D-1C57D230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A0CF3-72E5-44EA-B69B-E2354736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8EEC7-11A9-48DA-A167-2BB5775F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D2CEA-B84C-4DC4-92E9-A6F18DAFC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0E34C-2279-4EE6-89B2-87CCDC54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EA19F-D5EA-4385-A122-DDB5016E1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D54-201E-4E42-9704-BEF65BA0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BBA8D-FA98-412A-8AA3-469E4D75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CC074-CBD8-4194-839B-159B2389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8591B-4C54-4627-8279-2A9678EC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D9553-5B37-4E13-802A-6717C820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CE033B-EBA4-4096-AED5-725D0DA4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F6431D-6549-4A97-9B45-C2E21F98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58D1F-8807-4E6B-B19F-3BDB2689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E812F-F50D-461E-9896-CAC6A106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89CD6-F3A2-4ED1-85FD-8FC61C67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5939E-F4B2-4F76-B37F-A8CE017F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D4BA-0128-436F-8DBA-E821CCF9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1B713-C533-4C36-A187-1DD8FBCE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37BA2-4797-4215-B1D4-5A8DAC34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7D7743-07E7-46F9-9B6C-58F63EAB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7186D-D597-40D6-A0CE-D3A36602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52A74-D1BE-4ECA-A70C-DD7DF141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DFB5B-14F1-4723-87A7-7913C755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EB8E04-13BC-491F-8D9C-A11D7F5C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04F5D-781E-475B-93DD-920416DC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DAB45-4DD6-45A4-B065-13DBE9B7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D2807-485E-4BE0-9C09-7CF0F4F9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2319-BB99-422D-B8B5-626A0956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30DD6-DA72-45C0-8579-EB385088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E888D-46E9-42A0-B915-28AF6E58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8D080-6D82-4C79-850D-B4F36E41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34828-0C0F-4C32-8E13-6957013A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73312-747C-4235-8504-9F019629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DC7EE-A65A-4E4D-BB9C-8C62A90C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8473E-FD6C-4701-BF4C-A5228A29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CBA8FC-B25E-45C5-BA67-2256137C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86090-76FC-4E8D-8036-25F560EA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F42E2-F62A-4DD5-907B-6985FC71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7B4E-FCEF-41AD-950D-D1AC1072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F3134-AE9F-4AA9-B924-D69F02EF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9E606-1229-4E87-9B93-741CD701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9A471-2A6D-42C9-B41D-F984D0BF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08F2F-C542-4686-9CAA-EAFDA40E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8863B-BC8D-426E-999F-5C693B93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14B1-8F06-4F42-8361-7711760C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DEB9-EDD9-4B0A-9209-6EC5A01A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1F3B-16CC-4A91-9073-A8A2CA33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F581-0E79-4DDB-8EBB-BC639ABF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2DB2-D7A7-400B-BC77-B8D30F31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0F5-4281-44A6-9030-92E9D530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80DFB-9B9F-4A96-B9A6-0EC8DF0D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CD1B-8AA0-47A6-B5BA-7122AAB2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17AB5-6562-4E42-9E01-2E1671FE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7EA7-52E3-4573-B12C-90F0EBD1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08E2-D949-4E01-9F65-C89DD21B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7C5D3-872B-4931-992E-C9223FA0B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90D7D-9B4B-4C53-B277-F3DFC7AE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F60B-BE9E-46CC-BFBB-CD62B2A9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022F-BE76-45B8-8EB8-563EF290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A23EC-AC98-4450-9410-1972E597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17A-E5AE-4423-8851-E38F42F8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011C3-68C7-4200-9597-F5132C23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7A54F-4C88-4765-9430-6946F579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7016-1264-4604-9680-731A4CB3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8745-60BF-4E32-9C7C-6762535B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4F67-5B7B-4454-A687-42676ADE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B5FE9-852C-4074-9C96-0EFFF64C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6BAB-5DA1-4243-A882-662F6BE54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F4AA1-38CF-4CC0-B491-DEFCE9D6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026CC-2FB7-41E2-9DF9-523FE2F6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7270B-7776-491A-B2E9-63876391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E2DC-47D8-4D6B-ADC1-55FC3947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C1EDC-EEE8-4171-8DF6-DC085779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83BF4-C6BA-4AC0-9E73-DF305271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FB529-6BC7-4E5A-BE20-B5E7B0A9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15CE4-0FB8-4B0E-BD94-BCF66FE0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CBB4A-59E8-4791-B196-C73D95E3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C5745-384A-4FDC-AA90-066A5938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C8B2D-5B15-4644-99EE-03A2FB16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68DC7-612C-44F1-80AE-402140F3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93C0A-7CA6-42C1-8232-6B9C80B6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ACBAE-261E-47ED-8265-480E11A3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CBD-0EC3-45E3-894A-01A8FD7D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EEC6E-60F9-4D4C-9A3E-955E0A6C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E6072-A611-4631-A3D7-3B60053F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A1984-3A2E-481C-AF42-33C79CF3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03F81-AB75-42D5-8214-4149FBAB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920B9-ECC7-4113-A901-61F52FEE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FAA8B-5B4C-4EEE-9DB8-2AB8ABCB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D3C48-7131-4EA6-8796-998EA165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DB5D0-6405-4432-9867-1DCAEB84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7E3C7-33E4-4416-B836-A42D57DC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A1DA3-3E73-45F2-913F-D149E400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999E-64D0-428C-8B12-EC7371F2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A93FC-962D-4C59-BEE4-8BE994D64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72584-9EF9-4712-AD7C-87574738A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A8241-8918-40AC-9300-243F0C12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9772E-444F-4278-957B-076BA303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76DC5-FB27-4D87-BCDB-36038744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6526F-0C0C-44E9-8906-4EF63331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02194-06A4-48E6-A7D5-7254E391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87F86-BA10-49E8-811B-16423797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FE330-FAC5-4BDE-A995-1B09E8FE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7DEA9-F2E1-4F02-A6E5-90C34828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068-4C98-4373-9423-4387FD57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1A652-2C5D-492F-A9BA-4E02D0AE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72B0F-214C-4B36-AC5D-114B84BA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779F2-350B-4F53-8A8A-F9DDB002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ED899-8B5D-4E43-BEC1-7E692B7F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3FDCC-DBD1-4A6C-A43A-174C045B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7208E-52D0-4057-A8D6-90EBA837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DA349-C9DF-43B9-9A03-7E7CE083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E86BD-F09A-492C-A1D3-8637D44B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B764D-4C3D-4D9D-8B10-5D36BC3F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C0CCD-21DD-4CF6-ABCE-BCDEEEE2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3B2-F84F-4A10-AC04-1DDA41BB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77FC6-F41D-4AB2-BD1A-6371691E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3B568-FE4D-4FAE-B1B7-AF614EF8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E1770-3675-44B0-A3FA-9F99CB3A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72C85-F7FA-449B-96FF-9BA1550A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E9179-1021-40D4-99DD-E359A3DA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1D130-5F5B-4C98-8EC7-08961B95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034F4-C2F9-49CB-885F-F833347D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BD968-F461-4FB7-852E-D4866571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A966C-AB95-4F08-B87C-D042C156D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607650-D4C7-4E90-89F9-33F5EDE3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C4F-2734-4A78-976A-EE705E53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A3AE4F-DFD8-4610-9D51-684FF423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8FCED-AD59-4E4F-82F4-51DCA3A3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A2D3D-BC3C-4B40-8CB7-A3A38305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5EB48-69A7-4E5F-AF78-C6C880B2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D2E57-FAD1-494C-A194-1E9709EF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696A7-C985-4465-B404-3B8A3DCE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4B174-0AF6-4AD0-A3EB-60AECCC8C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A6997-C1C2-4FA1-92DE-15A03A70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A26E3-FA2A-4DBE-91DF-E803920B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AC553-B8F3-4A5A-9E13-4E6F9970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A04A-8032-42F9-A515-2EBD7390CF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3B2B-EE50-4F68-927E-6A7887E157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EBDA-0938-495B-96D0-88299A4F54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FBA7-627A-4E2D-8FCA-DEABA40D8F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9DB7B-5E61-4AB8-89A1-AB6AC919B6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9130-BB27-45E3-A89C-EAAFC1F58B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8B9C-575E-4121-B97C-706C1E59F2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CB2E-7471-4194-B4EC-77FE0FAC52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7F33-8C5E-4313-AEE0-A5AC9AE9AA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2A2F-2A74-4FF5-A6AE-405EDF1E9A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F274-EBEC-423A-899E-1960B19F27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5C4F-4474-44A2-A4E1-03257935F7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7699320" cy="966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ак вести себя в гостях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826920" y="3357720"/>
            <a:ext cx="7777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МУДО ЦТЭ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дная Н. 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3 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6" name="Picture 6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4032360" cy="315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9.Вы садитесь за праздничный стол, берёте салфетку и …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вешаете её на спинку сту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кладёте на коле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заправляете за воротни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) кладёте рядом с тарелк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кладёте на коле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1" name="Picture 13" descr=""/>
          <p:cNvPicPr/>
          <p:nvPr/>
        </p:nvPicPr>
        <p:blipFill>
          <a:blip r:embed="rId1"/>
          <a:stretch/>
        </p:blipFill>
        <p:spPr>
          <a:xfrm>
            <a:off x="5867280" y="1944720"/>
            <a:ext cx="2665440" cy="273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0.Нужны ли цветы на праздничном столе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цветы обязательны, и чем больше и пышнее букеты, тем лучш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цветы желательны, но в небольших буке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цветы на столе только мешаю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цветы желательны, но в небольших буке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4" name="Picture 4" descr="C:\Users\User\Desktop\s1200.jpg"/>
          <p:cNvPicPr/>
          <p:nvPr/>
        </p:nvPicPr>
        <p:blipFill>
          <a:blip r:embed="rId1"/>
          <a:stretch/>
        </p:blipFill>
        <p:spPr>
          <a:xfrm>
            <a:off x="250920" y="3789360"/>
            <a:ext cx="4849560" cy="21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11.Во время обеда вы: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будете следить за тем, чтобы руки ни в коем случае не лежали на стол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положите локти на сто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будете стараться, чтобы только кисти рук лежали на стол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будете стараться, чтобы только кисти рук лежали на стол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57" name="Picture 12" descr=""/>
          <p:cNvPicPr/>
          <p:nvPr/>
        </p:nvPicPr>
        <p:blipFill>
          <a:blip r:embed="rId1"/>
          <a:stretch/>
        </p:blipFill>
        <p:spPr>
          <a:xfrm>
            <a:off x="3492360" y="3429000"/>
            <a:ext cx="5183280" cy="220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2.Как поступить, чтобы вычерпать суп до последней ложки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наклоните тарелку к себ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наклоните тарелку от себ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не жадничайте – оставьте последнюю ложку супа на дне тарел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не жадничайте – оставьте последнюю ложку супа на дне тарел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0" name="Picture 11" descr=""/>
          <p:cNvPicPr/>
          <p:nvPr/>
        </p:nvPicPr>
        <p:blipFill>
          <a:blip r:embed="rId1"/>
          <a:stretch/>
        </p:blipFill>
        <p:spPr>
          <a:xfrm>
            <a:off x="6516720" y="3573360"/>
            <a:ext cx="2047680" cy="23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13. Зачем на праздничном столе иногда ставят маленькие мисочки с водой и ломтиком лимона?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чтобы запить крепкие напит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чтобы разбавить крепкие напит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чтобы ополоснуть жирные пальц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чтобы ополоснуть жирные пальц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3" name="Picture 4" descr="C:\Users\User\Desktop\296441-1515089408.jpg"/>
          <p:cNvPicPr/>
          <p:nvPr/>
        </p:nvPicPr>
        <p:blipFill>
          <a:blip r:embed="rId1"/>
          <a:stretch/>
        </p:blipFill>
        <p:spPr>
          <a:xfrm>
            <a:off x="6649920" y="3429000"/>
            <a:ext cx="2305080" cy="245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4.С какой стороны подают жидкие блюда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с пра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с ле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это безразлич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с пра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6" name="Picture 4" descr="C:\Users\User\Desktop\1cb27dc62a5fbc0d2144e84e83ef02ea.jpg"/>
          <p:cNvPicPr/>
          <p:nvPr/>
        </p:nvPicPr>
        <p:blipFill>
          <a:blip r:embed="rId1"/>
          <a:stretch/>
        </p:blipFill>
        <p:spPr>
          <a:xfrm>
            <a:off x="4487760" y="1773360"/>
            <a:ext cx="4308480" cy="313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5. С какой стороны подают закуски и вторые блюда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с пра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с ле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это безразлич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с ле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9" name="Picture 4" descr="C:\Users\User\Desktop\закус.jpg"/>
          <p:cNvPicPr/>
          <p:nvPr/>
        </p:nvPicPr>
        <p:blipFill>
          <a:blip r:embed="rId1"/>
          <a:stretch/>
        </p:blipFill>
        <p:spPr>
          <a:xfrm>
            <a:off x="3924360" y="1773360"/>
            <a:ext cx="4876920" cy="3249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6. Какие куски из общих блюд следует выбирать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самые большие и жир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самые маленькие и невзрач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те, что лежат ближе к ва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те, что лежат ближе к ва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72" name="Picture 4" descr="C:\Users\User\Desktop\kak-est-piccu.jpg"/>
          <p:cNvPicPr/>
          <p:nvPr/>
        </p:nvPicPr>
        <p:blipFill>
          <a:blip r:embed="rId1"/>
          <a:stretch/>
        </p:blipFill>
        <p:spPr>
          <a:xfrm>
            <a:off x="4643280" y="3284640"/>
            <a:ext cx="4176720" cy="259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7.Как поступить, если вам захотелось попробовать блюдо, стоящее далеко от вас?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07640" y="1773000"/>
            <a:ext cx="878508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тихо выйти с тарелкой из-за стола и взять угощ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попросить, чтобы вам передали нужное блюд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передать с помощью соседей свою тарелку, чтобы её наполнили нужным угощени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попросить, чтобы вам передали нужное блюд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8.Что делать, если вы уронили нож или вилку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незаметно поднять и продолжать е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продолжать есть с тем прибором, который остал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попросить у хозяйки другой прибо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попросить у хозяйки другой прибор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77" name="Picture 4" descr="C:\Users\User\Desktop\fork-spoon-and-knife-png-2.png"/>
          <p:cNvPicPr/>
          <p:nvPr/>
        </p:nvPicPr>
        <p:blipFill>
          <a:blip r:embed="rId1"/>
          <a:stretch/>
        </p:blipFill>
        <p:spPr>
          <a:xfrm>
            <a:off x="6531120" y="3716280"/>
            <a:ext cx="2041560" cy="2043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395280" y="260280"/>
            <a:ext cx="7504200" cy="64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.Кто знакомит гостей друг с другом за праздничным столом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хозя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тамада за праздничным стол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гости вполне могут перезнакомиться без посторонней помощ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хозя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28" name="Picture 3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5614920" cy="230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19. Ваш гость случайно разбил чашку: как поступить?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порадоваться, что чашка разбилась «на счастье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сделать вид, что ничего не замети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убрать осколки и без комментариев заменить чашку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убрать осколки и без комментариев заменить чашку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0" name="Picture 4" descr="C:\Users\User\Desktop\1024.jpg"/>
          <p:cNvPicPr/>
          <p:nvPr/>
        </p:nvPicPr>
        <p:blipFill>
          <a:blip r:embed="rId1"/>
          <a:stretch/>
        </p:blipFill>
        <p:spPr>
          <a:xfrm>
            <a:off x="5076720" y="3429000"/>
            <a:ext cx="3753000" cy="223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20.Как разрезается торт перед подачей на стол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на кусочки по количеству г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обязательно весь – независимо от количества г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разрезать половину торта и, если он понравится, разрезать оставшуюся половин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обязательно весь – независимо от количества г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3" name="Picture 12" descr=""/>
          <p:cNvPicPr/>
          <p:nvPr/>
        </p:nvPicPr>
        <p:blipFill>
          <a:blip r:embed="rId1"/>
          <a:stretch/>
        </p:blipFill>
        <p:spPr>
          <a:xfrm>
            <a:off x="6875640" y="4365720"/>
            <a:ext cx="1942920" cy="129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21.Если гости принесли торт, обязательно ли угощать им гостей?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обязательно – это правило вежлив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совсем необязатель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лучше прибереч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обязательно – это правило вежлив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6" name="Picture 4" descr="C:\Users\User\Desktop\a1.jpg"/>
          <p:cNvPicPr/>
          <p:nvPr/>
        </p:nvPicPr>
        <p:blipFill>
          <a:blip r:embed="rId1"/>
          <a:stretch/>
        </p:blipFill>
        <p:spPr>
          <a:xfrm>
            <a:off x="5076720" y="2421000"/>
            <a:ext cx="3382920" cy="266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22. С какой стороны от сидящего за столом убирают использованные тарелки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только спра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только сл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лучше забрать тарелку пронеся над его голов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только спра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89" name="Picture 4" descr="C:\Users\User\Desktop\bzk6q-10-eda-na-banket.jpg"/>
          <p:cNvPicPr/>
          <p:nvPr/>
        </p:nvPicPr>
        <p:blipFill>
          <a:blip r:embed="rId1"/>
          <a:stretch/>
        </p:blipFill>
        <p:spPr>
          <a:xfrm>
            <a:off x="4680000" y="3573360"/>
            <a:ext cx="4140000" cy="21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23. Как поступить, если нужно уйти из гостей пораньше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заблаговременно подготовить всех г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попросить хозяев объявить о вашем уход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уйти незаметно, попрощавшись с хозяева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уйти незаметно, попрощавшись с хозяева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2" name="Picture 4" descr="C:\Users\User\Desktop\img.jpg"/>
          <p:cNvPicPr/>
          <p:nvPr/>
        </p:nvPicPr>
        <p:blipFill>
          <a:blip r:embed="rId1"/>
          <a:stretch/>
        </p:blipFill>
        <p:spPr>
          <a:xfrm>
            <a:off x="5364000" y="3429000"/>
            <a:ext cx="3384720" cy="1654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24. Должны ли хозяева, прощаясь с гостями, благодарить их?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уж если кто и должен благодарить, так это гости- хозя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хозяева тактично молч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хозяева должны благодарить гостей за то, что они приш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хозяева должны благодарить гостей за то, что они приш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5" name="Picture 4" descr="C:\Users\User\Desktop\5a522de3e690b.jpg"/>
          <p:cNvPicPr/>
          <p:nvPr/>
        </p:nvPicPr>
        <p:blipFill>
          <a:blip r:embed="rId1"/>
          <a:stretch/>
        </p:blipFill>
        <p:spPr>
          <a:xfrm>
            <a:off x="5292720" y="3789360"/>
            <a:ext cx="3201840" cy="18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2.Как долго следует ждать опаздывающих гостей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85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столько, сколько вытерпят уже пришедшие г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не более 15 мин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ждать вообще не следует, так как гости обязаны прийти к назначенному време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не более 15 мину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1" name="Picture 4" descr="C:\Users\User\Desktop\c4f144b365d4bfa0b0c2e47e980c5448.jpg"/>
          <p:cNvPicPr/>
          <p:nvPr/>
        </p:nvPicPr>
        <p:blipFill>
          <a:blip r:embed="rId1"/>
          <a:stretch/>
        </p:blipFill>
        <p:spPr>
          <a:xfrm>
            <a:off x="6443640" y="3573360"/>
            <a:ext cx="1793880" cy="194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3.Когда можно сесть за праздничный стол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856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как только вы зашли в комнату, где накрыт сто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только после того, как сядут наиболее важные и авторитетные г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после приглашения хозяина (хозяйки)и после того, как сядут женщи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после приглашения хозяина (хозяйки)и после того, как сядут женщи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4" name="Picture 4" descr="C:\Users\User\Desktop\97824.jpg"/>
          <p:cNvPicPr/>
          <p:nvPr/>
        </p:nvPicPr>
        <p:blipFill>
          <a:blip r:embed="rId1"/>
          <a:stretch/>
        </p:blipFill>
        <p:spPr>
          <a:xfrm>
            <a:off x="1042920" y="4352760"/>
            <a:ext cx="3544920" cy="1227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4.За которой из девушек – слева или справа-ухаживает юноша за столом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91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за девушкой, сидящей спра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за девушкой, сидящей сле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за обеи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за девушкой, сидящей спра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7" name="Picture 4" descr="C:\Users\User\Desktop\etiket-za-stolom.orig.jpg"/>
          <p:cNvPicPr/>
          <p:nvPr/>
        </p:nvPicPr>
        <p:blipFill>
          <a:blip r:embed="rId1"/>
          <a:stretch/>
        </p:blipFill>
        <p:spPr>
          <a:xfrm>
            <a:off x="468360" y="3573360"/>
            <a:ext cx="4967280" cy="21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5.Как сидят за праздничным столом хозяин и хозяйка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85672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рядом, в центре сто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хозяин- в торце стола, хозяйка – ближе к двери, ведущей на кухн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в торцах стола( напротив друг друг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в торцах стола( напротив друг друг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0" name="Picture 4" descr="C:\Users\User\Desktop\fe1a1336-71fd-4bd1-8993-01c7e9dee86f.jpg"/>
          <p:cNvPicPr/>
          <p:nvPr/>
        </p:nvPicPr>
        <p:blipFill>
          <a:blip r:embed="rId1"/>
          <a:stretch/>
        </p:blipFill>
        <p:spPr>
          <a:xfrm>
            <a:off x="250920" y="4005360"/>
            <a:ext cx="6913440" cy="216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6.Вы опоздали, гости уже сидят за столом . Как в этом случае вести себя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8000" y="1842840"/>
            <a:ext cx="89280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следует поочередно обойти всех гостей, поздорова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пройти к месту за столом и занять его как ни в чем не бывал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поздороваться с хозяйкой и извиниться за опозд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поздороваться с хозяйкой и извиниться за опозд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7.Кому из гостей первым подают угощение?</a:t>
            </a:r>
            <a:br>
              <a:rPr sz="4000"/>
            </a:b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гостю, сидящему по ходу часовой стрелки от хозяй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тому, кто проявляет явное нетерпение и признаки голо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тому, кто сидит по правую руку от хозяй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тому, кто сидит по правую руку от хозяйк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5" name="Picture 12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2305080" cy="19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8.Где находятся салфетки перед началом застолья?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на тарелк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Б) справа от тарел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) развешаны на спинках стул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) лежат на сиденьях стул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) на тарелк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8" name="Picture 4" descr="C:\Users\User\Desktop\e0fcdb5c07445724fc795d808e67f8ae.jpg"/>
          <p:cNvPicPr/>
          <p:nvPr/>
        </p:nvPicPr>
        <p:blipFill>
          <a:blip r:embed="rId1"/>
          <a:stretch/>
        </p:blipFill>
        <p:spPr>
          <a:xfrm>
            <a:off x="5970600" y="3213000"/>
            <a:ext cx="2986200" cy="293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2:13:28Z</dcterms:created>
  <dc:creator>1</dc:creator>
  <dc:description/>
  <dc:language>en-US</dc:language>
  <cp:lastModifiedBy>Пользователь</cp:lastModifiedBy>
  <dcterms:modified xsi:type="dcterms:W3CDTF">2023-01-11T12:12:14Z</dcterms:modified>
  <cp:revision>23</cp:revision>
  <dc:subject/>
  <dc:title>Как вести себя в гостях</dc:title>
</cp:coreProperties>
</file>