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3DA0-33B9-4EEB-B982-8365B84445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3AA9-A4FC-4DB0-906D-47F38099A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9B2D-1B56-44B6-A161-5FAA79070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542B-AE2B-4DC8-B2C3-D52937F57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B6BB-D9EC-4D4D-B8C3-DE241B838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798-A405-43BB-8FC7-BF0BB990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816-F10B-4C68-985B-8B8127A0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FA8-02CF-4FB3-B3C2-4C89EFB5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2CC-A92D-45B9-96FD-DCFF829C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A5CD-0C27-43E5-BA20-3681F992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02877-FD7C-4027-BDF1-A00AC4FD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0794-F93B-4756-9C28-5C0B11D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83D7-A3EF-40F2-B85E-7D3DCD9D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E999-110C-4272-B64D-02458883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D1AC-D207-40EC-960B-FBE2BFD3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C38D-F2DD-4A60-84C9-692FD975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068-EBCC-4B08-925F-5CB1DD70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F4BB-C442-44F1-B3EC-8D70EE00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8F87-F4B1-4E80-8733-F0F8941C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57BB-8F9F-43EF-80C1-0229B396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FF27-AFDC-4EDD-80D9-C09B0DF9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BCED-9829-4EA6-AD89-23BF8040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0A85-919D-43A1-8EBF-C9A27EED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FC76-2A5B-474B-B0F2-ADC1A4F0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F4A1-3F60-46BA-AD11-76E9DFAD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7C48-F43A-4DB1-AF0E-5DB4ABF6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E942-317E-441D-91D2-BC41B3A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28EA-DE1F-4E69-9437-A17C2211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7221-4ADB-4254-B219-07350CA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2128-A166-4059-BB65-B26C20BDA8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C36-4FB9-455B-8A5A-979BC9CFA49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Внеурочное занятие по химии</a:t>
            </a:r>
            <a:br>
              <a:rPr sz="3200"/>
            </a:b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«Исследование химического состава минеральной воды»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14400" y="2492280"/>
            <a:ext cx="77724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лева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1"/>
          <a:stretch/>
        </p:blipFill>
        <p:spPr>
          <a:xfrm>
            <a:off x="399960" y="1541520"/>
            <a:ext cx="2695680" cy="34592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"/>
          <p:cNvPicPr/>
          <p:nvPr/>
        </p:nvPicPr>
        <p:blipFill>
          <a:blip r:embed="rId2"/>
          <a:stretch/>
        </p:blipFill>
        <p:spPr>
          <a:xfrm>
            <a:off x="3201840" y="1519200"/>
            <a:ext cx="583416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19280" y="1773360"/>
          <a:ext cx="5933880" cy="1966680"/>
        </p:xfrm>
        <a:graphic>
          <a:graphicData uri="http://schemas.openxmlformats.org/drawingml/2006/table">
            <a:tbl>
              <a:tblPr/>
              <a:tblGrid>
                <a:gridCol w="2265480"/>
                <a:gridCol w="1882800"/>
                <a:gridCol w="1785600"/>
              </a:tblGrid>
              <a:tr h="960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е рН в соответствии со шка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е рН по датч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1565280" y="3860640"/>
            <a:ext cx="710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ая среда –кислая, щелочная или нейтральная характерна для вашей марки минеральн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опасно ли употребление для здоровья организма минеральной воды этой ма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сульфат - ионов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Таблица 3" descr=""/>
          <p:cNvPicPr/>
          <p:nvPr/>
        </p:nvPicPr>
        <p:blipFill>
          <a:blip r:embed="rId1"/>
          <a:stretch/>
        </p:blipFill>
        <p:spPr>
          <a:xfrm>
            <a:off x="1176480" y="1639800"/>
            <a:ext cx="7632720" cy="15606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4"/>
          <p:cNvSpPr/>
          <p:nvPr/>
        </p:nvSpPr>
        <p:spPr>
          <a:xfrm>
            <a:off x="1042920" y="3284640"/>
            <a:ext cx="7250040" cy="23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тите внимание на цвет ос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сульфат-ионы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хлорид (иодид) - ионов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03280" y="1773360"/>
          <a:ext cx="7283520" cy="1326960"/>
        </p:xfrm>
        <a:graphic>
          <a:graphicData uri="http://schemas.openxmlformats.org/drawingml/2006/table">
            <a:tbl>
              <a:tblPr/>
              <a:tblGrid>
                <a:gridCol w="3641760"/>
                <a:gridCol w="364176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Хлорид и иодид и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4"/>
          <p:cNvSpPr/>
          <p:nvPr/>
        </p:nvSpPr>
        <p:spPr>
          <a:xfrm>
            <a:off x="1432080" y="3413160"/>
            <a:ext cx="6992640" cy="24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тите внимание на цвет ос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хлорид-ионы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5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катионов  Са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</a:rPr>
              <a:t>2+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042920" y="1844640"/>
          <a:ext cx="7682040" cy="1281240"/>
        </p:xfrm>
        <a:graphic>
          <a:graphicData uri="http://schemas.openxmlformats.org/drawingml/2006/table">
            <a:tbl>
              <a:tblPr/>
              <a:tblGrid>
                <a:gridCol w="3840120"/>
                <a:gridCol w="3841920"/>
              </a:tblGrid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Са</a:t>
                      </a:r>
                      <a:r>
                        <a:rPr b="1" lang="ru-RU" sz="14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56" name="Прямоугольник 4"/>
          <p:cNvSpPr/>
          <p:nvPr/>
        </p:nvSpPr>
        <p:spPr>
          <a:xfrm>
            <a:off x="998640" y="3124080"/>
            <a:ext cx="753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зовался ли осадок или помутнение, обратите внимание на цвет ос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катионы  С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катионов  Мg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</a:rPr>
              <a:t>2+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187280" y="1773360"/>
          <a:ext cx="7499520" cy="128088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g</a:t>
                      </a:r>
                      <a:r>
                        <a:rPr b="1" lang="ru-RU" sz="14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60" name="Прямоугольник 4"/>
          <p:cNvSpPr/>
          <p:nvPr/>
        </p:nvSpPr>
        <p:spPr>
          <a:xfrm>
            <a:off x="1050840" y="3141720"/>
            <a:ext cx="7499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образовался ли осадок или помутнение, обратите внимание на цвет осадка или помут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катионы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5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наличия гидрокарбонат-ионов НСО</a:t>
            </a:r>
            <a:r>
              <a:rPr b="0" lang="ru-RU" sz="2800" spc="-1" strike="noStrike" baseline="-25000">
                <a:solidFill>
                  <a:srgbClr val="002060"/>
                </a:solidFill>
                <a:latin typeface="Times New Roman"/>
              </a:rPr>
              <a:t>3</a:t>
            </a:r>
            <a:r>
              <a:rPr b="0" lang="ru-RU" sz="2800" spc="-1" strike="noStrike" baseline="30000">
                <a:solidFill>
                  <a:srgbClr val="00206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116000" y="1758960"/>
          <a:ext cx="7608960" cy="2273400"/>
        </p:xfrm>
        <a:graphic>
          <a:graphicData uri="http://schemas.openxmlformats.org/drawingml/2006/table">
            <a:tbl>
              <a:tblPr/>
              <a:tblGrid>
                <a:gridCol w="3803760"/>
                <a:gridCol w="3805200"/>
              </a:tblGrid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НСО</a:t>
                      </a:r>
                      <a:r>
                        <a:rPr b="1" lang="ru-RU" sz="1400" spc="-1" strike="noStrike" baseline="-25000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 baseline="30000">
                          <a:solidFill>
                            <a:srgbClr val="002060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37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3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35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64" name="Прямоугольник 4"/>
          <p:cNvSpPr/>
          <p:nvPr/>
        </p:nvSpPr>
        <p:spPr>
          <a:xfrm>
            <a:off x="952560" y="4032360"/>
            <a:ext cx="801216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метьте признак химической реакции, что выделяется при добавлении соляной кислоты, какова интенсивность выделения продукта ре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 ли ваша марка минеральной воды гидрокарбонат-ионы НС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несите с данными этикеток и значением минерал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пределение электропроводности минеральных вод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258920" y="4653000"/>
            <a:ext cx="410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какой торговой марки минеральной воды самое высокое значение минерализации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116000" y="1758960"/>
          <a:ext cx="7608960" cy="2273400"/>
        </p:xfrm>
        <a:graphic>
          <a:graphicData uri="http://schemas.openxmlformats.org/drawingml/2006/table">
            <a:tbl>
              <a:tblPr/>
              <a:tblGrid>
                <a:gridCol w="3803760"/>
                <a:gridCol w="3805200"/>
              </a:tblGrid>
              <a:tr h="324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начение электропроводности, мк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650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9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49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2060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755640" y="1557360"/>
            <a:ext cx="784872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идентифицированы ионы, заявленные в составе производителем в исследуемой марке минеральной воды методом качественного анализ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ыли ли обнаружены другие -ионы, которые отсутствовали в данных этикеток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значения минерализации сделайте вывод: в каких целях следует применять данные марки минеральной в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ваш взгляд, где можно использовать результаты наше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е вы бы дали рекомендации потребителю минеральной во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1112760" y="3276720"/>
            <a:ext cx="48974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258920" y="5502240"/>
            <a:ext cx="74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Объект 3" descr=""/>
          <p:cNvPicPr/>
          <p:nvPr/>
        </p:nvPicPr>
        <p:blipFill>
          <a:blip r:embed="rId1"/>
          <a:stretch/>
        </p:blipFill>
        <p:spPr>
          <a:xfrm>
            <a:off x="1100160" y="1569960"/>
            <a:ext cx="7083360" cy="413244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1763640" y="447840"/>
            <a:ext cx="61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8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16000" y="222732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6042c"/>
                </a:solidFill>
                <a:latin typeface="Arial"/>
              </a:rPr>
              <a:t>« Единственный путь, ведущий к знанию, - это      деятельност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41eea"/>
                </a:solidFill>
                <a:latin typeface="Arial"/>
              </a:rPr>
              <a:t> 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ернард  Шо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Объект 4" descr=""/>
          <p:cNvPicPr/>
          <p:nvPr/>
        </p:nvPicPr>
        <p:blipFill>
          <a:blip r:embed="rId1"/>
          <a:stretch/>
        </p:blipFill>
        <p:spPr>
          <a:xfrm>
            <a:off x="1182600" y="1574640"/>
            <a:ext cx="6985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Объект 3" descr=""/>
          <p:cNvPicPr/>
          <p:nvPr/>
        </p:nvPicPr>
        <p:blipFill>
          <a:blip r:embed="rId1"/>
          <a:stretch/>
        </p:blipFill>
        <p:spPr>
          <a:xfrm>
            <a:off x="1863720" y="1569960"/>
            <a:ext cx="68166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Объект 4" descr=""/>
          <p:cNvPicPr/>
          <p:nvPr/>
        </p:nvPicPr>
        <p:blipFill>
          <a:blip r:embed="rId1"/>
          <a:stretch/>
        </p:blipFill>
        <p:spPr>
          <a:xfrm>
            <a:off x="1604880" y="1541520"/>
            <a:ext cx="71312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Диаграмма 1"/>
          <p:cNvGraphicFramePr/>
          <p:nvPr/>
        </p:nvGraphicFramePr>
        <p:xfrm>
          <a:off x="1568520" y="1722600"/>
          <a:ext cx="6149880" cy="384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Диаграмма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8520" y="1722600"/>
                    <a:ext cx="614988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Объект 4" descr=""/>
          <p:cNvPicPr/>
          <p:nvPr/>
        </p:nvPicPr>
        <p:blipFill>
          <a:blip r:embed="rId1"/>
          <a:stretch/>
        </p:blipFill>
        <p:spPr>
          <a:xfrm>
            <a:off x="1112760" y="1514520"/>
            <a:ext cx="738972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2"/>
          <p:cNvSpPr/>
          <p:nvPr/>
        </p:nvSpPr>
        <p:spPr>
          <a:xfrm>
            <a:off x="2843280" y="278136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Классификация минеральных вод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280" y="1125360"/>
            <a:ext cx="8425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Рисунок 6" descr=""/>
          <p:cNvPicPr/>
          <p:nvPr/>
        </p:nvPicPr>
        <p:blipFill>
          <a:blip r:embed="rId1"/>
          <a:stretch/>
        </p:blipFill>
        <p:spPr>
          <a:xfrm>
            <a:off x="1042920" y="1600200"/>
            <a:ext cx="2073240" cy="749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7" descr=""/>
          <p:cNvPicPr/>
          <p:nvPr/>
        </p:nvPicPr>
        <p:blipFill>
          <a:blip r:embed="rId2"/>
          <a:stretch/>
        </p:blipFill>
        <p:spPr>
          <a:xfrm>
            <a:off x="1025640" y="2174760"/>
            <a:ext cx="3068640" cy="7509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8" descr=""/>
          <p:cNvPicPr/>
          <p:nvPr/>
        </p:nvPicPr>
        <p:blipFill>
          <a:blip r:embed="rId3"/>
          <a:stretch/>
        </p:blipFill>
        <p:spPr>
          <a:xfrm>
            <a:off x="1025640" y="2730600"/>
            <a:ext cx="2146320" cy="7491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1" descr=""/>
          <p:cNvPicPr/>
          <p:nvPr/>
        </p:nvPicPr>
        <p:blipFill>
          <a:blip r:embed="rId4"/>
          <a:stretch/>
        </p:blipFill>
        <p:spPr>
          <a:xfrm>
            <a:off x="6172200" y="1604880"/>
            <a:ext cx="2792520" cy="330372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3" descr=""/>
          <p:cNvPicPr/>
          <p:nvPr/>
        </p:nvPicPr>
        <p:blipFill>
          <a:blip r:embed="rId5"/>
          <a:stretch/>
        </p:blipFill>
        <p:spPr>
          <a:xfrm>
            <a:off x="684360" y="3900600"/>
            <a:ext cx="59403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Характеристика минеральных вод «Donat», «Боржоми» и «Кисловодская» по данным этикеток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19280" y="1538280"/>
          <a:ext cx="7200720" cy="4603680"/>
        </p:xfrm>
        <a:graphic>
          <a:graphicData uri="http://schemas.openxmlformats.org/drawingml/2006/table">
            <a:tbl>
              <a:tblPr/>
              <a:tblGrid>
                <a:gridCol w="1800360"/>
                <a:gridCol w="1800000"/>
                <a:gridCol w="1800360"/>
                <a:gridCol w="900000"/>
                <a:gridCol w="900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ния к приме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ический состав, м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66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Лечебно- сульфатно-гидрокарбонатная натриево-магниевая минеральная природная питьев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lantik Droga Kolinska d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gaska Slatina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Словени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важина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-3/66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нический гастрит с нормальной, повышенной секреторной функцией желудка. Болезни кишечника, болезни печени, желчного пузыря и желчевыводящих путей, болезни обмена веществ-сахарный диабет и ожир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треблять не менее 300мл в ден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нить при температуре от +3 до + 25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годности с даты розлива - 12 месяце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арбон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ь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00-9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-2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-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ерал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-15,9 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Характеристика минеральных вод «Donat», «Боржоми» и «Кисловодская» по данным этикеток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55640" y="1341360"/>
          <a:ext cx="8209080" cy="5426280"/>
        </p:xfrm>
        <a:graphic>
          <a:graphicData uri="http://schemas.openxmlformats.org/drawingml/2006/table">
            <a:tbl>
              <a:tblPr/>
              <a:tblGrid>
                <a:gridCol w="1871640"/>
                <a:gridCol w="1800360"/>
                <a:gridCol w="2665440"/>
                <a:gridCol w="1008000"/>
                <a:gridCol w="86364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«Боржом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ния к приме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ический состав, м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90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ечебно- столовая хлоридно-гидрокарбонатная натриево-кальциевая минеральная природная питьевая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зия, г. Боржо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лито на месте добычи из Боржомского месторождения минеральных в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важина № 25Э, 38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зни пищевода, хронические гастриты с нормальной и повышенной секреторной функцией желудка, язвенная болезнь желудка и двенадцатиперстной кишки,  болезни кишечника, болезни печени, желчного пузыря и желчевыводящих путей, болезни поджелудочной железы, болезни обмена (сахарный диабет, ожирение, болезни мочевыводящих пут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ется вне фазы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анить при температуре от +3 до + 3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 годности с даты розлива - 12 месяце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карбон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ь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н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тр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0-5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-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-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-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ерализация воды 5,0-7,5 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Характеристика минеральных вод «Donat», «Боржоми» и «Кисловодская» по данным этикеток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1280" y="1268280"/>
          <a:ext cx="8424720" cy="5058000"/>
        </p:xfrm>
        <a:graphic>
          <a:graphicData uri="http://schemas.openxmlformats.org/drawingml/2006/table">
            <a:tbl>
              <a:tblPr/>
              <a:tblGrid>
                <a:gridCol w="1774800"/>
                <a:gridCol w="1846080"/>
                <a:gridCol w="2882880"/>
                <a:gridCol w="1035360"/>
                <a:gridCol w="88560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«Кисловодска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ния к приме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gridSpan="2">
                  <a:txBody>
                    <a:bodyPr lIns="90000" rIns="90000"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Химический состав, м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8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ечебно- столовая сульфатно-гидрокарбонатная магниево-кальциевая минеральная природная питьевая в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ОО «Нарзан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вропольский край, Предгорный район, п. Ми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лито на месте добычи из источни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важина 2ПЭ-БИ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ические гастриты с нормальной и повышенной секреторной функцией желудка, неосложненная язвенная болезнь желудка и двенадцатиперстной кишки,  хронические болезни печени и желчевыводящих путей, хронические панкреатиты, болезни обмена (сахарный диабет, ожирение, нарушение солевого и липидного обмена), болезни мочевыводящих пут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меняется вне фазы обостр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анить при температуре от +3 до + 30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ок годности с даты розлива - 12 месяце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идрокарбонат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C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аты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ь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гн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g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рн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трий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лий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K</a:t>
                      </a:r>
                      <a:r>
                        <a:rPr b="0" lang="ru-RU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0-2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-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00-2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-6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-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0-7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нерализация воды 2,0-6,0 г/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560" y="44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Органолептическая характеристика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минеральной воды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42920" y="1577880"/>
          <a:ext cx="7682040" cy="3467160"/>
        </p:xfrm>
        <a:graphic>
          <a:graphicData uri="http://schemas.openxmlformats.org/drawingml/2006/table">
            <a:tbl>
              <a:tblPr/>
              <a:tblGrid>
                <a:gridCol w="1316160"/>
                <a:gridCol w="2004840"/>
                <a:gridCol w="2006640"/>
                <a:gridCol w="2354400"/>
              </a:tblGrid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каз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Боржом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5836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нешний ви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967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Ц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Вку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2984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Зап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94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"/>
          <p:cNvSpPr/>
          <p:nvPr/>
        </p:nvSpPr>
        <p:spPr>
          <a:xfrm>
            <a:off x="1116000" y="1484280"/>
            <a:ext cx="7704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числите при каких заболеваниях нашего организма следует пить минеральную вод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гда следует употреблять минеральную воду? (вне фазы обострения или во время заболе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зовите способ применения минеральной воды (до или после ед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те внимание какая должна быть температура минеральной воды при ее употреблении в лечебных цел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деление какого гормона клетками желудка стимулирует употребление минеральной вод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йствие каких компонентов оказывает важную роль в эффекте питьевого леч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"/>
          <p:cNvSpPr/>
          <p:nvPr/>
        </p:nvSpPr>
        <p:spPr>
          <a:xfrm>
            <a:off x="1403280" y="43164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Целебные свойства минеральной 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«Исследование химического состава минеральной воды методом химического анализа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3"/>
          <p:cNvSpPr/>
          <p:nvPr/>
        </p:nvSpPr>
        <p:spPr>
          <a:xfrm>
            <a:off x="1066680" y="1557360"/>
            <a:ext cx="746604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следовать химический состав минеральных вод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», «Боржоми» и «Кисловодская» и сравнить его с данными на этикет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1054080" y="2479680"/>
            <a:ext cx="756936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800280" y="351000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еральная вода торговых маро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na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», «Боржоми» и «Кисловод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8:34Z</dcterms:created>
  <dc:creator>emd</dc:creator>
  <dc:description/>
  <dc:language>en-US</dc:language>
  <cp:lastModifiedBy>Комлева Светлана Ивановна</cp:lastModifiedBy>
  <dcterms:modified xsi:type="dcterms:W3CDTF">2024-01-29T07:52:45Z</dcterms:modified>
  <cp:revision>232</cp:revision>
  <dc:subject/>
  <dc:title>Методические особенности организации учебного процесса по биологии с использованием информационно-коммуникационных технологи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A5CC2603D4D4191ACEE51C216A3EECB</vt:lpwstr>
  </property>
  <property fmtid="{D5CDD505-2E9C-101B-9397-08002B2CF9AE}" pid="3" name="KSOProductBuildVer">
    <vt:lpwstr>1049-11.2.0.11380</vt:lpwstr>
  </property>
</Properties>
</file>