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5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B283-EA7C-4939-BA10-1DAD10F741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4448-9EF5-4F63-B552-B06F29990E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1FFE-04E0-48C2-88E6-B2D8B994FD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0270-529E-455A-992D-4E917282A4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B967-B200-4EC0-AAB9-8D3FDC4830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792-E1C8-467D-B4AC-468A1609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9A3-DDBC-4446-AE83-7C6AC3FD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077-21AF-41E2-8F9C-E0F458CE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0934-1C80-4B82-944F-803966A7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B865-E1E4-4523-A25A-48478B3A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EC7C-F8ED-43CE-A6AA-7BED8FEA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C173-4500-4180-9CE2-884A16B7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0E05-20DB-46BE-89EF-9F02DF36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8B82-B0FF-4CE4-9925-4A18880C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98CE-9BCA-479B-BA5A-923798B8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9C3D-2FDA-4E71-AA8E-C8A14FC3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AEE3-EC38-45C0-B6F8-A438EE76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E85B-0538-4221-B931-94C5707B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948B-BC56-406C-9B49-5DE81E03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1BEA-6A0A-4281-B469-7E362733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BD2B-993C-4B63-826D-8C8B5879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B91E-9F8F-416F-8B43-CC4B3875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3243-59F3-4805-83F3-B6C3EA83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ABC-7521-45EF-B26D-BC091217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6B9-A0C5-4575-A5F9-B30FA8B0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A08-0D82-4917-8B21-3D3E92AE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CD6-6D38-4F37-898F-915FC29C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DBA-EFD5-4B06-8A2D-D71298E9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FCCC-896F-44E2-B272-FFFCA642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10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05B1-8299-4848-84B9-76980855183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10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C680-EC07-4579-8F99-F8B254B71DF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d0000"/>
                </a:solidFill>
                <a:latin typeface="Times New Roman"/>
              </a:rPr>
              <a:t>Внеурочное занятие по химии</a:t>
            </a:r>
            <a:br>
              <a:rPr sz="3200"/>
            </a:br>
            <a:r>
              <a:rPr b="0" lang="ru-RU" sz="3200" spc="-1" strike="noStrike">
                <a:solidFill>
                  <a:srgbClr val="ad0000"/>
                </a:solidFill>
                <a:latin typeface="Times New Roman"/>
              </a:rPr>
              <a:t>«Исследование химического состава минеральной воды»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249228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лева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5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пределение рН минеральных вод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Donat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» «Боржоми»  «Кисловодская»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3" descr=""/>
          <p:cNvPicPr/>
          <p:nvPr/>
        </p:nvPicPr>
        <p:blipFill>
          <a:blip r:embed="rId1"/>
          <a:stretch/>
        </p:blipFill>
        <p:spPr>
          <a:xfrm>
            <a:off x="399960" y="1541520"/>
            <a:ext cx="2695680" cy="34592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" descr=""/>
          <p:cNvPicPr/>
          <p:nvPr/>
        </p:nvPicPr>
        <p:blipFill>
          <a:blip r:embed="rId2"/>
          <a:stretch/>
        </p:blipFill>
        <p:spPr>
          <a:xfrm>
            <a:off x="3201840" y="1519200"/>
            <a:ext cx="58341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пределение рН минеральных вод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Donat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» «Боржоми»  «Кисловодская»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619280" y="1773360"/>
          <a:ext cx="5933880" cy="1966680"/>
        </p:xfrm>
        <a:graphic>
          <a:graphicData uri="http://schemas.openxmlformats.org/drawingml/2006/table">
            <a:tbl>
              <a:tblPr/>
              <a:tblGrid>
                <a:gridCol w="2265480"/>
                <a:gridCol w="1882800"/>
                <a:gridCol w="1785600"/>
              </a:tblGrid>
              <a:tr h="96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начение рН в соответствии со шкал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начение рН по датч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2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44" name="Прямоугольник 4"/>
          <p:cNvSpPr/>
          <p:nvPr/>
        </p:nvSpPr>
        <p:spPr>
          <a:xfrm>
            <a:off x="1565280" y="3860640"/>
            <a:ext cx="710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ая среда –кислая, щелочная или нейтральная характерна для вашей марки минеральной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опасно ли употребление для здоровья организма минеральной воды этой ма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пределение наличия сульфат - ионов минеральных вод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Таблица 3" descr=""/>
          <p:cNvPicPr/>
          <p:nvPr/>
        </p:nvPicPr>
        <p:blipFill>
          <a:blip r:embed="rId1"/>
          <a:stretch/>
        </p:blipFill>
        <p:spPr>
          <a:xfrm>
            <a:off x="1176480" y="1639800"/>
            <a:ext cx="7632720" cy="15606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4"/>
          <p:cNvSpPr/>
          <p:nvPr/>
        </p:nvSpPr>
        <p:spPr>
          <a:xfrm>
            <a:off x="1042920" y="3284640"/>
            <a:ext cx="7250040" cy="23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тьте признак химической реакции, обратите внимание на цвет ос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 ли ваша марка минеральной воды сульфат-ионы, соотнесите с данными этикеток и значением минер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пределение наличия хлорид (иодид) - ионов минеральных в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403280" y="1773360"/>
          <a:ext cx="7283520" cy="1326960"/>
        </p:xfrm>
        <a:graphic>
          <a:graphicData uri="http://schemas.openxmlformats.org/drawingml/2006/table">
            <a:tbl>
              <a:tblPr/>
              <a:tblGrid>
                <a:gridCol w="3641760"/>
                <a:gridCol w="36417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Хлорид и иодид и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2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2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2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52" name="Прямоугольник 4"/>
          <p:cNvSpPr/>
          <p:nvPr/>
        </p:nvSpPr>
        <p:spPr>
          <a:xfrm>
            <a:off x="1432080" y="3413160"/>
            <a:ext cx="6992640" cy="24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тьте признак химической реакции, обратите внимание на цвет ос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 ли ваша марка минеральной воды хлорид-ионы, соотнесите с данными этикеток и значением минер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5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пределение наличия катионов  Са</a:t>
            </a:r>
            <a:r>
              <a:rPr b="0" lang="ru-RU" sz="2800" spc="-1" strike="noStrike" baseline="30000">
                <a:solidFill>
                  <a:srgbClr val="002060"/>
                </a:solidFill>
                <a:latin typeface="Times New Roman"/>
              </a:rPr>
              <a:t>2+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минеральных в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042920" y="1844640"/>
          <a:ext cx="7682040" cy="1281240"/>
        </p:xfrm>
        <a:graphic>
          <a:graphicData uri="http://schemas.openxmlformats.org/drawingml/2006/table">
            <a:tbl>
              <a:tblPr/>
              <a:tblGrid>
                <a:gridCol w="3840120"/>
                <a:gridCol w="3841920"/>
              </a:tblGrid>
              <a:tr h="32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а</a:t>
                      </a:r>
                      <a:r>
                        <a:rPr b="1" lang="ru-RU" sz="1400" spc="-1" strike="noStrike" baseline="30000">
                          <a:solidFill>
                            <a:srgbClr val="002060"/>
                          </a:solidFill>
                          <a:latin typeface="Arial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2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2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56" name="Прямоугольник 4"/>
          <p:cNvSpPr/>
          <p:nvPr/>
        </p:nvSpPr>
        <p:spPr>
          <a:xfrm>
            <a:off x="998640" y="3124080"/>
            <a:ext cx="753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тьте признак химической реакции, образовался ли осадок или помутнение, обратите внимание на цвет ос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 ли ваша марка минеральной воды катионы 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отнесите с данными этикеток и значением минер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пределение наличия катионов  Мg</a:t>
            </a:r>
            <a:r>
              <a:rPr b="0" lang="ru-RU" sz="2800" spc="-1" strike="noStrike" baseline="30000">
                <a:solidFill>
                  <a:srgbClr val="002060"/>
                </a:solidFill>
                <a:latin typeface="Times New Roman"/>
              </a:rPr>
              <a:t>2+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минеральных вод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87280" y="1773360"/>
          <a:ext cx="7499520" cy="128088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g</a:t>
                      </a:r>
                      <a:r>
                        <a:rPr b="1" lang="ru-RU" sz="1400" spc="-1" strike="noStrike" baseline="30000">
                          <a:solidFill>
                            <a:srgbClr val="002060"/>
                          </a:solidFill>
                          <a:latin typeface="Arial"/>
                        </a:rPr>
                        <a:t>2+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2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60" name="Прямоугольник 4"/>
          <p:cNvSpPr/>
          <p:nvPr/>
        </p:nvSpPr>
        <p:spPr>
          <a:xfrm>
            <a:off x="1050840" y="3141720"/>
            <a:ext cx="7499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тьте признак химической реакции, образовался ли осадок или помутнение, обратите внимание на цвет осадка или помут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 ли ваша марка минеральной воды катио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отнесите с данными этикеток и значением минер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5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пределение наличия гидрокарбонат-ионов НСО</a:t>
            </a:r>
            <a:r>
              <a:rPr b="0" lang="ru-RU" sz="2800" spc="-1" strike="noStrike" baseline="-25000">
                <a:solidFill>
                  <a:srgbClr val="002060"/>
                </a:solidFill>
                <a:latin typeface="Times New Roman"/>
              </a:rPr>
              <a:t>3</a:t>
            </a:r>
            <a:r>
              <a:rPr b="0" lang="ru-RU" sz="2800" spc="-1" strike="noStrike" baseline="30000">
                <a:solidFill>
                  <a:srgbClr val="002060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минеральных вод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116000" y="1758960"/>
          <a:ext cx="7608960" cy="2273400"/>
        </p:xfrm>
        <a:graphic>
          <a:graphicData uri="http://schemas.openxmlformats.org/drawingml/2006/table">
            <a:tbl>
              <a:tblPr/>
              <a:tblGrid>
                <a:gridCol w="3803760"/>
                <a:gridCol w="3805200"/>
              </a:tblGrid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СО</a:t>
                      </a:r>
                      <a:r>
                        <a:rPr b="1" lang="ru-RU" sz="14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 baseline="30000">
                          <a:solidFill>
                            <a:srgbClr val="00206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63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636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635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64" name="Прямоугольник 4"/>
          <p:cNvSpPr/>
          <p:nvPr/>
        </p:nvSpPr>
        <p:spPr>
          <a:xfrm>
            <a:off x="952560" y="4032360"/>
            <a:ext cx="801216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тьте признак химической реакции, что выделяется при добавлении соляной кислоты, какова интенсивность выделения продукта 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 ли ваша марка минеральной воды гидрокарбонат-ионы НС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несите с данными этикеток и значением минер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1378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пределение электропроводности минеральных вод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Donat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» «Боржоми»  «Кисловодская»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1258920" y="4653000"/>
            <a:ext cx="4105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какой торговой марки минеральной воды самое высокое значение минерализации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16000" y="1758960"/>
          <a:ext cx="7608960" cy="2273400"/>
        </p:xfrm>
        <a:graphic>
          <a:graphicData uri="http://schemas.openxmlformats.org/drawingml/2006/table">
            <a:tbl>
              <a:tblPr/>
              <a:tblGrid>
                <a:gridCol w="3803760"/>
                <a:gridCol w="3805200"/>
              </a:tblGrid>
              <a:tr h="324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начение электропроводности, мк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650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649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649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2060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4"/>
          <p:cNvSpPr/>
          <p:nvPr/>
        </p:nvSpPr>
        <p:spPr>
          <a:xfrm>
            <a:off x="755640" y="1557360"/>
            <a:ext cx="784872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е идентифицированы ионы, заявленные в составе производителем в исследуемой марке минеральной воды методом качественного анализ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ыли ли обнаружены другие -ионы, которые отсутствовали в данных этикеток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основе значения минерализации сделайте вывод: в каких целях следует применять данные марки минеральной во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ваш взгляд, где можно использовать результаты наш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следова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е вы бы дали рекомендации потребителю минеральной во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5"/>
          <p:cNvSpPr/>
          <p:nvPr/>
        </p:nvSpPr>
        <p:spPr>
          <a:xfrm>
            <a:off x="1112760" y="3276720"/>
            <a:ext cx="48974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258920" y="5502240"/>
            <a:ext cx="74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Объект 3" descr=""/>
          <p:cNvPicPr/>
          <p:nvPr/>
        </p:nvPicPr>
        <p:blipFill>
          <a:blip r:embed="rId1"/>
          <a:stretch/>
        </p:blipFill>
        <p:spPr>
          <a:xfrm>
            <a:off x="1100160" y="1569960"/>
            <a:ext cx="7083360" cy="413244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"/>
          <p:cNvSpPr/>
          <p:nvPr/>
        </p:nvSpPr>
        <p:spPr>
          <a:xfrm>
            <a:off x="1763640" y="4478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циологический 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8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16000" y="222732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042c"/>
                </a:solidFill>
                <a:latin typeface="Arial"/>
              </a:rPr>
              <a:t>« Единственный путь, ведущий к знанию, - это      деятельность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41eea"/>
                </a:solidFill>
                <a:latin typeface="Arial"/>
              </a:rPr>
              <a:t>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ернард  Шо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Объект 4" descr=""/>
          <p:cNvPicPr/>
          <p:nvPr/>
        </p:nvPicPr>
        <p:blipFill>
          <a:blip r:embed="rId1"/>
          <a:stretch/>
        </p:blipFill>
        <p:spPr>
          <a:xfrm>
            <a:off x="1182600" y="1574640"/>
            <a:ext cx="698508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Объект 3" descr=""/>
          <p:cNvPicPr/>
          <p:nvPr/>
        </p:nvPicPr>
        <p:blipFill>
          <a:blip r:embed="rId1"/>
          <a:stretch/>
        </p:blipFill>
        <p:spPr>
          <a:xfrm>
            <a:off x="1863720" y="1569960"/>
            <a:ext cx="68166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Объект 4" descr=""/>
          <p:cNvPicPr/>
          <p:nvPr/>
        </p:nvPicPr>
        <p:blipFill>
          <a:blip r:embed="rId1"/>
          <a:stretch/>
        </p:blipFill>
        <p:spPr>
          <a:xfrm>
            <a:off x="1604880" y="1541520"/>
            <a:ext cx="71312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Диаграмма 1"/>
          <p:cNvGraphicFramePr/>
          <p:nvPr/>
        </p:nvGraphicFramePr>
        <p:xfrm>
          <a:off x="1568520" y="1722600"/>
          <a:ext cx="6149880" cy="384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8520" y="1722600"/>
                    <a:ext cx="614988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Объект 4" descr=""/>
          <p:cNvPicPr/>
          <p:nvPr/>
        </p:nvPicPr>
        <p:blipFill>
          <a:blip r:embed="rId1"/>
          <a:stretch/>
        </p:blipFill>
        <p:spPr>
          <a:xfrm>
            <a:off x="1112760" y="1514520"/>
            <a:ext cx="73897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2843280" y="2781360"/>
            <a:ext cx="504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Arial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Arial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Классификация минеральных вод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9280" y="1125360"/>
            <a:ext cx="8425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6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2073240" cy="7491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7" descr=""/>
          <p:cNvPicPr/>
          <p:nvPr/>
        </p:nvPicPr>
        <p:blipFill>
          <a:blip r:embed="rId2"/>
          <a:stretch/>
        </p:blipFill>
        <p:spPr>
          <a:xfrm>
            <a:off x="1025640" y="2174760"/>
            <a:ext cx="3068640" cy="7509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8" descr=""/>
          <p:cNvPicPr/>
          <p:nvPr/>
        </p:nvPicPr>
        <p:blipFill>
          <a:blip r:embed="rId3"/>
          <a:stretch/>
        </p:blipFill>
        <p:spPr>
          <a:xfrm>
            <a:off x="1025640" y="2730600"/>
            <a:ext cx="2146320" cy="7491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1" descr=""/>
          <p:cNvPicPr/>
          <p:nvPr/>
        </p:nvPicPr>
        <p:blipFill>
          <a:blip r:embed="rId4"/>
          <a:stretch/>
        </p:blipFill>
        <p:spPr>
          <a:xfrm>
            <a:off x="6172200" y="1604880"/>
            <a:ext cx="2792520" cy="33037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" descr=""/>
          <p:cNvPicPr/>
          <p:nvPr/>
        </p:nvPicPr>
        <p:blipFill>
          <a:blip r:embed="rId5"/>
          <a:stretch/>
        </p:blipFill>
        <p:spPr>
          <a:xfrm>
            <a:off x="684360" y="3900600"/>
            <a:ext cx="594036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Характеристика минеральных вод «Donat», «Боржоми» и «Кисловодская» по данным этикеток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619280" y="1538280"/>
          <a:ext cx="7200720" cy="460368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  <a:gridCol w="900000"/>
                <a:gridCol w="90000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оиз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казания к примен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 gridSpan="2"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Химический состав, мг/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ечебно- сульфатно-гидрокарбонатная натриево-магниевая минеральная природная питьев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lantik Droga Kolinska d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gaska Slatina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ловения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важин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-3/66-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ий гастрит с нормальной, повышенной секреторной функцией желудка. Болезни кишечника, болезни печени, желчного пузыря и желчевыводящих путей, болезни обмена веществ-сахарный диабет и ожир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лять не менее 300мл в ден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анить при температуре от +3 до + 25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годности с даты розлива - 12 месяце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дрокарбонаты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O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льфаты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иды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ь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00-9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-2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ее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-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0-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-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нерал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 -15,9 г/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Характеристика минеральных вод «Donat», «Боржоми» и «Кисловодская» по данным этикеток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55640" y="1341360"/>
          <a:ext cx="8209080" cy="5426280"/>
        </p:xfrm>
        <a:graphic>
          <a:graphicData uri="http://schemas.openxmlformats.org/drawingml/2006/table">
            <a:tbl>
              <a:tblPr/>
              <a:tblGrid>
                <a:gridCol w="1871640"/>
                <a:gridCol w="1800360"/>
                <a:gridCol w="2665440"/>
                <a:gridCol w="1008000"/>
                <a:gridCol w="863640"/>
              </a:tblGrid>
              <a:tr h="51768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Боржом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оиз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казания к примен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 gridSpan="2"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Химический состав, мг/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0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Лечебно- столовая хлоридно-гидрокарбонатная натриево-кальциевая минеральная природная питьевая 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зия, г. Боржо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лито на месте добычи из Боржомского месторождения минеральных в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важина № 25Э, 38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езни пищевода, хронические гастриты с нормальной и повышенной секреторной функцией желудка, язвенная болезнь желудка и двенадцатиперстной кишки,  болезни кишечника, болезни печени, желчного пузыря и желчевыводящих путей, болезни поджелудочной железы, болезни обмена (сахарный диабет, ожирение, болезни мочевыводящих пут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еняется вне фазы обостр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анить при температуре от +3 до + 30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ок годности с даты розлива - 12 месяце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дрокарбонаты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CO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ориды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l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льфаты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ь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гний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g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трий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00-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0-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-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-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-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51768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 gridSpan="2"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ерализация воды 5,0-7,5 г/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Характеристика минеральных вод «Donat», «Боржоми» и «Кисловодская» по данным этикеток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11280" y="1268280"/>
          <a:ext cx="8424720" cy="5058000"/>
        </p:xfrm>
        <a:graphic>
          <a:graphicData uri="http://schemas.openxmlformats.org/drawingml/2006/table">
            <a:tbl>
              <a:tblPr/>
              <a:tblGrid>
                <a:gridCol w="1774800"/>
                <a:gridCol w="1846080"/>
                <a:gridCol w="2882880"/>
                <a:gridCol w="1035360"/>
                <a:gridCol w="885600"/>
              </a:tblGrid>
              <a:tr h="51768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«Кисловодска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оиз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казания к примен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 gridSpan="2"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Химический состав, мг/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Лечебно- столовая сульфатно-гидрокарбонатная магниево-кальциевая минеральная природная питьевая 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ОО «Нарз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вропольский край, Предгорный район, п. Ми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лито на месте добычи из источни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важина 2ПЭ-Б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ические гастриты с нормальной и повышенной секреторной функцией желудка, неосложненная язвенная болезнь желудка и двенадцатиперстной кишки,  хронические болезни печени и желчевыводящих путей, хронические панкреатиты, болезни обмена (сахарный диабет, ожирение, нарушение солевого и липидного обмена), болезни мочевыводящих пут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еняется вне фазы обостр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анить при температуре от +3 до + 30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ок годности с даты розлива - 12 месяце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дрокарбона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CO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ориды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l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льфаты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ь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гний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g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мар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трий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ий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K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0-2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-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00-2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-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-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0-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64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нерализация воды 2,0-6,0 г/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560" y="4428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рганолептическая характеристика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минеральной воды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42920" y="1577880"/>
          <a:ext cx="7682040" cy="3467160"/>
        </p:xfrm>
        <a:graphic>
          <a:graphicData uri="http://schemas.openxmlformats.org/drawingml/2006/table">
            <a:tbl>
              <a:tblPr/>
              <a:tblGrid>
                <a:gridCol w="1316160"/>
                <a:gridCol w="2004840"/>
                <a:gridCol w="2006640"/>
                <a:gridCol w="2354400"/>
              </a:tblGrid>
              <a:tr h="297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казат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Боржом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158364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нешний ви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рачная жидкость, без посторонних включений, без естественного осадка минеральных соле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рачная жидкость, без посторонних включений, без естественного осадка минеральных соле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рачная жидкость, без посторонних включений, без естественного осадка минеральных соле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9672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Цв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ая жидк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ая жидк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ая жидк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297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ку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вкус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вкус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вкус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29844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апа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запах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запах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запах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594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глекислый газ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1116000" y="1484280"/>
            <a:ext cx="7704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числите при каких заболеваниях нашего организма следует пить минеральную во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да следует употреблять минеральную воду? (вне фазы обострения или во время заболе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овите способ применения минеральной воды (до или после ед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те внимание какая должна быть температура минеральной воды при ее употреблении в лечебных целя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ение какого гормона клетками желудка стимулирует употребление минеральной вод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йствие каких компонентов оказывает важную роль в эффекте питьевого леч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1403280" y="4316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Целебные свойства минеральной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«Исследование химического состава минеральной воды методом химического анализа»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1066680" y="1557360"/>
            <a:ext cx="74660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236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следовать химический состав минеральных вод «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na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, «Боржоми» и «Кисловодская» и сравнить его с данными на этике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1054080" y="2479680"/>
            <a:ext cx="756936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800280" y="35100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ект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неральная вода торговых маро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nat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», «Боржоми» и «Кисловодск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0:38:34Z</dcterms:created>
  <dc:creator>emd</dc:creator>
  <dc:description/>
  <dc:language>en-US</dc:language>
  <cp:lastModifiedBy>Комлева Светлана Ивановна</cp:lastModifiedBy>
  <dcterms:modified xsi:type="dcterms:W3CDTF">2024-01-29T07:52:45Z</dcterms:modified>
  <cp:revision>232</cp:revision>
  <dc:subject/>
  <dc:title>Методические особенности организации учебного процесса по биологии с использованием информационно-коммуникационных технолог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A5CC2603D4D4191ACEE51C216A3EECB</vt:lpwstr>
  </property>
  <property fmtid="{D5CDD505-2E9C-101B-9397-08002B2CF9AE}" pid="3" name="KSOProductBuildVer">
    <vt:lpwstr>1049-11.2.0.11380</vt:lpwstr>
  </property>
</Properties>
</file>