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DD16-8BF8-4A17-BCF5-818C404B04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676E-237B-4FC4-A25A-2DEE16E60F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1B78-F472-49F1-B626-E1328E8F17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9F17-DD8A-4A47-A4B7-5FDCA8FD1D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5E43-007F-4339-8C16-B7D877841E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A3FB-1919-4FCB-AD26-F05AF0E36B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68E1-D9A8-4956-AB58-11578C4FF6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9492-CD95-48CD-BA4C-8D17C28E47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8111-9D10-408A-AEFA-580D7E79F1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5FB-D275-4FED-8CCE-8346C551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221-D239-4A53-B2D1-CCD774A5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54B-CDA8-4113-B8C6-966F0830B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3FA-AC11-4C12-9700-01FA8171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ED64F-5AD8-4CC8-82AF-F76545127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4CDBB-339A-4B64-8C27-7C57AB80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213A-D8A1-4E54-B09B-B36B439A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486D-CF76-4CD1-A7C4-12680441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3246-ED16-4A8D-966A-58C18B8C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785F-468F-4975-89C1-E45B2C21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C828-2842-4573-9E9E-753B2971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AE0-AC11-4980-85AC-4DEA820F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C687-C496-4B41-8FF7-7D48E6E6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8B94-8986-4630-8A7B-52E66A1E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A9FA-B767-4D78-BF38-089F514B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4974-4252-4828-A994-5A964263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5C9D-C0E7-4B06-A9B1-838E5711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F4F5-D317-4DEE-AE1D-D8553814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0A30-9DF6-4E1C-B8FF-CBCC47BC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AF2-0A8D-461C-B9C6-5C40A64C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0179-925D-4810-BBB6-118C1925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AB5D-5470-4E3C-8D5A-49A50483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686C-5309-4473-8B51-719A637A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27F0-A1BD-437D-866A-73CD8F42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10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670F-512A-4FA5-B262-505CB667C9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10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5214-B000-48E8-8208-7B6AF58DD78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d0000"/>
                </a:solidFill>
                <a:latin typeface="Times New Roman"/>
              </a:rPr>
              <a:t>«Точка роста: трансформер учителя»: Хим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10061"/>
                </a:solidFill>
                <a:latin typeface="Times New Roman"/>
              </a:rPr>
              <a:t>Организация проектной и исследовательской деятельности обучающихся по химии в Центре «Точка рос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лева С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4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10061"/>
                </a:solidFill>
                <a:latin typeface="Times New Roman"/>
              </a:rPr>
              <a:t>Проектные умения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Нижний колонтитул 6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"/>
          <p:cNvSpPr/>
          <p:nvPr/>
        </p:nvSpPr>
        <p:spPr>
          <a:xfrm>
            <a:off x="932040" y="1547640"/>
            <a:ext cx="71578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У обучающихся, выполняющих проекты, формируются проектные ум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333333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становление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333333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целеполага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333333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ланировани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333333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исковые (исследовательские) умения 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изводить измерения и производить подсчеты; представлять результаты исследования в различных, знаковых системах: с помощью таблиц, графиков, схем, формул, и др., а также делать логически выстроенное сообщ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333333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оммуникативные умения (работать в коман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333333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езентационные уме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buClr>
                <a:srgbClr val="333333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ефлексивные ум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Оборудование Центра «Точка роста» при организации проектной деятельност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3"/>
          <p:cNvSpPr/>
          <p:nvPr/>
        </p:nvSpPr>
        <p:spPr>
          <a:xfrm>
            <a:off x="1116000" y="16286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ифровые датчики RELEON при организации учебных исслед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Датчик рН, датчик электропроводимости, датчик темп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4" descr=""/>
          <p:cNvPicPr/>
          <p:nvPr/>
        </p:nvPicPr>
        <p:blipFill>
          <a:blip r:embed="rId1"/>
          <a:stretch/>
        </p:blipFill>
        <p:spPr>
          <a:xfrm>
            <a:off x="914400" y="2482920"/>
            <a:ext cx="2374920" cy="23763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5" descr=""/>
          <p:cNvPicPr/>
          <p:nvPr/>
        </p:nvPicPr>
        <p:blipFill>
          <a:blip r:embed="rId2"/>
          <a:stretch/>
        </p:blipFill>
        <p:spPr>
          <a:xfrm>
            <a:off x="3382920" y="2421000"/>
            <a:ext cx="2211480" cy="22096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"/>
          <p:cNvPicPr/>
          <p:nvPr/>
        </p:nvPicPr>
        <p:blipFill>
          <a:blip r:embed="rId3"/>
          <a:stretch/>
        </p:blipFill>
        <p:spPr>
          <a:xfrm>
            <a:off x="6084720" y="2365200"/>
            <a:ext cx="22114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60480" y="11556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Реализация курса внеурочной деятельности «Исследователь» через организацию проектной деятельност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"/>
          <p:cNvSpPr/>
          <p:nvPr/>
        </p:nvSpPr>
        <p:spPr>
          <a:xfrm>
            <a:off x="826920" y="1676520"/>
            <a:ext cx="7777440" cy="17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курса предполагает разнообразие видов деятельности обучающихся, включая проектную деятельность, работу с различными источниками информации, с Интернет-ресурс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направленность изучаемого материала делает данный курс актуальным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выки проведения химического эксперимента учащиеся получают при использовании оборудования центра «Точка роста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2" descr=""/>
          <p:cNvPicPr/>
          <p:nvPr/>
        </p:nvPicPr>
        <p:blipFill>
          <a:blip r:embed="rId1"/>
          <a:srcRect l="0" t="6366" r="0" b="37302"/>
          <a:stretch/>
        </p:blipFill>
        <p:spPr>
          <a:xfrm>
            <a:off x="960480" y="3097080"/>
            <a:ext cx="3270240" cy="30020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9" descr="F:\фото ВУД Исследователь\С.И\IMG_20220323_142817.jpg"/>
          <p:cNvPicPr/>
          <p:nvPr/>
        </p:nvPicPr>
        <p:blipFill>
          <a:blip r:embed="rId2"/>
          <a:srcRect l="0" t="12686" r="0" b="0"/>
          <a:stretch/>
        </p:blipFill>
        <p:spPr>
          <a:xfrm>
            <a:off x="5651640" y="3097080"/>
            <a:ext cx="2554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Исследовательский проект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«Определение качества минеральной воды методом химического анализа»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1066680" y="1557360"/>
            <a:ext cx="746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236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362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ить химический состав и целебные свойства минеральной 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5"/>
          <p:cNvSpPr/>
          <p:nvPr/>
        </p:nvSpPr>
        <p:spPr>
          <a:xfrm>
            <a:off x="1054080" y="2479680"/>
            <a:ext cx="7569360" cy="28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Провести обзор литературы по данной 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Изучить классификацию минеральных 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Выяснить  химический состав минеральной воды и её влияние на здоровье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ровести химический анализ состава различных марок минеральной 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ровести социологический опрос среди учащихся 7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6"/>
          <p:cNvSpPr/>
          <p:nvPr/>
        </p:nvSpPr>
        <p:spPr>
          <a:xfrm>
            <a:off x="1066680" y="501336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еральная вода торговых марок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Donat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», «Боржоми» и «Кисловодск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560" y="4428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Органолептическая характеристика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минеральной воды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52560" y="1577880"/>
          <a:ext cx="7772400" cy="3397320"/>
        </p:xfrm>
        <a:graphic>
          <a:graphicData uri="http://schemas.openxmlformats.org/drawingml/2006/table">
            <a:tbl>
              <a:tblPr/>
              <a:tblGrid>
                <a:gridCol w="1406520"/>
                <a:gridCol w="2004840"/>
                <a:gridCol w="2006640"/>
                <a:gridCol w="2354400"/>
              </a:tblGrid>
              <a:tr h="297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Показател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Боржоми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159804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Внешний ви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рачная жидкость, без посторонних включений, без естественного осадка минеральных соле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рачная жидкость, без посторонних включений, без естественного осадка минеральных соле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рачная жидкость, без посторонних включений, без естественного осадка минеральных соле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40032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Цве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ая жидк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ая жидк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цветная жидкост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29736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Вку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вкус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вкус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вкус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29844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Запа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запах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запах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запах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505800"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Углекислый газ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57" name="Прямоугольник 4"/>
          <p:cNvSpPr/>
          <p:nvPr/>
        </p:nvSpPr>
        <p:spPr>
          <a:xfrm>
            <a:off x="952560" y="4941720"/>
            <a:ext cx="7772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рганолептическим показателям минеральные воды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Donat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», «Боржоми» и «Кисловодская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ответствуют стандартам –это прозрачные, бесцветные  жидкости, без посторонних включений, не имеющие  естественного осадка минеральных солей. Без вкуса и запаха. При первом открытии бутылок выделяется большое количество пузырьков углекислого га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5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Определение рН минеральных вод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Donat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» «Боржоми»  «Кисловодская»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3" descr=""/>
          <p:cNvPicPr/>
          <p:nvPr/>
        </p:nvPicPr>
        <p:blipFill>
          <a:blip r:embed="rId1"/>
          <a:stretch/>
        </p:blipFill>
        <p:spPr>
          <a:xfrm>
            <a:off x="952560" y="1773360"/>
            <a:ext cx="1590480" cy="204156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"/>
          <p:cNvPicPr/>
          <p:nvPr/>
        </p:nvPicPr>
        <p:blipFill>
          <a:blip r:embed="rId2"/>
          <a:stretch/>
        </p:blipFill>
        <p:spPr>
          <a:xfrm>
            <a:off x="2916360" y="1784520"/>
            <a:ext cx="2554200" cy="171576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5" descr=""/>
          <p:cNvPicPr/>
          <p:nvPr/>
        </p:nvPicPr>
        <p:blipFill>
          <a:blip r:embed="rId3"/>
          <a:stretch/>
        </p:blipFill>
        <p:spPr>
          <a:xfrm>
            <a:off x="5651640" y="1819440"/>
            <a:ext cx="2435040" cy="16808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6" descr="C:\Users\kom\Downloads\IMG_20220413_144219.jpg"/>
          <p:cNvPicPr/>
          <p:nvPr/>
        </p:nvPicPr>
        <p:blipFill>
          <a:blip r:embed="rId4"/>
          <a:srcRect l="0" t="28370" r="8785" b="34007"/>
          <a:stretch/>
        </p:blipFill>
        <p:spPr>
          <a:xfrm>
            <a:off x="2916360" y="3760920"/>
            <a:ext cx="239544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Определение рН минеральных вод </a:t>
            </a:r>
            <a:br>
              <a:rPr sz="2800"/>
            </a:b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Donat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» «Боржоми»  «Кисловодская»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619280" y="1773360"/>
          <a:ext cx="5933880" cy="1920600"/>
        </p:xfrm>
        <a:graphic>
          <a:graphicData uri="http://schemas.openxmlformats.org/drawingml/2006/table">
            <a:tbl>
              <a:tblPr/>
              <a:tblGrid>
                <a:gridCol w="2265480"/>
                <a:gridCol w="1882800"/>
                <a:gridCol w="1785600"/>
              </a:tblGrid>
              <a:tr h="959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Значение рН в соответствии со шкал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Значение рН по датчи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2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67" name="Прямоугольник 4"/>
          <p:cNvSpPr/>
          <p:nvPr/>
        </p:nvSpPr>
        <p:spPr>
          <a:xfrm>
            <a:off x="1641600" y="3554280"/>
            <a:ext cx="591156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а минеральных вод «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a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и «Боржоми» близка к нейтральной, а «Кисловодская» - слабокисла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ение их безопасно для здоров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1378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Определение электропроводности минеральных вод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Donat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» «Боржоми»  «Кисловодская»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Рисунок 3" descr="F:\фото ВУД Исследователь\IMG_20211027_135115.jpg"/>
          <p:cNvPicPr/>
          <p:nvPr/>
        </p:nvPicPr>
        <p:blipFill>
          <a:blip r:embed="rId1"/>
          <a:srcRect l="0" t="0" r="0" b="15309"/>
          <a:stretch/>
        </p:blipFill>
        <p:spPr>
          <a:xfrm>
            <a:off x="6443640" y="1628640"/>
            <a:ext cx="2247840" cy="33847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"/>
          <p:cNvSpPr/>
          <p:nvPr/>
        </p:nvSpPr>
        <p:spPr>
          <a:xfrm>
            <a:off x="1258920" y="3860640"/>
            <a:ext cx="41050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е большое значение электропроводности  обнаружено в минеральной воде 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a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, которая имеет самое высокое значение минерал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258920" y="1628640"/>
          <a:ext cx="5065560" cy="1927440"/>
        </p:xfrm>
        <a:graphic>
          <a:graphicData uri="http://schemas.openxmlformats.org/drawingml/2006/table">
            <a:tbl>
              <a:tblPr/>
              <a:tblGrid>
                <a:gridCol w="1297080"/>
                <a:gridCol w="820440"/>
                <a:gridCol w="2948040"/>
              </a:tblGrid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названи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врем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электропровод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192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Calibri"/>
                        </a:rPr>
                        <a:t>Боржо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,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3,44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192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3,1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e1"/>
                          </a:solidFill>
                          <a:latin typeface="Calibri"/>
                        </a:rPr>
                        <a:t>Don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6,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192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7,6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4,6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192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 </a:t>
                      </a: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Кисловод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,08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,07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,0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пределение наличия сульфат - ионов минеральных вод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Таблица 3" descr=""/>
          <p:cNvPicPr/>
          <p:nvPr/>
        </p:nvPicPr>
        <p:blipFill>
          <a:blip r:embed="rId1"/>
          <a:stretch/>
        </p:blipFill>
        <p:spPr>
          <a:xfrm>
            <a:off x="1176480" y="1689120"/>
            <a:ext cx="7632720" cy="151128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4"/>
          <p:cNvSpPr/>
          <p:nvPr/>
        </p:nvSpPr>
        <p:spPr>
          <a:xfrm>
            <a:off x="1066680" y="3141720"/>
            <a:ext cx="37926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ультаты эксперимента доказали, что минеральные воды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Donat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» и «Кисловодская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держат значительное количество сульфат –ионов, а минеральная вод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Боржоми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содержит сульфат –ио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7" descr="https://lh3.googleusercontent.com/pw/AM-JKLUuqxoYBFw-x49MXH0-4ZDfMYlK422NGMQjJgrMlg7W0L36xe72fGtmqHF2XbsHj_bAMBzLkjRW7pgUz5e3t0hOnBHeiFHXvlEDyoFkkSzeZ-Rlht-zpzpSr4HSgIdBmelHuQ9Uow6eXmEoan5r99g4=w444-h789-no?authuser=0"/>
          <p:cNvPicPr/>
          <p:nvPr/>
        </p:nvPicPr>
        <p:blipFill>
          <a:blip r:embed="rId2"/>
          <a:srcRect l="0" t="28770" r="0" b="31941"/>
          <a:stretch/>
        </p:blipFill>
        <p:spPr>
          <a:xfrm>
            <a:off x="4984920" y="3273480"/>
            <a:ext cx="38289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пределение наличия катионов  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а</a:t>
            </a:r>
            <a:r>
              <a:rPr b="1" lang="ru-RU" sz="2800" spc="-1" strike="noStrike" baseline="30000">
                <a:solidFill>
                  <a:srgbClr val="330033"/>
                </a:solidFill>
                <a:latin typeface="Times New Roman"/>
              </a:rPr>
              <a:t>+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 минеральных в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Рисунок 3" descr="F:\фото ВУД Исследователь\IMG_20211027_135801.jpg"/>
          <p:cNvPicPr/>
          <p:nvPr/>
        </p:nvPicPr>
        <p:blipFill>
          <a:blip r:embed="rId1"/>
          <a:stretch/>
        </p:blipFill>
        <p:spPr>
          <a:xfrm>
            <a:off x="6235560" y="1671480"/>
            <a:ext cx="2451240" cy="435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687240" y="1671480"/>
          <a:ext cx="5543640" cy="1828800"/>
        </p:xfrm>
        <a:graphic>
          <a:graphicData uri="http://schemas.openxmlformats.org/drawingml/2006/table">
            <a:tbl>
              <a:tblPr/>
              <a:tblGrid>
                <a:gridCol w="2772000"/>
                <a:gridCol w="2771640"/>
              </a:tblGrid>
              <a:tr h="320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N</a:t>
                      </a: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1400" spc="-1" strike="noStrike" baseline="30000">
                          <a:solidFill>
                            <a:srgbClr val="ffffe1"/>
                          </a:solidFill>
                          <a:latin typeface="Arial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501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вет и температура пламени не изменилас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503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вет пламени желтый и температура пламени уменьшилас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5029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вет и температура пламени не изменилас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82" name="Прямоугольник 6"/>
          <p:cNvSpPr/>
          <p:nvPr/>
        </p:nvSpPr>
        <p:spPr>
          <a:xfrm>
            <a:off x="682560" y="3422520"/>
            <a:ext cx="457200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сперимент показал содержание ионов натрия только в марк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«Боржоми»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минеральной воде «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Dona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» и «Кисловодская» мы их не обнаруж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слышу ― я забыва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вижу ― я запомина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 делаю ― я понима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Китайская пословиц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пределение наличия хлорид (иодид) - ионов минеральных в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403280" y="1773360"/>
          <a:ext cx="7283520" cy="1279440"/>
        </p:xfrm>
        <a:graphic>
          <a:graphicData uri="http://schemas.openxmlformats.org/drawingml/2006/table">
            <a:tbl>
              <a:tblPr/>
              <a:tblGrid>
                <a:gridCol w="3641760"/>
                <a:gridCol w="3641760"/>
              </a:tblGrid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e1"/>
                          </a:solidFill>
                          <a:latin typeface="Calibri"/>
                          <a:ea typeface="Calibri"/>
                        </a:rPr>
                        <a:t>Хлорид и иодид ио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 желтый осад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 осад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 желтый осад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86" name="Прямоугольник 4"/>
          <p:cNvSpPr/>
          <p:nvPr/>
        </p:nvSpPr>
        <p:spPr>
          <a:xfrm>
            <a:off x="1395360" y="2997360"/>
            <a:ext cx="375300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сперимент показал значительное количество хлорид-ионов только в марк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«Боржоми» до 500мг/л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минеральной воде «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Dona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» и «Кисловодская» мы обнаружили иодид-ио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5" descr="https://lh3.googleusercontent.com/pw/AM-JKLW40W22VBeIMeyHUMGmmd32wFHKowRKFVePhGGhJ5SyWKVm9kDPYEZ3g3WNjTqHb4aHxDjJwxCafjmwNEMMQbPchqEpdv5JOElv_iS74m-gsimV6iTB-bxoMRTiFw2jk6-0nf0UY7xd3Uc_EsBiwL1I=w444-h789-no?authuser=0"/>
          <p:cNvPicPr/>
          <p:nvPr/>
        </p:nvPicPr>
        <p:blipFill>
          <a:blip r:embed="rId1"/>
          <a:srcRect l="0" t="40056" r="9465" b="17618"/>
          <a:stretch/>
        </p:blipFill>
        <p:spPr>
          <a:xfrm>
            <a:off x="5580000" y="3267000"/>
            <a:ext cx="321300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525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пределение наличия катионов  Са</a:t>
            </a:r>
            <a:r>
              <a:rPr b="1" lang="ru-RU" sz="2800" spc="-1" strike="noStrike" baseline="30000">
                <a:solidFill>
                  <a:srgbClr val="330033"/>
                </a:solidFill>
                <a:latin typeface="Times New Roman"/>
              </a:rPr>
              <a:t>2+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 минеральных вод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042920" y="1844640"/>
          <a:ext cx="7682040" cy="1279440"/>
        </p:xfrm>
        <a:graphic>
          <a:graphicData uri="http://schemas.openxmlformats.org/drawingml/2006/table">
            <a:tbl>
              <a:tblPr/>
              <a:tblGrid>
                <a:gridCol w="3840120"/>
                <a:gridCol w="3841920"/>
              </a:tblGrid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Са</a:t>
                      </a:r>
                      <a:r>
                        <a:rPr b="1" lang="ru-RU" sz="1400" spc="-1" strike="noStrike" baseline="30000">
                          <a:solidFill>
                            <a:srgbClr val="ffffe1"/>
                          </a:solidFill>
                          <a:latin typeface="Arial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ут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начительное помут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начительное помут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91" name="Прямоугольник 4"/>
          <p:cNvSpPr/>
          <p:nvPr/>
        </p:nvSpPr>
        <p:spPr>
          <a:xfrm>
            <a:off x="998640" y="3124080"/>
            <a:ext cx="400500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подтвердил значительное содержание ионов кальция в марк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at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более 400 мг/л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о говорит о высоком значении минерализации (15,9 г/л). Минеральная вод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оржоми»  и «Кисловодская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 небольшое количество ионов кальция, что подтверждает данные на этикетке (менее 150мг/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5" descr="https://lh3.googleusercontent.com/pw/AM-JKLXob6FPmQ1x0ct3sLGuF-udyR_2Jb6MqXkolCGipbvTFRWxh9I1BZuhl2DmqOqWlNQQYBiGNKzChCNurEnKRPU2LvhJ0kd4Ko_qSAWUW2mbcv_1za0rs80S2oZ0axu8wW9EAp6HkQZkK9caqYbTY921=w444-h789-no?authuser=0"/>
          <p:cNvPicPr/>
          <p:nvPr/>
        </p:nvPicPr>
        <p:blipFill>
          <a:blip r:embed="rId1"/>
          <a:srcRect l="12836" t="32195" r="0" b="24210"/>
          <a:stretch/>
        </p:blipFill>
        <p:spPr>
          <a:xfrm>
            <a:off x="5878440" y="3367080"/>
            <a:ext cx="28796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пределение наличия катионов  Мg</a:t>
            </a:r>
            <a:r>
              <a:rPr b="1" lang="ru-RU" sz="2800" spc="-1" strike="noStrike" baseline="30000">
                <a:solidFill>
                  <a:srgbClr val="330033"/>
                </a:solidFill>
                <a:latin typeface="Times New Roman"/>
              </a:rPr>
              <a:t>2+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  минеральных вод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187280" y="1773360"/>
          <a:ext cx="7499520" cy="127944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Мg</a:t>
                      </a:r>
                      <a:r>
                        <a:rPr b="1" lang="ru-RU" sz="1400" spc="-1" strike="noStrike" baseline="30000">
                          <a:solidFill>
                            <a:srgbClr val="ffffe1"/>
                          </a:solidFill>
                          <a:latin typeface="Arial"/>
                        </a:rPr>
                        <a:t>2+</a:t>
                      </a: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ут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нений 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начительное помут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196" name="Прямоугольник 4"/>
          <p:cNvSpPr/>
          <p:nvPr/>
        </p:nvSpPr>
        <p:spPr>
          <a:xfrm>
            <a:off x="1042920" y="3068640"/>
            <a:ext cx="51847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подтвердил значительное содержание ионов магния в марке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at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то говорит также о высоком значении минерализации. Минеральная вод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исловодская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ит небольшое количество ионов магния, что подтверждает данные на этикетке. Минеральная вод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оржоми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одержит ионов магния, а данные на этикетке показывают их очень малое количество (менее 10мг/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5" descr="https://lh3.googleusercontent.com/pw/AM-JKLWeX_8aoac3Sg81-NS4dnmm6odlgQzgw-HVEM0KWxdw1GJghjShOu-bnuPxPi1w5kwFx-hukWwKC0Is3_o3QO39DYpUojv2E0UrUXmTfOQZBqa8MYQqj0IFHdF65tiYQY17DXEhducz5fLRS0T2HrWZ=w444-h789-no?authuser=0"/>
          <p:cNvPicPr/>
          <p:nvPr/>
        </p:nvPicPr>
        <p:blipFill>
          <a:blip r:embed="rId1"/>
          <a:srcRect l="26575" t="36631" r="0" b="14452"/>
          <a:stretch/>
        </p:blipFill>
        <p:spPr>
          <a:xfrm>
            <a:off x="6372360" y="3284640"/>
            <a:ext cx="2376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525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Определение наличия гидрокарбонат-ионов НСО</a:t>
            </a:r>
            <a:r>
              <a:rPr b="1" lang="ru-RU" sz="2800" spc="-1" strike="noStrike" baseline="-25000">
                <a:solidFill>
                  <a:srgbClr val="330033"/>
                </a:solidFill>
                <a:latin typeface="Times New Roman"/>
              </a:rPr>
              <a:t>3</a:t>
            </a:r>
            <a:r>
              <a:rPr b="1" lang="ru-RU" sz="2800" spc="-1" strike="noStrike" baseline="30000">
                <a:solidFill>
                  <a:srgbClr val="330033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минеральных вод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116000" y="1758960"/>
          <a:ext cx="7608960" cy="1600200"/>
        </p:xfrm>
        <a:graphic>
          <a:graphicData uri="http://schemas.openxmlformats.org/drawingml/2006/table">
            <a:tbl>
              <a:tblPr/>
              <a:tblGrid>
                <a:gridCol w="3803760"/>
                <a:gridCol w="3805200"/>
              </a:tblGrid>
              <a:tr h="363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Минеральная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НСО</a:t>
                      </a:r>
                      <a:r>
                        <a:rPr b="1" lang="ru-RU" sz="1400" spc="-1" strike="noStrike" baseline="-25000">
                          <a:solidFill>
                            <a:srgbClr val="ffffe1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 baseline="30000">
                          <a:solidFill>
                            <a:srgbClr val="ffffe1"/>
                          </a:solidFill>
                          <a:latin typeface="Arial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320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Donat</a:t>
                      </a: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нсивное выделение углекислого г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320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Боржом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нсивное выделение углекислого г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639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«Кисловодска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начительное выделение углекислого г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</a:tbl>
          </a:graphicData>
        </a:graphic>
      </p:graphicFrame>
      <p:sp>
        <p:nvSpPr>
          <p:cNvPr id="201" name="Прямоугольник 4"/>
          <p:cNvSpPr/>
          <p:nvPr/>
        </p:nvSpPr>
        <p:spPr>
          <a:xfrm>
            <a:off x="1116000" y="3500280"/>
            <a:ext cx="4710240" cy="24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 подтверждает данные этикеток о самом высоком содержании гидрокарбонат-ионов НСО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инеральной вод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at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до 9400 мг/л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еньше гидрокарбонат-ионов НСО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минеральной воде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Кисловодская» до 2300 мг/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5" descr="https://lh3.googleusercontent.com/pw/AM-JKLVL4aSVZaw3-DisyiLbURCj68-5XDEb9TtCSvwaeTkWQTOoHed2Pt7vMp4--A6Eq1wppTA83UiOk_lPI6J0eNPLpwAXIUa4OD024FgFTnU2-bK7pKa2VYYAW3WZ1BRgoNPVmlZJhsGKxpyNcm-wATrw=w444-h789-no?authuser=0"/>
          <p:cNvPicPr/>
          <p:nvPr/>
        </p:nvPicPr>
        <p:blipFill>
          <a:blip r:embed="rId1"/>
          <a:srcRect l="19595" t="30801" r="36261" b="37392"/>
          <a:stretch/>
        </p:blipFill>
        <p:spPr>
          <a:xfrm>
            <a:off x="6724800" y="3641760"/>
            <a:ext cx="200016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3" descr="F:\фото ВУД Исследователь\С.И\IMG_20220323_142817.jpg"/>
          <p:cNvPicPr/>
          <p:nvPr/>
        </p:nvPicPr>
        <p:blipFill>
          <a:blip r:embed="rId1"/>
          <a:srcRect l="0" t="12686" r="0" b="0"/>
          <a:stretch/>
        </p:blipFill>
        <p:spPr>
          <a:xfrm>
            <a:off x="6149880" y="1776240"/>
            <a:ext cx="2554560" cy="297360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4"/>
          <p:cNvSpPr/>
          <p:nvPr/>
        </p:nvSpPr>
        <p:spPr>
          <a:xfrm>
            <a:off x="1116000" y="1557360"/>
            <a:ext cx="489600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исследуемой минеральной воде методом качественного анализа были идентифицированы ионы, заявленные в составе производителем: сульфат - ионы, гидрокарбонат - ионы, хлорид - ионы, ионы магния, кальция, натрия, кал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минеральных водах марок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«Боржоми» и «Кисловодская»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ли обнаружены иодид -ионы, которые отсутствовали в данных этик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5"/>
          <p:cNvSpPr/>
          <p:nvPr/>
        </p:nvSpPr>
        <p:spPr>
          <a:xfrm>
            <a:off x="1112760" y="3276720"/>
            <a:ext cx="4897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минеральных водах марок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«Боржоми» и «Кисловодская»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ли обнаружены иодид -ионы, которые отсутствовали в данных этикет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6"/>
          <p:cNvSpPr/>
          <p:nvPr/>
        </p:nvSpPr>
        <p:spPr>
          <a:xfrm>
            <a:off x="1123920" y="3879720"/>
            <a:ext cx="4896000" cy="25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инеральную воду марки «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Donat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»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едует применять только в лечебных целях при желудочно-кишечных заболеваниях на основе высокого значения минерализации, а минеральные воды марок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«Боржоми» и «Кисловодская»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чше использовать в профилактических цел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1258920" y="5502240"/>
            <a:ext cx="744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орудование Центра «Точка роста» позволило нам с точностью определить рН среды, электропроводность, наличие катионов и анионов в исследуемых растворах минеральной 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10061"/>
                </a:solidFill>
                <a:latin typeface="Times New Roman"/>
              </a:rPr>
              <a:t>Исследовательский проект с точки зрения обучающегос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1533600" y="1700280"/>
            <a:ext cx="715320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spcAft>
                <a:spcPts val="675"/>
              </a:spcAft>
              <a:buClr>
                <a:srgbClr val="333333"/>
              </a:buClr>
              <a:buSzPct val="90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это возможность максимального раскрытия своего творческого потенциа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7000"/>
              </a:lnSpc>
              <a:spcAft>
                <a:spcPts val="675"/>
              </a:spcAft>
              <a:buClr>
                <a:srgbClr val="333333"/>
              </a:buClr>
              <a:buSzPct val="90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это деятельность, позволит проявить себя индивидуально или в группе, попробовать свои силы, приложить свои знания, принести пользу, показать публично достигнутый результ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7000"/>
              </a:lnSpc>
              <a:spcAft>
                <a:spcPts val="675"/>
              </a:spcAft>
              <a:buClr>
                <a:srgbClr val="333333"/>
              </a:buClr>
              <a:buSzPct val="90000"/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  <a:ea typeface="Times New Roman"/>
              </a:rPr>
              <a:t>это деятельность, направленная на решение интересной проблемы, сформулированной зачастую самими учащимися в виде задачи, когда результат этой деятельности – найденный способ решения проблемы – носит практический характер, имеет важное прикладное значение и, что весьма важно, интересен и значим для самих открыва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2195640" y="249228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… Проектное обучение поощряет и усиливает истинное учение со стороны учеников, расширяет сферу субъективности в процессе самоопределения, творчества и конкретного участия …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. Гузе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2843280" y="2781360"/>
            <a:ext cx="504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59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0061"/>
                </a:solidFill>
                <a:latin typeface="Times New Roman"/>
              </a:rPr>
              <a:t>ФГОС: внеурочная деятельность </a:t>
            </a:r>
            <a:br>
              <a:rPr sz="3200"/>
            </a:br>
            <a:r>
              <a:rPr b="0" lang="ru-RU" sz="3200" spc="-1" strike="noStrike">
                <a:solidFill>
                  <a:srgbClr val="610061"/>
                </a:solidFill>
                <a:latin typeface="Times New Roman"/>
              </a:rPr>
              <a:t>по хим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1371600" y="1557360"/>
            <a:ext cx="73040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"/>
          <p:cNvSpPr/>
          <p:nvPr/>
        </p:nvSpPr>
        <p:spPr>
          <a:xfrm>
            <a:off x="1371600" y="3500280"/>
            <a:ext cx="73040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"/>
          <p:cNvSpPr/>
          <p:nvPr/>
        </p:nvSpPr>
        <p:spPr>
          <a:xfrm>
            <a:off x="1946160" y="2266920"/>
            <a:ext cx="615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основе ФГОС лежит системно-деятельностный подход к обучению, который обеспечивает формирование готовности к саморазвитию и непрерывному образованию, проектирование и конструирование развивающей образовательной среды для обучающихся, их активную учебно-познавательн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946160" y="4532400"/>
            <a:ext cx="608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жным компонентом ФГОС является организация внеурочной деятельности шк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8440" y="714240"/>
            <a:ext cx="71578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10061"/>
                </a:solidFill>
                <a:latin typeface="Times New Roman"/>
              </a:rPr>
              <a:t>Задачи ВУД по хим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Нижний колонтитул 7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"/>
          <p:cNvSpPr/>
          <p:nvPr/>
        </p:nvSpPr>
        <p:spPr>
          <a:xfrm>
            <a:off x="1042920" y="1790640"/>
            <a:ext cx="7850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вышение  интереса к предмету хими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тие и усовершенствование навыков по химическому эксперименту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витие творческой активности, инициативы и самодеятельности учащихс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дготовка учащихся к практической деятельно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рганизация отдыха учащихся в сочетании с их эстетическим и нравственным воспита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28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10061"/>
                </a:solidFill>
                <a:latin typeface="Times New Roman"/>
              </a:rPr>
              <a:t>Реализация ВУД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830240"/>
            <a:ext cx="777240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жная часть внеурочной работы – организация проектной деятельности обучающих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дача учителя – стимулировать школьников к выполнению индивидуальных, парных и групповых учебных проектов по химии, при этом приоритет следует отдавать учебно-исследовательским проектам с экспериментальной составляющ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2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0061"/>
                </a:solidFill>
                <a:latin typeface="Times New Roman"/>
              </a:rPr>
              <a:t>Что такое проектная и исследовательская деятельность обучающихся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914400" y="1700280"/>
            <a:ext cx="79056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ектная деятельность обучающих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совместная учебно-познавательная, творческая или игровая деятельность обучающихся, имеющая общую цель, согласованные методы, способы деятельности, направленная на достижение общего результата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следовательская деятельность обучающихся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деятельность обучающихся, связанная с решением творческой, исследовательской задачи с заранее неизвестным решением и предполагающая наличие основных этапов, характерных для исследования в научной 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10061"/>
                </a:solidFill>
                <a:latin typeface="Times New Roman"/>
              </a:rPr>
              <a:t>Что такое проект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Нижний колонтитул 2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914400" y="1844640"/>
          <a:ext cx="7772400" cy="44211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976320">
                <a:tc>
                  <a:txBody>
                    <a:bodyPr lIns="47520" rIns="47520" tIns="47880" bIns="478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блема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«Почему?»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это важно для меня лич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ктуальность проблемы – мотив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</a:tr>
              <a:tr h="822240"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Цель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ачем?»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ы делаем проек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еполаг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824040"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Задач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то?»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ля этого мы делае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ановка зад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  <a:tr h="822240"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етоды и способ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ак?»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мы можем это дела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ор способов и методов планир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ececde"/>
                    </a:solidFill>
                  </a:tcPr>
                </a:tc>
              </a:tr>
              <a:tr h="976320"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cccc99"/>
                    </a:solidFill>
                  </a:tcPr>
                </a:tc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то получится?»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ак решение проблемы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  <a:tc>
                  <a:txBody>
                    <a:bodyPr lIns="47520" rIns="47520" tIns="47880" bIns="478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д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520" marR="47520">
                    <a:lnL w="5760">
                      <a:solidFill>
                        <a:srgbClr val="ffffe1"/>
                      </a:solidFill>
                    </a:lnL>
                    <a:lnR w="5760">
                      <a:solidFill>
                        <a:srgbClr val="ffffe1"/>
                      </a:solidFill>
                    </a:lnR>
                    <a:lnT w="5760">
                      <a:solidFill>
                        <a:srgbClr val="ffffe1"/>
                      </a:solidFill>
                    </a:lnT>
                    <a:lnB w="5760">
                      <a:solidFill>
                        <a:srgbClr val="ffffe1"/>
                      </a:solidFill>
                    </a:lnB>
                    <a:solidFill>
                      <a:srgbClr val="f6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Общие черты проектной и исследовательской деятельност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Нижний колонтитул 2"/>
          <p:cNvSpPr/>
          <p:nvPr/>
        </p:nvSpPr>
        <p:spPr>
          <a:xfrm>
            <a:off x="3314880" y="6351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122480" y="1700280"/>
            <a:ext cx="7354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Цели и зад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меют конкретную практическую ц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нализ актуальности проекта или проводимого иссле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еполагание, формулировка задач проекта или иссле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бор средств и методов, адекватных поставленным цел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лан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дение проектных работ и исследо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формление результатов работ в соответствии с замыслом проекта или целями иссле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зентация результа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Компетенция в сфере исследования, творческая активность и высокая мотивация уча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Ито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теллектуальное, личностное развитие, рост компетенции в выбранной для исследования или проекта сфере, формирование умения сотрудничать в коллективе и самостоятельно работать, уяснение сущности творческой и исследовательской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0061"/>
                </a:solidFill>
                <a:latin typeface="Times New Roman"/>
              </a:rPr>
              <a:t>Деятельность учителя и ученика </a:t>
            </a:r>
            <a:br>
              <a:rPr sz="3200"/>
            </a:br>
            <a:r>
              <a:rPr b="0" lang="ru-RU" sz="3200" spc="-1" strike="noStrike">
                <a:solidFill>
                  <a:srgbClr val="610061"/>
                </a:solidFill>
                <a:latin typeface="Times New Roman"/>
              </a:rPr>
              <a:t>при организации проектно-исследовательской деятельност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Нижний колонтитул 6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У гимназия имени А.Л. Кекина г.Ростова, 2022 г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32040" y="2408400"/>
          <a:ext cx="3225600" cy="1834920"/>
        </p:xfrm>
        <a:graphic>
          <a:graphicData uri="http://schemas.openxmlformats.org/drawingml/2006/table">
            <a:tbl>
              <a:tblPr/>
              <a:tblGrid>
                <a:gridCol w="3225600"/>
              </a:tblGrid>
              <a:tr h="230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яет цель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вает новые зн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ериментиру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ирает пути реш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е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ъект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сет ответственность за свою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838760" y="2408400"/>
          <a:ext cx="4184640" cy="1834920"/>
        </p:xfrm>
        <a:graphic>
          <a:graphicData uri="http://schemas.openxmlformats.org/drawingml/2006/table">
            <a:tbl>
              <a:tblPr/>
              <a:tblGrid>
                <a:gridCol w="4184640"/>
              </a:tblGrid>
              <a:tr h="23004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гает определять цель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ует источники получения информ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рывает возможные формы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йствует прогнозированию результа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ет условия для активности школь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тнер уче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960">
                <a:tc>
                  <a:txBody>
                    <a:bodyPr lIns="9360" rIns="9360" tIns="9360" bIns="936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гает оценить полученный результат, выявить недоста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10:38:34Z</dcterms:created>
  <dc:creator>emd</dc:creator>
  <dc:description/>
  <dc:language>en-US</dc:language>
  <cp:lastModifiedBy>Комлева Светлана Ивановна</cp:lastModifiedBy>
  <dcterms:modified xsi:type="dcterms:W3CDTF">2022-04-22T11:28:13Z</dcterms:modified>
  <cp:revision>203</cp:revision>
  <dc:subject/>
  <dc:title>Методические особенности организации учебного процесса по биологии с использованием информационно-коммуникационных технологий</dc:title>
</cp:coreProperties>
</file>