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BFA9-D71D-4963-B176-462F54E9E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648-3886-4EAF-8819-AEFD2FD59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76F-9804-48A1-8464-D10DB6BE54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F8FC-44F9-44C7-9E6C-3D5599091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D407-DD47-48A2-A12E-646F82885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5866-5289-4345-9E18-1BEC3A6F8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C379-79F8-4201-AEE8-F29E93B86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0F4D-528C-4FB6-BDC4-0C1776A34B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46C7-2762-4952-8773-F1B765639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B8F-5890-40F9-8E5B-5EA8451A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432-EB72-429E-9AF2-715297FD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8BE-2241-4F23-A692-7BBD74E7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849-E4F6-419E-89C4-7CF59CC4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B3F0-0627-4256-9B53-D8066484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7047-F4C6-41DC-94AC-7BEE175D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E8E1-5DB7-4E40-AC24-4FC1FEFE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D5E2-C4E7-4EBF-AA60-349C3DF1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A5DD-7288-4EC1-A4A4-9D0AD8A4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AD13-60BA-4D3B-B1F4-060946D3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6958-743D-4235-B151-751F3549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ACE-D699-4220-8CF0-15A05262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BB17-F7AD-4BC2-83E2-00E9263B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518-4E9B-4C60-8747-B8E02F74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D25-15D5-42BD-A0D5-71131956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C675-A2DB-4D78-BDC9-3BFF927E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9196-41DE-4CF3-A79E-FE01CC15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4CE-A282-4D2E-BE05-BCDD5EF2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189-8326-4E77-8974-672F638A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522-4810-4240-AC8F-A677BE6F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454-647D-46FD-9C3C-F2F5EE97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FE8-A63E-4B5E-A119-36C667D3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57F-850E-4430-8808-1798AB98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623-28D6-44DF-B977-D4855054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10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2102-6A88-4788-8670-025A26AFEC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10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0082-EE31-49D5-8324-FC4B079702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0000"/>
                </a:solidFill>
                <a:latin typeface="Times New Roman"/>
              </a:rPr>
              <a:t>«Точка роста: трансформер учителя»: Хим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0061"/>
                </a:solidFill>
                <a:latin typeface="Times New Roman"/>
              </a:rPr>
              <a:t>Организация проектной и исследовательской деятельности обучающихся по химии в Центре «Точка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лева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0061"/>
                </a:solidFill>
                <a:latin typeface="Times New Roman"/>
              </a:rPr>
              <a:t>Проектные умен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"/>
          <p:cNvSpPr/>
          <p:nvPr/>
        </p:nvSpPr>
        <p:spPr>
          <a:xfrm>
            <a:off x="932040" y="1547640"/>
            <a:ext cx="71578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 обучающихся, выполняющих проекты, формируются проект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становлени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целеполаг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ланировани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исковые (исследовательские) умения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изводить измерения и производить подсчеты; представлять результаты исследования в различных, знаковых системах: с помощью таблиц, графиков, схем, формул, и др., а также делать логически выстроенное сообщ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оммуникативные умения (работать в коман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езентационные ум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ефлексивные ум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орудование Центра «Точка роста» при организации проект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1116000" y="1628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ифровые датчики RELEON при организации учебных исслед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Датчик рН, датчик электропроводимости, датчик темп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914400" y="2482920"/>
            <a:ext cx="2374920" cy="23763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2"/>
          <a:stretch/>
        </p:blipFill>
        <p:spPr>
          <a:xfrm>
            <a:off x="3382920" y="2421000"/>
            <a:ext cx="22114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"/>
          <p:cNvPicPr/>
          <p:nvPr/>
        </p:nvPicPr>
        <p:blipFill>
          <a:blip r:embed="rId3"/>
          <a:stretch/>
        </p:blipFill>
        <p:spPr>
          <a:xfrm>
            <a:off x="6084720" y="2365200"/>
            <a:ext cx="22114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0480" y="1155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ализация курса внеурочной деятельности «Исследователь» через организацию проект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826920" y="1676520"/>
            <a:ext cx="7777440" cy="17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курса предполагает разнообразие видов деятельности обучающихся, включая проектную деятельность, работу с различными источниками информации, с Интернет-ресурс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направленность изучаемого материала делает данный курс актуальным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ыки проведения химического эксперимента учащиеся получают при использовании оборудования центра «Точка рост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1"/>
          <a:srcRect l="0" t="6366" r="0" b="37302"/>
          <a:stretch/>
        </p:blipFill>
        <p:spPr>
          <a:xfrm>
            <a:off x="960480" y="3097080"/>
            <a:ext cx="3270240" cy="30020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9" descr="F:\фото ВУД Исследователь\С.И\IMG_20220323_142817.jpg"/>
          <p:cNvPicPr/>
          <p:nvPr/>
        </p:nvPicPr>
        <p:blipFill>
          <a:blip r:embed="rId2"/>
          <a:srcRect l="0" t="12686" r="0" b="0"/>
          <a:stretch/>
        </p:blipFill>
        <p:spPr>
          <a:xfrm>
            <a:off x="5651640" y="3097080"/>
            <a:ext cx="2554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Исследовательский проект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«Определение качества минеральной воды методом химического анализа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066680" y="1557360"/>
            <a:ext cx="74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ить химический состав и целебные свойства минеральной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1054080" y="2479680"/>
            <a:ext cx="7569360" cy="28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ровести обзор литературы по данной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Изучить классификацию минеральных 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Выяснить  химический состав минеральной воды и её влияние на здоровь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овести химический анализ состава различных марок минеральной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вести социологический опрос среди учащихся 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1066680" y="501336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ьная вода торговых маро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», «Боржоми» и «Кисловодск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560" y="4428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рганолептическая характеристика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минеральной воды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52560" y="1577880"/>
          <a:ext cx="7772400" cy="3397320"/>
        </p:xfrm>
        <a:graphic>
          <a:graphicData uri="http://schemas.openxmlformats.org/drawingml/2006/table">
            <a:tbl>
              <a:tblPr/>
              <a:tblGrid>
                <a:gridCol w="1406520"/>
                <a:gridCol w="2004840"/>
                <a:gridCol w="2006640"/>
                <a:gridCol w="2354400"/>
              </a:tblGrid>
              <a:tr h="297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каз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59804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нешний ви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4003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297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ку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29844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Зап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0580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Углекислый га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57" name="Прямоугольник 4"/>
          <p:cNvSpPr/>
          <p:nvPr/>
        </p:nvSpPr>
        <p:spPr>
          <a:xfrm>
            <a:off x="952560" y="4941720"/>
            <a:ext cx="777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рганолептическим показателям минеральные воды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», «Боржоми» и «Кисловодская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ветствуют стандартам –это прозрачные, бесцветные  жидкости, без посторонних включений, не имеющие  естественного осадка минеральных солей. Без вкуса и запаха. При первом открытии бутылок выделяется большое количество пузырьков углекислого г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пределение рН минеральных вод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"/>
          <p:cNvPicPr/>
          <p:nvPr/>
        </p:nvPicPr>
        <p:blipFill>
          <a:blip r:embed="rId1"/>
          <a:stretch/>
        </p:blipFill>
        <p:spPr>
          <a:xfrm>
            <a:off x="952560" y="1773360"/>
            <a:ext cx="1590480" cy="20415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"/>
          <p:cNvPicPr/>
          <p:nvPr/>
        </p:nvPicPr>
        <p:blipFill>
          <a:blip r:embed="rId2"/>
          <a:stretch/>
        </p:blipFill>
        <p:spPr>
          <a:xfrm>
            <a:off x="2916360" y="1784520"/>
            <a:ext cx="2554200" cy="17157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"/>
          <p:cNvPicPr/>
          <p:nvPr/>
        </p:nvPicPr>
        <p:blipFill>
          <a:blip r:embed="rId3"/>
          <a:stretch/>
        </p:blipFill>
        <p:spPr>
          <a:xfrm>
            <a:off x="5651640" y="1819440"/>
            <a:ext cx="2435040" cy="16808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C:\Users\kom\Downloads\IMG_20220413_144219.jpg"/>
          <p:cNvPicPr/>
          <p:nvPr/>
        </p:nvPicPr>
        <p:blipFill>
          <a:blip r:embed="rId4"/>
          <a:srcRect l="0" t="28370" r="8785" b="34007"/>
          <a:stretch/>
        </p:blipFill>
        <p:spPr>
          <a:xfrm>
            <a:off x="2916360" y="3760920"/>
            <a:ext cx="23954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пределение рН минеральных вод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19280" y="1773360"/>
          <a:ext cx="5933880" cy="1920600"/>
        </p:xfrm>
        <a:graphic>
          <a:graphicData uri="http://schemas.openxmlformats.org/drawingml/2006/table">
            <a:tbl>
              <a:tblPr/>
              <a:tblGrid>
                <a:gridCol w="2265480"/>
                <a:gridCol w="1882800"/>
                <a:gridCol w="1785600"/>
              </a:tblGrid>
              <a:tr h="95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Значение рН в соответствии со шкал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Значение рН по датч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ик 4"/>
          <p:cNvSpPr/>
          <p:nvPr/>
        </p:nvSpPr>
        <p:spPr>
          <a:xfrm>
            <a:off x="1641600" y="3554280"/>
            <a:ext cx="59115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 минеральных вод 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a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«Боржоми» близка к нейтральной, а «Кисловодская» - слабокисл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их безопасно для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пределение электропроводности минеральных вод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F:\фото ВУД Исследователь\IMG_20211027_135115.jpg"/>
          <p:cNvPicPr/>
          <p:nvPr/>
        </p:nvPicPr>
        <p:blipFill>
          <a:blip r:embed="rId1"/>
          <a:srcRect l="0" t="0" r="0" b="15309"/>
          <a:stretch/>
        </p:blipFill>
        <p:spPr>
          <a:xfrm>
            <a:off x="6443640" y="1628640"/>
            <a:ext cx="2247840" cy="33847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1258920" y="3860640"/>
            <a:ext cx="4105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е большое значение электропроводности  обнаружено в минеральной воде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a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, которая имеет самое высокое значение минера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58920" y="1628640"/>
          <a:ext cx="5065560" cy="1927440"/>
        </p:xfrm>
        <a:graphic>
          <a:graphicData uri="http://schemas.openxmlformats.org/drawingml/2006/table">
            <a:tbl>
              <a:tblPr/>
              <a:tblGrid>
                <a:gridCol w="1297080"/>
                <a:gridCol w="820440"/>
                <a:gridCol w="2948040"/>
              </a:tblGrid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названи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рем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электропровод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9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Calibri"/>
                        </a:rPr>
                        <a:t>Боржо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,4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9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,1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e1"/>
                          </a:solidFill>
                          <a:latin typeface="Calibri"/>
                        </a:rPr>
                        <a:t>Don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6,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9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7,6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4,6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9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Кисловод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,08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,07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,0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сульфат - ионов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Таблица 3" descr=""/>
          <p:cNvPicPr/>
          <p:nvPr/>
        </p:nvPicPr>
        <p:blipFill>
          <a:blip r:embed="rId1"/>
          <a:stretch/>
        </p:blipFill>
        <p:spPr>
          <a:xfrm>
            <a:off x="1176480" y="1689120"/>
            <a:ext cx="763272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066680" y="3141720"/>
            <a:ext cx="37926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 эксперимента доказали, что минеральные вод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и «Кисловодская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т значительное количество сульфат –ионов, а минеральная вод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оржоми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одержит сульфат –и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7" descr="https://lh3.googleusercontent.com/pw/AM-JKLUuqxoYBFw-x49MXH0-4ZDfMYlK422NGMQjJgrMlg7W0L36xe72fGtmqHF2XbsHj_bAMBzLkjRW7pgUz5e3t0hOnBHeiFHXvlEDyoFkkSzeZ-Rlht-zpzpSr4HSgIdBmelHuQ9Uow6eXmEoan5r99g4=w444-h789-no?authuser=0"/>
          <p:cNvPicPr/>
          <p:nvPr/>
        </p:nvPicPr>
        <p:blipFill>
          <a:blip r:embed="rId2"/>
          <a:srcRect l="0" t="28770" r="0" b="31941"/>
          <a:stretch/>
        </p:blipFill>
        <p:spPr>
          <a:xfrm>
            <a:off x="4984920" y="3273480"/>
            <a:ext cx="38289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катионов  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330033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3" descr="F:\фото ВУД Исследователь\IMG_20211027_135801.jpg"/>
          <p:cNvPicPr/>
          <p:nvPr/>
        </p:nvPicPr>
        <p:blipFill>
          <a:blip r:embed="rId1"/>
          <a:stretch/>
        </p:blipFill>
        <p:spPr>
          <a:xfrm>
            <a:off x="6235560" y="1671480"/>
            <a:ext cx="2451240" cy="43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687240" y="1671480"/>
          <a:ext cx="5543640" cy="1828800"/>
        </p:xfrm>
        <a:graphic>
          <a:graphicData uri="http://schemas.openxmlformats.org/drawingml/2006/table">
            <a:tbl>
              <a:tblPr/>
              <a:tblGrid>
                <a:gridCol w="2772000"/>
                <a:gridCol w="2771640"/>
              </a:tblGrid>
              <a:tr h="320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400" spc="-1" strike="noStrike" baseline="30000">
                          <a:solidFill>
                            <a:srgbClr val="ffffe1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01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вет и температура пламени не изменила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вет пламени желтый и температура пламени уменьшила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02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вет и температура пламени не изменила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82" name="Прямоугольник 6"/>
          <p:cNvSpPr/>
          <p:nvPr/>
        </p:nvSpPr>
        <p:spPr>
          <a:xfrm>
            <a:off x="682560" y="3422520"/>
            <a:ext cx="457200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 показал содержание ионов натрия только в марк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Боржоми»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еральной воде 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» и «Кисловодская» мы их не обнаруж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слышу ― я забыва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вижу ― я запомина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делаю ― я поним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итайская 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хлорид (иодид) - ионов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03280" y="1773360"/>
          <a:ext cx="7283520" cy="1279440"/>
        </p:xfrm>
        <a:graphic>
          <a:graphicData uri="http://schemas.openxmlformats.org/drawingml/2006/table">
            <a:tbl>
              <a:tblPr/>
              <a:tblGrid>
                <a:gridCol w="3641760"/>
                <a:gridCol w="364176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Calibri"/>
                          <a:ea typeface="Calibri"/>
                        </a:rPr>
                        <a:t>Хлорид и иодид ио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 желтый оса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оса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 желтый оса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86" name="Прямоугольник 4"/>
          <p:cNvSpPr/>
          <p:nvPr/>
        </p:nvSpPr>
        <p:spPr>
          <a:xfrm>
            <a:off x="1395360" y="2997360"/>
            <a:ext cx="375300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 показал значительное количество хлорид-ионов только в марк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Боржоми» до 500мг/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еральной воде 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и «Кисловодская» мы обнаружили иодид-и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5" descr="https://lh3.googleusercontent.com/pw/AM-JKLW40W22VBeIMeyHUMGmmd32wFHKowRKFVePhGGhJ5SyWKVm9kDPYEZ3g3WNjTqHb4aHxDjJwxCafjmwNEMMQbPchqEpdv5JOElv_iS74m-gsimV6iTB-bxoMRTiFw2jk6-0nf0UY7xd3Uc_EsBiwL1I=w444-h789-no?authuser=0"/>
          <p:cNvPicPr/>
          <p:nvPr/>
        </p:nvPicPr>
        <p:blipFill>
          <a:blip r:embed="rId1"/>
          <a:srcRect l="0" t="40056" r="9465" b="17618"/>
          <a:stretch/>
        </p:blipFill>
        <p:spPr>
          <a:xfrm>
            <a:off x="5580000" y="3267000"/>
            <a:ext cx="3213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525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катионов  Са</a:t>
            </a:r>
            <a:r>
              <a:rPr b="1" lang="ru-RU" sz="2800" spc="-1" strike="noStrike" baseline="30000">
                <a:solidFill>
                  <a:srgbClr val="330033"/>
                </a:solidFill>
                <a:latin typeface="Times New Roman"/>
              </a:rPr>
              <a:t>2+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42920" y="1844640"/>
          <a:ext cx="7682040" cy="1279440"/>
        </p:xfrm>
        <a:graphic>
          <a:graphicData uri="http://schemas.openxmlformats.org/drawingml/2006/table">
            <a:tbl>
              <a:tblPr/>
              <a:tblGrid>
                <a:gridCol w="3840120"/>
                <a:gridCol w="384192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а</a:t>
                      </a:r>
                      <a:r>
                        <a:rPr b="1" lang="ru-RU" sz="1400" spc="-1" strike="noStrike" baseline="30000">
                          <a:solidFill>
                            <a:srgbClr val="ffffe1"/>
                          </a:solidFill>
                          <a:latin typeface="Arial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ое 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ое 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4"/>
          <p:cNvSpPr/>
          <p:nvPr/>
        </p:nvSpPr>
        <p:spPr>
          <a:xfrm>
            <a:off x="998640" y="3124080"/>
            <a:ext cx="400500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одтвердил значительное содержание ионов кальция в марк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a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более 400 мг/л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говорит о высоком значении минерализации (15,9 г/л). Минеральная вод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ржоми»  и «Кисловодская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небольшое количество ионов кальция, что подтверждает данные на этикетке (менее 150мг/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5" descr="https://lh3.googleusercontent.com/pw/AM-JKLXob6FPmQ1x0ct3sLGuF-udyR_2Jb6MqXkolCGipbvTFRWxh9I1BZuhl2DmqOqWlNQQYBiGNKzChCNurEnKRPU2LvhJ0kd4Ko_qSAWUW2mbcv_1za0rs80S2oZ0axu8wW9EAp6HkQZkK9caqYbTY921=w444-h789-no?authuser=0"/>
          <p:cNvPicPr/>
          <p:nvPr/>
        </p:nvPicPr>
        <p:blipFill>
          <a:blip r:embed="rId1"/>
          <a:srcRect l="12836" t="32195" r="0" b="24210"/>
          <a:stretch/>
        </p:blipFill>
        <p:spPr>
          <a:xfrm>
            <a:off x="5878440" y="3367080"/>
            <a:ext cx="28796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катионов  Мg</a:t>
            </a:r>
            <a:r>
              <a:rPr b="1" lang="ru-RU" sz="2800" spc="-1" strike="noStrike" baseline="30000">
                <a:solidFill>
                  <a:srgbClr val="330033"/>
                </a:solidFill>
                <a:latin typeface="Times New Roman"/>
              </a:rPr>
              <a:t>2+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87280" y="1773360"/>
          <a:ext cx="7499520" cy="127944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g</a:t>
                      </a:r>
                      <a:r>
                        <a:rPr b="1" lang="ru-RU" sz="1400" spc="-1" strike="noStrike" baseline="30000">
                          <a:solidFill>
                            <a:srgbClr val="ffffe1"/>
                          </a:solidFill>
                          <a:latin typeface="Arial"/>
                        </a:rPr>
                        <a:t>2+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й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ое 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96" name="Прямоугольник 4"/>
          <p:cNvSpPr/>
          <p:nvPr/>
        </p:nvSpPr>
        <p:spPr>
          <a:xfrm>
            <a:off x="1042920" y="3068640"/>
            <a:ext cx="5184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одтвердил значительное содержание ионов магния в марк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a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говорит также о высоком значении минерализации. Минеральная вод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исловодская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небольшое количество ионов магния, что подтверждает данные на этикетке. Минеральная вод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ржоми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одержит ионов магния, а данные на этикетке показывают их очень малое количество (менее 10мг/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5" descr="https://lh3.googleusercontent.com/pw/AM-JKLWeX_8aoac3Sg81-NS4dnmm6odlgQzgw-HVEM0KWxdw1GJghjShOu-bnuPxPi1w5kwFx-hukWwKC0Is3_o3QO39DYpUojv2E0UrUXmTfOQZBqa8MYQqj0IFHdF65tiYQY17DXEhducz5fLRS0T2HrWZ=w444-h789-no?authuser=0"/>
          <p:cNvPicPr/>
          <p:nvPr/>
        </p:nvPicPr>
        <p:blipFill>
          <a:blip r:embed="rId1"/>
          <a:srcRect l="26575" t="36631" r="0" b="14452"/>
          <a:stretch/>
        </p:blipFill>
        <p:spPr>
          <a:xfrm>
            <a:off x="6372360" y="3284640"/>
            <a:ext cx="237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525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гидрокарбонат-ионов НСО</a:t>
            </a:r>
            <a:r>
              <a:rPr b="1" lang="ru-RU" sz="2800" spc="-1" strike="noStrike" baseline="-25000">
                <a:solidFill>
                  <a:srgbClr val="330033"/>
                </a:solidFill>
                <a:latin typeface="Times New Roman"/>
              </a:rPr>
              <a:t>3</a:t>
            </a:r>
            <a:r>
              <a:rPr b="1" lang="ru-RU" sz="2800" spc="-1" strike="noStrike" baseline="30000">
                <a:solidFill>
                  <a:srgbClr val="330033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1758960"/>
          <a:ext cx="7608960" cy="1600200"/>
        </p:xfrm>
        <a:graphic>
          <a:graphicData uri="http://schemas.openxmlformats.org/drawingml/2006/table">
            <a:tbl>
              <a:tblPr/>
              <a:tblGrid>
                <a:gridCol w="3803760"/>
                <a:gridCol w="3805200"/>
              </a:tblGrid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НСО</a:t>
                      </a:r>
                      <a:r>
                        <a:rPr b="1" lang="ru-RU" sz="1400" spc="-1" strike="noStrike" baseline="-25000">
                          <a:solidFill>
                            <a:srgbClr val="ffffe1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 baseline="30000">
                          <a:solidFill>
                            <a:srgbClr val="ffffe1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нсивное выделение углекислого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нсивное выделение углекислого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3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ое выделение углекислого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201" name="Прямоугольник 4"/>
          <p:cNvSpPr/>
          <p:nvPr/>
        </p:nvSpPr>
        <p:spPr>
          <a:xfrm>
            <a:off x="1116000" y="3500280"/>
            <a:ext cx="471024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одтверждает данные этикеток о самом высоком содержании гидрокарбонат-ионов НСО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неральной вод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a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до 9400 мг/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еньше гидрокарбонат-ионов НСО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инеральной вод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исловодская» до 2300 мг/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5" descr="https://lh3.googleusercontent.com/pw/AM-JKLVL4aSVZaw3-DisyiLbURCj68-5XDEb9TtCSvwaeTkWQTOoHed2Pt7vMp4--A6Eq1wppTA83UiOk_lPI6J0eNPLpwAXIUa4OD024FgFTnU2-bK7pKa2VYYAW3WZ1BRgoNPVmlZJhsGKxpyNcm-wATrw=w444-h789-no?authuser=0"/>
          <p:cNvPicPr/>
          <p:nvPr/>
        </p:nvPicPr>
        <p:blipFill>
          <a:blip r:embed="rId1"/>
          <a:srcRect l="19595" t="30801" r="36261" b="37392"/>
          <a:stretch/>
        </p:blipFill>
        <p:spPr>
          <a:xfrm>
            <a:off x="6724800" y="3641760"/>
            <a:ext cx="200016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3" descr="F:\фото ВУД Исследователь\С.И\IMG_20220323_142817.jpg"/>
          <p:cNvPicPr/>
          <p:nvPr/>
        </p:nvPicPr>
        <p:blipFill>
          <a:blip r:embed="rId1"/>
          <a:srcRect l="0" t="12686" r="0" b="0"/>
          <a:stretch/>
        </p:blipFill>
        <p:spPr>
          <a:xfrm>
            <a:off x="6149880" y="1776240"/>
            <a:ext cx="2554560" cy="29736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1116000" y="1557360"/>
            <a:ext cx="48960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исследуемой минеральной воде методом качественного анализа были идентифицированы ионы, заявленные в составе производителем: сульфат - ионы, гидрокарбонат - ионы, хлорид - ионы, ионы магния, кальция, натрия, ка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еральных водах маро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оржоми» и «Кисловодская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ли обнаружены иодид -ионы, которые отсутствовали в данных этик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1112760" y="3276720"/>
            <a:ext cx="4897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еральных водах маро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оржоми» и «Кисловодская»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ли обнаружены иодид -ионы, которые отсутствовали в данных этик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1123920" y="3879720"/>
            <a:ext cx="4896000" cy="25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еральную воду марки «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едует применять только в лечебных целях при желудочно-кишечных заболеваниях на основе высокого значения минерализации, а минеральные воды марок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Боржоми» и «Кисловодская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чше использовать в профилактически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258920" y="5502240"/>
            <a:ext cx="744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рудование Центра «Точка роста» позволило нам с точностью определить рН среды, электропроводность, наличие катионов и анионов в исследуемых растворах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10061"/>
                </a:solidFill>
                <a:latin typeface="Times New Roman"/>
              </a:rPr>
              <a:t>Исследовательский проект с точки зрения обучающегос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1533600" y="1700280"/>
            <a:ext cx="7153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Aft>
                <a:spcPts val="675"/>
              </a:spcAft>
              <a:buClr>
                <a:srgbClr val="333333"/>
              </a:buClr>
              <a:buSzPct val="9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это возможность максимального раскрытия своего творческого потенц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7000"/>
              </a:lnSpc>
              <a:spcAft>
                <a:spcPts val="675"/>
              </a:spcAft>
              <a:buClr>
                <a:srgbClr val="333333"/>
              </a:buClr>
              <a:buSzPct val="9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это деятельность, позволит проявить себя индивидуально или в группе, попробовать свои силы, приложить свои знания, принести пользу, показать публично достигнутый результ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7000"/>
              </a:lnSpc>
              <a:spcAft>
                <a:spcPts val="675"/>
              </a:spcAft>
              <a:buClr>
                <a:srgbClr val="333333"/>
              </a:buClr>
              <a:buSzPct val="9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это деятельность, направленная на решение интересной проблемы, сформулированной зачастую самими учащимися в виде задачи, когда результат этой деятельности – найденный способ решения проблемы – носит практический характер, имеет важное прикладное значение и, что весьма важно, интересен и значим для самих открыв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2195640" y="2492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… Проектное обучение поощряет и усиливает истинное учение со стороны учеников, расширяет сферу субъективности в процессе самоопределения, творчества и конкретного участия 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. Гузе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2843280" y="2781360"/>
            <a:ext cx="50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ФГОС: внеурочная деятельность </a:t>
            </a:r>
            <a:br>
              <a:rPr sz="3200"/>
            </a:b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по хим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1371600" y="1557360"/>
            <a:ext cx="7304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1371600" y="3500280"/>
            <a:ext cx="7304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1946160" y="2266920"/>
            <a:ext cx="615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снове ФГОС лежит системно-деятельностный подход к обучению, который обеспечивает формирование готовности к саморазвитию и непрерывному образованию, проектирование и конструирование развивающей образовательной среды для обучающихся, их активную учебно-позна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946160" y="4532400"/>
            <a:ext cx="60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ым компонентом ФГОС является организация внеурочной деятельности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8440" y="714240"/>
            <a:ext cx="7157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0061"/>
                </a:solidFill>
                <a:latin typeface="Times New Roman"/>
              </a:rPr>
              <a:t>Задачи ВУД по хим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Нижний колонтитул 7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1042920" y="1790640"/>
            <a:ext cx="7850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вышение  интереса к предмету хим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и усовершенствование навыков по химическому эксперимент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ие творческой активности, инициативы и самодеятельности учащих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готовка учащихся к практической деятельно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рганизация отдыха учащихся в сочетании с их эстетическим и нравственным воспит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8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10061"/>
                </a:solidFill>
                <a:latin typeface="Times New Roman"/>
              </a:rPr>
              <a:t>Реализация ВУ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830240"/>
            <a:ext cx="777240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часть внеурочной работы – организация проектной деятельности обучаю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а учителя – стимулировать школьников к выполнению индивидуальных, парных и групповых учебных проектов по химии, при этом приоритет следует отдавать учебно-исследовательским проектам с экспериментальной составля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Что такое проектная и исследовательская деятельность обучающихся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914400" y="1700280"/>
            <a:ext cx="79056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ная деятельность обучающих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совместная учебно-познавательная, творческая или игровая деятельность обучающихся, имеющая общую цель, согласованные методы, способы деятельности, направленная на достижение общего результата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ая деятельность обучающих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еятельность обучающихся, связанная с решением творческой, исследовательской задачи с заранее неизвестным решением и предполагающая наличие основных этапов, характерных для исследования в научн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10061"/>
                </a:solidFill>
                <a:latin typeface="Times New Roman"/>
              </a:rPr>
              <a:t>Что такое проект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44640"/>
          <a:ext cx="7772400" cy="4421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76320">
                <a:tc>
                  <a:txBody>
                    <a:bodyPr lIns="47520" rIns="47520" tIns="47880" bIns="478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блема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Почему?»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это важно для меня лич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ктуальность проблемы – 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822240"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ель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чем?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ы делаем проек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824040"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дач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то?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ля этого мы делае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822240"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тоды и 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?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ы можем это дел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способов и методов пла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976320"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то получится?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 решение проблем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щие черты проектной и исследовательск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Нижний колонтитул 2"/>
          <p:cNvSpPr/>
          <p:nvPr/>
        </p:nvSpPr>
        <p:spPr>
          <a:xfrm>
            <a:off x="3314880" y="6351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122480" y="1700280"/>
            <a:ext cx="7354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Цели и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ют конкретную практическ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ализ актуальности проекта или проводимого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еполагание, формулировка задач проекта или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 средств и методов, адекватных поставленным 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ение проектных работ и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формление результатов работ в соответствии с замыслом проекта или целями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я 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Компетенция в сфере исследования, творческая активность и высокая мотивация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Ит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ллектуальное, личностное развитие, рост компетенции в выбранной для исследования или проекта сфере, формирование умения сотрудничать в коллективе и самостоятельно работать, уяснение сущности творческой и исследовательско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Деятельность учителя и ученика </a:t>
            </a:r>
            <a:br>
              <a:rPr sz="3200"/>
            </a:b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при организации проектно-исследовательск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32040" y="2408400"/>
          <a:ext cx="3225600" cy="1834920"/>
        </p:xfrm>
        <a:graphic>
          <a:graphicData uri="http://schemas.openxmlformats.org/drawingml/2006/table">
            <a:tbl>
              <a:tblPr/>
              <a:tblGrid>
                <a:gridCol w="3225600"/>
              </a:tblGrid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цель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новые 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ир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 пути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ет ответственность за свою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38760" y="2408400"/>
          <a:ext cx="4184640" cy="1834920"/>
        </p:xfrm>
        <a:graphic>
          <a:graphicData uri="http://schemas.openxmlformats.org/drawingml/2006/table">
            <a:tbl>
              <a:tblPr/>
              <a:tblGrid>
                <a:gridCol w="4184640"/>
              </a:tblGrid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определять цель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ует источники получения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вает возможные формы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ует прогнозированию результа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условия для активности школь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нер уч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оценить полученный результат, выявить 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8:34Z</dcterms:created>
  <dc:creator>emd</dc:creator>
  <dc:description/>
  <dc:language>en-US</dc:language>
  <cp:lastModifiedBy>Комлева Светлана Ивановна</cp:lastModifiedBy>
  <dcterms:modified xsi:type="dcterms:W3CDTF">2022-04-22T11:28:13Z</dcterms:modified>
  <cp:revision>203</cp:revision>
  <dc:subject/>
  <dc:title>Методические особенности организации учебного процесса по биологии с использованием информационно-коммуникационных технологий</dc:title>
</cp:coreProperties>
</file>