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d2d2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4020-78F2-4332-9C2D-1A631078C4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9EDF-EB5E-4702-BC65-2902E0E9E3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9CF4-F738-4FCE-9C1C-C8B6B011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CED1-71FF-4F3F-A229-7CE9D99E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EDDAB-FCA6-456E-ADB4-AF381507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38B50-6B93-4819-8FEB-B6EDA17A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793E7-1951-4595-832A-AD9D2A08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5CC5D-9953-4981-993A-9B479BF8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49B94-F70C-49BB-A1C1-7CAD5629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9A902-571B-4F31-8603-E5193F95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8EBEF-C3FD-4F71-908F-2B6D23D3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CA2A9-B1DB-49C3-A739-8EF41D57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5D974-0430-4311-8BA1-FD2BE4AD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3EBC-C796-4DE4-90E4-174D6DC4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ECF2-F261-4DD3-A36F-E1D720EE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BFC7-93A0-439F-AB88-326EDF4F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F87C-F320-4738-AEEA-CBF82890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7D41-F8EC-4FAF-A41D-4626058A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CD7B-5B51-435C-B4F7-E4E6D200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3C2F-C1E7-4F38-8006-1573AA56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1FC3-F873-43E5-92E0-EFE7DEA3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C541-87CE-4B09-B144-37FDBB26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3D4F-35FC-4E30-8D52-305A1988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D09D-9285-478E-8A90-09B65988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248D-F321-43C1-A462-BA086955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7493-7719-4883-9913-7BBC37BA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5EFD-A263-42DE-AF3E-EDD401E4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454A-6A31-4936-8B6E-9676243D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7EFCE-B911-4244-9883-817CB18F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1B3A0-05FA-470C-998A-55818437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E85EF-AC42-42B2-8413-4052925E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44426-2EBA-4C65-9025-2D907129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BAFCB-F7C2-4C2A-B017-07145BD9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9285-FAF2-415D-AC2C-3FEF92AC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C4532-A019-4D1E-9CC0-802A657F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73077-FE75-4B7E-99BC-60A0CCE6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7A593-5C49-4CDA-BD3E-3A78E18F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224B5-270C-43A9-9F11-89345495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3EF40-72B3-4B58-B754-0857C758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A0AD3-E321-496B-BC58-9CFE929D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1BF53-07DD-4CD4-BD25-75BBB01E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7705A-1709-4E4D-9D21-36E2628D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59A1F-9165-4090-A03B-93E252A1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58773-155A-4C0B-B217-C61520FA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3A79-9838-462B-AA27-2850C948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7A647-1754-4471-B392-B9F0A02F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2B5E4-5B88-4E7F-8A45-42C9A14F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ECDDA-BF44-476E-B306-F2B6CBB8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8529C-288D-4C80-9EE4-94CAEBEB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670C2-EAFF-493F-9A69-89159E82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FF086-1C13-4AA5-B8A1-495E7B93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6F6EB-520E-4D02-889D-DD1CD3A7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21E58-6160-47E6-A264-A8A28ED2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D8C2B-DD50-48E4-998C-19196DB4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01E1C-937E-4750-A78A-846F74A8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0E86-8C09-4CF3-BAA5-C06885B5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911C8-0EFB-4A0D-9E17-51C95156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30B47-77BF-498C-A716-6F9ADFBB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B36A6-6A0A-4381-AFB3-0769B681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EA2CD-9646-4F74-A167-5620DADB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AE6B5-D18C-462A-9197-F4418BAA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36C55-1BD5-407D-912D-B752DA02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85998-3B64-42A4-BB6F-F9C00ADB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C0658-4D60-4324-AD04-CE3F20EB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E6149-83B6-4A1C-945B-15AC8E4E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E32D9-23B7-4C22-BF56-62A72435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DB62-3565-4CD2-9BB3-4FE6CD9D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043BF-6D2D-4A9F-8B7F-50376622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B3F52-51F9-4AD5-AE0A-9DE80322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143AD-DC8B-4C33-9219-13B1AB1B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85E45-A293-4DE1-A017-0C6273ED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C82D0-A6A1-4849-B325-CF6974B3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391FD-D25B-4A94-939E-72089EC8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15CEB-D6ED-4AB2-A473-6D84A854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9B720-E203-4BC5-926E-8358DEC5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C1F9F-051B-4C77-9218-BB155E72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0CA5C-F459-4A70-A7D7-F05B412F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DB46-7B0A-404A-A16E-9D598CA7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00646-8E99-4C22-8E2F-80B70986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5D3B5-1295-4CC8-8C42-3614BD6C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9F58E-0451-4358-A118-EC03ED63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452BC-0A2D-4593-B584-489085C3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99A9F-E9D0-4EED-8B76-2533A645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3B3BC-72C7-4151-AA70-194E3F23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2196E-6E31-4CE9-BD19-0595E100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0463C-9FD4-4BAA-BA3F-70D561D9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FDFB4-C2E3-4CCE-9C27-BCA5478E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93ECA-11F4-4E7D-ACDC-7872DB67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394D-2280-452B-BBC2-784DD681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B518C-32B4-4742-846F-3BFE716C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A705D-8310-44A9-9587-3561FAE6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1DE9A-22FE-4547-8863-F6F0B8FD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C2B87-5C0B-4FA2-BA1D-38AD12B3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4A24A-6841-4D2B-9E3C-B6213720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2F415-312B-46B7-BCAA-BEF42187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AD28B-4B10-4D4F-8EC3-EEEAA74C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60758-D61A-47F8-ACE9-BDE569BC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6FA0D-E354-427F-82F9-599CB497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F7BAF-3EE4-427F-A2B3-B1B892B5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854D-65BA-4033-991D-56E2CD89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FE34F-ECD2-467C-A0D6-551BB21B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1C23F-0945-4A17-98CA-14AD33F4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98AC6-5EC3-4856-B1D7-3BD01380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1E621-EF73-4E2F-BDCB-272D5A82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9A39D-C4A3-4D81-8097-9AEB7FAC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530EA-D9A0-464C-82ED-7BF8533A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FA455-A221-4E9B-9A4C-81694E10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5C17C-CCA7-407B-8B8B-1ABA1EEA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DF8B3-8349-4CE6-82A9-3C9647FD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46B11-422E-4E89-BCD0-84C3DC1F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130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7590-CD64-4286-8ECA-B423BD9F8623}" type="slidenum">
              <a:rPr b="0" lang="ru-RU" sz="1200" spc="-1" strike="noStrike">
                <a:solidFill>
                  <a:srgbClr val="e130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d2d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"/>
          <p:cNvGrpSpPr/>
          <p:nvPr/>
        </p:nvGrpSpPr>
        <p:grpSpPr>
          <a:xfrm>
            <a:off x="512640" y="5346720"/>
            <a:ext cx="8637840" cy="17280"/>
            <a:chOff x="512640" y="5346720"/>
            <a:chExt cx="8637840" cy="17280"/>
          </a:xfrm>
        </p:grpSpPr>
        <p:pic>
          <p:nvPicPr>
            <p:cNvPr id="51" name="Прямая соединительная линия 1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d2d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130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A6C2-48E1-4189-B184-231A7928BE62}" type="slidenum">
              <a:rPr b="0" lang="ru-RU" sz="1200" spc="-1" strike="noStrike">
                <a:solidFill>
                  <a:srgbClr val="e130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d2d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130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33E1-05E3-49CD-987E-5E42C508583A}" type="slidenum">
              <a:rPr b="0" lang="ru-RU" sz="1200" spc="-1" strike="noStrike">
                <a:solidFill>
                  <a:srgbClr val="e130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"/>
          <p:cNvGrpSpPr/>
          <p:nvPr/>
        </p:nvGrpSpPr>
        <p:grpSpPr>
          <a:xfrm>
            <a:off x="512640" y="3438360"/>
            <a:ext cx="8637840" cy="17640"/>
            <a:chOff x="512640" y="3438360"/>
            <a:chExt cx="8637840" cy="17640"/>
          </a:xfrm>
        </p:grpSpPr>
        <p:pic>
          <p:nvPicPr>
            <p:cNvPr id="145" name="Прямая соединительная линия 1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d2d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130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232D-7CD0-4EE1-BBE4-E305145A69A7}" type="slidenum">
              <a:rPr b="0" lang="ru-RU" sz="1200" spc="-1" strike="noStrike">
                <a:solidFill>
                  <a:srgbClr val="e130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"/>
          <p:cNvGrpSpPr/>
          <p:nvPr/>
        </p:nvGrpSpPr>
        <p:grpSpPr>
          <a:xfrm>
            <a:off x="512640" y="6016680"/>
            <a:ext cx="8637840" cy="19080"/>
            <a:chOff x="512640" y="6016680"/>
            <a:chExt cx="8637840" cy="19080"/>
          </a:xfrm>
        </p:grpSpPr>
        <p:pic>
          <p:nvPicPr>
            <p:cNvPr id="189" name="Прямая соединительная линия 1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d2d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130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970A-C8CD-4311-B897-4B88AB918F25}" type="slidenum">
              <a:rPr b="0" lang="ru-RU" sz="1200" spc="-1" strike="noStrike">
                <a:solidFill>
                  <a:srgbClr val="e130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d2d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130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B64A-DFBC-4038-91B4-1B296371E95E}" type="slidenum">
              <a:rPr b="0" lang="ru-RU" sz="1200" spc="-1" strike="noStrike">
                <a:solidFill>
                  <a:srgbClr val="e130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"/>
          <p:cNvGrpSpPr/>
          <p:nvPr/>
        </p:nvGrpSpPr>
        <p:grpSpPr>
          <a:xfrm>
            <a:off x="512640" y="5846760"/>
            <a:ext cx="8637840" cy="17640"/>
            <a:chOff x="512640" y="5846760"/>
            <a:chExt cx="8637840" cy="17640"/>
          </a:xfrm>
        </p:grpSpPr>
        <p:pic>
          <p:nvPicPr>
            <p:cNvPr id="274" name="Прямая соединительная линия 1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d2d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130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643C-DDE3-4C7F-ABA4-1F4AFCC50028}" type="slidenum">
              <a:rPr b="0" lang="ru-RU" sz="1200" spc="-1" strike="noStrike">
                <a:solidFill>
                  <a:srgbClr val="e130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d2d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130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D372-13EF-4E21-A189-3F2C5BAB6CAA}" type="slidenum">
              <a:rPr b="0" lang="ru-RU" sz="1200" spc="-1" strike="noStrike">
                <a:solidFill>
                  <a:srgbClr val="e130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d2d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130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CA4A-6E7E-48DA-96B3-ECE53DE042E2}" type="slidenum">
              <a:rPr b="0" lang="ru-RU" sz="1200" spc="-1" strike="noStrike">
                <a:solidFill>
                  <a:srgbClr val="e130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384120" y="2743200"/>
            <a:ext cx="8223480" cy="1352520"/>
          </a:xfrm>
          <a:prstGeom prst="rect">
            <a:avLst/>
          </a:prstGeom>
          <a:ln w="0">
            <a:noFill/>
          </a:ln>
        </p:spPr>
      </p:pic>
      <p:sp>
        <p:nvSpPr>
          <p:cNvPr id="407" name="TextBox 3"/>
          <p:cNvSpPr/>
          <p:nvPr/>
        </p:nvSpPr>
        <p:spPr>
          <a:xfrm>
            <a:off x="457200" y="4800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у выполнили:Мамаджанов Мухсинж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1"/>
          <p:cNvSpPr/>
          <p:nvPr/>
        </p:nvSpPr>
        <p:spPr>
          <a:xfrm>
            <a:off x="228600" y="122436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Фай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наименьшая единица хранения информации, содержащая последовательность байтов и имеющая уникальное им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304920" y="2988360"/>
            <a:ext cx="8610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сновное назначение файлов – хранить информацию. Они предназначены также для передачи данных от программы к программе и от системы к системе. Другими словами, файл – это хранилище стабильных и мобильных данных. Но, файл – это нечто большее, чем просто хранилище данных. Обычно файл имеет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имя, атрибуты, время модификации и время создания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9000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"/>
          <p:cNvSpPr/>
          <p:nvPr/>
        </p:nvSpPr>
        <p:spPr>
          <a:xfrm>
            <a:off x="228600" y="393120"/>
            <a:ext cx="86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Информати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это техническая нау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 систематизирующая приёмы создан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хранен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обработки и передачи информации средствами вычислительной техни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а также принципы функционирования этих средств и методы управления и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Рисунок 3" descr="1000753843.jpg"/>
          <p:cNvPicPr/>
          <p:nvPr/>
        </p:nvPicPr>
        <p:blipFill>
          <a:blip r:embed="rId1"/>
          <a:stretch/>
        </p:blipFill>
        <p:spPr>
          <a:xfrm>
            <a:off x="4952880" y="2590920"/>
            <a:ext cx="4000680" cy="40003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"/>
          <p:cNvSpPr/>
          <p:nvPr/>
        </p:nvSpPr>
        <p:spPr>
          <a:xfrm>
            <a:off x="304920" y="31680"/>
            <a:ext cx="86104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Medium"/>
                <a:ea typeface="Times New Roman"/>
              </a:rPr>
              <a:t>Теоретической основой информатики является группа фундаментальных наук таких как: теория информации, теория алгоритмов, математическая логика, теория формальных языков и грамматик, комбинаторный анализ и т.д. Кроме них информатика включает такие разделы, как архитектура ЭВМ, операционные системы, теория баз данных, технология программирования и многие другие. Важным в определении информатики как науки является то, что с одной стороны, она занимается изучением устройств и принципов действия средств вычислительной техники, а с другой – систематизацией приемов и методов работы с программами, управляющими этой техник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7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152280" y="258480"/>
            <a:ext cx="49532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Информационная технология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это совокупность конкретных технических и программных средств, с помощью которых выполняются разнообразные операции по обработке информации во всех сферах нашей жизни и деятельности. Иногда информационную технологию называют компьютерной технологией или прикладной информатик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Рисунок 2" descr="school-45.jpg"/>
          <p:cNvPicPr/>
          <p:nvPr/>
        </p:nvPicPr>
        <p:blipFill>
          <a:blip r:embed="rId1"/>
          <a:stretch/>
        </p:blipFill>
        <p:spPr>
          <a:xfrm>
            <a:off x="5024520" y="1066680"/>
            <a:ext cx="3900240" cy="4267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39680" y="457200"/>
            <a:ext cx="8852040" cy="103032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1"/>
          <p:cNvSpPr/>
          <p:nvPr/>
        </p:nvSpPr>
        <p:spPr>
          <a:xfrm>
            <a:off x="228600" y="130068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Термин «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информац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»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осходит к латинскому informatio,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разъяснение, изложение, осведомленно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152280" y="3064680"/>
            <a:ext cx="8763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Информацию можно классифицировать разными способами, и разные науки это делают по-разному. Например, в философии различают информацию объективную и субъективную. Объективная информация отражает явления природы и человеческого общества. Субъективная информация создается людьми и отражает их взгляд на объективные яв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9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"/>
          <p:cNvSpPr/>
          <p:nvPr/>
        </p:nvSpPr>
        <p:spPr>
          <a:xfrm>
            <a:off x="380880" y="152928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одирование информаци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это процесс формирования определенного представления информации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2"/>
          <p:cNvSpPr/>
          <p:nvPr/>
        </p:nvSpPr>
        <p:spPr>
          <a:xfrm>
            <a:off x="228600" y="3362400"/>
            <a:ext cx="86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 более узком смысле под термином «кодирование» часто понимают переход от одной формы представления информации к другой, более удобной для хранения, передачи или обработ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heel spokes="8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3"/>
          <p:cNvSpPr/>
          <p:nvPr/>
        </p:nvSpPr>
        <p:spPr>
          <a:xfrm>
            <a:off x="304920" y="1544400"/>
            <a:ext cx="85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Компьютер может обрабатывать только информацию, представленную в числовой форме. Вся другая информация (звуки, изображения, показания приборов и т. д.) для обработки на компьютере должна быть преобразована в числовую форму. Например, чтобы перевести в числовую форму музыкальный звук, можно через небольшие промежутки времени измерять интенсивность звука на определенных частотах, представляя результаты каждого измерения в числовой форме. С помощью компьютерных программ можно преобразовывать полученную информацию, например «наложить» друг на друга звуки от разных источни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2"/>
          <p:cNvSpPr/>
          <p:nvPr/>
        </p:nvSpPr>
        <p:spPr>
          <a:xfrm>
            <a:off x="380880" y="32004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Би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наименьшая единица представления информации.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Бай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наименьшая единица обработки и передачи информации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1"/>
          <p:cNvSpPr/>
          <p:nvPr/>
        </p:nvSpPr>
        <p:spPr>
          <a:xfrm>
            <a:off x="380880" y="1529280"/>
            <a:ext cx="861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Единица измерения информации называется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би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(bit) – сокращение от английских слов binary digit,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что означает двоичная циф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Рисунок 8" descr="informatika.jpg"/>
          <p:cNvPicPr/>
          <p:nvPr/>
        </p:nvPicPr>
        <p:blipFill>
          <a:blip r:embed="rId2"/>
          <a:stretch/>
        </p:blipFill>
        <p:spPr>
          <a:xfrm>
            <a:off x="6629400" y="4419720"/>
            <a:ext cx="2305080" cy="2205000"/>
          </a:xfrm>
          <a:prstGeom prst="rect">
            <a:avLst/>
          </a:prstGeom>
          <a:ln w="0">
            <a:noFill/>
          </a:ln>
        </p:spPr>
      </p:pic>
    </p:spTree>
  </p:cSld>
  <p:transition advTm="13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6"/>
          <p:cNvSpPr/>
          <p:nvPr/>
        </p:nvSpPr>
        <p:spPr>
          <a:xfrm>
            <a:off x="457200" y="4115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1 Кбайт (один килобайт) = 2</a:t>
            </a:r>
            <a:r>
              <a:rPr b="0" lang="ru-RU" sz="2400" spc="-1" strike="noStrike" baseline="30000">
                <a:solidFill>
                  <a:srgbClr val="ffffff"/>
                </a:solidFill>
                <a:latin typeface="Calibri"/>
                <a:ea typeface="Times New Roman"/>
              </a:rPr>
              <a:t>10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байт =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024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байт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380880" y="48016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 Мбайт (один мегабайт) = 2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Кбайт = 1024 Кбайт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380880" y="54874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 Гбайт (один гигабайт) = 2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Мбайт = 1024 Мбай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80880" y="15336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 информатике часто используется величина, называемая байтом (byte) и равная 8 битам. И если бит позволяет выбрать один вариант из двух возможных, то байт, соответственно, 1 из 256 (2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8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. Наряду с байтами для измерения количества информации используются более крупные единиц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03:27:52Z</dcterms:created>
  <dc:creator>user</dc:creator>
  <dc:description/>
  <dc:language>en-US</dc:language>
  <cp:lastModifiedBy>1</cp:lastModifiedBy>
  <dcterms:modified xsi:type="dcterms:W3CDTF">2024-01-29T08:40:48Z</dcterms:modified>
  <cp:revision>22</cp:revision>
  <dc:subject/>
  <dc:title>Работу выполнили: Тимошина Анна и Тихонова Евгения 8-5 КЛАСС МОУ Лицея №18</dc:title>
</cp:coreProperties>
</file>