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d2d2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F283-5A30-40CB-82EF-EC6D38F4C7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782D-B49D-469D-BA3B-3FA6782FB89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F7F1-4736-4F0E-9EBC-CA2D30B14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FAA1-E41F-4952-9C32-C29ADCAA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813D7-6ED1-421F-80B7-C25E6BCC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1E706-5678-485B-BCA6-E78A30C8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82835-149C-4D9B-81EA-C8393616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BBBF5-064F-42C1-B687-AC1608CE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FB828-0E53-46BB-B262-1FDFF14BF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3DB057-8233-4B43-A038-58088F05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80CF5C-A4C5-4C69-9504-FEF56196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DAA94-1077-45B6-BF8A-B018E2D69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9EE2E-42EF-496E-9220-BFC30C8A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B9DB-51F8-4D33-891C-7A008C882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CAF3-91AE-4208-A5B9-1FC23B572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BFD8-5547-4BC3-B001-5744ED10C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3AA5-B11A-4176-B649-926B8EA7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3C4E-F88D-49A5-93F6-DBC8F06E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CBA0-5C42-42BC-8570-3F0C22A5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567D-E31C-4C7C-AEE0-4A7180D5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A4F9-2C49-4AF7-9057-C4B94B4E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CA41B-9A84-41BF-8570-0E0F430B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6819-31D9-4D0A-AC6F-88A55D1B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0417-7AEC-4467-ADFF-CA4BFED8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9813-498D-4108-B498-D9EBA834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B324B-4CE6-4349-86EA-D1535CA3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F287-7CA1-40C5-84F2-6320AADA4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C02A-D34A-4F41-943D-37B03EDC7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21323-0485-4A7C-9C3D-429FE6DD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44A75-4B9F-41A8-9026-B9D82656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12A92-0B63-49BF-8046-200C3220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06BE7-176F-4EE4-97E3-62D7CD29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9CE36-559F-4E9C-BFBA-EF6939F2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52D6-5F9C-4A30-99EA-3A0E7F17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AF86C-1472-41E5-B072-FBB08250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68F81-FC9D-4FBA-8A93-12DEB770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FEB06-36CE-4981-A094-28224F76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7987F-9730-4847-A216-B2CFB5DF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46564-B851-4AFA-927D-EBB4307F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BF8B5-AA4A-44D2-A950-AB01DAC41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FAA0D-8A97-4FA1-A7A6-346BA02C4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A2B21-39F6-47AC-87CA-51DCF2B12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890A0-71EB-4A77-AE6F-8DD0CE4E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85217-B1C1-4480-BFFE-2C7E7955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B5EC-DEE2-48FA-B55C-658AA67F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D81E9-1020-4BAD-8823-ABC5406E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501E2-3E26-4945-8D96-0A4CD573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01AF0-D5D1-447A-9DFA-23BA0E0C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6D698-6F38-488C-8F6A-63E71CD0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3F18E-4D47-481A-84F0-8E367B1A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93CC1-8131-4B2A-8594-EC137649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3B53C-82FA-4B5E-9660-6B84AA32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EEF2A-8BE2-4568-AD06-183C5FA5E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9FA2B-2C6A-4425-83D2-3E0F66F3A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427E8-F3D0-4C21-B49D-432A9101C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50E8-9C5B-419D-ADFB-3ADDA5E3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F5263-1006-4A7A-8CFA-8A07E57F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EF070-E2F8-4732-92DB-C730E0AB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83200-6A26-4711-80DD-ABFDE0EE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DF3EE-493D-4012-A6D7-990078A1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82B1A-67DA-426F-8A81-EC189ED1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742BD-85AA-475B-BD23-B4408D49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B79DC-8A4D-48B3-91F6-CDCBE4CA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A6B87-29C0-4813-B6CE-BD11A431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F4298-3A45-4F25-B6DA-F9A5DB0F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860D5-726C-46B1-86D0-2D3FD2B89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8214-098E-416F-9C44-A9597924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02B57-0656-47FF-8A7A-501C88A71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FFC77-6915-4428-9A0C-4A363AC10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7A968-03AC-4298-B3D9-BC62AB06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D7C0C-48B2-46D9-9FCB-7347FDC6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B615A-BBED-474F-A0C6-44C83496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BE514-1CCF-49C0-A783-64506505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EA1C8-0ADA-44F0-8C3E-EA4DFED8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E930A-A245-4FEE-85A3-C2A47BCF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62A6C-7498-4CA5-ACCF-348CF874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0EEF6-A3AA-4241-A5D9-408E6622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275F-3C0D-4DAE-AA35-1A60A944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92E0C-2676-441E-81A3-03BDC3575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4867F-20D9-4188-A5C1-7E11029B9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727FB-D0FA-4854-B9FA-CCCA2497C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AE494-4CAF-4647-AB3A-B01C21D45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0B456-4FB7-49B5-AAFC-1E933E5A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5929F-ED8E-410F-A7AD-887D9B6E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9A6F9-AB76-40B7-985C-A250F384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D574C-DAC6-4641-A103-241A8E1F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05A48-40E0-42BF-882E-364F3294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F127A-99E9-461D-BF42-CD63251F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D6ED-25FE-420B-B2D4-6F58FDD0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9145B-9E3B-4E47-8358-00BEDDF2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1FDF0-45DA-4939-A56F-5FA6FDEA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80D24-0F59-497B-9B70-5BB002FC0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4AC1B-85DB-486B-AA44-B0FF6DA6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898A6-3481-4BCF-A735-9BB2D25C7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ECF8F-2217-4802-BEF6-8A1328E46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11CAC-24F5-4BB3-A21F-337BD08C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398C3-76D5-47F7-8F22-A41D5F9A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4A7D1-5FAC-4FC5-827E-4AE4CD58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9BE4A-AC5E-42C6-9A86-3FF17DCA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533C-247F-4870-84CD-0CD6CF59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CF033-60DC-4A13-8E3D-938859C3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98E78-7DEF-4206-AA4E-F6CE287D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93FCB-53C7-4D76-B758-CBE61EF5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5D0CE-D60B-429B-8645-220AB861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63E67-BAB8-4A42-A8C9-07A0CBA0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5900D-0E7E-454D-864A-DBEAD60F9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FCA94-9E54-4DAF-AE98-E9036CE1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E8F5F-819D-48CA-9952-3A8A00A3C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1B18C-EB10-4953-A380-7F6B95FC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2C0F9E-0C81-4638-9175-B7AE84D2E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130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D074-9CCC-4201-BCAD-BED7F515C5FE}" type="slidenum">
              <a:rPr b="0" lang="ru-RU" sz="1200" spc="-1" strike="noStrike">
                <a:solidFill>
                  <a:srgbClr val="e130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d2d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"/>
          <p:cNvGrpSpPr/>
          <p:nvPr/>
        </p:nvGrpSpPr>
        <p:grpSpPr>
          <a:xfrm>
            <a:off x="512640" y="5346720"/>
            <a:ext cx="8637840" cy="17280"/>
            <a:chOff x="512640" y="5346720"/>
            <a:chExt cx="8637840" cy="17280"/>
          </a:xfrm>
        </p:grpSpPr>
        <p:pic>
          <p:nvPicPr>
            <p:cNvPr id="51" name="Прямая соединительная линия 1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7840" cy="1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d2d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130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8DD7-95A7-4E3B-83BC-DA6CDAF6F2F2}" type="slidenum">
              <a:rPr b="0" lang="ru-RU" sz="1200" spc="-1" strike="noStrike">
                <a:solidFill>
                  <a:srgbClr val="e130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7840" cy="17640"/>
            <a:chOff x="512640" y="1042920"/>
            <a:chExt cx="863784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7840" cy="19080"/>
            <a:chOff x="512640" y="1054080"/>
            <a:chExt cx="8637840" cy="1908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d2d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130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B043-4C33-4D45-ADD0-72B0CA2AC483}" type="slidenum">
              <a:rPr b="0" lang="ru-RU" sz="1200" spc="-1" strike="noStrike">
                <a:solidFill>
                  <a:srgbClr val="e130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"/>
          <p:cNvGrpSpPr/>
          <p:nvPr/>
        </p:nvGrpSpPr>
        <p:grpSpPr>
          <a:xfrm>
            <a:off x="512640" y="3438360"/>
            <a:ext cx="8637840" cy="17640"/>
            <a:chOff x="512640" y="3438360"/>
            <a:chExt cx="8637840" cy="17640"/>
          </a:xfrm>
        </p:grpSpPr>
        <p:pic>
          <p:nvPicPr>
            <p:cNvPr id="145" name="Прямая соединительная линия 1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d2d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130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E73B-4DF9-4773-84F7-D60EF31FAC22}" type="slidenum">
              <a:rPr b="0" lang="ru-RU" sz="1200" spc="-1" strike="noStrike">
                <a:solidFill>
                  <a:srgbClr val="e130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"/>
          <p:cNvGrpSpPr/>
          <p:nvPr/>
        </p:nvGrpSpPr>
        <p:grpSpPr>
          <a:xfrm>
            <a:off x="512640" y="6016680"/>
            <a:ext cx="8637840" cy="19080"/>
            <a:chOff x="512640" y="6016680"/>
            <a:chExt cx="8637840" cy="19080"/>
          </a:xfrm>
        </p:grpSpPr>
        <p:pic>
          <p:nvPicPr>
            <p:cNvPr id="189" name="Прямая соединительная линия 1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7840" cy="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d2d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130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C1AF-00F6-404F-821C-5F4C09D1537B}" type="slidenum">
              <a:rPr b="0" lang="ru-RU" sz="1200" spc="-1" strike="noStrike">
                <a:solidFill>
                  <a:srgbClr val="e130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d2d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130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E160-C92C-46B3-8C72-5149A7A3DC7D}" type="slidenum">
              <a:rPr b="0" lang="ru-RU" sz="1200" spc="-1" strike="noStrike">
                <a:solidFill>
                  <a:srgbClr val="e130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"/>
          <p:cNvGrpSpPr/>
          <p:nvPr/>
        </p:nvGrpSpPr>
        <p:grpSpPr>
          <a:xfrm>
            <a:off x="512640" y="5846760"/>
            <a:ext cx="8637840" cy="17640"/>
            <a:chOff x="512640" y="5846760"/>
            <a:chExt cx="8637840" cy="17640"/>
          </a:xfrm>
        </p:grpSpPr>
        <p:pic>
          <p:nvPicPr>
            <p:cNvPr id="274" name="Прямая соединительная линия 1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784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d2d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130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3027-7158-4209-9EAD-CB34FDECF302}" type="slidenum">
              <a:rPr b="0" lang="ru-RU" sz="1200" spc="-1" strike="noStrike">
                <a:solidFill>
                  <a:srgbClr val="e130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d2d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130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9053-A446-42BB-8F62-BFB89BC478B8}" type="slidenum">
              <a:rPr b="0" lang="ru-RU" sz="1200" spc="-1" strike="noStrike">
                <a:solidFill>
                  <a:srgbClr val="e130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f388c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f388c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d2d2d2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2d2d2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d2d2d2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130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9B19-E2A0-49DF-BD64-7537A40A8664}" type="slidenum">
              <a:rPr b="0" lang="ru-RU" sz="1200" spc="-1" strike="noStrike">
                <a:solidFill>
                  <a:srgbClr val="e1307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384120" y="2743200"/>
            <a:ext cx="8223480" cy="1352520"/>
          </a:xfrm>
          <a:prstGeom prst="rect">
            <a:avLst/>
          </a:prstGeom>
          <a:ln w="0">
            <a:noFill/>
          </a:ln>
        </p:spPr>
      </p:pic>
      <p:sp>
        <p:nvSpPr>
          <p:cNvPr id="407" name="TextBox 3"/>
          <p:cNvSpPr/>
          <p:nvPr/>
        </p:nvSpPr>
        <p:spPr>
          <a:xfrm>
            <a:off x="457200" y="48006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у выполнили:Мамаджанов Мухсинж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5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12248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1"/>
          <p:cNvSpPr/>
          <p:nvPr/>
        </p:nvSpPr>
        <p:spPr>
          <a:xfrm>
            <a:off x="228600" y="122436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Фай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наименьшая единица хранения информации, содержащая последовательность байтов и имеющая уникальное им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2"/>
          <p:cNvSpPr/>
          <p:nvPr/>
        </p:nvSpPr>
        <p:spPr>
          <a:xfrm>
            <a:off x="304920" y="2988360"/>
            <a:ext cx="8610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Основное назначение файлов – хранить информацию. Они предназначены также для передачи данных от программы к программе и от системы к системе. Другими словами, файл – это хранилище стабильных и мобильных данных. Но, файл – это нечто большее, чем просто хранилище данных. Обычно файл имеет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имя, атрибуты, время модификации и время создания.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9000">
    <p:wheel spokes="8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1"/>
          <p:cNvSpPr/>
          <p:nvPr/>
        </p:nvSpPr>
        <p:spPr>
          <a:xfrm>
            <a:off x="228600" y="393120"/>
            <a:ext cx="8686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Calibri"/>
              </a:rPr>
              <a:t>Информатик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Calibri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Calibri"/>
              </a:rPr>
              <a:t>это техническая наук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Calibri"/>
              </a:rPr>
              <a:t> систематизирующая приёмы создани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Calibri"/>
              </a:rPr>
              <a:t>хранени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Calibri"/>
              </a:rPr>
              <a:t>обработки и передачи информации средствами вычислительной техник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Calibri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Calibri"/>
              </a:rPr>
              <a:t>а также принципы функционирования этих средств и методы управления и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Рисунок 3" descr="1000753843.jpg"/>
          <p:cNvPicPr/>
          <p:nvPr/>
        </p:nvPicPr>
        <p:blipFill>
          <a:blip r:embed="rId1"/>
          <a:stretch/>
        </p:blipFill>
        <p:spPr>
          <a:xfrm>
            <a:off x="4952880" y="2590920"/>
            <a:ext cx="4000680" cy="40003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"/>
          <p:cNvSpPr/>
          <p:nvPr/>
        </p:nvSpPr>
        <p:spPr>
          <a:xfrm>
            <a:off x="304920" y="31680"/>
            <a:ext cx="861048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Medium"/>
                <a:ea typeface="Times New Roman"/>
              </a:rPr>
              <a:t>Теоретической основой информатики является группа фундаментальных наук таких как: теория информации, теория алгоритмов, математическая логика, теория формальных языков и грамматик, комбинаторный анализ и т.д. Кроме них информатика включает такие разделы, как архитектура ЭВМ, операционные системы, теория баз данных, технология программирования и многие другие. Важным в определении информатики как науки является то, что с одной стороны, она занимается изучением устройств и принципов действия средств вычислительной техники, а с другой – систематизацией приемов и методов работы с программами, управляющими этой технико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7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152280" y="258480"/>
            <a:ext cx="49532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Информационная технология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это совокупность конкретных технических и программных средств, с помощью которых выполняются разнообразные операции по обработке информации во всех сферах нашей жизни и деятельности. Иногда информационную технологию называют компьютерной технологией или прикладной информатико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Рисунок 2" descr="school-45.jpg"/>
          <p:cNvPicPr/>
          <p:nvPr/>
        </p:nvPicPr>
        <p:blipFill>
          <a:blip r:embed="rId1"/>
          <a:stretch/>
        </p:blipFill>
        <p:spPr>
          <a:xfrm>
            <a:off x="5024520" y="1066680"/>
            <a:ext cx="3900240" cy="4267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1"/>
          <a:stretch/>
        </p:blipFill>
        <p:spPr>
          <a:xfrm>
            <a:off x="139680" y="457200"/>
            <a:ext cx="8852040" cy="103032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1"/>
          <p:cNvSpPr/>
          <p:nvPr/>
        </p:nvSpPr>
        <p:spPr>
          <a:xfrm>
            <a:off x="228600" y="130068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Термин «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информац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»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осходит к латинскому informatio,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разъяснение, изложение, осведомленно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152280" y="3064680"/>
            <a:ext cx="8763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Информацию можно классифицировать разными способами, и разные науки это делают по-разному. Например, в философии различают информацию объективную и субъективную. Объективная информация отражает явления природы и человеческого общества. Субъективная информация создается людьми и отражает их взгляд на объективные явл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9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12248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1"/>
          <p:cNvSpPr/>
          <p:nvPr/>
        </p:nvSpPr>
        <p:spPr>
          <a:xfrm>
            <a:off x="380880" y="152928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Кодирование информации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это процесс формирования определенного представления информации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2"/>
          <p:cNvSpPr/>
          <p:nvPr/>
        </p:nvSpPr>
        <p:spPr>
          <a:xfrm>
            <a:off x="228600" y="3362400"/>
            <a:ext cx="86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 более узком смысле под термином «кодирование» часто понимают переход от одной формы представления информации к другой, более удобной для хранения, передачи или обработ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5000">
    <p:wheel spokes="8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12248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3"/>
          <p:cNvSpPr/>
          <p:nvPr/>
        </p:nvSpPr>
        <p:spPr>
          <a:xfrm>
            <a:off x="304920" y="1544400"/>
            <a:ext cx="853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Компьютер может обрабатывать только информацию, представленную в числовой форме. Вся другая информация (звуки, изображения, показания приборов и т. д.) для обработки на компьютере должна быть преобразована в числовую форму. Например, чтобы перевести в числовую форму музыкальный звук, можно через небольшие промежутки времени измерять интенсивность звука на определенных частотах, представляя результаты каждого измерения в числовой форме. С помощью компьютерных программ можно преобразовывать полученную информацию, например «наложить» друг на друга звуки от разных источник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122480"/>
          </a:xfrm>
          <a:prstGeom prst="rect">
            <a:avLst/>
          </a:prstGeom>
          <a:ln w="0">
            <a:noFill/>
          </a:ln>
        </p:spPr>
      </p:pic>
      <p:sp>
        <p:nvSpPr>
          <p:cNvPr id="422" name="Прямоугольник 2"/>
          <p:cNvSpPr/>
          <p:nvPr/>
        </p:nvSpPr>
        <p:spPr>
          <a:xfrm>
            <a:off x="380880" y="32004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Би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наименьшая единица представления информации.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Бай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наименьшая единица обработки и передачи информации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1"/>
          <p:cNvSpPr/>
          <p:nvPr/>
        </p:nvSpPr>
        <p:spPr>
          <a:xfrm>
            <a:off x="380880" y="1529280"/>
            <a:ext cx="8610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Единица измерения информации называется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би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(bit) – сокращение от английских слов binary digit,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что означает двоичная цифр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4" name="Рисунок 8" descr="informatika.jpg"/>
          <p:cNvPicPr/>
          <p:nvPr/>
        </p:nvPicPr>
        <p:blipFill>
          <a:blip r:embed="rId2"/>
          <a:stretch/>
        </p:blipFill>
        <p:spPr>
          <a:xfrm>
            <a:off x="6629400" y="4419720"/>
            <a:ext cx="2305080" cy="2205000"/>
          </a:xfrm>
          <a:prstGeom prst="rect">
            <a:avLst/>
          </a:prstGeom>
          <a:ln w="0">
            <a:noFill/>
          </a:ln>
        </p:spPr>
      </p:pic>
    </p:spTree>
  </p:cSld>
  <p:transition advTm="13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12248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6"/>
          <p:cNvSpPr/>
          <p:nvPr/>
        </p:nvSpPr>
        <p:spPr>
          <a:xfrm>
            <a:off x="457200" y="4115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1 Кбайт (один килобайт) = 2</a:t>
            </a:r>
            <a:r>
              <a:rPr b="0" lang="ru-RU" sz="2400" spc="-1" strike="noStrike" baseline="30000">
                <a:solidFill>
                  <a:srgbClr val="ffffff"/>
                </a:solidFill>
                <a:latin typeface="Calibri"/>
                <a:ea typeface="Times New Roman"/>
              </a:rPr>
              <a:t>10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байт =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024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 байт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380880" y="48016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 Мбайт (один мегабайт) = 2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1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Кбайт = 1024 Кбайт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8"/>
          <p:cNvSpPr/>
          <p:nvPr/>
        </p:nvSpPr>
        <p:spPr>
          <a:xfrm>
            <a:off x="380880" y="54874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 Гбайт (один гигабайт) = 2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10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Мбайт = 1024 Мбай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380880" y="153360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В информатике часто используется величина, называемая байтом (byte) и равная 8 битам. И если бит позволяет выбрать один вариант из двух возможных, то байт, соответственно, 1 из 256 (2</a:t>
            </a:r>
            <a:r>
              <a:rPr b="0" lang="ru-RU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8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. Наряду с байтами для измерения количества информации используются более крупные единицы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03:27:52Z</dcterms:created>
  <dc:creator>user</dc:creator>
  <dc:description/>
  <dc:language>en-US</dc:language>
  <cp:lastModifiedBy>1</cp:lastModifiedBy>
  <dcterms:modified xsi:type="dcterms:W3CDTF">2024-01-29T08:40:48Z</dcterms:modified>
  <cp:revision>22</cp:revision>
  <dc:subject/>
  <dc:title>Работу выполнили: Тимошина Анна и Тихонова Евгения 8-5 КЛАСС МОУ Лицея №18</dc:title>
</cp:coreProperties>
</file>