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png" ContentType="image/png"/>
  <Override PartName="/ppt/media/image57.jpeg" ContentType="image/jpeg"/>
  <Override PartName="/ppt/media/image55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47.png" ContentType="image/png"/>
  <Override PartName="/ppt/media/image35.jpeg" ContentType="image/jpeg"/>
  <Override PartName="/ppt/media/image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.png" ContentType="image/png"/>
  <Override PartName="/ppt/media/image17.jpeg" ContentType="image/jpeg"/>
  <Override PartName="/ppt/media/image61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8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6.jpeg" ContentType="image/jpeg"/>
  <Override PartName="/ppt/media/image53.png" ContentType="image/pn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CBC-C982-4AB1-AFD3-A7C65763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7ED-1531-40B2-84DF-FBCCE509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40C-F134-4EE2-814D-6CD06E57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DD4-B7A4-415C-A0B7-C160EA95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92A3-A3AC-4B84-A979-02C6FDC5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857-D6F1-49B5-B360-48BD74DF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E37-A4CE-4312-9F59-BACE4771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625-B98A-4527-8441-3FC25CAE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69A-84DE-4441-9CE0-C328DB68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146-A299-4688-9905-55416A46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DE1-A916-491F-9DE6-85A6EB2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905-016B-432C-8F42-9413A1ED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1C61-1EA8-4959-AF00-6F5F311DF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оготип как графический зн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"/>
          <p:cNvPicPr/>
          <p:nvPr/>
        </p:nvPicPr>
        <p:blipFill>
          <a:blip r:embed="rId1"/>
          <a:stretch/>
        </p:blipFill>
        <p:spPr>
          <a:xfrm>
            <a:off x="5867280" y="3505320"/>
            <a:ext cx="2743200" cy="237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0"/>
          <p:cNvPicPr/>
          <p:nvPr/>
        </p:nvPicPr>
        <p:blipFill>
          <a:blip r:embed="rId2"/>
          <a:stretch/>
        </p:blipFill>
        <p:spPr>
          <a:xfrm>
            <a:off x="838080" y="3581280"/>
            <a:ext cx="4286520" cy="2266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илтон Глейзер  и всемирно известная надпись «I Love NY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8"/>
          <p:cNvPicPr/>
          <p:nvPr/>
        </p:nvPicPr>
        <p:blipFill>
          <a:blip r:embed="rId1"/>
          <a:stretch/>
        </p:blipFill>
        <p:spPr>
          <a:xfrm>
            <a:off x="2666880" y="2819520"/>
            <a:ext cx="4172040" cy="3875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оготип NeXT был создан буквально за 2 нед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9"/>
          <p:cNvPicPr/>
          <p:nvPr/>
        </p:nvPicPr>
        <p:blipFill>
          <a:blip r:embed="rId1"/>
          <a:stretch/>
        </p:blipFill>
        <p:spPr>
          <a:xfrm>
            <a:off x="2057400" y="2666880"/>
            <a:ext cx="5600880" cy="3921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об Янов  и радужное яблоко Ap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0"/>
          <p:cNvPicPr/>
          <p:nvPr/>
        </p:nvPicPr>
        <p:blipFill>
          <a:blip r:embed="rId1"/>
          <a:stretch/>
        </p:blipFill>
        <p:spPr>
          <a:xfrm>
            <a:off x="152280" y="2514600"/>
            <a:ext cx="8839440" cy="391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мые популярные три полоски в ми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1"/>
          <p:cNvPicPr/>
          <p:nvPr/>
        </p:nvPicPr>
        <p:blipFill>
          <a:blip r:embed="rId1"/>
          <a:stretch/>
        </p:blipFill>
        <p:spPr>
          <a:xfrm>
            <a:off x="609480" y="2438280"/>
            <a:ext cx="8077320" cy="3946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ехлучевая звезда Мерседе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12"/>
          <p:cNvPicPr/>
          <p:nvPr/>
        </p:nvPicPr>
        <p:blipFill>
          <a:blip r:embed="rId1"/>
          <a:stretch/>
        </p:blipFill>
        <p:spPr>
          <a:xfrm>
            <a:off x="1981080" y="2209680"/>
            <a:ext cx="5772240" cy="432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вел Дуров и «Вконтакт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3"/>
          <p:cNvPicPr/>
          <p:nvPr/>
        </p:nvPicPr>
        <p:blipFill>
          <a:blip r:embed="rId1"/>
          <a:stretch/>
        </p:blipFill>
        <p:spPr>
          <a:xfrm>
            <a:off x="1981080" y="2514600"/>
            <a:ext cx="5410440" cy="3567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зиции законодатель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ана собственности в РФ предоставляется на основании его государственной регистрации. Право на интеллектуальную собственность охраняется законом (согласно статье 2 закона «О товарных знаках, знаках обслуживания и мест происхождения товара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ка создания логотип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14"/>
          <p:cNvPicPr/>
          <p:nvPr/>
        </p:nvPicPr>
        <p:blipFill>
          <a:blip r:embed="rId1"/>
          <a:stretch/>
        </p:blipFill>
        <p:spPr>
          <a:xfrm>
            <a:off x="228600" y="2666880"/>
            <a:ext cx="8763120" cy="3505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аг 1. Поиск идеи для вашего лого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нлайн-галереи логоти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мотреть логоти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их компаний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го сектора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не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росков буду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о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5"/>
          <p:cNvPicPr/>
          <p:nvPr/>
        </p:nvPicPr>
        <p:blipFill>
          <a:blip r:embed="rId1"/>
          <a:stretch/>
        </p:blipFill>
        <p:spPr>
          <a:xfrm>
            <a:off x="6477120" y="2133720"/>
            <a:ext cx="2438280" cy="15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16"/>
          <p:cNvPicPr/>
          <p:nvPr/>
        </p:nvPicPr>
        <p:blipFill>
          <a:blip r:embed="rId2"/>
          <a:stretch/>
        </p:blipFill>
        <p:spPr>
          <a:xfrm>
            <a:off x="5105520" y="3809880"/>
            <a:ext cx="3886200" cy="276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2. Подумать о целевой ауди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ет четко представлять, кто ваши клиенты, что им нравится, какие качества вашей компании они цен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схождение терм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оти́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от др.- греч. λόγος - слово + τύπος - отпечаток) - графический знак, эмблема или символ, используемый территориальными образованиями, коммерческими предприятиями, организациями и частными лицами для повышения узнаваемости и распознаваемости в обществе. Логотип представляет собой название сущности, которую он идентифицирует, в виде стилизованных букв и/или идеограммы. Логотипы широко применяются в качестве товарных зна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2. Подумать о целевой ауди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нализ применения лого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ir logo"/>
          <p:cNvPicPr/>
          <p:nvPr/>
        </p:nvPicPr>
        <p:blipFill>
          <a:blip r:embed="rId1"/>
          <a:stretch/>
        </p:blipFill>
        <p:spPr>
          <a:xfrm>
            <a:off x="533520" y="3657600"/>
            <a:ext cx="7848360" cy="248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Логотип должен быть прост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152280" y="4648320"/>
            <a:ext cx="4077000" cy="2038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648320" y="4572000"/>
            <a:ext cx="4286160" cy="2143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Логотип должен быть привлекатель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228600" y="4267080"/>
            <a:ext cx="42292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724280" y="4267080"/>
            <a:ext cx="4229280" cy="211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ита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228600" y="4267080"/>
            <a:ext cx="4305240" cy="215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724280" y="4276800"/>
            <a:ext cx="4267440" cy="2133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Запомина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304920" y="4191120"/>
            <a:ext cx="4133880" cy="2066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724280" y="4238640"/>
            <a:ext cx="4038840" cy="2019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Универс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304920" y="4343400"/>
            <a:ext cx="4209840" cy="21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724280" y="4324320"/>
            <a:ext cx="4267440" cy="2133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ригин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228600" y="4267080"/>
            <a:ext cx="4152960" cy="2076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800600" y="4267080"/>
            <a:ext cx="4191120" cy="2095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152280" y="4343400"/>
            <a:ext cx="4381560" cy="219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648320" y="4343400"/>
            <a:ext cx="4362480" cy="2181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Кре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152280" y="4343400"/>
            <a:ext cx="4267440" cy="2133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648320" y="4343400"/>
            <a:ext cx="428616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4. Нарисовать несколько эскизов лого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7"/>
          <p:cNvPicPr/>
          <p:nvPr/>
        </p:nvPicPr>
        <p:blipFill>
          <a:blip r:embed="rId1"/>
          <a:stretch/>
        </p:blipFill>
        <p:spPr>
          <a:xfrm>
            <a:off x="762120" y="2819520"/>
            <a:ext cx="7315200" cy="3693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ктограммы, как наиболее ранние виды логотип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ие пиктограммы и египетские иероглиф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"/>
          <p:cNvPicPr/>
          <p:nvPr/>
        </p:nvPicPr>
        <p:blipFill>
          <a:blip r:embed="rId1"/>
          <a:stretch/>
        </p:blipFill>
        <p:spPr>
          <a:xfrm>
            <a:off x="990720" y="2819520"/>
            <a:ext cx="7391160" cy="330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5. Выбрать форму лого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18"/>
          <p:cNvPicPr/>
          <p:nvPr/>
        </p:nvPicPr>
        <p:blipFill>
          <a:blip r:embed="rId1"/>
          <a:stretch/>
        </p:blipFill>
        <p:spPr>
          <a:xfrm>
            <a:off x="1752480" y="2209680"/>
            <a:ext cx="5562720" cy="452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аг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оготип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ерживай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х осно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в, и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4-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9"/>
          <p:cNvPicPr/>
          <p:nvPr/>
        </p:nvPicPr>
        <p:blipFill>
          <a:blip r:embed="rId1"/>
          <a:stretch/>
        </p:blipFill>
        <p:spPr>
          <a:xfrm>
            <a:off x="4267080" y="1447920"/>
            <a:ext cx="4707000" cy="509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аг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готип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давай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ить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в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этого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тен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19"/>
          <p:cNvPicPr/>
          <p:nvPr/>
        </p:nvPicPr>
        <p:blipFill>
          <a:blip r:embed="rId1"/>
          <a:stretch/>
        </p:blipFill>
        <p:spPr>
          <a:xfrm>
            <a:off x="4495680" y="1447920"/>
            <a:ext cx="4299120" cy="4948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аг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готип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ан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глаза мог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лабл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19"/>
          <p:cNvPicPr/>
          <p:nvPr/>
        </p:nvPicPr>
        <p:blipFill>
          <a:blip r:embed="rId1"/>
          <a:stretch/>
        </p:blipFill>
        <p:spPr>
          <a:xfrm>
            <a:off x="4267080" y="1371600"/>
            <a:ext cx="4440240" cy="538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7. Выбор шрифта для лого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20"/>
          <p:cNvPicPr/>
          <p:nvPr/>
        </p:nvPicPr>
        <p:blipFill>
          <a:blip r:embed="rId1"/>
          <a:stretch/>
        </p:blipFill>
        <p:spPr>
          <a:xfrm>
            <a:off x="2286000" y="2895480"/>
            <a:ext cx="5105520" cy="3591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веты по выбору шриф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щите оригинальные шриф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йте читабельный шриф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 индивидуальность шриф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рифт должен сочетаться с иконками и другими элементами лого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езные сайты для поиска шриф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Fonts.com, Fonts-online.ru,Webfont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тегории шриф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Шрифты с засечкам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Шрифты без засече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Рукописн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ашинописн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Деко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Шрифты с засечками (Serif) имеют небольшие черточки на концах каждого элемента буквы и переход от толстой линии к более тонкой. Шрифты с засечками помогают держать внимание читателя на строке. Они наиболее четкие и читаб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http://www.logowiks.com/wp-content/uploads/2015/12/serifs.png"/>
          <p:cNvPicPr/>
          <p:nvPr/>
        </p:nvPicPr>
        <p:blipFill>
          <a:blip r:embed="rId1"/>
          <a:stretch/>
        </p:blipFill>
        <p:spPr>
          <a:xfrm>
            <a:off x="2895480" y="4343400"/>
            <a:ext cx="5639040" cy="219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google-logo-serif"/>
          <p:cNvPicPr/>
          <p:nvPr/>
        </p:nvPicPr>
        <p:blipFill>
          <a:blip r:embed="rId2"/>
          <a:stretch/>
        </p:blipFill>
        <p:spPr>
          <a:xfrm>
            <a:off x="457200" y="4876920"/>
            <a:ext cx="1774800" cy="1028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Шрифты без засечек не имеют засечек и зачастую бывают правильной геометрической формы с ровными линиями и прямыми уг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07"/>
          <p:cNvPicPr/>
          <p:nvPr/>
        </p:nvPicPr>
        <p:blipFill>
          <a:blip r:embed="rId1"/>
          <a:stretch/>
        </p:blipFill>
        <p:spPr>
          <a:xfrm>
            <a:off x="3581280" y="3733920"/>
            <a:ext cx="4896000" cy="2936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LinkedIn_Logo"/>
          <p:cNvPicPr/>
          <p:nvPr/>
        </p:nvPicPr>
        <p:blipFill>
          <a:blip r:embed="rId2"/>
          <a:stretch/>
        </p:blipFill>
        <p:spPr>
          <a:xfrm>
            <a:off x="533520" y="4343400"/>
            <a:ext cx="2381040" cy="1295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Рукописные шрифты напоминают текст, написанный вручную ручкой, кисточкой и т.п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лохо читабельны, поэтому их используют только как заглавные букв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&amp;Rcy;&amp;ucy;&amp;kcy;&amp;ocy;&amp;pcy;&amp;icy;&amp;scy;&amp;ncy;&amp;ycy;&amp;iecy; &amp;shcy;&amp;rcy;&amp;icy;&amp;fcy;&amp;tcy;&amp;ycy; "/>
          <p:cNvPicPr/>
          <p:nvPr/>
        </p:nvPicPr>
        <p:blipFill>
          <a:blip r:embed="rId1"/>
          <a:stretch/>
        </p:blipFill>
        <p:spPr>
          <a:xfrm>
            <a:off x="2438280" y="4038480"/>
            <a:ext cx="6705720" cy="2067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Optimized-cadillac-logo"/>
          <p:cNvPicPr/>
          <p:nvPr/>
        </p:nvPicPr>
        <p:blipFill>
          <a:blip r:embed="rId2"/>
          <a:stretch/>
        </p:blipFill>
        <p:spPr>
          <a:xfrm>
            <a:off x="152280" y="5943600"/>
            <a:ext cx="2390760" cy="714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зайн логотипа в период промышленной револю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ся, что одним из пер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еральдических товар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в, было изображе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имени Нипп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ющей фон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и Gramoph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228600" y="4876920"/>
            <a:ext cx="7620120" cy="18777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/>
          <p:cNvSpPr/>
          <p:nvPr/>
        </p:nvSpPr>
        <p:spPr>
          <a:xfrm>
            <a:off x="15552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5552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2"/>
          <p:cNvPicPr/>
          <p:nvPr/>
        </p:nvPicPr>
        <p:blipFill>
          <a:blip r:embed="rId2"/>
          <a:stretch/>
        </p:blipFill>
        <p:spPr>
          <a:xfrm>
            <a:off x="5562720" y="1447920"/>
            <a:ext cx="3414600" cy="33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ашинописные шрифты имитируют текст, набранный на печатной машинке. Они неплохо сочетаются со шрифтами других групп, в отличие от декоративных шриф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http://www.logowiks.com/wp-content/uploads/2015/11/twenty-fonts_16.gif"/>
          <p:cNvPicPr/>
          <p:nvPr/>
        </p:nvPicPr>
        <p:blipFill>
          <a:blip r:embed="rId1"/>
          <a:stretch/>
        </p:blipFill>
        <p:spPr>
          <a:xfrm>
            <a:off x="1752480" y="4114800"/>
            <a:ext cx="6172200" cy="246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Декоративные. К этим шрифтам можно отнести все остальные шрифты. Их основная функция - привлечь внимание чит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&amp;Dcy;&amp;iecy;&amp;kcy;&amp;ocy;&amp;rcy;&amp;acy;&amp;tcy;&amp;icy;&amp;vcy;&amp;ncy;&amp;ycy;&amp;iecy; &amp;shcy;&amp;rcy;&amp;icy;&amp;fcy;&amp;tcy;&amp;ycy;"/>
          <p:cNvPicPr/>
          <p:nvPr/>
        </p:nvPicPr>
        <p:blipFill>
          <a:blip r:embed="rId1"/>
          <a:stretch/>
        </p:blipFill>
        <p:spPr>
          <a:xfrm>
            <a:off x="3352680" y="3657600"/>
            <a:ext cx="5334120" cy="2624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thumb_5023_logo_retailer1"/>
          <p:cNvPicPr/>
          <p:nvPr/>
        </p:nvPicPr>
        <p:blipFill>
          <a:blip r:embed="rId2"/>
          <a:stretch/>
        </p:blipFill>
        <p:spPr>
          <a:xfrm>
            <a:off x="304920" y="4267080"/>
            <a:ext cx="2381040" cy="1047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аг 8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здайте окончательный дизай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но создать логотип самостоятельно в графической програм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но создать логотип с помощью онлайн генератора логотип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но использ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лай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со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готип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21"/>
          <p:cNvPicPr/>
          <p:nvPr/>
        </p:nvPicPr>
        <p:blipFill>
          <a:blip r:embed="rId1"/>
          <a:stretch/>
        </p:blipFill>
        <p:spPr>
          <a:xfrm>
            <a:off x="3276720" y="3971880"/>
            <a:ext cx="5715000" cy="281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граммы для рис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Adobe Illustrator - векторная программа для рисования иллюстраций, схем и логоти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dobe Photoshop - самая популярная программа для редактирования фотографий и растровых изображений. Диапазон её использования - от полнофункционального редактирования больш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графий до с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ых цифровых кар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рисун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2"/>
          <p:cNvPicPr/>
          <p:nvPr/>
        </p:nvPicPr>
        <p:blipFill>
          <a:blip r:embed="rId1"/>
          <a:stretch/>
        </p:blipFill>
        <p:spPr>
          <a:xfrm>
            <a:off x="5448240" y="4267080"/>
            <a:ext cx="3695760" cy="2451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вильный формат сохранения файлов для логот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то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PDF, CDR, E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VG)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ст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PNG, JPE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24"/>
          <p:cNvPicPr/>
          <p:nvPr/>
        </p:nvPicPr>
        <p:blipFill>
          <a:blip r:embed="rId1"/>
          <a:stretch/>
        </p:blipFill>
        <p:spPr>
          <a:xfrm>
            <a:off x="3886200" y="2666880"/>
            <a:ext cx="4915080" cy="400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г 1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иск иде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вшие «Вэш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класс «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им потенц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школы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щийся логотип гимназ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 2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евая ауд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кольных мероприят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вобод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 3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оздания логот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иверс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б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а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запоминающийся, ?привлекательный, ?оригинальный,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витие иде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ческий - элементы логотипа из математических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вшие «Вэшки» - букв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класс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им потенциалом - знак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 логотипа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жный -  круг, 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лого Гармония"/>
          <p:cNvPicPr/>
          <p:nvPr/>
        </p:nvPicPr>
        <p:blipFill>
          <a:blip r:embed="rId1"/>
          <a:stretch/>
        </p:blipFill>
        <p:spPr>
          <a:xfrm>
            <a:off x="6248520" y="4343400"/>
            <a:ext cx="2493720" cy="2085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ческий, бывший «В», сейчас «М», большой потенци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→ М 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емится 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емится к бесконечности (бесконечным возможност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есконечных возмож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актуально сегод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использование брендов началось после Второй мировой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отипа с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менимой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зн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"/>
          <p:cNvPicPr/>
          <p:nvPr/>
        </p:nvPicPr>
        <p:blipFill>
          <a:blip r:embed="rId1"/>
          <a:stretch/>
        </p:blipFill>
        <p:spPr>
          <a:xfrm>
            <a:off x="4191120" y="2666880"/>
            <a:ext cx="4278240" cy="392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ие симв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 … в …», стрелка, обозначающая откуда и куд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ует отображение (функция) f. Запись f :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 означает, что отображение f переводит элементы множества В в элементы множества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емится» - в теории преде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∞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конеч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 расширенной числовой прямой, который больше любого чис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ие симв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состоит из зна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ал – анализ суммы для бесконечного числа бесконечно малых слагае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 надмножества – каждый элемент из М является каждым элементом из В, но при этом М не равен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состоит из перевернутого знака ∑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249437_html_m517f1351"/>
          <p:cNvPicPr/>
          <p:nvPr/>
        </p:nvPicPr>
        <p:blipFill>
          <a:blip r:embed="rId1"/>
          <a:stretch/>
        </p:blipFill>
        <p:spPr>
          <a:xfrm>
            <a:off x="762120" y="3657600"/>
            <a:ext cx="469800" cy="369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г 4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рисовать логоти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111"/>
          <p:cNvPicPr/>
          <p:nvPr/>
        </p:nvPicPr>
        <p:blipFill>
          <a:blip r:embed="rId1"/>
          <a:stretch/>
        </p:blipFill>
        <p:spPr>
          <a:xfrm>
            <a:off x="380880" y="2286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112"/>
          <p:cNvPicPr/>
          <p:nvPr/>
        </p:nvPicPr>
        <p:blipFill>
          <a:blip r:embed="rId2"/>
          <a:stretch/>
        </p:blipFill>
        <p:spPr>
          <a:xfrm>
            <a:off x="4800600" y="2286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г 4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рисовать лого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114"/>
          <p:cNvPicPr/>
          <p:nvPr/>
        </p:nvPicPr>
        <p:blipFill>
          <a:blip r:embed="rId1"/>
          <a:stretch/>
        </p:blipFill>
        <p:spPr>
          <a:xfrm>
            <a:off x="457200" y="2286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115"/>
          <p:cNvPicPr/>
          <p:nvPr/>
        </p:nvPicPr>
        <p:blipFill>
          <a:blip r:embed="rId2"/>
          <a:stretch/>
        </p:blipFill>
        <p:spPr>
          <a:xfrm>
            <a:off x="4876920" y="22096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г 5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 форму лого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вал: означает сообщество, единство, друж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г 6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 цвет лого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цветовому решению ориентиром был логотип школы (для белых футбол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черных футболок логотип должен быть монохромным, выбран белый (ассоциация – надпись мелом на дос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 7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бор шриф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Шрифт должен напоминать надпись на доске - рукопи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. 8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АН В ДАЛЬНЕЙШУЮ РАЗРАБОТКУ ДИЗАЙНЕР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нт 1                           Вариант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лого 10 М 1"/>
          <p:cNvPicPr/>
          <p:nvPr/>
        </p:nvPicPr>
        <p:blipFill>
          <a:blip r:embed="rId1"/>
          <a:stretch/>
        </p:blipFill>
        <p:spPr>
          <a:xfrm>
            <a:off x="533520" y="1752480"/>
            <a:ext cx="3203280" cy="4724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лого 10 М 3"/>
          <p:cNvPicPr/>
          <p:nvPr/>
        </p:nvPicPr>
        <p:blipFill>
          <a:blip r:embed="rId2"/>
          <a:stretch/>
        </p:blipFill>
        <p:spPr>
          <a:xfrm>
            <a:off x="5867280" y="1752480"/>
            <a:ext cx="2376720" cy="4724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rossStitch3"/>
              </a:rPr>
              <a:t>…………</a:t>
            </a:r>
            <a:r>
              <a:rPr b="0" lang="ru-RU" sz="4000" spc="-1" strike="noStrike">
                <a:solidFill>
                  <a:srgbClr val="000000"/>
                </a:solidFill>
                <a:latin typeface="CrossStitch3"/>
              </a:rPr>
              <a:t>Ну вот как-то так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лого Розины"/>
          <p:cNvPicPr/>
          <p:nvPr/>
        </p:nvPicPr>
        <p:blipFill>
          <a:blip r:embed="rId1"/>
          <a:stretch/>
        </p:blipFill>
        <p:spPr>
          <a:xfrm>
            <a:off x="304920" y="228600"/>
            <a:ext cx="11412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готип и ико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лого» - слово пришло к нам из Древней Греции и означало «слово» или «реч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конка» определяется как «рисунок или подобие» и также используется для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хорошо известные логотипы сочетают в себе линию/девиз в тэге и изображение с названием компании/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hupa Chups и Сальвадор Д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5"/>
          <p:cNvPicPr/>
          <p:nvPr/>
        </p:nvPicPr>
        <p:blipFill>
          <a:blip r:embed="rId1"/>
          <a:stretch/>
        </p:blipFill>
        <p:spPr>
          <a:xfrm>
            <a:off x="1295280" y="2286000"/>
            <a:ext cx="666756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эролин Дэвидсон и известная «галочка» 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6"/>
          <p:cNvPicPr/>
          <p:nvPr/>
        </p:nvPicPr>
        <p:blipFill>
          <a:blip r:embed="rId1"/>
          <a:stretch/>
        </p:blipFill>
        <p:spPr>
          <a:xfrm>
            <a:off x="1371600" y="2743200"/>
            <a:ext cx="6224760" cy="381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рэнк Робинсон  и Coca-Col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7"/>
          <p:cNvPicPr/>
          <p:nvPr/>
        </p:nvPicPr>
        <p:blipFill>
          <a:blip r:embed="rId1"/>
          <a:stretch/>
        </p:blipFill>
        <p:spPr>
          <a:xfrm>
            <a:off x="1143000" y="2362320"/>
            <a:ext cx="6781680" cy="400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23-10-12T16:04:12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