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png" ContentType="image/png"/>
  <Override PartName="/ppt/media/image57.jpeg" ContentType="image/jpeg"/>
  <Override PartName="/ppt/media/image55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25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8.jpeg" ContentType="image/jpeg"/>
  <Override PartName="/ppt/media/image39.jpeg" ContentType="image/jpeg"/>
  <Override PartName="/ppt/media/image47.png" ContentType="image/png"/>
  <Override PartName="/ppt/media/image35.jpeg" ContentType="image/jpeg"/>
  <Override PartName="/ppt/media/image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3.png" ContentType="image/png"/>
  <Override PartName="/ppt/media/image17.jpeg" ContentType="image/jpeg"/>
  <Override PartName="/ppt/media/image61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48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media/image56.jpeg" ContentType="image/jpeg"/>
  <Override PartName="/ppt/media/image53.png" ContentType="image/png"/>
  <Override PartName="/ppt/media/image5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B76-C050-4B3A-AFED-8B9D73A4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D81-3F91-45CA-A89D-3CEFFFB7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A37A-D61A-47B3-81C5-C56E0AFE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36F-83B3-4E3B-BF53-6FCE6BB8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3C9-0E64-4C48-8E50-DC8BB2A8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57A-2711-40ED-B207-C9B669821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707A-3FF1-44A9-A158-5C0A02C6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9015-62A1-4209-8DF3-6676131C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46A-6792-4C5A-B78E-BC9501D0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5F1F-7371-4121-BE54-A30A06FA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DF5-4526-49A4-A6D0-88E3A747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1341-4583-47DF-A4AF-80D32773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2BA5-1AB1-47F7-B31B-35209ED126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Логотип как графический зна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0"/>
          <p:cNvPicPr/>
          <p:nvPr/>
        </p:nvPicPr>
        <p:blipFill>
          <a:blip r:embed="rId1"/>
          <a:stretch/>
        </p:blipFill>
        <p:spPr>
          <a:xfrm>
            <a:off x="5867280" y="3505320"/>
            <a:ext cx="2743200" cy="237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0"/>
          <p:cNvPicPr/>
          <p:nvPr/>
        </p:nvPicPr>
        <p:blipFill>
          <a:blip r:embed="rId2"/>
          <a:stretch/>
        </p:blipFill>
        <p:spPr>
          <a:xfrm>
            <a:off x="838080" y="3581280"/>
            <a:ext cx="4286520" cy="2266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илтон Глейзер  и всемирно известная надпись «I Love NY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8"/>
          <p:cNvPicPr/>
          <p:nvPr/>
        </p:nvPicPr>
        <p:blipFill>
          <a:blip r:embed="rId1"/>
          <a:stretch/>
        </p:blipFill>
        <p:spPr>
          <a:xfrm>
            <a:off x="2666880" y="2819520"/>
            <a:ext cx="4172040" cy="3875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оготип NeXT был создан буквально за 2 неде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9"/>
          <p:cNvPicPr/>
          <p:nvPr/>
        </p:nvPicPr>
        <p:blipFill>
          <a:blip r:embed="rId1"/>
          <a:stretch/>
        </p:blipFill>
        <p:spPr>
          <a:xfrm>
            <a:off x="2057400" y="2666880"/>
            <a:ext cx="5600880" cy="3921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Роб Янов  и радужное яблоко Ap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0"/>
          <p:cNvPicPr/>
          <p:nvPr/>
        </p:nvPicPr>
        <p:blipFill>
          <a:blip r:embed="rId1"/>
          <a:stretch/>
        </p:blipFill>
        <p:spPr>
          <a:xfrm>
            <a:off x="152280" y="2514600"/>
            <a:ext cx="8839440" cy="3913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амые популярные три полоски в мир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1"/>
          <p:cNvPicPr/>
          <p:nvPr/>
        </p:nvPicPr>
        <p:blipFill>
          <a:blip r:embed="rId1"/>
          <a:stretch/>
        </p:blipFill>
        <p:spPr>
          <a:xfrm>
            <a:off x="609480" y="2438280"/>
            <a:ext cx="8077320" cy="3946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Трехлучевая звезда Мерседе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12"/>
          <p:cNvPicPr/>
          <p:nvPr/>
        </p:nvPicPr>
        <p:blipFill>
          <a:blip r:embed="rId1"/>
          <a:stretch/>
        </p:blipFill>
        <p:spPr>
          <a:xfrm>
            <a:off x="1981080" y="2209680"/>
            <a:ext cx="5772240" cy="4329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Дуров и «Вконтакте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13"/>
          <p:cNvPicPr/>
          <p:nvPr/>
        </p:nvPicPr>
        <p:blipFill>
          <a:blip r:embed="rId1"/>
          <a:stretch/>
        </p:blipFill>
        <p:spPr>
          <a:xfrm>
            <a:off x="1981080" y="2514600"/>
            <a:ext cx="5410440" cy="3567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зиции законодатель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собственности в РФ предоставляется на основании его государственной регистрации. Право на интеллектуальную собственность охраняется законом (согласно статье 2 закона «О товарных знаках, знаках обслуживания и мест происхождения товара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тистика создания логотип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4"/>
          <p:cNvPicPr/>
          <p:nvPr/>
        </p:nvPicPr>
        <p:blipFill>
          <a:blip r:embed="rId1"/>
          <a:stretch/>
        </p:blipFill>
        <p:spPr>
          <a:xfrm>
            <a:off x="228600" y="2666880"/>
            <a:ext cx="8763120" cy="3505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аг 1. Поиск идеи для вашего 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нлайн-галереи логотип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мотреть логоти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гих компаний и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ого сектора эконом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делать несколь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бросков будущ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15"/>
          <p:cNvPicPr/>
          <p:nvPr/>
        </p:nvPicPr>
        <p:blipFill>
          <a:blip r:embed="rId1"/>
          <a:stretch/>
        </p:blipFill>
        <p:spPr>
          <a:xfrm>
            <a:off x="6477120" y="2133720"/>
            <a:ext cx="2438280" cy="15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16"/>
          <p:cNvPicPr/>
          <p:nvPr/>
        </p:nvPicPr>
        <p:blipFill>
          <a:blip r:embed="rId2"/>
          <a:stretch/>
        </p:blipFill>
        <p:spPr>
          <a:xfrm>
            <a:off x="5105520" y="3809880"/>
            <a:ext cx="3886200" cy="2760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2. Подумать о целевой ауд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едует четко представлять, кто ваши клиенты, что им нравится, какие качества вашей компании они ценя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исхождение терм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Логоти́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(от др.- греч. λόγος - слово + τύπος - отпечаток) - графический знак, эмблема или символ, используемый территориальными образованиями, коммерческими предприятиями, организациями и частными лицами для повышения узнаваемости и распознаваемости в обществе. Логотип представляет собой название сущности, которую он идентифицирует, в виде стилизованных букв и/или идеограммы. Логотипы широко применяются в качестве товарных знак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2. Подумать о целевой ауди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анализ применения лог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air logo"/>
          <p:cNvPicPr/>
          <p:nvPr/>
        </p:nvPicPr>
        <p:blipFill>
          <a:blip r:embed="rId1"/>
          <a:stretch/>
        </p:blipFill>
        <p:spPr>
          <a:xfrm>
            <a:off x="533520" y="3657600"/>
            <a:ext cx="7848360" cy="2486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Логотип должен быть прост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152280" y="4648320"/>
            <a:ext cx="4077000" cy="2038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648320" y="4572000"/>
            <a:ext cx="4286160" cy="2143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Логотип должен быть привлекатель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228600" y="4267080"/>
            <a:ext cx="4229280" cy="21146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724280" y="4267080"/>
            <a:ext cx="4229280" cy="2114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ита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228600" y="4267080"/>
            <a:ext cx="4305240" cy="215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724280" y="4276800"/>
            <a:ext cx="4267440" cy="2133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Запоминаем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304920" y="4191120"/>
            <a:ext cx="4133880" cy="2066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724280" y="4238640"/>
            <a:ext cx="4038840" cy="2019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Универс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304920" y="4343400"/>
            <a:ext cx="4209840" cy="210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724280" y="4324320"/>
            <a:ext cx="4267440" cy="2133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Оригин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228600" y="4267080"/>
            <a:ext cx="4152960" cy="2076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800600" y="4267080"/>
            <a:ext cx="4191120" cy="2095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152280" y="4343400"/>
            <a:ext cx="4381560" cy="2190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648320" y="4343400"/>
            <a:ext cx="4362480" cy="2181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3. Придерживаться принципов и правил создания логотип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 Креа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1"/>
          <a:stretch/>
        </p:blipFill>
        <p:spPr>
          <a:xfrm>
            <a:off x="152280" y="4343400"/>
            <a:ext cx="4267440" cy="2133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10 &amp;ocy;&amp;scy;&amp;ncy;&amp;ocy;&amp;vcy;&amp;ncy;&amp;ycy;&amp;khcy; &amp;pcy;&amp;rcy;&amp;icy;&amp;ncy;&amp;tscy;&amp;icy;&amp;pcy;&amp;ocy;&amp;vcy;, &amp;ncy;&amp;iecy;&amp;ocy;&amp;bcy;&amp;khcy;&amp;ocy;&amp;dcy;&amp;icy;&amp;mcy;&amp;ycy;&amp;khcy; &amp;dcy;&amp;lcy;&amp;yacy; &amp;scy;&amp;ocy;&amp;zcy;&amp;dcy;&amp;acy;&amp;ncy;&amp;icy;&amp;yacy; &amp;ecy;&amp;fcy;&amp;fcy;&amp;iecy;&amp;kcy;&amp;tcy;&amp;ncy;&amp;ocy;&amp;gcy;&amp;ocy; &amp;lcy;&amp;ocy;&amp;gcy;&amp;ocy;&amp;tcy;&amp;icy;&amp;pcy;&amp;acy;"/>
          <p:cNvPicPr/>
          <p:nvPr/>
        </p:nvPicPr>
        <p:blipFill>
          <a:blip r:embed="rId2"/>
          <a:stretch/>
        </p:blipFill>
        <p:spPr>
          <a:xfrm>
            <a:off x="4648320" y="4343400"/>
            <a:ext cx="4286160" cy="2143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4. Нарисовать несколько эскизов лог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17"/>
          <p:cNvPicPr/>
          <p:nvPr/>
        </p:nvPicPr>
        <p:blipFill>
          <a:blip r:embed="rId1"/>
          <a:stretch/>
        </p:blipFill>
        <p:spPr>
          <a:xfrm>
            <a:off x="762120" y="2819520"/>
            <a:ext cx="7315200" cy="3693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иктограммы, как наиболее ранние виды логотип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ревние пиктограммы и египетские иероглиф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1"/>
          <p:cNvPicPr/>
          <p:nvPr/>
        </p:nvPicPr>
        <p:blipFill>
          <a:blip r:embed="rId1"/>
          <a:stretch/>
        </p:blipFill>
        <p:spPr>
          <a:xfrm>
            <a:off x="990720" y="2819520"/>
            <a:ext cx="7391160" cy="3301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5. Выбрать форму лог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18"/>
          <p:cNvPicPr/>
          <p:nvPr/>
        </p:nvPicPr>
        <p:blipFill>
          <a:blip r:embed="rId1"/>
          <a:stretch/>
        </p:blipFill>
        <p:spPr>
          <a:xfrm>
            <a:off x="1752480" y="2209680"/>
            <a:ext cx="5562720" cy="4524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аг 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логотипа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держивайте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-х основ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ветов, и 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ее 4-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19"/>
          <p:cNvPicPr/>
          <p:nvPr/>
        </p:nvPicPr>
        <p:blipFill>
          <a:blip r:embed="rId1"/>
          <a:stretch/>
        </p:blipFill>
        <p:spPr>
          <a:xfrm>
            <a:off x="4267080" y="1447920"/>
            <a:ext cx="4707000" cy="5091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аг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готип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поддавайте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ш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бавить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ов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й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место этого бо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тен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19"/>
          <p:cNvPicPr/>
          <p:nvPr/>
        </p:nvPicPr>
        <p:blipFill>
          <a:blip r:embed="rId1"/>
          <a:stretch/>
        </p:blipFill>
        <p:spPr>
          <a:xfrm>
            <a:off x="4495680" y="1447920"/>
            <a:ext cx="4299120" cy="49482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Шаг 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ц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оготипа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ато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л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ранст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глаза мог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слабленны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5" descr="19"/>
          <p:cNvPicPr/>
          <p:nvPr/>
        </p:nvPicPr>
        <p:blipFill>
          <a:blip r:embed="rId1"/>
          <a:stretch/>
        </p:blipFill>
        <p:spPr>
          <a:xfrm>
            <a:off x="4267080" y="1371600"/>
            <a:ext cx="4440240" cy="53816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Шаг 7. Выбор шрифта для логот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20"/>
          <p:cNvPicPr/>
          <p:nvPr/>
        </p:nvPicPr>
        <p:blipFill>
          <a:blip r:embed="rId1"/>
          <a:stretch/>
        </p:blipFill>
        <p:spPr>
          <a:xfrm>
            <a:off x="2286000" y="2895480"/>
            <a:ext cx="5105520" cy="3591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веты по выбору шриф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щите оригинальные шриф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ирайте читабельный шриф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йте индивидуальность шриф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рифт должен сочетаться с иконками и другими элементами 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лезные сайты для поиска шриф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Fonts.com, Fonts-online.ru,Webfont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атегории шриф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Шрифты с засечкам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Шрифты без засечек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Рукопис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ашинописные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Декоратив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Шрифты с засечками (Serif) имеют небольшие черточки на концах каждого элемента буквы и переход от толстой линии к более тонкой. Шрифты с засечками помогают держать внимание читателя на строке. Они наиболее четкие и читабе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5" descr="http://www.logowiks.com/wp-content/uploads/2015/12/serifs.png"/>
          <p:cNvPicPr/>
          <p:nvPr/>
        </p:nvPicPr>
        <p:blipFill>
          <a:blip r:embed="rId1"/>
          <a:stretch/>
        </p:blipFill>
        <p:spPr>
          <a:xfrm>
            <a:off x="2895480" y="4343400"/>
            <a:ext cx="5639040" cy="2195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google-logo-serif"/>
          <p:cNvPicPr/>
          <p:nvPr/>
        </p:nvPicPr>
        <p:blipFill>
          <a:blip r:embed="rId2"/>
          <a:stretch/>
        </p:blipFill>
        <p:spPr>
          <a:xfrm>
            <a:off x="457200" y="4876920"/>
            <a:ext cx="1774800" cy="1028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Шрифты без засечек не имеют засечек и зачастую бывают правильной геометрической формы с ровными линиями и прямыми уг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07"/>
          <p:cNvPicPr/>
          <p:nvPr/>
        </p:nvPicPr>
        <p:blipFill>
          <a:blip r:embed="rId1"/>
          <a:stretch/>
        </p:blipFill>
        <p:spPr>
          <a:xfrm>
            <a:off x="3581280" y="3733920"/>
            <a:ext cx="4896000" cy="2936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LinkedIn_Logo"/>
          <p:cNvPicPr/>
          <p:nvPr/>
        </p:nvPicPr>
        <p:blipFill>
          <a:blip r:embed="rId2"/>
          <a:stretch/>
        </p:blipFill>
        <p:spPr>
          <a:xfrm>
            <a:off x="533520" y="4343400"/>
            <a:ext cx="2381040" cy="1295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Рукописные шрифты напоминают текст, написанный вручную ручкой, кисточкой и т.п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и плохо читабельны, поэтому их используют только как заглавные букв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&amp;Rcy;&amp;ucy;&amp;kcy;&amp;ocy;&amp;pcy;&amp;icy;&amp;scy;&amp;ncy;&amp;ycy;&amp;iecy; &amp;shcy;&amp;rcy;&amp;icy;&amp;fcy;&amp;tcy;&amp;ycy; "/>
          <p:cNvPicPr/>
          <p:nvPr/>
        </p:nvPicPr>
        <p:blipFill>
          <a:blip r:embed="rId1"/>
          <a:stretch/>
        </p:blipFill>
        <p:spPr>
          <a:xfrm>
            <a:off x="2438280" y="4038480"/>
            <a:ext cx="6705720" cy="2067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Optimized-cadillac-logo"/>
          <p:cNvPicPr/>
          <p:nvPr/>
        </p:nvPicPr>
        <p:blipFill>
          <a:blip r:embed="rId2"/>
          <a:stretch/>
        </p:blipFill>
        <p:spPr>
          <a:xfrm>
            <a:off x="152280" y="5943600"/>
            <a:ext cx="2390760" cy="714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зайн логотипа в период промышленной револю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, что одним из перв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геральдических товар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ов, было изображение соба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имени Нипп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ушающей фоногра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и Gramoph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228600" y="4876920"/>
            <a:ext cx="7620120" cy="18777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/>
          <p:cNvSpPr/>
          <p:nvPr/>
        </p:nvSpPr>
        <p:spPr>
          <a:xfrm>
            <a:off x="15552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155520" y="46080"/>
            <a:ext cx="19051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2"/>
          <p:cNvPicPr/>
          <p:nvPr/>
        </p:nvPicPr>
        <p:blipFill>
          <a:blip r:embed="rId2"/>
          <a:stretch/>
        </p:blipFill>
        <p:spPr>
          <a:xfrm>
            <a:off x="5562720" y="1447920"/>
            <a:ext cx="3414600" cy="3300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Машинописные шрифты имитируют текст, набранный на печатной машинке. Они неплохо сочетаются со шрифтами других групп, в отличие от декоративных шриф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http://www.logowiks.com/wp-content/uploads/2015/11/twenty-fonts_16.gif"/>
          <p:cNvPicPr/>
          <p:nvPr/>
        </p:nvPicPr>
        <p:blipFill>
          <a:blip r:embed="rId1"/>
          <a:stretch/>
        </p:blipFill>
        <p:spPr>
          <a:xfrm>
            <a:off x="1752480" y="4114800"/>
            <a:ext cx="6172200" cy="246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Декоративные. К этим шрифтам можно отнести все остальные шрифты. Их основная функция - привлечь внимание чита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&amp;Dcy;&amp;iecy;&amp;kcy;&amp;ocy;&amp;rcy;&amp;acy;&amp;tcy;&amp;icy;&amp;vcy;&amp;ncy;&amp;ycy;&amp;iecy; &amp;shcy;&amp;rcy;&amp;icy;&amp;fcy;&amp;tcy;&amp;ycy;"/>
          <p:cNvPicPr/>
          <p:nvPr/>
        </p:nvPicPr>
        <p:blipFill>
          <a:blip r:embed="rId1"/>
          <a:stretch/>
        </p:blipFill>
        <p:spPr>
          <a:xfrm>
            <a:off x="3352680" y="3657600"/>
            <a:ext cx="5334120" cy="2624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thumb_5023_logo_retailer1"/>
          <p:cNvPicPr/>
          <p:nvPr/>
        </p:nvPicPr>
        <p:blipFill>
          <a:blip r:embed="rId2"/>
          <a:stretch/>
        </p:blipFill>
        <p:spPr>
          <a:xfrm>
            <a:off x="304920" y="4267080"/>
            <a:ext cx="2381040" cy="10479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Шаг 8.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оздайте окончательный дизайн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создать логотип самостоятельно в графической програм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создать логотип с помощью онлайн генератора логотип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ожно использов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лайн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со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логотип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21"/>
          <p:cNvPicPr/>
          <p:nvPr/>
        </p:nvPicPr>
        <p:blipFill>
          <a:blip r:embed="rId1"/>
          <a:stretch/>
        </p:blipFill>
        <p:spPr>
          <a:xfrm>
            <a:off x="3276720" y="3971880"/>
            <a:ext cx="5715000" cy="2811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рограммы для рисова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Adobe Illustrator - векторная программа для рисования иллюстраций, схем и логотип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Adobe Photoshop - самая популярная программа для редактирования фотографий и растровых изображений. Диапазон её использования - от полнофункционального редактирования больш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тографий до с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жных цифровых карт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рисун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22"/>
          <p:cNvPicPr/>
          <p:nvPr/>
        </p:nvPicPr>
        <p:blipFill>
          <a:blip r:embed="rId1"/>
          <a:stretch/>
        </p:blipFill>
        <p:spPr>
          <a:xfrm>
            <a:off x="5448240" y="4267080"/>
            <a:ext cx="3695760" cy="2451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создать логотип самостоятельно от идеи до вопл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авильный формат сохранения файлов для лого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то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PDF, CDR, EP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SVG)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растров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PNG, JPEG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24"/>
          <p:cNvPicPr/>
          <p:nvPr/>
        </p:nvPicPr>
        <p:blipFill>
          <a:blip r:embed="rId1"/>
          <a:stretch/>
        </p:blipFill>
        <p:spPr>
          <a:xfrm>
            <a:off x="3886200" y="2666880"/>
            <a:ext cx="4915080" cy="4005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1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иск иде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шие «Вэ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класс «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им потенц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звание школы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щийся логотип гимназ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 2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Целевая ауди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школьных мероприяти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лас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вобод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 3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оздания логоти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иверса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таб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еатив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?запоминающийся, ?привлекательный, ?оригинальный,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звитие иде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ий - элементы логотипа из математических симв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вшие «Вэшки» - букв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йчас класс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им потенциалом - знак бескон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«Гармо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 логотипа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ружный -  круг, 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лого Гармония"/>
          <p:cNvPicPr/>
          <p:nvPr/>
        </p:nvPicPr>
        <p:blipFill>
          <a:blip r:embed="rId1"/>
          <a:stretch/>
        </p:blipFill>
        <p:spPr>
          <a:xfrm>
            <a:off x="6248520" y="4343400"/>
            <a:ext cx="2493720" cy="20858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тематический, бывший «В», сейчас «М», большой потенциа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→ М →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емится к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тремится к бесконечности (бесконечным возможностям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есконечных возможн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актуально сегод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е использование брендов началось после Второй мировой вой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оготипа ст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заменимой д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зне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3"/>
          <p:cNvPicPr/>
          <p:nvPr/>
        </p:nvPicPr>
        <p:blipFill>
          <a:blip r:embed="rId1"/>
          <a:stretch/>
        </p:blipFill>
        <p:spPr>
          <a:xfrm>
            <a:off x="4191120" y="2666880"/>
            <a:ext cx="4278240" cy="3926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е 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з … в …», стрелка, обозначающая откуда и куд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йствует отображение (функция) f. Запись f :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 означает, что отображение f переводит элементы множества В в элементы множества 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такж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Стремится» - в теории преде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∞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сконечность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емент расширенной числовой прямой, который больше любого чис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атематические символ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состоит из зна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∫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ал – анализ суммы для бесконечного числа бесконечно малых слагаем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нак надмножества – каждый элемент из М является каждым элементом из В, но при этом М не равен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ква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состоит из перевернутого знака ∑ су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1" descr="249437_html_m517f1351"/>
          <p:cNvPicPr/>
          <p:nvPr/>
        </p:nvPicPr>
        <p:blipFill>
          <a:blip r:embed="rId1"/>
          <a:stretch/>
        </p:blipFill>
        <p:spPr>
          <a:xfrm>
            <a:off x="762120" y="3657600"/>
            <a:ext cx="469800" cy="3697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2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4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рисовать логотип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111"/>
          <p:cNvPicPr/>
          <p:nvPr/>
        </p:nvPicPr>
        <p:blipFill>
          <a:blip r:embed="rId1"/>
          <a:stretch/>
        </p:blipFill>
        <p:spPr>
          <a:xfrm>
            <a:off x="380880" y="2286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112"/>
          <p:cNvPicPr/>
          <p:nvPr/>
        </p:nvPicPr>
        <p:blipFill>
          <a:blip r:embed="rId2"/>
          <a:stretch/>
        </p:blipFill>
        <p:spPr>
          <a:xfrm>
            <a:off x="4800600" y="228600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4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рисовать логоти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114"/>
          <p:cNvPicPr/>
          <p:nvPr/>
        </p:nvPicPr>
        <p:blipFill>
          <a:blip r:embed="rId1"/>
          <a:stretch/>
        </p:blipFill>
        <p:spPr>
          <a:xfrm>
            <a:off x="457200" y="228600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115"/>
          <p:cNvPicPr/>
          <p:nvPr/>
        </p:nvPicPr>
        <p:blipFill>
          <a:blip r:embed="rId2"/>
          <a:stretch/>
        </p:blipFill>
        <p:spPr>
          <a:xfrm>
            <a:off x="4876920" y="22096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5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 форму 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овал: означает сообщество, единство, друж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Шаг 6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ить цвет лого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цветовому решению ориентиром был логотип школы (для белых футболо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выборе черных футболок логотип должен быть монохромным, выбран белый (ассоциация – надпись мелом на дос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 7.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ыбор шриф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Шрифт должен напоминать надпись на доске - рукопис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аг. 8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АН В ДАЛЬНЕЙШУЮ РАЗРАБОТКУ ДИЗАЙНЕР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«М»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отип??? Логотип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риант 1                           Вариант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лого 10 М 1"/>
          <p:cNvPicPr/>
          <p:nvPr/>
        </p:nvPicPr>
        <p:blipFill>
          <a:blip r:embed="rId1"/>
          <a:stretch/>
        </p:blipFill>
        <p:spPr>
          <a:xfrm>
            <a:off x="533520" y="1752480"/>
            <a:ext cx="3203280" cy="4724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лого 10 М 3"/>
          <p:cNvPicPr/>
          <p:nvPr/>
        </p:nvPicPr>
        <p:blipFill>
          <a:blip r:embed="rId2"/>
          <a:stretch/>
        </p:blipFill>
        <p:spPr>
          <a:xfrm>
            <a:off x="5867280" y="1752480"/>
            <a:ext cx="2376720" cy="4724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6" descr="лого Розины"/>
          <p:cNvPicPr/>
          <p:nvPr/>
        </p:nvPicPr>
        <p:blipFill>
          <a:blip r:embed="rId3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rossStitch3"/>
              </a:rPr>
              <a:t>…………</a:t>
            </a:r>
            <a:r>
              <a:rPr b="0" lang="ru-RU" sz="4000" spc="-1" strike="noStrike">
                <a:solidFill>
                  <a:srgbClr val="000000"/>
                </a:solidFill>
                <a:latin typeface="CrossStitch3"/>
              </a:rPr>
              <a:t>Ну вот как-то так……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4" descr="лого Розины"/>
          <p:cNvPicPr/>
          <p:nvPr/>
        </p:nvPicPr>
        <p:blipFill>
          <a:blip r:embed="rId1"/>
          <a:stretch/>
        </p:blipFill>
        <p:spPr>
          <a:xfrm>
            <a:off x="304920" y="228600"/>
            <a:ext cx="114120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готип и ико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ого» - слово пришло к нам из Древней Греции и означало «слово» или «реч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конка» определяется как «рисунок или подобие» и также используется для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хорошо известные логотипы сочетают в себе линию/девиз в тэге и изображение с названием компании/продук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лого Розины"/>
          <p:cNvPicPr/>
          <p:nvPr/>
        </p:nvPicPr>
        <p:blipFill>
          <a:blip r:embed="rId1"/>
          <a:stretch/>
        </p:blipFill>
        <p:spPr>
          <a:xfrm>
            <a:off x="152280" y="152280"/>
            <a:ext cx="5018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hupa Chups и Сальвадор Д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5"/>
          <p:cNvPicPr/>
          <p:nvPr/>
        </p:nvPicPr>
        <p:blipFill>
          <a:blip r:embed="rId1"/>
          <a:stretch/>
        </p:blipFill>
        <p:spPr>
          <a:xfrm>
            <a:off x="1295280" y="2286000"/>
            <a:ext cx="6667560" cy="41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эролин Дэвидсон и известная «галочка» Ni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6"/>
          <p:cNvPicPr/>
          <p:nvPr/>
        </p:nvPicPr>
        <p:blipFill>
          <a:blip r:embed="rId1"/>
          <a:stretch/>
        </p:blipFill>
        <p:spPr>
          <a:xfrm>
            <a:off x="1371600" y="2743200"/>
            <a:ext cx="6224760" cy="381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 создавались логотипы самых известных бренд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рэнк Робинсон  и Coca-Col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7"/>
          <p:cNvPicPr/>
          <p:nvPr/>
        </p:nvPicPr>
        <p:blipFill>
          <a:blip r:embed="rId1"/>
          <a:stretch/>
        </p:blipFill>
        <p:spPr>
          <a:xfrm>
            <a:off x="1143000" y="2362320"/>
            <a:ext cx="6781680" cy="4005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лого Розины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23-10-12T16:04:12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