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F97-304C-4352-93A8-A6A84710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F8B-EC69-4E3B-9F69-C43E4900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545-F4BB-4514-9A60-D0F6EAEE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CCC-E955-44E6-89BE-2B020D01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056E-0D9D-46DF-92D4-0F30D676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457E-A185-4D4D-BC5E-CB9681F2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22BD-0B9A-4492-A3F9-D3461A17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3D5D-5BC7-4883-9E39-EDE206B8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8AA0-740E-4609-811D-6BA8BC53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7A4E-44B7-4FD6-BE3B-F1FDA269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1A1E-833D-4A74-81C4-C4265868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0D8-F515-4A92-978C-D26ECC3F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12D8-100C-4A29-869A-EE77D53D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60B6-7776-464C-9AB6-5021E5F9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72C6-B411-4148-A35D-95DCEAB4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82D9-283C-4594-88BF-C2B6FE2F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1AE0-8E00-43AD-BDA4-7B44F562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0F3-44B0-4BCF-B827-B8F131E4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920-B7DE-4D34-9162-DEAD6F42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E07-7D25-4E75-B33E-1584DE47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742-0E31-4F66-9EE1-3B4CD178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1BE-2E80-468E-AD02-2F670F9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B6B-6D9E-4514-9062-EE51DA14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F00-FCEA-49AF-BB25-3A9BD3E2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520C-7463-4861-86EB-FFD1872EB3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CBFB-B102-4F77-AFE8-8E5CE1A700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" descr=""/>
          <p:cNvPicPr/>
          <p:nvPr/>
        </p:nvPicPr>
        <p:blipFill>
          <a:blip r:embed="rId2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Детская(обычная) - Детская фоновая веселая_(EEMUSIC.ru).mp3" descr=""/>
          <p:cNvPicPr/>
          <p:nvPr/>
        </p:nvPicPr>
        <p:blipFill>
          <a:blip r:embed="rId1"/>
          <a:stretch/>
        </p:blipFill>
        <p:spPr>
          <a:xfrm>
            <a:off x="795672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"/>
          <p:cNvPicPr/>
          <p:nvPr/>
        </p:nvPicPr>
        <p:blipFill>
          <a:blip r:embed="rId2"/>
          <a:stretch/>
        </p:blipFill>
        <p:spPr>
          <a:xfrm>
            <a:off x="1495440" y="-149400"/>
            <a:ext cx="646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7676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"/>
          <p:cNvPicPr/>
          <p:nvPr/>
        </p:nvPicPr>
        <p:blipFill>
          <a:blip r:embed="rId1"/>
          <a:srcRect l="0" t="0" r="0" b="7950"/>
          <a:stretch/>
        </p:blipFill>
        <p:spPr>
          <a:xfrm>
            <a:off x="5724360" y="0"/>
            <a:ext cx="3262320" cy="2852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636640"/>
            <a:ext cx="6400800" cy="2376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Comic Sans MS"/>
              </a:rPr>
              <a:t>Умеем ли мы общаться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Велик ты или мал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Не знаем мы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Пока ты слова не сказа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Древний поэт Саад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16080"/>
            <a:ext cx="6870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206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343080" y="404640"/>
            <a:ext cx="83818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418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1 групп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Слова приветств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Какими словами лучше всего начать знакомство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Как принято извиняться в культурном обществе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229360" y="1828800"/>
            <a:ext cx="322884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2 групп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Слова утешения и ободр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Как попрощаться, чтобы людям было приятно вновь встретить тебя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Слова благодарност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69236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Эй, здоров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то такой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вай, вали!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у ладно, не дуйся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Чего нюни распустил!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4788000" y="655560"/>
            <a:ext cx="3100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rcRect l="0" t="0" r="0" b="7999"/>
          <a:stretch/>
        </p:blipFill>
        <p:spPr>
          <a:xfrm>
            <a:off x="979560" y="157320"/>
            <a:ext cx="71089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20:13:25Z</dcterms:created>
  <dc:creator>крот</dc:creator>
  <dc:description/>
  <dc:language>en-US</dc:language>
  <cp:lastModifiedBy>BOSS</cp:lastModifiedBy>
  <dcterms:modified xsi:type="dcterms:W3CDTF">2023-01-12T17:34:17Z</dcterms:modified>
  <cp:revision>19</cp:revision>
  <dc:subject/>
  <dc:title>Умеем ли мы общаться?</dc:title>
</cp:coreProperties>
</file>