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97B5-EC1F-4E32-A386-E81ED151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ACC-2441-46DC-9638-6458133D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D74-D817-423E-935F-4C5E7FD9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6B7E-66D0-43E8-B4F4-0A0FB0056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4F351-37B0-48BC-839F-30961D085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EF0EC-31AE-4210-AF76-EAA37484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87BB-4591-4FBE-9078-42AAACB7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42D0-B28F-4AC5-8C1B-DF6AAFE1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00AA-8DA1-4049-812A-21BE8D0E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B7F0-1855-487E-B0BE-4506587D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1158-5B06-468A-9DD3-94392F11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349-4347-4C39-BCE5-04C6F2BF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B178-AD2D-42E4-A0A1-7DA18B5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449A-B9F5-4A01-95A3-1663B4C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4360-3C44-4B26-9FCE-A9B690926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54F9-CFD8-4B7B-9967-18CB0C16C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12DB-AEDF-4B78-B574-A5C3D106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40CC-06A2-4BC2-95D6-8FD92973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1DB-4136-4767-9A38-03CF583C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1FD-6EBD-4348-B27F-7FAC1FB4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FD7-B2B2-4FA5-B3D7-F5FCD1A5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0A4-EA9D-4BAB-B3EB-7657CA24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B67-EDD5-4FBF-A47D-E32C4F3A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9CF-1B69-406D-BC33-9622540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E315-FCD1-415D-99E8-85393D49C5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2681-A8B5-4D7C-8EFD-6D68FEE400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3" descr=""/>
          <p:cNvPicPr/>
          <p:nvPr/>
        </p:nvPicPr>
        <p:blipFill>
          <a:blip r:embed="rId2"/>
          <a:stretch/>
        </p:blipFill>
        <p:spPr>
          <a:xfrm>
            <a:off x="7920" y="0"/>
            <a:ext cx="91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Детская(обычная) - Детская фоновая веселая_(EEMUSIC.ru).mp3" descr=""/>
          <p:cNvPicPr/>
          <p:nvPr/>
        </p:nvPicPr>
        <p:blipFill>
          <a:blip r:embed="rId1"/>
          <a:stretch/>
        </p:blipFill>
        <p:spPr>
          <a:xfrm>
            <a:off x="7956720" y="58770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3" descr=""/>
          <p:cNvPicPr/>
          <p:nvPr/>
        </p:nvPicPr>
        <p:blipFill>
          <a:blip r:embed="rId2"/>
          <a:stretch/>
        </p:blipFill>
        <p:spPr>
          <a:xfrm>
            <a:off x="1495440" y="-149400"/>
            <a:ext cx="6461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7676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1" descr=""/>
          <p:cNvPicPr/>
          <p:nvPr/>
        </p:nvPicPr>
        <p:blipFill>
          <a:blip r:embed="rId1"/>
          <a:srcRect l="0" t="0" r="0" b="7950"/>
          <a:stretch/>
        </p:blipFill>
        <p:spPr>
          <a:xfrm>
            <a:off x="5724360" y="0"/>
            <a:ext cx="3262320" cy="28526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2636640"/>
            <a:ext cx="6400800" cy="2376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2060"/>
                </a:solidFill>
                <a:latin typeface="Comic Sans MS"/>
              </a:rPr>
              <a:t>Умеем ли мы общаться?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85800" y="764640"/>
            <a:ext cx="769608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Велик ты или мал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Не знаем мы,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omic Sans MS"/>
              </a:rPr>
              <a:t>Пока ты слова не сказал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                          </a:t>
            </a:r>
            <a:r>
              <a:rPr b="0" lang="ru-RU" sz="3200" spc="-1" strike="noStrike">
                <a:solidFill>
                  <a:srgbClr val="002060"/>
                </a:solidFill>
                <a:latin typeface="Comic Sans MS"/>
              </a:rPr>
              <a:t>Древний поэт Саад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-316080"/>
            <a:ext cx="6870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206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343080" y="404640"/>
            <a:ext cx="838188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dff"/>
                </a:solidFill>
                <a:latin typeface="Comic Sans MS"/>
              </a:rPr>
              <a:t>Работа в группах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4184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1 групп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Слова приветств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Какими словами лучше всего начать знакомство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Как принято извиняться в культурном обществе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5229360" y="1828800"/>
            <a:ext cx="3228840" cy="32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2 группа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Слова утешения и ободр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Как попрощаться, чтобы людям было приятно вновь встретить тебя?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omic Sans MS"/>
              </a:rPr>
              <a:t>Слова благодарности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692360" y="404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Эй, здорово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то такой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вай, вали!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у ладно, не дуйся!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Чего нюни распустил!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Рисунок 3" descr=""/>
          <p:cNvPicPr/>
          <p:nvPr/>
        </p:nvPicPr>
        <p:blipFill>
          <a:blip r:embed="rId1"/>
          <a:stretch/>
        </p:blipFill>
        <p:spPr>
          <a:xfrm>
            <a:off x="4788000" y="655560"/>
            <a:ext cx="3100320" cy="26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2"/>
          <a:srcRect l="0" t="0" r="0" b="7999"/>
          <a:stretch/>
        </p:blipFill>
        <p:spPr>
          <a:xfrm>
            <a:off x="979560" y="157320"/>
            <a:ext cx="7108920" cy="63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20:13:25Z</dcterms:created>
  <dc:creator>крот</dc:creator>
  <dc:description/>
  <dc:language>en-US</dc:language>
  <cp:lastModifiedBy>BOSS</cp:lastModifiedBy>
  <dcterms:modified xsi:type="dcterms:W3CDTF">2023-01-12T17:34:17Z</dcterms:modified>
  <cp:revision>19</cp:revision>
  <dc:subject/>
  <dc:title>Умеем ли мы общаться?</dc:title>
</cp:coreProperties>
</file>