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F697-3F3C-4E71-B166-1F59C2940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EAD-4F65-4F42-87B9-10D454DC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6639-3BB5-441D-A8BE-E80468D1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455-C1F8-4F63-930B-ED37AFED8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CB3B-975A-45EB-AC0E-93968F28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1F0-1F1F-40C1-919D-D3092DF8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2C13-20D1-45FB-998C-4F92EE25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756-7BFB-4DC6-91D9-DB955BC4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F33E-B417-4935-A5BF-4746B81D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F9E7-10E4-44AD-8BEF-39DE8921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13FF-7E1B-4D4E-8D82-EC54E882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2BC-9A01-4152-AF80-28809A44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Cambria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0E39-D8BC-40B1-864E-351A1D40C11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745164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mbria"/>
              </a:rPr>
              <a:t>Основы дизайна и макетирования плаката, открытки.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3" name="Picture 2" descr="http://image.shutterstock.com/display_pic_with_logo/183487/183487,1264954290,2/stock-vector-collection-of-environmental-signs-and-symbols-on-a-background-of-colorful-globe-45641308.jpg"/>
          <p:cNvPicPr/>
          <p:nvPr/>
        </p:nvPicPr>
        <p:blipFill>
          <a:blip r:embed="rId1"/>
          <a:srcRect l="0" t="0" r="0" b="3795"/>
          <a:stretch/>
        </p:blipFill>
        <p:spPr>
          <a:xfrm>
            <a:off x="3564000" y="2637000"/>
            <a:ext cx="400536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9" name="Picture 2" descr="http://www.redbook.ru/forum/uploads/post-530-1258552019.jpg"/>
          <p:cNvPicPr/>
          <p:nvPr/>
        </p:nvPicPr>
        <p:blipFill>
          <a:blip r:embed="rId1"/>
          <a:stretch/>
        </p:blipFill>
        <p:spPr>
          <a:xfrm>
            <a:off x="1619280" y="144360"/>
            <a:ext cx="46879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79280" y="981000"/>
            <a:ext cx="3600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в искусстве плаката создаётся минимумом изобразительных средств при максимуме обобщения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" name="Picture 2" descr="http://www.vvcti.ru/images/catalog/499_1.jpg"/>
          <p:cNvPicPr/>
          <p:nvPr/>
        </p:nvPicPr>
        <p:blipFill>
          <a:blip r:embed="rId1"/>
          <a:stretch/>
        </p:blipFill>
        <p:spPr>
          <a:xfrm>
            <a:off x="3780000" y="189000"/>
            <a:ext cx="4573440" cy="61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http://i023.radikal.ru/1102/ba/9ee680eb2e84.jpg"/>
          <p:cNvPicPr/>
          <p:nvPr/>
        </p:nvPicPr>
        <p:blipFill>
          <a:blip r:embed="rId1"/>
          <a:srcRect l="0" t="0" r="0" b="7268"/>
          <a:stretch/>
        </p:blipFill>
        <p:spPr>
          <a:xfrm>
            <a:off x="1619280" y="115920"/>
            <a:ext cx="5057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7" name="Picture 2" descr="http://www.katushki.com/forum/upload/foto/2/7/1/f_0628b9457fe993c2ca84a0a462172.jpg"/>
          <p:cNvPicPr/>
          <p:nvPr/>
        </p:nvPicPr>
        <p:blipFill>
          <a:blip r:embed="rId1"/>
          <a:stretch/>
        </p:blipFill>
        <p:spPr>
          <a:xfrm>
            <a:off x="179280" y="836640"/>
            <a:ext cx="849636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2" descr="http://images.izvestia.ru/lenta/61763.jpg"/>
          <p:cNvPicPr/>
          <p:nvPr/>
        </p:nvPicPr>
        <p:blipFill>
          <a:blip r:embed="rId1"/>
          <a:stretch/>
        </p:blipFill>
        <p:spPr>
          <a:xfrm>
            <a:off x="1332000" y="189000"/>
            <a:ext cx="510048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5280" y="260280"/>
            <a:ext cx="7499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в искусстве плаката может дойти в своей броскости до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символа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2" name="Picture 2" descr="http://www.port2all.dp.ua/uploads/posts/2008-08/1219826221_23.jpg"/>
          <p:cNvPicPr/>
          <p:nvPr/>
        </p:nvPicPr>
        <p:blipFill>
          <a:blip r:embed="rId1"/>
          <a:stretch/>
        </p:blipFill>
        <p:spPr>
          <a:xfrm>
            <a:off x="468360" y="1376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79280" y="160020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Образ рождается без текст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5" name="Picture 2" descr="http://www.adme.ru/files/news/part_5/58965/58965_496186.jpg"/>
          <p:cNvPicPr/>
          <p:nvPr/>
        </p:nvPicPr>
        <p:blipFill>
          <a:blip r:embed="rId1"/>
          <a:stretch/>
        </p:blipFill>
        <p:spPr>
          <a:xfrm>
            <a:off x="3492360" y="115920"/>
            <a:ext cx="447696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2" descr="http://ne-kurim.ru/upload/information_system_4/3/2/1/item_3214/information_items_3214.jpg"/>
          <p:cNvPicPr/>
          <p:nvPr/>
        </p:nvPicPr>
        <p:blipFill>
          <a:blip r:embed="rId1"/>
          <a:stretch/>
        </p:blipFill>
        <p:spPr>
          <a:xfrm>
            <a:off x="1835280" y="71280"/>
            <a:ext cx="4922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78920" y="476280"/>
            <a:ext cx="381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акого вида изображения используются в плакат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Реалистический или условный рисунок, вплоть до декоративной абстракции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2" descr="http://www.mireya.ru/poster/Plakat2.jpg"/>
          <p:cNvPicPr/>
          <p:nvPr/>
        </p:nvPicPr>
        <p:blipFill>
          <a:blip r:embed="rId1"/>
          <a:stretch/>
        </p:blipFill>
        <p:spPr>
          <a:xfrm>
            <a:off x="3995640" y="189000"/>
            <a:ext cx="47102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2" descr="http://www.galinalopatina.ru/images/graphic/ekologiya.jpg"/>
          <p:cNvPicPr/>
          <p:nvPr/>
        </p:nvPicPr>
        <p:blipFill>
          <a:blip r:embed="rId1"/>
          <a:stretch/>
        </p:blipFill>
        <p:spPr>
          <a:xfrm>
            <a:off x="250920" y="620640"/>
            <a:ext cx="797220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765000"/>
            <a:ext cx="764208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скусство композиции лежит в основе ГРАФИЧЕСКОГО ДИЗАЙНА. Оно определяет облик книг, журналов, плакатов, влияет на их образное восприяти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Текст становится элементом композиции, приобретая и изобразительный, и информационный смыс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2" descr="http://assets0.lookatme.ru/1271851900/assets/article_image-image/2b/31/823273/article_image-image-article.jpg"/>
          <p:cNvPicPr/>
          <p:nvPr/>
        </p:nvPicPr>
        <p:blipFill>
          <a:blip r:embed="rId1"/>
          <a:stretch/>
        </p:blipFill>
        <p:spPr>
          <a:xfrm>
            <a:off x="1619280" y="0"/>
            <a:ext cx="475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9280" y="189000"/>
            <a:ext cx="75963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Фотография (как фрагмент или как фон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8" name="Picture 2" descr="http://pravdu.ru/en/images/plakat/plakat6.jpg"/>
          <p:cNvPicPr/>
          <p:nvPr/>
        </p:nvPicPr>
        <p:blipFill>
          <a:blip r:embed="rId1"/>
          <a:srcRect l="0" t="0" r="4965" b="0"/>
          <a:stretch/>
        </p:blipFill>
        <p:spPr>
          <a:xfrm>
            <a:off x="468360" y="1052640"/>
            <a:ext cx="75722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1" name="Picture 2" descr="http://artsozidatel.narod.ru/imgs/plakati_pravdi/plakat12.jpg"/>
          <p:cNvPicPr/>
          <p:nvPr/>
        </p:nvPicPr>
        <p:blipFill>
          <a:blip r:embed="rId1"/>
          <a:stretch/>
        </p:blipFill>
        <p:spPr>
          <a:xfrm>
            <a:off x="324000" y="476280"/>
            <a:ext cx="78120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2" descr="http://assets.freelancehunt.com/snippet/83/b5/7939/posters_4+copy.jpg"/>
          <p:cNvPicPr/>
          <p:nvPr/>
        </p:nvPicPr>
        <p:blipFill>
          <a:blip r:embed="rId1"/>
          <a:srcRect l="33639" t="6858" r="33100" b="5900"/>
          <a:stretch/>
        </p:blipFill>
        <p:spPr>
          <a:xfrm>
            <a:off x="1116000" y="73080"/>
            <a:ext cx="50562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7" name="Picture 2" descr="http://assets.freelancehunt.com/snippet/83/b5/7939/posters_4+copy.jpg"/>
          <p:cNvPicPr/>
          <p:nvPr/>
        </p:nvPicPr>
        <p:blipFill>
          <a:blip r:embed="rId1"/>
          <a:srcRect l="65389" t="10583" r="1349" b="8887"/>
          <a:stretch/>
        </p:blipFill>
        <p:spPr>
          <a:xfrm>
            <a:off x="1116000" y="93600"/>
            <a:ext cx="5459400" cy="66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0" name="Picture 2" descr="http://image.shutterstock.com/display_pic_with_logo/301324/301324,1276715446,8/stock-vector-ecology-poster-55349110.jpg"/>
          <p:cNvPicPr/>
          <p:nvPr/>
        </p:nvPicPr>
        <p:blipFill>
          <a:blip r:embed="rId1"/>
          <a:srcRect l="0" t="0" r="0" b="4850"/>
          <a:stretch/>
        </p:blipFill>
        <p:spPr>
          <a:xfrm>
            <a:off x="1187280" y="115920"/>
            <a:ext cx="596592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3" name="Picture 2" descr="http://arts.in.ua/i/1815/42849.jpg"/>
          <p:cNvPicPr/>
          <p:nvPr/>
        </p:nvPicPr>
        <p:blipFill>
          <a:blip r:embed="rId1"/>
          <a:stretch/>
        </p:blipFill>
        <p:spPr>
          <a:xfrm>
            <a:off x="1401840" y="122400"/>
            <a:ext cx="5346720" cy="67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6" name="Picture 4" descr="http://img-fotki.yandex.ru/get/18/semper-scifi.36/0_be82_39283189_XL"/>
          <p:cNvPicPr/>
          <p:nvPr/>
        </p:nvPicPr>
        <p:blipFill>
          <a:blip r:embed="rId1"/>
          <a:srcRect l="1606" t="2744" r="2001" b="2941"/>
          <a:stretch/>
        </p:blipFill>
        <p:spPr>
          <a:xfrm>
            <a:off x="250920" y="765000"/>
            <a:ext cx="7561080" cy="52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600200"/>
            <a:ext cx="325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дание: Создать плакат на социальную тем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" name="Picture 2" descr="http://2010.adfest.by/i/photo/competition/4d199cd.jpg.jpg"/>
          <p:cNvPicPr/>
          <p:nvPr/>
        </p:nvPicPr>
        <p:blipFill>
          <a:blip r:embed="rId1"/>
          <a:srcRect l="0" t="4001" r="0" b="6672"/>
          <a:stretch/>
        </p:blipFill>
        <p:spPr>
          <a:xfrm>
            <a:off x="3708360" y="115920"/>
            <a:ext cx="4923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439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mbria"/>
              </a:rPr>
              <a:t>Пример превращения абстрактных форм в образно-смысловые элементы композиции</a:t>
            </a:r>
            <a:endParaRPr b="0" lang="en-US" sz="28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http://2010.adfest.by/i/photo/competition/782a9e1.jpg.jpg"/>
          <p:cNvPicPr/>
          <p:nvPr/>
        </p:nvPicPr>
        <p:blipFill>
          <a:blip r:embed="rId1"/>
          <a:stretch/>
        </p:blipFill>
        <p:spPr>
          <a:xfrm>
            <a:off x="4356000" y="1125360"/>
            <a:ext cx="3878280" cy="5445360"/>
          </a:xfrm>
          <a:prstGeom prst="rect">
            <a:avLst/>
          </a:prstGeom>
          <a:ln w="0">
            <a:noFill/>
          </a:ln>
        </p:spPr>
      </p:pic>
      <p:grpSp>
        <p:nvGrpSpPr>
          <p:cNvPr id="48" name="Группа 77"/>
          <p:cNvGrpSpPr/>
          <p:nvPr/>
        </p:nvGrpSpPr>
        <p:grpSpPr>
          <a:xfrm>
            <a:off x="179280" y="1125360"/>
            <a:ext cx="3895200" cy="5543280"/>
            <a:chOff x="179280" y="1125360"/>
            <a:chExt cx="3895200" cy="5543280"/>
          </a:xfrm>
        </p:grpSpPr>
        <p:grpSp>
          <p:nvGrpSpPr>
            <p:cNvPr id="49" name="Прямоугольник 4"/>
            <p:cNvGrpSpPr/>
            <p:nvPr/>
          </p:nvGrpSpPr>
          <p:grpSpPr>
            <a:xfrm>
              <a:off x="179280" y="1125360"/>
              <a:ext cx="3889440" cy="5428080"/>
              <a:chOff x="179280" y="1125360"/>
              <a:chExt cx="3889440" cy="5428080"/>
            </a:xfrm>
          </p:grpSpPr>
          <p:pic>
            <p:nvPicPr>
              <p:cNvPr id="50" name="Прямоугольник 4" descr=""/>
              <p:cNvPicPr/>
              <p:nvPr/>
            </p:nvPicPr>
            <p:blipFill>
              <a:blip r:embed="rId2"/>
              <a:stretch/>
            </p:blipFill>
            <p:spPr>
              <a:xfrm>
                <a:off x="179280" y="1125360"/>
                <a:ext cx="3889440" cy="542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99800" y="1141200"/>
                <a:ext cx="3853440" cy="53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" name="Прямоугольник 7"/>
            <p:cNvSpPr/>
            <p:nvPr/>
          </p:nvSpPr>
          <p:spPr>
            <a:xfrm>
              <a:off x="1197000" y="1541880"/>
              <a:ext cx="2656440" cy="465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Прямоугольник 8"/>
            <p:cNvSpPr/>
            <p:nvPr/>
          </p:nvSpPr>
          <p:spPr>
            <a:xfrm>
              <a:off x="1197000" y="1407240"/>
              <a:ext cx="4636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Прямая соединительная линия 10"/>
            <p:cNvSpPr/>
            <p:nvPr/>
          </p:nvSpPr>
          <p:spPr>
            <a:xfrm>
              <a:off x="1728720" y="1407240"/>
              <a:ext cx="2124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Овал 11"/>
            <p:cNvSpPr/>
            <p:nvPr/>
          </p:nvSpPr>
          <p:spPr>
            <a:xfrm>
              <a:off x="399600" y="1407240"/>
              <a:ext cx="597600" cy="59976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Прямая соединительная линия 16"/>
            <p:cNvSpPr/>
            <p:nvPr/>
          </p:nvSpPr>
          <p:spPr>
            <a:xfrm>
              <a:off x="2126520" y="2407680"/>
              <a:ext cx="19267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Прямоугольник с двумя вырезанными противолежащими углами 26"/>
            <p:cNvSpPr/>
            <p:nvPr/>
          </p:nvSpPr>
          <p:spPr>
            <a:xfrm rot="20853600">
              <a:off x="2287080" y="3241440"/>
              <a:ext cx="1613520" cy="17902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Трапеция 20"/>
            <p:cNvSpPr/>
            <p:nvPr/>
          </p:nvSpPr>
          <p:spPr>
            <a:xfrm>
              <a:off x="531720" y="2407680"/>
              <a:ext cx="2658240" cy="41284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Трапеция 21"/>
            <p:cNvSpPr/>
            <p:nvPr/>
          </p:nvSpPr>
          <p:spPr>
            <a:xfrm>
              <a:off x="1129320" y="2407680"/>
              <a:ext cx="2592000" cy="4128480"/>
            </a:xfrm>
            <a:prstGeom prst="pi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Параллелограмм 35"/>
            <p:cNvSpPr/>
            <p:nvPr/>
          </p:nvSpPr>
          <p:spPr>
            <a:xfrm flipV="1" rot="17894400">
              <a:off x="-78840" y="4335840"/>
              <a:ext cx="1989720" cy="556560"/>
            </a:xfrm>
            <a:prstGeom prst="parallelogram">
              <a:avLst>
                <a:gd name="adj" fmla="val 64731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Прямая соединительная линия 36"/>
            <p:cNvSpPr/>
            <p:nvPr/>
          </p:nvSpPr>
          <p:spPr>
            <a:xfrm flipH="1" flipV="1">
              <a:off x="2923920" y="2407680"/>
              <a:ext cx="46548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Прямая соединительная линия 40"/>
            <p:cNvSpPr/>
            <p:nvPr/>
          </p:nvSpPr>
          <p:spPr>
            <a:xfrm flipH="1" flipV="1">
              <a:off x="2924280" y="2407680"/>
              <a:ext cx="53136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Прямоугольник 44"/>
            <p:cNvSpPr/>
            <p:nvPr/>
          </p:nvSpPr>
          <p:spPr>
            <a:xfrm>
              <a:off x="3587760" y="6202080"/>
              <a:ext cx="465480" cy="3337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" name="Прямоугольник 5"/>
            <p:cNvGrpSpPr/>
            <p:nvPr/>
          </p:nvGrpSpPr>
          <p:grpSpPr>
            <a:xfrm>
              <a:off x="1121400" y="4797000"/>
              <a:ext cx="2935440" cy="1410120"/>
              <a:chOff x="1121400" y="4797000"/>
              <a:chExt cx="2935440" cy="1410120"/>
            </a:xfrm>
          </p:grpSpPr>
          <p:pic>
            <p:nvPicPr>
              <p:cNvPr id="65" name="Прямоугольник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121400" y="4797000"/>
                <a:ext cx="2935440" cy="141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1130040" y="4804200"/>
                <a:ext cx="2923560" cy="139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" name="Прямоугольник 24"/>
            <p:cNvSpPr/>
            <p:nvPr/>
          </p:nvSpPr>
          <p:spPr>
            <a:xfrm>
              <a:off x="1860840" y="4870800"/>
              <a:ext cx="1329120" cy="13284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Прямоугольник 25"/>
            <p:cNvSpPr/>
            <p:nvPr/>
          </p:nvSpPr>
          <p:spPr>
            <a:xfrm>
              <a:off x="1868760" y="5078160"/>
              <a:ext cx="1918800" cy="12492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Прямоугольник 6"/>
            <p:cNvSpPr/>
            <p:nvPr/>
          </p:nvSpPr>
          <p:spPr>
            <a:xfrm>
              <a:off x="1926720" y="5336280"/>
              <a:ext cx="1860480" cy="732600"/>
            </a:xfrm>
            <a:prstGeom prst="rect">
              <a:avLst/>
            </a:prstGeom>
            <a:solidFill>
              <a:srgbClr val="f43e0c"/>
            </a:solidFill>
            <a:ln w="2556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48"/>
            <p:cNvSpPr/>
            <p:nvPr/>
          </p:nvSpPr>
          <p:spPr>
            <a:xfrm>
              <a:off x="199800" y="5269680"/>
              <a:ext cx="797400" cy="126612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ая соединительная линия 13"/>
            <p:cNvSpPr/>
            <p:nvPr/>
          </p:nvSpPr>
          <p:spPr>
            <a:xfrm flipV="1">
              <a:off x="399600" y="2407680"/>
              <a:ext cx="152712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ая соединительная линия 29"/>
            <p:cNvSpPr/>
            <p:nvPr/>
          </p:nvSpPr>
          <p:spPr>
            <a:xfrm flipV="1">
              <a:off x="331920" y="2407680"/>
              <a:ext cx="1594800" cy="412848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33"/>
            <p:cNvSpPr/>
            <p:nvPr/>
          </p:nvSpPr>
          <p:spPr>
            <a:xfrm flipV="1">
              <a:off x="266040" y="2407320"/>
              <a:ext cx="1660680" cy="426132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54"/>
            <p:cNvSpPr/>
            <p:nvPr/>
          </p:nvSpPr>
          <p:spPr>
            <a:xfrm>
              <a:off x="266040" y="2806560"/>
              <a:ext cx="10630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56"/>
            <p:cNvSpPr/>
            <p:nvPr/>
          </p:nvSpPr>
          <p:spPr>
            <a:xfrm>
              <a:off x="266040" y="2939400"/>
              <a:ext cx="8632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57"/>
            <p:cNvSpPr/>
            <p:nvPr/>
          </p:nvSpPr>
          <p:spPr>
            <a:xfrm>
              <a:off x="266040" y="3072600"/>
              <a:ext cx="1262880" cy="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59"/>
            <p:cNvSpPr/>
            <p:nvPr/>
          </p:nvSpPr>
          <p:spPr>
            <a:xfrm>
              <a:off x="199800" y="2407680"/>
              <a:ext cx="385344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62"/>
            <p:cNvSpPr/>
            <p:nvPr/>
          </p:nvSpPr>
          <p:spPr>
            <a:xfrm flipV="1">
              <a:off x="199800" y="3938400"/>
              <a:ext cx="797400" cy="139752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66"/>
            <p:cNvSpPr/>
            <p:nvPr/>
          </p:nvSpPr>
          <p:spPr>
            <a:xfrm flipH="1" flipV="1">
              <a:off x="3389400" y="3140280"/>
              <a:ext cx="397800" cy="1663560"/>
            </a:xfrm>
            <a:prstGeom prst="line">
              <a:avLst/>
            </a:prstGeom>
            <a:ln w="57240">
              <a:solidFill>
                <a:srgbClr val="c8cc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71"/>
            <p:cNvSpPr/>
            <p:nvPr/>
          </p:nvSpPr>
          <p:spPr>
            <a:xfrm flipV="1">
              <a:off x="266040" y="3206880"/>
              <a:ext cx="1063080" cy="7560"/>
            </a:xfrm>
            <a:prstGeom prst="line">
              <a:avLst/>
            </a:prstGeom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ая соединительная линия 73"/>
            <p:cNvSpPr/>
            <p:nvPr/>
          </p:nvSpPr>
          <p:spPr>
            <a:xfrm>
              <a:off x="1197000" y="2273040"/>
              <a:ext cx="192672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76"/>
            <p:cNvSpPr/>
            <p:nvPr/>
          </p:nvSpPr>
          <p:spPr>
            <a:xfrm>
              <a:off x="3389760" y="6151680"/>
              <a:ext cx="339480" cy="117000"/>
            </a:xfrm>
            <a:prstGeom prst="rect">
              <a:avLst/>
            </a:prstGeom>
            <a:noFill/>
            <a:ln w="28440">
              <a:solidFill>
                <a:srgbClr val="f43e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323640" y="876240"/>
            <a:ext cx="788508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Соединение изображения и текста в единой плоскости по принципу образно-смысловой значимости называется монтажным или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нтаж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Единая образность порождает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стилистическое и цветовое единство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шрифта и изображения в плакате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mbria"/>
              </a:rPr>
              <a:t>Многообразие жанров искусства плаката</a:t>
            </a:r>
            <a:endParaRPr b="0" lang="en-US" sz="40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3640" y="1887480"/>
            <a:ext cx="7740360" cy="37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ПЛАКАТ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– изобразительная композиция, включающая в себя краткий, активно воздействующий текст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Язык плаката точен, выразителен и многообразен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2" descr="http://i.i.ua/photo/images/pic/4/3/1197034_af73962e.jpg"/>
          <p:cNvPicPr/>
          <p:nvPr/>
        </p:nvPicPr>
        <p:blipFill>
          <a:blip r:embed="rId1"/>
          <a:stretch/>
        </p:blipFill>
        <p:spPr>
          <a:xfrm>
            <a:off x="2195640" y="260280"/>
            <a:ext cx="43545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79280" y="620280"/>
            <a:ext cx="446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Изображение в плакате строится не по логике перспективы (что ближе, то крупнее), а по 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композиционно-смысловому принципу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(что важнее, то крупнее и ближе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2" descr="http://opomnis.ru/_ph/5/2/654888533.jpg"/>
          <p:cNvPicPr/>
          <p:nvPr/>
        </p:nvPicPr>
        <p:blipFill>
          <a:blip r:embed="rId1"/>
          <a:srcRect l="0" t="0" r="0" b="8005"/>
          <a:stretch/>
        </p:blipFill>
        <p:spPr>
          <a:xfrm>
            <a:off x="4500720" y="692280"/>
            <a:ext cx="40338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Picture 2" descr="http://www.venta2.ru/images/catalog/1047.jpg"/>
          <p:cNvPicPr/>
          <p:nvPr/>
        </p:nvPicPr>
        <p:blipFill>
          <a:blip r:embed="rId1"/>
          <a:stretch/>
        </p:blipFill>
        <p:spPr>
          <a:xfrm>
            <a:off x="826920" y="620640"/>
            <a:ext cx="740592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eece1"/>
              </a:solidFill>
              <a:latin typeface="Cambri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2" descr="http://agitplakat.com/uploads/extralarge/1050.jpg"/>
          <p:cNvPicPr/>
          <p:nvPr/>
        </p:nvPicPr>
        <p:blipFill>
          <a:blip r:embed="rId1"/>
          <a:stretch/>
        </p:blipFill>
        <p:spPr>
          <a:xfrm>
            <a:off x="324000" y="692280"/>
            <a:ext cx="75596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4:02:17Z</dcterms:created>
  <dc:creator>Елена</dc:creator>
  <dc:description/>
  <dc:language>en-US</dc:language>
  <cp:lastModifiedBy>Administrator</cp:lastModifiedBy>
  <dcterms:modified xsi:type="dcterms:W3CDTF">2023-10-18T16:14:17Z</dcterms:modified>
  <cp:revision>64</cp:revision>
  <dc:subject/>
  <dc:title>Слайд 1</dc:title>
</cp:coreProperties>
</file>