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27.wmf" ContentType="image/x-wmf"/>
  <Override PartName="/ppt/media/image20.jpeg" ContentType="image/jpeg"/>
  <Override PartName="/ppt/media/image24.png" ContentType="image/png"/>
  <Override PartName="/ppt/media/image11.jpeg" ContentType="image/jpeg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3.jpeg" ContentType="image/jpeg"/>
  <Override PartName="/ppt/media/image23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gif" ContentType="image/gif"/>
  <Override PartName="/ppt/media/image25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33.jpeg" ContentType="image/jpeg"/>
  <Override PartName="/ppt/media/image36.png" ContentType="image/png"/>
  <Override PartName="/ppt/media/image18.jpeg" ContentType="image/jpe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E04C-14E6-426C-8DFB-5B126E30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EE46-9FE1-424F-87B3-687E7C49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76FD-DADF-4426-BD1E-B4A1559ED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963-871B-484D-B6EE-201F4643B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D580-D233-4AF6-AA56-435427AB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DF2B-6683-4F4F-BF14-0E533509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8B89-C4B2-4C9A-AFD9-1456969A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66EE-F1C1-4016-8D82-CEE9500A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405E-FFE0-4D20-9456-81D8E16A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081A-A852-4C37-A8AA-E03773139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5009A-B910-4B7A-8BC0-B64327E1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FAF-B925-46C4-BB83-606420EF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70C3-E31E-4055-AFBF-1740B424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8432-1378-4668-BE65-C767616C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EC089-2AA0-40A1-ACA5-BC028A08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1A2C-1C11-4533-A338-A7679E613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B177-B572-4AD0-BB4A-8B6960788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651F-DA4E-4A98-8FA4-013CDF68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5B281-F0DD-4DA3-98CE-2AA22609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F539B-1469-45CE-81FA-D2EECE0B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49504-668E-4878-9207-A213A34A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4048-BEC7-458F-985D-3C04DB7C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72D-0BA3-4024-B2DB-0C58E8EB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FB8F-BD3A-44D9-B5B8-9A90AC1C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834FD-CF7A-4257-8314-1DF060C8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C525A-F554-4B73-839A-9ADC42A4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18DC-3C50-4CD8-BEDE-DA23E4FE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21671-37DB-4F04-A157-D26E4793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7E64-9565-47F4-AD21-82ED33A0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B4FE9-5C9A-472B-B48D-A057F670C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3C389-A98D-41B8-B9E4-6B890946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C05E0-2690-4770-8F3E-CFF726D0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B8639-69AF-4267-9189-309CD6F7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C75-9CD5-4C47-8543-003B6884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A2CAD-A8D3-4805-9F0C-4E543132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C6802-7A1C-473A-B04D-143666962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8F496-C9B0-4BA2-9121-1C21EF3C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E1D84-B9D9-4EAE-9526-B546B47F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D1775-771E-4BC3-95C6-527C8919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B975-061B-4BC4-877F-307E634E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E9FA9-DCAD-4D9E-9BD3-00E8B08C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639A-955D-46F7-A17E-CDCB93F5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2CA59-8001-4ED2-87D5-E93EE427B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E9E2F-AA8E-4AB2-8E29-0B2FF90A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33B1-1E4D-4A3D-AE79-2593E133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6CBA4-F3EA-45ED-A11E-3FD0F43F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1AE86-21EE-41A3-B69C-49026B1F4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C5981-526F-47A2-A2C5-42E5B92B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18E2F-0963-412E-B713-AF7FA830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11911-4DDA-4543-9CE1-85D98B2F6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50B37-68AA-48C3-BE15-8139A544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BCD81-49FC-466A-A2E5-419EF195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AC0E5-5733-441A-92F9-026B60AF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0C5B4-8BDC-4CD0-8148-E36EC6FC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ECB8D5-CE17-447E-95F8-8A5F002E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DFBA-6EA0-4E87-A9A4-E70307D7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F7104-4C33-4CBD-B09D-7F77FC0F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2BBCF-A47C-49F5-AE33-3900705D1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DF6D2-152F-43B1-A0F6-17CE1968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C1EC4-DA8D-40E1-BECB-D5B5640B8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AF6640-5C78-4827-86FB-17F046C58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69BE1-55B0-4429-A226-A2FCF90C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F065-35E2-4ADF-B03A-4BAECCB6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022C6-FA1D-45BD-B4A4-B0BDC9C5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B69C2-5E85-49B1-8053-FF6804BE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13565-D2C5-4B59-82A2-72D13AB5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9FF8-5DB0-4C5D-8297-D4BFB64F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007E0-E5D5-4199-B34D-22F80757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A7A41-9F63-4AAB-8741-7E7BC649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87F0B-2DEC-40C1-9015-7EC9B7CF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39DFD-4B86-4CA0-A73E-B3102FAEA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ABB4B-63AF-44F9-AA97-524C00C3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495C3-E90F-4ECA-B67E-4B4F4EDB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D2E49-3D19-4828-8EFC-AE1D4C022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E4D9E-5691-4C1D-A351-BC5D9F373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F651C-0E13-498B-9417-9034128C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EB82A-377C-4A56-AEB0-C76CF870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003F-05E5-47FA-A0A1-EA495B41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1D3B3-09EB-4B72-8BE1-9EFA0F6F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B217A-6EDE-4A8F-9487-DFC04050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BB44F-F4E0-4CFD-B020-CEF8FE85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40B46-59D7-4FAE-9FAE-B7EA1793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510EE4-8253-4421-87D9-A8444DF1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4F9-867B-477A-83F6-46B0AE17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4114-5699-4200-8667-73028C65924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508A-FDA1-4E18-A604-9FD34CD75A2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A06B-F523-476B-91D5-7131DBBCF1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E67B-8D2C-4C35-B7BE-DE4707F1253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0F60-6677-44DF-BEE3-6A9EC7AD689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D474-CBB5-46EA-98BA-1E36FDE480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4C10-A22B-4309-875E-9946E55BD0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image" Target="../media/image26.png"/><Relationship Id="rId5" Type="http://schemas.openxmlformats.org/officeDocument/2006/relationships/image" Target="../media/image19.gif"/><Relationship Id="rId6" Type="http://schemas.openxmlformats.org/officeDocument/2006/relationships/image" Target="../media/image27.wmf"/><Relationship Id="rId7" Type="http://schemas.openxmlformats.org/officeDocument/2006/relationships/image" Target="../media/image27.wmf"/><Relationship Id="rId8" Type="http://schemas.openxmlformats.org/officeDocument/2006/relationships/image" Target="../media/image27.wmf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7.wmf"/><Relationship Id="rId3" Type="http://schemas.openxmlformats.org/officeDocument/2006/relationships/image" Target="../media/image27.wmf"/><Relationship Id="rId4" Type="http://schemas.openxmlformats.org/officeDocument/2006/relationships/image" Target="../media/image27.wm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gif"/><Relationship Id="rId3" Type="http://schemas.openxmlformats.org/officeDocument/2006/relationships/image" Target="../media/image33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7.png"/><Relationship Id="rId8" Type="http://schemas.openxmlformats.org/officeDocument/2006/relationships/image" Target="../media/image19.gif"/><Relationship Id="rId9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4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6.jpeg"/><Relationship Id="rId11" Type="http://schemas.openxmlformats.org/officeDocument/2006/relationships/image" Target="../media/image17.jpeg"/><Relationship Id="rId12" Type="http://schemas.openxmlformats.org/officeDocument/2006/relationships/image" Target="../media/image18.jpeg"/><Relationship Id="rId13" Type="http://schemas.openxmlformats.org/officeDocument/2006/relationships/image" Target="../media/image19.gif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Заголовок 10"/>
          <p:cNvSpPr/>
          <p:nvPr/>
        </p:nvSpPr>
        <p:spPr>
          <a:xfrm>
            <a:off x="1785960" y="274680"/>
            <a:ext cx="6900840" cy="25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 Black"/>
              </a:rPr>
              <a:t>Упражнения 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 Black"/>
              </a:rPr>
              <a:t>по формированию навыка чтения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Arial Black"/>
              </a:rPr>
              <a:t> для учащихся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11" descr="http://stend54.ru/image/cache/catalog/drk_42-1000x1000.jpg"/>
          <p:cNvPicPr/>
          <p:nvPr/>
        </p:nvPicPr>
        <p:blipFill>
          <a:blip r:embed="rId1"/>
          <a:srcRect l="15390" t="-2253" r="23709" b="-1500"/>
          <a:stretch/>
        </p:blipFill>
        <p:spPr>
          <a:xfrm>
            <a:off x="6072120" y="2214720"/>
            <a:ext cx="2428920" cy="4138560"/>
          </a:xfrm>
          <a:prstGeom prst="rect">
            <a:avLst/>
          </a:prstGeom>
          <a:ln w="0">
            <a:noFill/>
          </a:ln>
        </p:spPr>
      </p:pic>
      <p:sp>
        <p:nvSpPr>
          <p:cNvPr id="320" name="Содержимое 16"/>
          <p:cNvSpPr/>
          <p:nvPr/>
        </p:nvSpPr>
        <p:spPr>
          <a:xfrm>
            <a:off x="1428840" y="4214880"/>
            <a:ext cx="457200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начальных классов </a:t>
            </a: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язнова Т.Е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БОУ « Коляновская С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92880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бери слова.</a:t>
            </a:r>
            <a:endParaRPr b="0" lang="en-US" sz="6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143160" y="2571480"/>
            <a:ext cx="4857840" cy="2428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едините слоги первого и второго столбиков так, чтобы получились слов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1" name="Picture 10" descr="book37"/>
          <p:cNvPicPr/>
          <p:nvPr/>
        </p:nvPicPr>
        <p:blipFill>
          <a:blip r:embed="rId1"/>
          <a:stretch/>
        </p:blipFill>
        <p:spPr>
          <a:xfrm>
            <a:off x="3786120" y="5715000"/>
            <a:ext cx="1511280" cy="89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5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О             З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ЛА             М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О             Б 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РИ             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ТУ             Н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3" name="Picture 9" descr="book35"/>
          <p:cNvPicPr/>
          <p:nvPr/>
        </p:nvPicPr>
        <p:blipFill>
          <a:blip r:embed="rId1"/>
          <a:stretch/>
        </p:blipFill>
        <p:spPr>
          <a:xfrm>
            <a:off x="7429680" y="542916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214280" y="356760"/>
            <a:ext cx="75153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л о н          г л а з   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 т о л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 р и б            с т у л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2214720" y="285480"/>
            <a:ext cx="621504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               яс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а               чер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               пог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у               нал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               чей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9" descr="book35"/>
          <p:cNvPicPr/>
          <p:nvPr/>
        </p:nvPicPr>
        <p:blipFill>
          <a:blip r:embed="rId1"/>
          <a:stretch/>
        </p:blipFill>
        <p:spPr>
          <a:xfrm>
            <a:off x="7429680" y="542916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1571760" y="357120"/>
            <a:ext cx="711504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нал           сапог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яс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учей            вечер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ен                  т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ет                  г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оф                  т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ер                   к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ни                  но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9" name="Picture 9" descr="book35"/>
          <p:cNvPicPr/>
          <p:nvPr/>
        </p:nvPicPr>
        <p:blipFill>
          <a:blip r:embed="rId1"/>
          <a:stretch/>
        </p:blipFill>
        <p:spPr>
          <a:xfrm>
            <a:off x="7500960" y="535788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57120" y="28548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нта              сетка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фта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ерно              книга    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6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85560" y="1143000"/>
            <a:ext cx="64580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твертое слово.</a:t>
            </a:r>
            <a:endParaRPr b="0" lang="en-US" sz="4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3643200" y="3885840"/>
            <a:ext cx="5500800" cy="2685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ы три слова. Догадайся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кая связь между первыми двумя и подбери пару к третьему слову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3" name="Picture 10" descr="book37"/>
          <p:cNvPicPr/>
          <p:nvPr/>
        </p:nvPicPr>
        <p:blipFill>
          <a:blip r:embed="rId1"/>
          <a:stretch/>
        </p:blipFill>
        <p:spPr>
          <a:xfrm>
            <a:off x="1857240" y="5715000"/>
            <a:ext cx="1511280" cy="89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7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428480" y="357120"/>
            <a:ext cx="7257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НЬ – НОЧЬ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ИМА – ?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СЕНЬ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ТО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ЕСНА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5" name="Picture 4" descr="37-5-1lЛевитан И"/>
          <p:cNvPicPr/>
          <p:nvPr/>
        </p:nvPicPr>
        <p:blipFill>
          <a:blip r:embed="rId1"/>
          <a:stretch/>
        </p:blipFill>
        <p:spPr>
          <a:xfrm>
            <a:off x="4643280" y="2571840"/>
            <a:ext cx="3857760" cy="2354040"/>
          </a:xfrm>
          <a:prstGeom prst="rect">
            <a:avLst/>
          </a:prstGeom>
          <a:ln w="152280">
            <a:solidFill>
              <a:srgbClr val="990000"/>
            </a:solidFill>
            <a:miter/>
          </a:ln>
        </p:spPr>
      </p:pic>
    </p:spTree>
  </p:cSld>
  <p:transition>
    <p:dissolve/>
  </p:transition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8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8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8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8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8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8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2" dur="10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5" dur="1000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8" dur="1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372 -0.02755 C 0.15139 -0.02685 0.18906 -0.0257 0.22674 -0.0257 C 0.31771 -0.0257 0.40868 -0.02384 0.49948 -0.02755 C 0.50278 -0.02778 0.5066 -0.03704 0.5066 -0.03681 C 0.51458 -0.06644 0.50677 -0.03588 0.50955 -0.11713 C 0.51007 -0.13102 0.5151 -0.14514 0.51528 -0.15903 C 0.5158 -0.21366 0.51528 -0.26829 0.51528 -0.32292 E">
                                      <p:cBhvr>
                                        <p:cTn id="920" dur="20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D:\Рабочий стол Федичкиной Татьяны Юрьевны\картинки\Глаза\eyes31.gif"/>
          <p:cNvPicPr/>
          <p:nvPr/>
        </p:nvPicPr>
        <p:blipFill>
          <a:blip r:embed="rId1"/>
          <a:stretch/>
        </p:blipFill>
        <p:spPr>
          <a:xfrm>
            <a:off x="3071880" y="3000240"/>
            <a:ext cx="3143160" cy="22860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 txBox="1"/>
          <p:nvPr/>
        </p:nvSpPr>
        <p:spPr>
          <a:xfrm>
            <a:off x="1213920" y="285840"/>
            <a:ext cx="7472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ЛУХ – УХО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 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РЕНИЕ – ?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ОС  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ОТ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ЛАЗ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8" name="Picture 9" descr="book35"/>
          <p:cNvPicPr/>
          <p:nvPr/>
        </p:nvPicPr>
        <p:blipFill>
          <a:blip r:embed="rId2"/>
          <a:stretch/>
        </p:blipFill>
        <p:spPr>
          <a:xfrm>
            <a:off x="7429680" y="528624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8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8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8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8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8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8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8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8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9" dur="10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02" dur="10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5" nodeType="afterEffect" fill="hold" presetClass="entr" presetID="7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2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2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31 -0.00232 C 0.12448 -0.00301 0.12587 -0.00417 0.12726 -0.00417 C 0.14028 -0.00417 0.15313 -0.00232 0.16615 -0.00232 C 0.18698 -0.00232 0.20782 -0.00348 0.22865 -0.00417 C 0.32275 -0.02917 0.36719 -0.01412 0.50087 -0.01528 C 0.50955 -0.01922 0.51841 -0.02246 0.52726 -0.02639 C 0.53021 -0.02778 0.53282 -0.03125 0.5356 -0.0338 C 0.53803 -0.03588 0.5415 -0.03542 0.54393 -0.0375 C 0.54532 -0.03866 0.54653 -0.04028 0.5481 -0.04121 C 0.56007 -0.04838 0.5731 -0.04977 0.58421 -0.05973 C 0.59254 -0.07639 0.60157 -0.08843 0.60643 -0.10787 C 0.60712 -0.12986 0.60504 -0.14676 0.61198 -0.16528 C 0.61285 -0.18866 0.61181 -0.21644 0.61754 -0.23936 C 0.61806 -0.25116 0.61806 -0.26273 0.61893 -0.27454 C 0.61945 -0.28287 0.62414 -0.29236 0.62587 -0.30047 C 0.62657 -0.30348 0.62674 -0.30672 0.62726 -0.30973 C 0.62813 -0.31459 0.63004 -0.32454 0.63004 -0.32431 C 0.63178 -0.36644 0.63264 -0.37338 0.63004 -0.42269 C 0.62917 -0.43936 0.62171 -0.45602 0.62171 -0.47269 E">
                                      <p:cBhvr>
                                        <p:cTn id="1010" dur="20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85920" y="357120"/>
            <a:ext cx="714384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orbel"/>
              </a:rPr>
              <a:t>Представленные здесь задания предназначены для фронтальных и  индивидуальных занятий. Они помогают в формировании у учеников навыка чтения и развивают познавательные процессы. Кроме того, вносят в урок элемент занимательности, делают его более интересным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ГОРЬКИЙ-СЛАДКИЙ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</a:t>
            </a: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СОКИЙ – ?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ЗКИ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ЛИННЫ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ОЛЬШОЙ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0" name="Picture 9" descr="book35"/>
          <p:cNvPicPr/>
          <p:nvPr/>
        </p:nvPicPr>
        <p:blipFill>
          <a:blip r:embed="rId1"/>
          <a:stretch/>
        </p:blipFill>
        <p:spPr>
          <a:xfrm>
            <a:off x="7358040" y="521496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8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8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8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8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7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9" dur="1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1000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1000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895 0.00903 C 0.16736 0.01019 0.18125 0.0125 0.19895 0.01459 C 0.28559 0.01389 0.37204 0.01574 0.45868 0.01273 C 0.46632 0.0125 0.47586 -0.00602 0.48368 -0.00949 C 0.48993 -0.01574 0.49704 -0.01944 0.50312 -0.02615 C 0.5085 -0.03217 0.5092 -0.0368 0.51562 -0.04097 C 0.52031 -0.05023 0.51701 -0.04537 0.52673 -0.05393 C 0.53732 -0.06342 0.52829 -0.0581 0.53507 -0.06875 C 0.53628 -0.0706 0.54288 -0.07639 0.54479 -0.07801 C 0.54913 -0.0868 0.55312 -0.09467 0.55868 -0.10208 C 0.56302 -0.11944 0.56423 -0.12685 0.56423 -0.14653 E">
                                      <p:cBhvr>
                                        <p:cTn id="1097" dur="20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Пух падает.wmv" descr=""/>
          <p:cNvPicPr/>
          <p:nvPr/>
        </p:nvPicPr>
        <p:blipFill>
          <a:blip r:embed="rId1"/>
          <a:stretch/>
        </p:blipFill>
        <p:spPr>
          <a:xfrm>
            <a:off x="1857240" y="3500280"/>
            <a:ext cx="2990880" cy="192888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1000080" y="500040"/>
            <a:ext cx="768672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ДТИ – СТОЯТЬ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    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ЛЕЗАТЬ  -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ЛЗТИ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ЛЕЗАТЬ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4" dur="8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5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8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8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3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6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9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34 -0.01019 C 0.24774 -0.01135 0.25365 -0.00348 0.30851 -0.01574 C 0.31441 -0.01898 0.32066 -0.02246 0.32656 -0.025 C 0.33507 -0.02871 0.34479 -0.02917 0.35295 -0.03426 C 0.35955 -0.0382 0.36545 -0.04422 0.3724 -0.04723 C 0.37569 -0.04861 0.38073 -0.05093 0.38351 -0.05278 C 0.40504 -0.06829 0.38576 -0.05741 0.40156 -0.06574 C 0.40694 -0.07292 0.41059 -0.07338 0.41684 -0.07871 C 0.4283 -0.0882 0.43576 -0.10116 0.44879 -0.10463 C 0.4533 -0.10857 0.45816 -0.11065 0.46267 -0.11389 C 0.47969 -0.12639 0.50243 -0.14514 0.51406 -0.16574 C 0.51944 -0.1875 0.52587 -0.20811 0.53351 -0.22871 C 0.53524 -0.24074 0.53767 -0.25486 0.54184 -0.26574 C 0.54219 -0.2676 0.54392 -0.2801 0.54462 -0.28241 C 0.54809 -0.29352 0.55052 -0.29607 0.55295 -0.30648 C 0.55573 -0.31875 0.5559 -0.33264 0.56129 -0.34352 C 0.56076 -0.38334 0.57535 -0.44584 0.54462 -0.47315 C 0.54167 -0.47917 0.54358 -0.47871 0.54045 -0.47871 L 0.54184 -0.49352 L 0.54323 -0.48241 E">
                                      <p:cBhvr>
                                        <p:cTn id="1181" dur="2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4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дин – много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000320" y="3857760"/>
            <a:ext cx="5143320" cy="2643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ови слова – обозначения предметов в единственном и множественном числ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10" descr="book37"/>
          <p:cNvPicPr/>
          <p:nvPr/>
        </p:nvPicPr>
        <p:blipFill>
          <a:blip r:embed="rId2"/>
          <a:stretch/>
        </p:blipFill>
        <p:spPr>
          <a:xfrm>
            <a:off x="571680" y="5643720"/>
            <a:ext cx="1511280" cy="896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1428840" y="213840"/>
            <a:ext cx="722952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яц                           зайцы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8" name="Picture 32" descr="Thumper-1-lg[1]"/>
          <p:cNvPicPr/>
          <p:nvPr/>
        </p:nvPicPr>
        <p:blipFill>
          <a:blip r:embed="rId1"/>
          <a:stretch/>
        </p:blipFill>
        <p:spPr>
          <a:xfrm>
            <a:off x="2143080" y="214200"/>
            <a:ext cx="1000080" cy="11908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32" descr="Thumper-1-lg[1]"/>
          <p:cNvPicPr/>
          <p:nvPr/>
        </p:nvPicPr>
        <p:blipFill>
          <a:blip r:embed="rId2"/>
          <a:stretch/>
        </p:blipFill>
        <p:spPr>
          <a:xfrm>
            <a:off x="6572160" y="285840"/>
            <a:ext cx="785880" cy="934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2" descr="Thumper-1-lg[1]"/>
          <p:cNvPicPr/>
          <p:nvPr/>
        </p:nvPicPr>
        <p:blipFill>
          <a:blip r:embed="rId3"/>
          <a:stretch/>
        </p:blipFill>
        <p:spPr>
          <a:xfrm>
            <a:off x="7500960" y="357120"/>
            <a:ext cx="1000080" cy="11905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2" descr="Thumper-1-lg[1]"/>
          <p:cNvPicPr/>
          <p:nvPr/>
        </p:nvPicPr>
        <p:blipFill>
          <a:blip r:embed="rId4"/>
          <a:stretch/>
        </p:blipFill>
        <p:spPr>
          <a:xfrm>
            <a:off x="5357880" y="428760"/>
            <a:ext cx="780840" cy="92844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book35"/>
          <p:cNvPicPr/>
          <p:nvPr/>
        </p:nvPicPr>
        <p:blipFill>
          <a:blip r:embed="rId5"/>
          <a:stretch/>
        </p:blipFill>
        <p:spPr>
          <a:xfrm>
            <a:off x="7643880" y="52149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D:\Картинки\БИОЛОГИЯ\SWERI\BUMBLBEE.WMF"/>
          <p:cNvPicPr/>
          <p:nvPr/>
        </p:nvPicPr>
        <p:blipFill>
          <a:blip r:embed="rId6"/>
          <a:stretch/>
        </p:blipFill>
        <p:spPr>
          <a:xfrm>
            <a:off x="1285920" y="2071800"/>
            <a:ext cx="1000080" cy="8427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D:\Картинки\БИОЛОГИЯ\SWERI\BUMBLBEE.WMF"/>
          <p:cNvPicPr/>
          <p:nvPr/>
        </p:nvPicPr>
        <p:blipFill>
          <a:blip r:embed="rId7"/>
          <a:stretch/>
        </p:blipFill>
        <p:spPr>
          <a:xfrm>
            <a:off x="2214720" y="2214720"/>
            <a:ext cx="1000080" cy="842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D:\Картинки\БИОЛОГИЯ\SWERI\BUMBLBEE.WMF"/>
          <p:cNvPicPr/>
          <p:nvPr/>
        </p:nvPicPr>
        <p:blipFill>
          <a:blip r:embed="rId8"/>
          <a:stretch/>
        </p:blipFill>
        <p:spPr>
          <a:xfrm>
            <a:off x="2928960" y="2357280"/>
            <a:ext cx="1000080" cy="8431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D:\Картинки\БИОЛОГИЯ\SWERI\BUMBLBEE.WMF"/>
          <p:cNvPicPr/>
          <p:nvPr/>
        </p:nvPicPr>
        <p:blipFill>
          <a:blip r:embed="rId9"/>
          <a:stretch/>
        </p:blipFill>
        <p:spPr>
          <a:xfrm>
            <a:off x="6858000" y="2143080"/>
            <a:ext cx="1000080" cy="84312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1"/>
          <p:cNvSpPr/>
          <p:nvPr/>
        </p:nvSpPr>
        <p:spPr>
          <a:xfrm>
            <a:off x="1857240" y="324468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челы                              пч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4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5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7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7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800"/>
                            </p:stCondLst>
                            <p:childTnLst>
                              <p:par>
                                <p:cTn id="1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0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2800"/>
                            </p:stCondLst>
                            <p:childTnLst>
                              <p:par>
                                <p:cTn id="13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3800"/>
                            </p:stCondLst>
                            <p:childTnLst>
                              <p:par>
                                <p:cTn id="13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8" dur="8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9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4800"/>
                            </p:stCondLst>
                            <p:childTnLst>
                              <p:par>
                                <p:cTn id="13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7" dur="8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8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8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57120" y="214200"/>
            <a:ext cx="82296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9" name="Picture 4" descr="D:\Картинки\БИОЛОГИЯ\SWERI\BUMBLBEE.WMF"/>
          <p:cNvPicPr/>
          <p:nvPr/>
        </p:nvPicPr>
        <p:blipFill>
          <a:blip r:embed="rId1"/>
          <a:stretch/>
        </p:blipFill>
        <p:spPr>
          <a:xfrm>
            <a:off x="1316160" y="1714680"/>
            <a:ext cx="593640" cy="500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D:\Картинки\БИОЛОГИЯ\SWERI\BUMBLBEE.WMF"/>
          <p:cNvPicPr/>
          <p:nvPr/>
        </p:nvPicPr>
        <p:blipFill>
          <a:blip r:embed="rId2"/>
          <a:stretch/>
        </p:blipFill>
        <p:spPr>
          <a:xfrm>
            <a:off x="1857240" y="1285920"/>
            <a:ext cx="1000440" cy="8683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D:\Картинки\БИОЛОГИЯ\SWERI\BUMBLBEE.WMF"/>
          <p:cNvPicPr/>
          <p:nvPr/>
        </p:nvPicPr>
        <p:blipFill>
          <a:blip r:embed="rId3"/>
          <a:stretch/>
        </p:blipFill>
        <p:spPr>
          <a:xfrm>
            <a:off x="1000080" y="571680"/>
            <a:ext cx="1000080" cy="8427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D:\Картинки\БИОЛОГИЯ\SWERI\BUMBLBEE.WMF"/>
          <p:cNvPicPr/>
          <p:nvPr/>
        </p:nvPicPr>
        <p:blipFill>
          <a:blip r:embed="rId4"/>
          <a:stretch/>
        </p:blipFill>
        <p:spPr>
          <a:xfrm>
            <a:off x="5929200" y="1214280"/>
            <a:ext cx="1357560" cy="1230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9" descr="book35"/>
          <p:cNvPicPr/>
          <p:nvPr/>
        </p:nvPicPr>
        <p:blipFill>
          <a:blip r:embed="rId5"/>
          <a:stretch/>
        </p:blipFill>
        <p:spPr>
          <a:xfrm>
            <a:off x="7500960" y="5072040"/>
            <a:ext cx="115236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9" dur="8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8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7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6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5712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послушные слов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071600" y="3929040"/>
            <a:ext cx="5072040" cy="2928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ны слова с буквами разного размера. Прочитай  сначала слова, записанные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ленькими буквами, затем - большим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6" name="Picture 10" descr="book37"/>
          <p:cNvPicPr/>
          <p:nvPr/>
        </p:nvPicPr>
        <p:blipFill>
          <a:blip r:embed="rId1"/>
          <a:stretch/>
        </p:blipFill>
        <p:spPr>
          <a:xfrm>
            <a:off x="785880" y="5429160"/>
            <a:ext cx="1511280" cy="8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82" dur="indefinite" restart="never" nodeType="tmRoot">
          <p:childTnLst>
            <p:seq>
              <p:cTn id="1383" dur="indefinite" nodeType="mainSeq">
                <p:childTnLst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3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4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285480"/>
            <a:ext cx="82296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нОоМс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14e09"/>
                </a:solidFill>
                <a:latin typeface="Times New Roman"/>
                <a:ea typeface="Times New Roman"/>
              </a:rPr>
              <a:t>нос               сом                             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рОуЖкАа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14e09"/>
                </a:solidFill>
                <a:latin typeface="Times New Roman"/>
                <a:ea typeface="Times New Roman"/>
              </a:rPr>
              <a:t>рука           кожа</a:t>
            </a: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8" name="Picture 9" descr="book35"/>
          <p:cNvPicPr/>
          <p:nvPr/>
        </p:nvPicPr>
        <p:blipFill>
          <a:blip r:embed="rId1"/>
          <a:stretch/>
        </p:blipFill>
        <p:spPr>
          <a:xfrm>
            <a:off x="7572240" y="492912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nodeType="clickEffect" fill="hold">
                      <p:stCondLst>
                        <p:cond delay="indefinite"/>
                      </p:stCondLst>
                      <p:childTnLst>
                        <p:par>
                          <p:cTn id="1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10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0" dur="10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nodeType="clickEffect" fill="hold">
                      <p:stCondLst>
                        <p:cond delay="indefinite"/>
                      </p:stCondLst>
                      <p:childTnLst>
                        <p:par>
                          <p:cTn id="1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6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47040" cy="70102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бусы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071600" y="3886200"/>
            <a:ext cx="507204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гадай зашифрованное слово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2" name="Picture 10" descr="book37"/>
          <p:cNvPicPr/>
          <p:nvPr/>
        </p:nvPicPr>
        <p:blipFill>
          <a:blip r:embed="rId2"/>
          <a:stretch/>
        </p:blipFill>
        <p:spPr>
          <a:xfrm>
            <a:off x="785880" y="5429160"/>
            <a:ext cx="1511280" cy="8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4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5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Рисунок 3" descr="8"/>
          <p:cNvPicPr/>
          <p:nvPr/>
        </p:nvPicPr>
        <p:blipFill>
          <a:blip r:embed="rId1"/>
          <a:stretch/>
        </p:blipFill>
        <p:spPr>
          <a:xfrm>
            <a:off x="642960" y="0"/>
            <a:ext cx="7929720" cy="65721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о</a:t>
            </a:r>
            <a:r>
              <a:rPr b="1" lang="ru-RU" sz="6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д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ло</a:t>
            </a:r>
            <a:r>
              <a:rPr b="1" lang="ru-RU" sz="6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ж</a:t>
            </a:r>
            <a:r>
              <a:rPr b="1" lang="ru-RU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5" name="Picture 9" descr="book35"/>
          <p:cNvPicPr/>
          <p:nvPr/>
        </p:nvPicPr>
        <p:blipFill>
          <a:blip r:embed="rId2"/>
          <a:stretch/>
        </p:blipFill>
        <p:spPr>
          <a:xfrm>
            <a:off x="7000920" y="514368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9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4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5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6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xit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1540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10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7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8" dur="1000" fill="hold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nodeType="clickEffect" fill="hold">
                      <p:stCondLst>
                        <p:cond delay="indefinite"/>
                      </p:stCondLst>
                      <p:childTnLst>
                        <p:par>
                          <p:cTn id="1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5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5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28584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рыба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1" lang="ru-RU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кран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07" name="Рисунок 3" descr="C:\Documents and Settings\Windows XP\Рабочий стол\ребусы, головоломки\997.gif"/>
          <p:cNvPicPr/>
          <p:nvPr/>
        </p:nvPicPr>
        <p:blipFill>
          <a:blip r:embed="rId1"/>
          <a:stretch/>
        </p:blipFill>
        <p:spPr>
          <a:xfrm>
            <a:off x="1285920" y="214200"/>
            <a:ext cx="2438280" cy="2371680"/>
          </a:xfrm>
          <a:prstGeom prst="rect">
            <a:avLst/>
          </a:prstGeom>
          <a:ln w="0">
            <a:noFill/>
          </a:ln>
        </p:spPr>
      </p:pic>
      <p:pic>
        <p:nvPicPr>
          <p:cNvPr id="408" name="Рисунок 5" descr="Догадайся!"/>
          <p:cNvPicPr/>
          <p:nvPr/>
        </p:nvPicPr>
        <p:blipFill>
          <a:blip r:embed="rId2"/>
          <a:stretch/>
        </p:blipFill>
        <p:spPr>
          <a:xfrm>
            <a:off x="1857240" y="3429000"/>
            <a:ext cx="2357640" cy="2500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nodeType="clickEffect" fill="hold">
                      <p:stCondLst>
                        <p:cond delay="indefinite"/>
                      </p:stCondLst>
                      <p:childTnLst>
                        <p:par>
                          <p:cTn id="1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5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nodeType="clickEffect" fill="hold">
                      <p:stCondLst>
                        <p:cond delay="indefinite"/>
                      </p:stCondLst>
                      <p:childTnLst>
                        <p:par>
                          <p:cTn id="1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3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nodeType="clickEffect" fill="hold">
                      <p:stCondLst>
                        <p:cond delay="indefinite"/>
                      </p:stCondLst>
                      <p:childTnLst>
                        <p:par>
                          <p:cTn id="1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4581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Arial Black"/>
              </a:rPr>
              <a:t>Назови одним словом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785600" y="1928880"/>
            <a:ext cx="6643800" cy="247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70c0"/>
                </a:solidFill>
                <a:latin typeface="Corbel"/>
              </a:rPr>
              <a:t>                                   </a:t>
            </a:r>
            <a:r>
              <a:rPr b="0" lang="ru-RU" sz="2600" spc="-1" strike="noStrike">
                <a:solidFill>
                  <a:srgbClr val="00b050"/>
                </a:solidFill>
                <a:latin typeface="Corbel"/>
              </a:rPr>
              <a:t>подбери к словам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orbel"/>
              </a:rPr>
              <a:t>                             </a:t>
            </a:r>
            <a:r>
              <a:rPr b="0" lang="ru-RU" sz="2600" spc="-1" strike="noStrike">
                <a:solidFill>
                  <a:srgbClr val="00b050"/>
                </a:solidFill>
                <a:latin typeface="Corbel"/>
              </a:rPr>
              <a:t>каждого ряда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b050"/>
                </a:solidFill>
                <a:latin typeface="Corbel"/>
              </a:rPr>
              <a:t>                                         </a:t>
            </a:r>
            <a:r>
              <a:rPr b="0" lang="ru-RU" sz="2600" spc="-1" strike="noStrike">
                <a:solidFill>
                  <a:srgbClr val="00b050"/>
                </a:solidFill>
                <a:latin typeface="Corbel"/>
              </a:rPr>
              <a:t>обобщающее слово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4" name="Picture 10" descr="book37"/>
          <p:cNvPicPr/>
          <p:nvPr/>
        </p:nvPicPr>
        <p:blipFill>
          <a:blip r:embed="rId1"/>
          <a:stretch/>
        </p:blipFill>
        <p:spPr>
          <a:xfrm>
            <a:off x="5857920" y="4695840"/>
            <a:ext cx="2868480" cy="1701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3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шифрованное слово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500120" y="1785960"/>
            <a:ext cx="5143680" cy="157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1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ьми из слов только первую букву. Составь новое слово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1" name="Picture 10" descr="book37"/>
          <p:cNvPicPr/>
          <p:nvPr/>
        </p:nvPicPr>
        <p:blipFill>
          <a:blip r:embed="rId1"/>
          <a:stretch/>
        </p:blipFill>
        <p:spPr>
          <a:xfrm>
            <a:off x="785880" y="5429160"/>
            <a:ext cx="1511280" cy="89712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оугольник 5"/>
          <p:cNvSpPr/>
          <p:nvPr/>
        </p:nvSpPr>
        <p:spPr>
          <a:xfrm>
            <a:off x="1928880" y="342900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гадайся, какую букву нужно взять из каждого слова, чтобы получилось новое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90" dur="indefinite" restart="never" nodeType="tmRoot">
          <p:childTnLst>
            <p:seq>
              <p:cTn id="1591" dur="indefinite" nodeType="mainSeq">
                <p:childTnLst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160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6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1071720" y="213840"/>
            <a:ext cx="757224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1: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укла     окно     трава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кот)</a:t>
            </a:r>
            <a:endParaRPr b="0" lang="en-US" sz="3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упа  енот  торт  очки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лето)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Прямоугольник 3"/>
          <p:cNvSpPr/>
          <p:nvPr/>
        </p:nvSpPr>
        <p:spPr>
          <a:xfrm>
            <a:off x="1500120" y="3286080"/>
            <a:ext cx="692964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 2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лес  она  корова  стар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ено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ор    тяну    сок    ва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рука)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000" fill="hold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0" dur="1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8" dur="1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1000" fill="hold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6" dur="1000"/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1000" fill="hold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4" dur="1000"/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28480" y="1142640"/>
            <a:ext cx="4986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награммы.</a:t>
            </a:r>
            <a:endParaRPr b="0" lang="en-US" sz="4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000320" y="3885840"/>
            <a:ext cx="5143320" cy="2685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реставь буквы, не прибавляя и не выбрасывая ни одной так, чтобы получилось новое слово.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675" dur="indefinite" restart="never" nodeType="tmRoot">
          <p:childTnLst>
            <p:seq>
              <p:cTn id="1676" dur="indefinite" nodeType="mainSeq">
                <p:childTnLst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6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7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1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1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WordArt 2"/>
          <p:cNvSpPr txBox="1"/>
          <p:nvPr/>
        </p:nvSpPr>
        <p:spPr>
          <a:xfrm>
            <a:off x="2195640" y="126828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у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18" name="WordArt 3"/>
          <p:cNvSpPr txBox="1"/>
          <p:nvPr/>
        </p:nvSpPr>
        <p:spPr>
          <a:xfrm>
            <a:off x="3348000" y="1268280"/>
            <a:ext cx="8636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к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19" name="WordArt 4"/>
          <p:cNvSpPr txBox="1"/>
          <p:nvPr/>
        </p:nvSpPr>
        <p:spPr>
          <a:xfrm>
            <a:off x="4500720" y="1268280"/>
            <a:ext cx="863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о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0" name="WordArt 5"/>
          <p:cNvSpPr txBox="1"/>
          <p:nvPr/>
        </p:nvSpPr>
        <p:spPr>
          <a:xfrm>
            <a:off x="5651640" y="1268280"/>
            <a:ext cx="86364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р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1" name="WordArt 6"/>
          <p:cNvSpPr txBox="1"/>
          <p:nvPr/>
        </p:nvSpPr>
        <p:spPr>
          <a:xfrm>
            <a:off x="226836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у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2" name="WordArt 7"/>
          <p:cNvSpPr txBox="1"/>
          <p:nvPr/>
        </p:nvSpPr>
        <p:spPr>
          <a:xfrm>
            <a:off x="334800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к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3" name="WordArt 8"/>
          <p:cNvSpPr txBox="1"/>
          <p:nvPr/>
        </p:nvSpPr>
        <p:spPr>
          <a:xfrm>
            <a:off x="442764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4" name="WordArt 9"/>
          <p:cNvSpPr txBox="1"/>
          <p:nvPr/>
        </p:nvSpPr>
        <p:spPr>
          <a:xfrm>
            <a:off x="558000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о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sp>
        <p:nvSpPr>
          <p:cNvPr id="425" name="WordArt 10"/>
          <p:cNvSpPr txBox="1"/>
          <p:nvPr/>
        </p:nvSpPr>
        <p:spPr>
          <a:xfrm>
            <a:off x="6659640" y="321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66ff33"/>
                </a:solidFill>
                <a:latin typeface="Arial"/>
              </a:rPr>
              <a:t>н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66ff33"/>
              </a:solidFill>
              <a:latin typeface="Arial"/>
              <a:ea typeface="Arial"/>
            </a:endParaRPr>
          </a:p>
        </p:txBody>
      </p:sp>
      <p:pic>
        <p:nvPicPr>
          <p:cNvPr id="426" name="Picture 11" descr="жонглер"/>
          <p:cNvPicPr/>
          <p:nvPr/>
        </p:nvPicPr>
        <p:blipFill>
          <a:blip r:embed="rId1"/>
          <a:stretch/>
        </p:blipFill>
        <p:spPr>
          <a:xfrm>
            <a:off x="250920" y="4508640"/>
            <a:ext cx="2411280" cy="1717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2" descr="UROK"/>
          <p:cNvPicPr/>
          <p:nvPr/>
        </p:nvPicPr>
        <p:blipFill>
          <a:blip r:embed="rId2"/>
          <a:stretch/>
        </p:blipFill>
        <p:spPr>
          <a:xfrm>
            <a:off x="6659640" y="804960"/>
            <a:ext cx="2233440" cy="2077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кулон"/>
          <p:cNvPicPr/>
          <p:nvPr/>
        </p:nvPicPr>
        <p:blipFill>
          <a:blip r:embed="rId3"/>
          <a:stretch/>
        </p:blipFill>
        <p:spPr>
          <a:xfrm>
            <a:off x="324000" y="4005360"/>
            <a:ext cx="1847880" cy="2465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book35"/>
          <p:cNvPicPr/>
          <p:nvPr/>
        </p:nvPicPr>
        <p:blipFill>
          <a:blip r:embed="rId4"/>
          <a:stretch/>
        </p:blipFill>
        <p:spPr>
          <a:xfrm>
            <a:off x="7143840" y="500076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nodeType="clickEffect" fill="hold">
                      <p:stCondLst>
                        <p:cond delay="indefinite"/>
                      </p:stCondLst>
                      <p:childTnLst>
                        <p:par>
                          <p:cTn id="1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23" dur="2000" fill="hold"/>
                                        <p:tgtEl>
                                          <p:spTgt spid="4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2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2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nodeType="clickEffect" fill="hold">
                      <p:stCondLst>
                        <p:cond delay="indefinite"/>
                      </p:stCondLst>
                      <p:childTnLst>
                        <p:par>
                          <p:cTn id="1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1.6763E-006 L 0.11025 -1.6763E-006 E">
                                      <p:cBhvr>
                                        <p:cTn id="1736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-1.6763E-006 L -0.12587 -1.6763E-006 E">
                                      <p:cBhvr>
                                        <p:cTn id="1738" dur="2000" fill="hold"/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1.6763E-006 L -0.12587 -1.6763E-006 E">
                                      <p:cBhvr>
                                        <p:cTn id="1749" dur="2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6763E-006 L -0.13386 -1.6763E-006 E">
                                      <p:cBhvr>
                                        <p:cTn id="1751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1.6763E-006 L 0.36215 -1.6763E-006 E">
                                      <p:cBhvr>
                                        <p:cTn id="1753" dur="2000" fill="hold"/>
                                        <p:tgtEl>
                                          <p:spTgt spid="4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5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6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WordArt 4"/>
          <p:cNvSpPr txBox="1"/>
          <p:nvPr/>
        </p:nvSpPr>
        <p:spPr>
          <a:xfrm>
            <a:off x="2050920" y="3284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а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1" name="WordArt 5"/>
          <p:cNvSpPr txBox="1"/>
          <p:nvPr/>
        </p:nvSpPr>
        <p:spPr>
          <a:xfrm>
            <a:off x="971640" y="1125360"/>
            <a:ext cx="2592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тка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2" name="WordArt 6"/>
          <p:cNvSpPr txBox="1"/>
          <p:nvPr/>
        </p:nvSpPr>
        <p:spPr>
          <a:xfrm>
            <a:off x="3708360" y="1125360"/>
            <a:ext cx="17272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н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3" name="WordArt 7"/>
          <p:cNvSpPr txBox="1"/>
          <p:nvPr/>
        </p:nvSpPr>
        <p:spPr>
          <a:xfrm>
            <a:off x="3059280" y="3284640"/>
            <a:ext cx="86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с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4" name="WordArt 8"/>
          <p:cNvSpPr txBox="1"/>
          <p:nvPr/>
        </p:nvSpPr>
        <p:spPr>
          <a:xfrm>
            <a:off x="4067280" y="3284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л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5" name="WordArt 9"/>
          <p:cNvSpPr txBox="1"/>
          <p:nvPr/>
        </p:nvSpPr>
        <p:spPr>
          <a:xfrm>
            <a:off x="5148360" y="3284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о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436" name="WordArt 10"/>
          <p:cNvSpPr txBox="1"/>
          <p:nvPr/>
        </p:nvSpPr>
        <p:spPr>
          <a:xfrm>
            <a:off x="1042920" y="328464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м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graphicFrame>
        <p:nvGraphicFramePr>
          <p:cNvPr id="437" name="Object 12"/>
          <p:cNvGraphicFramePr/>
          <p:nvPr/>
        </p:nvGraphicFramePr>
        <p:xfrm>
          <a:off x="6300720" y="836640"/>
          <a:ext cx="1905120" cy="189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836640"/>
                    <a:ext cx="19051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9" name="Picture 13" descr="812524"/>
          <p:cNvPicPr/>
          <p:nvPr/>
        </p:nvPicPr>
        <p:blipFill>
          <a:blip r:embed="rId3"/>
          <a:stretch/>
        </p:blipFill>
        <p:spPr>
          <a:xfrm>
            <a:off x="6516720" y="3357720"/>
            <a:ext cx="1622520" cy="252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0" name="Object 14"/>
          <p:cNvGraphicFramePr/>
          <p:nvPr/>
        </p:nvGraphicFramePr>
        <p:xfrm>
          <a:off x="6443640" y="3284640"/>
          <a:ext cx="1852560" cy="261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1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43640" y="3284640"/>
                    <a:ext cx="185256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16"/>
          <p:cNvGraphicFramePr/>
          <p:nvPr/>
        </p:nvGraphicFramePr>
        <p:xfrm>
          <a:off x="6156360" y="836640"/>
          <a:ext cx="2519280" cy="19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43" name="Object 1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56360" y="836640"/>
                    <a:ext cx="2519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4" name="Picture 9" descr="book35"/>
          <p:cNvPicPr/>
          <p:nvPr/>
        </p:nvPicPr>
        <p:blipFill>
          <a:blip r:embed="rId8"/>
          <a:stretch/>
        </p:blipFill>
        <p:spPr>
          <a:xfrm>
            <a:off x="7572240" y="5572080"/>
            <a:ext cx="1152720" cy="11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767" dur="indefinite" restart="never" nodeType="tmRoot">
          <p:childTnLst>
            <p:seq>
              <p:cTn id="1768" dur="indefinite" nodeType="mainSeq">
                <p:childTnLst>
                  <p:par>
                    <p:cTn id="1769" nodeType="clickEffect" fill="hold">
                      <p:stCondLst>
                        <p:cond delay="indefinite"/>
                      </p:stCondLst>
                      <p:childTnLst>
                        <p:par>
                          <p:cTn id="1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772" dur="2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0301 L -0.25208 0.00301 E">
                                      <p:cBhvr>
                                        <p:cTn id="1774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6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7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9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52 3.69942E-006 L 0.08871 0.00023 E">
                                      <p:cBhvr>
                                        <p:cTn id="179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23 L -0.22848 2.48555E-006 E">
                                      <p:cBhvr>
                                        <p:cTn id="1795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48555E-006 L 0.36024 2.48555E-006 E">
                                      <p:cBhvr>
                                        <p:cTn id="1797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9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0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428480" y="1143000"/>
            <a:ext cx="700092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ение деформированных текстов 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1811" dur="indefinite" restart="never" nodeType="tmRoot">
          <p:childTnLst>
            <p:seq>
              <p:cTn id="1812" dur="indefinite" nodeType="mainSeq">
                <p:childTnLst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https://naymenok.ru/wp-content/uploads/2018/10/skorost-chteniya-rebyonka-9.png"/>
          <p:cNvPicPr/>
          <p:nvPr/>
        </p:nvPicPr>
        <p:blipFill>
          <a:blip r:embed="rId1"/>
          <a:stretch/>
        </p:blipFill>
        <p:spPr>
          <a:xfrm>
            <a:off x="1500120" y="642960"/>
            <a:ext cx="7072560" cy="4486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6" descr="https://mk-ek.ru/wp-content/uploads/1/6/e/16e34a8c0c46b64ae506206ce733bd60.jpeg"/>
          <p:cNvPicPr/>
          <p:nvPr/>
        </p:nvPicPr>
        <p:blipFill>
          <a:blip r:embed="rId1"/>
          <a:srcRect l="3126" t="16667" r="3122" b="10415"/>
          <a:stretch/>
        </p:blipFill>
        <p:spPr>
          <a:xfrm>
            <a:off x="1428840" y="428760"/>
            <a:ext cx="7224480" cy="421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Box 1"/>
          <p:cNvSpPr/>
          <p:nvPr/>
        </p:nvSpPr>
        <p:spPr>
          <a:xfrm>
            <a:off x="1116000" y="549360"/>
            <a:ext cx="7343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пользуем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Популярная психология для родителей “Если ребенок не любит читать”; М. Кравцова, М.: “Эксмо”, 200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Резервы обучения чтению; В. Н. Зайцев, М.: “Просвещение”, 199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Чтение как психологическая проблема учащихся 1-6 классов; М. В. Гушенец, Томск: “Пеленг”,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Практическая методика обучения русскому языку в начальных классах; С. И. Поздеева, Томск: “Пеленг”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Сборник текстов и упражнений по развитию навыков техники чтения; Т. И. Кондранина, М.: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Совершенствование чтения младших Школьников; М. И. Оморокова, М.: 199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итать меньше, чтобы читать больше; И. Куликова, газета “Начальная школа” (еженедельное приложение к газете “1 сентября”), №21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85840" y="500040"/>
            <a:ext cx="82296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Рисунок 10" descr="C:\Users\user\Desktop\JGCA8OSFSDCADKPEOPCAVYTQ0ICAQXUPGKCA0G5XZ2CAW67I20CARL1RH1CA31K7M4CA03FF2YCA4RTM8WCAPYK5HQCAVZCPA3CAFNVL4KCA55BO9PCA2EKQV4CAJNBA4DCAGVIQ57CARWTXE2CA8CA4SD.jpg"/>
          <p:cNvPicPr/>
          <p:nvPr/>
        </p:nvPicPr>
        <p:blipFill>
          <a:blip r:embed="rId1"/>
          <a:stretch/>
        </p:blipFill>
        <p:spPr>
          <a:xfrm>
            <a:off x="5357880" y="5072040"/>
            <a:ext cx="1123920" cy="99072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9" descr="C:\Users\user\Desktop\468622096.jpg"/>
          <p:cNvPicPr/>
          <p:nvPr/>
        </p:nvPicPr>
        <p:blipFill>
          <a:blip r:embed="rId2"/>
          <a:stretch/>
        </p:blipFill>
        <p:spPr>
          <a:xfrm>
            <a:off x="6786720" y="4643280"/>
            <a:ext cx="1000080" cy="1000440"/>
          </a:xfrm>
          <a:prstGeom prst="rect">
            <a:avLst/>
          </a:prstGeom>
          <a:ln w="0">
            <a:noFill/>
          </a:ln>
        </p:spPr>
      </p:pic>
      <p:pic>
        <p:nvPicPr>
          <p:cNvPr id="328" name="Рисунок 8" descr="C:\Users\user\Desktop\f1.jpg"/>
          <p:cNvPicPr/>
          <p:nvPr/>
        </p:nvPicPr>
        <p:blipFill>
          <a:blip r:embed="rId3"/>
          <a:stretch/>
        </p:blipFill>
        <p:spPr>
          <a:xfrm>
            <a:off x="4143240" y="4572000"/>
            <a:ext cx="1000440" cy="95724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7" descr="C:\Users\user\Desktop\MTCAU0JI6CCAYYD35ZCAV061BWCAT38Y2LCASUSZISCA0G5FYJCAUD1ITTCALLYVDCCAOZTPMZCAKCLS7WCA9CB54UCAMUFXSUCALAJ8DBCACZU5LPCAK8ZQGLCANOVZZZCATV1SOGCA5MDM3VCAKMCSDA.jpg"/>
          <p:cNvPicPr/>
          <p:nvPr/>
        </p:nvPicPr>
        <p:blipFill>
          <a:blip r:embed="rId4"/>
          <a:stretch/>
        </p:blipFill>
        <p:spPr>
          <a:xfrm>
            <a:off x="2643120" y="4786200"/>
            <a:ext cx="1228680" cy="95724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6" descr="пони"/>
          <p:cNvPicPr/>
          <p:nvPr/>
        </p:nvPicPr>
        <p:blipFill>
          <a:blip r:embed="rId5"/>
          <a:stretch/>
        </p:blipFill>
        <p:spPr>
          <a:xfrm>
            <a:off x="1428840" y="4357800"/>
            <a:ext cx="1033200" cy="9540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" descr="C:\Мои документы\Corel User Files\TMP\9.jpg"/>
          <p:cNvPicPr/>
          <p:nvPr/>
        </p:nvPicPr>
        <p:blipFill>
          <a:blip r:embed="rId6"/>
          <a:stretch/>
        </p:blipFill>
        <p:spPr>
          <a:xfrm>
            <a:off x="4643280" y="2143080"/>
            <a:ext cx="1428840" cy="13683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7"/>
          <a:stretch/>
        </p:blipFill>
        <p:spPr>
          <a:xfrm>
            <a:off x="2928960" y="2143080"/>
            <a:ext cx="1143000" cy="1357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Мои документы\Corel User Files\TMP\15.jpg"/>
          <p:cNvPicPr/>
          <p:nvPr/>
        </p:nvPicPr>
        <p:blipFill>
          <a:blip r:embed="rId8"/>
          <a:stretch/>
        </p:blipFill>
        <p:spPr>
          <a:xfrm>
            <a:off x="1357200" y="2143080"/>
            <a:ext cx="1143000" cy="13572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" descr="C:\Мои документы\Corel User Files\TMP\23.jpg"/>
          <p:cNvPicPr/>
          <p:nvPr/>
        </p:nvPicPr>
        <p:blipFill>
          <a:blip r:embed="rId9"/>
          <a:stretch/>
        </p:blipFill>
        <p:spPr>
          <a:xfrm>
            <a:off x="6643800" y="2214720"/>
            <a:ext cx="1928880" cy="12855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одежда, комплект для прогулки"/>
          <p:cNvPicPr/>
          <p:nvPr/>
        </p:nvPicPr>
        <p:blipFill>
          <a:blip r:embed="rId10"/>
          <a:stretch/>
        </p:blipFill>
        <p:spPr>
          <a:xfrm>
            <a:off x="1714680" y="214200"/>
            <a:ext cx="1428480" cy="12924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8" descr="банный халатэ"/>
          <p:cNvPicPr/>
          <p:nvPr/>
        </p:nvPicPr>
        <p:blipFill>
          <a:blip r:embed="rId11"/>
          <a:stretch/>
        </p:blipFill>
        <p:spPr>
          <a:xfrm>
            <a:off x="6357960" y="214200"/>
            <a:ext cx="1643040" cy="1285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шапочки"/>
          <p:cNvPicPr/>
          <p:nvPr/>
        </p:nvPicPr>
        <p:blipFill>
          <a:blip r:embed="rId12"/>
          <a:stretch/>
        </p:blipFill>
        <p:spPr>
          <a:xfrm>
            <a:off x="3714840" y="214200"/>
            <a:ext cx="1714320" cy="12542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book35"/>
          <p:cNvPicPr/>
          <p:nvPr/>
        </p:nvPicPr>
        <p:blipFill>
          <a:blip r:embed="rId13"/>
          <a:stretch/>
        </p:blipFill>
        <p:spPr>
          <a:xfrm>
            <a:off x="7572240" y="570564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5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08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1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1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57200" y="1071360"/>
            <a:ext cx="607248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Corbel"/>
              </a:rPr>
              <a:t>Прочитай слоги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2857680" y="2571840"/>
            <a:ext cx="5286240" cy="247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rbel"/>
              </a:rPr>
              <a:t>              </a:t>
            </a:r>
            <a:r>
              <a:rPr b="1" i="1" lang="ru-RU" sz="2600" spc="-1" strike="noStrike">
                <a:solidFill>
                  <a:srgbClr val="00b050"/>
                </a:solidFill>
                <a:latin typeface="Corbel"/>
              </a:rPr>
              <a:t>смотри на цифру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b050"/>
                </a:solidFill>
                <a:latin typeface="Corbel"/>
              </a:rPr>
              <a:t>             </a:t>
            </a:r>
            <a:r>
              <a:rPr b="1" i="1" lang="ru-RU" sz="2600" spc="-1" strike="noStrike">
                <a:solidFill>
                  <a:srgbClr val="00b050"/>
                </a:solidFill>
                <a:latin typeface="Corbel"/>
              </a:rPr>
              <a:t>в середине строки.  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b050"/>
                </a:solidFill>
                <a:latin typeface="Corbel"/>
              </a:rPr>
              <a:t>                  </a:t>
            </a:r>
            <a:r>
              <a:rPr b="1" i="1" lang="ru-RU" sz="2600" spc="-1" strike="noStrike">
                <a:solidFill>
                  <a:srgbClr val="00b050"/>
                </a:solidFill>
                <a:latin typeface="Corbel"/>
              </a:rPr>
              <a:t>Читай слоги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0" descr="book37"/>
          <p:cNvPicPr/>
          <p:nvPr/>
        </p:nvPicPr>
        <p:blipFill>
          <a:blip r:embed="rId1"/>
          <a:stretch/>
        </p:blipFill>
        <p:spPr>
          <a:xfrm>
            <a:off x="1928880" y="5572080"/>
            <a:ext cx="1511280" cy="8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3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1720" y="714240"/>
            <a:ext cx="79293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                                  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</a:t>
            </a:r>
            <a:r>
              <a:rPr b="1" lang="ru-RU" sz="6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6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</a:t>
            </a:r>
            <a:endParaRPr b="0" lang="en-US" sz="6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      </a:t>
            </a:r>
            <a:r>
              <a:rPr b="1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У</a:t>
            </a:r>
            <a:endParaRPr b="0" lang="en-US" sz="6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         </a:t>
            </a:r>
            <a:r>
              <a:rPr b="1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О</a:t>
            </a:r>
            <a:endParaRPr b="0" lang="en-US" sz="6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            </a:t>
            </a:r>
            <a:r>
              <a:rPr b="1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Ы</a:t>
            </a:r>
            <a:endParaRPr b="0" lang="en-US" sz="61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               </a:t>
            </a:r>
            <a:r>
              <a:rPr b="1" lang="ru-RU" sz="6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 </a:t>
            </a:r>
            <a:r>
              <a:rPr b="1" lang="ru-RU" sz="61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И</a:t>
            </a:r>
            <a:endParaRPr b="0" lang="en-US" sz="6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928440" y="71388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Е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 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Я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     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Ю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         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Э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                </a:t>
            </a: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И</a:t>
            </a: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йди слова.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2428560" y="2214720"/>
            <a:ext cx="5357880" cy="2471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слова спрятались сред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2060"/>
                </a:solidFill>
                <a:latin typeface="Corbel"/>
              </a:rPr>
              <a:t>букв. Попробуй их найт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6" name="Picture 10" descr="book37"/>
          <p:cNvPicPr/>
          <p:nvPr/>
        </p:nvPicPr>
        <p:blipFill>
          <a:blip r:embed="rId1"/>
          <a:stretch/>
        </p:blipFill>
        <p:spPr>
          <a:xfrm>
            <a:off x="7000920" y="5572080"/>
            <a:ext cx="1511280" cy="89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7"/>
          <p:cNvSpPr txBox="1"/>
          <p:nvPr/>
        </p:nvSpPr>
        <p:spPr>
          <a:xfrm>
            <a:off x="395280" y="4581360"/>
            <a:ext cx="8424720" cy="133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71720" y="142560"/>
            <a:ext cx="782928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 К Р С О М Д Л Ю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сом)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261101"/>
                </a:solidFill>
                <a:latin typeface="Times New Roman"/>
                <a:ea typeface="Times New Roman"/>
              </a:rPr>
              <a:t>А А В Г Н О Г А Ь У Е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нога)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С Т Ъ Ш И Т Р А В А Й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трава)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 О П Е Н А Л Ж В Г Ь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пенал)</a:t>
            </a: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1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10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10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10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1000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1000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2T11:54:45Z</dcterms:created>
  <dc:creator>logoped</dc:creator>
  <dc:description/>
  <dc:language>en-US</dc:language>
  <cp:lastModifiedBy>admin</cp:lastModifiedBy>
  <dcterms:modified xsi:type="dcterms:W3CDTF">2024-01-08T18:12:49Z</dcterms:modified>
  <cp:revision>64</cp:revision>
  <dc:subject/>
  <dc:title>Упражнения,  направленные на развитие  навыка чтения</dc:title>
</cp:coreProperties>
</file>