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wmf" ContentType="image/x-wmf"/>
  <Override PartName="/ppt/media/image20.jpeg" ContentType="image/jpeg"/>
  <Override PartName="/ppt/media/image24.png" ContentType="image/png"/>
  <Override PartName="/ppt/media/image11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gif" ContentType="image/gif"/>
  <Override PartName="/ppt/media/image25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3C5-EC6D-42BF-96FD-4010DF38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E87-45BE-44BB-9CE6-9EEEE9AD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9FE-20CB-4636-BBA0-94AB5D07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FA8-8138-45DF-AAE7-976239DC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DE72-4E6F-4D78-9C3C-0BA07F0C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6CAE-891B-4CD6-94E2-FF22B014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31D-4FE7-43C3-9396-91E07DB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6279-98FB-4180-8CA1-681370EA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9306-8D2B-45BF-9885-807A65BA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DD16-158D-4E64-B71B-85797631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7912-D2E7-49B7-91FA-AB322C3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80F-3BF1-4C0E-96EF-C7D98E66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98AF-1E4B-4225-9AE3-48880316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A9A0-5E0A-488F-A246-BF391138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148F-7ABE-4A02-9CBA-78A06E19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86CE-F627-4332-A94C-87896C9E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AB60-1396-4B6B-84A7-7779E3F6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DD5E-EDBF-4D89-99CA-E2D73852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9975-4F54-4C5B-BAA0-207091AB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F07E-146F-4FDA-9592-5179EA05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E6488-6E83-4BA1-9B99-55994629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7493-790F-4078-A9E9-76D82C05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3FA6-FAD2-4EBF-AE9D-264F67CB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E889-EE9F-4D8E-9D15-8F00D01B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20BA-4780-4296-84A5-598A0E00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4C2E-37BB-4772-A5AC-95D4888E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DF37-38BA-41CE-BB4C-390ECB4B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FC9A-1E11-4202-A267-A3BDEBF0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30B1-CC7E-4A24-90E1-3567CF5F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8EDC-ABD9-403B-81DC-53381771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91D44-2153-403F-A74D-7E6F4BB3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88BF-4AAD-4024-A959-62D3CEBE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3D641-9049-4903-8243-6555F235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5EC-1166-41AF-B167-22CD91AE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65BB-1389-4511-A36F-48ED468D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4BAC4-BC2F-4D40-9DDD-8EBE1FC8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55DF6-C01B-47BB-AFA0-C97D4F78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D586F-ABA7-4FB9-A40E-FE017520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344F9-BE6E-4503-B753-82F3BA29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DC29D-4266-40C3-8FA3-09760B87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7B33-C9D6-4522-A37D-5538D4AF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EF7EA-5B38-4F72-8416-C87679BC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BF138-5F6D-4347-A7D4-EB6915BB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815D0-7BB6-4116-AB97-6369CF1D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C82-055B-4DCA-BE2D-97573630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B910D-F0B1-40B3-B213-FBDE111D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01E35-2781-4946-8569-8DA11881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CB451-0D0A-4161-B11F-B9382E8B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D1CA-9847-4B95-9C77-88DD9350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CDF24-43BB-464E-A175-3A282486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33979-2BC0-413D-B506-FC253FB3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DB420-6A0D-415D-B0B2-926BCF20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E15B4-ACB9-4ED1-8000-5493AE1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7998-3BCF-4C2D-AB14-97C74534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8BE78-0428-4852-918B-BAFF6D40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F207-C0FA-4DE9-9C00-5B62A659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99819-2FFC-40CF-BB8E-FA7102DD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9DDA7-CA42-4B06-89F6-4C9B0DFF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845D1-3458-4B98-B3A2-20B0F08A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A2B5F-6285-4B80-820B-96C55AE6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94D6E-F45D-4A9C-83EA-6394D934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E8336-80D4-4924-8741-FF44F297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9C1A6-A8F5-43D6-9AFC-5149B197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22933-4B85-4A15-BB01-4BD5E111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6EDA9-C0B3-4CBB-846F-00B8CB19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A5B76-6BC7-411D-8244-42412AAB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8F6-6AAD-495E-B090-CBB90B78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C4A4-8E42-45EC-B805-2356321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88D1D-D725-420F-80AA-B24C5996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716B2-3E0C-493C-BB7A-747449B1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AE58F-16B6-4AF6-A8BF-42455121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3DAAE-8070-471D-803E-D75ADD9C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469B5-1335-41B1-875B-CCC1899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47B36-3343-4A93-986E-3B6AD52B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BCBB1-07C3-408F-B146-931738B2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0B2C5-3037-4EEE-8F14-23304CE6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BBA2-B88E-4C3A-AACD-3CA1A309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AB8-53B6-40A3-BF48-1BE08F23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65328-7A7E-40F3-B016-4C855B1D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553A7-DC0A-4CEB-B138-707A7B0B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ED67A-1EA6-4BDF-A7AA-381460CC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3E6CC-FFEE-4BFF-A2B6-DC4C9772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9550-DBBD-43C0-AB23-DC1DDC15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A8E-4731-4A34-8DCA-35AE303E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B762-BC6A-4EA3-8A8E-55FC109864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E4F5-7C4A-4281-8C24-A97CFEA8CF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15F7-9FAE-4583-A91F-DC0309372B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3BF9-F092-41CC-85DE-7A3E77DC219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1B9-A0CD-468B-992F-7DB7F111875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4D1B-2E2D-4CF4-80FE-8058397AE0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6E66-205E-4B06-84FF-10EBCCACB9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6.png"/><Relationship Id="rId5" Type="http://schemas.openxmlformats.org/officeDocument/2006/relationships/image" Target="../media/image19.gif"/><Relationship Id="rId6" Type="http://schemas.openxmlformats.org/officeDocument/2006/relationships/image" Target="../media/image27.wmf"/><Relationship Id="rId7" Type="http://schemas.openxmlformats.org/officeDocument/2006/relationships/image" Target="../media/image27.wmf"/><Relationship Id="rId8" Type="http://schemas.openxmlformats.org/officeDocument/2006/relationships/image" Target="../media/image27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png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10"/>
          <p:cNvSpPr/>
          <p:nvPr/>
        </p:nvSpPr>
        <p:spPr>
          <a:xfrm>
            <a:off x="1785960" y="274680"/>
            <a:ext cx="690084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Упражнения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по формированию навыка чтения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 для учащихс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1" descr="http://stend54.ru/image/cache/catalog/drk_42-1000x1000.jpg"/>
          <p:cNvPicPr/>
          <p:nvPr/>
        </p:nvPicPr>
        <p:blipFill>
          <a:blip r:embed="rId1"/>
          <a:srcRect l="15390" t="-2253" r="23709" b="-1500"/>
          <a:stretch/>
        </p:blipFill>
        <p:spPr>
          <a:xfrm>
            <a:off x="6072120" y="2214720"/>
            <a:ext cx="2428920" cy="4138560"/>
          </a:xfrm>
          <a:prstGeom prst="rect">
            <a:avLst/>
          </a:prstGeom>
          <a:ln w="0">
            <a:noFill/>
          </a:ln>
        </p:spPr>
      </p:pic>
      <p:sp>
        <p:nvSpPr>
          <p:cNvPr id="320" name="Содержимое 16"/>
          <p:cNvSpPr/>
          <p:nvPr/>
        </p:nvSpPr>
        <p:spPr>
          <a:xfrm>
            <a:off x="1428840" y="4214880"/>
            <a:ext cx="457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язнова Т.Е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 Коляновская С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92880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ери слова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143160" y="2571480"/>
            <a:ext cx="4857840" cy="2428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едините слоги первого и второго столбиков так, чтобы получились сло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10" descr="book37"/>
          <p:cNvPicPr/>
          <p:nvPr/>
        </p:nvPicPr>
        <p:blipFill>
          <a:blip r:embed="rId1"/>
          <a:stretch/>
        </p:blipFill>
        <p:spPr>
          <a:xfrm>
            <a:off x="3786120" y="5715000"/>
            <a:ext cx="1511280" cy="89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             З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ЛА             М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О             Б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И             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У             Н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9" descr="book35"/>
          <p:cNvPicPr/>
          <p:nvPr/>
        </p:nvPicPr>
        <p:blipFill>
          <a:blip r:embed="rId1"/>
          <a:stretch/>
        </p:blipFill>
        <p:spPr>
          <a:xfrm>
            <a:off x="7429680" y="542916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214280" y="356760"/>
            <a:ext cx="7515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л о н          г л а з 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т о л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 р и б            с т у л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2214720" y="285480"/>
            <a:ext cx="6215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               яс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               чер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               пог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у               на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               чей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9" descr="book35"/>
          <p:cNvPicPr/>
          <p:nvPr/>
        </p:nvPicPr>
        <p:blipFill>
          <a:blip r:embed="rId1"/>
          <a:stretch/>
        </p:blipFill>
        <p:spPr>
          <a:xfrm>
            <a:off x="7429680" y="542916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571760" y="357120"/>
            <a:ext cx="71150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нал           сапог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яс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учей            вечер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н                  т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ет                  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ф                  т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р                   к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ни                  но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9" descr="book35"/>
          <p:cNvPicPr/>
          <p:nvPr/>
        </p:nvPicPr>
        <p:blipFill>
          <a:blip r:embed="rId1"/>
          <a:stretch/>
        </p:blipFill>
        <p:spPr>
          <a:xfrm>
            <a:off x="7500960" y="535788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57120" y="2854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нта              сетк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фт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ерно              книга  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85560" y="1143000"/>
            <a:ext cx="6458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твертое слово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643200" y="3885840"/>
            <a:ext cx="5500800" cy="2685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ы три слова. Догадайся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связь между первыми двумя и подбери пару к третьему слову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10" descr="book37"/>
          <p:cNvPicPr/>
          <p:nvPr/>
        </p:nvPicPr>
        <p:blipFill>
          <a:blip r:embed="rId1"/>
          <a:stretch/>
        </p:blipFill>
        <p:spPr>
          <a:xfrm>
            <a:off x="1857240" y="5715000"/>
            <a:ext cx="1511280" cy="89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428480" y="357120"/>
            <a:ext cx="7257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НЬ – НОЧЬ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ИМА – ?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ЕНЬ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ТО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37-5-1lЛевитан И"/>
          <p:cNvPicPr/>
          <p:nvPr/>
        </p:nvPicPr>
        <p:blipFill>
          <a:blip r:embed="rId1"/>
          <a:stretch/>
        </p:blipFill>
        <p:spPr>
          <a:xfrm>
            <a:off x="4643280" y="2571840"/>
            <a:ext cx="3857760" cy="235404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</p:spTree>
  </p:cSld>
  <p:transition>
    <p:dissolv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8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8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2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5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72 -0.02755 C 0.15139 -0.02685 0.18906 -0.0257 0.22674 -0.0257 C 0.31771 -0.0257 0.40868 -0.02384 0.49948 -0.02755 C 0.50278 -0.02778 0.5066 -0.03704 0.5066 -0.03681 C 0.51458 -0.06644 0.50677 -0.03588 0.50955 -0.11713 C 0.51007 -0.13102 0.5151 -0.14514 0.51528 -0.15903 C 0.5158 -0.21366 0.51528 -0.26829 0.51528 -0.32292 E">
                                      <p:cBhvr>
                                        <p:cTn id="920" dur="2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D:\Рабочий стол Федичкиной Татьяны Юрьевны\картинки\Глаза\eyes31.gif"/>
          <p:cNvPicPr/>
          <p:nvPr/>
        </p:nvPicPr>
        <p:blipFill>
          <a:blip r:embed="rId1"/>
          <a:stretch/>
        </p:blipFill>
        <p:spPr>
          <a:xfrm>
            <a:off x="3071880" y="3000240"/>
            <a:ext cx="3143160" cy="2286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1213920" y="285840"/>
            <a:ext cx="7472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УХ – УХО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РЕНИЕ – ?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С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Т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З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9" descr="book35"/>
          <p:cNvPicPr/>
          <p:nvPr/>
        </p:nvPicPr>
        <p:blipFill>
          <a:blip r:embed="rId2"/>
          <a:stretch/>
        </p:blipFill>
        <p:spPr>
          <a:xfrm>
            <a:off x="7429680" y="528624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8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8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9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2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2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1 -0.00232 C 0.12448 -0.00301 0.12587 -0.00417 0.12726 -0.00417 C 0.14028 -0.00417 0.15313 -0.00232 0.16615 -0.00232 C 0.18698 -0.00232 0.20782 -0.00348 0.22865 -0.00417 C 0.32275 -0.02917 0.36719 -0.01412 0.50087 -0.01528 C 0.50955 -0.01922 0.51841 -0.02246 0.52726 -0.02639 C 0.53021 -0.02778 0.53282 -0.03125 0.5356 -0.0338 C 0.53803 -0.03588 0.5415 -0.03542 0.54393 -0.0375 C 0.54532 -0.03866 0.54653 -0.04028 0.5481 -0.04121 C 0.56007 -0.04838 0.5731 -0.04977 0.58421 -0.05973 C 0.59254 -0.07639 0.60157 -0.08843 0.60643 -0.10787 C 0.60712 -0.12986 0.60504 -0.14676 0.61198 -0.16528 C 0.61285 -0.18866 0.61181 -0.21644 0.61754 -0.23936 C 0.61806 -0.25116 0.61806 -0.26273 0.61893 -0.27454 C 0.61945 -0.28287 0.62414 -0.29236 0.62587 -0.30047 C 0.62657 -0.30348 0.62674 -0.30672 0.62726 -0.30973 C 0.62813 -0.31459 0.63004 -0.32454 0.63004 -0.32431 C 0.63178 -0.36644 0.63264 -0.37338 0.63004 -0.42269 C 0.62917 -0.43936 0.62171 -0.45602 0.62171 -0.47269 E">
                                      <p:cBhvr>
                                        <p:cTn id="1010" dur="2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714384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rbel"/>
              </a:rPr>
              <a:t>Представленные здесь задания предназначены для фронтальных и  индивидуальных занятий. Они помогают в формировании у учеников навыка чтения и развивают познавательные процессы. Кроме того, вносят в урок элемент занимательности, делают его более интересным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ЬКИЙ-СЛАДКИ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СОКИЙ – 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ЗКИ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ИННЫ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ОЛЬШО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9" descr="book35"/>
          <p:cNvPicPr/>
          <p:nvPr/>
        </p:nvPicPr>
        <p:blipFill>
          <a:blip r:embed="rId1"/>
          <a:stretch/>
        </p:blipFill>
        <p:spPr>
          <a:xfrm>
            <a:off x="7358040" y="521496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8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8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9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95 0.00903 C 0.16736 0.01019 0.18125 0.0125 0.19895 0.01459 C 0.28559 0.01389 0.37204 0.01574 0.45868 0.01273 C 0.46632 0.0125 0.47586 -0.00602 0.48368 -0.00949 C 0.48993 -0.01574 0.49704 -0.01944 0.50312 -0.02615 C 0.5085 -0.03217 0.5092 -0.0368 0.51562 -0.04097 C 0.52031 -0.05023 0.51701 -0.04537 0.52673 -0.05393 C 0.53732 -0.06342 0.52829 -0.0581 0.53507 -0.06875 C 0.53628 -0.0706 0.54288 -0.07639 0.54479 -0.07801 C 0.54913 -0.0868 0.55312 -0.09467 0.55868 -0.10208 C 0.56302 -0.11944 0.56423 -0.12685 0.56423 -0.14653 E">
                                      <p:cBhvr>
                                        <p:cTn id="1097" dur="2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ух падает.wmv" descr=""/>
          <p:cNvPicPr/>
          <p:nvPr/>
        </p:nvPicPr>
        <p:blipFill>
          <a:blip r:embed="rId1"/>
          <a:stretch/>
        </p:blipFill>
        <p:spPr>
          <a:xfrm>
            <a:off x="1857240" y="3500280"/>
            <a:ext cx="2990880" cy="1928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1000080" y="500040"/>
            <a:ext cx="7686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ДТИ – СТОЯТЬ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ЛЕЗАТЬ  -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ЗТ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ЕЗАТЬ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8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8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6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9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34 -0.01019 C 0.24774 -0.01135 0.25365 -0.00348 0.30851 -0.01574 C 0.31441 -0.01898 0.32066 -0.02246 0.32656 -0.025 C 0.33507 -0.02871 0.34479 -0.02917 0.35295 -0.03426 C 0.35955 -0.0382 0.36545 -0.04422 0.3724 -0.04723 C 0.37569 -0.04861 0.38073 -0.05093 0.38351 -0.05278 C 0.40504 -0.06829 0.38576 -0.05741 0.40156 -0.06574 C 0.40694 -0.07292 0.41059 -0.07338 0.41684 -0.07871 C 0.4283 -0.0882 0.43576 -0.10116 0.44879 -0.10463 C 0.4533 -0.10857 0.45816 -0.11065 0.46267 -0.11389 C 0.47969 -0.12639 0.50243 -0.14514 0.51406 -0.16574 C 0.51944 -0.1875 0.52587 -0.20811 0.53351 -0.22871 C 0.53524 -0.24074 0.53767 -0.25486 0.54184 -0.26574 C 0.54219 -0.2676 0.54392 -0.2801 0.54462 -0.28241 C 0.54809 -0.29352 0.55052 -0.29607 0.55295 -0.30648 C 0.55573 -0.31875 0.5559 -0.33264 0.56129 -0.34352 C 0.56076 -0.38334 0.57535 -0.44584 0.54462 -0.47315 C 0.54167 -0.47917 0.54358 -0.47871 0.54045 -0.47871 L 0.54184 -0.49352 L 0.54323 -0.48241 E">
                                      <p:cBhvr>
                                        <p:cTn id="1181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ин – много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000320" y="3857760"/>
            <a:ext cx="5143320" cy="2643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 слова – обозначения предметов в единственном и множественном числ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10" descr="book37"/>
          <p:cNvPicPr/>
          <p:nvPr/>
        </p:nvPicPr>
        <p:blipFill>
          <a:blip r:embed="rId2"/>
          <a:stretch/>
        </p:blipFill>
        <p:spPr>
          <a:xfrm>
            <a:off x="571680" y="5643720"/>
            <a:ext cx="1511280" cy="89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428840" y="213840"/>
            <a:ext cx="72295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яц                           зай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32" descr="Thumper-1-lg[1]"/>
          <p:cNvPicPr/>
          <p:nvPr/>
        </p:nvPicPr>
        <p:blipFill>
          <a:blip r:embed="rId1"/>
          <a:stretch/>
        </p:blipFill>
        <p:spPr>
          <a:xfrm>
            <a:off x="2143080" y="214200"/>
            <a:ext cx="1000080" cy="1190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2" descr="Thumper-1-lg[1]"/>
          <p:cNvPicPr/>
          <p:nvPr/>
        </p:nvPicPr>
        <p:blipFill>
          <a:blip r:embed="rId2"/>
          <a:stretch/>
        </p:blipFill>
        <p:spPr>
          <a:xfrm>
            <a:off x="6572160" y="285840"/>
            <a:ext cx="785880" cy="934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2" descr="Thumper-1-lg[1]"/>
          <p:cNvPicPr/>
          <p:nvPr/>
        </p:nvPicPr>
        <p:blipFill>
          <a:blip r:embed="rId3"/>
          <a:stretch/>
        </p:blipFill>
        <p:spPr>
          <a:xfrm>
            <a:off x="7500960" y="357120"/>
            <a:ext cx="1000080" cy="1190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" descr="Thumper-1-lg[1]"/>
          <p:cNvPicPr/>
          <p:nvPr/>
        </p:nvPicPr>
        <p:blipFill>
          <a:blip r:embed="rId4"/>
          <a:stretch/>
        </p:blipFill>
        <p:spPr>
          <a:xfrm>
            <a:off x="5357880" y="428760"/>
            <a:ext cx="780840" cy="928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book35"/>
          <p:cNvPicPr/>
          <p:nvPr/>
        </p:nvPicPr>
        <p:blipFill>
          <a:blip r:embed="rId5"/>
          <a:stretch/>
        </p:blipFill>
        <p:spPr>
          <a:xfrm>
            <a:off x="7643880" y="52149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D:\Картинки\БИОЛОГИЯ\SWERI\BUMBLBEE.WMF"/>
          <p:cNvPicPr/>
          <p:nvPr/>
        </p:nvPicPr>
        <p:blipFill>
          <a:blip r:embed="rId6"/>
          <a:stretch/>
        </p:blipFill>
        <p:spPr>
          <a:xfrm>
            <a:off x="1285920" y="2071800"/>
            <a:ext cx="1000080" cy="842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D:\Картинки\БИОЛОГИЯ\SWERI\BUMBLBEE.WMF"/>
          <p:cNvPicPr/>
          <p:nvPr/>
        </p:nvPicPr>
        <p:blipFill>
          <a:blip r:embed="rId7"/>
          <a:stretch/>
        </p:blipFill>
        <p:spPr>
          <a:xfrm>
            <a:off x="2214720" y="2214720"/>
            <a:ext cx="1000080" cy="842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D:\Картинки\БИОЛОГИЯ\SWERI\BUMBLBEE.WMF"/>
          <p:cNvPicPr/>
          <p:nvPr/>
        </p:nvPicPr>
        <p:blipFill>
          <a:blip r:embed="rId8"/>
          <a:stretch/>
        </p:blipFill>
        <p:spPr>
          <a:xfrm>
            <a:off x="2928960" y="2357280"/>
            <a:ext cx="1000080" cy="84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D:\Картинки\БИОЛОГИЯ\SWERI\BUMBLBEE.WMF"/>
          <p:cNvPicPr/>
          <p:nvPr/>
        </p:nvPicPr>
        <p:blipFill>
          <a:blip r:embed="rId9"/>
          <a:stretch/>
        </p:blipFill>
        <p:spPr>
          <a:xfrm>
            <a:off x="6858000" y="2143080"/>
            <a:ext cx="1000080" cy="84312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1"/>
          <p:cNvSpPr/>
          <p:nvPr/>
        </p:nvSpPr>
        <p:spPr>
          <a:xfrm>
            <a:off x="1857240" y="32446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челы                              пч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800"/>
                            </p:stCondLst>
                            <p:childTnLst>
                              <p:par>
                                <p:cTn id="1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3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800"/>
                            </p:stCondLst>
                            <p:childTnLst>
                              <p:par>
                                <p:cTn id="13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800"/>
                            </p:stCondLst>
                            <p:childTnLst>
                              <p:par>
                                <p:cTn id="13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57120" y="214200"/>
            <a:ext cx="82296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4" descr="D:\Картинки\БИОЛОГИЯ\SWERI\BUMBLBEE.WMF"/>
          <p:cNvPicPr/>
          <p:nvPr/>
        </p:nvPicPr>
        <p:blipFill>
          <a:blip r:embed="rId1"/>
          <a:stretch/>
        </p:blipFill>
        <p:spPr>
          <a:xfrm>
            <a:off x="1316160" y="1714680"/>
            <a:ext cx="593640" cy="500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D:\Картинки\БИОЛОГИЯ\SWERI\BUMBLBEE.WMF"/>
          <p:cNvPicPr/>
          <p:nvPr/>
        </p:nvPicPr>
        <p:blipFill>
          <a:blip r:embed="rId2"/>
          <a:stretch/>
        </p:blipFill>
        <p:spPr>
          <a:xfrm>
            <a:off x="1857240" y="1285920"/>
            <a:ext cx="1000440" cy="86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D:\Картинки\БИОЛОГИЯ\SWERI\BUMBLBEE.WMF"/>
          <p:cNvPicPr/>
          <p:nvPr/>
        </p:nvPicPr>
        <p:blipFill>
          <a:blip r:embed="rId3"/>
          <a:stretch/>
        </p:blipFill>
        <p:spPr>
          <a:xfrm>
            <a:off x="1000080" y="571680"/>
            <a:ext cx="1000080" cy="842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:\Картинки\БИОЛОГИЯ\SWERI\BUMBLBEE.WMF"/>
          <p:cNvPicPr/>
          <p:nvPr/>
        </p:nvPicPr>
        <p:blipFill>
          <a:blip r:embed="rId4"/>
          <a:stretch/>
        </p:blipFill>
        <p:spPr>
          <a:xfrm>
            <a:off x="5929200" y="1214280"/>
            <a:ext cx="1357560" cy="1230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book35"/>
          <p:cNvPicPr/>
          <p:nvPr/>
        </p:nvPicPr>
        <p:blipFill>
          <a:blip r:embed="rId5"/>
          <a:stretch/>
        </p:blipFill>
        <p:spPr>
          <a:xfrm>
            <a:off x="7500960" y="507204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послушные слов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071600" y="3929040"/>
            <a:ext cx="5072040" cy="2928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ы слова с буквами разного размера. Прочитай  сначала слова, записанные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енькими буквами, затем - больши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10" descr="book37"/>
          <p:cNvPicPr/>
          <p:nvPr/>
        </p:nvPicPr>
        <p:blipFill>
          <a:blip r:embed="rId1"/>
          <a:stretch/>
        </p:blipFill>
        <p:spPr>
          <a:xfrm>
            <a:off x="785880" y="5429160"/>
            <a:ext cx="151128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4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нОоМс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14e09"/>
                </a:solidFill>
                <a:latin typeface="Times New Roman"/>
                <a:ea typeface="Times New Roman"/>
              </a:rPr>
              <a:t>нос               сом                          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ОуЖкА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14e09"/>
                </a:solidFill>
                <a:latin typeface="Times New Roman"/>
                <a:ea typeface="Times New Roman"/>
              </a:rPr>
              <a:t>рука           кож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9" descr="book35"/>
          <p:cNvPicPr/>
          <p:nvPr/>
        </p:nvPicPr>
        <p:blipFill>
          <a:blip r:embed="rId1"/>
          <a:stretch/>
        </p:blipFill>
        <p:spPr>
          <a:xfrm>
            <a:off x="7572240" y="492912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бус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071600" y="3886200"/>
            <a:ext cx="50720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гадай зашифрованное слов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2" name="Picture 10" descr="book37"/>
          <p:cNvPicPr/>
          <p:nvPr/>
        </p:nvPicPr>
        <p:blipFill>
          <a:blip r:embed="rId2"/>
          <a:stretch/>
        </p:blipFill>
        <p:spPr>
          <a:xfrm>
            <a:off x="785880" y="5429160"/>
            <a:ext cx="151128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" descr="8"/>
          <p:cNvPicPr/>
          <p:nvPr/>
        </p:nvPicPr>
        <p:blipFill>
          <a:blip r:embed="rId1"/>
          <a:stretch/>
        </p:blipFill>
        <p:spPr>
          <a:xfrm>
            <a:off x="642960" y="0"/>
            <a:ext cx="7929720" cy="65721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о</a:t>
            </a:r>
            <a:r>
              <a:rPr b="1" lang="ru-RU" sz="6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о</a:t>
            </a:r>
            <a:r>
              <a:rPr b="1" lang="ru-RU" sz="6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ж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5" name="Picture 9" descr="book35"/>
          <p:cNvPicPr/>
          <p:nvPr/>
        </p:nvPicPr>
        <p:blipFill>
          <a:blip r:embed="rId2"/>
          <a:stretch/>
        </p:blipFill>
        <p:spPr>
          <a:xfrm>
            <a:off x="7000920" y="514368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4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5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6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40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ыба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н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Рисунок 3" descr="C:\Documents and Settings\Windows XP\Рабочий стол\ребусы, головоломки\997.gif"/>
          <p:cNvPicPr/>
          <p:nvPr/>
        </p:nvPicPr>
        <p:blipFill>
          <a:blip r:embed="rId1"/>
          <a:stretch/>
        </p:blipFill>
        <p:spPr>
          <a:xfrm>
            <a:off x="1285920" y="214200"/>
            <a:ext cx="2438280" cy="2371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" descr="Догадайся!"/>
          <p:cNvPicPr/>
          <p:nvPr/>
        </p:nvPicPr>
        <p:blipFill>
          <a:blip r:embed="rId2"/>
          <a:stretch/>
        </p:blipFill>
        <p:spPr>
          <a:xfrm>
            <a:off x="1857240" y="3429000"/>
            <a:ext cx="235764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4581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Arial Black"/>
              </a:rPr>
              <a:t>Назови одним словом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785600" y="1928880"/>
            <a:ext cx="6643800" cy="247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rbel"/>
              </a:rPr>
              <a:t>                                   </a:t>
            </a: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подбери к словам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                             </a:t>
            </a: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каждого ряд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                                         </a:t>
            </a: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обобщающее слов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10" descr="book37"/>
          <p:cNvPicPr/>
          <p:nvPr/>
        </p:nvPicPr>
        <p:blipFill>
          <a:blip r:embed="rId1"/>
          <a:stretch/>
        </p:blipFill>
        <p:spPr>
          <a:xfrm>
            <a:off x="5857920" y="4695840"/>
            <a:ext cx="2868480" cy="170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шифрованное слово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500120" y="1785960"/>
            <a:ext cx="5143680" cy="157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1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ьми из слов только первую букву. Составь новое слов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10" descr="book37"/>
          <p:cNvPicPr/>
          <p:nvPr/>
        </p:nvPicPr>
        <p:blipFill>
          <a:blip r:embed="rId1"/>
          <a:stretch/>
        </p:blipFill>
        <p:spPr>
          <a:xfrm>
            <a:off x="785880" y="5429160"/>
            <a:ext cx="1511280" cy="8971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1928880" y="342900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гадайся, какую букву нужно взять из каждого слова, чтобы получилось ново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6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6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071720" y="213840"/>
            <a:ext cx="757224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1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укла     окно     трава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т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па  енот  торт  очк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ето)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Прямоугольник 3"/>
          <p:cNvSpPr/>
          <p:nvPr/>
        </p:nvSpPr>
        <p:spPr>
          <a:xfrm>
            <a:off x="1500120" y="3286080"/>
            <a:ext cx="69296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2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ес  она  корова  ст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но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р    тяну    сок    в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рука)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28480" y="1142640"/>
            <a:ext cx="4986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граммы.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000320" y="3885840"/>
            <a:ext cx="5143320" cy="2685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тавь буквы, не прибавляя и не выбрасывая ни одной так, чтобы получилось новое слово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6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2"/>
          <p:cNvSpPr txBox="1"/>
          <p:nvPr/>
        </p:nvSpPr>
        <p:spPr>
          <a:xfrm>
            <a:off x="2195640" y="126828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у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18" name="WordArt 3"/>
          <p:cNvSpPr txBox="1"/>
          <p:nvPr/>
        </p:nvSpPr>
        <p:spPr>
          <a:xfrm>
            <a:off x="3348000" y="126828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к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19" name="WordArt 4"/>
          <p:cNvSpPr txBox="1"/>
          <p:nvPr/>
        </p:nvSpPr>
        <p:spPr>
          <a:xfrm>
            <a:off x="4500720" y="1268280"/>
            <a:ext cx="863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0" name="WordArt 5"/>
          <p:cNvSpPr txBox="1"/>
          <p:nvPr/>
        </p:nvSpPr>
        <p:spPr>
          <a:xfrm>
            <a:off x="5651640" y="1268280"/>
            <a:ext cx="863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р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1" name="WordArt 6"/>
          <p:cNvSpPr txBox="1"/>
          <p:nvPr/>
        </p:nvSpPr>
        <p:spPr>
          <a:xfrm>
            <a:off x="226836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у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2" name="WordArt 7"/>
          <p:cNvSpPr txBox="1"/>
          <p:nvPr/>
        </p:nvSpPr>
        <p:spPr>
          <a:xfrm>
            <a:off x="334800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к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3" name="WordArt 8"/>
          <p:cNvSpPr txBox="1"/>
          <p:nvPr/>
        </p:nvSpPr>
        <p:spPr>
          <a:xfrm>
            <a:off x="442764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4" name="WordArt 9"/>
          <p:cNvSpPr txBox="1"/>
          <p:nvPr/>
        </p:nvSpPr>
        <p:spPr>
          <a:xfrm>
            <a:off x="558000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5" name="WordArt 10"/>
          <p:cNvSpPr txBox="1"/>
          <p:nvPr/>
        </p:nvSpPr>
        <p:spPr>
          <a:xfrm>
            <a:off x="665964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н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pic>
        <p:nvPicPr>
          <p:cNvPr id="426" name="Picture 11" descr="жонглер"/>
          <p:cNvPicPr/>
          <p:nvPr/>
        </p:nvPicPr>
        <p:blipFill>
          <a:blip r:embed="rId1"/>
          <a:stretch/>
        </p:blipFill>
        <p:spPr>
          <a:xfrm>
            <a:off x="250920" y="4508640"/>
            <a:ext cx="2411280" cy="1717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2" descr="UROK"/>
          <p:cNvPicPr/>
          <p:nvPr/>
        </p:nvPicPr>
        <p:blipFill>
          <a:blip r:embed="rId2"/>
          <a:stretch/>
        </p:blipFill>
        <p:spPr>
          <a:xfrm>
            <a:off x="6659640" y="804960"/>
            <a:ext cx="2233440" cy="2077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кулон"/>
          <p:cNvPicPr/>
          <p:nvPr/>
        </p:nvPicPr>
        <p:blipFill>
          <a:blip r:embed="rId3"/>
          <a:stretch/>
        </p:blipFill>
        <p:spPr>
          <a:xfrm>
            <a:off x="324000" y="4005360"/>
            <a:ext cx="1847880" cy="2465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book35"/>
          <p:cNvPicPr/>
          <p:nvPr/>
        </p:nvPicPr>
        <p:blipFill>
          <a:blip r:embed="rId4"/>
          <a:stretch/>
        </p:blipFill>
        <p:spPr>
          <a:xfrm>
            <a:off x="7143840" y="500076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23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2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6763E-006 L 0.11025 -1.6763E-006 E">
                                      <p:cBhvr>
                                        <p:cTn id="1736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1.6763E-006 L -0.12587 -1.6763E-006 E">
                                      <p:cBhvr>
                                        <p:cTn id="1738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1.6763E-006 L -0.12587 -1.6763E-006 E">
                                      <p:cBhvr>
                                        <p:cTn id="1749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6763E-006 L -0.13386 -1.6763E-006 E">
                                      <p:cBhvr>
                                        <p:cTn id="1751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763E-006 L 0.36215 -1.6763E-006 E">
                                      <p:cBhvr>
                                        <p:cTn id="1753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5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4"/>
          <p:cNvSpPr txBox="1"/>
          <p:nvPr/>
        </p:nvSpPr>
        <p:spPr>
          <a:xfrm>
            <a:off x="2050920" y="3284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а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1" name="WordArt 5"/>
          <p:cNvSpPr txBox="1"/>
          <p:nvPr/>
        </p:nvSpPr>
        <p:spPr>
          <a:xfrm>
            <a:off x="971640" y="1125360"/>
            <a:ext cx="2592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тка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2" name="WordArt 6"/>
          <p:cNvSpPr txBox="1"/>
          <p:nvPr/>
        </p:nvSpPr>
        <p:spPr>
          <a:xfrm>
            <a:off x="3708360" y="1125360"/>
            <a:ext cx="1727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3" name="WordArt 7"/>
          <p:cNvSpPr txBox="1"/>
          <p:nvPr/>
        </p:nvSpPr>
        <p:spPr>
          <a:xfrm>
            <a:off x="3059280" y="3284640"/>
            <a:ext cx="86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4" name="WordArt 8"/>
          <p:cNvSpPr txBox="1"/>
          <p:nvPr/>
        </p:nvSpPr>
        <p:spPr>
          <a:xfrm>
            <a:off x="4067280" y="3284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5" name="WordArt 9"/>
          <p:cNvSpPr txBox="1"/>
          <p:nvPr/>
        </p:nvSpPr>
        <p:spPr>
          <a:xfrm>
            <a:off x="5148360" y="3284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6" name="WordArt 10"/>
          <p:cNvSpPr txBox="1"/>
          <p:nvPr/>
        </p:nvSpPr>
        <p:spPr>
          <a:xfrm>
            <a:off x="1042920" y="3284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graphicFrame>
        <p:nvGraphicFramePr>
          <p:cNvPr id="437" name="Object 12"/>
          <p:cNvGraphicFramePr/>
          <p:nvPr/>
        </p:nvGraphicFramePr>
        <p:xfrm>
          <a:off x="6300720" y="836640"/>
          <a:ext cx="19051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836640"/>
                    <a:ext cx="19051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13" descr="812524"/>
          <p:cNvPicPr/>
          <p:nvPr/>
        </p:nvPicPr>
        <p:blipFill>
          <a:blip r:embed="rId3"/>
          <a:stretch/>
        </p:blipFill>
        <p:spPr>
          <a:xfrm>
            <a:off x="6516720" y="3357720"/>
            <a:ext cx="1622520" cy="25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0" name="Object 14"/>
          <p:cNvGraphicFramePr/>
          <p:nvPr/>
        </p:nvGraphicFramePr>
        <p:xfrm>
          <a:off x="6443640" y="3284640"/>
          <a:ext cx="1852560" cy="261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3284640"/>
                    <a:ext cx="185256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6"/>
          <p:cNvGraphicFramePr/>
          <p:nvPr/>
        </p:nvGraphicFramePr>
        <p:xfrm>
          <a:off x="6156360" y="836640"/>
          <a:ext cx="2519280" cy="19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3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56360" y="836640"/>
                    <a:ext cx="2519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4" name="Picture 9" descr="book35"/>
          <p:cNvPicPr/>
          <p:nvPr/>
        </p:nvPicPr>
        <p:blipFill>
          <a:blip r:embed="rId8"/>
          <a:stretch/>
        </p:blipFill>
        <p:spPr>
          <a:xfrm>
            <a:off x="7572240" y="557208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72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0301 L -0.25208 0.00301 E">
                                      <p:cBhvr>
                                        <p:cTn id="1774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9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2 3.69942E-006 L 0.08871 0.00023 E">
                                      <p:cBhvr>
                                        <p:cTn id="17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L -0.22848 2.48555E-006 E">
                                      <p:cBhvr>
                                        <p:cTn id="1795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8555E-006 L 0.36024 2.48555E-006 E">
                                      <p:cBhvr>
                                        <p:cTn id="1797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9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8480" y="1143000"/>
            <a:ext cx="700092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ение деформированных текстов 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https://naymenok.ru/wp-content/uploads/2018/10/skorost-chteniya-rebyonka-9.png"/>
          <p:cNvPicPr/>
          <p:nvPr/>
        </p:nvPicPr>
        <p:blipFill>
          <a:blip r:embed="rId1"/>
          <a:stretch/>
        </p:blipFill>
        <p:spPr>
          <a:xfrm>
            <a:off x="1500120" y="642960"/>
            <a:ext cx="7072560" cy="448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s://mk-ek.ru/wp-content/uploads/1/6/e/16e34a8c0c46b64ae506206ce733bd60.jpeg"/>
          <p:cNvPicPr/>
          <p:nvPr/>
        </p:nvPicPr>
        <p:blipFill>
          <a:blip r:embed="rId1"/>
          <a:srcRect l="3126" t="16667" r="3122" b="10415"/>
          <a:stretch/>
        </p:blipFill>
        <p:spPr>
          <a:xfrm>
            <a:off x="1428840" y="428760"/>
            <a:ext cx="7224480" cy="42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1116000" y="549360"/>
            <a:ext cx="734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пулярная психология для родителей “Если ребенок не любит читать”; М. Кравцова, М.: “Эксмо”,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езервы обучения чтению; В. Н. Зайцев, М.: “Просвещение”, 19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Чтение как психологическая проблема учащихся 1-6 классов; М. В. Гушенец, Томск: “Пеленг”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рактическая методика обучения русскому языку в начальных классах; С. И. Поздеева, Томск: “Пеленг”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борник текстов и упражнений по развитию навыков техники чтения; Т. И. Кондранина, М.: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Совершенствование чтения младших Школьников; М. И. Оморокова, М.: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итать меньше, чтобы читать больше; И. Куликова, газета “Начальная школа” (еженедельное приложение к газете “1 сентября”), №21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Рисунок 10" descr="C:\Users\user\Desktop\JGCA8OSFSDCADKPEOPCAVYTQ0ICAQXUPGKCA0G5XZ2CAW67I20CARL1RH1CA31K7M4CA03FF2YCA4RTM8WCAPYK5HQCAVZCPA3CAFNVL4KCA55BO9PCA2EKQV4CAJNBA4DCAGVIQ57CARWTXE2CA8CA4SD.jpg"/>
          <p:cNvPicPr/>
          <p:nvPr/>
        </p:nvPicPr>
        <p:blipFill>
          <a:blip r:embed="rId1"/>
          <a:stretch/>
        </p:blipFill>
        <p:spPr>
          <a:xfrm>
            <a:off x="5357880" y="5072040"/>
            <a:ext cx="1123920" cy="9907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9" descr="C:\Users\user\Desktop\468622096.jpg"/>
          <p:cNvPicPr/>
          <p:nvPr/>
        </p:nvPicPr>
        <p:blipFill>
          <a:blip r:embed="rId2"/>
          <a:stretch/>
        </p:blipFill>
        <p:spPr>
          <a:xfrm>
            <a:off x="6786720" y="464328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8" descr="C:\Users\user\Desktop\f1.jpg"/>
          <p:cNvPicPr/>
          <p:nvPr/>
        </p:nvPicPr>
        <p:blipFill>
          <a:blip r:embed="rId3"/>
          <a:stretch/>
        </p:blipFill>
        <p:spPr>
          <a:xfrm>
            <a:off x="4143240" y="4572000"/>
            <a:ext cx="1000440" cy="9572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7" descr="C:\Users\user\Desktop\MTCAU0JI6CCAYYD35ZCAV061BWCAT38Y2LCASUSZISCA0G5FYJCAUD1ITTCALLYVDCCAOZTPMZCAKCLS7WCA9CB54UCAMUFXSUCALAJ8DBCACZU5LPCAK8ZQGLCANOVZZZCATV1SOGCA5MDM3VCAKMCSDA.jpg"/>
          <p:cNvPicPr/>
          <p:nvPr/>
        </p:nvPicPr>
        <p:blipFill>
          <a:blip r:embed="rId4"/>
          <a:stretch/>
        </p:blipFill>
        <p:spPr>
          <a:xfrm>
            <a:off x="2643120" y="4786200"/>
            <a:ext cx="1228680" cy="95724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6" descr="пони"/>
          <p:cNvPicPr/>
          <p:nvPr/>
        </p:nvPicPr>
        <p:blipFill>
          <a:blip r:embed="rId5"/>
          <a:stretch/>
        </p:blipFill>
        <p:spPr>
          <a:xfrm>
            <a:off x="1428840" y="4357800"/>
            <a:ext cx="1033200" cy="954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C:\Мои документы\Corel User Files\TMP\9.jpg"/>
          <p:cNvPicPr/>
          <p:nvPr/>
        </p:nvPicPr>
        <p:blipFill>
          <a:blip r:embed="rId6"/>
          <a:stretch/>
        </p:blipFill>
        <p:spPr>
          <a:xfrm>
            <a:off x="4643280" y="2143080"/>
            <a:ext cx="1428840" cy="1368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7"/>
          <a:stretch/>
        </p:blipFill>
        <p:spPr>
          <a:xfrm>
            <a:off x="2928960" y="2143080"/>
            <a:ext cx="1143000" cy="1357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Мои документы\Corel User Files\TMP\15.jpg"/>
          <p:cNvPicPr/>
          <p:nvPr/>
        </p:nvPicPr>
        <p:blipFill>
          <a:blip r:embed="rId8"/>
          <a:stretch/>
        </p:blipFill>
        <p:spPr>
          <a:xfrm>
            <a:off x="1357200" y="2143080"/>
            <a:ext cx="1143000" cy="1357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Мои документы\Corel User Files\TMP\23.jpg"/>
          <p:cNvPicPr/>
          <p:nvPr/>
        </p:nvPicPr>
        <p:blipFill>
          <a:blip r:embed="rId9"/>
          <a:stretch/>
        </p:blipFill>
        <p:spPr>
          <a:xfrm>
            <a:off x="6643800" y="2214720"/>
            <a:ext cx="1928880" cy="1285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одежда, комплект для прогулки"/>
          <p:cNvPicPr/>
          <p:nvPr/>
        </p:nvPicPr>
        <p:blipFill>
          <a:blip r:embed="rId10"/>
          <a:stretch/>
        </p:blipFill>
        <p:spPr>
          <a:xfrm>
            <a:off x="1714680" y="214200"/>
            <a:ext cx="1428480" cy="1292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банный халатэ"/>
          <p:cNvPicPr/>
          <p:nvPr/>
        </p:nvPicPr>
        <p:blipFill>
          <a:blip r:embed="rId11"/>
          <a:stretch/>
        </p:blipFill>
        <p:spPr>
          <a:xfrm>
            <a:off x="6357960" y="214200"/>
            <a:ext cx="1643040" cy="128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шапочки"/>
          <p:cNvPicPr/>
          <p:nvPr/>
        </p:nvPicPr>
        <p:blipFill>
          <a:blip r:embed="rId12"/>
          <a:stretch/>
        </p:blipFill>
        <p:spPr>
          <a:xfrm>
            <a:off x="3714840" y="214200"/>
            <a:ext cx="1714320" cy="125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book35"/>
          <p:cNvPicPr/>
          <p:nvPr/>
        </p:nvPicPr>
        <p:blipFill>
          <a:blip r:embed="rId13"/>
          <a:stretch/>
        </p:blipFill>
        <p:spPr>
          <a:xfrm>
            <a:off x="7572240" y="57056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57200" y="1071360"/>
            <a:ext cx="6072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Corbel"/>
              </a:rPr>
              <a:t>Прочитай слоги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857680" y="2571840"/>
            <a:ext cx="5286240" cy="247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rbel"/>
              </a:rPr>
              <a:t>              </a:t>
            </a: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смотри на цифру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             </a:t>
            </a: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в середине строки.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                  </a:t>
            </a: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Читай слог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0" descr="book37"/>
          <p:cNvPicPr/>
          <p:nvPr/>
        </p:nvPicPr>
        <p:blipFill>
          <a:blip r:embed="rId1"/>
          <a:stretch/>
        </p:blipFill>
        <p:spPr>
          <a:xfrm>
            <a:off x="1928880" y="5572080"/>
            <a:ext cx="151128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720" y="714240"/>
            <a:ext cx="7929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                         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</a:t>
            </a:r>
            <a:r>
              <a:rPr b="1" lang="ru-RU" sz="6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6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   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У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      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О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         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Ы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            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 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И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928440" y="71388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Е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Я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    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Ю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        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Э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        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И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йди слова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428560" y="2214720"/>
            <a:ext cx="5357880" cy="247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слова спрятались сред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букв. Попробуй их найт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10" descr="book37"/>
          <p:cNvPicPr/>
          <p:nvPr/>
        </p:nvPicPr>
        <p:blipFill>
          <a:blip r:embed="rId1"/>
          <a:stretch/>
        </p:blipFill>
        <p:spPr>
          <a:xfrm>
            <a:off x="7000920" y="5572080"/>
            <a:ext cx="151128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7"/>
          <p:cNvSpPr txBox="1"/>
          <p:nvPr/>
        </p:nvSpPr>
        <p:spPr>
          <a:xfrm>
            <a:off x="395280" y="4581360"/>
            <a:ext cx="842472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71720" y="142560"/>
            <a:ext cx="78292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К Р С О М Д Л Ю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ом)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61101"/>
                </a:solidFill>
                <a:latin typeface="Times New Roman"/>
                <a:ea typeface="Times New Roman"/>
              </a:rPr>
              <a:t>А А В Г Н О Г А Ь У Е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нога)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 Т Ъ Ш И Т Р А В А Й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рава)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 О П Е Н А Л Ж В Г Ь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енал)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1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1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10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54:45Z</dcterms:created>
  <dc:creator>logoped</dc:creator>
  <dc:description/>
  <dc:language>en-US</dc:language>
  <cp:lastModifiedBy>admin</cp:lastModifiedBy>
  <dcterms:modified xsi:type="dcterms:W3CDTF">2024-01-08T18:12:49Z</dcterms:modified>
  <cp:revision>64</cp:revision>
  <dc:subject/>
  <dc:title>Упражнения,  направленные на развитие  навыка чтения</dc:title>
</cp:coreProperties>
</file>