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4D14-6036-4DE5-83DF-AC874BDF72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6796-9F03-41A3-BEAE-83A14C7B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DE84-D472-4E02-A3A1-D24CFACD9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9659-D91B-4E61-A18B-512E3F20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2E2-2A86-48C7-A08C-F0D7D97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32D-916D-464D-943A-4967EFE4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3BA-3768-4526-A000-8FAE4FCE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D77-9893-4F6E-88F9-4C501922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7E8E-3D49-47CB-B126-570BFFBD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655E-147C-4838-8D4E-C6467821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98F-E456-4EF4-AA0F-2DF0798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6AF-BAB5-457C-9814-BE41D45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6FCF-2C94-4EFD-903B-7FF12B08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2CF2-529C-476E-90BA-D0D4CC3D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02D5-B07A-4733-97FC-3D8C4AA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EF4-9740-474F-9F17-5A8DA6F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4C80-1D03-4703-AD24-29B4A36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0AF-A052-46BC-9119-671A329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5DF3-EC8C-4522-BF30-F2BE7AFC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1C6-8AB1-4983-8238-AD27EA14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0BC-D2E2-40ED-84DD-EE1ED551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C0AC-3F33-42E9-9D09-94EAD941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D86-B364-433C-8918-33EAAE7A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F15-7A4D-4918-9142-6C55DD5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1B6-90EA-4F49-917F-926FFEB7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877-8415-4984-B1A4-47059A7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5D0-52A1-4589-82DF-EBB83051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0A6-58CC-4344-9737-AF19AA24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D8E0-B64C-4CFD-871E-F2AB3342B3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10B7-B89B-4B5E-AB73-E0EBC411AD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upload.wikimedia.org/wikipedia/commons/e/e1/Portrait-of-Jan-Van-Eyck-by-Lampsonius.jpg&amp;iorient=&amp;icolor=&amp;site=&amp;text=&#1103;&#1085;%20&#1074;&#1072;&#1085;%20&#1069;&#1081;&#1082;%20&#1069;&#1087;&#1086;&#1093;&#1072;%20&#1042;&#1086;&#1079;&#1088;&#1086;&#1078;&#1076;&#1077;&#1085;&#1080;&#1077;%20&#1085;&#1072;&#1090;&#1102;&#1088;&#1084;&#1086;&#1088;&#1090;%20&amp;wp=&amp;pos=24&amp;isize=&amp;type=&amp;recent=&amp;rpt=simage&amp;itype=&amp;noj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thumb/7/7d/Jan_van_Eyck_002.jpg/488px-Jan_van_Eyck_002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rrita.ru/_ph/676/2/68108048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200/146620994.12f/0_81560_53c65e93_XL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artniderland.ru/f-snyders/img/e50fruit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ljplus.ru/img4/l/i/lillyho/Still-Life-with-Fruit_-Wan-Li-Porcelain_-and-Squirrel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600/wcm2008.1e/0_2859e_4a89a7da_XL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s52.radikal.ru/i135/0909/f6/6fc0e691119c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rtniderland.ru/g-ast/ast6.php" TargetMode="External"/><Relationship Id="rId2" Type="http://schemas.openxmlformats.org/officeDocument/2006/relationships/hyperlink" Target="http://images.yandex.ru/yandsearch?img_url=www.artvedia.ru%2Fupload%2Ff0_320818719.jpg&amp;iorient=&amp;nojs=1&amp;icolor=&amp;p=1&amp;site=&amp;text=&#1055;.&#1050;&#1083;&#1072;&#1089;%20&#1085;&#1072;&#1090;&#1102;&#1088;&#1084;&#1086;&#1088;&#1090;&#1099;%2017%20&#1074;&#1077;&#1082;&#1072;&amp;wp=&amp;pos=33&amp;isize=&amp;type=&amp;recent=&amp;rpt=simage&amp;itype=" TargetMode="External"/><Relationship Id="rId3" Type="http://schemas.openxmlformats.org/officeDocument/2006/relationships/image" Target="../media/image27.jpeg"/><Relationship Id="rId4" Type="http://schemas.openxmlformats.org/officeDocument/2006/relationships/hyperlink" Target="file://commons.wikimedia.org/wiki/File:Heda_hermitage.jpg%3Fuselang=ru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ru.wikipedia.org/wiki/&#1060;&#1072;&#1081;&#1083;:Heda_hermitage.jpg" TargetMode="External"/><Relationship Id="rId7" Type="http://schemas.openxmlformats.org/officeDocument/2006/relationships/hyperlink" Target="http://ru.wikipedia.org/wiki/&#1060;&#1072;&#1081;&#1083;:Heda_hermitage.jpg" TargetMode="External"/><Relationship Id="rId8" Type="http://schemas.openxmlformats.org/officeDocument/2006/relationships/image" Target="../media/image29.png"/><Relationship Id="rId9" Type="http://schemas.openxmlformats.org/officeDocument/2006/relationships/hyperlink" Target="http://sr.gallerix.ru/1331356745/K/712490060/" TargetMode="External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hyperlink" Target="http://www.ljplus.ru/img4/l/i/lillyho/Still-Life-with-Fruit_-Wan-Li-Porcelain_-and-Squirrel.jpg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2/158/62158693_26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ostashkov.ru/foto/free/3E684C35.jpe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yandex.ru/yandsearch?text=&#1060;.&#1055;.&#1058;&#1086;&#1083;&#1089;&#1090;&#1086;&#1081;%20%20&#1082;&#1072;&#1088;&#1090;&#1080;&#1085;&#1099;%20&#1085;&#1072;&#1090;&#1102;&#1088;&#1084;&#1086;&#1088;&#1090;&#1099;&amp;img_url=artsoch.ru/uploads/posts/2012-02/1330250700_cvety-frukty-ptica.jpg&amp;pos=0&amp;rpt=simage&amp;lr=38&amp;noreask=1" TargetMode="External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.i.ua/photo/images/pic/6/0/5524506_2fba2fd.jpg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img0.liveinternet.ru/images/attach/c/1/58/951/58951796_YAbloko_i_vishnya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maslovka.org/images/555/MASHKOVII-16.jpg" TargetMode="External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b/Portrait_of_the_Composer_Alexander_Glazunov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art-portrets.ru/art/devochka_c_persikami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la-fa.ru/faqim/faq-419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-reading.org.ua/illustrations/73/73476-i_111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i017.radikal.ru/1104/e6/4e866bfab1df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losofico.net/venerebotticelli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ine.appellationamerica.com/images/appellations/features/renaissance-art-300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g1.liveinternet.ru/images/attach/c/1/59/291/59291803_Devushka_s_korzinoy_fruktov_15551558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685800" y="41832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«Изображение предметного мира 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натюрморт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400800" y="485136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6" descr="http://www.art-vernissage.ru/files/sirenvstekleShev.jpg"/>
          <p:cNvPicPr/>
          <p:nvPr/>
        </p:nvPicPr>
        <p:blipFill>
          <a:blip r:embed="rId1"/>
          <a:stretch/>
        </p:blipFill>
        <p:spPr>
          <a:xfrm>
            <a:off x="2851200" y="2971800"/>
            <a:ext cx="37447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рождение натюрморта как изобра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66520" y="1534680"/>
            <a:ext cx="1830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95120" y="5333760"/>
            <a:ext cx="266724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1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Брейгель. «Битва Масленицы и Пост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одержимое 6" descr="http://im8-tub-ru.yandex.net/i?id=639331046-4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95680"/>
            <a:ext cx="1752840" cy="13716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http://upload.wikimedia.org/wikipedia/commons/thumb/7/7d/Jan_van_Eyck_002.jpg/488px-Jan_van_Eyck_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143000"/>
            <a:ext cx="192708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8"/>
          <p:cNvSpPr/>
          <p:nvPr/>
        </p:nvSpPr>
        <p:spPr>
          <a:xfrm>
            <a:off x="457200" y="3581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н Ван Эйк. Натюрморт. 143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45720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ан Эйк Ян (около 1390–1441), нидерландский живописе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Содержимое 11" descr="http://www.portal-slovo.ru/images/art/mip.jpg"/>
          <p:cNvPicPr/>
          <p:nvPr/>
        </p:nvPicPr>
        <p:blipFill>
          <a:blip r:embed="rId5"/>
          <a:stretch/>
        </p:blipFill>
        <p:spPr>
          <a:xfrm>
            <a:off x="2895480" y="2514600"/>
            <a:ext cx="2392560" cy="251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http://www.portal-slovo.ru/images/art/boskh02.jpg"/>
          <p:cNvPicPr/>
          <p:nvPr/>
        </p:nvPicPr>
        <p:blipFill>
          <a:blip r:embed="rId6"/>
          <a:stretch/>
        </p:blipFill>
        <p:spPr>
          <a:xfrm>
            <a:off x="5638680" y="152388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3"/>
          <p:cNvSpPr/>
          <p:nvPr/>
        </p:nvSpPr>
        <p:spPr>
          <a:xfrm flipV="1" rot="10800000">
            <a:off x="5562720" y="47883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 Бос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емь смертных грех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как жанр изобразительного искусств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22896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тюрмо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фр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e mort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ертвая природа, натура -  жанр изобразительного искусства или произведение этого жанр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 постановка, которая является объектом изображения, тоже называется натюрмортом. Он может состоять не только из неодушевленных предметов, но и включать природные формы. Поэтому более точно, принятое в англоязычных странах – тихая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юрморт как самостоятельный жанр окончательно определяется на рубеже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ов в Голланди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Содержимое 4" descr="http://www.territa.ru/_ph/676/2/6810804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0574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4572000" y="526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 .  «Фрукты и птиц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расота натюрморт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Натюрморт как самостоятельный жанр окончательно определяется на рубеже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и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веков.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век в Европе 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это век расцвета натюрморта. Художники изображали самые обычные вещи, но показывали их </a:t>
            </a:r>
            <a:r>
              <a:rPr b="1" lang="ru-RU" sz="2000" spc="-1" strike="noStrike" u="sng">
                <a:solidFill>
                  <a:srgbClr val="6d4500"/>
                </a:solidFill>
                <a:uFillTx/>
                <a:latin typeface="Times New Roman"/>
              </a:rPr>
              <a:t>красоту и поэтичность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5334120"/>
            <a:ext cx="2971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Содержимое 6" descr="http://img-fotki.yandex.ru/get/6200/146620994.12f/0_81560_53c65e93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743200"/>
            <a:ext cx="2819520" cy="350532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7"/>
          <p:cNvSpPr/>
          <p:nvPr/>
        </p:nvSpPr>
        <p:spPr>
          <a:xfrm>
            <a:off x="2438280" y="6248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-К.Хеда. 16 в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ланд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Содержимое 8" descr="http://www.artniderland.ru/f-snyders/img/e50fru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81952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6172200" y="5335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. «Фрукты в чаше и разрезанная дын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13"/>
          <p:cNvSpPr/>
          <p:nvPr/>
        </p:nvSpPr>
        <p:spPr>
          <a:xfrm>
            <a:off x="228600" y="5265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7 век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3" descr="http://www.ljplus.ru/img4/l/i/lillyho/Still-Life-with-Fruit_-Wan-Li-Porcelain_-and-Squirr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895480"/>
            <a:ext cx="274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a26d18"/>
                </a:solidFill>
                <a:latin typeface="Times New Roman"/>
              </a:rPr>
              <a:t>XVII</a:t>
            </a: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век в Европе — это век расцвета натюрморта</a:t>
            </a:r>
            <a:br>
              <a:rPr sz="2000"/>
            </a:b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Небывалое развитие натюрморта в западноевропейской живописи </a:t>
            </a:r>
            <a:r>
              <a:rPr b="0" lang="en-GB" sz="2000" spc="-1" strike="noStrike">
                <a:solidFill>
                  <a:srgbClr val="a26d18"/>
                </a:solidFill>
                <a:latin typeface="Times New Roman"/>
              </a:rPr>
              <a:t>XVII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века в значительной мере  может быть объяснено особенностями общекультурной и мировоззренческой ситуации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 ван Хёйсум. «Натюрморт с цветами и птицей» (Нидерланды). (15 апреля 168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57800" y="594324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 ван Хейсум.  «Натюрмо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ветами и фруктам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Содержимое 7" descr="http://img-fotki.yandex.ru/get/3600/wcm2008.1e/0_2859e_4a89a7da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8" descr="http://s52.radikal.ru/i135/0909/f6/6fc0e691119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057400"/>
            <a:ext cx="3421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ы голландских художник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ер Клас.  (1597—166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крабам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081160"/>
          <a:ext cx="1371600" cy="1047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104760">
                <a:tc>
                  <a:txBody>
                    <a:bodyPr lIns="13320" rIns="13320" tIns="6480" bIns="6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сожалению, невозможно отобразить картинку. </a:t>
                      </a:r>
                      <a:br>
                        <a:rPr sz="300"/>
                      </a:b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робуйте перейти на сайт </a:t>
                      </a:r>
                      <a:r>
                        <a:rPr b="0" lang="ru-RU" sz="3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http://www.artniderland.ru/g-ast/ast6.php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7640" y="1534680"/>
            <a:ext cx="1143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552720" y="2971800"/>
            <a:ext cx="22100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ллем Калф (1619-1693). «Натюрморт с лимоном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28195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http://im0-tub-ru.yandex.net/i?id=36490227-50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219320"/>
            <a:ext cx="2362320" cy="18558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0"/>
          <p:cNvSpPr/>
          <p:nvPr/>
        </p:nvSpPr>
        <p:spPr>
          <a:xfrm>
            <a:off x="228600" y="6172200"/>
            <a:ext cx="55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-К.Хеда. «Натюрморт с крабом», 1648г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http://upload.wikimedia.org/wikipedia/commons/thumb/4/4a/Heda_hermitage.jpg/275px-Heda_hermitag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733920"/>
            <a:ext cx="2438280" cy="2420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 flipH="1">
            <a:off x="6400800" y="147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  </a:t>
            </a:r>
            <a:r>
              <a:rPr b="0" i="1" lang="ru-RU" sz="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" descr="http://bits.wikimedia.org/static-1.21wmf3/skins/common/images/magnify-clip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9400" y="-27468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3"/>
          <p:cNvSpPr/>
          <p:nvPr/>
        </p:nvSpPr>
        <p:spPr>
          <a:xfrm>
            <a:off x="2971800" y="434340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ТЕР КЛАС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 первым мастером, сосредоточившим все свое внимание на изображении предметов, окружающих человека в его повседневной жизн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http://sr.gallerix.ru/1331356745/K/712490060/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990720"/>
            <a:ext cx="2133360" cy="196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http://www.artniderland.ru/g-ast/img/ast6.jpg"/>
          <p:cNvPicPr/>
          <p:nvPr/>
        </p:nvPicPr>
        <p:blipFill>
          <a:blip r:embed="rId11"/>
          <a:stretch/>
        </p:blipFill>
        <p:spPr>
          <a:xfrm>
            <a:off x="2971800" y="1600200"/>
            <a:ext cx="3319560" cy="1868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2"/>
          <p:cNvSpPr/>
          <p:nvPr/>
        </p:nvSpPr>
        <p:spPr>
          <a:xfrm>
            <a:off x="3124080" y="350532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лтазар ван дер Аст (1579 - 1657).  «Цветы и бабочк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2" descr="http://www.ljplus.ru/img4/l/i/lillyho/Still-Life-with-Fruit_-Wan-Li-Porcelain_-and-Squirrel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38680" y="3809880"/>
            <a:ext cx="3127320" cy="20718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4"/>
          <p:cNvSpPr/>
          <p:nvPr/>
        </p:nvSpPr>
        <p:spPr>
          <a:xfrm>
            <a:off x="6095880" y="58672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йдерс Франс. 1579-165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18-19 век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53468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3504960"/>
            <a:ext cx="3963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ан Батист Шарде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фарфоровым кувшином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6" descr="http://img0.liveinternet.ru/images/attach/c/1/62/158/62158693_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http://www.ostashkov.ru/foto/free/3E684C35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http://im2-tub-ru.yandex.net/i?id=541693037-14-72&amp;n=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371600"/>
            <a:ext cx="3562560" cy="3581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5029200" y="51058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П. Толстой «Цветы, фрукты, птиц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610160" y="5958000"/>
            <a:ext cx="213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.Ф.Хруц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дичью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57909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«Яблоки и листья», 1879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440" y="62485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Ре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Ð.Ð.Ð ÐµÐ¿Ð¸Ð½, Ð¯Ð±Ð»Ð¾ÐºÐ¸ Ð¸ Ð»Ð¸ÑÑÑÑ, 1879, ÐÐ Ð"/>
          <p:cNvPicPr/>
          <p:nvPr/>
        </p:nvPicPr>
        <p:blipFill>
          <a:blip r:embed="rId1"/>
          <a:srcRect l="0" t="5955" r="0" b="5955"/>
          <a:stretch/>
        </p:blipFill>
        <p:spPr>
          <a:xfrm>
            <a:off x="457200" y="457200"/>
            <a:ext cx="82296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5791320"/>
            <a:ext cx="73152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«Малина, ветка, бабочка, муравей, лист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440" y="62485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Ф. Толстой (1783 - 18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Ð¤ÐµÐ´Ð¾Ñ ÐÐµÑÑÐ¾Ð²Ð¸Ñ Ð¢Ð¾Ð»ÑÑÐ¾Ð¹, ÐÐ°ÑÑÑÐ¼Ð¾ÑÑ, ÐÐ°Ð»Ð¸Ð½Ð°, Ð²ÐµÑÐºÐ°, Ð±Ð°Ð±Ð¾ÑÐºÐ°, Ð¼ÑÑÐ°Ð²ÐµÐ¹, Ð»Ð¸ÑÑ"/>
          <p:cNvPicPr/>
          <p:nvPr/>
        </p:nvPicPr>
        <p:blipFill>
          <a:blip r:embed="rId1"/>
          <a:srcRect l="0" t="3420" r="0" b="3420"/>
          <a:stretch/>
        </p:blipFill>
        <p:spPr>
          <a:xfrm>
            <a:off x="533520" y="609480"/>
            <a:ext cx="82296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https://muzei-mira.com/templates/museum/images/paint/buket-cvetov-repin+.jpg"/>
          <p:cNvPicPr/>
          <p:nvPr/>
        </p:nvPicPr>
        <p:blipFill>
          <a:blip r:embed="rId1"/>
          <a:stretch/>
        </p:blipFill>
        <p:spPr>
          <a:xfrm>
            <a:off x="2286000" y="228600"/>
            <a:ext cx="6324480" cy="609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040" y="6248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7325"/>
                </a:solidFill>
                <a:latin typeface="Times New Roman"/>
              </a:rPr>
              <a:t>И.Репин        «Букет цветов», 1878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281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Левитан    «Сирень», 18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ÐÐ°ÑÑÑÐ¼Ð¾ÑÑÑ ÐÐµÐ²Ð¸ÑÐ°Ð½Ð° Ð¡Ð¸ÑÐµÐ½Ñ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838080" y="22860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10666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От декоративно-прикладного искусства мы переходим к повторению ВИДОВ и ЖАНРОВ изобразительного искусства 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624816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И. Левитан «Одуванчики», 1889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31" name="Picture 2" descr="ÐÐ°ÑÑÑÐ¼Ð¾ÑÑÑ ÐÐµÐ²Ð¸ÑÐ°Ð½Ð° ÐÐ´ÑÐ²Ð°Ð½ÑÐ¸ÐºÐ¸"/>
          <p:cNvPicPr/>
          <p:nvPr/>
        </p:nvPicPr>
        <p:blipFill>
          <a:blip r:embed="rId1"/>
          <a:stretch/>
        </p:blipFill>
        <p:spPr>
          <a:xfrm>
            <a:off x="2286000" y="228600"/>
            <a:ext cx="6324480" cy="609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Хруцкий   «Плоды и дыня», 1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https://im8.kommersant.ru/Issues.photo/TEMA2/2015/009/KMO_116350_05347_1_t218_191101.jpg"/>
          <p:cNvPicPr/>
          <p:nvPr/>
        </p:nvPicPr>
        <p:blipFill>
          <a:blip r:embed="rId1"/>
          <a:srcRect l="12533" t="0" r="12533" b="0"/>
          <a:stretch/>
        </p:blipFill>
        <p:spPr>
          <a:xfrm>
            <a:off x="380880" y="304920"/>
            <a:ext cx="8382240" cy="57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1080" y="6248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Крамской    «Букет цветов. Флоксы», 1884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35" name="Picture 2" descr="http://www.artcontext.info/images/stories/picture/podbor/Kramskoy/Kramskoy-024.jpg"/>
          <p:cNvPicPr/>
          <p:nvPr/>
        </p:nvPicPr>
        <p:blipFill>
          <a:blip r:embed="rId1"/>
          <a:srcRect l="0" t="17721" r="0" b="17721"/>
          <a:stretch/>
        </p:blipFill>
        <p:spPr>
          <a:xfrm>
            <a:off x="2057400" y="228600"/>
            <a:ext cx="6705720" cy="59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усские натюрморис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520" y="2174760"/>
            <a:ext cx="8458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В начале ХХ в. натюрморт в русской живописи получил расцвет и впервые стал равноправным жанром. Художники искали новые возможности в области цвета, формы, композиции натюрморта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Среди русских натюрмористов можно назвать И.Ф. Хруцкого, И.Э. Грабаря, П.П. Кончаловского, И. Левитана, А. Осмеркина, К. Петрова-Водкина, М. Сарьяна, В. Нестеренко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3520" y="60955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7325"/>
                </a:solidFill>
                <a:latin typeface="Times New Roman"/>
              </a:rPr>
              <a:t>П. Кончаловский  «Грибы», 19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http://pavlishak.ru/images/%D0%9A%D0%BE%D0%BD%D1%87%D0%B0%D0%BB%D0%BE%D0%B2%D1%81%D0%BA%D0%B8%D0%B9%20%D0%9F%D0%B5%D1%82%D1%80/1911%D0%B3%20%D0%93%D1%80%D0%B8%D0%B1%D1%8B%2063%D1%8591%D1%81%D0%BC.jpg"/>
          <p:cNvPicPr/>
          <p:nvPr/>
        </p:nvPicPr>
        <p:blipFill>
          <a:blip r:embed="rId1"/>
          <a:srcRect l="0" t="1924" r="0" b="1924"/>
          <a:stretch/>
        </p:blipFill>
        <p:spPr>
          <a:xfrm>
            <a:off x="685800" y="457200"/>
            <a:ext cx="7924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 20 ве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600" y="37339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 Грабар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атюрморт с самоваром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91320" y="153468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0040" y="60195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ки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.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Яблоко и вишня»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Рисунок 6" descr="http://i.i.ua/photo/images/pic/6/0/5524506_2fba2f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http://img0.liveinternet.ru/images/attach/c/1/58/951/58951796_YAbloko_i_vishn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343400"/>
            <a:ext cx="1900080" cy="2209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http://maslovka.org/images/555/MASHKOVII-1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990720"/>
            <a:ext cx="4400640" cy="4190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334120" y="53362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.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дь московская. Хлебы.» 1924.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расота вещей и мир челове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3844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5080" y="1828440"/>
            <a:ext cx="68904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Содержимое 6" descr="http://www.echo.msk.ru/att/element-774560-misc-small.jpg"/>
          <p:cNvPicPr/>
          <p:nvPr/>
        </p:nvPicPr>
        <p:blipFill>
          <a:blip r:embed="rId1"/>
          <a:stretch/>
        </p:blipFill>
        <p:spPr>
          <a:xfrm>
            <a:off x="228600" y="11430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152280" y="33541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Батист Симео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де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1699–177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 «Искус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8" descr="http://bibliotekar.ru/Kmone/24.files/image001.jpg"/>
          <p:cNvPicPr/>
          <p:nvPr/>
        </p:nvPicPr>
        <p:blipFill>
          <a:blip r:embed="rId2"/>
          <a:stretch/>
        </p:blipFill>
        <p:spPr>
          <a:xfrm>
            <a:off x="3809880" y="1143000"/>
            <a:ext cx="2851200" cy="21337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3809880" y="33526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од Оскар Моне (1840-19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хризант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Содержимое 11" descr="Клод Моне - Натюрморт с подсолнухами"/>
          <p:cNvPicPr/>
          <p:nvPr/>
        </p:nvPicPr>
        <p:blipFill>
          <a:blip r:embed="rId3"/>
          <a:stretch/>
        </p:blipFill>
        <p:spPr>
          <a:xfrm>
            <a:off x="6934320" y="11430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2" descr="http://realgallery.ru/copy_pictures/big/1048017.jpg?06.05.11.11.46.58"/>
          <p:cNvPicPr/>
          <p:nvPr/>
        </p:nvPicPr>
        <p:blipFill>
          <a:blip r:embed="rId4"/>
          <a:stretch/>
        </p:blipFill>
        <p:spPr>
          <a:xfrm>
            <a:off x="5029200" y="472428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3"/>
          <p:cNvSpPr/>
          <p:nvPr/>
        </p:nvSpPr>
        <p:spPr>
          <a:xfrm>
            <a:off x="3124080" y="541008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чалов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 Петрович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876-1956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юрморт «Пио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фруктам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Рисунок 15" descr="http://avanage.ru/wp-content/uploads/2011/10/falk-rr-naturmort-s-fikusom-1913-550x470.jpg"/>
          <p:cNvPicPr/>
          <p:nvPr/>
        </p:nvPicPr>
        <p:blipFill>
          <a:blip r:embed="rId5"/>
          <a:stretch/>
        </p:blipFill>
        <p:spPr>
          <a:xfrm>
            <a:off x="457200" y="388620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6"/>
          <p:cNvSpPr/>
          <p:nvPr/>
        </p:nvSpPr>
        <p:spPr>
          <a:xfrm>
            <a:off x="152280" y="60958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ль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берт Рафаил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(1886-195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Натюрмор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 фикус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Рисунок 17" descr="http://img0.liveinternet.ru/images/foto/b/2/apps/1/468/1468262_sinyaya_chashka.1967.jpg"/>
          <p:cNvPicPr/>
          <p:nvPr/>
        </p:nvPicPr>
        <p:blipFill>
          <a:blip r:embed="rId6"/>
          <a:stretch/>
        </p:blipFill>
        <p:spPr>
          <a:xfrm>
            <a:off x="6400800" y="4114800"/>
            <a:ext cx="2536920" cy="2057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9"/>
          <p:cNvSpPr/>
          <p:nvPr/>
        </p:nvSpPr>
        <p:spPr>
          <a:xfrm>
            <a:off x="6629400" y="62485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именов. (1903-197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тюрмор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Синяя чаш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20"/>
          <p:cNvSpPr/>
          <p:nvPr/>
        </p:nvSpPr>
        <p:spPr>
          <a:xfrm>
            <a:off x="6858000" y="33526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од Оскар Моне (1840-19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хризант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21" descr="http://www.kuda.ua/lenta/wp-content/images/2011/11/09/xlarge_140050398.jpg"/>
          <p:cNvPicPr/>
          <p:nvPr/>
        </p:nvPicPr>
        <p:blipFill>
          <a:blip r:embed="rId7"/>
          <a:stretch/>
        </p:blipFill>
        <p:spPr>
          <a:xfrm>
            <a:off x="3200400" y="388620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в основных видах изобразительного искусств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21333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174400"/>
            <a:ext cx="404028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552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19920" y="5943600"/>
            <a:ext cx="2133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http://livnyhudoshka.narod.ru/picture/grafika/big/5.jpeg"/>
          <p:cNvPicPr/>
          <p:nvPr/>
        </p:nvPicPr>
        <p:blipFill>
          <a:blip r:embed="rId1"/>
          <a:stretch/>
        </p:blipFill>
        <p:spPr>
          <a:xfrm>
            <a:off x="5029200" y="1676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http://stranamasterov.ru/files/imagecache/orig_with_logo3/i2011/11/12/foto1559.jpg"/>
          <p:cNvPicPr/>
          <p:nvPr/>
        </p:nvPicPr>
        <p:blipFill>
          <a:blip r:embed="rId2"/>
          <a:stretch/>
        </p:blipFill>
        <p:spPr>
          <a:xfrm>
            <a:off x="2895480" y="4419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img-fotki.yandex.ru/get/3901/med-yuliya.8d/0_3400b_d7c15256_XL"/>
          <p:cNvPicPr/>
          <p:nvPr/>
        </p:nvPicPr>
        <p:blipFill>
          <a:blip r:embed="rId3"/>
          <a:stretch/>
        </p:blipFill>
        <p:spPr>
          <a:xfrm>
            <a:off x="457200" y="160020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67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ая это странная живопись - натюрморт:  она заставляет любоваться копией тех вещей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ригиналами которых не любуешься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Паск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Натюрморт» -  это жанр изобразительного искусства, который посвящён изображению окружающих человека вещей, размещённых, как правило, в реальной бытовой среде и композиционно организов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единую групп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1640" y="228240"/>
            <a:ext cx="44197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амской Иван Николаеви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то такое искусство? или поближе: что такое художники? Часть нации, свободно и по влечению поставившая себе задачею удовлетворение эстетических потребностей своего народ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..высшею судебною инстанциею для художника всегда было и будет то впечатление, которое выносят тысячи зрителей от картины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192720" y="4648320"/>
          <a:ext cx="20808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8" descr="Флоксы 1884, Крамской"/>
          <p:cNvPicPr/>
          <p:nvPr/>
        </p:nvPicPr>
        <p:blipFill>
          <a:blip r:embed="rId1"/>
          <a:stretch/>
        </p:blipFill>
        <p:spPr>
          <a:xfrm>
            <a:off x="4191120" y="3276720"/>
            <a:ext cx="2895480" cy="3317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9"/>
          <p:cNvSpPr/>
          <p:nvPr/>
        </p:nvSpPr>
        <p:spPr>
          <a:xfrm>
            <a:off x="7238880" y="5181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мской И.Н. (1837-1887). «Букет цветов. Флоксы», 188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1295280" y="114300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Задание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Составить синквейн на тему «Натюрморт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762120" y="4114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(для тех, кто забыл, как составлять синквейн, схема его составления на следующем слайд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File:Portrait of the Composer Alexander Glazu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438280"/>
            <a:ext cx="2278080" cy="3135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2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Живопись, графика, скульптура – основные </a:t>
            </a: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 искусств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Рисунок 4" descr="http://www.art-portrets.ru/art/devochka_c_persikam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981080"/>
            <a:ext cx="259092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la-fa.ru/faqim/faq-41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828800"/>
            <a:ext cx="269568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152280" y="5638680"/>
            <a:ext cx="312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Серов. «Девочка с персикам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вопи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6"/>
          <p:cNvSpPr/>
          <p:nvPr/>
        </p:nvSpPr>
        <p:spPr>
          <a:xfrm flipH="1">
            <a:off x="3428280" y="5715000"/>
            <a:ext cx="24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Серов. «Портрет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 flipH="1">
            <a:off x="5791320" y="571500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Мухина. «Рабочий и колхозница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http://900igr.net/up/datas/124629/026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 "/>
          <p:cNvPicPr/>
          <p:nvPr/>
        </p:nvPicPr>
        <p:blipFill>
          <a:blip r:embed="rId1"/>
          <a:stretch/>
        </p:blipFill>
        <p:spPr>
          <a:xfrm>
            <a:off x="-17640" y="-14400"/>
            <a:ext cx="9163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 основным ЖАНРАМ изобразительного искусства относятся:</a:t>
            </a:r>
            <a:br>
              <a:rPr sz="44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пейзаж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портрет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натюрморт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анималистический жанр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батальный жанр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бытовой жанр и др.</a:t>
            </a:r>
            <a:br>
              <a:rPr sz="32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егодня мы рассмотрим историю развития жанра НАТЮРМОРТ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начнем с искусства Древних цивилизаци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Древний Египет</a:t>
            </a:r>
            <a:br>
              <a:rPr sz="1800"/>
            </a:b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В росписях Древнего Египта или Месопотамии мы можем  увидеть предметы быта  - различные сосуды и чаши, корзины, принадлежности писца и строителя, музыкальные инструменты и предметы мебели.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1" name="Picture 10" descr="foto11837083806"/>
          <p:cNvPicPr/>
          <p:nvPr/>
        </p:nvPicPr>
        <p:blipFill>
          <a:blip r:embed="rId1"/>
          <a:stretch/>
        </p:blipFill>
        <p:spPr>
          <a:xfrm>
            <a:off x="457200" y="2286000"/>
            <a:ext cx="2971800" cy="215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Яства"/>
          <p:cNvPicPr/>
          <p:nvPr/>
        </p:nvPicPr>
        <p:blipFill>
          <a:blip r:embed="rId2"/>
          <a:stretch/>
        </p:blipFill>
        <p:spPr>
          <a:xfrm>
            <a:off x="5715000" y="228600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foto11837083737"/>
          <p:cNvPicPr/>
          <p:nvPr/>
        </p:nvPicPr>
        <p:blipFill>
          <a:blip r:embed="rId3"/>
          <a:stretch/>
        </p:blipFill>
        <p:spPr>
          <a:xfrm>
            <a:off x="3124080" y="4267080"/>
            <a:ext cx="2843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нтичная цивилизация: </a:t>
            </a:r>
            <a:br>
              <a:rPr sz="40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Древняя Греция </a:t>
            </a:r>
            <a:br>
              <a:rPr sz="36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Древний Рим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Античные художники любили  изображать корзины с цветами и плодами, рыбой и дарами моря, овощами и дичью, яйцами и курами, а так же остатками праздничных пирш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тюрморт. Фрагмент фрески из Геркуланума. 1 век н.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foto1183622905"/>
          <p:cNvPicPr/>
          <p:nvPr/>
        </p:nvPicPr>
        <p:blipFill>
          <a:blip r:embed="rId1"/>
          <a:stretch/>
        </p:blipFill>
        <p:spPr>
          <a:xfrm>
            <a:off x="3733920" y="4648320"/>
            <a:ext cx="2917800" cy="1976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Фрески Древнего Рима | I-IVe | Frescoes of the Ancient Rome"/>
          <p:cNvPicPr/>
          <p:nvPr/>
        </p:nvPicPr>
        <p:blipFill>
          <a:blip r:embed="rId2"/>
          <a:stretch/>
        </p:blipFill>
        <p:spPr>
          <a:xfrm>
            <a:off x="6705720" y="1600200"/>
            <a:ext cx="1828800" cy="2687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Фрески Древнего Рима | I-IVe | Frescoes of the Ancient Rome"/>
          <p:cNvPicPr/>
          <p:nvPr/>
        </p:nvPicPr>
        <p:blipFill>
          <a:blip r:embed="rId3"/>
          <a:stretch/>
        </p:blipFill>
        <p:spPr>
          <a:xfrm>
            <a:off x="3733920" y="2362320"/>
            <a:ext cx="2601720" cy="2095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6934320" y="4572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ески Древнего Рим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-I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4"/>
          <p:cNvSpPr/>
          <p:nvPr/>
        </p:nvSpPr>
        <p:spPr>
          <a:xfrm>
            <a:off x="53352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редневеков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7" descr="http://www.e-reading.org.ua/illustrations/73/73476-i_11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8840" y="3889440"/>
            <a:ext cx="3733560" cy="2590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000"/>
            </a:br>
            <a:br>
              <a:rPr sz="1400"/>
            </a:b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Рисунок 11" descr="http://medievalmuseum.ru/12history/06_byz/s_theodora_mosaic_ravenna.jpg"/>
          <p:cNvPicPr/>
          <p:nvPr/>
        </p:nvPicPr>
        <p:blipFill>
          <a:blip r:embed="rId3"/>
          <a:stretch/>
        </p:blipFill>
        <p:spPr>
          <a:xfrm>
            <a:off x="838080" y="3898800"/>
            <a:ext cx="3581640" cy="2411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http://i017.radikal.ru/1104/e6/4e866bfab1d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80880"/>
            <a:ext cx="240840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Искусство Средневековья было сосредоточено на сюжетах религиозного характ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Его мастеров не интересовала материальность вещей. Искусство стремилось к 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противопоставлению внешнего</a:t>
            </a: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, как поверхностного, и 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внутренней духовной жизни</a:t>
            </a: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НО! Некоторые (немногочисленные) сюжеты рассказывали нам о мирской жизни и быте того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066680" y="6353280"/>
            <a:ext cx="47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d4500"/>
                </a:solidFill>
                <a:latin typeface="Times New Roman"/>
              </a:rPr>
              <a:t>ИМПЕРАТРИЦА ФЕОДОРА (В ЦЕНТРЕ) СО СВИТОЙ.  </a:t>
            </a:r>
            <a:br>
              <a:rPr sz="1000"/>
            </a:br>
            <a:r>
              <a:rPr b="1" lang="ru-RU" sz="1000" spc="-1" strike="noStrike">
                <a:solidFill>
                  <a:srgbClr val="6d4500"/>
                </a:solidFill>
                <a:latin typeface="Times New Roman"/>
              </a:rPr>
              <a:t>МОЗАИКА В СОБОРЕ САН-ВИТАЛЕ. 547 Г. 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ОЗРОЖДЕНИЕ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422360"/>
            <a:ext cx="5522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В период Возрождения у художников вновь появился интерес к материальному ми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4" descr="http://www.filosofico.net/venerebotticel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002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304920" y="40384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Боттичел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Вене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480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7" descr="http://wine.appellationamerica.com/images/appellations/features/renaissance-art-3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0652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2819520" y="48769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Боттичелли «Голубк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8" descr="http://img1.liveinternet.ru/images/attach/c/1/59/291/59291803_Devushka_s_korzinoy_fruktov_155515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2362320"/>
            <a:ext cx="3646440" cy="3962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8"/>
          <p:cNvSpPr/>
          <p:nvPr/>
        </p:nvSpPr>
        <p:spPr>
          <a:xfrm>
            <a:off x="5786280" y="63594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циан Вечелли (1477-157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Девушка с фруктам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  </cp:lastModifiedBy>
  <dcterms:modified xsi:type="dcterms:W3CDTF">2020-04-14T07:19:14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40000000000010243100207f6000400038000</vt:lpwstr>
  </property>
  <property fmtid="{D5CDD505-2E9C-101B-9397-08002B2CF9AE}" pid="3" name="Version">
    <vt:r8>1</vt:r8>
  </property>
</Properties>
</file>