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52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43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9FA9-CD5B-47FA-94A9-5F8D028A8E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1CB6-5C85-4A80-A73F-BB6B042D4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FA72-B218-4E73-85CE-34DE8F2979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00A4-D8AA-4F79-9B36-50E167314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90BC-B3D5-488D-B13D-5371E142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5CF4-C7C1-4108-8FDC-552D63AB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4AA3-D7F3-47D9-9B84-AE977B44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157E-8EFC-4EF1-8E67-09DE089F0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14424-D9F4-4A4E-AD7E-EAD1F9DD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32D4-ACA6-43A9-9451-CFB7847A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C5003-F736-4A52-8621-D2F5048A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554A-C850-432F-9161-BE6BE1BF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4050-2CBF-45B0-B2EA-90476035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8D1C-E4F3-4845-A51B-F4C2FBB8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B80E-E4E2-425C-85B6-76DB08D2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460A-28FF-4D5F-947A-183539943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E554-3B85-4E2A-B123-6E9290DE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6A24-1C69-4AC3-BA50-5190695A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1FB0-EE3C-4FD9-8DF0-FB00474E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65741-D0E9-43A0-B8DA-F3D7FDDB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816A3-5F57-4790-843C-A77A6827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6958-B68D-4ADF-9DA2-6AF9E772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6D1-B76B-44BF-BF1A-E22B24B9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1A17-599A-46C3-AE5E-DF6CB8B2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F007-464A-44AA-85E8-A2E2CC8C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664A-EC8B-4B28-9EED-5C751C0B9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DF93-D2B2-417D-B4DA-1E839596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0AB9-8981-4157-89C9-C5792352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FB3E-E853-479E-B371-A69E142B00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676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c79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3A06-5738-442E-B21C-ABC95B947E9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img_url=upload.wikimedia.org/wikipedia/commons/e/e1/Portrait-of-Jan-Van-Eyck-by-Lampsonius.jpg&amp;iorient=&amp;icolor=&amp;site=&amp;text=&#1103;&#1085;%20&#1074;&#1072;&#1085;%20&#1069;&#1081;&#1082;%20&#1069;&#1087;&#1086;&#1093;&#1072;%20&#1042;&#1086;&#1079;&#1088;&#1086;&#1078;&#1076;&#1077;&#1085;&#1080;&#1077;%20&#1085;&#1072;&#1090;&#1102;&#1088;&#1084;&#1086;&#1088;&#1090;%20&amp;wp=&amp;pos=24&amp;isize=&amp;type=&amp;recent=&amp;rpt=simage&amp;itype=&amp;nojs=1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upload.wikimedia.org/wikipedia/commons/thumb/7/7d/Jan_van_Eyck_002.jpg/488px-Jan_van_Eyck_002.jpg" TargetMode="External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territa.ru/_ph/676/2/681080482.jpg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6200/146620994.12f/0_81560_53c65e93_XL" TargetMode="External"/><Relationship Id="rId2" Type="http://schemas.openxmlformats.org/officeDocument/2006/relationships/image" Target="../media/image22.jpeg"/><Relationship Id="rId3" Type="http://schemas.openxmlformats.org/officeDocument/2006/relationships/hyperlink" Target="http://www.artniderland.ru/f-snyders/img/e50fruit.jpg" TargetMode="External"/><Relationship Id="rId4" Type="http://schemas.openxmlformats.org/officeDocument/2006/relationships/image" Target="../media/image23.jpeg"/><Relationship Id="rId5" Type="http://schemas.openxmlformats.org/officeDocument/2006/relationships/hyperlink" Target="http://www.ljplus.ru/img4/l/i/lillyho/Still-Life-with-Fruit_-Wan-Li-Porcelain_-and-Squirrel.jpg" TargetMode="External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600/wcm2008.1e/0_2859e_4a89a7da_XL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s52.radikal.ru/i135/0909/f6/6fc0e691119c.jpg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artniderland.ru/g-ast/ast6.php" TargetMode="External"/><Relationship Id="rId2" Type="http://schemas.openxmlformats.org/officeDocument/2006/relationships/hyperlink" Target="http://images.yandex.ru/yandsearch?img_url=www.artvedia.ru%2Fupload%2Ff0_320818719.jpg&amp;iorient=&amp;nojs=1&amp;icolor=&amp;p=1&amp;site=&amp;text=&#1055;.&#1050;&#1083;&#1072;&#1089;%20&#1085;&#1072;&#1090;&#1102;&#1088;&#1084;&#1086;&#1088;&#1090;&#1099;%2017%20&#1074;&#1077;&#1082;&#1072;&amp;wp=&amp;pos=33&amp;isize=&amp;type=&amp;recent=&amp;rpt=simage&amp;itype=" TargetMode="External"/><Relationship Id="rId3" Type="http://schemas.openxmlformats.org/officeDocument/2006/relationships/image" Target="../media/image27.jpeg"/><Relationship Id="rId4" Type="http://schemas.openxmlformats.org/officeDocument/2006/relationships/hyperlink" Target="file://commons.wikimedia.org/wiki/File:Heda_hermitage.jpg%3Fuselang=ru" TargetMode="External"/><Relationship Id="rId5" Type="http://schemas.openxmlformats.org/officeDocument/2006/relationships/image" Target="../media/image28.jpeg"/><Relationship Id="rId6" Type="http://schemas.openxmlformats.org/officeDocument/2006/relationships/hyperlink" Target="http://ru.wikipedia.org/wiki/&#1060;&#1072;&#1081;&#1083;:Heda_hermitage.jpg" TargetMode="External"/><Relationship Id="rId7" Type="http://schemas.openxmlformats.org/officeDocument/2006/relationships/hyperlink" Target="http://ru.wikipedia.org/wiki/&#1060;&#1072;&#1081;&#1083;:Heda_hermitage.jpg" TargetMode="External"/><Relationship Id="rId8" Type="http://schemas.openxmlformats.org/officeDocument/2006/relationships/image" Target="../media/image29.png"/><Relationship Id="rId9" Type="http://schemas.openxmlformats.org/officeDocument/2006/relationships/hyperlink" Target="http://sr.gallerix.ru/1331356745/K/712490060/" TargetMode="External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hyperlink" Target="http://www.ljplus.ru/img4/l/i/lillyho/Still-Life-with-Fruit_-Wan-Li-Porcelain_-and-Squirrel.jpg" TargetMode="External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1/62/158/62158693_26.jpg" TargetMode="External"/><Relationship Id="rId2" Type="http://schemas.openxmlformats.org/officeDocument/2006/relationships/image" Target="../media/image32.jpeg"/><Relationship Id="rId3" Type="http://schemas.openxmlformats.org/officeDocument/2006/relationships/hyperlink" Target="http://www.ostashkov.ru/foto/free/3E684C35.jpeg" TargetMode="External"/><Relationship Id="rId4" Type="http://schemas.openxmlformats.org/officeDocument/2006/relationships/image" Target="../media/image33.jpeg"/><Relationship Id="rId5" Type="http://schemas.openxmlformats.org/officeDocument/2006/relationships/hyperlink" Target="http://images.yandex.ru/yandsearch?text=&#1060;.&#1055;.&#1058;&#1086;&#1083;&#1089;&#1090;&#1086;&#1081;%20%20&#1082;&#1072;&#1088;&#1090;&#1080;&#1085;&#1099;%20&#1085;&#1072;&#1090;&#1102;&#1088;&#1084;&#1086;&#1088;&#1090;&#1099;&amp;img_url=artsoch.ru/uploads/posts/2012-02/1330250700_cvety-frukty-ptica.jpg&amp;pos=0&amp;rpt=simage&amp;lr=38&amp;noreask=1" TargetMode="External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.i.ua/photo/images/pic/6/0/5524506_2fba2fd.jpg" TargetMode="External"/><Relationship Id="rId2" Type="http://schemas.openxmlformats.org/officeDocument/2006/relationships/image" Target="../media/image43.jpeg"/><Relationship Id="rId3" Type="http://schemas.openxmlformats.org/officeDocument/2006/relationships/hyperlink" Target="http://img0.liveinternet.ru/images/attach/c/1/58/951/58951796_YAbloko_i_vishnya.jpg" TargetMode="External"/><Relationship Id="rId4" Type="http://schemas.openxmlformats.org/officeDocument/2006/relationships/image" Target="../media/image44.jpeg"/><Relationship Id="rId5" Type="http://schemas.openxmlformats.org/officeDocument/2006/relationships/hyperlink" Target="http://maslovka.org/images/555/MASHKOVII-16.jpg" TargetMode="External"/><Relationship Id="rId6" Type="http://schemas.openxmlformats.org/officeDocument/2006/relationships/image" Target="../media/image45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image" Target="../media/image52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upload.wikimedia.org/wikipedia/commons/9/9b/Portrait_of_the_Composer_Alexander_Glazunov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art-portrets.ru/art/devochka_c_persikami.jpg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la-fa.ru/faqim/faq-419.jpg" TargetMode="External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-reading.org.ua/illustrations/73/73476-i_1113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i017.radikal.ru/1104/e6/4e866bfab1df.jpg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ilosofico.net/venerebotticelli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wine.appellationamerica.com/images/appellations/features/renaissance-art-300.jpg" TargetMode="External"/><Relationship Id="rId4" Type="http://schemas.openxmlformats.org/officeDocument/2006/relationships/image" Target="../media/image15.jpeg"/><Relationship Id="rId5" Type="http://schemas.openxmlformats.org/officeDocument/2006/relationships/hyperlink" Target="http://img1.liveinternet.ru/images/attach/c/1/59/291/59291803_Devushka_s_korzinoy_fruktov_15551558.jpg" TargetMode="External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685800" y="418320"/>
            <a:ext cx="8077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3300"/>
                </a:solidFill>
                <a:latin typeface="Arial"/>
              </a:rPr>
              <a:t>«Изображение предметного мира </a:t>
            </a: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– </a:t>
            </a:r>
            <a:r>
              <a:rPr b="1" lang="ru-RU" sz="4800" spc="-1" strike="noStrike">
                <a:solidFill>
                  <a:srgbClr val="993300"/>
                </a:solidFill>
                <a:latin typeface="Arial"/>
              </a:rPr>
              <a:t>натюрморт</a:t>
            </a:r>
            <a:r>
              <a:rPr b="1" lang="ru-RU" sz="4400" spc="-1" strike="noStrike">
                <a:solidFill>
                  <a:srgbClr val="9933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6400800" y="4851360"/>
            <a:ext cx="11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16" descr="http://www.art-vernissage.ru/files/sirenvstekleShev.jpg"/>
          <p:cNvPicPr/>
          <p:nvPr/>
        </p:nvPicPr>
        <p:blipFill>
          <a:blip r:embed="rId1"/>
          <a:stretch/>
        </p:blipFill>
        <p:spPr>
          <a:xfrm>
            <a:off x="2851200" y="2971800"/>
            <a:ext cx="374472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Зарождение натюрморта как изображения</a:t>
            </a: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66520" y="1534680"/>
            <a:ext cx="1830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895120" y="5333760"/>
            <a:ext cx="2667240" cy="53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11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.Брейгель. «Битва Масленицы и Пост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Содержимое 6" descr="http://im8-tub-ru.yandex.net/i?id=639331046-47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4495680"/>
            <a:ext cx="1752840" cy="13716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7" descr="http://upload.wikimedia.org/wikipedia/commons/thumb/7/7d/Jan_van_Eyck_002.jpg/488px-Jan_van_Eyck_00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1143000"/>
            <a:ext cx="1927080" cy="243828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8"/>
          <p:cNvSpPr/>
          <p:nvPr/>
        </p:nvSpPr>
        <p:spPr>
          <a:xfrm>
            <a:off x="457200" y="35812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Ян Ван Эйк. Натюрморт. 1434 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9"/>
          <p:cNvSpPr/>
          <p:nvPr/>
        </p:nvSpPr>
        <p:spPr>
          <a:xfrm>
            <a:off x="457200" y="60199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ан Эйк Ян (около 1390–1441), нидерландский живописе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Содержимое 11" descr="http://www.portal-slovo.ru/images/art/mip.jpg"/>
          <p:cNvPicPr/>
          <p:nvPr/>
        </p:nvPicPr>
        <p:blipFill>
          <a:blip r:embed="rId5"/>
          <a:stretch/>
        </p:blipFill>
        <p:spPr>
          <a:xfrm>
            <a:off x="2895480" y="2514600"/>
            <a:ext cx="2392560" cy="25146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2" descr="http://www.portal-slovo.ru/images/art/boskh02.jpg"/>
          <p:cNvPicPr/>
          <p:nvPr/>
        </p:nvPicPr>
        <p:blipFill>
          <a:blip r:embed="rId6"/>
          <a:stretch/>
        </p:blipFill>
        <p:spPr>
          <a:xfrm>
            <a:off x="5638680" y="152388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13"/>
          <p:cNvSpPr/>
          <p:nvPr/>
        </p:nvSpPr>
        <p:spPr>
          <a:xfrm flipV="1" rot="10800000">
            <a:off x="5562720" y="478836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. Бос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Семь смертных грехов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Натюрморт как жанр изобразительного искусств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228960" y="1904760"/>
            <a:ext cx="4800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тюрмор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 фр.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ature morte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мертвая природа, натура -  жанр изобразительного искусства или произведение этого жанра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ама постановка, которая является объектом изображения, тоже называется натюрмортом. Он может состоять не только из неодушевленных предметов, но и включать природные формы. Поэтому более точно, принятое в англоязычных странах – тихая жизн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тюрморт как самостоятельный жанр окончательно определяется на рубеже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XV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XVI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веков в Голландии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Содержимое 4" descr="http://www.territa.ru/_ph/676/2/68108048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95680" y="2057400"/>
            <a:ext cx="4343400" cy="32004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1"/>
          <p:cNvSpPr/>
          <p:nvPr/>
        </p:nvSpPr>
        <p:spPr>
          <a:xfrm>
            <a:off x="4572000" y="526500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с Снейдерс .  «Фрукты и птицы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Красота натюрморт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4500"/>
                </a:solidFill>
                <a:latin typeface="Times New Roman"/>
              </a:rPr>
              <a:t>Натюрморт как самостоятельный жанр окончательно определяется на рубеже </a:t>
            </a:r>
            <a:r>
              <a:rPr b="1" lang="en-GB" sz="2000" spc="-1" strike="noStrike">
                <a:solidFill>
                  <a:srgbClr val="6d4500"/>
                </a:solidFill>
                <a:latin typeface="Times New Roman"/>
              </a:rPr>
              <a:t>XVI</a:t>
            </a:r>
            <a:r>
              <a:rPr b="1" lang="ru-RU" sz="2000" spc="-1" strike="noStrike">
                <a:solidFill>
                  <a:srgbClr val="6d4500"/>
                </a:solidFill>
                <a:latin typeface="Times New Roman"/>
              </a:rPr>
              <a:t> и </a:t>
            </a:r>
            <a:r>
              <a:rPr b="1" lang="en-GB" sz="2000" spc="-1" strike="noStrike">
                <a:solidFill>
                  <a:srgbClr val="6d4500"/>
                </a:solidFill>
                <a:latin typeface="Times New Roman"/>
              </a:rPr>
              <a:t>XVII</a:t>
            </a:r>
            <a:r>
              <a:rPr b="1" lang="ru-RU" sz="2000" spc="-1" strike="noStrike">
                <a:solidFill>
                  <a:srgbClr val="6d4500"/>
                </a:solidFill>
                <a:latin typeface="Times New Roman"/>
              </a:rPr>
              <a:t> веков. </a:t>
            </a:r>
            <a:r>
              <a:rPr b="1" lang="en-GB" sz="2000" spc="-1" strike="noStrike">
                <a:solidFill>
                  <a:srgbClr val="6d4500"/>
                </a:solidFill>
                <a:latin typeface="Times New Roman"/>
              </a:rPr>
              <a:t>XVII</a:t>
            </a:r>
            <a:r>
              <a:rPr b="1" lang="ru-RU" sz="2000" spc="-1" strike="noStrike">
                <a:solidFill>
                  <a:srgbClr val="6d4500"/>
                </a:solidFill>
                <a:latin typeface="Times New Roman"/>
              </a:rPr>
              <a:t> век в Европе —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d4500"/>
                </a:solidFill>
                <a:latin typeface="Times New Roman"/>
              </a:rPr>
              <a:t>это век расцвета натюрморта. Художники изображали самые обычные вещи, но показывали их </a:t>
            </a:r>
            <a:r>
              <a:rPr b="1" lang="ru-RU" sz="2000" spc="-1" strike="noStrike" u="sng">
                <a:solidFill>
                  <a:srgbClr val="6d4500"/>
                </a:solidFill>
                <a:uFillTx/>
                <a:latin typeface="Times New Roman"/>
              </a:rPr>
              <a:t>красоту и поэтичность</a:t>
            </a:r>
            <a:r>
              <a:rPr b="1" lang="ru-RU" sz="2000" spc="-1" strike="noStrike">
                <a:solidFill>
                  <a:srgbClr val="6d45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171840" y="5334120"/>
            <a:ext cx="29718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Содержимое 6" descr="http://img-fotki.yandex.ru/get/6200/146620994.12f/0_81560_53c65e93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124080" y="2743200"/>
            <a:ext cx="2819520" cy="3505320"/>
          </a:xfrm>
          <a:prstGeom prst="rect">
            <a:avLst/>
          </a:prstGeom>
          <a:ln w="0">
            <a:noFill/>
          </a:ln>
        </p:spPr>
      </p:pic>
      <p:sp>
        <p:nvSpPr>
          <p:cNvPr id="183" name="Прямоугольник 7"/>
          <p:cNvSpPr/>
          <p:nvPr/>
        </p:nvSpPr>
        <p:spPr>
          <a:xfrm>
            <a:off x="2438280" y="6248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.-К.Хеда. 16 ве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лланд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Содержимое 8" descr="http://www.artniderland.ru/f-snyders/img/e50frui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2819520"/>
            <a:ext cx="2819520" cy="2286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7"/>
          <p:cNvSpPr/>
          <p:nvPr/>
        </p:nvSpPr>
        <p:spPr>
          <a:xfrm>
            <a:off x="6172200" y="5335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с Снейдерс. «Фрукты в чаше и разрезанная дын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Прямоугольник 13"/>
          <p:cNvSpPr/>
          <p:nvPr/>
        </p:nvSpPr>
        <p:spPr>
          <a:xfrm>
            <a:off x="228600" y="52657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нс Снейдерс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7 век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13" descr="http://www.ljplus.ru/img4/l/i/lillyho/Still-Life-with-Fruit_-Wan-Li-Porcelain_-and-Squirrel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28600" y="2895480"/>
            <a:ext cx="27432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GB" sz="2800" spc="-1" strike="noStrike">
                <a:solidFill>
                  <a:srgbClr val="a26d18"/>
                </a:solidFill>
                <a:latin typeface="Times New Roman"/>
              </a:rPr>
              <a:t>XVII</a:t>
            </a:r>
            <a:r>
              <a:rPr b="1" lang="ru-RU" sz="2800" spc="-1" strike="noStrike">
                <a:solidFill>
                  <a:srgbClr val="a26d18"/>
                </a:solidFill>
                <a:latin typeface="Times New Roman"/>
              </a:rPr>
              <a:t> век в Европе — это век расцвета натюрморта</a:t>
            </a:r>
            <a:br>
              <a:rPr sz="2000"/>
            </a:b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Небывалое развитие натюрморта в западноевропейской живописи </a:t>
            </a:r>
            <a:r>
              <a:rPr b="0" lang="en-GB" sz="2000" spc="-1" strike="noStrike">
                <a:solidFill>
                  <a:srgbClr val="a26d18"/>
                </a:solidFill>
                <a:latin typeface="Times New Roman"/>
              </a:rPr>
              <a:t>XVII</a:t>
            </a: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 века в значительной мере  может быть объяснено особенностями общекультурной и мировоззренческой ситуации</a:t>
            </a:r>
            <a:r>
              <a:rPr b="0" lang="ru-RU" sz="1600" spc="-1" strike="noStrike">
                <a:solidFill>
                  <a:srgbClr val="a26d18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5943240"/>
            <a:ext cx="4040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н ван Хёйсум. «Натюрморт с цветами и птицей» (Нидерланды). (15 апреля 168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257800" y="5943240"/>
            <a:ext cx="358128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25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н ван Хейсум.  «Натюрмор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 цветами и фруктами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Содержимое 7" descr="http://img-fotki.yandex.ru/get/3600/wcm2008.1e/0_2859e_4a89a7da_X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2057400"/>
            <a:ext cx="3352680" cy="3886200"/>
          </a:xfrm>
          <a:prstGeom prst="rect">
            <a:avLst/>
          </a:prstGeom>
          <a:ln w="0">
            <a:noFill/>
          </a:ln>
        </p:spPr>
      </p:pic>
      <p:pic>
        <p:nvPicPr>
          <p:cNvPr id="192" name="Содержимое 8" descr="http://s52.radikal.ru/i135/0909/f6/6fc0e691119c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2057400"/>
            <a:ext cx="34210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Натюрморты голландских художников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560" y="3124080"/>
            <a:ext cx="2438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итер Клас.  (1597—166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Натюрморт с крабами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2081160"/>
          <a:ext cx="1371600" cy="104760"/>
        </p:xfrm>
        <a:graphic>
          <a:graphicData uri="http://schemas.openxmlformats.org/drawingml/2006/table">
            <a:tbl>
              <a:tblPr/>
              <a:tblGrid>
                <a:gridCol w="1371600"/>
              </a:tblGrid>
              <a:tr h="104760">
                <a:tc>
                  <a:txBody>
                    <a:bodyPr lIns="13320" rIns="13320" tIns="6480" bIns="6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сожалению, невозможно отобразить картинку. </a:t>
                      </a:r>
                      <a:br>
                        <a:rPr sz="300"/>
                      </a:br>
                      <a:r>
                        <a:rPr b="0" lang="ru-RU" sz="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пробуйте перейти на сайт </a:t>
                      </a:r>
                      <a:r>
                        <a:rPr b="0" lang="ru-RU" sz="3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"/>
                        </a:rPr>
                        <a:t>http://www.artniderland.ru/g-ast/ast6.php</a:t>
                      </a:r>
                      <a:endParaRPr b="0" lang="en-US" sz="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13320" marR="13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7640" y="1534680"/>
            <a:ext cx="1143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552720" y="2971800"/>
            <a:ext cx="22100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иллем Калф (1619-1693). «Натюрморт с лимоном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Прямоугольник 7"/>
          <p:cNvSpPr/>
          <p:nvPr/>
        </p:nvSpPr>
        <p:spPr>
          <a:xfrm>
            <a:off x="281952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4" descr="http://im0-tub-ru.yandex.net/i?id=36490227-50-72&amp;n=2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219320"/>
            <a:ext cx="2362320" cy="1855800"/>
          </a:xfrm>
          <a:prstGeom prst="rect">
            <a:avLst/>
          </a:prstGeom>
          <a:ln w="0">
            <a:noFill/>
          </a:ln>
        </p:spPr>
      </p:pic>
      <p:sp>
        <p:nvSpPr>
          <p:cNvPr id="200" name="Прямоугольник 10"/>
          <p:cNvSpPr/>
          <p:nvPr/>
        </p:nvSpPr>
        <p:spPr>
          <a:xfrm>
            <a:off x="228600" y="6172200"/>
            <a:ext cx="551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-К.Хеда. «Натюрморт с крабом», 1648г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6" descr="http://upload.wikimedia.org/wikipedia/commons/thumb/4/4a/Heda_hermitage.jpg/275px-Heda_hermitage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3733920"/>
            <a:ext cx="2438280" cy="2420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7"/>
          <p:cNvSpPr/>
          <p:nvPr/>
        </p:nvSpPr>
        <p:spPr>
          <a:xfrm flipH="1">
            <a:off x="6400800" y="14778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  </a:t>
            </a:r>
            <a:r>
              <a:rPr b="0" i="1" lang="ru-RU" sz="6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8" descr="http://bits.wikimedia.org/static-1.21wmf3/skins/common/images/magnify-clip.p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9400" y="-274680"/>
            <a:ext cx="142560" cy="104760"/>
          </a:xfrm>
          <a:prstGeom prst="rect">
            <a:avLst/>
          </a:prstGeom>
          <a:ln w="0">
            <a:noFill/>
          </a:ln>
        </p:spPr>
      </p:pic>
      <p:sp>
        <p:nvSpPr>
          <p:cNvPr id="204" name="Прямоугольник 13"/>
          <p:cNvSpPr/>
          <p:nvPr/>
        </p:nvSpPr>
        <p:spPr>
          <a:xfrm>
            <a:off x="2971800" y="4343400"/>
            <a:ext cx="2590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ИТЕР КЛАС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ыл первым мастером, сосредоточившим все свое внимание на изображении предметов, окружающих человека в его повседневной жизн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5" descr="http://sr.gallerix.ru/1331356745/K/712490060/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477120" y="990720"/>
            <a:ext cx="2133360" cy="1960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0" descr="http://www.artniderland.ru/g-ast/img/ast6.jpg"/>
          <p:cNvPicPr/>
          <p:nvPr/>
        </p:nvPicPr>
        <p:blipFill>
          <a:blip r:embed="rId11"/>
          <a:stretch/>
        </p:blipFill>
        <p:spPr>
          <a:xfrm>
            <a:off x="2971800" y="1600200"/>
            <a:ext cx="3319560" cy="186840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22"/>
          <p:cNvSpPr/>
          <p:nvPr/>
        </p:nvSpPr>
        <p:spPr>
          <a:xfrm>
            <a:off x="3124080" y="350532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алтазар ван дер Аст (1579 - 1657).  «Цветы и бабочки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22" descr="http://www.ljplus.ru/img4/l/i/lillyho/Still-Life-with-Fruit_-Wan-Li-Porcelain_-and-Squirrel.jpg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638680" y="3809880"/>
            <a:ext cx="3127320" cy="20718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24"/>
          <p:cNvSpPr/>
          <p:nvPr/>
        </p:nvSpPr>
        <p:spPr>
          <a:xfrm>
            <a:off x="6095880" y="586728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нейдерс Франс. 1579-1657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Натюрморт»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Натюрморт 18-19 веков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1760" y="1534680"/>
            <a:ext cx="2971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520" y="3504960"/>
            <a:ext cx="39639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ан Батист Шарден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Натюрморт с фарфоровым кувшином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Рисунок 6" descr="http://img0.liveinternet.ru/images/attach/c/1/62/158/62158693_2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" y="1371600"/>
            <a:ext cx="3505320" cy="205740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7" descr="http://www.ostashkov.ru/foto/free/3E684C35.jpe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114800"/>
            <a:ext cx="3962520" cy="243828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8" descr="http://im2-tub-ru.yandex.net/i?id=541693037-14-72&amp;n=1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52880" y="1371600"/>
            <a:ext cx="3562560" cy="35812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7"/>
          <p:cNvSpPr/>
          <p:nvPr/>
        </p:nvSpPr>
        <p:spPr>
          <a:xfrm>
            <a:off x="5029200" y="51058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.П. Толстой «Цветы, фрукты, птица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Прямоугольник 10"/>
          <p:cNvSpPr/>
          <p:nvPr/>
        </p:nvSpPr>
        <p:spPr>
          <a:xfrm>
            <a:off x="4610160" y="5958000"/>
            <a:ext cx="213372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.Ф.Хруц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Натюрморт с дичью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57909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26d18"/>
                </a:solidFill>
                <a:latin typeface="Times New Roman"/>
              </a:rPr>
              <a:t>«Яблоки и листья», 1879</a:t>
            </a:r>
            <a:endParaRPr b="1" lang="en-US" sz="28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792440" y="6248520"/>
            <a:ext cx="54864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7325"/>
                </a:solidFill>
                <a:latin typeface="Times New Roman"/>
              </a:rPr>
              <a:t>И. Реп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2" descr="Ð.Ð.Ð ÐµÐ¿Ð¸Ð½, Ð¯Ð±Ð»Ð¾ÐºÐ¸ Ð¸ Ð»Ð¸ÑÑÑÑ, 1879, ÐÐ Ð"/>
          <p:cNvPicPr/>
          <p:nvPr/>
        </p:nvPicPr>
        <p:blipFill>
          <a:blip r:embed="rId1"/>
          <a:srcRect l="0" t="5955" r="0" b="5955"/>
          <a:stretch/>
        </p:blipFill>
        <p:spPr>
          <a:xfrm>
            <a:off x="457200" y="457200"/>
            <a:ext cx="8229600" cy="525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3000" y="5791320"/>
            <a:ext cx="73152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7325"/>
                </a:solidFill>
                <a:latin typeface="Times New Roman"/>
              </a:rPr>
              <a:t>«Малина, ветка, бабочка, муравей, лист»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792440" y="6248520"/>
            <a:ext cx="54864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7325"/>
                </a:solidFill>
                <a:latin typeface="Times New Roman"/>
              </a:rPr>
              <a:t>Ф. Толстой (1783 - 187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6" descr="Ð¤ÐµÐ´Ð¾Ñ ÐÐµÑÑÐ¾Ð²Ð¸Ñ Ð¢Ð¾Ð»ÑÑÐ¾Ð¹, ÐÐ°ÑÑÑÐ¼Ð¾ÑÑ, ÐÐ°Ð»Ð¸Ð½Ð°, Ð²ÐµÑÐºÐ°, Ð±Ð°Ð±Ð¾ÑÐºÐ°, Ð¼ÑÑÐ°Ð²ÐµÐ¹, Ð»Ð¸ÑÑ"/>
          <p:cNvPicPr/>
          <p:nvPr/>
        </p:nvPicPr>
        <p:blipFill>
          <a:blip r:embed="rId1"/>
          <a:srcRect l="0" t="3420" r="0" b="3420"/>
          <a:stretch/>
        </p:blipFill>
        <p:spPr>
          <a:xfrm>
            <a:off x="533520" y="609480"/>
            <a:ext cx="8229600" cy="5257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https://muzei-mira.com/templates/museum/images/paint/buket-cvetov-repin+.jpg"/>
          <p:cNvPicPr/>
          <p:nvPr/>
        </p:nvPicPr>
        <p:blipFill>
          <a:blip r:embed="rId1"/>
          <a:stretch/>
        </p:blipFill>
        <p:spPr>
          <a:xfrm>
            <a:off x="2286000" y="228600"/>
            <a:ext cx="6324480" cy="60958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57040" y="624816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7325"/>
                </a:solidFill>
                <a:latin typeface="Times New Roman"/>
              </a:rPr>
              <a:t>И.Репин        «Букет цветов», 1878</a:t>
            </a:r>
            <a:endParaRPr b="1" lang="en-US" sz="20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6281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7325"/>
                </a:solidFill>
                <a:latin typeface="Times New Roman"/>
              </a:rPr>
              <a:t>И. Левитан    «Сирень», 18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4" descr="ÐÐ°ÑÑÑÐ¼Ð¾ÑÑÑ ÐÐµÐ²Ð¸ÑÐ°Ð½Ð° Ð¡Ð¸ÑÐµÐ½Ñ"/>
          <p:cNvPicPr/>
          <p:nvPr/>
        </p:nvPicPr>
        <p:blipFill>
          <a:blip r:embed="rId1"/>
          <a:srcRect l="0" t="15147" r="0" b="15147"/>
          <a:stretch/>
        </p:blipFill>
        <p:spPr>
          <a:xfrm>
            <a:off x="838080" y="228600"/>
            <a:ext cx="7620120" cy="6095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57200" y="1066680"/>
            <a:ext cx="822960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26d18"/>
                </a:solidFill>
                <a:latin typeface="Times New Roman"/>
              </a:rPr>
              <a:t>От декоративно-прикладного искусства мы переходим к повторению ВИДОВ и ЖАНРОВ изобразительного искусства </a:t>
            </a:r>
            <a:r>
              <a:rPr b="0" lang="ru-RU" sz="1800" spc="-1" strike="noStrike">
                <a:solidFill>
                  <a:srgbClr val="a26d18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04760" y="6248160"/>
            <a:ext cx="69339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7325"/>
                </a:solidFill>
                <a:latin typeface="Times New Roman"/>
              </a:rPr>
              <a:t>И. Левитан «Одуванчики», 1889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31" name="Picture 2" descr="ÐÐ°ÑÑÑÐ¼Ð¾ÑÑÑ ÐÐµÐ²Ð¸ÑÐ°Ð½Ð° ÐÐ´ÑÐ²Ð°Ð½ÑÐ¸ÐºÐ¸"/>
          <p:cNvPicPr/>
          <p:nvPr/>
        </p:nvPicPr>
        <p:blipFill>
          <a:blip r:embed="rId1"/>
          <a:stretch/>
        </p:blipFill>
        <p:spPr>
          <a:xfrm>
            <a:off x="2286000" y="228600"/>
            <a:ext cx="6324480" cy="6095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04920" y="6248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7325"/>
                </a:solidFill>
                <a:latin typeface="Times New Roman"/>
              </a:rPr>
              <a:t>И. Хруцкий   «Плоды и дыня», 18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8" descr="https://im8.kommersant.ru/Issues.photo/TEMA2/2015/009/KMO_116350_05347_1_t218_191101.jpg"/>
          <p:cNvPicPr/>
          <p:nvPr/>
        </p:nvPicPr>
        <p:blipFill>
          <a:blip r:embed="rId1"/>
          <a:srcRect l="12533" t="0" r="12533" b="0"/>
          <a:stretch/>
        </p:blipFill>
        <p:spPr>
          <a:xfrm>
            <a:off x="380880" y="304920"/>
            <a:ext cx="8382240" cy="579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81080" y="6248520"/>
            <a:ext cx="69343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a7325"/>
                </a:solidFill>
                <a:latin typeface="Times New Roman"/>
              </a:rPr>
              <a:t>И. Крамской    «Букет цветов. Флоксы», 1884</a:t>
            </a:r>
            <a:endParaRPr b="1" lang="en-US" sz="2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235" name="Picture 2" descr="http://www.artcontext.info/images/stories/picture/podbor/Kramskoy/Kramskoy-024.jpg"/>
          <p:cNvPicPr/>
          <p:nvPr/>
        </p:nvPicPr>
        <p:blipFill>
          <a:blip r:embed="rId1"/>
          <a:srcRect l="0" t="17721" r="0" b="17721"/>
          <a:stretch/>
        </p:blipFill>
        <p:spPr>
          <a:xfrm>
            <a:off x="2057400" y="228600"/>
            <a:ext cx="6705720" cy="594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Русские натюрмористы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0520" y="2174760"/>
            <a:ext cx="845820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7325"/>
                </a:solidFill>
                <a:latin typeface="Times New Roman"/>
              </a:rPr>
              <a:t>В начале ХХ в. натюрморт в русской живописи получил расцвет и впервые стал равноправным жанром. Художники искали новые возможности в области цвета, формы, композиции натюрморта.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a7325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9a7325"/>
                </a:solidFill>
                <a:latin typeface="Times New Roman"/>
              </a:rPr>
              <a:t>Среди русских натюрмористов можно назвать И.Ф. Хруцкого, И.Э. Грабаря, П.П. Кончаловского, И. Левитана, А. Осмеркина, К. Петрова-Водкина, М. Сарьяна, В. Нестеренко и д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33520" y="6095520"/>
            <a:ext cx="8153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a7325"/>
                </a:solidFill>
                <a:latin typeface="Times New Roman"/>
              </a:rPr>
              <a:t>П. Кончаловский  «Грибы», 19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Picture 2" descr="http://pavlishak.ru/images/%D0%9A%D0%BE%D0%BD%D1%87%D0%B0%D0%BB%D0%BE%D0%B2%D1%81%D0%BA%D0%B8%D0%B9%20%D0%9F%D0%B5%D1%82%D1%80/1911%D0%B3%20%D0%93%D1%80%D0%B8%D0%B1%D1%8B%2063%D1%8591%D1%81%D0%BC.jpg"/>
          <p:cNvPicPr/>
          <p:nvPr/>
        </p:nvPicPr>
        <p:blipFill>
          <a:blip r:embed="rId1"/>
          <a:srcRect l="0" t="1924" r="0" b="1924"/>
          <a:stretch/>
        </p:blipFill>
        <p:spPr>
          <a:xfrm>
            <a:off x="685800" y="457200"/>
            <a:ext cx="7924680" cy="5562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Натюрморт  20 век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3048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8600" y="3733920"/>
            <a:ext cx="40384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 Грабарь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Натюрморт с самоваром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791320" y="1534680"/>
            <a:ext cx="22096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200040" y="6019560"/>
            <a:ext cx="2057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етр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одкин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К.С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Яблоко и вишня»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Рисунок 6" descr="http://i.i.ua/photo/images/pic/6/0/5524506_2fba2f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990720"/>
            <a:ext cx="4038480" cy="266688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7" descr="http://img0.liveinternet.ru/images/attach/c/1/58/951/58951796_YAbloko_i_vishny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4343400"/>
            <a:ext cx="1900080" cy="220968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8" descr="http://maslovka.org/images/555/MASHKOVII-16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990720"/>
            <a:ext cx="4400640" cy="419076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5334120" y="533628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к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.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недь московская. Хлебы.» 1924.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9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Красота вещей и мир человек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83844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45080" y="1828440"/>
            <a:ext cx="689040" cy="345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Содержимое 6" descr="http://www.echo.msk.ru/att/element-774560-misc-small.jpg"/>
          <p:cNvPicPr/>
          <p:nvPr/>
        </p:nvPicPr>
        <p:blipFill>
          <a:blip r:embed="rId1"/>
          <a:stretch/>
        </p:blipFill>
        <p:spPr>
          <a:xfrm>
            <a:off x="228600" y="1143000"/>
            <a:ext cx="3200400" cy="21337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"/>
          <p:cNvSpPr/>
          <p:nvPr/>
        </p:nvSpPr>
        <p:spPr>
          <a:xfrm>
            <a:off x="152280" y="335412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н-Батист Симеон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рде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1699–1779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юрморт «Искусство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Рисунок 8" descr="http://bibliotekar.ru/Kmone/24.files/image001.jpg"/>
          <p:cNvPicPr/>
          <p:nvPr/>
        </p:nvPicPr>
        <p:blipFill>
          <a:blip r:embed="rId2"/>
          <a:stretch/>
        </p:blipFill>
        <p:spPr>
          <a:xfrm>
            <a:off x="3809880" y="1143000"/>
            <a:ext cx="2851200" cy="2133720"/>
          </a:xfrm>
          <a:prstGeom prst="rect">
            <a:avLst/>
          </a:prstGeom>
          <a:ln w="0">
            <a:noFill/>
          </a:ln>
        </p:spPr>
      </p:pic>
      <p:sp>
        <p:nvSpPr>
          <p:cNvPr id="255" name="Прямоугольник 9"/>
          <p:cNvSpPr/>
          <p:nvPr/>
        </p:nvSpPr>
        <p:spPr>
          <a:xfrm>
            <a:off x="3809880" y="3352680"/>
            <a:ext cx="281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од Оскар Моне (1840-192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Натюрморт с хризантем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Содержимое 11" descr="Клод Моне - Натюрморт с подсолнухами"/>
          <p:cNvPicPr/>
          <p:nvPr/>
        </p:nvPicPr>
        <p:blipFill>
          <a:blip r:embed="rId3"/>
          <a:stretch/>
        </p:blipFill>
        <p:spPr>
          <a:xfrm>
            <a:off x="6934320" y="1143000"/>
            <a:ext cx="1752480" cy="2133720"/>
          </a:xfrm>
          <a:prstGeom prst="rect">
            <a:avLst/>
          </a:prstGeom>
          <a:ln w="0">
            <a:noFill/>
          </a:ln>
        </p:spPr>
      </p:pic>
      <p:pic>
        <p:nvPicPr>
          <p:cNvPr id="257" name="Рисунок 12" descr="http://realgallery.ru/copy_pictures/big/1048017.jpg?06.05.11.11.46.58"/>
          <p:cNvPicPr/>
          <p:nvPr/>
        </p:nvPicPr>
        <p:blipFill>
          <a:blip r:embed="rId4"/>
          <a:stretch/>
        </p:blipFill>
        <p:spPr>
          <a:xfrm>
            <a:off x="5029200" y="4724280"/>
            <a:ext cx="1295280" cy="18288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3"/>
          <p:cNvSpPr/>
          <p:nvPr/>
        </p:nvSpPr>
        <p:spPr>
          <a:xfrm>
            <a:off x="3124080" y="5410080"/>
            <a:ext cx="1828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чаловски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тр Петрович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1876-1956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тюрморт «Пионы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Натюрморт с фруктами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Рисунок 15" descr="http://avanage.ru/wp-content/uploads/2011/10/falk-rr-naturmort-s-fikusom-1913-550x470.jpg"/>
          <p:cNvPicPr/>
          <p:nvPr/>
        </p:nvPicPr>
        <p:blipFill>
          <a:blip r:embed="rId5"/>
          <a:stretch/>
        </p:blipFill>
        <p:spPr>
          <a:xfrm>
            <a:off x="457200" y="3886200"/>
            <a:ext cx="2514600" cy="213372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16"/>
          <p:cNvSpPr/>
          <p:nvPr/>
        </p:nvSpPr>
        <p:spPr>
          <a:xfrm>
            <a:off x="152280" y="609588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аль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берт Рафаилович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 (1886-1958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Натюрморт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 фикус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Рисунок 17" descr="http://img0.liveinternet.ru/images/foto/b/2/apps/1/468/1468262_sinyaya_chashka.1967.jpg"/>
          <p:cNvPicPr/>
          <p:nvPr/>
        </p:nvPicPr>
        <p:blipFill>
          <a:blip r:embed="rId6"/>
          <a:stretch/>
        </p:blipFill>
        <p:spPr>
          <a:xfrm>
            <a:off x="6400800" y="4114800"/>
            <a:ext cx="2536920" cy="20574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19"/>
          <p:cNvSpPr/>
          <p:nvPr/>
        </p:nvSpPr>
        <p:spPr>
          <a:xfrm>
            <a:off x="6629400" y="624852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именов. (1903-1977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тюрморт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«Синяя чашка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Прямоугольник 20"/>
          <p:cNvSpPr/>
          <p:nvPr/>
        </p:nvSpPr>
        <p:spPr>
          <a:xfrm>
            <a:off x="6858000" y="33526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од Оскар Моне (1840-1926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Натюрморт с хризантемы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Рисунок 21" descr="http://www.kuda.ua/lenta/wp-content/images/2011/11/09/xlarge_140050398.jpg"/>
          <p:cNvPicPr/>
          <p:nvPr/>
        </p:nvPicPr>
        <p:blipFill>
          <a:blip r:embed="rId7"/>
          <a:stretch/>
        </p:blipFill>
        <p:spPr>
          <a:xfrm>
            <a:off x="3200400" y="3886200"/>
            <a:ext cx="1981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Натюрморт в основных видах изобразительного искусства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4495320"/>
            <a:ext cx="213336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Живопи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2174400"/>
            <a:ext cx="4040280" cy="6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095520" y="4267080"/>
            <a:ext cx="2514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аф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19920" y="5943600"/>
            <a:ext cx="213336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кульп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2" descr="http://livnyhudoshka.narod.ru/picture/grafika/big/5.jpeg"/>
          <p:cNvPicPr/>
          <p:nvPr/>
        </p:nvPicPr>
        <p:blipFill>
          <a:blip r:embed="rId1"/>
          <a:stretch/>
        </p:blipFill>
        <p:spPr>
          <a:xfrm>
            <a:off x="5029200" y="1676520"/>
            <a:ext cx="3809880" cy="2590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http://stranamasterov.ru/files/imagecache/orig_with_logo3/i2011/11/12/foto1559.jpg"/>
          <p:cNvPicPr/>
          <p:nvPr/>
        </p:nvPicPr>
        <p:blipFill>
          <a:blip r:embed="rId2"/>
          <a:stretch/>
        </p:blipFill>
        <p:spPr>
          <a:xfrm>
            <a:off x="2895480" y="4419720"/>
            <a:ext cx="2819520" cy="21142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http://img-fotki.yandex.ru/get/3901/med-yuliya.8d/0_3400b_d7c15256_XL"/>
          <p:cNvPicPr/>
          <p:nvPr/>
        </p:nvPicPr>
        <p:blipFill>
          <a:blip r:embed="rId3"/>
          <a:stretch/>
        </p:blipFill>
        <p:spPr>
          <a:xfrm>
            <a:off x="457200" y="1600200"/>
            <a:ext cx="396252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26708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Вывод: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акая это странная живопись - натюрморт:  она заставляет любоваться копией тех вещей,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ригиналами которых не любуешься.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Паскал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0" y="3809880"/>
            <a:ext cx="411480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«Натюрморт» -  это жанр изобразительного искусства, который посвящён изображению окружающих человека вещей, размещённых, как правило, в реальной бытовой среде и композиционно организованны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единую групп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1640" y="228240"/>
            <a:ext cx="4419720" cy="342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Крамской Иван Николаевич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Что такое искусство? или поближе: что такое художники? Часть нации, свободно и по влечению поставившая себе задачею удовлетворение эстетических потребностей своего народа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..высшею судебною инстанциею для художника всегда было и будет то впечатление, которое выносят тысячи зрителей от картины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192720" y="4648320"/>
          <a:ext cx="208080" cy="36504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365040">
                <a:tc>
                  <a:txBody>
                    <a:bodyPr tIns="45360" bIns="453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8720">
                      <a:solidFill>
                        <a:srgbClr val="ffffcc"/>
                      </a:solidFill>
                    </a:lnB>
                    <a:solidFill>
                      <a:srgbClr val="ffd05b"/>
                    </a:solidFill>
                  </a:tcPr>
                </a:tc>
              </a:tr>
            </a:tbl>
          </a:graphicData>
        </a:graphic>
      </p:graphicFrame>
      <p:pic>
        <p:nvPicPr>
          <p:cNvPr id="278" name="Picture 8" descr="Флоксы 1884, Крамской"/>
          <p:cNvPicPr/>
          <p:nvPr/>
        </p:nvPicPr>
        <p:blipFill>
          <a:blip r:embed="rId1"/>
          <a:stretch/>
        </p:blipFill>
        <p:spPr>
          <a:xfrm>
            <a:off x="4191120" y="3276720"/>
            <a:ext cx="2895480" cy="3317760"/>
          </a:xfrm>
          <a:prstGeom prst="rect">
            <a:avLst/>
          </a:prstGeom>
          <a:ln w="0">
            <a:noFill/>
          </a:ln>
        </p:spPr>
      </p:pic>
      <p:sp>
        <p:nvSpPr>
          <p:cNvPr id="279" name="Прямоугольник 9"/>
          <p:cNvSpPr/>
          <p:nvPr/>
        </p:nvSpPr>
        <p:spPr>
          <a:xfrm>
            <a:off x="7238880" y="51814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мской И.Н. (1837-1887). «Букет цветов. Флоксы», 1884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1"/>
          <p:cNvSpPr/>
          <p:nvPr/>
        </p:nvSpPr>
        <p:spPr>
          <a:xfrm>
            <a:off x="1295280" y="1143000"/>
            <a:ext cx="6858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6d18"/>
                </a:solidFill>
                <a:latin typeface="Times New Roman"/>
              </a:rPr>
              <a:t>Задание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26d18"/>
                </a:solidFill>
                <a:latin typeface="Times New Roman"/>
              </a:rPr>
              <a:t>Составить синквейн на тему «Натюрморт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рямоугольник 2"/>
          <p:cNvSpPr/>
          <p:nvPr/>
        </p:nvSpPr>
        <p:spPr>
          <a:xfrm>
            <a:off x="762120" y="411480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26d18"/>
                </a:solidFill>
                <a:latin typeface="Times New Roman"/>
              </a:rPr>
              <a:t>(для тех, кто забыл, как составлять синквейн, схема его составления на следующем слайд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File:Portrait of the Composer Alexander Glazunov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29000" y="2438280"/>
            <a:ext cx="2278080" cy="3135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25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Живопись, графика, скульптура – основные </a:t>
            </a:r>
            <a:r>
              <a:rPr b="1" lang="ru-RU" sz="5400" spc="-1" strike="noStrike">
                <a:solidFill>
                  <a:srgbClr val="a26d18"/>
                </a:solidFill>
                <a:latin typeface="Times New Roman"/>
              </a:rPr>
              <a:t>виды</a:t>
            </a: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 искусства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33" name="Рисунок 4" descr="http://www.art-portrets.ru/art/devochka_c_persikami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880" y="1981080"/>
            <a:ext cx="2590920" cy="342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http://www.la-fa.ru/faqim/faq-419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095880" y="1828800"/>
            <a:ext cx="2695680" cy="36576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5"/>
          <p:cNvSpPr/>
          <p:nvPr/>
        </p:nvSpPr>
        <p:spPr>
          <a:xfrm>
            <a:off x="152280" y="5638680"/>
            <a:ext cx="3124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Серов. «Девочка с персиками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Живопис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оугольник 6"/>
          <p:cNvSpPr/>
          <p:nvPr/>
        </p:nvSpPr>
        <p:spPr>
          <a:xfrm flipH="1">
            <a:off x="3428280" y="5715000"/>
            <a:ext cx="2438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Серов. «Портрет»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Граф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7"/>
          <p:cNvSpPr/>
          <p:nvPr/>
        </p:nvSpPr>
        <p:spPr>
          <a:xfrm flipH="1">
            <a:off x="5791320" y="5715000"/>
            <a:ext cx="3200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.Мухина. «Рабочий и колхозница»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кульп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2" descr="http://900igr.net/up/datas/124629/026.jpg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Picture 2" descr=" "/>
          <p:cNvPicPr/>
          <p:nvPr/>
        </p:nvPicPr>
        <p:blipFill>
          <a:blip r:embed="rId1"/>
          <a:stretch/>
        </p:blipFill>
        <p:spPr>
          <a:xfrm>
            <a:off x="-17640" y="-14400"/>
            <a:ext cx="916308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К основным ЖАНРАМ изобразительного искусства относятся:</a:t>
            </a:r>
            <a:br>
              <a:rPr sz="44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- пейзаж;</a:t>
            </a:r>
            <a:br>
              <a:rPr sz="32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- портрет;</a:t>
            </a:r>
            <a:br>
              <a:rPr sz="32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- натюрморт;</a:t>
            </a:r>
            <a:br>
              <a:rPr sz="32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- анималистический жанр;</a:t>
            </a:r>
            <a:br>
              <a:rPr sz="32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- батальный жанр;</a:t>
            </a:r>
            <a:br>
              <a:rPr sz="32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- бытовой жанр и др.</a:t>
            </a:r>
            <a:br>
              <a:rPr sz="3200"/>
            </a:b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26d18"/>
                </a:solidFill>
                <a:latin typeface="Times New Roman"/>
              </a:rPr>
              <a:t>Сегодня мы рассмотрим историю развития жанра НАТЮРМОРТ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3200" spc="-1" strike="noStrike">
                <a:solidFill>
                  <a:srgbClr val="a26d18"/>
                </a:solidFill>
                <a:latin typeface="Times New Roman"/>
              </a:rPr>
              <a:t>начнем с искусства Древних цивилизаций</a:t>
            </a:r>
            <a:endParaRPr b="1" lang="en-US" sz="3200" spc="-1" strike="noStrike">
              <a:solidFill>
                <a:srgbClr val="a26d1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26d18"/>
                </a:solidFill>
                <a:latin typeface="Times New Roman"/>
              </a:rPr>
              <a:t>Древний Египет</a:t>
            </a:r>
            <a:br>
              <a:rPr sz="1800"/>
            </a:br>
            <a:r>
              <a:rPr b="0" lang="ru-RU" sz="2000" spc="-1" strike="noStrike">
                <a:solidFill>
                  <a:srgbClr val="a26d18"/>
                </a:solidFill>
                <a:latin typeface="Times New Roman"/>
              </a:rPr>
              <a:t>В росписях Древнего Египта или Месопотамии мы можем  увидеть предметы быта  - различные сосуды и чаши, корзины, принадлежности писца и строителя, музыкальные инструменты и предметы мебели.</a:t>
            </a:r>
            <a:endParaRPr b="1" lang="en-US" sz="20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41" name="Picture 10" descr="foto11837083806"/>
          <p:cNvPicPr/>
          <p:nvPr/>
        </p:nvPicPr>
        <p:blipFill>
          <a:blip r:embed="rId1"/>
          <a:stretch/>
        </p:blipFill>
        <p:spPr>
          <a:xfrm>
            <a:off x="457200" y="2286000"/>
            <a:ext cx="2971800" cy="2155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Яства"/>
          <p:cNvPicPr/>
          <p:nvPr/>
        </p:nvPicPr>
        <p:blipFill>
          <a:blip r:embed="rId2"/>
          <a:stretch/>
        </p:blipFill>
        <p:spPr>
          <a:xfrm>
            <a:off x="5715000" y="2286000"/>
            <a:ext cx="2790720" cy="2057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foto11837083737"/>
          <p:cNvPicPr/>
          <p:nvPr/>
        </p:nvPicPr>
        <p:blipFill>
          <a:blip r:embed="rId3"/>
          <a:stretch/>
        </p:blipFill>
        <p:spPr>
          <a:xfrm>
            <a:off x="3124080" y="4267080"/>
            <a:ext cx="28432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Античная цивилизация: </a:t>
            </a:r>
            <a:br>
              <a:rPr sz="4000"/>
            </a:b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Древняя Греция </a:t>
            </a:r>
            <a:br>
              <a:rPr sz="3600"/>
            </a:br>
            <a:r>
              <a:rPr b="1" lang="ru-RU" sz="3600" spc="-1" strike="noStrike">
                <a:solidFill>
                  <a:srgbClr val="a26d18"/>
                </a:solidFill>
                <a:latin typeface="Times New Roman"/>
              </a:rPr>
              <a:t>Древний Рим</a:t>
            </a:r>
            <a:endParaRPr b="1" lang="en-US" sz="36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2895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d4500"/>
                </a:solidFill>
                <a:latin typeface="Times New Roman"/>
              </a:rPr>
              <a:t>Античные художники любили  изображать корзины с цветами и плодами, рыбой и дарами моря, овощами и дичью, яйцами и курами, а так же остатками праздничных пиршест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тюрморт. Фрагмент фрески из Геркуланума. 1 век н.э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foto1183622905"/>
          <p:cNvPicPr/>
          <p:nvPr/>
        </p:nvPicPr>
        <p:blipFill>
          <a:blip r:embed="rId1"/>
          <a:stretch/>
        </p:blipFill>
        <p:spPr>
          <a:xfrm>
            <a:off x="3733920" y="4648320"/>
            <a:ext cx="2917800" cy="197640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4" descr="Фрески Древнего Рима | I-IVe | Frescoes of the Ancient Rome"/>
          <p:cNvPicPr/>
          <p:nvPr/>
        </p:nvPicPr>
        <p:blipFill>
          <a:blip r:embed="rId2"/>
          <a:stretch/>
        </p:blipFill>
        <p:spPr>
          <a:xfrm>
            <a:off x="6705720" y="1600200"/>
            <a:ext cx="1828800" cy="268776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6" descr="Фрески Древнего Рима | I-IVe | Frescoes of the Ancient Rome"/>
          <p:cNvPicPr/>
          <p:nvPr/>
        </p:nvPicPr>
        <p:blipFill>
          <a:blip r:embed="rId3"/>
          <a:stretch/>
        </p:blipFill>
        <p:spPr>
          <a:xfrm>
            <a:off x="3733920" y="2362320"/>
            <a:ext cx="2601720" cy="2095560"/>
          </a:xfrm>
          <a:prstGeom prst="rect">
            <a:avLst/>
          </a:prstGeom>
          <a:ln w="0">
            <a:noFill/>
          </a:ln>
        </p:spPr>
      </p:pic>
      <p:sp>
        <p:nvSpPr>
          <p:cNvPr id="149" name="Прямоугольник 6"/>
          <p:cNvSpPr/>
          <p:nvPr/>
        </p:nvSpPr>
        <p:spPr>
          <a:xfrm>
            <a:off x="6934320" y="45720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рески Древнего Рим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-IV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ек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4"/>
          <p:cNvSpPr/>
          <p:nvPr/>
        </p:nvSpPr>
        <p:spPr>
          <a:xfrm>
            <a:off x="533520" y="2286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редневековь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Рисунок 7" descr="http://www.e-reading.org.ua/illustrations/73/73476-i_111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8840" y="3889440"/>
            <a:ext cx="3733560" cy="25905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4647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000"/>
            </a:br>
            <a:br>
              <a:rPr sz="1400"/>
            </a:br>
            <a:br>
              <a:rPr sz="1400"/>
            </a:br>
            <a:br>
              <a:rPr sz="1400"/>
            </a:br>
            <a:endParaRPr b="1" lang="en-US" sz="1400" spc="-1" strike="noStrike">
              <a:solidFill>
                <a:srgbClr val="a26d18"/>
              </a:solidFill>
              <a:latin typeface="Times New Roman"/>
            </a:endParaRPr>
          </a:p>
        </p:txBody>
      </p:sp>
      <p:pic>
        <p:nvPicPr>
          <p:cNvPr id="153" name="Рисунок 11" descr="http://medievalmuseum.ru/12history/06_byz/s_theodora_mosaic_ravenna.jpg"/>
          <p:cNvPicPr/>
          <p:nvPr/>
        </p:nvPicPr>
        <p:blipFill>
          <a:blip r:embed="rId3"/>
          <a:stretch/>
        </p:blipFill>
        <p:spPr>
          <a:xfrm>
            <a:off x="838080" y="3898800"/>
            <a:ext cx="3581640" cy="24116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2" descr="http://i017.radikal.ru/1104/e6/4e866bfab1df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24480" y="380880"/>
            <a:ext cx="2408400" cy="3200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6019920" cy="2895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d4500"/>
                </a:solidFill>
                <a:latin typeface="Times New Roman"/>
              </a:rPr>
              <a:t>Искусство Средневековья было сосредоточено на сюжетах религиозного характе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d4500"/>
                </a:solidFill>
                <a:latin typeface="Times New Roman"/>
              </a:rPr>
              <a:t>Его мастеров не интересовала материальность вещей. Искусство стремилось к </a:t>
            </a:r>
            <a:r>
              <a:rPr b="1" lang="ru-RU" sz="2000" spc="-1" strike="noStrike">
                <a:solidFill>
                  <a:srgbClr val="6d4500"/>
                </a:solidFill>
                <a:latin typeface="Times New Roman"/>
              </a:rPr>
              <a:t>противопоставлению внешнего</a:t>
            </a:r>
            <a:r>
              <a:rPr b="0" lang="ru-RU" sz="2000" spc="-1" strike="noStrike">
                <a:solidFill>
                  <a:srgbClr val="6d4500"/>
                </a:solidFill>
                <a:latin typeface="Times New Roman"/>
              </a:rPr>
              <a:t>, как поверхностного, и </a:t>
            </a:r>
            <a:r>
              <a:rPr b="1" lang="ru-RU" sz="2000" spc="-1" strike="noStrike">
                <a:solidFill>
                  <a:srgbClr val="6d4500"/>
                </a:solidFill>
                <a:latin typeface="Times New Roman"/>
              </a:rPr>
              <a:t>внутренней духовной жизни</a:t>
            </a:r>
            <a:r>
              <a:rPr b="0" lang="ru-RU" sz="2000" spc="-1" strike="noStrike">
                <a:solidFill>
                  <a:srgbClr val="6d45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d4500"/>
                </a:solidFill>
                <a:latin typeface="Times New Roman"/>
              </a:rPr>
              <a:t>НО! Некоторые (немногочисленные) сюжеты рассказывали нам о мирской жизни и быте того време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1066680" y="6353280"/>
            <a:ext cx="4789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6d4500"/>
                </a:solidFill>
                <a:latin typeface="Times New Roman"/>
              </a:rPr>
              <a:t>ИМПЕРАТРИЦА ФЕОДОРА (В ЦЕНТРЕ) СО СВИТОЙ.  </a:t>
            </a:r>
            <a:br>
              <a:rPr sz="1000"/>
            </a:br>
            <a:r>
              <a:rPr b="1" lang="ru-RU" sz="1000" spc="-1" strike="noStrike">
                <a:solidFill>
                  <a:srgbClr val="6d4500"/>
                </a:solidFill>
                <a:latin typeface="Times New Roman"/>
              </a:rPr>
              <a:t>МОЗАИКА В СОБОРЕ САН-ВИТАЛЕ. 547 Г. </a:t>
            </a:r>
            <a:br>
              <a:rPr sz="14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26d18"/>
                </a:solidFill>
                <a:latin typeface="Times New Roman"/>
              </a:rPr>
              <a:t>ВОЗРОЖДЕНИЕ</a:t>
            </a:r>
            <a:br>
              <a:rPr sz="4000"/>
            </a:br>
            <a:endParaRPr b="1" lang="en-US" sz="40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971440" y="1422360"/>
            <a:ext cx="55227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d4500"/>
                </a:solidFill>
                <a:latin typeface="Times New Roman"/>
              </a:rPr>
              <a:t>В период Возрождения у художников вновь появился интерес к материальному мир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Рисунок 4" descr="http://www.filosofico.net/venerebotticelli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6002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4"/>
          <p:cNvSpPr/>
          <p:nvPr/>
        </p:nvSpPr>
        <p:spPr>
          <a:xfrm>
            <a:off x="304920" y="403848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Боттичелл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ждение Венер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1480г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Рисунок 7" descr="http://wine.appellationamerica.com/images/appellations/features/renaissance-art-30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2306520"/>
            <a:ext cx="2209680" cy="236232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6"/>
          <p:cNvSpPr/>
          <p:nvPr/>
        </p:nvSpPr>
        <p:spPr>
          <a:xfrm>
            <a:off x="2819520" y="487692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Боттичелли «Голубки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Рисунок 8" descr="http://img1.liveinternet.ru/images/attach/c/1/59/291/59291803_Devushka_s_korzinoy_fruktov_15551558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181480" y="2362320"/>
            <a:ext cx="3646440" cy="396216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8"/>
          <p:cNvSpPr/>
          <p:nvPr/>
        </p:nvSpPr>
        <p:spPr>
          <a:xfrm>
            <a:off x="5786280" y="6359400"/>
            <a:ext cx="243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ициан Вечелли (1477-1576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«Девушка с фруктами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  </cp:lastModifiedBy>
  <dcterms:modified xsi:type="dcterms:W3CDTF">2020-04-14T07:19:14Z</dcterms:modified>
  <cp:revision>2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140000000000010243100207f6000400038000</vt:lpwstr>
  </property>
  <property fmtid="{D5CDD505-2E9C-101B-9397-08002B2CF9AE}" pid="3" name="Version">
    <vt:r8>1</vt:r8>
  </property>
</Properties>
</file>