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chimes.wav" ContentType="audio/x-wav"/>
  <Override PartName="/ppt/media/image14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9711-32FE-4269-A5BD-26AF2C2B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062E-08F6-41C9-B1BD-B72A472C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6CCB-9B17-4ABB-B0DD-4882A6E70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8407-0978-451F-8852-C077DB60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D9C-856E-4978-B0D8-567CD625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3406-D283-4C90-8507-933E43029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7FC9-C55F-4149-B1D5-41BA8A7A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1CB6-315A-4331-9BAD-D05ABABAB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4F2E-11D6-4405-A339-35239510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294C-FC3A-4FA7-B2FA-0C1AC798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D262-B886-4F1D-80C9-4D4B964A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075-8749-4EA4-8FEE-71BF1ECD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1821-719A-4EFC-8817-FFB248A02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image" Target="../media/image6.png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image" Target="../media/image6.png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image" Target="../media/image6.png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image" Target="../media/image6.png"/><Relationship Id="rId16" Type="http://schemas.openxmlformats.org/officeDocument/2006/relationships/slide" Target="slide6.xm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0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14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5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6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5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9.jpeg"/><Relationship Id="rId8" Type="http://schemas.openxmlformats.org/officeDocument/2006/relationships/image" Target="../media/image12.png"/><Relationship Id="rId9" Type="http://schemas.openxmlformats.org/officeDocument/2006/relationships/image" Target="../media/image16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17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8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17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9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slide" Target="slide3.xml"/><Relationship Id="rId14" Type="http://schemas.openxmlformats.org/officeDocument/2006/relationships/slide" Target="slide4.xml"/><Relationship Id="rId15" Type="http://schemas.openxmlformats.org/officeDocument/2006/relationships/image" Target="../media/image15.png"/><Relationship Id="rId16" Type="http://schemas.openxmlformats.org/officeDocument/2006/relationships/slide" Target="slide4.xml"/><Relationship Id="rId17" Type="http://schemas.openxmlformats.org/officeDocument/2006/relationships/slide" Target="slide5.xml"/><Relationship Id="rId18" Type="http://schemas.openxmlformats.org/officeDocument/2006/relationships/image" Target="../media/image14.png"/><Relationship Id="rId19" Type="http://schemas.openxmlformats.org/officeDocument/2006/relationships/slide" Target="slide5.xml"/><Relationship Id="rId20" Type="http://schemas.openxmlformats.org/officeDocument/2006/relationships/slide" Target="slide6.xml"/><Relationship Id="rId21" Type="http://schemas.openxmlformats.org/officeDocument/2006/relationships/image" Target="../media/image15.png"/><Relationship Id="rId22" Type="http://schemas.openxmlformats.org/officeDocument/2006/relationships/slide" Target="slide6.xml"/><Relationship Id="rId23" Type="http://schemas.openxmlformats.org/officeDocument/2006/relationships/audio" Target="../media/chimes.wav"/><Relationship Id="rId24" Type="http://schemas.openxmlformats.org/officeDocument/2006/relationships/audio" Target="../media/chimes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20.jpeg"/><Relationship Id="rId8" Type="http://schemas.openxmlformats.org/officeDocument/2006/relationships/image" Target="../media/image12.png"/><Relationship Id="rId9" Type="http://schemas.openxmlformats.org/officeDocument/2006/relationships/image" Target="../media/image21.png"/><Relationship Id="rId10" Type="http://schemas.openxmlformats.org/officeDocument/2006/relationships/slide" Target="slide2.xml"/><Relationship Id="rId11" Type="http://schemas.openxmlformats.org/officeDocument/2006/relationships/slide" Target="slide3.xml"/><Relationship Id="rId12" Type="http://schemas.openxmlformats.org/officeDocument/2006/relationships/image" Target="../media/image6.png"/><Relationship Id="rId13" Type="http://schemas.openxmlformats.org/officeDocument/2006/relationships/slide" Target="slide3.xml"/><Relationship Id="rId14" Type="http://schemas.openxmlformats.org/officeDocument/2006/relationships/image" Target="../media/image15.png"/><Relationship Id="rId15" Type="http://schemas.openxmlformats.org/officeDocument/2006/relationships/image" Target="../media/image6.png"/><Relationship Id="rId16" Type="http://schemas.openxmlformats.org/officeDocument/2006/relationships/image" Target="../media/image2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Игра – тренажер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Части суток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3"/>
          <p:cNvSpPr/>
          <p:nvPr/>
        </p:nvSpPr>
        <p:spPr>
          <a:xfrm>
            <a:off x="250920" y="1773360"/>
            <a:ext cx="568944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4"/>
          <p:cNvSpPr/>
          <p:nvPr/>
        </p:nvSpPr>
        <p:spPr>
          <a:xfrm>
            <a:off x="395280" y="2060640"/>
            <a:ext cx="55450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3" descr="гноимк .png"/>
          <p:cNvPicPr/>
          <p:nvPr/>
        </p:nvPicPr>
        <p:blipFill>
          <a:blip r:embed="rId2"/>
          <a:stretch/>
        </p:blipFill>
        <p:spPr>
          <a:xfrm>
            <a:off x="0" y="1916280"/>
            <a:ext cx="3276720" cy="4395600"/>
          </a:xfrm>
          <a:prstGeom prst="rect">
            <a:avLst/>
          </a:prstGeom>
          <a:ln w="0">
            <a:noFill/>
          </a:ln>
        </p:spPr>
      </p:pic>
      <p:sp>
        <p:nvSpPr>
          <p:cNvPr id="48" name="Овальная выноска 64"/>
          <p:cNvSpPr/>
          <p:nvPr/>
        </p:nvSpPr>
        <p:spPr>
          <a:xfrm>
            <a:off x="3492360" y="189000"/>
            <a:ext cx="4896000" cy="2376360"/>
          </a:xfrm>
          <a:prstGeom prst="wedgeEllipseCallout">
            <a:avLst>
              <a:gd name="adj1" fmla="val -53828"/>
              <a:gd name="adj2" fmla="val 12006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Здравствуйте, ребя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Я веселый гномик Б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Принес вам загадки про части сут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Послушайте загадку, найдите на экране картинку правильный ответ и щелкните по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ьная выноска 66"/>
          <p:cNvSpPr/>
          <p:nvPr/>
        </p:nvSpPr>
        <p:spPr>
          <a:xfrm flipH="1" flipV="1" rot="10800000">
            <a:off x="3202560" y="4507560"/>
            <a:ext cx="2881080" cy="1873080"/>
          </a:xfrm>
          <a:prstGeom prst="wedgeEllipseCallout">
            <a:avLst>
              <a:gd name="adj1" fmla="val -65064"/>
              <a:gd name="adj2" fmla="val -67476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32523"/>
                </a:solidFill>
                <a:latin typeface="Calibri"/>
              </a:rPr>
              <a:t>Для перехода к любой загадке используйте клавиши с цифрами на телеф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Скругленный прямоугольник 67"/>
          <p:cNvGrpSpPr/>
          <p:nvPr/>
        </p:nvGrpSpPr>
        <p:grpSpPr>
          <a:xfrm>
            <a:off x="6529320" y="3103560"/>
            <a:ext cx="2419560" cy="3436920"/>
            <a:chOff x="6529320" y="3103560"/>
            <a:chExt cx="2419560" cy="3436920"/>
          </a:xfrm>
        </p:grpSpPr>
        <p:pic>
          <p:nvPicPr>
            <p:cNvPr id="51" name="Скругленный прямоугольник 67" descr=""/>
            <p:cNvPicPr/>
            <p:nvPr/>
          </p:nvPicPr>
          <p:blipFill>
            <a:blip r:embed="rId3"/>
            <a:stretch/>
          </p:blipFill>
          <p:spPr>
            <a:xfrm>
              <a:off x="6529320" y="3103560"/>
              <a:ext cx="2419560" cy="343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700680" y="3252960"/>
              <a:ext cx="2079720" cy="30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68"/>
          <p:cNvSpPr/>
          <p:nvPr/>
        </p:nvSpPr>
        <p:spPr>
          <a:xfrm>
            <a:off x="7020000" y="5877000"/>
            <a:ext cx="158436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Управляющая кнопка: домой 69">
            <a:hlinkClick r:id="rId4" action="ppaction://hlinksldjump"/>
          </p:cNvPr>
          <p:cNvSpPr/>
          <p:nvPr/>
        </p:nvSpPr>
        <p:spPr>
          <a:xfrm>
            <a:off x="7451640" y="5229360"/>
            <a:ext cx="682560" cy="50328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89" h="21600">
                <a:moveTo>
                  <a:pt x="0" y="0"/>
                </a:moveTo>
                <a:lnTo>
                  <a:pt x="29289" y="0"/>
                </a:lnTo>
                <a:lnTo>
                  <a:pt x="29289" y="21600"/>
                </a:lnTo>
                <a:lnTo>
                  <a:pt x="0" y="21600"/>
                </a:lnTo>
                <a:close/>
              </a:path>
              <a:path fill="lightenLess" w="29289" h="21600">
                <a:moveTo>
                  <a:pt x="0" y="0"/>
                </a:moveTo>
                <a:lnTo>
                  <a:pt x="29289" y="0"/>
                </a:lnTo>
                <a:lnTo>
                  <a:pt x="27889" y="1400"/>
                </a:lnTo>
                <a:lnTo>
                  <a:pt x="1400" y="1400"/>
                </a:lnTo>
                <a:close/>
              </a:path>
              <a:path fill="darken" w="29289" h="21600">
                <a:moveTo>
                  <a:pt x="29289" y="0"/>
                </a:moveTo>
                <a:lnTo>
                  <a:pt x="29289" y="21600"/>
                </a:lnTo>
                <a:lnTo>
                  <a:pt x="27889" y="20200"/>
                </a:lnTo>
                <a:lnTo>
                  <a:pt x="27889" y="1400"/>
                </a:lnTo>
                <a:close/>
              </a:path>
              <a:path fill="darkenLess" w="29289" h="21600">
                <a:moveTo>
                  <a:pt x="2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89" y="20200"/>
                </a:lnTo>
                <a:close/>
              </a:path>
              <a:path fill="lighten" w="2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89" h="21600">
                <a:moveTo>
                  <a:pt x="14644" y="3837"/>
                </a:moveTo>
                <a:lnTo>
                  <a:pt x="17221" y="6448"/>
                </a:ln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lnTo>
                  <a:pt x="21607" y="10800"/>
                </a:lnTo>
                <a:lnTo>
                  <a:pt x="19954" y="10800"/>
                </a:lnTo>
                <a:lnTo>
                  <a:pt x="19954" y="17989"/>
                </a:lnTo>
                <a:lnTo>
                  <a:pt x="9335" y="17989"/>
                </a:lnTo>
                <a:lnTo>
                  <a:pt x="9335" y="10800"/>
                </a:lnTo>
                <a:lnTo>
                  <a:pt x="7681" y="10800"/>
                </a:lnTo>
                <a:close/>
              </a:path>
              <a:path fill="darkenLess" w="29289" h="21600">
                <a:moveTo>
                  <a:pt x="17221" y="6448"/>
                </a:move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close/>
              </a:path>
              <a:path fill="darkenLess" w="29289" h="21600">
                <a:moveTo>
                  <a:pt x="13722" y="14299"/>
                </a:moveTo>
                <a:lnTo>
                  <a:pt x="15567" y="14299"/>
                </a:lnTo>
                <a:lnTo>
                  <a:pt x="15567" y="17989"/>
                </a:lnTo>
                <a:lnTo>
                  <a:pt x="19954" y="17989"/>
                </a:lnTo>
                <a:lnTo>
                  <a:pt x="19954" y="10800"/>
                </a:lnTo>
                <a:lnTo>
                  <a:pt x="9335" y="10800"/>
                </a:lnTo>
                <a:lnTo>
                  <a:pt x="9335" y="17989"/>
                </a:lnTo>
                <a:lnTo>
                  <a:pt x="13722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Прямоугольник 70"/>
          <p:cNvGrpSpPr/>
          <p:nvPr/>
        </p:nvGrpSpPr>
        <p:grpSpPr>
          <a:xfrm>
            <a:off x="6645240" y="3444840"/>
            <a:ext cx="1035000" cy="822240"/>
            <a:chOff x="6645240" y="3444840"/>
            <a:chExt cx="1035000" cy="822240"/>
          </a:xfrm>
        </p:grpSpPr>
        <p:pic>
          <p:nvPicPr>
            <p:cNvPr id="56" name="Прямоугольник 70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6645240" y="3444840"/>
              <a:ext cx="10350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659640" y="346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7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Прямоугольник 71"/>
          <p:cNvGrpSpPr/>
          <p:nvPr/>
        </p:nvGrpSpPr>
        <p:grpSpPr>
          <a:xfrm>
            <a:off x="7650000" y="3444840"/>
            <a:ext cx="1036800" cy="822240"/>
            <a:chOff x="7650000" y="3444840"/>
            <a:chExt cx="1036800" cy="822240"/>
          </a:xfrm>
        </p:grpSpPr>
        <p:pic>
          <p:nvPicPr>
            <p:cNvPr id="59" name="Прямоугольник 71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7650000" y="344484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7667640" y="346536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0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Прямоугольник 72"/>
          <p:cNvGrpSpPr/>
          <p:nvPr/>
        </p:nvGrpSpPr>
        <p:grpSpPr>
          <a:xfrm>
            <a:off x="6645240" y="4200480"/>
            <a:ext cx="1035000" cy="822240"/>
            <a:chOff x="6645240" y="4200480"/>
            <a:chExt cx="1035000" cy="822240"/>
          </a:xfrm>
        </p:grpSpPr>
        <p:pic>
          <p:nvPicPr>
            <p:cNvPr id="62" name="Прямоугольник 72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645240" y="4200480"/>
              <a:ext cx="10350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6659640" y="4221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Прямоугольник 73"/>
          <p:cNvGrpSpPr/>
          <p:nvPr/>
        </p:nvGrpSpPr>
        <p:grpSpPr>
          <a:xfrm>
            <a:off x="7650000" y="4200480"/>
            <a:ext cx="1036800" cy="822240"/>
            <a:chOff x="7650000" y="4200480"/>
            <a:chExt cx="1036800" cy="822240"/>
          </a:xfrm>
        </p:grpSpPr>
        <p:pic>
          <p:nvPicPr>
            <p:cNvPr id="65" name="Прямоугольник 73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650000" y="4200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667640" y="4221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94"/>
          <p:cNvSpPr/>
          <p:nvPr/>
        </p:nvSpPr>
        <p:spPr>
          <a:xfrm>
            <a:off x="826920" y="765000"/>
            <a:ext cx="48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ерная кор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Весь мир побор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30"/>
          <p:cNvSpPr/>
          <p:nvPr/>
        </p:nvSpPr>
        <p:spPr>
          <a:xfrm>
            <a:off x="611280" y="2421000"/>
            <a:ext cx="5329080" cy="374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78" name="Скругленный прямоугольник 37"/>
          <p:cNvGrpSpPr/>
          <p:nvPr/>
        </p:nvGrpSpPr>
        <p:grpSpPr>
          <a:xfrm>
            <a:off x="6381720" y="2743200"/>
            <a:ext cx="2421000" cy="3438360"/>
            <a:chOff x="6381720" y="2743200"/>
            <a:chExt cx="2421000" cy="3438360"/>
          </a:xfrm>
        </p:grpSpPr>
        <p:pic>
          <p:nvPicPr>
            <p:cNvPr id="79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743200"/>
              <a:ext cx="24210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556320" y="2894040"/>
              <a:ext cx="2079720" cy="30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Прямоугольник 38"/>
          <p:cNvSpPr/>
          <p:nvPr/>
        </p:nvSpPr>
        <p:spPr>
          <a:xfrm>
            <a:off x="6875640" y="5516640"/>
            <a:ext cx="158400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4869000"/>
            <a:ext cx="681120" cy="50472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144" h="21600">
                <a:moveTo>
                  <a:pt x="0" y="0"/>
                </a:moveTo>
                <a:lnTo>
                  <a:pt x="29144" y="0"/>
                </a:lnTo>
                <a:lnTo>
                  <a:pt x="29144" y="21600"/>
                </a:lnTo>
                <a:lnTo>
                  <a:pt x="0" y="21600"/>
                </a:lnTo>
                <a:close/>
              </a:path>
              <a:path fill="lightenLess" w="29144" h="21600">
                <a:moveTo>
                  <a:pt x="0" y="0"/>
                </a:moveTo>
                <a:lnTo>
                  <a:pt x="29144" y="0"/>
                </a:lnTo>
                <a:lnTo>
                  <a:pt x="27744" y="1400"/>
                </a:lnTo>
                <a:lnTo>
                  <a:pt x="1400" y="1400"/>
                </a:lnTo>
                <a:close/>
              </a:path>
              <a:path fill="darken" w="29144" h="21600">
                <a:moveTo>
                  <a:pt x="29144" y="0"/>
                </a:moveTo>
                <a:lnTo>
                  <a:pt x="29144" y="21600"/>
                </a:lnTo>
                <a:lnTo>
                  <a:pt x="27744" y="20200"/>
                </a:lnTo>
                <a:lnTo>
                  <a:pt x="27744" y="1400"/>
                </a:lnTo>
                <a:close/>
              </a:path>
              <a:path fill="darkenLess" w="29144" h="21600">
                <a:moveTo>
                  <a:pt x="29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44" y="20200"/>
                </a:lnTo>
                <a:close/>
              </a:path>
              <a:path fill="lighten" w="29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44" h="21600">
                <a:moveTo>
                  <a:pt x="14572" y="3837"/>
                </a:moveTo>
                <a:lnTo>
                  <a:pt x="17148" y="6448"/>
                </a:ln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lnTo>
                  <a:pt x="21535" y="10800"/>
                </a:lnTo>
                <a:lnTo>
                  <a:pt x="19881" y="10800"/>
                </a:lnTo>
                <a:lnTo>
                  <a:pt x="19881" y="17989"/>
                </a:lnTo>
                <a:lnTo>
                  <a:pt x="9263" y="17989"/>
                </a:lnTo>
                <a:lnTo>
                  <a:pt x="9263" y="10800"/>
                </a:lnTo>
                <a:lnTo>
                  <a:pt x="7609" y="10800"/>
                </a:lnTo>
                <a:close/>
              </a:path>
              <a:path fill="darkenLess" w="29144" h="21600">
                <a:moveTo>
                  <a:pt x="17148" y="6448"/>
                </a:move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close/>
              </a:path>
              <a:path fill="darkenLess" w="29144" h="21600">
                <a:moveTo>
                  <a:pt x="13649" y="14299"/>
                </a:moveTo>
                <a:lnTo>
                  <a:pt x="15495" y="14299"/>
                </a:lnTo>
                <a:lnTo>
                  <a:pt x="15495" y="17989"/>
                </a:lnTo>
                <a:lnTo>
                  <a:pt x="19881" y="17989"/>
                </a:lnTo>
                <a:lnTo>
                  <a:pt x="19881" y="10800"/>
                </a:lnTo>
                <a:lnTo>
                  <a:pt x="9263" y="10800"/>
                </a:lnTo>
                <a:lnTo>
                  <a:pt x="9263" y="17989"/>
                </a:lnTo>
                <a:lnTo>
                  <a:pt x="13649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Прямоугольник 40"/>
          <p:cNvGrpSpPr/>
          <p:nvPr/>
        </p:nvGrpSpPr>
        <p:grpSpPr>
          <a:xfrm>
            <a:off x="6497640" y="3084480"/>
            <a:ext cx="1036800" cy="822240"/>
            <a:chOff x="6497640" y="3084480"/>
            <a:chExt cx="1036800" cy="822240"/>
          </a:xfrm>
        </p:grpSpPr>
        <p:pic>
          <p:nvPicPr>
            <p:cNvPr id="84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084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6516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Прямоугольник 41"/>
          <p:cNvGrpSpPr/>
          <p:nvPr/>
        </p:nvGrpSpPr>
        <p:grpSpPr>
          <a:xfrm>
            <a:off x="7504200" y="3084480"/>
            <a:ext cx="1042920" cy="822240"/>
            <a:chOff x="7504200" y="3084480"/>
            <a:chExt cx="1042920" cy="822240"/>
          </a:xfrm>
        </p:grpSpPr>
        <p:pic>
          <p:nvPicPr>
            <p:cNvPr id="87" name="Прямоугольник 4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504200" y="3084480"/>
              <a:ext cx="1042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7524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Прямоугольник 42"/>
          <p:cNvGrpSpPr/>
          <p:nvPr/>
        </p:nvGrpSpPr>
        <p:grpSpPr>
          <a:xfrm>
            <a:off x="6497640" y="3840120"/>
            <a:ext cx="1036800" cy="824040"/>
            <a:chOff x="6497640" y="3840120"/>
            <a:chExt cx="1036800" cy="824040"/>
          </a:xfrm>
        </p:grpSpPr>
        <p:pic>
          <p:nvPicPr>
            <p:cNvPr id="90" name="Прямоугольник 4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497640" y="3840120"/>
              <a:ext cx="1036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6516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Прямоугольник 43"/>
          <p:cNvGrpSpPr/>
          <p:nvPr/>
        </p:nvGrpSpPr>
        <p:grpSpPr>
          <a:xfrm>
            <a:off x="7504200" y="3840120"/>
            <a:ext cx="1042920" cy="824040"/>
            <a:chOff x="7504200" y="3840120"/>
            <a:chExt cx="1042920" cy="824040"/>
          </a:xfrm>
        </p:grpSpPr>
        <p:pic>
          <p:nvPicPr>
            <p:cNvPr id="93" name="Прямоугольник 43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504200" y="3840120"/>
              <a:ext cx="10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7524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Clr clrSpc="hsl" dir="cw">
                                      <p:cBhvr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94"/>
          <p:cNvSpPr/>
          <p:nvPr/>
        </p:nvSpPr>
        <p:spPr>
          <a:xfrm>
            <a:off x="826920" y="476280"/>
            <a:ext cx="482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Свет струится и струи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Звуками земля п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Занята делами пти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Да и птахам не до 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11280" y="2421000"/>
            <a:ext cx="5329080" cy="374472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06" name="Скругленный прямоугольник 44"/>
          <p:cNvGrpSpPr/>
          <p:nvPr/>
        </p:nvGrpSpPr>
        <p:grpSpPr>
          <a:xfrm>
            <a:off x="6235560" y="2670120"/>
            <a:ext cx="2421000" cy="3438720"/>
            <a:chOff x="6235560" y="2670120"/>
            <a:chExt cx="2421000" cy="3438720"/>
          </a:xfrm>
        </p:grpSpPr>
        <p:pic>
          <p:nvPicPr>
            <p:cNvPr id="107" name="Скругленный прямоугольник 44" descr=""/>
            <p:cNvPicPr/>
            <p:nvPr/>
          </p:nvPicPr>
          <p:blipFill>
            <a:blip r:embed="rId9"/>
            <a:stretch/>
          </p:blipFill>
          <p:spPr>
            <a:xfrm>
              <a:off x="6235560" y="2670120"/>
              <a:ext cx="24210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411960" y="2820960"/>
              <a:ext cx="207972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Прямоугольник 45"/>
          <p:cNvSpPr/>
          <p:nvPr/>
        </p:nvSpPr>
        <p:spPr>
          <a:xfrm>
            <a:off x="6732720" y="5445000"/>
            <a:ext cx="1584360" cy="28764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Управляющая кнопка: домой 46">
            <a:hlinkClick r:id="rId10" action="ppaction://hlinksldjump"/>
          </p:cNvPr>
          <p:cNvSpPr/>
          <p:nvPr/>
        </p:nvSpPr>
        <p:spPr>
          <a:xfrm>
            <a:off x="7164360" y="4797360"/>
            <a:ext cx="682560" cy="503280"/>
          </a:xfrm>
          <a:custGeom>
            <a:avLst/>
            <a:gdLst>
              <a:gd name="textAreaLeft" fmla="*/ 32400 w 682560"/>
              <a:gd name="textAreaRight" fmla="*/ 650160 w 6825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89" h="21600">
                <a:moveTo>
                  <a:pt x="0" y="0"/>
                </a:moveTo>
                <a:lnTo>
                  <a:pt x="29289" y="0"/>
                </a:lnTo>
                <a:lnTo>
                  <a:pt x="29289" y="21600"/>
                </a:lnTo>
                <a:lnTo>
                  <a:pt x="0" y="21600"/>
                </a:lnTo>
                <a:close/>
              </a:path>
              <a:path fill="lightenLess" w="29289" h="21600">
                <a:moveTo>
                  <a:pt x="0" y="0"/>
                </a:moveTo>
                <a:lnTo>
                  <a:pt x="29289" y="0"/>
                </a:lnTo>
                <a:lnTo>
                  <a:pt x="27889" y="1400"/>
                </a:lnTo>
                <a:lnTo>
                  <a:pt x="1400" y="1400"/>
                </a:lnTo>
                <a:close/>
              </a:path>
              <a:path fill="darken" w="29289" h="21600">
                <a:moveTo>
                  <a:pt x="29289" y="0"/>
                </a:moveTo>
                <a:lnTo>
                  <a:pt x="29289" y="21600"/>
                </a:lnTo>
                <a:lnTo>
                  <a:pt x="27889" y="20200"/>
                </a:lnTo>
                <a:lnTo>
                  <a:pt x="27889" y="1400"/>
                </a:lnTo>
                <a:close/>
              </a:path>
              <a:path fill="darkenLess" w="29289" h="21600">
                <a:moveTo>
                  <a:pt x="29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89" y="20200"/>
                </a:lnTo>
                <a:close/>
              </a:path>
              <a:path fill="lighten" w="29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89" h="21600">
                <a:moveTo>
                  <a:pt x="14644" y="3837"/>
                </a:moveTo>
                <a:lnTo>
                  <a:pt x="17221" y="6448"/>
                </a:ln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lnTo>
                  <a:pt x="21607" y="10800"/>
                </a:lnTo>
                <a:lnTo>
                  <a:pt x="19954" y="10800"/>
                </a:lnTo>
                <a:lnTo>
                  <a:pt x="19954" y="17989"/>
                </a:lnTo>
                <a:lnTo>
                  <a:pt x="9335" y="17989"/>
                </a:lnTo>
                <a:lnTo>
                  <a:pt x="9335" y="10800"/>
                </a:lnTo>
                <a:lnTo>
                  <a:pt x="7681" y="10800"/>
                </a:lnTo>
                <a:close/>
              </a:path>
              <a:path fill="darkenLess" w="29289" h="21600">
                <a:moveTo>
                  <a:pt x="17221" y="6448"/>
                </a:moveTo>
                <a:lnTo>
                  <a:pt x="17221" y="4707"/>
                </a:lnTo>
                <a:lnTo>
                  <a:pt x="18996" y="4707"/>
                </a:lnTo>
                <a:lnTo>
                  <a:pt x="18996" y="8224"/>
                </a:lnTo>
                <a:close/>
              </a:path>
              <a:path fill="darkenLess" w="29289" h="21600">
                <a:moveTo>
                  <a:pt x="13722" y="14299"/>
                </a:moveTo>
                <a:lnTo>
                  <a:pt x="15567" y="14299"/>
                </a:lnTo>
                <a:lnTo>
                  <a:pt x="15567" y="17989"/>
                </a:lnTo>
                <a:lnTo>
                  <a:pt x="19954" y="17989"/>
                </a:lnTo>
                <a:lnTo>
                  <a:pt x="19954" y="10800"/>
                </a:lnTo>
                <a:lnTo>
                  <a:pt x="9335" y="10800"/>
                </a:lnTo>
                <a:lnTo>
                  <a:pt x="9335" y="17989"/>
                </a:lnTo>
                <a:lnTo>
                  <a:pt x="13722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Прямоугольник 47"/>
          <p:cNvGrpSpPr/>
          <p:nvPr/>
        </p:nvGrpSpPr>
        <p:grpSpPr>
          <a:xfrm>
            <a:off x="6351480" y="3017880"/>
            <a:ext cx="1042920" cy="815760"/>
            <a:chOff x="6351480" y="3017880"/>
            <a:chExt cx="1042920" cy="815760"/>
          </a:xfrm>
        </p:grpSpPr>
        <p:pic>
          <p:nvPicPr>
            <p:cNvPr id="112" name="Прямоугольник 47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351480" y="3017880"/>
              <a:ext cx="104292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6372360" y="3033720"/>
              <a:ext cx="1008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Прямоугольник 48"/>
          <p:cNvGrpSpPr/>
          <p:nvPr/>
        </p:nvGrpSpPr>
        <p:grpSpPr>
          <a:xfrm>
            <a:off x="7364520" y="3017880"/>
            <a:ext cx="1036440" cy="815760"/>
            <a:chOff x="7364520" y="3017880"/>
            <a:chExt cx="1036440" cy="815760"/>
          </a:xfrm>
        </p:grpSpPr>
        <p:pic>
          <p:nvPicPr>
            <p:cNvPr id="115" name="Прямоугольник 48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364520" y="3017880"/>
              <a:ext cx="1036440" cy="81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7380360" y="3033720"/>
              <a:ext cx="100800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Прямоугольник 49"/>
          <p:cNvGrpSpPr/>
          <p:nvPr/>
        </p:nvGrpSpPr>
        <p:grpSpPr>
          <a:xfrm>
            <a:off x="6351480" y="3773520"/>
            <a:ext cx="1042920" cy="817560"/>
            <a:chOff x="6351480" y="3773520"/>
            <a:chExt cx="1042920" cy="817560"/>
          </a:xfrm>
        </p:grpSpPr>
        <p:pic>
          <p:nvPicPr>
            <p:cNvPr id="118" name="Прямоугольник 49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351480" y="3773520"/>
              <a:ext cx="104292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372360" y="3789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Прямоугольник 50"/>
          <p:cNvGrpSpPr/>
          <p:nvPr/>
        </p:nvGrpSpPr>
        <p:grpSpPr>
          <a:xfrm>
            <a:off x="7364520" y="3773520"/>
            <a:ext cx="1036440" cy="817560"/>
            <a:chOff x="7364520" y="3773520"/>
            <a:chExt cx="1036440" cy="817560"/>
          </a:xfrm>
        </p:grpSpPr>
        <p:pic>
          <p:nvPicPr>
            <p:cNvPr id="121" name="Прямоугольник 50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364520" y="3773520"/>
              <a:ext cx="10364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7380360" y="3789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4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94"/>
          <p:cNvSpPr/>
          <p:nvPr/>
        </p:nvSpPr>
        <p:spPr>
          <a:xfrm>
            <a:off x="826920" y="549360"/>
            <a:ext cx="482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а траву роса ложит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у а нам пора вста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На зарядку становить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тобы лучше день нач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28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611280" y="2565360"/>
            <a:ext cx="5329080" cy="37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875640" y="404640"/>
            <a:ext cx="1377720" cy="1849680"/>
          </a:xfrm>
          <a:prstGeom prst="rect">
            <a:avLst/>
          </a:prstGeom>
          <a:ln w="0">
            <a:noFill/>
          </a:ln>
        </p:spPr>
      </p:pic>
      <p:grpSp>
        <p:nvGrpSpPr>
          <p:cNvPr id="134" name="Скругленный прямоугольник 37"/>
          <p:cNvGrpSpPr/>
          <p:nvPr/>
        </p:nvGrpSpPr>
        <p:grpSpPr>
          <a:xfrm>
            <a:off x="6381720" y="2743200"/>
            <a:ext cx="2421000" cy="3438360"/>
            <a:chOff x="6381720" y="2743200"/>
            <a:chExt cx="2421000" cy="3438360"/>
          </a:xfrm>
        </p:grpSpPr>
        <p:pic>
          <p:nvPicPr>
            <p:cNvPr id="135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743200"/>
              <a:ext cx="242100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6556320" y="2894040"/>
              <a:ext cx="2079720" cy="30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Прямоугольник 38"/>
          <p:cNvSpPr/>
          <p:nvPr/>
        </p:nvSpPr>
        <p:spPr>
          <a:xfrm>
            <a:off x="6875640" y="5516640"/>
            <a:ext cx="1584000" cy="28872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4869000"/>
            <a:ext cx="681120" cy="50472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144" h="21600">
                <a:moveTo>
                  <a:pt x="0" y="0"/>
                </a:moveTo>
                <a:lnTo>
                  <a:pt x="29144" y="0"/>
                </a:lnTo>
                <a:lnTo>
                  <a:pt x="29144" y="21600"/>
                </a:lnTo>
                <a:lnTo>
                  <a:pt x="0" y="21600"/>
                </a:lnTo>
                <a:close/>
              </a:path>
              <a:path fill="lightenLess" w="29144" h="21600">
                <a:moveTo>
                  <a:pt x="0" y="0"/>
                </a:moveTo>
                <a:lnTo>
                  <a:pt x="29144" y="0"/>
                </a:lnTo>
                <a:lnTo>
                  <a:pt x="27744" y="1400"/>
                </a:lnTo>
                <a:lnTo>
                  <a:pt x="1400" y="1400"/>
                </a:lnTo>
                <a:close/>
              </a:path>
              <a:path fill="darken" w="29144" h="21600">
                <a:moveTo>
                  <a:pt x="29144" y="0"/>
                </a:moveTo>
                <a:lnTo>
                  <a:pt x="29144" y="21600"/>
                </a:lnTo>
                <a:lnTo>
                  <a:pt x="27744" y="20200"/>
                </a:lnTo>
                <a:lnTo>
                  <a:pt x="27744" y="1400"/>
                </a:lnTo>
                <a:close/>
              </a:path>
              <a:path fill="darkenLess" w="29144" h="21600">
                <a:moveTo>
                  <a:pt x="291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744" y="20200"/>
                </a:lnTo>
                <a:close/>
              </a:path>
              <a:path fill="lighten" w="291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144" h="21600">
                <a:moveTo>
                  <a:pt x="14572" y="3837"/>
                </a:moveTo>
                <a:lnTo>
                  <a:pt x="17148" y="6448"/>
                </a:ln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lnTo>
                  <a:pt x="21535" y="10800"/>
                </a:lnTo>
                <a:lnTo>
                  <a:pt x="19881" y="10800"/>
                </a:lnTo>
                <a:lnTo>
                  <a:pt x="19881" y="17989"/>
                </a:lnTo>
                <a:lnTo>
                  <a:pt x="9263" y="17989"/>
                </a:lnTo>
                <a:lnTo>
                  <a:pt x="9263" y="10800"/>
                </a:lnTo>
                <a:lnTo>
                  <a:pt x="7609" y="10800"/>
                </a:lnTo>
                <a:close/>
              </a:path>
              <a:path fill="darkenLess" w="29144" h="21600">
                <a:moveTo>
                  <a:pt x="17148" y="6448"/>
                </a:moveTo>
                <a:lnTo>
                  <a:pt x="17148" y="4707"/>
                </a:lnTo>
                <a:lnTo>
                  <a:pt x="18924" y="4707"/>
                </a:lnTo>
                <a:lnTo>
                  <a:pt x="18924" y="8224"/>
                </a:lnTo>
                <a:close/>
              </a:path>
              <a:path fill="darkenLess" w="29144" h="21600">
                <a:moveTo>
                  <a:pt x="13649" y="14299"/>
                </a:moveTo>
                <a:lnTo>
                  <a:pt x="15495" y="14299"/>
                </a:lnTo>
                <a:lnTo>
                  <a:pt x="15495" y="17989"/>
                </a:lnTo>
                <a:lnTo>
                  <a:pt x="19881" y="17989"/>
                </a:lnTo>
                <a:lnTo>
                  <a:pt x="19881" y="10800"/>
                </a:lnTo>
                <a:lnTo>
                  <a:pt x="9263" y="10800"/>
                </a:lnTo>
                <a:lnTo>
                  <a:pt x="9263" y="17989"/>
                </a:lnTo>
                <a:lnTo>
                  <a:pt x="13649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Прямоугольник 40"/>
          <p:cNvGrpSpPr/>
          <p:nvPr/>
        </p:nvGrpSpPr>
        <p:grpSpPr>
          <a:xfrm>
            <a:off x="6497640" y="3084480"/>
            <a:ext cx="1036800" cy="822240"/>
            <a:chOff x="6497640" y="3084480"/>
            <a:chExt cx="1036800" cy="822240"/>
          </a:xfrm>
        </p:grpSpPr>
        <p:pic>
          <p:nvPicPr>
            <p:cNvPr id="140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084480"/>
              <a:ext cx="1036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516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Прямоугольник 41"/>
          <p:cNvGrpSpPr/>
          <p:nvPr/>
        </p:nvGrpSpPr>
        <p:grpSpPr>
          <a:xfrm>
            <a:off x="7504200" y="3084480"/>
            <a:ext cx="1042920" cy="822240"/>
            <a:chOff x="7504200" y="3084480"/>
            <a:chExt cx="1042920" cy="822240"/>
          </a:xfrm>
        </p:grpSpPr>
        <p:pic>
          <p:nvPicPr>
            <p:cNvPr id="143" name="Прямоугольник 41" descr="">
              <a:hlinkClick r:id="rId14" action="ppaction://hlinksldjump"/>
            </p:cNvPr>
            <p:cNvPicPr/>
            <p:nvPr/>
          </p:nvPicPr>
          <p:blipFill>
            <a:blip r:embed="rId15"/>
            <a:stretch/>
          </p:blipFill>
          <p:spPr>
            <a:xfrm>
              <a:off x="7504200" y="3084480"/>
              <a:ext cx="10429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24720" y="310500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6" action="ppaction://hlinksldjump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Прямоугольник 42"/>
          <p:cNvGrpSpPr/>
          <p:nvPr/>
        </p:nvGrpSpPr>
        <p:grpSpPr>
          <a:xfrm>
            <a:off x="6497640" y="3840120"/>
            <a:ext cx="1036800" cy="824040"/>
            <a:chOff x="6497640" y="3840120"/>
            <a:chExt cx="1036800" cy="824040"/>
          </a:xfrm>
        </p:grpSpPr>
        <p:pic>
          <p:nvPicPr>
            <p:cNvPr id="146" name="Прямоугольник 42" descr="">
              <a:hlinkClick r:id="rId17" action="ppaction://hlinksldjump"/>
            </p:cNvPr>
            <p:cNvPicPr/>
            <p:nvPr/>
          </p:nvPicPr>
          <p:blipFill>
            <a:blip r:embed="rId18"/>
            <a:stretch/>
          </p:blipFill>
          <p:spPr>
            <a:xfrm>
              <a:off x="6497640" y="3840120"/>
              <a:ext cx="103680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6516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9" action="ppaction://hlinksldjump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Прямоугольник 43"/>
          <p:cNvGrpSpPr/>
          <p:nvPr/>
        </p:nvGrpSpPr>
        <p:grpSpPr>
          <a:xfrm>
            <a:off x="7504200" y="3840120"/>
            <a:ext cx="1042920" cy="824040"/>
            <a:chOff x="7504200" y="3840120"/>
            <a:chExt cx="1042920" cy="824040"/>
          </a:xfrm>
        </p:grpSpPr>
        <p:pic>
          <p:nvPicPr>
            <p:cNvPr id="149" name="Прямоугольник 43" descr="">
              <a:hlinkClick r:id="rId20" action="ppaction://hlinksldjump"/>
            </p:cNvPr>
            <p:cNvPicPr/>
            <p:nvPr/>
          </p:nvPicPr>
          <p:blipFill>
            <a:blip r:embed="rId21"/>
            <a:stretch/>
          </p:blipFill>
          <p:spPr>
            <a:xfrm>
              <a:off x="7504200" y="3840120"/>
              <a:ext cx="104292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524720" y="3860640"/>
              <a:ext cx="100800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22" action="ppaction://hlinksldjump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5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6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826920" y="620640"/>
            <a:ext cx="3889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4"/>
          <p:cNvSpPr/>
          <p:nvPr/>
        </p:nvSpPr>
        <p:spPr>
          <a:xfrm>
            <a:off x="1116000" y="549360"/>
            <a:ext cx="331164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8"/>
          <p:cNvSpPr/>
          <p:nvPr/>
        </p:nvSpPr>
        <p:spPr>
          <a:xfrm>
            <a:off x="1258920" y="476280"/>
            <a:ext cx="3025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94"/>
          <p:cNvSpPr/>
          <p:nvPr/>
        </p:nvSpPr>
        <p:spPr>
          <a:xfrm>
            <a:off x="826920" y="765000"/>
            <a:ext cx="4824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Мы уже зеваем слад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Тени тут и там сну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Чистим зубы для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32523"/>
                </a:solidFill>
                <a:latin typeface="Calibri"/>
              </a:rPr>
              <a:t>И готовимся ко с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24" descr="телевизор.gif"/>
          <p:cNvPicPr/>
          <p:nvPr/>
        </p:nvPicPr>
        <p:blipFill>
          <a:blip r:embed="rId2"/>
          <a:stretch/>
        </p:blipFill>
        <p:spPr>
          <a:xfrm>
            <a:off x="611280" y="2565360"/>
            <a:ext cx="5257800" cy="4049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25"/>
          <p:cNvSpPr/>
          <p:nvPr/>
        </p:nvSpPr>
        <p:spPr>
          <a:xfrm>
            <a:off x="826920" y="2781360"/>
            <a:ext cx="2449800" cy="14396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>
            <a:off x="3276720" y="2781360"/>
            <a:ext cx="2374920" cy="14396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7"/>
          <p:cNvSpPr/>
          <p:nvPr/>
        </p:nvSpPr>
        <p:spPr>
          <a:xfrm>
            <a:off x="826920" y="4149720"/>
            <a:ext cx="2457720" cy="14400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3276720" y="4149720"/>
            <a:ext cx="2384280" cy="144000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0"/>
          <p:cNvSpPr/>
          <p:nvPr/>
        </p:nvSpPr>
        <p:spPr>
          <a:xfrm>
            <a:off x="611280" y="2349360"/>
            <a:ext cx="5329080" cy="37450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31" descr="гноимк .png"/>
          <p:cNvPicPr/>
          <p:nvPr/>
        </p:nvPicPr>
        <p:blipFill>
          <a:blip r:embed="rId8"/>
          <a:stretch/>
        </p:blipFill>
        <p:spPr>
          <a:xfrm>
            <a:off x="6732720" y="333360"/>
            <a:ext cx="1377720" cy="1849320"/>
          </a:xfrm>
          <a:prstGeom prst="rect">
            <a:avLst/>
          </a:prstGeom>
          <a:ln w="0">
            <a:noFill/>
          </a:ln>
        </p:spPr>
      </p:pic>
      <p:grpSp>
        <p:nvGrpSpPr>
          <p:cNvPr id="162" name="Скругленный прямоугольник 37"/>
          <p:cNvGrpSpPr/>
          <p:nvPr/>
        </p:nvGrpSpPr>
        <p:grpSpPr>
          <a:xfrm>
            <a:off x="6381720" y="2889360"/>
            <a:ext cx="2421000" cy="3432240"/>
            <a:chOff x="6381720" y="2889360"/>
            <a:chExt cx="2421000" cy="3432240"/>
          </a:xfrm>
        </p:grpSpPr>
        <p:pic>
          <p:nvPicPr>
            <p:cNvPr id="163" name="Скругленный прямоугольник 37" descr=""/>
            <p:cNvPicPr/>
            <p:nvPr/>
          </p:nvPicPr>
          <p:blipFill>
            <a:blip r:embed="rId9"/>
            <a:stretch/>
          </p:blipFill>
          <p:spPr>
            <a:xfrm>
              <a:off x="6381720" y="2889360"/>
              <a:ext cx="2421000" cy="34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6556320" y="3036960"/>
              <a:ext cx="2079720" cy="308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Прямоугольник 38"/>
          <p:cNvSpPr/>
          <p:nvPr/>
        </p:nvSpPr>
        <p:spPr>
          <a:xfrm>
            <a:off x="6875640" y="5661000"/>
            <a:ext cx="1584000" cy="289080"/>
          </a:xfrm>
          <a:prstGeom prst="rect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32523"/>
                </a:solidFill>
                <a:latin typeface="Calibri"/>
              </a:rPr>
              <a:t>Выключ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домой 39">
            <a:hlinkClick r:id="rId10" action="ppaction://hlinksldjump"/>
          </p:cNvPr>
          <p:cNvSpPr/>
          <p:nvPr/>
        </p:nvSpPr>
        <p:spPr>
          <a:xfrm>
            <a:off x="7308720" y="5013360"/>
            <a:ext cx="681120" cy="503280"/>
          </a:xfrm>
          <a:custGeom>
            <a:avLst/>
            <a:gdLst>
              <a:gd name="textAreaLeft" fmla="*/ 32400 w 681120"/>
              <a:gd name="textAreaRight" fmla="*/ 648720 w 6811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227" h="21600">
                <a:moveTo>
                  <a:pt x="0" y="0"/>
                </a:moveTo>
                <a:lnTo>
                  <a:pt x="29227" y="0"/>
                </a:lnTo>
                <a:lnTo>
                  <a:pt x="29227" y="21600"/>
                </a:lnTo>
                <a:lnTo>
                  <a:pt x="0" y="21600"/>
                </a:lnTo>
                <a:close/>
              </a:path>
              <a:path fill="lightenLess" w="29227" h="21600">
                <a:moveTo>
                  <a:pt x="0" y="0"/>
                </a:moveTo>
                <a:lnTo>
                  <a:pt x="29227" y="0"/>
                </a:lnTo>
                <a:lnTo>
                  <a:pt x="27827" y="1400"/>
                </a:lnTo>
                <a:lnTo>
                  <a:pt x="1400" y="1400"/>
                </a:lnTo>
                <a:close/>
              </a:path>
              <a:path fill="darken" w="29227" h="21600">
                <a:moveTo>
                  <a:pt x="29227" y="0"/>
                </a:moveTo>
                <a:lnTo>
                  <a:pt x="29227" y="21600"/>
                </a:lnTo>
                <a:lnTo>
                  <a:pt x="27827" y="20200"/>
                </a:lnTo>
                <a:lnTo>
                  <a:pt x="27827" y="1400"/>
                </a:lnTo>
                <a:close/>
              </a:path>
              <a:path fill="darkenLess" w="29227" h="21600">
                <a:moveTo>
                  <a:pt x="29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7" y="20200"/>
                </a:lnTo>
                <a:close/>
              </a:path>
              <a:path fill="lighten" w="29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7" h="21600">
                <a:moveTo>
                  <a:pt x="14614" y="3837"/>
                </a:moveTo>
                <a:lnTo>
                  <a:pt x="17190" y="6448"/>
                </a:lnTo>
                <a:lnTo>
                  <a:pt x="17190" y="4707"/>
                </a:lnTo>
                <a:lnTo>
                  <a:pt x="18965" y="4707"/>
                </a:lnTo>
                <a:lnTo>
                  <a:pt x="18965" y="8224"/>
                </a:lnTo>
                <a:lnTo>
                  <a:pt x="21577" y="10800"/>
                </a:lnTo>
                <a:lnTo>
                  <a:pt x="19923" y="10800"/>
                </a:lnTo>
                <a:lnTo>
                  <a:pt x="19923" y="17989"/>
                </a:lnTo>
                <a:lnTo>
                  <a:pt x="9304" y="17989"/>
                </a:lnTo>
                <a:lnTo>
                  <a:pt x="9304" y="10800"/>
                </a:lnTo>
                <a:lnTo>
                  <a:pt x="7651" y="10800"/>
                </a:lnTo>
                <a:close/>
              </a:path>
              <a:path fill="darkenLess" w="29227" h="21600">
                <a:moveTo>
                  <a:pt x="17190" y="6448"/>
                </a:moveTo>
                <a:lnTo>
                  <a:pt x="17190" y="4707"/>
                </a:lnTo>
                <a:lnTo>
                  <a:pt x="18965" y="4707"/>
                </a:lnTo>
                <a:lnTo>
                  <a:pt x="18965" y="8224"/>
                </a:lnTo>
                <a:close/>
              </a:path>
              <a:path fill="darkenLess" w="29227" h="21600">
                <a:moveTo>
                  <a:pt x="13691" y="14299"/>
                </a:moveTo>
                <a:lnTo>
                  <a:pt x="15536" y="14299"/>
                </a:lnTo>
                <a:lnTo>
                  <a:pt x="15536" y="17989"/>
                </a:lnTo>
                <a:lnTo>
                  <a:pt x="19923" y="17989"/>
                </a:lnTo>
                <a:lnTo>
                  <a:pt x="19923" y="10800"/>
                </a:lnTo>
                <a:lnTo>
                  <a:pt x="9304" y="10800"/>
                </a:lnTo>
                <a:lnTo>
                  <a:pt x="9304" y="17989"/>
                </a:lnTo>
                <a:lnTo>
                  <a:pt x="13691" y="17989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Прямоугольник 40"/>
          <p:cNvGrpSpPr/>
          <p:nvPr/>
        </p:nvGrpSpPr>
        <p:grpSpPr>
          <a:xfrm>
            <a:off x="6497640" y="3230640"/>
            <a:ext cx="1036800" cy="823680"/>
            <a:chOff x="6497640" y="3230640"/>
            <a:chExt cx="1036800" cy="823680"/>
          </a:xfrm>
        </p:grpSpPr>
        <p:pic>
          <p:nvPicPr>
            <p:cNvPr id="168" name="Прямоугольник 40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6497640" y="3230640"/>
              <a:ext cx="103680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516720" y="3249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 u="sng">
                  <a:solidFill>
                    <a:srgbClr val="0000ff"/>
                  </a:solidFill>
                  <a:uFillTx/>
                  <a:latin typeface="Calibri"/>
                  <a:hlinkClick r:id="rId13" action="ppaction://hlinksldjump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Прямоугольник 41"/>
          <p:cNvGrpSpPr/>
          <p:nvPr/>
        </p:nvGrpSpPr>
        <p:grpSpPr>
          <a:xfrm>
            <a:off x="7504200" y="3230640"/>
            <a:ext cx="1042920" cy="823680"/>
            <a:chOff x="7504200" y="3230640"/>
            <a:chExt cx="1042920" cy="823680"/>
          </a:xfrm>
        </p:grpSpPr>
        <p:pic>
          <p:nvPicPr>
            <p:cNvPr id="171" name="Прямоугольник 41" descr=""/>
            <p:cNvPicPr/>
            <p:nvPr/>
          </p:nvPicPr>
          <p:blipFill>
            <a:blip r:embed="rId14"/>
            <a:stretch/>
          </p:blipFill>
          <p:spPr>
            <a:xfrm>
              <a:off x="7504200" y="3230640"/>
              <a:ext cx="104292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7524720" y="324972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42"/>
          <p:cNvGrpSpPr/>
          <p:nvPr/>
        </p:nvGrpSpPr>
        <p:grpSpPr>
          <a:xfrm>
            <a:off x="6497640" y="3986280"/>
            <a:ext cx="1036800" cy="823680"/>
            <a:chOff x="6497640" y="3986280"/>
            <a:chExt cx="1036800" cy="823680"/>
          </a:xfrm>
        </p:grpSpPr>
        <p:pic>
          <p:nvPicPr>
            <p:cNvPr id="174" name="Прямоугольник 42" descr=""/>
            <p:cNvPicPr/>
            <p:nvPr/>
          </p:nvPicPr>
          <p:blipFill>
            <a:blip r:embed="rId15"/>
            <a:stretch/>
          </p:blipFill>
          <p:spPr>
            <a:xfrm>
              <a:off x="6497640" y="3986280"/>
              <a:ext cx="103680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6516720" y="4005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Прямоугольник 43"/>
          <p:cNvGrpSpPr/>
          <p:nvPr/>
        </p:nvGrpSpPr>
        <p:grpSpPr>
          <a:xfrm>
            <a:off x="7504200" y="3986280"/>
            <a:ext cx="1042920" cy="823680"/>
            <a:chOff x="7504200" y="3986280"/>
            <a:chExt cx="1042920" cy="823680"/>
          </a:xfrm>
        </p:grpSpPr>
        <p:pic>
          <p:nvPicPr>
            <p:cNvPr id="177" name="Прямоугольник 43" descr=""/>
            <p:cNvPicPr/>
            <p:nvPr/>
          </p:nvPicPr>
          <p:blipFill>
            <a:blip r:embed="rId16"/>
            <a:stretch/>
          </p:blipFill>
          <p:spPr>
            <a:xfrm>
              <a:off x="7504200" y="3986280"/>
              <a:ext cx="1042920" cy="82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7524720" y="4005360"/>
              <a:ext cx="1008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84807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9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6T12:41:23Z</dcterms:created>
  <dc:creator>DNA7 X86</dc:creator>
  <dc:description/>
  <dc:language>en-US</dc:language>
  <cp:lastModifiedBy>User</cp:lastModifiedBy>
  <dcterms:modified xsi:type="dcterms:W3CDTF">2018-05-12T20:34:04Z</dcterms:modified>
  <cp:revision>59</cp:revision>
  <dc:subject/>
  <dc:title>Слайд 1</dc:title>
</cp:coreProperties>
</file>