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7E5-0816-4D3A-84F0-41F7D40C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7F39-2F97-46B5-9FA6-A2BEEEA3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5D888-8C7A-4BED-9519-7EBEAF68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162C3-BCE1-4BFD-BA4F-E7FDD4C8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19A19-5ABC-4580-9FEB-623901B1F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3427FF-59B9-4392-AF81-CD960BE63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75B05-7EFE-49AD-888A-31D57C2F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BFE849-E754-4390-A04E-AC145662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AFE285-ED48-4DB2-8A8F-DE84DC6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FE8C-4DEA-4C5B-B777-1334B915F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8E10A-03A5-4CE9-BB89-97E86CD9A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DE9AC-99C3-4F78-9F28-242C487E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15DB-3A0B-4070-9F9B-0B7BC3ECF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8AD7E-B947-4EC9-9DDD-EDD7CABD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B22E0-C428-4812-904A-8BF18B2D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509FD-00CD-4E2B-A913-5765020A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32F8D5-A406-4A0A-9DB5-7612147E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2C1133-EE5F-48B9-8E20-6A8C424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059BF-CBFE-4A86-A4F1-B0ABCAE3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59D87-4F9A-4A37-9813-9769316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0CE57-AEEA-41C8-A245-85EC53C9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14F57-9457-4AC6-B0C0-0A09BD0C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CC952-CE12-4125-97E0-42D382F7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4155-F71E-4A05-90D6-5681AA579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CF26A-0DE3-405F-8609-35F4D285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4EA5B-B029-4F0C-866D-1D0F4573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4733B-B141-43FA-BEFF-303DDEBA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EEAA7-8068-46A7-BF42-5DE9873A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F91D2-7354-4381-BE4D-1E4A06DF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C2FA10-408B-45F0-B265-C2BB051AD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205DF-69A3-4F92-A6DF-368BEBF2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863C-8193-42F8-B7FB-C22DE80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2F62A-D56B-45F9-BFE3-0262DF41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7BCC0-F383-4BFC-BE38-349991BF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FB10-6386-4994-BD87-EA1E25ACD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12E59-384F-4BC8-A0EA-AD0CB0AE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50CB0-C9E5-4E3F-A007-6E8D09CE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68BCAE-4E7B-460C-9267-3264D5BF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A2BFC-7BC8-4EC8-8F53-FDA8499B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480D8C-82CD-4ED6-B92E-BAF93FB0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E58626-1778-477D-B0F1-1F0EC885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024C3A-0FF5-4C64-B82B-8A37032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077191-A852-4D64-8C22-05613EE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40DCC-3385-47C0-A840-C6FD6322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54C82F-51E9-4ED2-A418-CF5FCA90B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6812-5274-4575-9CAC-4FA5BC918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059DA-98B3-4AAB-932E-9EF2EA1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4FCB7-FA43-4BF7-8E4B-A94144C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062E9-C688-4362-B1A4-33DD921C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DCF348-BABF-43F9-ABF9-7CDEF755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D7598-B383-45E1-BF9C-1FED3C160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83459-A2BC-41A8-8E73-C9BF21ED8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895B9-F9DC-42A8-B280-2EA126F6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DFED8-89B2-419C-B75B-90A7BE9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2F604-8FBA-4D5D-9B02-DCE3D1AA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721D49-B2B3-4A29-8A27-DCCA94D3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6811-7C28-4AF7-A12C-41EBB46F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39FAE2-2144-4FCC-A329-6E242BCD3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A55F27-B322-403A-83A0-1C30019E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F151C-C818-4D6E-AFFA-66C01CC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9599F2-5A10-4918-919A-3788F29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8E289-D654-4BB8-9AAC-CB72B44C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265545-AC93-41EA-BBA4-22D041E8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F284DD-0A4F-4B08-9F22-683BFEAB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D8CAE-0042-4843-8FBE-D56DD0D5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99C76-0F43-4B25-BFF7-0E4F6FD1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5E3D7C-5952-4EFB-8759-6A378CDA9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7851-0007-4F3A-8FDA-004DB43BB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65E26D-1EAA-4CD0-8EF8-96A2339F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07CAF7-6A6E-407D-B48A-B0259131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0F6913-D8FA-4135-BAB1-358072E0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1ED18-66FF-47BC-A6D8-F562324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8B00BB-F21F-46DC-9E36-64841A72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1DF89F-B00D-4305-B1B6-0551561E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0C100-12B5-4507-A695-58CB8751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E39D80-CBDC-4A63-8AE3-43E083DD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53F92D-32F3-4489-B0CE-AEAB1E6E5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B8AB1E-970C-40F1-B67C-0CCC81FB0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97469-A37C-4C81-A996-575B875A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60C2A-E30F-4B02-B9B0-08DA24DA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A49676-A7E3-47E9-B20D-35134507A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66872-B9C4-45E1-87B8-72895EFD7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E75243-8CF9-431B-BBB7-ACF75E4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DEFD5-6CAE-4606-B93F-1CD8CC57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B01603-A4D2-491B-947C-66482B79B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D63A5-68FD-485E-8381-0B1A905F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A7B7CD-1F93-4CA1-96FE-161EC1BE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7D8B9-CE23-4443-92BC-4DEED322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93514-39FC-408F-9182-F7A3DF54E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30D3-CE01-4079-8EF1-A53406595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4297C-CD58-4537-A35B-81E16B3B0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A98ADD-CEF5-4DD4-93D1-2A630710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C93AE6-D910-452B-95E3-0761BF59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2416C8-6C39-4978-A706-74210DE6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BB8BB9-6F90-473E-B7B0-CC633167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D250E2-0C45-4C9D-B266-03B121CAE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0A8CE-3E21-4F19-A32A-92AA44FB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16864E-E9A6-4A70-ACCD-2ACAE6EC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3A0EB4-02D3-4E1B-9B2D-103527E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8627B-E9F2-4F7C-825E-7A78639C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9FDB-31DB-496A-875B-4B1D9DD4D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DE0F61-6590-4274-8753-B8F11090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77A0E5-8A1C-45BE-8FE6-ECB89D5DD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C700C5-F289-47B6-A7C5-DD316C2B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9AADB-A512-4C7E-B01D-07BA27669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57F87D-DF82-4EAD-9513-36711B1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B24D6-8592-4B7D-BBBD-58F56D0A5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E997CC-CC27-46D7-A77C-7A75CE74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51CE6-66A9-4B33-811C-16DAE44B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F74FC5-848B-4136-8AF3-4DECF1D7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77B9CA-FAEB-4080-B402-80A6C7D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3CC6-E9CA-410D-9005-EBF6134A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B5689-97F0-4F87-918C-D12934F8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866387-CA3D-4D88-BBF7-C24778C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301F2-479A-4FE4-A7AB-13955CAD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135BC-BD50-4742-9807-7EC9B1CB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35505A-761C-48FB-98CC-02D0CE4F9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6B1252-BDE1-4387-817C-C680B31F6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D6D0F-CA96-42BB-918B-D2DE708D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C42B-236E-45DB-91CF-A10AA4C2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C5B8-83E4-4A95-ADFB-966903CCE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8338-596D-4EBB-ACEE-C6E1DD723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62820-3002-4CA5-B49C-F1BD84EF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9CF5-BA67-4DC7-8028-0FFA9A26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3E95-E796-4001-9EAB-463052EE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B1EE5-2DAF-47B9-BE86-85AD8316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087C0-EE25-4801-97F4-23F7C250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145-D067-467E-976F-FAA15EA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F3393-5DFE-48FD-A31B-AC3CCF05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2B3FE-06AE-406F-919E-62A76A03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BB2BB-27FE-42C5-A211-8A9EA597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91303-5FC1-4E1B-A102-B76902CC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E0978-4779-462E-92D1-82BC5B43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49B64-DC49-4F4C-A151-F74993D5F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F9D6F-4F00-43F3-89CF-CA3180FC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D19A3-269D-42BD-90B7-E36BCBBA1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E05D5-04B3-4CDB-8452-9CA6B8A9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4A737-F8ED-4DC5-AE16-5E84B5DC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A6E1-F776-4B55-B169-1B651AEC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7B862-6ADC-440E-B7E3-3181F205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B2ACC-CFB7-4031-A210-D868D600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247C-6048-4C27-A18B-7FCA70B7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EF851-DE27-4A6C-A09B-2CA833FE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D5359-9B2C-49E6-B339-81CF619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EE52E-33BD-40A4-AD4A-22CCC239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0D546-8A31-4D24-86AB-04F032CA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B6FFC-6042-47E3-92F4-65AF40AD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979EC-BF02-4061-A520-BF1696A33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5CE6B-84E2-493E-9B7E-E0582831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45FA-A50B-43D6-BDEE-204F48B5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63560-A089-4A54-988C-8650DD2B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9E1F7-81FE-48EF-978E-678C8480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8D9F-2595-46D1-B2D3-40FB426C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82270-A19B-4446-A95E-DB327F89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EE0D8-5393-4AD3-9F20-F797BD9B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DADA5-E19B-46B5-B9F5-6B9D8696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08F38-82C8-4CF4-8FCB-C7F1AD9A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25571-2FEC-424B-A97C-0C53644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B6182-3337-4EDD-B0B8-DFB6A044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C4EEE-4B63-429E-8112-477DFCC7C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EB87-F915-40CB-B0A1-6E97187D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DD909-D9BC-4EFE-BFE9-D08E427CC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C3C4E-AE59-42FD-BCA9-E1C0DCE7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DA36A2-A961-4728-9022-0BF50CA7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86FA4-F65F-48BE-8A2F-FF6EA7F4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3D2F37-1284-4FB0-981D-FF910E2F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669EF-277F-4C1D-B711-DAFC02FE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207DD-631A-4428-B9D4-7BE734B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62290-865B-47DC-A6E9-073D9721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1E735-E62F-4987-A10D-FEC35A4B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74513-82F0-4A9C-B6F9-BDC85363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AAC-D2FA-400F-8267-6BE55670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9D18D-4EB0-4A8F-AF37-1AB577D4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8632CF-7B08-4F73-8182-B0E3F892D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4A280-B13E-4854-B3FC-C11C634E3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DA366-248B-4A55-8057-17561F24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09B14-2C98-4235-8437-4A7EFFAB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0C4C-1DB1-4CF0-865F-DBC335BB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D3D0-712D-49C5-9339-8AE736CA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DE0B7-C94C-4DCB-B4E7-2DB9B2252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13917-515C-452B-8E17-3F35799F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5FC8-0A2F-4BDF-A942-CD4D474B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0778-7EC6-457D-A401-5F59BC9B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17067-EC45-44BA-AAE3-E3B2E58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B9919-5016-451C-AAEE-96DE923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548D0-66D4-4BE2-A225-9379A524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7CCEA-BCCB-4E62-851E-4FF8974F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0B1CA-91D5-4D91-A405-385506592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62669-83CD-41EE-B64E-20243639E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D9A4F-B2F4-4966-85EA-A77AA744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1468-31CD-4567-B342-651AC80D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9DBEB-CFFA-48EC-AEB0-C7659BB07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92101-320A-410B-BC93-81D5D7C4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18B7-C668-452E-89DD-F73FC70A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5F402-BDAC-43A5-BFF8-5BBAEBFD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D968C-B4E2-4F86-B026-17E08FF5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88FC2-718B-426C-80BC-B9D9F60C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6E903-6291-4036-BE11-55608012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73FB64-D045-4E17-9BA5-28C625A3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56BDDC-CC03-4BE3-B4DF-D1F61478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36197-309A-4360-89EC-6DE39E34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DFF0A-1665-4B7F-91E7-2C42F2669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FA289-BD43-4AF0-81E5-EC0800B1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20A6-BEF8-4060-9675-F3B3AC83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EFC2-EEC4-4702-A34C-2C7100E9FC9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ACB6-4E1E-4B7B-82CA-73CCBB3F3D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AF61-AA3E-4BC6-8D29-2F9A73BCA1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7610-5DE1-4A51-A595-6EC62604D4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69E9-1A52-4E47-AE9C-B6ED515A5F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5F0-718F-4EE0-A383-051055C5C8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5E42-069E-489D-9AC1-24770FB3EB4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E9F4-2663-4354-AC90-33BF6FA802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516-BE5F-490D-BC06-352272A91C7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49C2-1CE7-4D91-9F83-7949E7A8F9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ACF9-C5F1-4596-BFD5-7EAC61A76B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0964-56DC-4597-BF9A-26D2F65F5F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8436-7C9D-488C-ABB9-CC32AA3D9D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5F03-F97D-4B37-8885-0019713E8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21F8-78BE-4AC4-A63F-D49C227CA8B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18F0-31BA-4DC3-B0B6-573154447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A118-FC62-44B5-AF6C-BC62F6015B8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01E8-C7EF-497B-B85E-1EAAEAA1F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E86D3-2914-4F59-9D60-3493503F755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AE3-D495-423F-A331-AE3CCD60BC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5AC3-F8E4-4546-9133-65F6BA861B4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5DA8-2EF5-4875-BADF-E86D665F10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DAB-B86F-4F50-BF81-A631BECAE7C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2282-DBD8-4B8E-8FD7-9FEE90C052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6EB5-6CB4-4C6A-A1CB-8943A64B4EA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74814-2A1F-4A40-B0E1-47BDD2A0B3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B1AF-F1C4-40B5-AB60-DFE186AE2C0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BF7-391F-44B4-AA0F-2C862D8A3B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938C-E985-4E81-8955-E6AFEBB386D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130C-5378-4C47-8E6A-3FAB1D5D23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8E40-42A4-49B0-AAB2-277623F98F2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B679-7CFD-44AC-8949-E4F415A9E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B2E7-EB07-42CB-9961-F6281A305D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7F2DF-B50E-46D6-8926-0007894E5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13600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«Мой край – моя святыня»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носы и национальности Осети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Кумыки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5148000" y="3500280"/>
            <a:ext cx="3600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 подготовил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читель английского язы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БОУ СОШ с.Весело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мише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жамиля Абу-Алие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2" descr=""/>
          <p:cNvPicPr/>
          <p:nvPr/>
        </p:nvPicPr>
        <p:blipFill>
          <a:blip r:embed="rId1"/>
          <a:stretch/>
        </p:blipFill>
        <p:spPr>
          <a:xfrm>
            <a:off x="395280" y="3500280"/>
            <a:ext cx="4572000" cy="25718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адиции и обыча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Picture 8" descr="x9000b"/>
          <p:cNvPicPr/>
          <p:nvPr/>
        </p:nvPicPr>
        <p:blipFill>
          <a:blip r:embed="rId1"/>
          <a:stretch/>
        </p:blipFill>
        <p:spPr>
          <a:xfrm>
            <a:off x="2048040" y="1523880"/>
            <a:ext cx="5047920" cy="3810240"/>
          </a:xfrm>
          <a:prstGeom prst="rect">
            <a:avLst/>
          </a:prstGeom>
          <a:ln w="0">
            <a:noFill/>
          </a:ln>
        </p:spPr>
      </p:pic>
      <p:sp>
        <p:nvSpPr>
          <p:cNvPr id="735" name="Rectangle 9"/>
          <p:cNvSpPr/>
          <p:nvPr/>
        </p:nvSpPr>
        <p:spPr>
          <a:xfrm>
            <a:off x="3484800" y="55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вадьба в Тарках</a:t>
            </a: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ет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356000" y="907560"/>
            <a:ext cx="44640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дним из самых радостных событий было рождение детей, особенно мальчиков. Еще до рождения свекровь готовила младенцу одежду, пеленки, люльку. О рождении ребенка сначала сообщали свекрови, потом другим членам семьи. Принято было снимать с головы отца новорожденного папаху, которую тот был обязан выкупать. Поздравлять семью с рождением ребенка приходили родственники и соседи. Имя выбиралось на семейном совете. Обычно младенца нарекали именем умершего родственника или кунака. До определенного возраста детей, отцы участия в их воспитании не принимали, не принято было проявлять и свои родительские чувств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8" name="Picture 11" descr="&amp;Dcy;&amp;acy; &amp;zcy;&amp;dcy;&amp;rcy;&amp;acy;&amp;vcy;&amp;scy;&amp;tcy;&amp;vcy;&amp;ucy;&amp;iecy;&amp;tcy; &amp;vcy;&amp;iecy;&amp;lcy;&amp;icy;&amp;kcy;&amp;acy;&amp;yacy; &amp;dcy;&amp;rcy;&amp;ucy;&amp;zhcy;&amp;bcy;&amp;acy; &amp;mcy;&amp;ncy;&amp;ocy;&amp;gcy;&amp;ocy;&amp;ncy;&amp;acy;&amp;tscy;&amp;icy;&amp;ocy;&amp;ncy;&amp;acy;&amp;lcy;&amp;softcy;&amp;ncy;&amp;ocy;&amp;gcy;&amp;ocy; &amp;Dcy;&amp;acy;&amp;gcy;&amp;iecy;&amp;scy;&amp;tcy;&amp;acy;&amp;ncy;&amp;acy; &amp;Dcy;&amp;iecy;&amp;tcy;&amp;scy;&amp;kcy;&amp;icy;&amp;jcy; &amp;scy;&amp;acy;&amp;dcy;"/>
          <p:cNvPicPr/>
          <p:nvPr/>
        </p:nvPicPr>
        <p:blipFill>
          <a:blip r:embed="rId1"/>
          <a:stretch/>
        </p:blipFill>
        <p:spPr>
          <a:xfrm>
            <a:off x="324000" y="981000"/>
            <a:ext cx="4032000" cy="280836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3" descr="&amp;Fcy;&amp;ocy;&amp;tcy;&amp;ocy;&amp;gcy;&amp;rcy;&amp;acy;&amp;fcy;&amp;icy;&amp;yacy; 5 - &amp;Dcy;&amp;iecy;&amp;tcy;&amp;icy; - &amp;Fcy;&amp;ocy;&amp;tcy;&amp;ocy; / &amp;Dcy;&amp;iecy;&amp;tcy;&amp;icy; - SkrinShoT Bakililar. - Yalniz Azerbaycanda"/>
          <p:cNvPicPr/>
          <p:nvPr/>
        </p:nvPicPr>
        <p:blipFill>
          <a:blip r:embed="rId2"/>
          <a:stretch/>
        </p:blipFill>
        <p:spPr>
          <a:xfrm>
            <a:off x="324000" y="3933720"/>
            <a:ext cx="4032000" cy="26640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носпортивные игр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6659280" y="1196640"/>
            <a:ext cx="2305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 больши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жествам –свадьбам,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религиозным праздника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уроче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нноспортивные игры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2" name="Picture 10" descr="&amp;Tcy;&amp;ocy;, &amp;chcy;&amp;tcy;&amp;ocy; &amp;scy;&amp;iecy;&amp;rcy;&amp;dcy;&amp;tscy;&amp;ucy; &amp;dcy;&amp;ocy;&amp;rcy;&amp;ocy;&amp;gcy;&amp;ocy;. - &amp;Scy;&amp;tcy;&amp;rcy;&amp;acy;&amp;ncy;&amp;icy;&amp;tscy;&amp;acy; 12 - &amp;Acy;&amp;dcy;&amp;ycy;&amp;gcy;&amp;icy; - &amp;Kcy;&amp;acy;&amp;vcy;&amp;kcy;&amp;acy;&amp;zcy;&amp;scy;&amp;kcy;&amp;icy;&amp;jcy; &amp;fcy;&amp;ocy;&amp;rcy;&amp;ucy;&amp;mcy; KavkazWeb.net"/>
          <p:cNvPicPr/>
          <p:nvPr/>
        </p:nvPicPr>
        <p:blipFill>
          <a:blip r:embed="rId1"/>
          <a:stretch/>
        </p:blipFill>
        <p:spPr>
          <a:xfrm>
            <a:off x="2987640" y="907920"/>
            <a:ext cx="3527640" cy="2592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12" descr="&amp;Fcy;&amp;acy;&amp;jcy;&amp;lcy;:Lezginka Kabardian 2.jpg - &amp;Dcy;&amp;acy;&amp;gcy;&amp;iecy;&amp;scy;&amp;tcy;&amp;acy;&amp;ncy;"/>
          <p:cNvPicPr/>
          <p:nvPr/>
        </p:nvPicPr>
        <p:blipFill>
          <a:blip r:embed="rId2"/>
          <a:stretch/>
        </p:blipFill>
        <p:spPr>
          <a:xfrm>
            <a:off x="179280" y="907920"/>
            <a:ext cx="2808360" cy="25923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14" descr="&amp;Pcy;&amp;ocy;&amp;mcy;&amp;ncy;&amp;yacy;&amp;tcy; &amp;lcy;&amp;iecy;&amp;zcy;&amp;gcy;&amp;icy;&amp;ncy;&amp;ycy; &amp;ocy; &amp;Dcy;&amp;zhcy;&amp;icy;&amp;gcy;&amp;icy;&amp;tcy;-&amp;Dcy;&amp;ocy;. - 14 &amp;YAcy;&amp;ncy;&amp;vcy;&amp;acy;&amp;rcy;&amp;yacy; 2011, &amp;Lcy;&amp;iecy;&amp;zcy;&amp;gcy;&amp;icy;&amp;ncy;&amp;kcy;&amp;acy; - &amp;Lcy;&amp;iecy;&amp;zcy;&amp;gcy;&amp;icy;&amp;ncy;&amp;ycy;, &amp;Icy;&amp;scy;&amp;tcy;&amp;ocy;&amp;rcy;&amp;icy;&amp;yacy; &amp;lcy;&amp;iecy;&amp;zcy;&amp;gcy;&amp;icy;&amp;ncy;, &amp;Lcy;&amp;iecy;&amp;zcy;&amp;gcy;&amp;icy;&amp;ncy;&amp;scy;&amp;kcy;&amp;icy;&amp;iecy; &amp;ncy;&amp;ocy;&amp;vcy;&amp;ocy;&amp;scy;&amp;tcy;&amp;icy;, &amp;scy;&amp;ocy;&amp;bcy;&amp;ycy;&amp;tcy;&amp;icy;&amp;icy;. 48"/>
          <p:cNvPicPr/>
          <p:nvPr/>
        </p:nvPicPr>
        <p:blipFill>
          <a:blip r:embed="rId3"/>
          <a:stretch/>
        </p:blipFill>
        <p:spPr>
          <a:xfrm>
            <a:off x="2411280" y="3500280"/>
            <a:ext cx="2952720" cy="288144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6" descr="&amp;Kcy;&amp;acy;&amp;vcy;&amp;kcy;&amp;acy;&amp;zcy;."/>
          <p:cNvPicPr/>
          <p:nvPr/>
        </p:nvPicPr>
        <p:blipFill>
          <a:blip r:embed="rId4"/>
          <a:stretch/>
        </p:blipFill>
        <p:spPr>
          <a:xfrm>
            <a:off x="5364000" y="3500280"/>
            <a:ext cx="3600720" cy="2881440"/>
          </a:xfrm>
          <a:prstGeom prst="rect">
            <a:avLst/>
          </a:prstGeom>
          <a:ln w="0">
            <a:noFill/>
          </a:ln>
        </p:spPr>
      </p:pic>
      <p:sp>
        <p:nvSpPr>
          <p:cNvPr id="746" name="Rectangle 17"/>
          <p:cNvSpPr/>
          <p:nvPr/>
        </p:nvSpPr>
        <p:spPr>
          <a:xfrm>
            <a:off x="250920" y="3645000"/>
            <a:ext cx="216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качки, джигитовка,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также стрельба из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ука – самые популярные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ы спорта.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них принимают участие в основном юноши.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лькл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39704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кумыкском фольклоре самое значительное место занимают эпические песни, сказки, сатирические рассказы и анекдоты, загадки, пословицы и поговорки. Обрядовая поэзия включает свадебные, похоронные, колыбельные, урожайные и ритуальные песни. Кумыкский танец, разновидность лезгинки, имеет более двадцати вариантов. Танцы и песни сопровождаются аккомпанементом на традиционных музыкальных инструментах: органе (гармоника), зурне и сыбызгы (духовые), барабанах и бубнах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Picture 8" descr="&amp;Ocy;&amp;fcy;&amp;icy;&amp;tscy;&amp;icy;&amp;acy;&amp;lcy;&amp;softcy;&amp;ncy;&amp;ycy;&amp;jcy; &amp;scy;&amp;acy;&amp;jcy;&amp;tcy; &amp;Mcy;&amp;Ocy; &quot;&amp;Bcy;&amp;acy;&amp;bcy;&amp;acy;&amp;yucy;&amp;rcy;&amp;tcy;&amp;ocy;&amp;vcy;&amp;scy;&amp;kcy;&amp;icy;&amp;jcy; &amp;rcy;&amp;acy;&amp;jcy;&amp;ocy;&amp;ncy;&quot; :: &amp;Ncy;&amp;ocy;&amp;vcy;&amp;ocy;&amp;scy;&amp;tcy;&amp;icy;"/>
          <p:cNvPicPr/>
          <p:nvPr/>
        </p:nvPicPr>
        <p:blipFill>
          <a:blip r:embed="rId1"/>
          <a:stretch/>
        </p:blipFill>
        <p:spPr>
          <a:xfrm>
            <a:off x="4500720" y="119700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10" descr="&amp;Dcy;&amp;acy;&amp;gcy;&amp;iecy;&amp;scy;&amp;tcy;&amp;acy;&amp;ncy;&amp;scy;&amp;kcy;&amp;icy;&amp;iecy; &amp;tcy;&amp;acy;&amp;ncy;&amp;tscy;&amp;ycy; &amp;lcy;&amp;iecy;&amp;zcy;&amp;gcy;&amp;icy;&amp;ncy;&amp;kcy;&amp;acy;"/>
          <p:cNvPicPr/>
          <p:nvPr/>
        </p:nvPicPr>
        <p:blipFill>
          <a:blip r:embed="rId2"/>
          <a:stretch/>
        </p:blipFill>
        <p:spPr>
          <a:xfrm>
            <a:off x="4500720" y="4005360"/>
            <a:ext cx="4032000" cy="2663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ая кух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643280" y="1125360"/>
            <a:ext cx="404352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умыки очень гостеприимный народ. Каждый кумык считает за честь достойно принять гостя в любое время дня и ночи. Гостю подают лучшую пищу. Гость в дом – счастье в дом. Неизменным атрибутом гостеприимства являются, конечно же, национальные блюда.   Распространены мясная, мучная пища, молочные каши. Популярные блюда: хинкал, шорпа, долма, черек, курзе, сохта, чуду, мучная халва, хворост, слоенный хле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3" name="Picture 8" descr="&amp;Vcy; &amp;Scy;&amp;kcy;&amp;vcy;&amp;iecy;&amp;rcy;&amp;iecy; &amp;zhcy;&amp;ucy;&amp;rcy;&amp;ncy;&amp;acy;&amp;lcy;&amp;icy;&amp;scy;&amp;tcy;&amp;ocy;&amp;vcy; &amp;gcy;.&amp;Gcy;&amp;rcy;&amp;ocy;&amp;zcy;&amp;ncy;&amp;ycy;&amp;jcy; &amp;scy;&amp;ocy;&amp;scy;&amp;tcy;&amp;ocy;&amp;yacy;&amp;lcy;&amp;acy;&amp;scy;&amp;softcy; &amp;vcy;&amp;ycy;&amp;scy;&amp;tcy;&amp;acy;&amp;vcy;&amp;kcy;&amp;acy; &amp;ncy;&amp;acy;&amp;tscy;&amp;icy;&amp;ocy;&amp;ncy;&amp;acy;&amp;lcy;&amp;softcy;&amp;ncy;&amp;ycy;&amp;khcy; &amp;bcy;&amp;lcy;&amp;yucy;&amp;dcy; &amp;Gcy;&amp;rcy;&amp;ocy;&amp;zcy;&amp;ncy;&amp;ycy;&amp;jcy; &amp;Icy;&amp;ncy;&amp;fcy;&amp;ocy;&amp;rcy;&amp;mcy;"/>
          <p:cNvPicPr/>
          <p:nvPr/>
        </p:nvPicPr>
        <p:blipFill>
          <a:blip r:embed="rId1"/>
          <a:stretch/>
        </p:blipFill>
        <p:spPr>
          <a:xfrm>
            <a:off x="250920" y="1125360"/>
            <a:ext cx="4248000" cy="25909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7" descr="C:\Users\Admin\Desktop\Алина грамоты\img10.jpg"/>
          <p:cNvPicPr/>
          <p:nvPr/>
        </p:nvPicPr>
        <p:blipFill>
          <a:blip r:embed="rId2"/>
          <a:srcRect l="5336" t="15606" r="4780" b="6541"/>
          <a:stretch/>
        </p:blipFill>
        <p:spPr>
          <a:xfrm>
            <a:off x="324000" y="3860640"/>
            <a:ext cx="8496000" cy="2808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умы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18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Кавказе есть такой народ,                                        Нынче по-иному жизнь теч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 кипчаков он ведет свой род,                                     И народ своим трудом жив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ягким нравом, добротой слывя,                                 Он с друзьями в мире делит кров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 веками с горцами живя.                                              За соседа постоять гот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Говорили: он-де – татарва…                                           Так земля кумыкская щедра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Я ж скажу: то – гнусная молва.                                      Тут полно и хлеба, и добр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ровь и гены величавы в нем –                                     Здесь и гостя каждый видеть ра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, где нужно, мужеством силен.                                     И еду с ним поделить -  как бра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рат – татарам и дитя булгар-                                       На Кавказе есть такой народ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ет это здесь и млад, и стар,-                                      Именем кумыкским он слывет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ир туранский тверже, чем гранит,                             Прошлое лишь в памяти хран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 с Кавказом дух его роднит.                                          Он живет в грядущее гляд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мнят тут былые времена,                                           На Кавказе есть такой народ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к судьбу Кавказа, иногда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ам правитель здешний, от себя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г вершить лишь жестом, не скорб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УМЫ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Прямоугольник 1"/>
          <p:cNvSpPr/>
          <p:nvPr/>
        </p:nvSpPr>
        <p:spPr>
          <a:xfrm>
            <a:off x="468360" y="2565360"/>
            <a:ext cx="806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dwardian Script ITC"/>
              </a:rPr>
              <a:t>Флаг                                                                                                                                Герб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"Флаг кумыков" является одним из символов Кумыкского народного движения "Тенглик". Флаг этот имеет следующую цветовую символику: синий клин обозначает причастность кумыков к тюркскому миру и демократии, красный - кумыкскость ,зеленый - принадлежность к миру ислама. "Трехконечной свастике" сопутствуют знаки-символы. Они несут смысловую нагрузку: полумесяц и звезда являются символами тюрко-исламской цивилизации. Головы коня, волка и девушки символизируют многовековой круговорот Бытия, который происходит под сенью Вечного Неба - Тенгири. Конь - извечный спутник кумыка, который позволил его предкам освоить огромный мир. Волк - символ Воли и Свободы. Женщина - Умай-Ана - прародительница и покровительница кумыков. Эти знаки и цвета несут в себе сообщение о народе кумыков, который был, есть и должен быть в сонме народов Мира.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02" name="Picture 4" descr="C:\Users\Admin\Desktop\Алина грамоты\maxresdefault (1).jpg"/>
          <p:cNvPicPr/>
          <p:nvPr/>
        </p:nvPicPr>
        <p:blipFill>
          <a:blip r:embed="rId1"/>
          <a:srcRect l="7710" t="28751" r="52600" b="19181"/>
          <a:stretch/>
        </p:blipFill>
        <p:spPr>
          <a:xfrm>
            <a:off x="539640" y="549360"/>
            <a:ext cx="2232000" cy="178416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C:\Users\Admin\Desktop\Алина грамоты\maxresdefault (1).jpg"/>
          <p:cNvPicPr/>
          <p:nvPr/>
        </p:nvPicPr>
        <p:blipFill>
          <a:blip r:embed="rId2"/>
          <a:srcRect l="48673" t="30052" r="8170" b="19869"/>
          <a:stretch/>
        </p:blipFill>
        <p:spPr>
          <a:xfrm>
            <a:off x="6381720" y="611280"/>
            <a:ext cx="2371680" cy="17859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тория нар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38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умык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(кум. Къумукълар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– второй по численности после азербайджанцев тюркоязычный народ на Кавказе, являясь при этом крупнейшим тюркским народом на Северном Кавказе, четвертым по численности народом РСО-Алания, вторым в ЧР и третьим в Дагестане. Территория их традиционного расселения — Моздокский район., с. Кизляр, с. Предгорное, Терско-Сулакская низменность и предгорные районы Дагестана, а также ЧР с. Виноградное, с. Брагуны. В Дагестане, Чечне и Ингушетии терминами кумык и кумук именовали только кумыков. Слово «кумык» выводится из тюркского слова «кум» (песок, песчаная пустыня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6" name="Picture 9" descr="Daghestan,_A_Kumik_family_(A)"/>
          <p:cNvPicPr/>
          <p:nvPr/>
        </p:nvPicPr>
        <p:blipFill>
          <a:blip r:embed="rId1"/>
          <a:stretch/>
        </p:blipFill>
        <p:spPr>
          <a:xfrm>
            <a:off x="4716360" y="1628640"/>
            <a:ext cx="3743280" cy="396108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18676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енности традиционной одежд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мыкского на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10" descr="moda_09.jpg"/>
          <p:cNvPicPr/>
          <p:nvPr/>
        </p:nvPicPr>
        <p:blipFill>
          <a:blip r:embed="rId1"/>
          <a:stretch/>
        </p:blipFill>
        <p:spPr>
          <a:xfrm>
            <a:off x="5364000" y="1268280"/>
            <a:ext cx="3591000" cy="4419720"/>
          </a:xfrm>
          <a:prstGeom prst="rect">
            <a:avLst/>
          </a:prstGeom>
          <a:ln w="0">
            <a:noFill/>
          </a:ln>
        </p:spPr>
      </p:pic>
      <p:sp>
        <p:nvSpPr>
          <p:cNvPr id="709" name="Rectangle 11"/>
          <p:cNvSpPr/>
          <p:nvPr/>
        </p:nvSpPr>
        <p:spPr>
          <a:xfrm>
            <a:off x="5435640" y="5667480"/>
            <a:ext cx="353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уба, отороченная мерлушкой, - зимняя одежда замужних кумычек. Фото начала XX в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10" name="Picture 13" descr="moda_01.jpg"/>
          <p:cNvPicPr/>
          <p:nvPr/>
        </p:nvPicPr>
        <p:blipFill>
          <a:blip r:embed="rId2"/>
          <a:stretch/>
        </p:blipFill>
        <p:spPr>
          <a:xfrm>
            <a:off x="324000" y="1268280"/>
            <a:ext cx="4679640" cy="443880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14"/>
          <p:cNvSpPr/>
          <p:nvPr/>
        </p:nvSpPr>
        <p:spPr>
          <a:xfrm>
            <a:off x="747720" y="5949000"/>
            <a:ext cx="136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мычки.</a:t>
            </a:r>
            <a:r>
              <a:rPr b="0" lang="ru-RU" sz="1800" spc="-1" strike="noStrike">
                <a:solidFill>
                  <a:srgbClr val="000000"/>
                </a:solidFill>
                <a:latin typeface="Edwardian Script ITC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жчины носили тонкие туникообразные рубахи, штаны, черкесску, бешмет и овчинные шубы, а женщины — платья, кожаные башмаки, галоши и носки, причём одежда украшалась серебряными пряжками, пуговицами, поясом. Платья «полша», состоящее из нижнего платья из тонкого однотонного шелка и верхнего платья из плотной ткани с вышивкой, вышитые платки из тонкой шерсти и шелковые платки — «гульмельды» с характерным рисунком. Современная одежда в основном городского тип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9" descr="j0n090P6W3i4T017"/>
          <p:cNvPicPr/>
          <p:nvPr/>
        </p:nvPicPr>
        <p:blipFill>
          <a:blip r:embed="rId1"/>
          <a:stretch/>
        </p:blipFill>
        <p:spPr>
          <a:xfrm>
            <a:off x="826920" y="1628640"/>
            <a:ext cx="4176720" cy="42642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циональный костю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6" name="Picture 8" descr="moda_02.jpg"/>
          <p:cNvPicPr/>
          <p:nvPr/>
        </p:nvPicPr>
        <p:blipFill>
          <a:blip r:embed="rId1"/>
          <a:stretch/>
        </p:blipFill>
        <p:spPr>
          <a:xfrm>
            <a:off x="1042920" y="1341360"/>
            <a:ext cx="1600200" cy="38102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0" descr="moda_03.jpg"/>
          <p:cNvPicPr/>
          <p:nvPr/>
        </p:nvPicPr>
        <p:blipFill>
          <a:blip r:embed="rId2"/>
          <a:stretch/>
        </p:blipFill>
        <p:spPr>
          <a:xfrm>
            <a:off x="3059280" y="1341360"/>
            <a:ext cx="1847520" cy="3810240"/>
          </a:xfrm>
          <a:prstGeom prst="rect">
            <a:avLst/>
          </a:prstGeom>
          <a:ln w="0">
            <a:noFill/>
          </a:ln>
        </p:spPr>
      </p:pic>
      <p:sp>
        <p:nvSpPr>
          <p:cNvPr id="718" name="Rectangle 11"/>
          <p:cNvSpPr/>
          <p:nvPr/>
        </p:nvSpPr>
        <p:spPr>
          <a:xfrm>
            <a:off x="826560" y="537300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умык в бешмете. </a:t>
            </a:r>
            <a:endParaRPr b="0" lang="en-US" sz="1800" spc="-1" strike="noStrike">
              <a:solidFill>
                <a:srgbClr val="000000"/>
              </a:solidFill>
              <a:latin typeface="Edwardian Script ITC"/>
            </a:endParaRPr>
          </a:p>
        </p:txBody>
      </p:sp>
      <p:sp>
        <p:nvSpPr>
          <p:cNvPr id="719" name="Rectangle 12"/>
          <p:cNvSpPr/>
          <p:nvPr/>
        </p:nvSpPr>
        <p:spPr>
          <a:xfrm>
            <a:off x="3059280" y="5265720"/>
            <a:ext cx="187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крытое платье "Полуша"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  <p:pic>
        <p:nvPicPr>
          <p:cNvPr id="720" name="Picture 14" descr="moda_05.jpg"/>
          <p:cNvPicPr/>
          <p:nvPr/>
        </p:nvPicPr>
        <p:blipFill>
          <a:blip r:embed="rId3"/>
          <a:stretch/>
        </p:blipFill>
        <p:spPr>
          <a:xfrm>
            <a:off x="5292720" y="1341360"/>
            <a:ext cx="2743200" cy="381024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15"/>
          <p:cNvSpPr/>
          <p:nvPr/>
        </p:nvSpPr>
        <p:spPr>
          <a:xfrm>
            <a:off x="5292720" y="5274360"/>
            <a:ext cx="3693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умычка в нарядной одежде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"Къабалай" с декоративной вставкой "алдылыкъ")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Edwardian Script ITC"/>
            </a:endParaRPr>
          </a:p>
        </p:txBody>
      </p:sp>
    </p:spTree>
  </p:cSld>
  <p:transition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28036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адиции семь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00360" y="1456920"/>
            <a:ext cx="4537080" cy="46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радиционная кумыкская семья — родственная община численностью до 30 чел. — к началу XIX в. почти распалас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 XIX в. преобладает малая семья, но сохраняется значение родственных связей по отцовской линии (род — тухум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обственность в семье была общей. Личную собственность, состоявшую из приданого, имели женщины. При распаде или дроблении семьи приданое не делилось. За невесту платили ка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спитанием детей занимались только женщины. Запрещалось прилюдное проявление родительских чувств. Воспитание мальчиков и девочек сильно различалось, но было одинаково суровым и аскетичн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альчиков часто отдавали воспитывать в чужую семью (аталычество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4" name="Picture 11" descr="i"/>
          <p:cNvPicPr/>
          <p:nvPr/>
        </p:nvPicPr>
        <p:blipFill>
          <a:blip r:embed="rId1"/>
          <a:stretch/>
        </p:blipFill>
        <p:spPr>
          <a:xfrm>
            <a:off x="324000" y="1484280"/>
            <a:ext cx="4176720" cy="40323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2968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диции и обычаи. Свадьб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995280" y="980640"/>
            <a:ext cx="469116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адьба длилась три дня. Угощение готовилось отдельно для мужчин и женщин. Все гости приносили подарки. Невесте дарили необходимое в хозяйстве, жениху – продукты и деньги. Обязательными были танцы и песни. На второй день свадьбы совершался торжественный перевоз невесты в дом жениха. Невесту одевали в присланную женихом новую одежду, закутывали в покрывало. С наступлением сумерек в специальной арбе с плетеным из орешника высоким верхом, покрытым узорным ковром, ее перевозили в дом мужа. Девушку провожали подруги и мужчины – ее соседи, почетные го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ровождавшие невесту требовали вознаграждение за разрешение ввести ее в дом. Обычно это был кинжал, который получал подросток, ведший на поводу волов, запряженных в свадебную арбу. Девушку обсыпали сладостями, мукой и мелкими монетами. Ее родственница или многодетная соседка опускала палец в миску с медом и давала облизнуть его невесте. Затем, обмакнув руку невесты в мед, она ставила отпечаток на стене. Все это должно было способствовать счастливой жизн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11" descr="&amp;Tcy;&amp;rcy;&amp;acy;&amp;dcy;&amp;icy;&amp;tscy;&amp;icy;&amp;ocy;&amp;ncy;&amp;ncy;&amp;acy;&amp;yacy; &amp;kcy;&amp;ucy;&amp;mcy;&amp;ycy;&amp;kcy;&amp;scy;&amp;kcy;&amp;acy;&amp;yacy; &amp;scy;&amp;vcy;&amp;acy;&amp;dcy;&amp;softcy;&amp;bcy;&amp;acy; - juzp music box"/>
          <p:cNvPicPr/>
          <p:nvPr/>
        </p:nvPicPr>
        <p:blipFill>
          <a:blip r:embed="rId1"/>
          <a:stretch/>
        </p:blipFill>
        <p:spPr>
          <a:xfrm>
            <a:off x="324000" y="1125360"/>
            <a:ext cx="3456000" cy="259092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13" descr="Program tv &amp;Kcy;&amp;ucy;&amp;mcy;&amp;ycy;&amp;kcy;&amp;scy;&amp;kcy;&amp;icy;&amp;jcy; : 2/2 Yallar Gn &amp;dcy;&amp;iecy;&amp;ncy;&amp;softcy; &amp;pcy;&amp;ocy;&amp;zhcy;&amp;icy;&amp;lcy;&amp;ycy;&amp;khcy; &amp;lcy;&amp;yucy;&amp;dcy;&amp;iecy;&amp;jcy; &amp;kcy;&amp;ucy;&amp;mcy;&amp;ycy;&amp;kcy;&amp;scy;&amp;kcy;&amp;icy;&amp;jcy;&amp;scy;&amp;vcy;&amp;acy;&amp;dcy;&amp;softcy;&amp;bcy;&amp;acy; - &amp;Ncy;&amp;acy;&amp;rcy;&amp;ocy;&amp;dcy;&amp;ncy;&amp;acy;&amp;yacy; &amp;mcy;&amp;iecy;&amp;dcy;&amp;icy;&amp;tscy;&amp;icy;&amp;ncy;&amp;acy;"/>
          <p:cNvPicPr/>
          <p:nvPr/>
        </p:nvPicPr>
        <p:blipFill>
          <a:blip r:embed="rId2"/>
          <a:stretch/>
        </p:blipFill>
        <p:spPr>
          <a:xfrm>
            <a:off x="324000" y="3933720"/>
            <a:ext cx="3456000" cy="251964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диции и обыча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3924000" y="907560"/>
            <a:ext cx="47530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провождавшие невесту мужчины находились в комнате до прихода жениха. Они давали родственникам жениха трудно выполнимые задания. Чтобы войти в комнату невесты, жених должен был сделать ей подарок и отгадать загадку. Загадки отгадывала и невеста. Распорядителем всего торжества был «хан» или «шах». Он мог наложить на гостя штраф. Новобрачные в торжестве не участвовали. Невеста сидела в углу комнаты, за ширмой, а жених уходил к родственникам и появлялся в доме только после того, как разойдутся все гости. На второй день свадьбы устраивались конно-спортивные состязания. В качестве приза хозяин свадьбы выставлял корову или теленка. Нередко призами были серебряный кинжал, жеребенок, серебряные деньг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чером четвертого дня после свадьбы к молодой приходили родственники мужа. Через две-три недели совершался ритуал первого выхода новобрачной за водой. Ее сопровождали родственницы во главе со старшей родственницей мужа. Процессия двигалась к источнику под музыку и песни, встречных одаривали сладостями. Спустя месяц после свадьбы невестку вводили в большую комнату дома мужа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11" descr="&amp;Lcy;&amp;iecy;&amp;zcy;&amp;gcy;&amp;icy;&amp;ncy;&amp;kcy;&amp;acy; &amp;ncy;&amp;acy; &amp;scy;&amp;vcy;&amp;acy;&amp;dcy;&amp;softcy;&amp;bcy;&amp;iecy;"/>
          <p:cNvPicPr/>
          <p:nvPr/>
        </p:nvPicPr>
        <p:blipFill>
          <a:blip r:embed="rId1"/>
          <a:stretch/>
        </p:blipFill>
        <p:spPr>
          <a:xfrm>
            <a:off x="260280" y="1096920"/>
            <a:ext cx="3529080" cy="248760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3" descr="&amp;Tcy;&amp;acy;&amp;ncy;&amp;tscy;&amp;ycy; &amp;ncy;&amp;acy; &amp;scy;&amp;vcy;&amp;acy;&amp;dcy;&amp;softcy;&amp;bcy;&amp;acy;&amp;khcy; - &amp;chcy;&amp;ucy;&amp;tcy;&amp;softcy; &amp;lcy;&amp;icy; &amp;ncy;&amp;iecy; &amp;iecy;&amp;dcy;&amp;icy;&amp;ncy;&amp;scy;&amp;tcy;&amp;vcy;&amp;iecy;&amp;ncy;&amp;ncy;&amp;acy;&amp;yacy; &amp;scy;&amp;icy;&amp;tcy;&amp;ucy;&amp;acy;&amp;tscy;&amp;icy;&amp;yacy;, &amp;gcy;&amp;dcy;&amp;iecy; &amp;vcy;&amp;acy;…"/>
          <p:cNvPicPr/>
          <p:nvPr/>
        </p:nvPicPr>
        <p:blipFill>
          <a:blip r:embed="rId2"/>
          <a:stretch/>
        </p:blipFill>
        <p:spPr>
          <a:xfrm>
            <a:off x="250920" y="3716280"/>
            <a:ext cx="3529080" cy="26211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14:49:21Z</dcterms:created>
  <dc:creator>Comp</dc:creator>
  <dc:description/>
  <dc:language>en-US</dc:language>
  <cp:lastModifiedBy>Admin</cp:lastModifiedBy>
  <cp:lastPrinted>2022-11-05T15:34:09Z</cp:lastPrinted>
  <dcterms:modified xsi:type="dcterms:W3CDTF">2024-01-08T17:44:08Z</dcterms:modified>
  <cp:revision>163</cp:revision>
  <dc:subject/>
  <dc:title>Национальные костюмы Дагеста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928F16F12A0C45139465650947634EB7_12</vt:lpwstr>
  </property>
  <property fmtid="{D5CDD505-2E9C-101B-9397-08002B2CF9AE}" pid="3" name="KSOProductBuildVer">
    <vt:lpwstr>1049-12.2.0.13359</vt:lpwstr>
  </property>
</Properties>
</file>