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4.jpeg" ContentType="image/jpeg"/>
  <Override PartName="/ppt/media/image3.jpeg" ContentType="image/jpeg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  <p:sldId id="266" r:id="rId29"/>
    <p:sldId id="267" r:id="rId30"/>
    <p:sldId id="268" r:id="rId31"/>
    <p:sldId id="269" r:id="rId32"/>
    <p:sldId id="270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5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slide" Target="slides/slide11.xml"/><Relationship Id="rId30" Type="http://schemas.openxmlformats.org/officeDocument/2006/relationships/slide" Target="slides/slide12.xml"/><Relationship Id="rId31" Type="http://schemas.openxmlformats.org/officeDocument/2006/relationships/slide" Target="slides/slide13.xml"/><Relationship Id="rId32" Type="http://schemas.openxmlformats.org/officeDocument/2006/relationships/slide" Target="slides/slide14.xml"/><Relationship Id="rId33" Type="http://schemas.openxmlformats.org/officeDocument/2006/relationships/slide" Target="slides/slide15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176F8-6F60-4230-808E-F85B4E214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779A1-B4D3-4844-8B95-E82E9E3AC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85E3F5-284C-4418-813D-01B29DFD4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A9881D-EEAF-41F6-943D-2022D7430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5D6427-2965-438B-8781-D72300523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11A7EE-3657-4733-BD70-9FDFC931A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5E990A-9144-4076-BC12-58923374A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F4C677-C952-496F-82E4-172B4205F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A20449-F3DC-4B30-9797-8139EA565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E1080D-CA45-4DB7-A3E2-CB5585CB8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EBFBE4-2553-439C-9420-B5B802EE5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50261C-DCD8-4B76-969E-B4CFD2EF8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33337-3C05-455B-B2CA-4DD463718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32CBA8-6997-47AE-AE95-3C0BCF437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542732-42D5-421C-8F76-AB8976071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E084AB-09F3-49C6-9C09-33D5BE830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774BDF-2A24-425D-8D9A-AE5406799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AB4729-E7D1-4018-940B-5B89DB85E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FADE81-E8BA-4A68-B451-C16BEF376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DD54A4-5D90-4BF4-A19D-2ABE31BCA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FF2D4C-DE29-40B4-8C24-27DAF0C76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1A8D40-2E83-4B9C-A5FB-F23FCF948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799F7B-D013-4637-AE97-88CC375BC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8CA95-DB89-457A-AC83-713B62CD1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9A8D56-9E62-49B6-A9A5-7A664C9A6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7B933C-66D2-4B40-8278-CB9824386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515A74-657B-43C9-B165-6242998CF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1C17D0-4F46-439C-AA3D-4FD64CCC9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EFB3F8-77AE-44FD-A05E-053BD4B50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FE4956-41DB-402D-880A-99A0DF5FA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CA4EF9-9018-48F3-A8AE-B772C5A2B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86134D-D704-482F-AA1C-76ABE3E76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0FF907-90F0-49D5-9E78-66E0CF6C1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26D9CC-31BA-46CE-8800-FD9D027CD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BBC31-1EE6-4F50-8D09-182998117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979285-D608-4FF8-9A1B-647B784DA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B4F87D-E8B1-40A6-9AB9-1960D6FD5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815138-0B44-4D96-A2B6-E49F92C3B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ACF3D4-EB4B-46DE-A31A-3EA28D990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5AE423-3EC4-4E94-8A3D-BBB295E03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99B06F-16A1-4F6F-BBCC-264E941BA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01ED4D-5333-4162-87E8-2CBCB15AA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91E4E0-159A-4E7D-B57C-5FB243B36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3AF9DB-E34C-43BC-9CCF-E9A98E6FB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A36DBE-2DDB-4100-9FE0-C5D569D34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A2B32-9CE4-4366-A77D-4FD0F9888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017296-2023-4C59-A0EA-0AE1CF896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432652-C322-464B-8B1E-4DA03377D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E751C8-CB18-4291-A7B3-297739489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B65CDA-080A-4012-9E54-A5C2B6E54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2AC286-70CF-4727-9C7A-AF61641BE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F83A2EF-7DBE-4883-A5C9-38505C467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E2C620D-1D96-4CCE-A741-0142A2FC2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71F2D3C-1CBC-40EA-B9CF-7F47F27D2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F53D1D6-F5AC-47CD-84AF-F349252F9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8E33622-3E89-461D-A2FD-3EE896202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7D65D-1C40-4C44-BBC0-713C1F52D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FAE2A37-AAF7-4AE2-9925-F00F91598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DC9415E-BAD1-463F-86C7-E1E82FD3B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D6ABE62-328B-4CAB-AE73-88E982A83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DFF1CDE-04C0-4DA9-8FF7-E92B2AB55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9F88DD9-6990-4680-BB52-B24E13DD9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D963AA5-A595-46A3-93A7-687056D52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C9CF189-62FD-4ADB-8BAB-F7FF3FECE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86ABDB0-D33B-47B3-B4B7-65F8808F7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F8942DF-08CC-4C12-B861-F9A377131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E6592B8-D8A5-481C-A67E-B6B01B89F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94E92-26A7-4568-B87C-38B483AD1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F752D49-4C06-4B69-8459-1EAAB3AFB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1F1E0BF-DC3D-4A4A-AC8D-AAE3B2CA4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C64EEE3-DC1C-4BAD-9106-555C9A9B9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0A2FD03-95AA-4014-8668-93449AD20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854621B-437E-4733-8D17-5AAB40931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0BF2F4F-5CDB-43CB-91C4-BECC68088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50FDBC3-507F-417A-9EDB-C5A7A6293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DFF04C0-9B62-4964-A5B6-0C11901A3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9321417-107A-450E-BEE3-8DE51917F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57BE8BA-D6A2-43C2-B68A-08E0BB771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5992A-4A2C-413A-8DDE-B30571286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2BBDF51-5C75-4D52-AA89-F611DE33F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C1564C7-6F31-4C22-A4C2-345C1D8AF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0F666F7-51EA-4420-916D-C5E2ECFDE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67ADB2E-8599-4087-AA0F-95CBB47E9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D141E13-1722-43FF-9E84-7F8FC297A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D203336-9888-44C6-B83D-5E8FBBC82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915D49F-7330-4449-B55E-595D91535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38709E8-110B-4AAC-9101-B3ABE41C6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E8FE53D-5AE8-4208-824F-CEF830E10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E3E0CCE-9039-4995-A797-E3E55A051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1E392-F4CE-438B-89B6-C39D227D5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659AE58-C92C-474F-98BD-715CF130F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1B2BAAB-A30D-42FD-91DC-B937BFDD5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6DEEB02-01E7-4B26-B349-4810A8B2A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C8132D8-3809-4257-9B48-9FBD38E0E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E0C85F6-F192-4D79-A359-ADAA4A531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2263531-EEA9-4974-8852-2B13B3D77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B3F00D3-E44F-467F-8D8A-60E812A9E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B32E208-8B6A-47C6-B1C8-AE483C916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2A68E36-6AD9-41A8-B2C2-47E7A74C2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8718F4A-83DA-4F94-99F9-9383D2A53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17C89-3930-44D9-8684-6C406E774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40DCFCD-8919-4F7D-9946-9D1D5A234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8057F53-B1F8-474C-A77C-421B23DEE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0B34813-974B-4F9A-B45D-03897BC56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CF71A3B-710E-4941-BD56-6D4942FFB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F9CEC08-328F-4769-A85C-C419A49B8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F33B981-899D-4AB1-B235-6A97174B3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0A224AE-FAD3-45E3-BF7C-F558B2F70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1688857-10E1-4B18-867E-D219ACB2D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9432FC1-5D25-49ED-B5F1-D5FEF09F7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31CDC04-EA05-46B2-A1E1-3D9AD5144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0A6F4-4D1B-44D0-B018-506A7B03A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63E2A-3F2E-42A5-8F10-A172974F9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B088904-45B7-4AFF-BD5A-890FC5228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D5DCC25-F6F3-490E-88D9-185A75CA0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DA3D294-946D-4540-AC7A-AF7D130FE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86768F3-A066-4637-8D0A-91A6B1862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D943917-D625-4EF3-8FE0-CD0BF0D03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E0D3D-842E-495A-BAD0-09F9E5E38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4D2C0-152E-4AFE-9DFC-70ECCE56E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E7A01-103B-432B-888A-6EA802BD9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4E417-E184-4133-ABDC-376721128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7FA062-1BAA-4EF3-A75A-EBF30AC85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72BB98-874A-4827-9B04-D3819C6B7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284E5B-C712-44DA-AD56-22262E14A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D63548-1AA6-4608-AFD5-FFABF3C3F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6FAB93-8D1F-46B9-BF1E-39EB1F531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90423-11FC-419E-92A5-1232EE2BE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490052-815A-4C93-8BFF-6471FB8CA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7089EF-7CAC-498A-8FCF-4C3D04959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FF6BB1-9A7A-4BC6-A4B7-0B642F485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2BA331-BDA7-4CD6-92AB-C34EBB663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FAF371-CB6C-4036-855F-DBDB74E2F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5DA4D3-66F7-4E9B-8AB7-193493B81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79F9F0-9507-4890-B597-9C884D9F7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2F8BA0-BB2E-4CBA-BDF5-A2C10886E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7A387A-9D9C-400F-B3DD-115AE2888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AB6F6F-0D35-45E9-9A7E-22DCE0C2B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21B24-6859-4271-8DB0-F2DE2E8B9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12756A-F191-4A84-9F91-8E082D5DF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70B1BD-520D-44CA-AC1A-0E811E75A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021FD4-635F-46E9-8789-D9840444C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755EFF-54E1-42AF-9C62-4D77A5471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3D6E38-0256-4F8D-BD5E-404594BFD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14830A-99A4-4B3E-9A9D-4B41F0A1C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E1E62C-F2B3-4373-887B-DBDE4AC3D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FFC30F-DE32-4B07-96B1-28AE4940F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013717-028D-4431-9632-2BBE8CADE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F9FC1C-3BBF-4A27-A3B8-1F1E0610D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EBEFC-10D0-4AE8-ADE3-645166F82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673FE2-2EE2-468E-AE4D-BC50FBF29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E31469-F1C4-49BB-98EB-8050CD36E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1C29CB-CC68-409A-8B66-9F9F983CA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756FF2-AC4C-4106-B467-20C9BC18A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615FA7-7FA6-43F6-AB60-5A50AC09E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8CA126-0636-4FEA-BD54-9B8833C48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74C883-52C3-49E5-8D6F-832F1008D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B64A9D-BD2A-4F9A-8D47-A02B6712A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4D3AED-B5CD-4EEE-8C73-C8BAA04E7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033998-D7EA-4F2F-9AD5-535B05825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DCC32-9FF1-4662-95B3-580C458B1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B475DA-71E2-43DF-B85B-2591F76AC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2801B1-1F47-499B-837F-81746BC20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A39FA5-FE67-4EFB-96FB-9EC081AA1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237DE2-0D2B-4743-9A07-44BB8AF73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0DC6FA-7D69-4B8F-A54D-E87CE7552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FD7D46-F8F1-4773-AA34-70D21DF70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95386A-83D6-4D2C-9975-E0DE65931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8ECF78-6ADE-4582-80FB-AEDA8C2E0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2B9883-9E76-4BF7-83BA-F2A860700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D473CA-C1B6-47D7-A25D-510ED49F9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7C029-7052-475B-BD5D-2F527E18A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296FB8-4CCA-41B1-A13D-160750FE7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1F4399-F498-42AA-87F2-63A6ECBF1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EE44A5-DC78-4A86-A93D-30B15AD9E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C81FBB-CAF3-420F-A95C-B1E555F30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550EA7-9E28-4B78-9FB4-270FA3212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5FB5D1-0184-4CC0-BB83-D305B6EA3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869636-DCCA-4E9B-A26A-2B6382885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0F9F86-A9D7-4E93-9BCA-04E40843F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CAC7A9-E47E-4C0C-8F2A-A661245CA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A19E56-9D69-4388-B5D8-CAD158019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A217C-6588-4005-A1B6-6E5E0696D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E37A2E-8970-47C8-9253-9251CFC82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7D8707-A7F2-409E-A75A-0629257C2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EC2BAC-154B-437F-BCBD-66CE7CBEF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055DFF-B879-4517-830F-2EAB3ACB5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2BA463-0298-439A-AF40-09D702A7A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891A31-E27C-487C-94E6-B3DBEB0E3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383564-9962-4531-B62E-923DDC5DC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7BBE5F-A70B-4C8D-9583-F4BED0461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A0D3FE-00B3-45A5-98B7-A4A687224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A86494-B1C7-4054-AF4C-EAD63182B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69227-E918-4983-9D01-685FC00B6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913665-5E31-4990-AB19-B3E971A2A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4FF7C2-4041-4709-8078-4924B5BF2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BDFC03-B5C2-4D31-80E6-D3385CD91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FBEAB2-50C1-4261-98EE-38663FF7E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01ACF7-E687-4EE0-98F3-586486489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265A04-796A-46D3-B6E3-7559BB28A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C80021-23E5-48B8-AC8F-AE1695075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0E407E-311C-4965-BAF1-A9B82B235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E0ADD3-5EDA-4066-803A-07D073373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5D5840-4D57-4437-A952-755613145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E0E51-0451-43C9-8DB8-1B8151DE451D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Edwardian Script ITC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E1ED4-3F4E-4D71-8000-8DC17C9CB08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B0106-9466-47AD-AEA3-69F8412F2E5F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Edwardian Script ITC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93904-9A09-4F4B-B516-068BFD162BE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A9C1D-2463-486B-86B5-A4531C35079E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Edwardian Script ITC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F6D27-0313-45F5-B5C3-AFE2A3B877E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0DEE7-9B0A-43E3-A808-88C8B20FB4AC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Edwardian Script ITC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98ADD-7756-45B5-89F4-A87E0F5D089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14484-73E8-455C-B0F8-227D544C7B71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Edwardian Script ITC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5CCED-E368-4054-920D-C30DC576F7F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DFBB1-C5B4-47D3-9FE8-8A94C4E9A8A5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Edwardian Script ITC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01E6B-F273-4682-BF50-0C56145200B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3C388-3692-4170-A124-448AC9E850DA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Edwardian Script ITC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F90D8-F72C-415C-AA34-889E27E1D06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4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2B858-0A8D-4543-935F-9724CD4435E6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4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Edwardian Script ITC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4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40631-2B60-4767-B53D-FC6BB7A3504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2C8A1-D70C-4BCC-911C-C71F37D66917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5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Edwardian Script ITC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5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69AE5-FA68-4818-89E6-7FA0ED43B28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EE1DC-4C33-4584-B623-3CB092E28699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Edwardian Script ITC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7C9A5-7DD6-48E8-8A4E-9F02B53E3BA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B7E10-7A9E-4686-8418-9AB8F4FE1010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Edwardian Script IT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5CC91-8BA6-488E-80EF-4AD1E08B72C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779FF-2801-4ADC-AF84-CD463B4492BC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Edwardian Script ITC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441EE-7919-4840-A5D1-C3043320418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D641F-95E2-48B6-B35E-13FA9FC02FA0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Edwardian Script ITC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EA504-48AF-413E-B9FA-3452534F5CC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2D9A0-ABDC-46B4-B842-C0E51D669645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Edwardian Script ITC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5C3FD-8269-4CD8-AD4C-65D938778C4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2EFEC-784A-48B5-B9B4-7009A1DFD9E0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Edwardian Script ITC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37852-60B4-4DA0-A27E-D8F789C5289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977E0-AEBF-4CA4-9144-171F1C696F24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Edwardian Script ITC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C1785-3CED-416F-864B-6BE09BE008B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74D08-B12F-47E5-81CA-9367847B92AB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Edwardian Script ITC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0497E-7FDC-4E6F-9C88-8FCE5195981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4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6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8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4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539640" y="404640"/>
            <a:ext cx="8136000" cy="25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«Мой край – моя святыня»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Этносы и национальности Осетии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(Кумыки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subTitle"/>
          </p:nvPr>
        </p:nvSpPr>
        <p:spPr>
          <a:xfrm>
            <a:off x="5148000" y="3500280"/>
            <a:ext cx="3600360" cy="25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оект подготовила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читель английского язы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БОУ СОШ с.Весело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амишев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жамиля Абу-Алиевн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9" name="Picture 2" descr=""/>
          <p:cNvPicPr/>
          <p:nvPr/>
        </p:nvPicPr>
        <p:blipFill>
          <a:blip r:embed="rId1"/>
          <a:stretch/>
        </p:blipFill>
        <p:spPr>
          <a:xfrm>
            <a:off x="395280" y="3500280"/>
            <a:ext cx="4572000" cy="2571840"/>
          </a:xfrm>
          <a:prstGeom prst="rect">
            <a:avLst/>
          </a:prstGeom>
          <a:ln w="0">
            <a:noFill/>
          </a:ln>
        </p:spPr>
      </p:pic>
    </p:spTree>
  </p:cSld>
  <p:transition>
    <p:push dir="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Традиции и обыча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4" name="Picture 8" descr="x9000b"/>
          <p:cNvPicPr/>
          <p:nvPr/>
        </p:nvPicPr>
        <p:blipFill>
          <a:blip r:embed="rId1"/>
          <a:stretch/>
        </p:blipFill>
        <p:spPr>
          <a:xfrm>
            <a:off x="2048040" y="1523880"/>
            <a:ext cx="5047920" cy="3810240"/>
          </a:xfrm>
          <a:prstGeom prst="rect">
            <a:avLst/>
          </a:prstGeom>
          <a:ln w="0">
            <a:noFill/>
          </a:ln>
        </p:spPr>
      </p:pic>
      <p:sp>
        <p:nvSpPr>
          <p:cNvPr id="735" name="Rectangle 9"/>
          <p:cNvSpPr/>
          <p:nvPr/>
        </p:nvSpPr>
        <p:spPr>
          <a:xfrm>
            <a:off x="3484800" y="5589000"/>
            <a:ext cx="20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вадьба в Тарках</a:t>
            </a:r>
            <a:r>
              <a:rPr b="0" lang="ru-RU" sz="1800" spc="-1" strike="noStrike">
                <a:solidFill>
                  <a:srgbClr val="000000"/>
                </a:solidFill>
                <a:latin typeface="Edwardian Script IT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Edwardian Script ITC"/>
            </a:endParaRPr>
          </a:p>
        </p:txBody>
      </p:sp>
    </p:spTree>
  </p:cSld>
  <p:transition>
    <p:push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Дети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"/>
          <p:cNvSpPr txBox="1"/>
          <p:nvPr/>
        </p:nvSpPr>
        <p:spPr>
          <a:xfrm>
            <a:off x="4356000" y="907560"/>
            <a:ext cx="4464000" cy="48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дним из самых радостных событий было рождение детей, особенно мальчиков. Еще до рождения свекровь готовила младенцу одежду, пеленки, люльку. О рождении ребенка сначала сообщали свекрови, потом другим членам семьи. Принято было снимать с головы отца новорожденного папаху, которую тот был обязан выкупать. Поздравлять семью с рождением ребенка приходили родственники и соседи. Имя выбиралось на семейном совете. Обычно младенца нарекали именем умершего родственника или кунака. До определенного возраста детей, отцы участия в их воспитании не принимали, не принято было проявлять и свои родительские чувства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8" name="Picture 11" descr="&amp;Dcy;&amp;acy; &amp;zcy;&amp;dcy;&amp;rcy;&amp;acy;&amp;vcy;&amp;scy;&amp;tcy;&amp;vcy;&amp;ucy;&amp;iecy;&amp;tcy; &amp;vcy;&amp;iecy;&amp;lcy;&amp;icy;&amp;kcy;&amp;acy;&amp;yacy; &amp;dcy;&amp;rcy;&amp;ucy;&amp;zhcy;&amp;bcy;&amp;acy; &amp;mcy;&amp;ncy;&amp;ocy;&amp;gcy;&amp;ocy;&amp;ncy;&amp;acy;&amp;tscy;&amp;icy;&amp;ocy;&amp;ncy;&amp;acy;&amp;lcy;&amp;softcy;&amp;ncy;&amp;ocy;&amp;gcy;&amp;ocy; &amp;Dcy;&amp;acy;&amp;gcy;&amp;iecy;&amp;scy;&amp;tcy;&amp;acy;&amp;ncy;&amp;acy; &amp;Dcy;&amp;iecy;&amp;tcy;&amp;scy;&amp;kcy;&amp;icy;&amp;jcy; &amp;scy;&amp;acy;&amp;dcy;"/>
          <p:cNvPicPr/>
          <p:nvPr/>
        </p:nvPicPr>
        <p:blipFill>
          <a:blip r:embed="rId1"/>
          <a:stretch/>
        </p:blipFill>
        <p:spPr>
          <a:xfrm>
            <a:off x="324000" y="981000"/>
            <a:ext cx="4032000" cy="2808360"/>
          </a:xfrm>
          <a:prstGeom prst="rect">
            <a:avLst/>
          </a:prstGeom>
          <a:ln w="0">
            <a:noFill/>
          </a:ln>
        </p:spPr>
      </p:pic>
      <p:pic>
        <p:nvPicPr>
          <p:cNvPr id="739" name="Picture 13" descr="&amp;Fcy;&amp;ocy;&amp;tcy;&amp;ocy;&amp;gcy;&amp;rcy;&amp;acy;&amp;fcy;&amp;icy;&amp;yacy; 5 - &amp;Dcy;&amp;iecy;&amp;tcy;&amp;icy; - &amp;Fcy;&amp;ocy;&amp;tcy;&amp;ocy; / &amp;Dcy;&amp;iecy;&amp;tcy;&amp;icy; - SkrinShoT Bakililar. - Yalniz Azerbaycanda"/>
          <p:cNvPicPr/>
          <p:nvPr/>
        </p:nvPicPr>
        <p:blipFill>
          <a:blip r:embed="rId2"/>
          <a:stretch/>
        </p:blipFill>
        <p:spPr>
          <a:xfrm>
            <a:off x="324000" y="3933720"/>
            <a:ext cx="4032000" cy="2664000"/>
          </a:xfrm>
          <a:prstGeom prst="rect">
            <a:avLst/>
          </a:prstGeom>
          <a:ln w="0">
            <a:noFill/>
          </a:ln>
        </p:spPr>
      </p:pic>
    </p:spTree>
  </p:cSld>
  <p:transition>
    <p:push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9152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Конноспортивные игр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"/>
          <p:cNvSpPr txBox="1"/>
          <p:nvPr/>
        </p:nvSpPr>
        <p:spPr>
          <a:xfrm>
            <a:off x="6659280" y="1196640"/>
            <a:ext cx="230508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К большим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торжествам –свадьбам,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религиозным праздникам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риурочены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конноспортивные игры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2" name="Picture 10" descr="&amp;Tcy;&amp;ocy;, &amp;chcy;&amp;tcy;&amp;ocy; &amp;scy;&amp;iecy;&amp;rcy;&amp;dcy;&amp;tscy;&amp;ucy; &amp;dcy;&amp;ocy;&amp;rcy;&amp;ocy;&amp;gcy;&amp;ocy;. - &amp;Scy;&amp;tcy;&amp;rcy;&amp;acy;&amp;ncy;&amp;icy;&amp;tscy;&amp;acy; 12 - &amp;Acy;&amp;dcy;&amp;ycy;&amp;gcy;&amp;icy; - &amp;Kcy;&amp;acy;&amp;vcy;&amp;kcy;&amp;acy;&amp;zcy;&amp;scy;&amp;kcy;&amp;icy;&amp;jcy; &amp;fcy;&amp;ocy;&amp;rcy;&amp;ucy;&amp;mcy; KavkazWeb.net"/>
          <p:cNvPicPr/>
          <p:nvPr/>
        </p:nvPicPr>
        <p:blipFill>
          <a:blip r:embed="rId1"/>
          <a:stretch/>
        </p:blipFill>
        <p:spPr>
          <a:xfrm>
            <a:off x="2987640" y="907920"/>
            <a:ext cx="3527640" cy="2592360"/>
          </a:xfrm>
          <a:prstGeom prst="rect">
            <a:avLst/>
          </a:prstGeom>
          <a:ln w="0">
            <a:noFill/>
          </a:ln>
        </p:spPr>
      </p:pic>
      <p:pic>
        <p:nvPicPr>
          <p:cNvPr id="743" name="Picture 12" descr="&amp;Fcy;&amp;acy;&amp;jcy;&amp;lcy;:Lezginka Kabardian 2.jpg - &amp;Dcy;&amp;acy;&amp;gcy;&amp;iecy;&amp;scy;&amp;tcy;&amp;acy;&amp;ncy;"/>
          <p:cNvPicPr/>
          <p:nvPr/>
        </p:nvPicPr>
        <p:blipFill>
          <a:blip r:embed="rId2"/>
          <a:stretch/>
        </p:blipFill>
        <p:spPr>
          <a:xfrm>
            <a:off x="179280" y="907920"/>
            <a:ext cx="2808360" cy="2592360"/>
          </a:xfrm>
          <a:prstGeom prst="rect">
            <a:avLst/>
          </a:prstGeom>
          <a:ln w="0">
            <a:noFill/>
          </a:ln>
        </p:spPr>
      </p:pic>
      <p:pic>
        <p:nvPicPr>
          <p:cNvPr id="744" name="Picture 14" descr="&amp;Pcy;&amp;ocy;&amp;mcy;&amp;ncy;&amp;yacy;&amp;tcy; &amp;lcy;&amp;iecy;&amp;zcy;&amp;gcy;&amp;icy;&amp;ncy;&amp;ycy; &amp;ocy; &amp;Dcy;&amp;zhcy;&amp;icy;&amp;gcy;&amp;icy;&amp;tcy;-&amp;Dcy;&amp;ocy;. - 14 &amp;YAcy;&amp;ncy;&amp;vcy;&amp;acy;&amp;rcy;&amp;yacy; 2011, &amp;Lcy;&amp;iecy;&amp;zcy;&amp;gcy;&amp;icy;&amp;ncy;&amp;kcy;&amp;acy; - &amp;Lcy;&amp;iecy;&amp;zcy;&amp;gcy;&amp;icy;&amp;ncy;&amp;ycy;, &amp;Icy;&amp;scy;&amp;tcy;&amp;ocy;&amp;rcy;&amp;icy;&amp;yacy; &amp;lcy;&amp;iecy;&amp;zcy;&amp;gcy;&amp;icy;&amp;ncy;, &amp;Lcy;&amp;iecy;&amp;zcy;&amp;gcy;&amp;icy;&amp;ncy;&amp;scy;&amp;kcy;&amp;icy;&amp;iecy; &amp;ncy;&amp;ocy;&amp;vcy;&amp;ocy;&amp;scy;&amp;tcy;&amp;icy;, &amp;scy;&amp;ocy;&amp;bcy;&amp;ycy;&amp;tcy;&amp;icy;&amp;icy;. 48"/>
          <p:cNvPicPr/>
          <p:nvPr/>
        </p:nvPicPr>
        <p:blipFill>
          <a:blip r:embed="rId3"/>
          <a:stretch/>
        </p:blipFill>
        <p:spPr>
          <a:xfrm>
            <a:off x="2411280" y="3500280"/>
            <a:ext cx="2952720" cy="2881440"/>
          </a:xfrm>
          <a:prstGeom prst="rect">
            <a:avLst/>
          </a:prstGeom>
          <a:ln w="0">
            <a:noFill/>
          </a:ln>
        </p:spPr>
      </p:pic>
      <p:pic>
        <p:nvPicPr>
          <p:cNvPr id="745" name="Picture 16" descr="&amp;Kcy;&amp;acy;&amp;vcy;&amp;kcy;&amp;acy;&amp;zcy;."/>
          <p:cNvPicPr/>
          <p:nvPr/>
        </p:nvPicPr>
        <p:blipFill>
          <a:blip r:embed="rId4"/>
          <a:stretch/>
        </p:blipFill>
        <p:spPr>
          <a:xfrm>
            <a:off x="5364000" y="3500280"/>
            <a:ext cx="3600720" cy="2881440"/>
          </a:xfrm>
          <a:prstGeom prst="rect">
            <a:avLst/>
          </a:prstGeom>
          <a:ln w="0">
            <a:noFill/>
          </a:ln>
        </p:spPr>
      </p:pic>
      <p:sp>
        <p:nvSpPr>
          <p:cNvPr id="746" name="Rectangle 17"/>
          <p:cNvSpPr/>
          <p:nvPr/>
        </p:nvSpPr>
        <p:spPr>
          <a:xfrm>
            <a:off x="250920" y="3645000"/>
            <a:ext cx="216036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Скачки, джигитовка, </a:t>
            </a:r>
            <a:endParaRPr b="0" lang="en-US" sz="1600" spc="-1" strike="noStrike">
              <a:solidFill>
                <a:srgbClr val="000000"/>
              </a:solidFill>
              <a:latin typeface="Edwardian Script IT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а также стрельба из </a:t>
            </a:r>
            <a:endParaRPr b="0" lang="en-US" sz="1600" spc="-1" strike="noStrike">
              <a:solidFill>
                <a:srgbClr val="000000"/>
              </a:solidFill>
              <a:latin typeface="Edwardian Script IT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лука – самые популярные</a:t>
            </a:r>
            <a:endParaRPr b="0" lang="en-US" sz="1600" spc="-1" strike="noStrike">
              <a:solidFill>
                <a:srgbClr val="000000"/>
              </a:solidFill>
              <a:latin typeface="Edwardian Script IT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иды спорта. </a:t>
            </a:r>
            <a:endParaRPr b="0" lang="en-US" sz="1600" spc="-1" strike="noStrike">
              <a:solidFill>
                <a:srgbClr val="000000"/>
              </a:solidFill>
              <a:latin typeface="Edwardian Script IT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 них принимают участие в основном юноши.</a:t>
            </a:r>
            <a:endParaRPr b="0" lang="en-US" sz="1600" spc="-1" strike="noStrike">
              <a:solidFill>
                <a:srgbClr val="000000"/>
              </a:solidFill>
              <a:latin typeface="Edwardian Script ITC"/>
            </a:endParaRPr>
          </a:p>
        </p:txBody>
      </p:sp>
    </p:spTree>
  </p:cSld>
  <p:transition>
    <p:push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Фольклор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6840" y="1268280"/>
            <a:ext cx="39704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 кумыкском фольклоре самое значительное место занимают эпические песни, сказки, сатирические рассказы и анекдоты, загадки, пословицы и поговорки. Обрядовая поэзия включает свадебные, похоронные, колыбельные, урожайные и ритуальные песни. Кумыкский танец, разновидность лезгинки, имеет более двадцати вариантов. Танцы и песни сопровождаются аккомпанементом на традиционных музыкальных инструментах: органе (гармоника), зурне и сыбызгы (духовые), барабанах и бубнах.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9" name="Picture 8" descr="&amp;Ocy;&amp;fcy;&amp;icy;&amp;tscy;&amp;icy;&amp;acy;&amp;lcy;&amp;softcy;&amp;ncy;&amp;ycy;&amp;jcy; &amp;scy;&amp;acy;&amp;jcy;&amp;tcy; &amp;Mcy;&amp;Ocy; &quot;&amp;Bcy;&amp;acy;&amp;bcy;&amp;acy;&amp;yucy;&amp;rcy;&amp;tcy;&amp;ocy;&amp;vcy;&amp;scy;&amp;kcy;&amp;icy;&amp;jcy; &amp;rcy;&amp;acy;&amp;jcy;&amp;ocy;&amp;ncy;&quot; :: &amp;Ncy;&amp;ocy;&amp;vcy;&amp;ocy;&amp;scy;&amp;tcy;&amp;icy;"/>
          <p:cNvPicPr/>
          <p:nvPr/>
        </p:nvPicPr>
        <p:blipFill>
          <a:blip r:embed="rId1"/>
          <a:stretch/>
        </p:blipFill>
        <p:spPr>
          <a:xfrm>
            <a:off x="4500720" y="1197000"/>
            <a:ext cx="4038480" cy="2735280"/>
          </a:xfrm>
          <a:prstGeom prst="rect">
            <a:avLst/>
          </a:prstGeom>
          <a:ln w="0">
            <a:noFill/>
          </a:ln>
        </p:spPr>
      </p:pic>
      <p:pic>
        <p:nvPicPr>
          <p:cNvPr id="750" name="Picture 10" descr="&amp;Dcy;&amp;acy;&amp;gcy;&amp;iecy;&amp;scy;&amp;tcy;&amp;acy;&amp;ncy;&amp;scy;&amp;kcy;&amp;icy;&amp;iecy; &amp;tcy;&amp;acy;&amp;ncy;&amp;tscy;&amp;ycy; &amp;lcy;&amp;iecy;&amp;zcy;&amp;gcy;&amp;icy;&amp;ncy;&amp;kcy;&amp;acy;"/>
          <p:cNvPicPr/>
          <p:nvPr/>
        </p:nvPicPr>
        <p:blipFill>
          <a:blip r:embed="rId2"/>
          <a:stretch/>
        </p:blipFill>
        <p:spPr>
          <a:xfrm>
            <a:off x="4500720" y="4005360"/>
            <a:ext cx="4032000" cy="2663640"/>
          </a:xfrm>
          <a:prstGeom prst="rect">
            <a:avLst/>
          </a:prstGeom>
          <a:ln w="0">
            <a:noFill/>
          </a:ln>
        </p:spPr>
      </p:pic>
    </p:spTree>
  </p:cSld>
  <p:transition>
    <p:push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Национальная кухн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4643280" y="1125360"/>
            <a:ext cx="4043520" cy="29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Кумыки очень гостеприимный народ. Каждый кумык считает за честь достойно принять гостя в любое время дня и ночи. Гостю подают лучшую пищу. Гость в дом – счастье в дом. Неизменным атрибутом гостеприимства являются, конечно же, национальные блюда.   Распространены мясная, мучная пища, молочные каши. Популярные блюда: хинкал, шорпа, долма, черек, курзе, сохта, чуду, мучная халва, хворост, слоенный хлеб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3" name="Picture 8" descr="&amp;Vcy; &amp;Scy;&amp;kcy;&amp;vcy;&amp;iecy;&amp;rcy;&amp;iecy; &amp;zhcy;&amp;ucy;&amp;rcy;&amp;ncy;&amp;acy;&amp;lcy;&amp;icy;&amp;scy;&amp;tcy;&amp;ocy;&amp;vcy; &amp;gcy;.&amp;Gcy;&amp;rcy;&amp;ocy;&amp;zcy;&amp;ncy;&amp;ycy;&amp;jcy; &amp;scy;&amp;ocy;&amp;scy;&amp;tcy;&amp;ocy;&amp;yacy;&amp;lcy;&amp;acy;&amp;scy;&amp;softcy; &amp;vcy;&amp;ycy;&amp;scy;&amp;tcy;&amp;acy;&amp;vcy;&amp;kcy;&amp;acy; &amp;ncy;&amp;acy;&amp;tscy;&amp;icy;&amp;ocy;&amp;ncy;&amp;acy;&amp;lcy;&amp;softcy;&amp;ncy;&amp;ycy;&amp;khcy; &amp;bcy;&amp;lcy;&amp;yucy;&amp;dcy; &amp;Gcy;&amp;rcy;&amp;ocy;&amp;zcy;&amp;ncy;&amp;ycy;&amp;jcy; &amp;Icy;&amp;ncy;&amp;fcy;&amp;ocy;&amp;rcy;&amp;mcy;"/>
          <p:cNvPicPr/>
          <p:nvPr/>
        </p:nvPicPr>
        <p:blipFill>
          <a:blip r:embed="rId1"/>
          <a:stretch/>
        </p:blipFill>
        <p:spPr>
          <a:xfrm>
            <a:off x="250920" y="1125360"/>
            <a:ext cx="4248000" cy="2590920"/>
          </a:xfrm>
          <a:prstGeom prst="rect">
            <a:avLst/>
          </a:prstGeom>
          <a:ln w="0">
            <a:noFill/>
          </a:ln>
        </p:spPr>
      </p:pic>
      <p:pic>
        <p:nvPicPr>
          <p:cNvPr id="754" name="Picture 7" descr="C:\Users\Admin\Desktop\Алина грамоты\img10.jpg"/>
          <p:cNvPicPr/>
          <p:nvPr/>
        </p:nvPicPr>
        <p:blipFill>
          <a:blip r:embed="rId2"/>
          <a:srcRect l="5336" t="15606" r="4780" b="6541"/>
          <a:stretch/>
        </p:blipFill>
        <p:spPr>
          <a:xfrm>
            <a:off x="324000" y="3860640"/>
            <a:ext cx="8496000" cy="2808360"/>
          </a:xfrm>
          <a:prstGeom prst="rect">
            <a:avLst/>
          </a:prstGeom>
          <a:ln w="0">
            <a:noFill/>
          </a:ln>
        </p:spPr>
      </p:pic>
    </p:spTree>
  </p:cSld>
  <p:transition>
    <p:push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умы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468000" y="836640"/>
            <a:ext cx="82184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На Кавказе есть такой народ,                                        Нынче по-иному жизнь течет,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От кипчаков он ведет свой род,                                     И народ своим трудом живет,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Мягким нравом, добротой слывя,                                 Он с друзьями в мире делит кров,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И веками с горцами живя.                                              За соседа постоять готов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Говорили: он-де – татарва…                                           Так земля кумыкская щедра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Я ж скажу: то – гнусная молва.                                      Тут полно и хлеба, и добра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Кровь и гены величавы в нем –                                     Здесь и гостя каждый видеть рад,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И, где нужно, мужеством силен.                                     И еду с ним поделить -  как брат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Брат – татарам и дитя булгар-                                       На Кавказе есть такой народ,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Знает это здесь и млад, и стар,-                                      Именем кумыкским он слывет,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Мир туранский тверже, чем гранит,                             Прошлое лишь в памяти храня,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А с Кавказом дух его роднит.                                          Он живет в грядущее глядя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омнят тут былые времена,                                           На Кавказе есть такой народ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Как судьбу Кавказа, иногда,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Сам правитель здешний, от себя,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Мог вершить лишь жестом, не скорбя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sh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642960" y="500040"/>
            <a:ext cx="7772400" cy="76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КУМЫКИ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Прямоугольник 1"/>
          <p:cNvSpPr/>
          <p:nvPr/>
        </p:nvSpPr>
        <p:spPr>
          <a:xfrm>
            <a:off x="468360" y="2565360"/>
            <a:ext cx="80643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Edwardian Script ITC"/>
              </a:rPr>
              <a:t>Флаг                                                                                                                                Герб</a:t>
            </a:r>
            <a:endParaRPr b="0" lang="en-US" sz="1800" spc="-1" strike="noStrike">
              <a:solidFill>
                <a:srgbClr val="000000"/>
              </a:solidFill>
              <a:latin typeface="Edwardian Script IT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Edwardian Script IT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Edwardian Script ITC"/>
              </a:rPr>
              <a:t>"Флаг кумыков" является одним из символов Кумыкского народного движения "Тенглик". Флаг этот имеет следующую цветовую символику: синий клин обозначает причастность кумыков к тюркскому миру и демократии, красный - кумыкскость ,зеленый - принадлежность к миру ислама. "Трехконечной свастике" сопутствуют знаки-символы. Они несут смысловую нагрузку: полумесяц и звезда являются символами тюрко-исламской цивилизации. Головы коня, волка и девушки символизируют многовековой круговорот Бытия, который происходит под сенью Вечного Неба - Тенгири. Конь - извечный спутник кумыка, который позволил его предкам освоить огромный мир. Волк - символ Воли и Свободы. Женщина - Умай-Ана - прародительница и покровительница кумыков. Эти знаки и цвета несут в себе сообщение о народе кумыков, который был, есть и должен быть в сонме народов Мира.</a:t>
            </a:r>
            <a:endParaRPr b="0" lang="en-US" sz="1800" spc="-1" strike="noStrike">
              <a:solidFill>
                <a:srgbClr val="000000"/>
              </a:solidFill>
              <a:latin typeface="Edwardian Script ITC"/>
            </a:endParaRPr>
          </a:p>
        </p:txBody>
      </p:sp>
      <p:pic>
        <p:nvPicPr>
          <p:cNvPr id="702" name="Picture 4" descr="C:\Users\Admin\Desktop\Алина грамоты\maxresdefault (1).jpg"/>
          <p:cNvPicPr/>
          <p:nvPr/>
        </p:nvPicPr>
        <p:blipFill>
          <a:blip r:embed="rId1"/>
          <a:srcRect l="7710" t="28751" r="52600" b="19181"/>
          <a:stretch/>
        </p:blipFill>
        <p:spPr>
          <a:xfrm>
            <a:off x="539640" y="549360"/>
            <a:ext cx="2232000" cy="1784160"/>
          </a:xfrm>
          <a:prstGeom prst="rect">
            <a:avLst/>
          </a:prstGeom>
          <a:ln w="0">
            <a:noFill/>
          </a:ln>
        </p:spPr>
      </p:pic>
      <p:pic>
        <p:nvPicPr>
          <p:cNvPr id="703" name="Picture 5" descr="C:\Users\Admin\Desktop\Алина грамоты\maxresdefault (1).jpg"/>
          <p:cNvPicPr/>
          <p:nvPr/>
        </p:nvPicPr>
        <p:blipFill>
          <a:blip r:embed="rId2"/>
          <a:srcRect l="48673" t="30052" r="8170" b="19869"/>
          <a:stretch/>
        </p:blipFill>
        <p:spPr>
          <a:xfrm>
            <a:off x="6381720" y="611280"/>
            <a:ext cx="2371680" cy="1785960"/>
          </a:xfrm>
          <a:prstGeom prst="rect">
            <a:avLst/>
          </a:prstGeom>
          <a:ln w="0">
            <a:noFill/>
          </a:ln>
        </p:spPr>
      </p:pic>
    </p:spTree>
  </p:cSld>
  <p:transition>
    <p:push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История народ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40384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умыки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(кум. Къумукълар)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– второй по численности после азербайджанцев тюркоязычный народ на Кавказе, являясь при этом крупнейшим тюркским народом на Северном Кавказе, четвертым по численности народом РСО-Алания, вторым в ЧР и третьим в Дагестане. Территория их традиционного расселения — Моздокский район., с. Кизляр, с. Предгорное, Терско-Сулакская низменность и предгорные районы Дагестана, а также ЧР с. Виноградное, с. Брагуны. В Дагестане, Чечне и Ингушетии терминами кумык и кумук именовали только кумыков. Слово «кумык» выводится из тюркского слова «кум» (песок, песчаная пустыня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6" name="Picture 9" descr="Daghestan,_A_Kumik_family_(A)"/>
          <p:cNvPicPr/>
          <p:nvPr/>
        </p:nvPicPr>
        <p:blipFill>
          <a:blip r:embed="rId1"/>
          <a:stretch/>
        </p:blipFill>
        <p:spPr>
          <a:xfrm>
            <a:off x="4716360" y="1628640"/>
            <a:ext cx="3743280" cy="3961080"/>
          </a:xfrm>
          <a:prstGeom prst="rect">
            <a:avLst/>
          </a:prstGeom>
          <a:ln w="0">
            <a:noFill/>
          </a:ln>
        </p:spPr>
      </p:pic>
    </p:spTree>
  </p:cSld>
  <p:transition>
    <p:push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186760" cy="43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собенности традиционной одежды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умыкского народ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8" name="Picture 10" descr="moda_09.jpg"/>
          <p:cNvPicPr/>
          <p:nvPr/>
        </p:nvPicPr>
        <p:blipFill>
          <a:blip r:embed="rId1"/>
          <a:stretch/>
        </p:blipFill>
        <p:spPr>
          <a:xfrm>
            <a:off x="5364000" y="1268280"/>
            <a:ext cx="3591000" cy="4419720"/>
          </a:xfrm>
          <a:prstGeom prst="rect">
            <a:avLst/>
          </a:prstGeom>
          <a:ln w="0">
            <a:noFill/>
          </a:ln>
        </p:spPr>
      </p:pic>
      <p:sp>
        <p:nvSpPr>
          <p:cNvPr id="709" name="Rectangle 11"/>
          <p:cNvSpPr/>
          <p:nvPr/>
        </p:nvSpPr>
        <p:spPr>
          <a:xfrm>
            <a:off x="5435640" y="5667480"/>
            <a:ext cx="3537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Шуба, отороченная мерлушкой, - зимняя одежда замужних кумычек. Фото начала XX в.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Edwardian Script ITC"/>
            </a:endParaRPr>
          </a:p>
        </p:txBody>
      </p:sp>
      <p:pic>
        <p:nvPicPr>
          <p:cNvPr id="710" name="Picture 13" descr="moda_01.jpg"/>
          <p:cNvPicPr/>
          <p:nvPr/>
        </p:nvPicPr>
        <p:blipFill>
          <a:blip r:embed="rId2"/>
          <a:stretch/>
        </p:blipFill>
        <p:spPr>
          <a:xfrm>
            <a:off x="324000" y="1268280"/>
            <a:ext cx="4679640" cy="4438800"/>
          </a:xfrm>
          <a:prstGeom prst="rect">
            <a:avLst/>
          </a:prstGeom>
          <a:ln w="0">
            <a:noFill/>
          </a:ln>
        </p:spPr>
      </p:pic>
      <p:sp>
        <p:nvSpPr>
          <p:cNvPr id="711" name="Rectangle 14"/>
          <p:cNvSpPr/>
          <p:nvPr/>
        </p:nvSpPr>
        <p:spPr>
          <a:xfrm>
            <a:off x="747720" y="5949000"/>
            <a:ext cx="136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умычки.</a:t>
            </a:r>
            <a:r>
              <a:rPr b="0" lang="ru-RU" sz="1800" spc="-1" strike="noStrike">
                <a:solidFill>
                  <a:srgbClr val="000000"/>
                </a:solidFill>
                <a:latin typeface="Edwardian Script IT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Edwardian Script ITC"/>
            </a:endParaRPr>
          </a:p>
        </p:txBody>
      </p:sp>
    </p:spTree>
  </p:cSld>
  <p:transition>
    <p:push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Национальный костю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Мужчины носили тонкие туникообразные рубахи, штаны, черкесску, бешмет и овчинные шубы, а женщины — платья, кожаные башмаки, галоши и носки, причём одежда украшалась серебряными пряжками, пуговицами, поясом. Платья «полша», состоящее из нижнего платья из тонкого однотонного шелка и верхнего платья из плотной ткани с вышивкой, вышитые платки из тонкой шерсти и шелковые платки — «гульмельды» с характерным рисунком. Современная одежда в основном городского типа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4" name="Picture 9" descr="j0n090P6W3i4T017"/>
          <p:cNvPicPr/>
          <p:nvPr/>
        </p:nvPicPr>
        <p:blipFill>
          <a:blip r:embed="rId1"/>
          <a:stretch/>
        </p:blipFill>
        <p:spPr>
          <a:xfrm>
            <a:off x="826920" y="1628640"/>
            <a:ext cx="4176720" cy="4264200"/>
          </a:xfrm>
          <a:prstGeom prst="rect">
            <a:avLst/>
          </a:prstGeom>
          <a:ln w="0">
            <a:noFill/>
          </a:ln>
        </p:spPr>
      </p:pic>
    </p:spTree>
  </p:cSld>
  <p:transition>
    <p:push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Национальный костю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6" name="Picture 8" descr="moda_02.jpg"/>
          <p:cNvPicPr/>
          <p:nvPr/>
        </p:nvPicPr>
        <p:blipFill>
          <a:blip r:embed="rId1"/>
          <a:stretch/>
        </p:blipFill>
        <p:spPr>
          <a:xfrm>
            <a:off x="1042920" y="1341360"/>
            <a:ext cx="1600200" cy="3810240"/>
          </a:xfrm>
          <a:prstGeom prst="rect">
            <a:avLst/>
          </a:prstGeom>
          <a:ln w="0">
            <a:noFill/>
          </a:ln>
        </p:spPr>
      </p:pic>
      <p:pic>
        <p:nvPicPr>
          <p:cNvPr id="717" name="Picture 10" descr="moda_03.jpg"/>
          <p:cNvPicPr/>
          <p:nvPr/>
        </p:nvPicPr>
        <p:blipFill>
          <a:blip r:embed="rId2"/>
          <a:stretch/>
        </p:blipFill>
        <p:spPr>
          <a:xfrm>
            <a:off x="3059280" y="1341360"/>
            <a:ext cx="1847520" cy="3810240"/>
          </a:xfrm>
          <a:prstGeom prst="rect">
            <a:avLst/>
          </a:prstGeom>
          <a:ln w="0">
            <a:noFill/>
          </a:ln>
        </p:spPr>
      </p:pic>
      <p:sp>
        <p:nvSpPr>
          <p:cNvPr id="718" name="Rectangle 11"/>
          <p:cNvSpPr/>
          <p:nvPr/>
        </p:nvSpPr>
        <p:spPr>
          <a:xfrm>
            <a:off x="826560" y="5373000"/>
            <a:ext cx="21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умык в бешмете. </a:t>
            </a:r>
            <a:endParaRPr b="0" lang="en-US" sz="1800" spc="-1" strike="noStrike">
              <a:solidFill>
                <a:srgbClr val="000000"/>
              </a:solidFill>
              <a:latin typeface="Edwardian Script ITC"/>
            </a:endParaRPr>
          </a:p>
        </p:txBody>
      </p:sp>
      <p:sp>
        <p:nvSpPr>
          <p:cNvPr id="719" name="Rectangle 12"/>
          <p:cNvSpPr/>
          <p:nvPr/>
        </p:nvSpPr>
        <p:spPr>
          <a:xfrm>
            <a:off x="3059280" y="5265720"/>
            <a:ext cx="1873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Закрытое платье "Полуша" </a:t>
            </a:r>
            <a:endParaRPr b="0" lang="en-US" sz="1600" spc="-1" strike="noStrike">
              <a:solidFill>
                <a:srgbClr val="000000"/>
              </a:solidFill>
              <a:latin typeface="Edwardian Script ITC"/>
            </a:endParaRPr>
          </a:p>
        </p:txBody>
      </p:sp>
      <p:pic>
        <p:nvPicPr>
          <p:cNvPr id="720" name="Picture 14" descr="moda_05.jpg"/>
          <p:cNvPicPr/>
          <p:nvPr/>
        </p:nvPicPr>
        <p:blipFill>
          <a:blip r:embed="rId3"/>
          <a:stretch/>
        </p:blipFill>
        <p:spPr>
          <a:xfrm>
            <a:off x="5292720" y="1341360"/>
            <a:ext cx="2743200" cy="3810240"/>
          </a:xfrm>
          <a:prstGeom prst="rect">
            <a:avLst/>
          </a:prstGeom>
          <a:ln w="0">
            <a:noFill/>
          </a:ln>
        </p:spPr>
      </p:pic>
      <p:sp>
        <p:nvSpPr>
          <p:cNvPr id="721" name="Rectangle 15"/>
          <p:cNvSpPr/>
          <p:nvPr/>
        </p:nvSpPr>
        <p:spPr>
          <a:xfrm>
            <a:off x="5292720" y="5274360"/>
            <a:ext cx="369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Кумычка в нарядной одежде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("Къабалай" с декоративной вставкой "алдылыкъ")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Edwardian Script ITC"/>
            </a:endParaRPr>
          </a:p>
        </p:txBody>
      </p:sp>
    </p:spTree>
  </p:cSld>
  <p:transition>
    <p:push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39280" y="333360"/>
            <a:ext cx="8280360" cy="76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Традиции семь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"/>
          <p:cNvSpPr txBox="1"/>
          <p:nvPr/>
        </p:nvSpPr>
        <p:spPr>
          <a:xfrm>
            <a:off x="4500360" y="1456920"/>
            <a:ext cx="4537080" cy="463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Традиционная кумыкская семья — родственная община численностью до 30 чел. — к началу XIX в. почти распалась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С XIX в. преобладает малая семья, но сохраняется значение родственных связей по отцовской линии (род — тухум)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Собственность в семье была общей. Личную собственность, состоявшую из приданого, имели женщины. При распаде или дроблении семьи приданое не делилось. За невесту платили калым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оспитанием детей занимались только женщины. Запрещалось прилюдное проявление родительских чувств. Воспитание мальчиков и девочек сильно различалось, но было одинаково суровым и аскетичным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Мальчиков часто отдавали воспитывать в чужую семью (аталычество)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4" name="Picture 11" descr="i"/>
          <p:cNvPicPr/>
          <p:nvPr/>
        </p:nvPicPr>
        <p:blipFill>
          <a:blip r:embed="rId1"/>
          <a:stretch/>
        </p:blipFill>
        <p:spPr>
          <a:xfrm>
            <a:off x="324000" y="1484280"/>
            <a:ext cx="4176720" cy="4032360"/>
          </a:xfrm>
          <a:prstGeom prst="rect">
            <a:avLst/>
          </a:prstGeom>
          <a:ln w="0">
            <a:noFill/>
          </a:ln>
        </p:spPr>
      </p:pic>
    </p:spTree>
  </p:cSld>
  <p:transition>
    <p:push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32968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Традиции и обычаи. Свадьб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"/>
          <p:cNvSpPr txBox="1"/>
          <p:nvPr/>
        </p:nvSpPr>
        <p:spPr>
          <a:xfrm>
            <a:off x="3995280" y="980640"/>
            <a:ext cx="4691160" cy="509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вадьба длилась три дня. Угощение готовилось отдельно для мужчин и женщин. Все гости приносили подарки. Невесте дарили необходимое в хозяйстве, жениху – продукты и деньги. Обязательными были танцы и песни. На второй день свадьбы совершался торжественный перевоз невесты в дом жениха. Невесту одевали в присланную женихом новую одежду, закутывали в покрывало. С наступлением сумерек в специальной арбе с плетеным из орешника высоким верхом, покрытым узорным ковром, ее перевозили в дом мужа. Девушку провожали подруги и мужчины – ее соседи, почетные гости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опровождавшие невесту требовали вознаграждение за разрешение ввести ее в дом. Обычно это был кинжал, который получал подросток, ведший на поводу волов, запряженных в свадебную арбу. Девушку обсыпали сладостями, мукой и мелкими монетами. Ее родственница или многодетная соседка опускала палец в миску с медом и давала облизнуть его невесте. Затем, обмакнув руку невесты в мед, она ставила отпечаток на стене. Все это должно было способствовать счастливой жизни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7" name="Picture 11" descr="&amp;Tcy;&amp;rcy;&amp;acy;&amp;dcy;&amp;icy;&amp;tscy;&amp;icy;&amp;ocy;&amp;ncy;&amp;ncy;&amp;acy;&amp;yacy; &amp;kcy;&amp;ucy;&amp;mcy;&amp;ycy;&amp;kcy;&amp;scy;&amp;kcy;&amp;acy;&amp;yacy; &amp;scy;&amp;vcy;&amp;acy;&amp;dcy;&amp;softcy;&amp;bcy;&amp;acy; - juzp music box"/>
          <p:cNvPicPr/>
          <p:nvPr/>
        </p:nvPicPr>
        <p:blipFill>
          <a:blip r:embed="rId1"/>
          <a:stretch/>
        </p:blipFill>
        <p:spPr>
          <a:xfrm>
            <a:off x="324000" y="1125360"/>
            <a:ext cx="3456000" cy="2590920"/>
          </a:xfrm>
          <a:prstGeom prst="rect">
            <a:avLst/>
          </a:prstGeom>
          <a:ln w="0">
            <a:noFill/>
          </a:ln>
        </p:spPr>
      </p:pic>
      <p:pic>
        <p:nvPicPr>
          <p:cNvPr id="728" name="Picture 13" descr="Program tv &amp;Kcy;&amp;ucy;&amp;mcy;&amp;ycy;&amp;kcy;&amp;scy;&amp;kcy;&amp;icy;&amp;jcy; : 2/2 Yallar Gn &amp;dcy;&amp;iecy;&amp;ncy;&amp;softcy; &amp;pcy;&amp;ocy;&amp;zhcy;&amp;icy;&amp;lcy;&amp;ycy;&amp;khcy; &amp;lcy;&amp;yucy;&amp;dcy;&amp;iecy;&amp;jcy; &amp;kcy;&amp;ucy;&amp;mcy;&amp;ycy;&amp;kcy;&amp;scy;&amp;kcy;&amp;icy;&amp;jcy;&amp;scy;&amp;vcy;&amp;acy;&amp;dcy;&amp;softcy;&amp;bcy;&amp;acy; - &amp;Ncy;&amp;acy;&amp;rcy;&amp;ocy;&amp;dcy;&amp;ncy;&amp;acy;&amp;yacy; &amp;mcy;&amp;iecy;&amp;dcy;&amp;icy;&amp;tscy;&amp;icy;&amp;ncy;&amp;acy;"/>
          <p:cNvPicPr/>
          <p:nvPr/>
        </p:nvPicPr>
        <p:blipFill>
          <a:blip r:embed="rId2"/>
          <a:stretch/>
        </p:blipFill>
        <p:spPr>
          <a:xfrm>
            <a:off x="324000" y="3933720"/>
            <a:ext cx="3456000" cy="2519640"/>
          </a:xfrm>
          <a:prstGeom prst="rect">
            <a:avLst/>
          </a:prstGeom>
          <a:ln w="0">
            <a:noFill/>
          </a:ln>
        </p:spPr>
      </p:pic>
    </p:spTree>
  </p:cSld>
  <p:transition>
    <p:push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Традиции и обыча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"/>
          <p:cNvSpPr txBox="1"/>
          <p:nvPr/>
        </p:nvSpPr>
        <p:spPr>
          <a:xfrm>
            <a:off x="3924000" y="907560"/>
            <a:ext cx="475308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опровождавшие невесту мужчины находились в комнате до прихода жениха. Они давали родственникам жениха трудно выполнимые задания. Чтобы войти в комнату невесты, жених должен был сделать ей подарок и отгадать загадку. Загадки отгадывала и невеста. Распорядителем всего торжества был «хан» или «шах». Он мог наложить на гостя штраф. Новобрачные в торжестве не участвовали. Невеста сидела в углу комнаты, за ширмой, а жених уходил к родственникам и появлялся в доме только после того, как разойдутся все гости. На второй день свадьбы устраивались конно-спортивные состязания. В качестве приза хозяин свадьбы выставлял корову или теленка. Нередко призами были серебряный кинжал, жеребенок, серебряные деньги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Вечером четвертого дня после свадьбы к молодой приходили родственники мужа. Через две-три недели совершался ритуал первого выхода новобрачной за водой. Ее сопровождали родственницы во главе со старшей родственницей мужа. Процессия двигалась к источнику под музыку и песни, встречных одаривали сладостями. Спустя месяц после свадьбы невестку вводили в большую комнату дома мужа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1" name="Picture 11" descr="&amp;Lcy;&amp;iecy;&amp;zcy;&amp;gcy;&amp;icy;&amp;ncy;&amp;kcy;&amp;acy; &amp;ncy;&amp;acy; &amp;scy;&amp;vcy;&amp;acy;&amp;dcy;&amp;softcy;&amp;bcy;&amp;iecy;"/>
          <p:cNvPicPr/>
          <p:nvPr/>
        </p:nvPicPr>
        <p:blipFill>
          <a:blip r:embed="rId1"/>
          <a:stretch/>
        </p:blipFill>
        <p:spPr>
          <a:xfrm>
            <a:off x="260280" y="1096920"/>
            <a:ext cx="3529080" cy="2487600"/>
          </a:xfrm>
          <a:prstGeom prst="rect">
            <a:avLst/>
          </a:prstGeom>
          <a:ln w="0">
            <a:noFill/>
          </a:ln>
        </p:spPr>
      </p:pic>
      <p:pic>
        <p:nvPicPr>
          <p:cNvPr id="732" name="Picture 13" descr="&amp;Tcy;&amp;acy;&amp;ncy;&amp;tscy;&amp;ycy; &amp;ncy;&amp;acy; &amp;scy;&amp;vcy;&amp;acy;&amp;dcy;&amp;softcy;&amp;bcy;&amp;acy;&amp;khcy; - &amp;chcy;&amp;ucy;&amp;tcy;&amp;softcy; &amp;lcy;&amp;icy; &amp;ncy;&amp;iecy; &amp;iecy;&amp;dcy;&amp;icy;&amp;ncy;&amp;scy;&amp;tcy;&amp;vcy;&amp;iecy;&amp;ncy;&amp;ncy;&amp;acy;&amp;yacy; &amp;scy;&amp;icy;&amp;tcy;&amp;ucy;&amp;acy;&amp;tscy;&amp;icy;&amp;yacy;, &amp;gcy;&amp;dcy;&amp;iecy; &amp;vcy;&amp;acy;…"/>
          <p:cNvPicPr/>
          <p:nvPr/>
        </p:nvPicPr>
        <p:blipFill>
          <a:blip r:embed="rId2"/>
          <a:stretch/>
        </p:blipFill>
        <p:spPr>
          <a:xfrm>
            <a:off x="250920" y="3716280"/>
            <a:ext cx="3529080" cy="2621160"/>
          </a:xfrm>
          <a:prstGeom prst="rect">
            <a:avLst/>
          </a:prstGeom>
          <a:ln w="0">
            <a:noFill/>
          </a:ln>
        </p:spPr>
      </p:pic>
    </p:spTree>
  </p:cSld>
  <p:transition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21T14:49:21Z</dcterms:created>
  <dc:creator>Comp</dc:creator>
  <dc:description/>
  <dc:language>en-US</dc:language>
  <cp:lastModifiedBy>Admin</cp:lastModifiedBy>
  <cp:lastPrinted>2022-11-05T15:34:09Z</cp:lastPrinted>
  <dcterms:modified xsi:type="dcterms:W3CDTF">2024-01-08T17:44:08Z</dcterms:modified>
  <cp:revision>163</cp:revision>
  <dc:subject/>
  <dc:title>Национальные костюмы Дагестан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928F16F12A0C45139465650947634EB7_12</vt:lpwstr>
  </property>
  <property fmtid="{D5CDD505-2E9C-101B-9397-08002B2CF9AE}" pid="3" name="KSOProductBuildVer">
    <vt:lpwstr>1049-12.2.0.13359</vt:lpwstr>
  </property>
</Properties>
</file>