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69D-1C9A-4BE6-9177-774B30601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563-71F5-442E-97A6-E6851457B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DA3-430C-48EB-A96B-F86DE95D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D88-1FEE-4461-85DA-FF6CBE49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EA9-BA23-4517-8167-299E5609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BA3-6D91-4B11-B71D-4E8BD5B8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783-9182-41FE-B813-A2061659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0BA-41F0-4B80-B19E-868DCE43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DD4-3455-4614-91D5-2B56D0A3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A8E-94EE-448F-B591-19486AB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05D-6C47-4D7C-BF99-33DDAA3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DF5-0F79-47FE-B000-EBA0971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680-24ED-462C-B46D-C95E4D03E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ptforschool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ptforschool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AutoShape 13"/>
          <p:cNvSpPr/>
          <p:nvPr/>
        </p:nvSpPr>
        <p:spPr>
          <a:xfrm rot="5400000">
            <a:off x="1535760" y="-606960"/>
            <a:ext cx="6072120" cy="8143920"/>
          </a:xfrm>
          <a:prstGeom prst="foldedCorner">
            <a:avLst>
              <a:gd name="adj" fmla="val 24625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1"/>
          <a:stretch/>
        </p:blipFill>
        <p:spPr>
          <a:xfrm>
            <a:off x="1200240" y="560520"/>
            <a:ext cx="67435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2"/>
          <a:stretch/>
        </p:blipFill>
        <p:spPr>
          <a:xfrm>
            <a:off x="914400" y="2060640"/>
            <a:ext cx="7454880" cy="28224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6" descr=""/>
          <p:cNvPicPr/>
          <p:nvPr/>
        </p:nvPicPr>
        <p:blipFill>
          <a:blip r:embed="rId3"/>
          <a:stretch/>
        </p:blipFill>
        <p:spPr>
          <a:xfrm>
            <a:off x="3773520" y="5346720"/>
            <a:ext cx="4668840" cy="104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Лариса\Рабочий стол\image_58a807db4b9d6.png"/>
          <p:cNvPicPr/>
          <p:nvPr/>
        </p:nvPicPr>
        <p:blipFill>
          <a:blip r:embed="rId4"/>
          <a:stretch/>
        </p:blipFill>
        <p:spPr>
          <a:xfrm>
            <a:off x="65160" y="4005360"/>
            <a:ext cx="217008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571680" y="61437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>
            <a:hlinkClick r:id="rId1"/>
          </p:cNvPr>
          <p:cNvSpPr/>
          <p:nvPr/>
        </p:nvSpPr>
        <p:spPr>
          <a:xfrm>
            <a:off x="428760" y="285840"/>
            <a:ext cx="8391240" cy="9054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«Всем, кто хочет добиться успеха в изучении языка, нужно научиться открыва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его тайны»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М.В.Ломоносов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миша.jpg"/>
          <p:cNvPicPr/>
          <p:nvPr/>
        </p:nvPicPr>
        <p:blipFill>
          <a:blip r:embed="rId2"/>
          <a:stretch/>
        </p:blipFill>
        <p:spPr>
          <a:xfrm>
            <a:off x="5076720" y="2897280"/>
            <a:ext cx="37465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СПАСИБО ЗА РАБОТ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6" descr="1369825531_smajlik.jpg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>
            <a:hlinkClick r:id="rId1"/>
          </p:cNvPr>
          <p:cNvSpPr/>
          <p:nvPr/>
        </p:nvSpPr>
        <p:spPr>
          <a:xfrm>
            <a:off x="428760" y="285840"/>
            <a:ext cx="8391240" cy="9054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«Всем, кто хочет добиться успеха в изучении языка, нужно научиться открыва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его тайны»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М.В.Ломоносов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миша.jpg"/>
          <p:cNvPicPr/>
          <p:nvPr/>
        </p:nvPicPr>
        <p:blipFill>
          <a:blip r:embed="rId2"/>
          <a:stretch/>
        </p:blipFill>
        <p:spPr>
          <a:xfrm>
            <a:off x="5076720" y="2897280"/>
            <a:ext cx="37465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3"/>
          <p:cNvSpPr/>
          <p:nvPr/>
        </p:nvSpPr>
        <p:spPr>
          <a:xfrm>
            <a:off x="428760" y="214200"/>
            <a:ext cx="8458200" cy="6239160"/>
          </a:xfrm>
          <a:prstGeom prst="foldedCorner">
            <a:avLst>
              <a:gd name="adj" fmla="val 2306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20" y="4191120"/>
            <a:ext cx="2214720" cy="2395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7"/>
          <p:cNvSpPr/>
          <p:nvPr/>
        </p:nvSpPr>
        <p:spPr>
          <a:xfrm>
            <a:off x="85680" y="50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, ветер, хорош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, жёлтая, дежур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3"/>
          <p:cNvSpPr/>
          <p:nvPr/>
        </p:nvSpPr>
        <p:spPr>
          <a:xfrm>
            <a:off x="395280" y="260280"/>
            <a:ext cx="8569440" cy="6623280"/>
          </a:xfrm>
          <a:prstGeom prst="foldedCorner">
            <a:avLst>
              <a:gd name="adj" fmla="val 2306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Propisi"/>
                <a:ea typeface="Calibri"/>
              </a:rPr>
              <a:t>28 февраля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Propisi"/>
                <a:ea typeface="Calibri"/>
              </a:rPr>
              <a:t>Кла</a:t>
            </a:r>
            <a:r>
              <a:rPr b="1" i="1" lang="ru-RU" sz="80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сс</a:t>
            </a:r>
            <a:r>
              <a:rPr b="1" i="1" lang="ru-RU" sz="8000" spc="-1" strike="noStrike">
                <a:solidFill>
                  <a:srgbClr val="000000"/>
                </a:solidFill>
                <a:latin typeface="Propisi"/>
                <a:ea typeface="Calibri"/>
              </a:rPr>
              <a:t>ная работ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А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прель, вет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е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р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Р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а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ботать, д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е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журить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Х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о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роший, ж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ё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лтая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17064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9"/>
          <p:cNvSpPr/>
          <p:nvPr/>
        </p:nvSpPr>
        <p:spPr>
          <a:xfrm>
            <a:off x="108000" y="1671480"/>
            <a:ext cx="903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ЩРИЧ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1214640" cy="1314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33200" y="1671480"/>
            <a:ext cx="90108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ЩРИЧ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8000" y="1622520"/>
            <a:ext cx="903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08000" y="1622520"/>
            <a:ext cx="903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60200" y="1622520"/>
            <a:ext cx="90108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60200" y="1643040"/>
            <a:ext cx="89838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42920" y="1649520"/>
            <a:ext cx="9001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-15840" y="1749600"/>
            <a:ext cx="92422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3"/>
          <p:cNvSpPr/>
          <p:nvPr/>
        </p:nvSpPr>
        <p:spPr>
          <a:xfrm>
            <a:off x="428760" y="28584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Лариса\Рабочий стол\image_58a807db4b9d6.png"/>
          <p:cNvPicPr/>
          <p:nvPr/>
        </p:nvPicPr>
        <p:blipFill>
          <a:blip r:embed="rId1"/>
          <a:stretch/>
        </p:blipFill>
        <p:spPr>
          <a:xfrm>
            <a:off x="6675480" y="357120"/>
            <a:ext cx="210168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179280" y="3376440"/>
            <a:ext cx="8597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ветит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ярко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ёпло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солнышко. Зеленеет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молода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травка. Дует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лёгкий,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ёплы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ветер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179280" y="0"/>
            <a:ext cx="8514000" cy="324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ит солнышко. Зеленеет травка.  Дует ветеро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3"/>
          <p:cNvSpPr/>
          <p:nvPr/>
        </p:nvSpPr>
        <p:spPr>
          <a:xfrm>
            <a:off x="285840" y="285840"/>
            <a:ext cx="8458200" cy="6172200"/>
          </a:xfrm>
          <a:prstGeom prst="foldedCorner">
            <a:avLst>
              <a:gd name="adj" fmla="val 2418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28760" y="328680"/>
            <a:ext cx="82152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bbb59"/>
                </a:solidFill>
                <a:latin typeface="Arial"/>
                <a:ea typeface="Arial"/>
              </a:rPr>
              <a:t> </a:t>
            </a:r>
            <a:r>
              <a:rPr b="1" i="1" lang="ru-RU" sz="6600" spc="-1" strike="noStrike" u="sng">
                <a:solidFill>
                  <a:srgbClr val="9bbb59"/>
                </a:solidFill>
                <a:uFillTx/>
                <a:latin typeface="Arial"/>
                <a:ea typeface="Arial"/>
              </a:rPr>
              <a:t>ТЕМА УРОК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И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ПРИЛАГАТЕЛЬ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ЕГО РОЛЬ В РЕЧ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Лариса\Рабочий стол\19674762.png"/>
          <p:cNvPicPr/>
          <p:nvPr/>
        </p:nvPicPr>
        <p:blipFill>
          <a:blip r:embed="rId1"/>
          <a:stretch/>
        </p:blipFill>
        <p:spPr>
          <a:xfrm>
            <a:off x="7000920" y="285840"/>
            <a:ext cx="1857240" cy="186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Лариса\Рабочий стол\image_58a807db4b9d6.png"/>
          <p:cNvPicPr/>
          <p:nvPr/>
        </p:nvPicPr>
        <p:blipFill>
          <a:blip r:embed="rId2"/>
          <a:stretch/>
        </p:blipFill>
        <p:spPr>
          <a:xfrm>
            <a:off x="7012080" y="4282920"/>
            <a:ext cx="200484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3"/>
          <p:cNvSpPr/>
          <p:nvPr/>
        </p:nvSpPr>
        <p:spPr>
          <a:xfrm>
            <a:off x="357120" y="500040"/>
            <a:ext cx="8529840" cy="6172200"/>
          </a:xfrm>
          <a:prstGeom prst="foldedCorner">
            <a:avLst>
              <a:gd name="adj" fmla="val 1700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302600" y="4863960"/>
            <a:ext cx="1655640" cy="1791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428760" y="18572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23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28760" y="260280"/>
            <a:ext cx="80308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ropisi"/>
                <a:ea typeface="Calibri"/>
              </a:rPr>
              <a:t>Над головой раскинулось голубое небо. Всю землю освещает яркое солнце. На верхушки сосен падают солнечные лучи. Ждут ребят тёплые день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30:31Z</dcterms:created>
  <dc:creator>Татьяна</dc:creator>
  <dc:description/>
  <dc:language>en-US</dc:language>
  <cp:lastModifiedBy>Лиза</cp:lastModifiedBy>
  <dcterms:modified xsi:type="dcterms:W3CDTF">2023-02-27T17:18:54Z</dcterms:modified>
  <cp:revision>403</cp:revision>
  <dc:subject/>
  <dc:title>Слайд 1</dc:title>
</cp:coreProperties>
</file>