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A7C7-9220-4B2D-81DB-8854C0DEF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1505-1933-4C49-BF34-450DB45A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5699-395B-40A3-81F8-C3F38F1D9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ED21-55F2-46D5-8391-4ACAB9327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2F919-632E-4BC6-B801-E238A90BE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659E-3AAE-4381-9C4E-8248A862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5CDD2-564E-4D47-97A4-213425B7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71EAB-57CB-45F0-BE26-6347FBA8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A312-89F3-43A4-8E45-217AFCAD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674F5-C01E-4005-8AAA-448195EC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07BC-84BC-46B1-9E03-E9EA9B97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BBA6-7144-46B1-A5CC-03B8DD9E2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C8C1B-9E3F-4846-A6F6-DA1D360C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ABBD-D534-4F96-B754-8D081975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69CA-C777-4AE0-A560-7967F8CE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F4C7-9862-4852-A5A2-84F2A677E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5767A-CFDC-44B8-A3B2-8D4A84B35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577C-BE89-4013-9969-6E4BBEF2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EF41-BF31-4747-9BAF-110D20DA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3A39-253E-44B2-A1C5-E7B697504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5AB5-249E-405A-BC19-4221534AC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05D2-92F4-41BE-AE5D-E4D0710C0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246A-8832-4257-94F1-8BB3E1D7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FA44-C22A-4F0C-923A-93F92AE3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F2C6-21EF-4B3E-A462-BB67EBF34F4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33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8688E-0B14-4B6A-81EE-0F7DD6BD6AE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30592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ыпишите предложения с деепричастным оборотом и одиночным деепричастием. Выделите границы оборота по алгоритму. Расставьте запятые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800" y="25142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) Флотилия не замеченная неприятелем приступила к высадк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) Не замечая меня лебеди плавали у берег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) Отошедший от станции поезд затормози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) Наевшись воронёнок успокоилс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Ответы для самопроверк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85800" y="3021120"/>
          <a:ext cx="7696080" cy="231588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59040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бособляют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е обособляют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9076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,3,4,7,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,5,6,8,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8ff"/>
                    </a:solidFill>
                  </a:tcPr>
                </a:tc>
              </a:tr>
              <a:tr h="113472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b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пишите предложение, поставьте, если нужно запятые при деепричастном обороте или одиночном деепричастии. Объясните свой выбор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0520" y="18284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И день и ночь спешу к вам голову слом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Малыш испугавшись громко расплакалс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3.Это упражнение делают стоя на вытянутых нога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4.Татьяна любит не шут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5.Волнуясь он говорил торопливо и непонятн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6.Читать лёжа вредно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7.Я проснулся и умывшись сел завтракат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8.Отец работал засучив рукав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Объект 10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4495680" cy="44960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4609800" y="457200"/>
            <a:ext cx="3924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ак вы думаете, какова тема сегодняшнего урока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то нового мы должны узнать на занятии и чему научиться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609480" y="2396160"/>
            <a:ext cx="6477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Д.О.                    ←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&gt;, —•—•—,‗‗‗‗‗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      →    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Д.О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      ‗‗‗‗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, —•—•—,&lt;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371600" y="457200"/>
            <a:ext cx="52578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бособление деепричастных оборотов и одиночных деепричасти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4343400" y="2209680"/>
            <a:ext cx="358128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ТО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СИД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ЛЁЖ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МОЛЧ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ХОТ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 ГЛЯД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ГРАЮЧ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 СПЕШ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6" descr="3"/>
          <p:cNvPicPr/>
          <p:nvPr/>
        </p:nvPicPr>
        <p:blipFill>
          <a:blip r:embed="rId1"/>
          <a:stretch/>
        </p:blipFill>
        <p:spPr>
          <a:xfrm>
            <a:off x="-533520" y="1752480"/>
            <a:ext cx="3040200" cy="3359160"/>
          </a:xfrm>
          <a:prstGeom prst="rect">
            <a:avLst/>
          </a:prstGeom>
          <a:ln w="0">
            <a:noFill/>
          </a:ln>
        </p:spPr>
      </p:pic>
      <p:sp>
        <p:nvSpPr>
          <p:cNvPr id="159" name="AutoShape 7"/>
          <p:cNvSpPr/>
          <p:nvPr/>
        </p:nvSpPr>
        <p:spPr>
          <a:xfrm>
            <a:off x="4267080" y="304920"/>
            <a:ext cx="2133720" cy="1828800"/>
          </a:xfrm>
          <a:prstGeom prst="wedgeRoundRectCallout">
            <a:avLst>
              <a:gd name="adj1" fmla="val -125893"/>
              <a:gd name="adj2" fmla="val 98351"/>
              <a:gd name="adj3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апомните: не обособляются при одиночном употреблени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4" descr="3"/>
          <p:cNvPicPr/>
          <p:nvPr/>
        </p:nvPicPr>
        <p:blipFill>
          <a:blip r:embed="rId1"/>
          <a:stretch/>
        </p:blipFill>
        <p:spPr>
          <a:xfrm>
            <a:off x="-1521000" y="1828800"/>
            <a:ext cx="3040200" cy="345600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7"/>
          <p:cNvSpPr/>
          <p:nvPr/>
        </p:nvSpPr>
        <p:spPr>
          <a:xfrm>
            <a:off x="1981080" y="609480"/>
            <a:ext cx="2362320" cy="1524240"/>
          </a:xfrm>
          <a:prstGeom prst="wedgeRoundRectCallout">
            <a:avLst>
              <a:gd name="adj1" fmla="val -47578"/>
              <a:gd name="adj2" fmla="val 98023"/>
              <a:gd name="adj3" fmla="val 1666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1981800" y="1038240"/>
            <a:ext cx="241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обособляются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фразеологизм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4648320" y="228600"/>
            <a:ext cx="2133360" cy="69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Засучив рукав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 покладая рук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пустя рукав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ломя голов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чертя голову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 солоно хлебавш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крепя сердц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Взяв себя в руки"/>
          <p:cNvPicPr/>
          <p:nvPr/>
        </p:nvPicPr>
        <p:blipFill>
          <a:blip r:embed="rId1"/>
          <a:stretch/>
        </p:blipFill>
        <p:spPr>
          <a:xfrm>
            <a:off x="1066680" y="609480"/>
            <a:ext cx="2530440" cy="3867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Выйдя из себя"/>
          <p:cNvPicPr/>
          <p:nvPr/>
        </p:nvPicPr>
        <p:blipFill>
          <a:blip r:embed="rId2"/>
          <a:stretch/>
        </p:blipFill>
        <p:spPr>
          <a:xfrm>
            <a:off x="4952880" y="2438280"/>
            <a:ext cx="228780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Взяв себя в руки"/>
          <p:cNvPicPr/>
          <p:nvPr/>
        </p:nvPicPr>
        <p:blipFill>
          <a:blip r:embed="rId1"/>
          <a:stretch/>
        </p:blipFill>
        <p:spPr>
          <a:xfrm>
            <a:off x="457200" y="457200"/>
            <a:ext cx="2530440" cy="3867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Выйдя из себя"/>
          <p:cNvPicPr/>
          <p:nvPr/>
        </p:nvPicPr>
        <p:blipFill>
          <a:blip r:embed="rId2"/>
          <a:stretch/>
        </p:blipFill>
        <p:spPr>
          <a:xfrm>
            <a:off x="5410080" y="2514600"/>
            <a:ext cx="2287800" cy="36385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5"/>
          <p:cNvSpPr/>
          <p:nvPr/>
        </p:nvSpPr>
        <p:spPr>
          <a:xfrm>
            <a:off x="228600" y="42670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зяв себя в рук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5029200" y="152388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ыйдя из себ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2438280" y="5486400"/>
            <a:ext cx="5410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ставьте с образованным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фразеологизмами предлож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Прочитайте предложения, данные ниже. Определите, обособляются или не обособляются деепричастия и деепричастные обороты. Заполните таблицу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(Записать номера предложений. Работа в парах)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85800" y="2514600"/>
          <a:ext cx="7696080" cy="251460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1257480"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бособляю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е обособляю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1257120"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67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8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456840"/>
            <a:ext cx="76960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438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. Ветер листья срывает_беснуяс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38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. Летчик улыбался, шутил, но смотрел на старушку_не отрываяс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38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. Катер дал сигнал и_набирая скорость_шёл по косой линии к берег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38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. Смеясь и шутя_мы побежали к рек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38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5. Задачу я решил _шут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38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6. Враг отступил_отстреливаяс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38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7. Он не погасил свет_уход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38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8. Он бежал по коридору_сломя голов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38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9. Он_подумав_решил задач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38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0. Вот_нехотя_с ума свел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24-01-08T15:58:25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