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D9F-61B4-4434-9E0D-69862C38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D10-6D0C-4E84-B3DB-02F8789D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0DE-6969-40D1-92CB-062D06CD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4C1-7D35-4D96-84D1-AE19B8A6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9328-6657-44B4-978F-57D89566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061C-1BDD-4DCB-BC47-ABE08CB7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A54C-140F-4417-BD1F-2EBD57ED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97FB-0901-4F17-BB0F-A6BE4CF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7D1B-DE09-4557-9448-4E4414E9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D2DD-2458-4466-9B3F-AEB7DF3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4AC1-6AAE-4D64-981D-2E597E90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64D8-97BB-4658-BDF6-70A8D583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8F02-74C2-4241-8AC3-C4DFB36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8421-7D3A-45AB-BBAC-812AB86D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1299-3C91-4E96-ACF0-45130C26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4E25-4CE0-4B5B-96E9-490AF2D2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0C34-A2AA-4AF3-B02B-AD0DB22A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CC1-D929-4F53-B957-7DF64A0A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401-0BA0-47A9-8F58-CEFE6F9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52F-94DB-4C46-A213-57D251D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272-E944-42E8-86E9-191A8826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A3A-A378-4AF4-934B-83B4262A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387-DE3C-4086-AD48-E835E70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2BF-26EA-4B7E-9112-440C8A06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3FC-3A8C-4A3A-890D-0033F2BB25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D614-0B9A-4FB6-BF24-AE1754D14C5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ишите предложения с деепричастным оборотом и одиночным деепричастием. Выделите границы оборота по алгоритму. Расставьте запят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2514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Флотилия не замеченная неприятелем приступила к высад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Не замечая меня лебеди плавали у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Отошедший от станции поезд затормоз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) Наевшись воронёнок успокои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веты для самопровер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021120"/>
          <a:ext cx="7696080" cy="2315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90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собляю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обособляю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9076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3,4,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5,6,8,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8ff"/>
                    </a:solidFill>
                  </a:tcPr>
                </a:tc>
              </a:tr>
              <a:tr h="1134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ишите предложение, поставьте, если нужно запятые при деепричастном обороте или одиночном деепричастии. Объясните свой выбо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52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И день и ночь спешу к вам голову слом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Малыш испугавшись громко расплака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Это упражнение делают стоя на вытянутых ног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Татьяна любит не шут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Волнуясь он говорил торопливо и непонят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Читать лёжа вред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Я проснулся и умывшись сел завтрак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Отец работал засучив рука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Объект 10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09800" y="45720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какова тема сегодняшнего урок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ового мы должны узнать на занятии и чему научиться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09480" y="239616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.О.                    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&gt;, —•—•—,‗‗‗‗‗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→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.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‗‗‗‗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—•—•—,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371600" y="457200"/>
            <a:ext cx="525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собление деепричастных оборотов и одиночных деепричаст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343400" y="2209680"/>
            <a:ext cx="35812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О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СИ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ЁЖ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ЛЧ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ХОТ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ГЛЯ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Ю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ПЕ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3"/>
          <p:cNvPicPr/>
          <p:nvPr/>
        </p:nvPicPr>
        <p:blipFill>
          <a:blip r:embed="rId1"/>
          <a:stretch/>
        </p:blipFill>
        <p:spPr>
          <a:xfrm>
            <a:off x="-533520" y="1752480"/>
            <a:ext cx="3040200" cy="3359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/>
          <p:cNvSpPr/>
          <p:nvPr/>
        </p:nvSpPr>
        <p:spPr>
          <a:xfrm>
            <a:off x="4267080" y="304920"/>
            <a:ext cx="2133720" cy="1828800"/>
          </a:xfrm>
          <a:prstGeom prst="wedgeRoundRectCallout">
            <a:avLst>
              <a:gd name="adj1" fmla="val -125893"/>
              <a:gd name="adj2" fmla="val 98351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омните: не обособляются при одиночном употреблен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3"/>
          <p:cNvPicPr/>
          <p:nvPr/>
        </p:nvPicPr>
        <p:blipFill>
          <a:blip r:embed="rId1"/>
          <a:stretch/>
        </p:blipFill>
        <p:spPr>
          <a:xfrm>
            <a:off x="-1521000" y="1828800"/>
            <a:ext cx="3040200" cy="3456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1981080" y="609480"/>
            <a:ext cx="2362320" cy="1524240"/>
          </a:xfrm>
          <a:prstGeom prst="wedgeRoundRectCallout">
            <a:avLst>
              <a:gd name="adj1" fmla="val -47578"/>
              <a:gd name="adj2" fmla="val 9802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81800" y="103824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обособляю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разеологиз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648320" y="228600"/>
            <a:ext cx="213336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сучив рука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покладая р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устя рука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мя голов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ртя голов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солоно хлебавш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репя серд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Взяв себя в руки"/>
          <p:cNvPicPr/>
          <p:nvPr/>
        </p:nvPicPr>
        <p:blipFill>
          <a:blip r:embed="rId1"/>
          <a:stretch/>
        </p:blipFill>
        <p:spPr>
          <a:xfrm>
            <a:off x="1066680" y="609480"/>
            <a:ext cx="2530440" cy="386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Выйдя из себя"/>
          <p:cNvPicPr/>
          <p:nvPr/>
        </p:nvPicPr>
        <p:blipFill>
          <a:blip r:embed="rId2"/>
          <a:stretch/>
        </p:blipFill>
        <p:spPr>
          <a:xfrm>
            <a:off x="4952880" y="2438280"/>
            <a:ext cx="2287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Взяв себя в руки"/>
          <p:cNvPicPr/>
          <p:nvPr/>
        </p:nvPicPr>
        <p:blipFill>
          <a:blip r:embed="rId1"/>
          <a:stretch/>
        </p:blipFill>
        <p:spPr>
          <a:xfrm>
            <a:off x="457200" y="457200"/>
            <a:ext cx="2530440" cy="3867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Выйдя из себя"/>
          <p:cNvPicPr/>
          <p:nvPr/>
        </p:nvPicPr>
        <p:blipFill>
          <a:blip r:embed="rId2"/>
          <a:stretch/>
        </p:blipFill>
        <p:spPr>
          <a:xfrm>
            <a:off x="5410080" y="2514600"/>
            <a:ext cx="228780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28600" y="4267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зяв себя в ру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029200" y="1523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йдя из себ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438280" y="5486400"/>
            <a:ext cx="5410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ьте с образован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разеологизмами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, данные ниже. Определите, обособляются или не обособляются деепричастия и деепричастные обороты. Заполните таблиц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Записать номера предложений. Работа в парах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2514600"/>
          <a:ext cx="7696080" cy="25146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257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собля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обособля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Ветер листья срывает_бесну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Летчик улыбался, шутил, но смотрел на старушку_не отрыва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Катер дал сигнал и_набирая скорость_шёл по косой линии к берег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Смеясь и шутя_мы побежали к ре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Задачу я решил _шут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Враг отступил_отстрелива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. Он не погасил свет_уход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. Он бежал по коридору_сломя голов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. Он_подумав_решил задач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. Вот_нехотя_с ума све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8T15:58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