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AA2C0-E575-48BC-B3F0-077B7B8B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8182A-12E5-4FCA-AA4B-1236F656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63899-5001-4D06-A3CB-C0978F8E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40AB5-BF1E-494A-A875-1963D5E6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2999-7549-4DE9-87AE-54FD9677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6499-3556-4C35-8854-69A0E5EB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CFC5-637F-4666-A437-3A41C815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FFC3-7DD7-4367-9539-988BD2E3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CF0C-7898-4819-96C5-334FB71C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565A-AECE-4E22-8160-CBD2FC00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51F2-E441-46A6-906F-BE805F2E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20A1D-B578-4B54-BAEA-94FB830C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BF30-2428-40C5-A715-133EBA4B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E797-D1B4-483F-8CE0-21887694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7408-2398-4251-9646-16062B7B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A0C1-3EE9-48BF-8581-E2755E420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4DB7-D116-4CD4-8CCC-7D0ECC29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14902-A9EC-41F1-9D90-69DDFDE8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9F835-25EF-4A2F-A9DD-37FEAD69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C3BD9-1307-45B8-9117-E7233636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A0434-EB4F-466E-9578-FB59283B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67709-339A-4BA0-B79B-5DA65155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80399-0B8E-4379-9237-53827A6E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B5CE8-DF40-46BC-98F1-8FA3B423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e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2FAB-9EE1-4698-81E3-B4F3C268058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e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F852-D524-47A0-849B-B9385F7FA1F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02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Тополог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219320" y="297180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компьютерных сетей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7" descr="j0300520"/>
          <p:cNvPicPr/>
          <p:nvPr/>
        </p:nvPicPr>
        <p:blipFill>
          <a:blip r:embed="rId1"/>
          <a:stretch/>
        </p:blipFill>
        <p:spPr>
          <a:xfrm>
            <a:off x="3124080" y="4343400"/>
            <a:ext cx="2667240" cy="22939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380880" y="762120"/>
            <a:ext cx="8382240" cy="56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вездообразная тополог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базируется на концепции центрального узла (концентратора), к которому подключаются периферийные узлы. Каждый периферийный узел имеет свою отдельную линию связи с центральным узлом. Вся информация передается через центральный узел, который ретранслирует, переключает и маршрутизирует информационные потоки в сет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вездообразная топология значительно упрощает взаимодействие узлов сети друг с другом, позволяет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спользовать более простые сетевые адаптеры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то же врем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ботоспособность се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о звездообразной топологией целиком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висит от центрального узла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люсом является то, что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центральный узел (концентратор) может блокировать передачу данных, запрещенных администратором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вреждение кабеля или периферийного устройства не влияет на работоспособность всей сет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9000">
    <p:circl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0" y="220968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7d"/>
                </a:solidFill>
                <a:latin typeface="Tahoma"/>
              </a:rPr>
              <a:t>Примеры других топологий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9000">
    <p:circl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http://www.examen.ru/about.nsf/0/f92e7c3189eba8cac3256b490039df83/Content/0.5B82?OpenElement&amp;FieldElemFormat=gif"/>
          <p:cNvPicPr/>
          <p:nvPr/>
        </p:nvPicPr>
        <p:blipFill>
          <a:blip r:embed="rId1"/>
          <a:stretch/>
        </p:blipFill>
        <p:spPr>
          <a:xfrm>
            <a:off x="990720" y="1752480"/>
            <a:ext cx="6705360" cy="46087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311400" y="761400"/>
            <a:ext cx="86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d"/>
                </a:solidFill>
                <a:latin typeface="Arial"/>
              </a:rPr>
              <a:t>Топология "Все-Со-Всеми"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9000">
    <p:circl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960"/>
                            </p:stCondLst>
                            <p:childTnLst>
                              <p:par>
                                <p:cTn id="1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0"/>
          <p:cNvPicPr/>
          <p:nvPr/>
        </p:nvPicPr>
        <p:blipFill>
          <a:blip r:embed="rId1"/>
          <a:stretch/>
        </p:blipFill>
        <p:spPr>
          <a:xfrm>
            <a:off x="1447920" y="1905120"/>
            <a:ext cx="5562360" cy="38098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768960" y="761400"/>
            <a:ext cx="78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d"/>
                </a:solidFill>
                <a:latin typeface="Arial"/>
              </a:rPr>
              <a:t>Топология "точка-точка"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9000">
    <p:circl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92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http://www.examen.ru/about.nsf/0/f92e7c3189eba8cac3256b490039df83/Content/0.78EA?OpenElement&amp;FieldElemFormat=gif"/>
          <p:cNvPicPr/>
          <p:nvPr/>
        </p:nvPicPr>
        <p:blipFill>
          <a:blip r:embed="rId1"/>
          <a:stretch/>
        </p:blipFill>
        <p:spPr>
          <a:xfrm>
            <a:off x="1981080" y="2209680"/>
            <a:ext cx="5715000" cy="37339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578160" y="304560"/>
            <a:ext cx="7921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4800" spc="-1" strike="noStrike">
                <a:solidFill>
                  <a:srgbClr val="00007d"/>
                </a:solidFill>
                <a:latin typeface="Arial"/>
                <a:ea typeface="Times New Roman"/>
              </a:rPr>
              <a:t>Топология типа "звезда"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9000">
    <p:circl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2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"/>
          <p:cNvSpPr/>
          <p:nvPr/>
        </p:nvSpPr>
        <p:spPr>
          <a:xfrm>
            <a:off x="838080" y="762120"/>
            <a:ext cx="7848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кальные компьютерные се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яют компьютеры, установленные в одном помещении или в одном здан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ы соединяются посредством кабел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передачи данных – 1-100– Мбит в секунд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е назначение локальной компьютерной сети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ое использование ресурсов сети: программ, данных, дискового пространства, принтеров и других периферийных устройст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компоненты локальной компьютерной сет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ы с сетевыми адаптерами, кабель с разъемами для подключения, сетевое программное обеспече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9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990720" y="685800"/>
            <a:ext cx="74674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пология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усредненная геометрическая схема соединений узлов се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зел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 устройство, непосредственно подключенное к передающей среде се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5" descr="j0285750"/>
          <p:cNvPicPr/>
          <p:nvPr/>
        </p:nvPicPr>
        <p:blipFill>
          <a:blip r:embed="rId1"/>
          <a:stretch/>
        </p:blipFill>
        <p:spPr>
          <a:xfrm>
            <a:off x="2286000" y="3048120"/>
            <a:ext cx="4343400" cy="26683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ircl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533520" y="762120"/>
            <a:ext cx="84582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2160" indent="-3427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пологии вычислительных сетей могут быть самыми различными, но для локальных сетей типичными являются всего тр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22160" indent="-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ьцевая (кольцо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22160" indent="-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инная (шин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22160" indent="-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ездообразная (звезд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5" descr="j0195384"/>
          <p:cNvPicPr/>
          <p:nvPr/>
        </p:nvPicPr>
        <p:blipFill>
          <a:blip r:embed="rId1"/>
          <a:stretch/>
        </p:blipFill>
        <p:spPr>
          <a:xfrm>
            <a:off x="6019920" y="434340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j0195384"/>
          <p:cNvPicPr/>
          <p:nvPr/>
        </p:nvPicPr>
        <p:blipFill>
          <a:blip r:embed="rId2"/>
          <a:stretch/>
        </p:blipFill>
        <p:spPr>
          <a:xfrm flipH="1">
            <a:off x="990360" y="4267080"/>
            <a:ext cx="1795320" cy="1833840"/>
          </a:xfrm>
          <a:prstGeom prst="rect">
            <a:avLst/>
          </a:prstGeom>
          <a:ln w="0">
            <a:noFill/>
          </a:ln>
        </p:spPr>
      </p:pic>
      <p:sp>
        <p:nvSpPr>
          <p:cNvPr id="115" name="Line 7"/>
          <p:cNvSpPr/>
          <p:nvPr/>
        </p:nvSpPr>
        <p:spPr>
          <a:xfrm>
            <a:off x="2666880" y="464832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9000">
    <p:circl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990720" y="533520"/>
            <a:ext cx="731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762120" y="6858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7d"/>
                </a:solidFill>
                <a:latin typeface="Tahoma"/>
              </a:rPr>
              <a:t>Кольцевая топология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542120" cy="48006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ircl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228600" y="609480"/>
            <a:ext cx="8534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ьцевая тополог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усматривает соединение узлов сети замкнутой кривой – кабелем передающей среды. Информация передается последовательно от компьютера к компьютеру по кольцу. В ней отсутствует центральный узел, что повышает устойчивость к неполадкам сети.  Но последовательное соединение узлов сети снижает ее быстродействие, а выход из строя одного из узлов нарушает целостность кольца, т.е. требуются специальные меры для сохранения тракта передачи информ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ьцевая сеть явл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деаль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сетей, занимающих сравнитель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большое простран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Для соединений можно использов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ые типы кабел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9000">
    <p:circl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762120" y="6858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7d"/>
                </a:solidFill>
                <a:latin typeface="Tahoma"/>
              </a:rPr>
              <a:t>Шинная топология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467480" cy="36514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ircl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40"/>
                            </p:stCondLst>
                            <p:childTnLst>
                              <p:par>
                                <p:cTn id="1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609480" y="91440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09480" y="838080"/>
            <a:ext cx="8153640" cy="57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инная топология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 из наиболее простых. В качестве соединения использу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аксиальный каб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ри таком соединении данные от передающего узла распространяются в обе стороны, обмен может производиться между любыми компьютерами сети, независимо от остальных. При повреждении связи одного компьютера с общей шиной этот компьютер отключается от сети, но вся сеть работает. Се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статочно устойчива к возможным неисправностям отдельных уз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о если повреждается шина, то вся сеть выходит из стро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циплина обслуживания параллельная, что обеспечива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ое быстродействие се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е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гко наращивать и конфигурирова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е се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еют малую протяжен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позволяют использовать различные типы кабеля в пределах одной се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Это наиболее простая и дешевая схема подключения, но она же и менее надежна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9000">
    <p:circl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228600" y="68580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d"/>
                </a:solidFill>
                <a:latin typeface="Tahoma"/>
              </a:rPr>
              <a:t>Звездообразная топология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5" name="Group 13"/>
          <p:cNvGrpSpPr/>
          <p:nvPr/>
        </p:nvGrpSpPr>
        <p:grpSpPr>
          <a:xfrm>
            <a:off x="1676520" y="1600200"/>
            <a:ext cx="5943600" cy="5019840"/>
            <a:chOff x="1676520" y="1600200"/>
            <a:chExt cx="5943600" cy="5019840"/>
          </a:xfrm>
        </p:grpSpPr>
        <p:pic>
          <p:nvPicPr>
            <p:cNvPr id="126" name="Picture 6" descr=""/>
            <p:cNvPicPr/>
            <p:nvPr/>
          </p:nvPicPr>
          <p:blipFill>
            <a:blip r:embed="rId1"/>
            <a:stretch/>
          </p:blipFill>
          <p:spPr>
            <a:xfrm>
              <a:off x="1676520" y="1600200"/>
              <a:ext cx="5943600" cy="501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0" descr="j0205582"/>
            <p:cNvPicPr/>
            <p:nvPr/>
          </p:nvPicPr>
          <p:blipFill>
            <a:blip r:embed="rId2"/>
            <a:srcRect l="30030" t="18706" r="18501" b="15879"/>
            <a:stretch/>
          </p:blipFill>
          <p:spPr>
            <a:xfrm>
              <a:off x="3962520" y="3429000"/>
              <a:ext cx="14475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1"/>
            <p:cNvSpPr/>
            <p:nvPr/>
          </p:nvSpPr>
          <p:spPr>
            <a:xfrm>
              <a:off x="4216320" y="3727440"/>
              <a:ext cx="8859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7d"/>
                  </a:solidFill>
                  <a:latin typeface="Tahoma"/>
                </a:rPr>
                <a:t>Центральный ПК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 advTm="9000">
    <p:circl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960"/>
                            </p:stCondLst>
                            <p:childTnLst>
                              <p:par>
                                <p:cTn id="1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1-09-04T19:40:2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