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3D74-4857-4DF5-A729-5AA47CC03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8DD5-6559-4FB2-8B92-D4524B88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822C-2F84-4247-B891-792546CF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AE4B-86B9-4103-BCE9-ABDF4327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1594-8862-43E6-ADB2-C13538D1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2142-A460-4BD2-8247-D09FBF45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6FA2B-0E7C-434A-8B1B-5497F0DA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FB81-C672-4A57-A2FB-7180FA190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44FB-7D9E-4931-BA57-E5E9F90B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A544A-B6FB-4044-B84B-84462EF1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585F-9E21-4214-8356-C79283BA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69D2-C648-43BD-A243-3BDF9927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2797B-979F-444B-B297-055F5D5E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A807-7482-41B8-BC67-2EB23F84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0CB3-20D1-4B2C-81C2-FCD32BB2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6742-F9B9-445E-8FB6-AF525F2D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ABDB-4533-44AF-BAE8-999D35AF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917F-1A72-4A07-9597-10F1702D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BE4F-D1B4-4E83-A612-E4F3F40D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9E76-0300-4596-A67B-EAE9F302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29C0-854B-42A8-B825-7A224605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A087-182E-4B0C-B051-D23498C2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1003-C656-49DE-9C9B-B2B999BF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D378-4070-4E80-93D8-47BA4D5A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9E8D-26B4-41F5-938B-C0C3EA31C3A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BB9B-D067-4FFB-B65C-AED80B30733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1699920"/>
            <a:ext cx="7772400" cy="46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Установка параметров </a:t>
            </a:r>
            <a:r>
              <a:rPr b="1" lang="en-TT" sz="3200" spc="-1" strike="noStrike">
                <a:solidFill>
                  <a:srgbClr val="999900"/>
                </a:solidFill>
                <a:latin typeface="Garamond"/>
              </a:rPr>
              <a:t>BIOS</a:t>
            </a:r>
            <a:r>
              <a:rPr b="0" lang="en-TT" sz="58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91" name="Picture 4" descr="dualbios"/>
          <p:cNvPicPr/>
          <p:nvPr/>
        </p:nvPicPr>
        <p:blipFill>
          <a:blip r:embed="rId1"/>
          <a:stretch/>
        </p:blipFill>
        <p:spPr>
          <a:xfrm>
            <a:off x="250920" y="314172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Назначение BIOS материнской платы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о́льшую часть BIOS материнской платы составляют микропрограммы инициализации контроллеров на материнской плате, а также подключённых к ней устройств, которые в свою очередь могут иметь управляющие контроллеры с собственными BI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азу после включения питания компьютера, во время начальной загрузки компьютера, при помощи программ записанных в BIOS, происходит самопроверка аппаратного обеспечения компьютера — POST. В случае сбоя во время прохождения POST, BIOS может выдать информацию, позволяющую выявить причину сбоя. Кроме вывода сообщения на монитор, используется звуковой сигнал, воспроизводимый при помощи встроенного динами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T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грамма настройка BIOS может быть вызвана после перезагрузки компьютера нажатием определённой клавиши или группы клавиш. Наиболее распространённые —   Del ,   F2  или   Esc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T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ме того, существуют определённые комбинации клавиш, позволяющих запустить микропрограмму восстановления (перезаписи) BIOS в микросхеме в случае повреждения её, аппаратно либо вирусом, а также восстановить заводские настройки позволяющие запустить компьютер после неверных настроек или в случае неудачного оверклокинга при помощи BIOS’ов компьютер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9900"/>
                </a:solidFill>
                <a:latin typeface="Garamond"/>
              </a:rPr>
              <a:t>Данная версия BIOS встречается на современных версиях компьютеров, вплоть до настоящего времени.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5" name="Picture 4" descr="bios02-b"/>
          <p:cNvPicPr/>
          <p:nvPr/>
        </p:nvPicPr>
        <p:blipFill>
          <a:blip r:embed="rId1"/>
          <a:stretch/>
        </p:blipFill>
        <p:spPr>
          <a:xfrm>
            <a:off x="826920" y="1503360"/>
            <a:ext cx="7274160" cy="5354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Звуковая индикация ошибок в системе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468360" y="1484280"/>
          <a:ext cx="8229600" cy="4829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0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вук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то означа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дин короткий гудок после включения или сброса компьюте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се нормаль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линный, постоянно повторяющийся гуд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ибо памяти нет, либо она неиспра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дин длинный гудок и затем три коротк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Либо не установлена видеокарта, либо ее видеопамять неиспра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астые гудки при нормально работающем компьюте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цессор перегрет и частота его принудительно пониж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BIO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BIOS 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(англ. </a:t>
            </a: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basic input/output system</a:t>
            </a:r>
            <a:r>
              <a:rPr b="0" lang="ru-RU" sz="3200" spc="-1" strike="noStrike">
                <a:solidFill>
                  <a:srgbClr val="000000"/>
                </a:solidFill>
                <a:latin typeface="Garamond"/>
              </a:rPr>
              <a:t>) — «базовая система ввода-вывода» 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86868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T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BIO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– это низкоуровневое программное обеспечение, которое хранится в отдельном чипе - постоянном запоминающем устройств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BIO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- часть системного программного обеспечения, которая предназначается для обеспечения доступа ОС к аппаратуре компьютера и подключенным к нему устройствам, а также начальную загрузку компьютера и последующий запуск операционной систем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T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T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4" descr="dualbios"/>
          <p:cNvPicPr/>
          <p:nvPr/>
        </p:nvPicPr>
        <p:blipFill>
          <a:blip r:embed="rId1"/>
          <a:srcRect l="51425" t="24179" r="12291" b="19381"/>
          <a:stretch/>
        </p:blipFill>
        <p:spPr>
          <a:xfrm>
            <a:off x="5508720" y="4292640"/>
            <a:ext cx="3408120" cy="2448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Произношение названия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Учитывая нерусское происхождение технического термина и его принадлежность к аббревиатурам, русскоязычные пользователи, когда говорят о BIOS, обычно используют транслитерацию и произносят «би́ос». Надо помнить, что это обрусевшее, искажённое произношение, и правильно произносить это название как «ба́йос». Правильное называние базовой системы ввода-вывода именно «байос» позволяет избежать путаницы с BeOS (операционная система, созданная Be, Inc.; произносится «би́-ос») и с другими похожими по написанию или звучанию слов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chip_bios"/>
          <p:cNvPicPr/>
          <p:nvPr/>
        </p:nvPicPr>
        <p:blipFill>
          <a:blip r:embed="rId1"/>
          <a:stretch/>
        </p:blipFill>
        <p:spPr>
          <a:xfrm>
            <a:off x="5651640" y="4478400"/>
            <a:ext cx="3168360" cy="2379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9152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Назначение и функции BIOS</a:t>
            </a:r>
            <a:br>
              <a:rPr sz="3200"/>
            </a:b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современных компьютерах BIOS выполняет несколько функций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1"/>
          <p:cNvPicPr/>
          <p:nvPr/>
        </p:nvPicPr>
        <p:blipFill>
          <a:blip r:embed="rId1"/>
          <a:stretch/>
        </p:blipFill>
        <p:spPr>
          <a:xfrm>
            <a:off x="324000" y="2565360"/>
            <a:ext cx="8675640" cy="3878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5573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пуск компьютера и процедура самотестирования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Power-On Self Test — POST). Программа, расположенная в микросхеме BIOS, загружается первой после включения питания компьютера. Она детектирует и проверяет установленное оборудование, настраивает его и готовит к работ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обнаруживается неисправность оборудования, процедура POST останавливается с выводом соответствующего сообщения или звукового сигнал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стройка параметров системы с помощью программы BIOS Setup. Во время процедуры POST оборудование определяется в соответствии с параметрами BIOS, хранящимися в специальной CMOS-памяти. Изменяя эти параметры, пользователь может настроить работу отдельных устройств и системы в целом по своим потребностям. Редактируются они в специальной программе, которую также называют BIOS Setup или CMOS Setu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bios_chip-2"/>
          <p:cNvPicPr/>
          <p:nvPr/>
        </p:nvPicPr>
        <p:blipFill>
          <a:blip r:embed="rId1"/>
          <a:stretch/>
        </p:blipFill>
        <p:spPr>
          <a:xfrm>
            <a:off x="7278840" y="0"/>
            <a:ext cx="1865160" cy="16081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79280" y="115560"/>
            <a:ext cx="896472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ддержка функций ввода-вывода с помощью программных прерываний BIOS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В составе системной BIOS есть встроенные функции для работы с клавиатурой, видеоадаптером, дисководами, жесткими дисками, портами ввода-вывода и др. Эти функции широко используются в операционных системах, подобных MS-DOS, и практически не применяются в современных версиях Window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rom"/>
          <p:cNvPicPr/>
          <p:nvPr/>
        </p:nvPicPr>
        <p:blipFill>
          <a:blip r:embed="rId1"/>
          <a:stretch/>
        </p:blipFill>
        <p:spPr>
          <a:xfrm>
            <a:off x="539640" y="2997360"/>
            <a:ext cx="3810240" cy="3019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Процедура POST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вое устройство, которое запускается после нажатия кнопки включения компьютера — блок питания. Если все питающие напряжения окажутся в норме, вступает в работу центральный процессор, который считывает содержимое микросхемы BIOS и начинает выполнять записанную в ней процедуру самотестирования, или POS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4" descr="chip_bios"/>
          <p:cNvPicPr/>
          <p:nvPr/>
        </p:nvPicPr>
        <p:blipFill>
          <a:blip r:embed="rId1"/>
          <a:stretch/>
        </p:blipFill>
        <p:spPr>
          <a:xfrm>
            <a:off x="5699160" y="4221000"/>
            <a:ext cx="3252600" cy="244332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9900"/>
                </a:solidFill>
                <a:latin typeface="Garamond"/>
              </a:rPr>
              <a:t>POST решает несколько основных задач:</a:t>
            </a:r>
            <a:br>
              <a:rPr sz="3200"/>
            </a:b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713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...Инициализирует и настраивает основные системные компоненты: процессор, оперативную память, видеоадаптер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..Тестирует процессор и оперативную память. Результаты обычно выводятся на экран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...Инициализирует и настраивает периферийные устройства: клавиатуру, мышь, дисководы, жесткие диски и др. Сведения об обнаруженных накопителях также выводятся на экран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4...Распределяет ресурсы между устройствами и выводит таблицу с обнаруженными устройствами и назначенными для них ресурс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6...Вызывает загрузчик операционной систем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8T16:49:54Z</dcterms:created>
  <dc:creator>User</dc:creator>
  <dc:description/>
  <dc:language>en-US</dc:language>
  <cp:lastModifiedBy>Надежда</cp:lastModifiedBy>
  <dcterms:modified xsi:type="dcterms:W3CDTF">2016-04-05T20:27:49Z</dcterms:modified>
  <cp:revision>11</cp:revision>
  <dc:subject/>
  <dc:title>Установка параметров BIOS</dc:title>
</cp:coreProperties>
</file>