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2C04-5659-4410-A284-0435932A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BF4-8A4A-4DEB-B255-34A416C5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610-BA06-4E4F-AD92-A78E1DF5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586-814A-4C09-9CFD-73341710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7588-05F8-4612-8611-8D80A50A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F87-739E-4619-BA3F-5CC6F2ED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B578-1F07-4181-92C9-D511CF87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DB0B-7F4F-4B85-B678-2748E5FF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665-8F25-4844-A488-06494397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18EF-A3C6-4856-8930-884A970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0CF7-1125-4AA6-A344-3B9D134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239-77FB-4DDA-BB72-AAB97370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0E37-11E3-4B27-963F-3B66504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2180-4232-4CBE-BC09-C746601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AE8-EDD7-4185-9763-BBC347FB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4E13-6DFD-482C-8F37-F0789B4C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C111-6104-4BCA-B34A-5B08C3D96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F90-900F-4617-AC07-F07372D3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9F9-1DE0-46C7-9F82-5C0996B3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85F-C09B-4B74-93F4-0CDB2FC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6E9-25A7-4E86-9D92-286BDF00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187-0147-4319-B261-27BF3575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2F9-102E-4A8A-8709-7C0376DC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B40-94AD-4220-913F-2A76FB28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1074-29C7-47AA-B094-674DBFF37A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328A-1CBA-4AEB-8608-D6BF86AC47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Установка параметров </a:t>
            </a:r>
            <a:r>
              <a:rPr b="1" lang="en-TT" sz="3200" spc="-1" strike="noStrike">
                <a:solidFill>
                  <a:srgbClr val="999900"/>
                </a:solidFill>
                <a:latin typeface="Garamond"/>
              </a:rPr>
              <a:t>BIOS</a:t>
            </a:r>
            <a:r>
              <a:rPr b="0" lang="en-TT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1" name="Picture 4" descr="dualbios"/>
          <p:cNvPicPr/>
          <p:nvPr/>
        </p:nvPicPr>
        <p:blipFill>
          <a:blip r:embed="rId1"/>
          <a:stretch/>
        </p:blipFill>
        <p:spPr>
          <a:xfrm>
            <a:off x="250920" y="3141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Назначение BIOS материнской платы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́льшую часть BIOS материнской платы составляют микропрограммы инициализации контроллеров на материнской плате, а также подключённых к ней устройств, которые в свою очередь могут иметь управляющие контроллеры с собственными B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зу после включения питания компьютера, во время начальной загрузки компьютера, при помощи программ записанных в BIOS, происходит самопроверка аппаратного обеспечения компьютера — POST. В случае сбоя во время прохождения POST, BIOS может выдать информацию, позволяющую выявить причину сбоя. Кроме вывода сообщения на монитор, используется звуковой сигнал, воспроизводимый при помощи встроенного динам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настройка BIOS может быть вызвана после перезагрузки компьютера нажатием определённой клавиши или группы клавиш. Наиболее распространённые —   Del ,   F2  или   Esc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того, существуют определённые комбинации клавиш, позволяющих запустить микропрограмму восстановления (перезаписи) BIOS в микросхеме в случае повреждения её, аппаратно либо вирусом, а также восстановить заводские настройки позволяющие запустить компьютер после неверных настроек или в случае неудачного оверклокинга при помощи BIOS’ов компьют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Данная версия BIOS встречается на современных версиях компьютеров, вплоть до настоящего времени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Picture 4" descr="bios02-b"/>
          <p:cNvPicPr/>
          <p:nvPr/>
        </p:nvPicPr>
        <p:blipFill>
          <a:blip r:embed="rId1"/>
          <a:stretch/>
        </p:blipFill>
        <p:spPr>
          <a:xfrm>
            <a:off x="826920" y="1503360"/>
            <a:ext cx="7274160" cy="535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Звуковая индикация ошибок в системе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484280"/>
          <a:ext cx="8229600" cy="482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ву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короткий гудок после включения или сброса компью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 норма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инный, постоянно повторяющийся гу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 памяти нет, либо она неиспра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длинный гудок и затем три коротк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 не установлена видеокарта, либо ее видеопамять неиспра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ые гудки при нормально работающем компьют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цессор перегрет и частота его принудительно пониж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I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BIOS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(англ.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basic input/output system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) — «базовая система ввода-вывода»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это низкоуровневое программное обеспечение, которое хранится в отдельном чипе - постоянном запоминающем устройств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часть системного программного обеспечения, которая предназначается для обеспечения доступа ОС к аппаратуре компьютера и подключенным к нему устройствам, а также начальную загрузку компьютера и последующий запуск операционной сис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dualbios"/>
          <p:cNvPicPr/>
          <p:nvPr/>
        </p:nvPicPr>
        <p:blipFill>
          <a:blip r:embed="rId1"/>
          <a:srcRect l="51425" t="24179" r="12291" b="19381"/>
          <a:stretch/>
        </p:blipFill>
        <p:spPr>
          <a:xfrm>
            <a:off x="5508720" y="4292640"/>
            <a:ext cx="34081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оизношение назва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ывая нерусское происхождение технического термина и его принадлежность к аббревиатурам, русскоязычные пользователи, когда говорят о BIOS, обычно используют транслитерацию и произносят «би́ос». Надо помнить, что это обрусевшее, искажённое произношение, и правильно произносить это название как «ба́йос». Правильное называние базовой системы ввода-вывода именно «байос» позволяет избежать путаницы с BeOS (операционная система, созданная Be, Inc.; произносится «би́-ос») и с другими похожими по написанию или звучанию слов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chip_bios"/>
          <p:cNvPicPr/>
          <p:nvPr/>
        </p:nvPicPr>
        <p:blipFill>
          <a:blip r:embed="rId1"/>
          <a:stretch/>
        </p:blipFill>
        <p:spPr>
          <a:xfrm>
            <a:off x="5651640" y="4478400"/>
            <a:ext cx="316836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Назначение и функции BIOS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овременных компьютерах BIOS выполняет несколько функци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324000" y="2565360"/>
            <a:ext cx="8675640" cy="387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пуск компьютера и процедура самотестиро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Power-On Self Test — POST). Программа, расположенная в микросхеме BIOS, загружается первой после включения питания компьютера. Она детектирует и проверяет установленное оборудование, настраивает его и готовит к работ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обнаруживается неисправность оборудования, процедура POST останавливается с выводом соответствующего сообщения или звукового сигна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араметров системы с помощью программы BIOS Setup. Во время процедуры POST оборудование определяется в соответствии с параметрами BIOS, хранящимися в специальной CMOS-памяти. Изменяя эти параметры, пользователь может настроить работу отдельных устройств и системы в целом по своим потребностям. Редактируются они в специальной программе, которую также называют BIOS Setup или CMOS Setu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bios_chip-2"/>
          <p:cNvPicPr/>
          <p:nvPr/>
        </p:nvPicPr>
        <p:blipFill>
          <a:blip r:embed="rId1"/>
          <a:stretch/>
        </p:blipFill>
        <p:spPr>
          <a:xfrm>
            <a:off x="7278840" y="0"/>
            <a:ext cx="186516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держка функций ввода-вывода с помощью программных прерываний BIOS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 составе системной BIOS есть встроенные функции для работы с клавиатурой, видеоадаптером, дисководами, жесткими дисками, портами ввода-вывода и др. Эти функции широко используются в операционных системах, подобных MS-DOS, и практически не применяются в современных версиях Window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rom"/>
          <p:cNvPicPr/>
          <p:nvPr/>
        </p:nvPicPr>
        <p:blipFill>
          <a:blip r:embed="rId1"/>
          <a:stretch/>
        </p:blipFill>
        <p:spPr>
          <a:xfrm>
            <a:off x="539640" y="299736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оцедура POS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ое устройство, которое запускается после нажатия кнопки включения компьютера — блок питания. Если все питающие напряжения окажутся в норме, вступает в работу центральный процессор, который считывает содержимое микросхемы BIOS и начинает выполнять записанную в ней процедуру самотестирования, или POS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chip_bios"/>
          <p:cNvPicPr/>
          <p:nvPr/>
        </p:nvPicPr>
        <p:blipFill>
          <a:blip r:embed="rId1"/>
          <a:stretch/>
        </p:blipFill>
        <p:spPr>
          <a:xfrm>
            <a:off x="5699160" y="4221000"/>
            <a:ext cx="3252600" cy="2443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POST решает несколько основных задач: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..Инициализирует и настраивает основные системные компоненты: процессор, оперативную память, видеоадаптер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..Тестирует процессор и оперативную память. Результаты обычно выводятся на экр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..Инициализирует и настраивает периферийные устройства: клавиатуру, мышь, дисководы, жесткие диски и др. Сведения об обнаруженных накопителях также выводятся на экр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..Распределяет ресурсы между устройствами и выводит таблицу с обнаруженными устройствами и назначенными для них ресурс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..Вызывает загрузчик операционн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6:49:54Z</dcterms:created>
  <dc:creator>User</dc:creator>
  <dc:description/>
  <dc:language>en-US</dc:language>
  <cp:lastModifiedBy>Надежда</cp:lastModifiedBy>
  <dcterms:modified xsi:type="dcterms:W3CDTF">2016-04-05T20:27:49Z</dcterms:modified>
  <cp:revision>11</cp:revision>
  <dc:subject/>
  <dc:title>Установка параметров BIOS</dc:title>
</cp:coreProperties>
</file>