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04C8-915E-4306-9BBB-7FA281E04D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D1B9-F7C8-43C3-BFF1-F65F7010F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3F1-BE40-472F-8D57-1679F509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E37-72D0-4357-8A27-0175BE48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7F9-E7A6-486C-A0BF-1C8989FB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9D79-7A59-4492-B1C7-01E9343F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2034-302C-4C27-B03C-783CC7C3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15D2-8D98-4399-B4D3-EECB5FB6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43FC-07D8-4F07-BE6C-ABCF49A1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98C0-90F5-41AE-88BB-00423EDF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4BCA-D756-49FA-BC89-2AEAF900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81AA-E946-4340-8F5A-F51ED6B4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FD3D-AC53-4C8C-AADD-CB12DAF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61C-7CEE-4012-AABB-8F7FB622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93BE-3CF1-49A4-B94C-1396437D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F39-BFEA-4AE2-B027-C865DF35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9152-03BB-4947-ABB6-41E139F6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0A43-21C5-42BE-9F61-D5956E86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DC97-934A-4F05-A6B2-E06255B8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7D3-FE0B-481A-9196-39C80AFF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686-79B2-4283-A0B0-D738696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FE3-2413-41D5-864A-CB9110D4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710-2197-4712-9C44-2A9F30C9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60B3-D655-4F6F-927F-7A0DB282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1725-49D8-4181-8DF0-61464745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48C0-D1E6-4A89-B5AB-6B202B4F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6343-EAB1-4991-9AC7-1A101F3BB61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F16E-B8C8-4FE0-B352-5584F7423EB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83628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Проверочная рабо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000" y="198864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stellar"/>
              </a:rPr>
              <a:t>Алгоритм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26920" y="3429000"/>
            <a:ext cx="58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stellar"/>
              </a:rPr>
              <a:t>Напишите свою фамилию, и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stellar"/>
              </a:rPr>
              <a:t>Поставьте номер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stellar"/>
              </a:rPr>
              <a:t>Проставьте в столб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stellar"/>
              </a:rPr>
              <a:t>номера вопросов от 1 до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Критерии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ценки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2205000"/>
            <a:ext cx="59770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entury Gothic"/>
              </a:rPr>
              <a:t>0 ошибок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– оценка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entury Gothic"/>
              </a:rPr>
              <a:t>1 – 2 ошибки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– оценка </a:t>
            </a:r>
            <a:r>
              <a:rPr b="1" lang="ru-RU" sz="3200" spc="-1" strike="noStrike">
                <a:solidFill>
                  <a:srgbClr val="99cc00"/>
                </a:solidFill>
                <a:latin typeface="Century Gothic"/>
              </a:rPr>
              <a:t>«4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entury Gothic"/>
              </a:rPr>
              <a:t>3 ошибки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– оценка </a:t>
            </a:r>
            <a:r>
              <a:rPr b="1" lang="ru-RU" sz="3200" spc="-1" strike="noStrike">
                <a:solidFill>
                  <a:srgbClr val="009999"/>
                </a:solidFill>
                <a:latin typeface="Century Gothic"/>
              </a:rPr>
              <a:t>«3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entury Gothic"/>
              </a:rPr>
              <a:t>4 – 6 ошибок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– оценка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«2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2195640" y="981000"/>
            <a:ext cx="5040360" cy="2521080"/>
          </a:xfrm>
          <a:custGeom>
            <a:avLst/>
            <a:gdLst>
              <a:gd name="textAreaLeft" fmla="*/ 992520 w 5040360"/>
              <a:gd name="textAreaRight" fmla="*/ 4047840 w 5040360"/>
              <a:gd name="textAreaTop" fmla="*/ 531720 h 2521080"/>
              <a:gd name="textAreaBottom" fmla="*/ 241056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7042"/>
                </a:moveTo>
                <a:arcTo wR="21600" hR="20153" stAng="7304956" swAng="-775679"/>
                <a:lnTo>
                  <a:pt x="4254" y="20652"/>
                </a:lnTo>
                <a:arcTo wR="21600" hR="20153" stAng="6529277" swAng="-2258554"/>
                <a:lnTo>
                  <a:pt x="17346" y="18794"/>
                </a:lnTo>
                <a:arcTo wR="21600" hR="20153" stAng="4270723" swAng="-775679"/>
                <a:lnTo>
                  <a:pt x="18900" y="9750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46421"/>
                <a:lnTo>
                  <a:pt x="14646" y="4236"/>
                </a:lnTo>
                <a:arcTo wR="21600" hR="20153" stAng="4741465" swAng="1317070"/>
                <a:lnTo>
                  <a:pt x="6954" y="2378"/>
                </a:lnTo>
                <a:arcTo wR="21600" hR="20153" stAng="6058535" swAng="1246421"/>
                <a:lnTo>
                  <a:pt x="2700" y="9750"/>
                </a:lnTo>
                <a:close/>
              </a:path>
              <a:path fill="none" w="21600" h="21600">
                <a:moveTo>
                  <a:pt x="6954" y="4236"/>
                </a:moveTo>
                <a:arcTo wR="21600" hR="20153" stAng="6058535" swAng="470742"/>
                <a:lnTo>
                  <a:pt x="6954" y="2378"/>
                </a:lnTo>
              </a:path>
              <a:path fill="none" w="21600" h="21600">
                <a:moveTo>
                  <a:pt x="14646" y="4236"/>
                </a:moveTo>
                <a:arcTo wR="21600" hR="20153" stAng="4741465" swAng="-470742"/>
                <a:lnTo>
                  <a:pt x="14646" y="2378"/>
                </a:lnTo>
              </a:path>
              <a:path fill="none" w="21600" h="21600">
                <a:moveTo>
                  <a:pt x="4254" y="18794"/>
                </a:moveTo>
                <a:lnTo>
                  <a:pt x="4254" y="3610"/>
                </a:lnTo>
              </a:path>
              <a:path fill="none" w="21600" h="21600">
                <a:moveTo>
                  <a:pt x="17346" y="18794"/>
                </a:moveTo>
                <a:lnTo>
                  <a:pt x="17346" y="3610"/>
                </a:lnTo>
              </a:path>
            </a:pathLst>
          </a:cu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omic Sans MS"/>
              </a:rPr>
              <a:t>Успех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omic Sans MS"/>
              </a:rPr>
              <a:t>в изуч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omic Sans MS"/>
              </a:rPr>
              <a:t>информати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j0236264"/>
          <p:cNvPicPr/>
          <p:nvPr/>
        </p:nvPicPr>
        <p:blipFill>
          <a:blip r:embed="rId1"/>
          <a:stretch/>
        </p:blipFill>
        <p:spPr>
          <a:xfrm>
            <a:off x="1908000" y="3933720"/>
            <a:ext cx="1872000" cy="18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2355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1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57160" y="571680"/>
            <a:ext cx="73440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Вариант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 I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Алгоритм - это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набор команд для компьютер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протокол вычислительной сет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предписание исполнителю совершить последовательность действ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правила выполнения определенных действий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Вариант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 II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Алгоритм называется линейным, если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составлен так, что предполагается многократное повторение одних и тех же дейст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ход выполнения зависит от истинности тех или иных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команды выполняются в порядке следования друг за другом независимо от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он представлен в табличной форм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22845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2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8440" y="571320"/>
            <a:ext cx="75610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Вариант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 I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Алгоритм включает в себя ветвление, если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составлен так, что его выполнение предполагает многократное повторение одних и тех же действий;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ход его выполнения зависит от истинности тех или иных условий;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команды следуют друг за другом независимо от каких-либо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он включает в себя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Вместо многоточия вставьте подходящий ответ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От идеального исполнителя не требуется…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соблюдать последовательность дейст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умения точно выполнять команды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формально выполнять команды алгоритм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понимать смысл алгоритм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213984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3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7160" y="499680"/>
            <a:ext cx="7561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Алгоритм называется разветвленным, если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команды выполняются в порядке следования друг за другом независимо от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ход выполнения зависит от истинности тех или иных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он представлен в табличной форме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составлен так, что предполагается многократное повторение одних и тех же дейст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Под алгоритмом понимаю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протокол вычислительной сет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набор команд для компьютер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совершение исполнителем последовательности действ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правила выполнения определенных действий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9720" y="142920"/>
            <a:ext cx="221292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4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8440" y="642960"/>
            <a:ext cx="756108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риант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I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Свойством любого алгоритма являетс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цикличность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возможность его выполнения в обратном порядк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простота при записи на языках программирован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результативность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риант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II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В разветвляющемся алгоритме не должен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рисутствовать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блок услов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блок действ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блок цикл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блок ввода/вывод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235584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5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052280"/>
            <a:ext cx="7561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следовательность действий в графическом способе описания алгоритма указывается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словами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стрелками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знаком присваи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) специальными геометрическими фигурам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В графическом представлении блок проверки условия обозначается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прямоугольник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параллелограмм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ромб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) шестиугольник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) овало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2068560" cy="3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6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1720" y="500040"/>
            <a:ext cx="76327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ля линейного алгоритма не нужен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блок действ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блок ввода/вывод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блок начала/конца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блок усло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Свойством любого алгоритма являетс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зависимость от услов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массовост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простота при записи на языках программирован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возможность его выполнения в обратном порядк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4084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заимопроверка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5761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ury Gothic"/>
              </a:rPr>
              <a:t>Обменяйтесь работам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ury Gothic"/>
              </a:rPr>
              <a:t>Сверьте работу своего товарища с ответам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ury Gothic"/>
              </a:rPr>
              <a:t>За правильный ответ поставьте  «+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ury Gothic"/>
              </a:rPr>
              <a:t>За неправильный ответ  - «-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тветы к проверочной работ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58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ариант    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1)  в                    1) 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2)  б                    2) г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3)  б                    3) 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4)   г                    4) 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5)   б                   5) 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6)   г                    6) 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708360" y="1700280"/>
            <a:ext cx="0" cy="4392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5:56:15Z</dcterms:created>
  <dc:creator>KOTENOK</dc:creator>
  <dc:description/>
  <cp:keywords/>
  <dc:language>en-US</dc:language>
  <cp:lastModifiedBy>Антон</cp:lastModifiedBy>
  <dcterms:modified xsi:type="dcterms:W3CDTF">2009-02-20T19:39:14Z</dcterms:modified>
  <cp:revision>21</cp:revision>
  <dc:subject/>
  <dc:title>Проверочная работа 5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