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8CE4-B0C8-46CB-AA96-51E0F2D44C3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AC5F-C0C9-4007-A3AF-7473BC85D5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64E4-CE4C-44F7-89A9-9BDD6822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1323-D19F-421B-AEBA-DA481819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28A3-7B86-4F22-8430-4C287559C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54C-6744-4E2A-A94C-3B3FDDEB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51A2-DDA3-40AB-BC12-1435BCF9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DF78-922F-4E1D-AB9D-854CD9D7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63D5-122E-42CB-9592-811D93F4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3B51-9589-4657-AD66-E164C63D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F6585-7FDE-4442-9E4F-5CCDA585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D83CE-ABC8-41CD-B56B-78250A0A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A020-E033-4FAD-8057-EB1BBE05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7D59-A619-4710-BF12-ED16F6EA8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29AF-9F1E-4867-B672-D61928E7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3905-9B15-4C82-8F60-755E89A9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72C3E-3D72-48EB-8E58-3F4A6C74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74D8-9CA2-4F99-B4D4-A2F7D424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5676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44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7908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5676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8344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8B4-8993-4324-ACF8-E0627EF3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99DD-D1A4-434E-A18E-60D0A9B9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F74-A92A-4B86-B558-291B5EDB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4BC2-002F-4705-B91A-8C62FC96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79080" y="685440"/>
            <a:ext cx="7086600" cy="33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7774-D4B9-40ED-A6F2-C621D90C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0FF3-4D2D-40D2-87FF-7B37255EF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7332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665-B440-46FC-8D39-40A1757C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79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7332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7908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7AA-DEC0-4104-9E19-7BAF28C8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7413-7C74-4EDA-A0CA-D5B3CFBFEAC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5036-1ECA-4B97-A78C-B297FD5A6124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83628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Comic Sans MS"/>
              </a:rPr>
              <a:t>Проверочная работ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268000" y="198864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astellar"/>
              </a:rPr>
              <a:t>Алгоритмы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826920" y="3429000"/>
            <a:ext cx="58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Напишите свою фамилию, им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Поставьте номер вариа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Проставьте в столб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stellar"/>
              </a:rPr>
              <a:t>номера вопросов от 1 до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Критерии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entury Gothic"/>
              </a:rPr>
              <a:t>оценки</a:t>
            </a:r>
            <a:r>
              <a:rPr b="0" lang="ru-RU" sz="36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2205000"/>
            <a:ext cx="59770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0 ошибок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1 – 2 ошибк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99cc00"/>
                </a:solidFill>
                <a:latin typeface="Century Gothic"/>
              </a:rPr>
              <a:t>«4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3 ошибки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009999"/>
                </a:solidFill>
                <a:latin typeface="Century Gothic"/>
              </a:rPr>
              <a:t>«3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Century Gothic"/>
              </a:rPr>
              <a:t>4 – 6 ошибок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– оценка </a:t>
            </a:r>
            <a:r>
              <a:rPr b="1" lang="ru-RU" sz="3200" spc="-1" strike="noStrike">
                <a:solidFill>
                  <a:srgbClr val="000000"/>
                </a:solidFill>
                <a:latin typeface="Century Gothic"/>
              </a:rPr>
              <a:t>«2»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4"/>
          <p:cNvSpPr/>
          <p:nvPr/>
        </p:nvSpPr>
        <p:spPr>
          <a:xfrm>
            <a:off x="2195640" y="981000"/>
            <a:ext cx="5040360" cy="2521080"/>
          </a:xfrm>
          <a:custGeom>
            <a:avLst/>
            <a:gdLst>
              <a:gd name="textAreaLeft" fmla="*/ 992520 w 5040360"/>
              <a:gd name="textAreaRight" fmla="*/ 4047840 w 5040360"/>
              <a:gd name="textAreaTop" fmla="*/ 531720 h 2521080"/>
              <a:gd name="textAreaBottom" fmla="*/ 24105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17042"/>
                </a:moveTo>
                <a:arcTo wR="21600" hR="20153" stAng="7304956" swAng="-775679"/>
                <a:lnTo>
                  <a:pt x="4254" y="20652"/>
                </a:lnTo>
                <a:arcTo wR="21600" hR="20153" stAng="6529277" swAng="-2258554"/>
                <a:lnTo>
                  <a:pt x="17346" y="18794"/>
                </a:lnTo>
                <a:arcTo wR="21600" hR="20153" stAng="4270723" swAng="-775679"/>
                <a:lnTo>
                  <a:pt x="18900" y="9750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246421"/>
                <a:lnTo>
                  <a:pt x="14646" y="4236"/>
                </a:lnTo>
                <a:arcTo wR="21600" hR="20153" stAng="4741465" swAng="1317070"/>
                <a:lnTo>
                  <a:pt x="6954" y="2378"/>
                </a:lnTo>
                <a:arcTo wR="21600" hR="20153" stAng="6058535" swAng="1246421"/>
                <a:lnTo>
                  <a:pt x="2700" y="9750"/>
                </a:lnTo>
                <a:close/>
              </a:path>
              <a:path fill="none" w="21600" h="21600">
                <a:moveTo>
                  <a:pt x="6954" y="4236"/>
                </a:moveTo>
                <a:arcTo wR="21600" hR="20153" stAng="6058535" swAng="470742"/>
                <a:lnTo>
                  <a:pt x="6954" y="2378"/>
                </a:lnTo>
              </a:path>
              <a:path fill="none" w="21600" h="21600">
                <a:moveTo>
                  <a:pt x="14646" y="4236"/>
                </a:moveTo>
                <a:arcTo wR="21600" hR="20153" stAng="4741465" swAng="-470742"/>
                <a:lnTo>
                  <a:pt x="14646" y="2378"/>
                </a:lnTo>
              </a:path>
              <a:path fill="none" w="21600" h="21600">
                <a:moveTo>
                  <a:pt x="4254" y="18794"/>
                </a:moveTo>
                <a:lnTo>
                  <a:pt x="4254" y="3610"/>
                </a:lnTo>
              </a:path>
              <a:path fill="none" w="21600" h="21600">
                <a:moveTo>
                  <a:pt x="17346" y="18794"/>
                </a:moveTo>
                <a:lnTo>
                  <a:pt x="17346" y="3610"/>
                </a:lnTo>
              </a:path>
            </a:pathLst>
          </a:custGeom>
          <a:solidFill>
            <a:srgbClr val="ffff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mic Sans MS"/>
              </a:rPr>
              <a:t>Успех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mic Sans MS"/>
              </a:rPr>
              <a:t>в изучен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omic Sans MS"/>
              </a:rPr>
              <a:t>информатик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j0236264"/>
          <p:cNvPicPr/>
          <p:nvPr/>
        </p:nvPicPr>
        <p:blipFill>
          <a:blip r:embed="rId1"/>
          <a:stretch/>
        </p:blipFill>
        <p:spPr>
          <a:xfrm>
            <a:off x="1908000" y="3933720"/>
            <a:ext cx="1872000" cy="18003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2355840" cy="2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1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57160" y="571680"/>
            <a:ext cx="73440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I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лгоритм - это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набор команд для компьютер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протокол вычислительной се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предписание исполнителю совершить последовательность действ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равила выполнения определенных действи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-318960"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II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лгоритм называется линейным, если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составлен так, что предполагается многократное повторение одних и тех же дейст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ход выполнения зависит от истинности тех или иных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команды выполняются в порядке следования друг за другом независимо от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он представлен в табличной форме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0080" y="-360"/>
            <a:ext cx="228456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2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28440" y="571320"/>
            <a:ext cx="756108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 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Алгоритм включает в себя ветвление, если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составлен так, что его выполнение предполагает многократное повторение одних и тех же действий;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ход его выполнения зависит от истинности тех или иных условий;                                   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команды следуют друг за другом независимо от каких-либо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он включает в себя вспомогательный алгоритм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Century Gothic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место многоточия вставьте подходящий ответ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«От идеального исполнителя не требуется…»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соблюдать последовательность дейст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умения точно выполнять команды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формально выполнять команды алгоритм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онимать смысл алгоритм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2139840" cy="43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3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57160" y="499680"/>
            <a:ext cx="7561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Алгоритм называется разветвленным, если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команды выполняются в порядке следования друг за другом независимо от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ход выполнения зависит от истинности тех или иных усло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он представлен в табличной форме.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составлен так, что предполагается многократное повторение одних и тех же действий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Под алгоритмом понимают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протокол вычислительной сети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набор команд для компьютер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совершение исполнителем последовательности действий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правила выполнения определенных действий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9720" y="142920"/>
            <a:ext cx="221292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4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28440" y="642960"/>
            <a:ext cx="7561080" cy="56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риант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I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войством любого алгоритма являет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цикличн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возможность его выполнения в обратном порядк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простота при записи на языках программирован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результативность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Вариант </a:t>
            </a: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 разветвляющемся алгоритме не должен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рисутствовать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блок усло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блок дейст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блок цикл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блок ввода/вывод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1680" y="142920"/>
            <a:ext cx="2355840" cy="29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5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1280" y="1052280"/>
            <a:ext cx="75610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Последовательность действий в графическом способе описания алгоритма указывается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словам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стрелками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знаком присваи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) специальными геометрическими фигурами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 графическом представлении блок проверки условия обозначается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прямоугольник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параллелограмм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ромб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) шестиугольник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) овалом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2068560" cy="36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660066"/>
                </a:solidFill>
                <a:uFillTx/>
                <a:latin typeface="Century Gothic"/>
              </a:rPr>
              <a:t>Вопрос № 6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71720" y="500040"/>
            <a:ext cx="763272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Для линейного алгоритма не нужен …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блок дейст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блок ввода/вывода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блок начала/конца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блок усло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Вариант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I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войством любого алгоритма являетс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) зависимость от услов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) массовост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) простота при записи на языках программирования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) возможность его выполнения в обратном порядк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9440" y="685440"/>
            <a:ext cx="408456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Взаимопроверка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42560" y="2060280"/>
            <a:ext cx="576108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Обменяйтесь работам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Сверьте работу своего товарища с ответами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За правильный ответ поставьте  «+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Century Gothic"/>
              </a:rPr>
              <a:t>За неправильный ответ  - «-»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split dir="out" orient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"/>
                            </p:stCondLst>
                            <p:childTnLst>
                              <p:par>
                                <p:cTn id="3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entury Gothic"/>
              </a:rPr>
              <a:t>Ответы к проверочной работе.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58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вариант        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вариант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1)  в                    1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2)  б                    2) г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3)  б                    3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4)   г                    4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5)   б                   5) в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6)   г                    6) б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708360" y="1700280"/>
            <a:ext cx="0" cy="4392720"/>
          </a:xfrm>
          <a:prstGeom prst="line">
            <a:avLst/>
          </a:prstGeom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5:56:15Z</dcterms:created>
  <dc:creator>KOTENOK</dc:creator>
  <dc:description/>
  <cp:keywords/>
  <dc:language>en-US</dc:language>
  <cp:lastModifiedBy>Антон</cp:lastModifiedBy>
  <dcterms:modified xsi:type="dcterms:W3CDTF">2009-02-20T19:39:14Z</dcterms:modified>
  <cp:revision>21</cp:revision>
  <dc:subject/>
  <dc:title>Проверочная работа 5 клас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401049</vt:lpwstr>
  </property>
</Properties>
</file>