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907-E89E-465A-8874-34A03E98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904-1493-46F4-883D-A9532AAE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6E2-23BA-4CC2-A5CD-C223CE79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109-E4D5-4F3F-8F9F-33FBB811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A5E6-A5F8-4E63-880D-0F09BB25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26E-B6DE-4885-9BE3-BE27E45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4737-65C1-4109-A399-708F4996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9BCA-CB35-430A-8821-DDD54FCD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82A1-E7C0-4D54-9B90-AA5EE40B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D65A-2414-44F4-BF67-64BEDB46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B4F-3AFC-490D-B794-E921B145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0A1-4286-406C-98C2-45F53359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9D50-77F8-42B1-B484-8C74E29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66E8-9EF6-4C9B-B94D-1805B8E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288C-F31F-4ECF-8557-EF339282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E63B-58CA-4915-83E3-F65E0955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A7BF-E773-4FEA-9B9C-3A7A5317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932-BD9F-44E9-8428-ADEDB9BE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D0D-7003-4986-A1C5-53C45CCE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55C-0F42-4F41-998E-BC6AB47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1C1-BD1D-421E-B961-3C19FEF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77C6-547C-4C44-87AB-D044C88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2EE-01C5-479B-80B5-415C2A4B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3C0-EA40-4848-9C63-7883F4F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CB3-B7D1-4284-A834-7D8AADE99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229-CCC4-445D-AE92-DEA8447054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0440" y="312840"/>
            <a:ext cx="11142720" cy="24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политик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1953-1964 гг.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Picture 8" descr="Встреча Кеннеди и Хрущёва в Вене — Википедия"/>
          <p:cNvPicPr/>
          <p:nvPr/>
        </p:nvPicPr>
        <p:blipFill>
          <a:blip r:embed="rId1"/>
          <a:stretch/>
        </p:blipFill>
        <p:spPr>
          <a:xfrm>
            <a:off x="982800" y="2970360"/>
            <a:ext cx="4503600" cy="34956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8"/>
          <p:cNvSpPr/>
          <p:nvPr/>
        </p:nvSpPr>
        <p:spPr>
          <a:xfrm>
            <a:off x="6661080" y="4626000"/>
            <a:ext cx="4822920" cy="164628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Ярковская СО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ыбаев Тимур Котлыб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8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11" descr="C:\Users\Admin\Downloads\Без названия (8).jpg"/>
          <p:cNvPicPr/>
          <p:nvPr/>
        </p:nvPicPr>
        <p:blipFill>
          <a:blip r:embed="rId1"/>
          <a:stretch/>
        </p:blipFill>
        <p:spPr>
          <a:xfrm>
            <a:off x="522360" y="13827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449280" y="3125880"/>
            <a:ext cx="2967120" cy="1117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 Н. Хрущева и Дж. Кеннеди в В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449280" y="4978440"/>
            <a:ext cx="2967120" cy="441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линский криз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трелка вверх 13"/>
          <p:cNvSpPr/>
          <p:nvPr/>
        </p:nvSpPr>
        <p:spPr>
          <a:xfrm flipV="1">
            <a:off x="1681200" y="43671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2" descr="C:\Users\Admin\Downloads\images (6).jpg"/>
          <p:cNvPicPr/>
          <p:nvPr/>
        </p:nvPicPr>
        <p:blipFill>
          <a:blip r:embed="rId2"/>
          <a:stretch/>
        </p:blipFill>
        <p:spPr>
          <a:xfrm>
            <a:off x="3497400" y="1060560"/>
            <a:ext cx="4262400" cy="2386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C:\Users\Admin\Downloads\c812a074685bb30a59f3158781460edd.jpg"/>
          <p:cNvPicPr/>
          <p:nvPr/>
        </p:nvPicPr>
        <p:blipFill>
          <a:blip r:embed="rId3"/>
          <a:stretch/>
        </p:blipFill>
        <p:spPr>
          <a:xfrm>
            <a:off x="8379000" y="1060560"/>
            <a:ext cx="3578040" cy="238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Берлинский кризис 1961 г."/>
          <p:cNvPicPr/>
          <p:nvPr/>
        </p:nvPicPr>
        <p:blipFill>
          <a:blip r:embed="rId4"/>
          <a:stretch/>
        </p:blipFill>
        <p:spPr>
          <a:xfrm>
            <a:off x="6283440" y="1057320"/>
            <a:ext cx="3181320" cy="23893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7"/>
          <p:cNvSpPr/>
          <p:nvPr/>
        </p:nvSpPr>
        <p:spPr>
          <a:xfrm>
            <a:off x="3635280" y="3529080"/>
            <a:ext cx="832176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орода, Два мира, Две Евро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августа 1961 года – 9 ноября 1989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49280" y="6130800"/>
            <a:ext cx="29671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ая ст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трелка вверх 19"/>
          <p:cNvSpPr/>
          <p:nvPr/>
        </p:nvSpPr>
        <p:spPr>
          <a:xfrm flipV="1">
            <a:off x="1679400" y="5494320"/>
            <a:ext cx="50508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635280" y="4394160"/>
            <a:ext cx="8467920" cy="19918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ного ограждения общей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6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сотой в среднем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7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ждения из металлической сетки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6,5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ьного ограждения под электрическим напряжением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7,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ых рвов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5,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танковых укреплений на отдельных участк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жевых вышек и других пограничных сооруж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ы длиной 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 из острых шип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Как взрывали Царь-бомбу? | Читать статьи по истории РФ для школьников и  студентов"/>
          <p:cNvPicPr/>
          <p:nvPr/>
        </p:nvPicPr>
        <p:blipFill>
          <a:blip r:embed="rId1"/>
          <a:stretch/>
        </p:blipFill>
        <p:spPr>
          <a:xfrm>
            <a:off x="360360" y="1131840"/>
            <a:ext cx="4073400" cy="35211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60360" y="4756320"/>
            <a:ext cx="5108400" cy="1117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тябрь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СССР от моратория на ядерные испы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60360" y="5987880"/>
            <a:ext cx="5108400" cy="77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октября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водородной «Царь – бомб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1" descr="C:\Users\Admin\Downloads\Без названия (9).jpg"/>
          <p:cNvPicPr/>
          <p:nvPr/>
        </p:nvPicPr>
        <p:blipFill>
          <a:blip r:embed="rId2"/>
          <a:stretch/>
        </p:blipFill>
        <p:spPr>
          <a:xfrm>
            <a:off x="5564160" y="3019320"/>
            <a:ext cx="6475320" cy="363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Царь-бомба» – миг между прошлым и будущим - Официальный сайт Администрации  Санкт‑Петербурга"/>
          <p:cNvPicPr/>
          <p:nvPr/>
        </p:nvPicPr>
        <p:blipFill>
          <a:blip r:embed="rId3"/>
          <a:stretch/>
        </p:blipFill>
        <p:spPr>
          <a:xfrm>
            <a:off x="4616280" y="1131840"/>
            <a:ext cx="4729320" cy="304164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4" descr="C:\Users\Admin\Downloads\Без названия (10).jpg"/>
          <p:cNvPicPr/>
          <p:nvPr/>
        </p:nvPicPr>
        <p:blipFill>
          <a:blip r:embed="rId4"/>
          <a:stretch/>
        </p:blipFill>
        <p:spPr>
          <a:xfrm>
            <a:off x="9502920" y="1222200"/>
            <a:ext cx="2452680" cy="16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Карибский кризис 1962 года - Российская газета"/>
          <p:cNvPicPr/>
          <p:nvPr/>
        </p:nvPicPr>
        <p:blipFill>
          <a:blip r:embed="rId1"/>
          <a:stretch/>
        </p:blipFill>
        <p:spPr>
          <a:xfrm>
            <a:off x="297000" y="1139760"/>
            <a:ext cx="4295520" cy="2865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Как начинался Карибский кризис (Technet.cz, Чехия) | 07.10.2022, ИноСМИ"/>
          <p:cNvPicPr/>
          <p:nvPr/>
        </p:nvPicPr>
        <p:blipFill>
          <a:blip r:embed="rId2"/>
          <a:stretch/>
        </p:blipFill>
        <p:spPr>
          <a:xfrm>
            <a:off x="7354800" y="1209600"/>
            <a:ext cx="4479840" cy="2795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Карибский кризис предотвратили в Белграде"/>
          <p:cNvPicPr/>
          <p:nvPr/>
        </p:nvPicPr>
        <p:blipFill>
          <a:blip r:embed="rId3"/>
          <a:stretch/>
        </p:blipFill>
        <p:spPr>
          <a:xfrm>
            <a:off x="3697200" y="4103640"/>
            <a:ext cx="4525920" cy="2543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1"/>
          <p:cNvSpPr/>
          <p:nvPr/>
        </p:nvSpPr>
        <p:spPr>
          <a:xfrm>
            <a:off x="4770360" y="1646280"/>
            <a:ext cx="237960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ибский криз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425520" y="4322880"/>
            <a:ext cx="290520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ла ракет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р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8696160" y="4322880"/>
            <a:ext cx="290376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ла ракеты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мировая социалистическ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6" descr="Организация Варшавского договора была создана в противовес НАТО -  Парламентская газета"/>
          <p:cNvPicPr/>
          <p:nvPr/>
        </p:nvPicPr>
        <p:blipFill>
          <a:blip r:embed="rId1"/>
          <a:stretch/>
        </p:blipFill>
        <p:spPr>
          <a:xfrm>
            <a:off x="297000" y="1150920"/>
            <a:ext cx="5238720" cy="34671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343080" y="4894200"/>
            <a:ext cx="519264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й 195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аршавского договора (ОВ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5659560" y="1177920"/>
            <a:ext cx="6175080" cy="91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отношений с Югослав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5780160" y="2332080"/>
            <a:ext cx="605448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Х съезд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 личности Стал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Стрелка вверх 9"/>
          <p:cNvSpPr/>
          <p:nvPr/>
        </p:nvSpPr>
        <p:spPr>
          <a:xfrm flipV="1">
            <a:off x="6697800" y="305604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780160" y="3728880"/>
            <a:ext cx="259560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стовки в Поль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трелка вверх 11"/>
          <p:cNvSpPr/>
          <p:nvPr/>
        </p:nvSpPr>
        <p:spPr>
          <a:xfrm flipV="1">
            <a:off x="10296360" y="3077280"/>
            <a:ext cx="505080" cy="505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9250200" y="3711600"/>
            <a:ext cx="259560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и в Венг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трелка вверх 13"/>
          <p:cNvSpPr/>
          <p:nvPr/>
        </p:nvSpPr>
        <p:spPr>
          <a:xfrm flipV="1">
            <a:off x="8555040" y="3078000"/>
            <a:ext cx="504720" cy="227808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6066000" y="5484960"/>
            <a:ext cx="5700600" cy="104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1957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удшение отношений с Кит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6"/>
          <p:cNvSpPr/>
          <p:nvPr/>
        </p:nvSpPr>
        <p:spPr>
          <a:xfrm>
            <a:off x="297000" y="109440"/>
            <a:ext cx="11537640" cy="11764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 колониальной систем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третьего ми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343080" y="1427040"/>
            <a:ext cx="517032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– 196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 стр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7" descr="Неру, Джавахарлал — Википедия"/>
          <p:cNvPicPr/>
          <p:nvPr/>
        </p:nvPicPr>
        <p:blipFill>
          <a:blip r:embed="rId1"/>
          <a:stretch/>
        </p:blipFill>
        <p:spPr>
          <a:xfrm>
            <a:off x="343080" y="3009960"/>
            <a:ext cx="1498320" cy="21524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297000" y="5316480"/>
            <a:ext cx="16300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Не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0" descr="C:\Users\Admin\Downloads\Без названия (11).jpg"/>
          <p:cNvPicPr/>
          <p:nvPr/>
        </p:nvPicPr>
        <p:blipFill>
          <a:blip r:embed="rId2"/>
          <a:stretch/>
        </p:blipFill>
        <p:spPr>
          <a:xfrm>
            <a:off x="2152800" y="3009960"/>
            <a:ext cx="1612800" cy="2152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>
            <a:off x="2136600" y="5316480"/>
            <a:ext cx="162900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и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2" descr="Герой Советского Союза Насер Гамаль Абдель :: Герои страны"/>
          <p:cNvPicPr/>
          <p:nvPr/>
        </p:nvPicPr>
        <p:blipFill>
          <a:blip r:embed="rId3"/>
          <a:stretch/>
        </p:blipFill>
        <p:spPr>
          <a:xfrm>
            <a:off x="4103640" y="3009960"/>
            <a:ext cx="1409760" cy="2162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4"/>
          <p:cNvSpPr/>
          <p:nvPr/>
        </p:nvSpPr>
        <p:spPr>
          <a:xfrm>
            <a:off x="3994200" y="5302080"/>
            <a:ext cx="163044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4" descr="Флаг Индии 90х135 см, шелк ◇ Оптовое производство флагов ▷ Печать на ткани  ▫ Акции ▫ Заказать ☏ Срочно ☆ в СПб"/>
          <p:cNvPicPr/>
          <p:nvPr/>
        </p:nvPicPr>
        <p:blipFill>
          <a:blip r:embed="rId4"/>
          <a:stretch/>
        </p:blipFill>
        <p:spPr>
          <a:xfrm>
            <a:off x="465120" y="5927760"/>
            <a:ext cx="1293840" cy="860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Югославия"/>
          <p:cNvPicPr/>
          <p:nvPr/>
        </p:nvPicPr>
        <p:blipFill>
          <a:blip r:embed="rId5"/>
          <a:stretch/>
        </p:blipFill>
        <p:spPr>
          <a:xfrm>
            <a:off x="2193840" y="5927760"/>
            <a:ext cx="151452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Флаг Египта — Википедия"/>
          <p:cNvPicPr/>
          <p:nvPr/>
        </p:nvPicPr>
        <p:blipFill>
          <a:blip r:embed="rId6"/>
          <a:stretch/>
        </p:blipFill>
        <p:spPr>
          <a:xfrm>
            <a:off x="4138560" y="5927760"/>
            <a:ext cx="1339920" cy="8478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8"/>
          <p:cNvSpPr/>
          <p:nvPr/>
        </p:nvSpPr>
        <p:spPr>
          <a:xfrm>
            <a:off x="5780160" y="1494000"/>
            <a:ext cx="371772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г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Хрущев, Н. Булга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6008760" y="3009960"/>
            <a:ext cx="21430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9369360" y="3009960"/>
            <a:ext cx="21448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гани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0275840" y="1677960"/>
            <a:ext cx="171756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Прямая со стрелкой 22"/>
          <p:cNvCxnSpPr/>
          <p:nvPr/>
        </p:nvCxnSpPr>
        <p:spPr>
          <a:xfrm>
            <a:off x="9592920" y="1931760"/>
            <a:ext cx="615240" cy="108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88" name="Прямая со стрелкой 27"/>
          <p:cNvCxnSpPr/>
          <p:nvPr/>
        </p:nvCxnSpPr>
        <p:spPr>
          <a:xfrm>
            <a:off x="8755200" y="2481120"/>
            <a:ext cx="614880" cy="4788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89" name="Прямая со стрелкой 29"/>
          <p:cNvCxnSpPr/>
          <p:nvPr/>
        </p:nvCxnSpPr>
        <p:spPr>
          <a:xfrm>
            <a:off x="7079760" y="2481120"/>
            <a:ext cx="1080" cy="4788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sp>
        <p:nvSpPr>
          <p:cNvPr id="290" name="TextBox 32"/>
          <p:cNvSpPr/>
          <p:nvPr/>
        </p:nvSpPr>
        <p:spPr>
          <a:xfrm>
            <a:off x="5684760" y="3693960"/>
            <a:ext cx="637560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7 - 1964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оры с лидерами бол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: льготные кредиты, поставка вооружения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3"/>
          <p:cNvSpPr/>
          <p:nvPr/>
        </p:nvSpPr>
        <p:spPr>
          <a:xfrm>
            <a:off x="5751360" y="5927760"/>
            <a:ext cx="6309000" cy="77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свободного и независим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2400" y="3390480"/>
            <a:ext cx="1126620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аботаем с источником» (письменно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3" name="Picture 5" descr="C:\Users\Admin\Downloads\ек4.png"/>
          <p:cNvPicPr/>
          <p:nvPr/>
        </p:nvPicPr>
        <p:blipFill>
          <a:blip r:embed="rId1"/>
          <a:stretch/>
        </p:blipFill>
        <p:spPr>
          <a:xfrm>
            <a:off x="2163600" y="220680"/>
            <a:ext cx="857268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C:\Users\Admin\Downloads\ы3.jpg"/>
          <p:cNvPicPr/>
          <p:nvPr/>
        </p:nvPicPr>
        <p:blipFill>
          <a:blip r:embed="rId1"/>
          <a:stretch/>
        </p:blipFill>
        <p:spPr>
          <a:xfrm>
            <a:off x="4657680" y="3543480"/>
            <a:ext cx="672804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Молотов, Вячеслав Михайлович - ПЕРСОНА ТАСС"/>
          <p:cNvPicPr/>
          <p:nvPr/>
        </p:nvPicPr>
        <p:blipFill>
          <a:blip r:embed="rId2"/>
          <a:stretch/>
        </p:blipFill>
        <p:spPr>
          <a:xfrm>
            <a:off x="934920" y="268200"/>
            <a:ext cx="1920960" cy="2562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500040" y="2916360"/>
            <a:ext cx="273060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тов В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вверх 8"/>
          <p:cNvSpPr/>
          <p:nvPr/>
        </p:nvSpPr>
        <p:spPr>
          <a:xfrm flipV="1">
            <a:off x="1643040" y="36021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276120" y="4208400"/>
            <a:ext cx="4000680" cy="15220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перерыва в холод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" descr="Герой Социалистического Труда Маленков Георгий Максимилианович :: Герои  страны"/>
          <p:cNvPicPr/>
          <p:nvPr/>
        </p:nvPicPr>
        <p:blipFill>
          <a:blip r:embed="rId3"/>
          <a:stretch/>
        </p:blipFill>
        <p:spPr>
          <a:xfrm>
            <a:off x="3957480" y="268200"/>
            <a:ext cx="1865520" cy="2562480"/>
          </a:xfrm>
          <a:prstGeom prst="rect">
            <a:avLst/>
          </a:prstGeom>
          <a:ln w="0">
            <a:noFill/>
          </a:ln>
        </p:spPr>
      </p:pic>
      <p:sp>
        <p:nvSpPr>
          <p:cNvPr id="133" name="Стрелка вправо 11"/>
          <p:cNvSpPr/>
          <p:nvPr/>
        </p:nvSpPr>
        <p:spPr>
          <a:xfrm>
            <a:off x="6016680" y="140652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24400" y="2917800"/>
            <a:ext cx="273024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енков Г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6607080" y="150840"/>
            <a:ext cx="5348520" cy="34830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ожение в мир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 пользу ССС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Мирное сосуществование государств с различным социальным стро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арте 1954 г. Маленков заявил,  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допустимости мировых конфлик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условиях существова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ядерного оруж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советской дипломати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допущ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ооруженных конфли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.С. Хруще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делял его пози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96920" y="5824440"/>
            <a:ext cx="4079880" cy="9147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будет отказа США от конфронтации с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Атомный турнир сверхдержав: о нюансах ядерной гонки СССР и США"/>
          <p:cNvPicPr/>
          <p:nvPr/>
        </p:nvPicPr>
        <p:blipFill>
          <a:blip r:embed="rId1"/>
          <a:stretch/>
        </p:blipFill>
        <p:spPr>
          <a:xfrm>
            <a:off x="382680" y="1162080"/>
            <a:ext cx="3360600" cy="188892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11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6" descr="C:\Users\Admin\Downloads\hqdefault.jpg"/>
          <p:cNvPicPr/>
          <p:nvPr/>
        </p:nvPicPr>
        <p:blipFill>
          <a:blip r:embed="rId2"/>
          <a:stretch/>
        </p:blipFill>
        <p:spPr>
          <a:xfrm>
            <a:off x="3870360" y="1166760"/>
            <a:ext cx="3340080" cy="18842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9" descr="C:\Users\Admin\Downloads\duajt-ejzenhauer.jpg"/>
          <p:cNvPicPr/>
          <p:nvPr/>
        </p:nvPicPr>
        <p:blipFill>
          <a:blip r:embed="rId3"/>
          <a:stretch/>
        </p:blipFill>
        <p:spPr>
          <a:xfrm>
            <a:off x="3368520" y="3151080"/>
            <a:ext cx="2473560" cy="3222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155520" y="3409920"/>
            <a:ext cx="3116160" cy="2940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айт Дэвид Эйзенхауэр - 34-й президент США от Республиканской партии. Генерал армии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итан Амер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0" descr="C:\Users\Admin\Downloads\9b0b64e73d7d.jpg"/>
          <p:cNvPicPr/>
          <p:nvPr/>
        </p:nvPicPr>
        <p:blipFill>
          <a:blip r:embed="rId4"/>
          <a:stretch/>
        </p:blipFill>
        <p:spPr>
          <a:xfrm>
            <a:off x="5140440" y="5805360"/>
            <a:ext cx="701640" cy="568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9"/>
          <p:cNvSpPr/>
          <p:nvPr/>
        </p:nvSpPr>
        <p:spPr>
          <a:xfrm>
            <a:off x="7945560" y="1166760"/>
            <a:ext cx="3406680" cy="1522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зможно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ы в Корейск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969160" y="315108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взаимоотношение с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пони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мещение ядерного оруж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5969160" y="419904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е военные баз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л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р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5969160" y="521172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е переворот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ра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атем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969160" y="6245280"/>
            <a:ext cx="6048360" cy="509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ывная деятельность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9" descr="C:\Users\Admin\Downloads\Flag_i_gerb_Avstrii-flag_Avstriiskoy_respubliki.jpg"/>
          <p:cNvPicPr/>
          <p:nvPr/>
        </p:nvPicPr>
        <p:blipFill>
          <a:blip r:embed="rId1"/>
          <a:stretch/>
        </p:blipFill>
        <p:spPr>
          <a:xfrm>
            <a:off x="409680" y="1144440"/>
            <a:ext cx="2936880" cy="1976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932040" y="3222720"/>
            <a:ext cx="1892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ст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3683160" y="1197000"/>
            <a:ext cx="815148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– советско-австрийские переговоры (Моск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3605040" y="2558880"/>
            <a:ext cx="2460960" cy="13201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 постоянного нейтр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969240" y="2909880"/>
            <a:ext cx="140652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9374040" y="2706840"/>
            <a:ext cx="246060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войск с ее терри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Умножение 2"/>
          <p:cNvSpPr/>
          <p:nvPr/>
        </p:nvSpPr>
        <p:spPr>
          <a:xfrm>
            <a:off x="6800760" y="2868480"/>
            <a:ext cx="1743120" cy="595440"/>
          </a:xfrm>
          <a:custGeom>
            <a:avLst/>
            <a:gdLst/>
            <a:ahLst/>
            <a:rect l="l" t="t" r="r" b="b"/>
            <a:pathLst>
              <a:path w="1743075" h="595312">
                <a:moveTo>
                  <a:pt x="396016" y="209230"/>
                </a:moveTo>
                <a:lnTo>
                  <a:pt x="441270" y="76728"/>
                </a:lnTo>
                <a:lnTo>
                  <a:pt x="871538" y="223677"/>
                </a:lnTo>
                <a:lnTo>
                  <a:pt x="1301805" y="76728"/>
                </a:lnTo>
                <a:lnTo>
                  <a:pt x="1347059" y="209230"/>
                </a:lnTo>
                <a:lnTo>
                  <a:pt x="1088148" y="297656"/>
                </a:lnTo>
                <a:lnTo>
                  <a:pt x="1347059" y="386082"/>
                </a:lnTo>
                <a:lnTo>
                  <a:pt x="1301805" y="518584"/>
                </a:lnTo>
                <a:lnTo>
                  <a:pt x="871538" y="371635"/>
                </a:lnTo>
                <a:lnTo>
                  <a:pt x="441270" y="518584"/>
                </a:lnTo>
                <a:lnTo>
                  <a:pt x="396016" y="386082"/>
                </a:lnTo>
                <a:lnTo>
                  <a:pt x="654927" y="297656"/>
                </a:lnTo>
                <a:lnTo>
                  <a:pt x="396016" y="209230"/>
                </a:lnTo>
                <a:close/>
              </a:path>
            </a:pathLst>
          </a:custGeom>
          <a:solidFill>
            <a:srgbClr val="ff0000">
              <a:alpha val="38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трелка вверх 18"/>
          <p:cNvSpPr/>
          <p:nvPr/>
        </p:nvSpPr>
        <p:spPr>
          <a:xfrm flipV="1">
            <a:off x="4583160" y="18795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право 19"/>
          <p:cNvSpPr/>
          <p:nvPr/>
        </p:nvSpPr>
        <p:spPr>
          <a:xfrm>
            <a:off x="8691480" y="2878200"/>
            <a:ext cx="4748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трелка вправо 20"/>
          <p:cNvSpPr/>
          <p:nvPr/>
        </p:nvSpPr>
        <p:spPr>
          <a:xfrm>
            <a:off x="6326280" y="2909880"/>
            <a:ext cx="4744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0" descr="C:\Users\Admin\Downloads\images.png"/>
          <p:cNvPicPr/>
          <p:nvPr/>
        </p:nvPicPr>
        <p:blipFill>
          <a:blip r:embed="rId2"/>
          <a:stretch/>
        </p:blipFill>
        <p:spPr>
          <a:xfrm>
            <a:off x="534960" y="3986280"/>
            <a:ext cx="2811600" cy="187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2"/>
          <p:cNvSpPr/>
          <p:nvPr/>
        </p:nvSpPr>
        <p:spPr>
          <a:xfrm>
            <a:off x="932040" y="5997600"/>
            <a:ext cx="1892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1" descr="C:\Users\Admin\Downloads\10f544ab52bbbc893a968795e76f5862-800x.jpg"/>
          <p:cNvPicPr/>
          <p:nvPr/>
        </p:nvPicPr>
        <p:blipFill>
          <a:blip r:embed="rId3"/>
          <a:stretch/>
        </p:blipFill>
        <p:spPr>
          <a:xfrm>
            <a:off x="6078600" y="3994200"/>
            <a:ext cx="2819160" cy="1863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6541920" y="6006960"/>
            <a:ext cx="18925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3476520" y="4849920"/>
            <a:ext cx="2449440" cy="172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рекращение состояния во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9115560" y="4802040"/>
            <a:ext cx="2832120" cy="172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восстановление дипломатических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трелка вправо 28"/>
          <p:cNvSpPr/>
          <p:nvPr/>
        </p:nvSpPr>
        <p:spPr>
          <a:xfrm>
            <a:off x="2892600" y="6006960"/>
            <a:ext cx="4759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право 29"/>
          <p:cNvSpPr/>
          <p:nvPr/>
        </p:nvSpPr>
        <p:spPr>
          <a:xfrm>
            <a:off x="8543880" y="605484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365040" y="1349280"/>
            <a:ext cx="29671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Х съезд КП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трелка вверх 9"/>
          <p:cNvSpPr/>
          <p:nvPr/>
        </p:nvSpPr>
        <p:spPr>
          <a:xfrm flipV="1">
            <a:off x="1595520" y="209232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60440" y="2797200"/>
            <a:ext cx="2967120" cy="131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ронтация с Западом не фактор угрозы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5219640" y="1349280"/>
            <a:ext cx="19638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9137520" y="1195560"/>
            <a:ext cx="269712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коллективной безопасности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роп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9232920" y="3549600"/>
            <a:ext cx="269712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коллективной безопасности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з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9326520" y="5892840"/>
            <a:ext cx="26989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о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Прямая со стрелкой 4"/>
          <p:cNvCxnSpPr>
            <a:stCxn id="176" idx="2"/>
            <a:endCxn id="177" idx="1"/>
          </p:cNvCxnSpPr>
          <p:nvPr/>
        </p:nvCxnSpPr>
        <p:spPr>
          <a:xfrm>
            <a:off x="6200640" y="1928520"/>
            <a:ext cx="2937600" cy="3402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181" name="Прямая со стрелкой 17"/>
          <p:cNvCxnSpPr>
            <a:endCxn id="179" idx="1"/>
          </p:cNvCxnSpPr>
          <p:nvPr/>
        </p:nvCxnSpPr>
        <p:spPr>
          <a:xfrm>
            <a:off x="6200280" y="1937880"/>
            <a:ext cx="3126600" cy="42109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182" name="Прямая со стрелкой 18"/>
          <p:cNvCxnSpPr>
            <a:endCxn id="178" idx="1"/>
          </p:cNvCxnSpPr>
          <p:nvPr/>
        </p:nvCxnSpPr>
        <p:spPr>
          <a:xfrm>
            <a:off x="6194520" y="1944360"/>
            <a:ext cx="3039120" cy="26787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sp>
        <p:nvSpPr>
          <p:cNvPr id="183" name="TextBox 21"/>
          <p:cNvSpPr/>
          <p:nvPr/>
        </p:nvSpPr>
        <p:spPr>
          <a:xfrm>
            <a:off x="297000" y="4417920"/>
            <a:ext cx="5232240" cy="2130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рного сосуществ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евнования двух сист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отвращение вой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центральной частью советской внешне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7" descr="C:\Users\Admin\Downloads\1583010435_hrushev6.jpg"/>
          <p:cNvPicPr/>
          <p:nvPr/>
        </p:nvPicPr>
        <p:blipFill>
          <a:blip r:embed="rId1"/>
          <a:stretch/>
        </p:blipFill>
        <p:spPr>
          <a:xfrm>
            <a:off x="3855960" y="2122560"/>
            <a:ext cx="1673280" cy="21016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3"/>
          <p:cNvSpPr/>
          <p:nvPr/>
        </p:nvSpPr>
        <p:spPr>
          <a:xfrm>
            <a:off x="5684760" y="4419720"/>
            <a:ext cx="2243160" cy="213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говор имеет силу, если он подкреплен пушк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Прямая со стрелкой 24"/>
          <p:cNvCxnSpPr>
            <a:endCxn id="185" idx="0"/>
          </p:cNvCxnSpPr>
          <p:nvPr/>
        </p:nvCxnSpPr>
        <p:spPr>
          <a:xfrm>
            <a:off x="5528880" y="3120840"/>
            <a:ext cx="1276560" cy="1299240"/>
          </a:xfrm>
          <a:prstGeom prst="straightConnector1">
            <a:avLst/>
          </a:prstGeom>
          <a:ln w="54000">
            <a:solidFill>
              <a:srgbClr val="0000ff"/>
            </a:solidFill>
            <a:miter/>
            <a:headEnd len="med" type="oval" w="med"/>
            <a:tailEnd len="med" type="arrow" w="med"/>
          </a:ln>
        </p:spPr>
      </p:cxn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C:\Users\Admin\Downloads\Без имени.png"/>
          <p:cNvPicPr/>
          <p:nvPr/>
        </p:nvPicPr>
        <p:blipFill>
          <a:blip r:embed="rId1"/>
          <a:stretch/>
        </p:blipFill>
        <p:spPr>
          <a:xfrm>
            <a:off x="7281720" y="1569960"/>
            <a:ext cx="4552920" cy="4184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65040" y="1349280"/>
            <a:ext cx="2967120" cy="104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доктрина 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17520" y="3224160"/>
            <a:ext cx="296712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массового применения вой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365040" y="4937040"/>
            <a:ext cx="2967120" cy="13201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кетно-ядерного противостоя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Стрелка вверх 9"/>
          <p:cNvSpPr/>
          <p:nvPr/>
        </p:nvSpPr>
        <p:spPr>
          <a:xfrm flipV="1">
            <a:off x="1535040" y="4287960"/>
            <a:ext cx="504720" cy="503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трелка вверх 10"/>
          <p:cNvSpPr/>
          <p:nvPr/>
        </p:nvSpPr>
        <p:spPr>
          <a:xfrm flipV="1">
            <a:off x="1535040" y="253692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3441600" y="1165320"/>
            <a:ext cx="364824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ая в мир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континенталь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истическая рак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Первая в мире межконтинентальная баллистическая ракета | ВКонтакте"/>
          <p:cNvPicPr/>
          <p:nvPr/>
        </p:nvPicPr>
        <p:blipFill>
          <a:blip r:embed="rId2"/>
          <a:stretch/>
        </p:blipFill>
        <p:spPr>
          <a:xfrm>
            <a:off x="3502080" y="3041640"/>
            <a:ext cx="3529080" cy="1996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3502080" y="5224320"/>
            <a:ext cx="360684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территор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алось уязвим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6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C:\Users\Admin\Downloads\25124.0x400.jpg"/>
          <p:cNvPicPr/>
          <p:nvPr/>
        </p:nvPicPr>
        <p:blipFill>
          <a:blip r:embed="rId1"/>
          <a:stretch/>
        </p:blipFill>
        <p:spPr>
          <a:xfrm>
            <a:off x="490680" y="1467000"/>
            <a:ext cx="228888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Users\Admin\Downloads\b7ef98b8d40916376766cf81f28afac9.jpg"/>
          <p:cNvPicPr/>
          <p:nvPr/>
        </p:nvPicPr>
        <p:blipFill>
          <a:blip r:embed="rId2"/>
          <a:stretch/>
        </p:blipFill>
        <p:spPr>
          <a:xfrm>
            <a:off x="490680" y="3247920"/>
            <a:ext cx="22888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Admin\Downloads\Flag_of_Israel.svg.png"/>
          <p:cNvPicPr/>
          <p:nvPr/>
        </p:nvPicPr>
        <p:blipFill>
          <a:blip r:embed="rId3"/>
          <a:stretch/>
        </p:blipFill>
        <p:spPr>
          <a:xfrm>
            <a:off x="465120" y="4883040"/>
            <a:ext cx="2314440" cy="13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Admin\Downloads\bandiera_egitto.jpg"/>
          <p:cNvPicPr/>
          <p:nvPr/>
        </p:nvPicPr>
        <p:blipFill>
          <a:blip r:embed="rId4"/>
          <a:stretch/>
        </p:blipFill>
        <p:spPr>
          <a:xfrm>
            <a:off x="8475840" y="1176480"/>
            <a:ext cx="3139920" cy="19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C:\Users\Admin\Downloads\12511.970.png"/>
          <p:cNvPicPr/>
          <p:nvPr/>
        </p:nvPicPr>
        <p:blipFill>
          <a:blip r:embed="rId5"/>
          <a:stretch/>
        </p:blipFill>
        <p:spPr>
          <a:xfrm>
            <a:off x="8475840" y="3438360"/>
            <a:ext cx="3139920" cy="1901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C:\Users\Admin\Downloads\images (5).jpg"/>
          <p:cNvPicPr/>
          <p:nvPr/>
        </p:nvPicPr>
        <p:blipFill>
          <a:blip r:embed="rId6"/>
          <a:stretch/>
        </p:blipFill>
        <p:spPr>
          <a:xfrm>
            <a:off x="3929040" y="1814400"/>
            <a:ext cx="3373560" cy="3751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4"/>
          <p:cNvSpPr/>
          <p:nvPr/>
        </p:nvSpPr>
        <p:spPr>
          <a:xfrm>
            <a:off x="3338640" y="1181160"/>
            <a:ext cx="45543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эцкий кризис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3338640" y="5668920"/>
            <a:ext cx="4381200" cy="10155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а Великобритании, Франции, Израил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глись в Егип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вет на национализацию Суэцкого ка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8475840" y="5565600"/>
            <a:ext cx="313992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с помощью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дерного аргумен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3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4" descr="Случайность на высшем уровне – Коммерсантъ"/>
          <p:cNvPicPr/>
          <p:nvPr/>
        </p:nvPicPr>
        <p:blipFill>
          <a:blip r:embed="rId1"/>
          <a:stretch/>
        </p:blipFill>
        <p:spPr>
          <a:xfrm>
            <a:off x="7707240" y="1204920"/>
            <a:ext cx="4127400" cy="231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Визит Хрущёва в США — Википедия"/>
          <p:cNvPicPr/>
          <p:nvPr/>
        </p:nvPicPr>
        <p:blipFill>
          <a:blip r:embed="rId2"/>
          <a:stretch/>
        </p:blipFill>
        <p:spPr>
          <a:xfrm>
            <a:off x="515880" y="1209600"/>
            <a:ext cx="2847960" cy="23148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455760" y="3705120"/>
            <a:ext cx="2966760" cy="13201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9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т Н. Хрущева в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7707240" y="3684600"/>
            <a:ext cx="4127400" cy="131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0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т Д. Эйзенхауэра в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3718080" y="3684600"/>
            <a:ext cx="3795480" cy="131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ее разоружение и отказ от ядерных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8" descr="Его звали Никита – Мир – Коммерсантъ"/>
          <p:cNvPicPr/>
          <p:nvPr/>
        </p:nvPicPr>
        <p:blipFill>
          <a:blip r:embed="rId3"/>
          <a:stretch/>
        </p:blipFill>
        <p:spPr>
          <a:xfrm>
            <a:off x="3621240" y="1387440"/>
            <a:ext cx="3892320" cy="1954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0"/>
          <p:cNvSpPr/>
          <p:nvPr/>
        </p:nvSpPr>
        <p:spPr>
          <a:xfrm>
            <a:off x="452520" y="5280120"/>
            <a:ext cx="3168720" cy="111744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с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порабощённых народ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4552920" y="5450040"/>
            <a:ext cx="128448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ал СС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2"/>
          <p:cNvSpPr/>
          <p:nvPr/>
        </p:nvSpPr>
        <p:spPr>
          <a:xfrm>
            <a:off x="6683400" y="5423040"/>
            <a:ext cx="227016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аботите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9729720" y="5280120"/>
            <a:ext cx="2104920" cy="111744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я порабощенных народ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трелка вправо 24"/>
          <p:cNvSpPr/>
          <p:nvPr/>
        </p:nvSpPr>
        <p:spPr>
          <a:xfrm>
            <a:off x="3832200" y="5599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трелка вправо 25"/>
          <p:cNvSpPr/>
          <p:nvPr/>
        </p:nvSpPr>
        <p:spPr>
          <a:xfrm>
            <a:off x="9056520" y="5572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трелка вправо 26"/>
          <p:cNvSpPr/>
          <p:nvPr/>
        </p:nvSpPr>
        <p:spPr>
          <a:xfrm>
            <a:off x="6033960" y="5599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11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Дело Пауэрса или как СССР посрамил США / Назад в СССР / Back in USSR"/>
          <p:cNvPicPr/>
          <p:nvPr/>
        </p:nvPicPr>
        <p:blipFill>
          <a:blip r:embed="rId1"/>
          <a:stretch/>
        </p:blipFill>
        <p:spPr>
          <a:xfrm>
            <a:off x="378000" y="1336680"/>
            <a:ext cx="4211640" cy="28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https://image2.thematicnews.com/uploads/images/00/00/41/2017/01/18/e6de4af7e0.jpg"/>
          <p:cNvPicPr/>
          <p:nvPr/>
        </p:nvPicPr>
        <p:blipFill>
          <a:blip r:embed="rId2"/>
          <a:stretch/>
        </p:blipFill>
        <p:spPr>
          <a:xfrm>
            <a:off x="4871880" y="1336680"/>
            <a:ext cx="3765600" cy="3114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5"/>
          <p:cNvSpPr/>
          <p:nvPr/>
        </p:nvSpPr>
        <p:spPr>
          <a:xfrm>
            <a:off x="5262480" y="4691160"/>
            <a:ext cx="3502080" cy="172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ая 1960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вердловском сбит американский самолет – шпион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</a:t>
            </a:r>
            <a:r>
              <a:rPr b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8877240" y="1308240"/>
            <a:ext cx="3122640" cy="4056120"/>
          </a:xfrm>
          <a:custGeom>
            <a:avLst/>
            <a:gdLst>
              <a:gd name="textAreaLeft" fmla="*/ 152280 w 3122640"/>
              <a:gd name="textAreaRight" fmla="*/ 2970360 w 3122640"/>
              <a:gd name="textAreaTop" fmla="*/ 152280 h 4056120"/>
              <a:gd name="textAreaBottom" fmla="*/ 3903840 h 4056120"/>
            </a:gdLst>
            <a:ahLst/>
            <a:rect l="textAreaLeft" t="textAreaTop" r="textAreaRight" b="textAreaBottom"/>
            <a:pathLst>
              <a:path w="21600" h="28056">
                <a:moveTo>
                  <a:pt x="3600" y="0"/>
                </a:moveTo>
                <a:arcTo wR="3600" hR="3600" stAng="16200000" swAng="-5400000"/>
                <a:lnTo>
                  <a:pt x="0" y="24456"/>
                </a:lnTo>
                <a:arcTo wR="3600" hR="3600" stAng="10800000" swAng="-5400000"/>
                <a:lnTo>
                  <a:pt x="18000" y="280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энсис Гэри Пауэр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 –не стал приносить извинений, а пообещал продолжить разведывательную деятельность против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9" descr="https://image2.thematicnews.com/uploads/images/00/00/41/2017/01/18/9d0ef2a9df.jpg"/>
          <p:cNvPicPr/>
          <p:nvPr/>
        </p:nvPicPr>
        <p:blipFill>
          <a:blip r:embed="rId3"/>
          <a:stretch/>
        </p:blipFill>
        <p:spPr>
          <a:xfrm>
            <a:off x="9435960" y="5559480"/>
            <a:ext cx="2176560" cy="111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https://image3.thematicnews.com/uploads/images/00/00/41/2017/01/18/0a37e72c74.jpg"/>
          <p:cNvPicPr/>
          <p:nvPr/>
        </p:nvPicPr>
        <p:blipFill>
          <a:blip r:embed="rId4"/>
          <a:stretch/>
        </p:blipFill>
        <p:spPr>
          <a:xfrm>
            <a:off x="885960" y="3573360"/>
            <a:ext cx="425448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8T04:36:09Z</dcterms:created>
  <dc:creator>Николай Богуш</dc:creator>
  <dc:description/>
  <dc:language>en-US</dc:language>
  <cp:lastModifiedBy>Admin</cp:lastModifiedBy>
  <dcterms:modified xsi:type="dcterms:W3CDTF">2024-01-08T15:41:22Z</dcterms:modified>
  <cp:revision>58</cp:revision>
  <dc:subject/>
  <dc:title>Культурное пространство СССР 1953-1964 гг.</dc:title>
</cp:coreProperties>
</file>