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9.jpeg" ContentType="image/jpeg"/>
  <Override PartName="/ppt/media/image48.png" ContentType="image/png"/>
  <Override PartName="/ppt/media/image3.jpeg" ContentType="image/jpeg"/>
  <Override PartName="/ppt/media/image37.jpeg" ContentType="image/jpeg"/>
  <Override PartName="/ppt/media/image34.jpeg" ContentType="image/jpeg"/>
  <Override PartName="/ppt/media/image28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6463-62B0-4A53-96A3-47032AF7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EBFD-1415-42B8-AC65-2D755DAA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B748-D318-4FE4-B66B-6B967409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4213-7D79-4DE6-9C69-A8D2950E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E8C9-E780-4B90-92EC-0BE579E4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4327-D54D-4D31-ABCF-6E522E29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C45C-ACD8-43F4-AE8A-8F7F39D6C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BBBA8-F82B-4011-8CEE-CF68B6F9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DF8A-2D71-4EF5-858C-70A807BA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D6A2-F74F-49BB-91D4-FBFC3ED6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B936-3E3A-49D1-B0EA-C238D8A3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BE9A-C928-4D44-B200-61BF5C38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0234E-42FF-4C92-85C7-95792C62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1DE3F-308D-464E-BFC7-BE24B940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A78A-D995-4DF5-B487-E39D9009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45527-25F1-4F92-A639-842D387F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47E7-EFB9-418F-B735-312AC9D9C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B254-E8A7-4F9C-8CEF-31D2CF86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FF3-ECDC-4D5F-8D04-30A552A8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0ED9-1723-48A9-BFAE-C51138C8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ABD-43F7-41EA-AD3E-F30B4A2A9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7A9E-1B51-4991-94DF-409F7906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7D3F-4CDE-408A-9DCC-016B9F26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95E4-9B7C-4B0E-B21D-52C03DC5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FD02E-D8CE-42D8-A550-0B61CCF430A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7BD5-50AA-4D97-BC58-881108DEAA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2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0440" y="312840"/>
            <a:ext cx="11142720" cy="2481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яя политика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 1953-1964 гг.</a:t>
            </a:r>
            <a:endParaRPr b="0" lang="en-US" sz="72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5" name="Picture 8" descr="Встреча Кеннеди и Хрущёва в Вене — Википедия"/>
          <p:cNvPicPr/>
          <p:nvPr/>
        </p:nvPicPr>
        <p:blipFill>
          <a:blip r:embed="rId1"/>
          <a:stretch/>
        </p:blipFill>
        <p:spPr>
          <a:xfrm>
            <a:off x="982800" y="2970360"/>
            <a:ext cx="4503600" cy="3495600"/>
          </a:xfrm>
          <a:prstGeom prst="rect">
            <a:avLst/>
          </a:prstGeom>
          <a:ln w="0">
            <a:noFill/>
          </a:ln>
        </p:spPr>
      </p:pic>
      <p:sp>
        <p:nvSpPr>
          <p:cNvPr id="126" name="Скругленный прямоугольник 8"/>
          <p:cNvSpPr/>
          <p:nvPr/>
        </p:nvSpPr>
        <p:spPr>
          <a:xfrm>
            <a:off x="6661080" y="4626000"/>
            <a:ext cx="4822920" cy="1646280"/>
          </a:xfrm>
          <a:prstGeom prst="roundRect">
            <a:avLst>
              <a:gd name="adj" fmla="val 16667"/>
            </a:avLst>
          </a:prstGeom>
          <a:solidFill>
            <a:srgbClr val="f4b183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Ярковская СОШ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лыбаев Тимур Котлыбаеви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Скругленный прямоугольник 8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10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11" descr="C:\Users\Admin\Downloads\Без названия (8).jpg"/>
          <p:cNvPicPr/>
          <p:nvPr/>
        </p:nvPicPr>
        <p:blipFill>
          <a:blip r:embed="rId1"/>
          <a:stretch/>
        </p:blipFill>
        <p:spPr>
          <a:xfrm>
            <a:off x="522360" y="1382760"/>
            <a:ext cx="2847960" cy="16002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1"/>
          <p:cNvSpPr/>
          <p:nvPr/>
        </p:nvSpPr>
        <p:spPr>
          <a:xfrm>
            <a:off x="449280" y="3125880"/>
            <a:ext cx="2967120" cy="1117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юнь 196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 Н. Хрущева и Дж. Кеннеди в Ве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449280" y="4978440"/>
            <a:ext cx="2967120" cy="441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линский кризи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Стрелка вверх 13"/>
          <p:cNvSpPr/>
          <p:nvPr/>
        </p:nvSpPr>
        <p:spPr>
          <a:xfrm flipV="1">
            <a:off x="1681200" y="436716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12" descr="C:\Users\Admin\Downloads\images (6).jpg"/>
          <p:cNvPicPr/>
          <p:nvPr/>
        </p:nvPicPr>
        <p:blipFill>
          <a:blip r:embed="rId2"/>
          <a:stretch/>
        </p:blipFill>
        <p:spPr>
          <a:xfrm>
            <a:off x="3497400" y="1060560"/>
            <a:ext cx="4262400" cy="23860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C:\Users\Admin\Downloads\c812a074685bb30a59f3158781460edd.jpg"/>
          <p:cNvPicPr/>
          <p:nvPr/>
        </p:nvPicPr>
        <p:blipFill>
          <a:blip r:embed="rId3"/>
          <a:stretch/>
        </p:blipFill>
        <p:spPr>
          <a:xfrm>
            <a:off x="8379000" y="1060560"/>
            <a:ext cx="3578040" cy="2386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Берлинский кризис 1961 г."/>
          <p:cNvPicPr/>
          <p:nvPr/>
        </p:nvPicPr>
        <p:blipFill>
          <a:blip r:embed="rId4"/>
          <a:stretch/>
        </p:blipFill>
        <p:spPr>
          <a:xfrm>
            <a:off x="6283440" y="1057320"/>
            <a:ext cx="3181320" cy="2389320"/>
          </a:xfrm>
          <a:prstGeom prst="rect">
            <a:avLst/>
          </a:prstGeom>
          <a:ln w="0">
            <a:noFill/>
          </a:ln>
        </p:spPr>
      </p:pic>
      <p:sp>
        <p:nvSpPr>
          <p:cNvPr id="240" name="TextBox 17"/>
          <p:cNvSpPr/>
          <p:nvPr/>
        </p:nvSpPr>
        <p:spPr>
          <a:xfrm>
            <a:off x="3635280" y="3529080"/>
            <a:ext cx="8321760" cy="77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города, Два мира, Две Европ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 августа 1961 года – 9 ноября 1989 год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18"/>
          <p:cNvSpPr/>
          <p:nvPr/>
        </p:nvSpPr>
        <p:spPr>
          <a:xfrm>
            <a:off x="449280" y="6130800"/>
            <a:ext cx="296712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рлинская сте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Стрелка вверх 19"/>
          <p:cNvSpPr/>
          <p:nvPr/>
        </p:nvSpPr>
        <p:spPr>
          <a:xfrm flipV="1">
            <a:off x="1679400" y="5494320"/>
            <a:ext cx="50508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21"/>
          <p:cNvSpPr/>
          <p:nvPr/>
        </p:nvSpPr>
        <p:spPr>
          <a:xfrm>
            <a:off x="3635280" y="4394160"/>
            <a:ext cx="8467920" cy="199188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тонного ограждения общей протяжённостью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6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высотой в среднем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,7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ра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ждения из металлической сетки протяжённостью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6,5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м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гнального ограждения под электрическим напряжением протяжённостью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7,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ных рвов протяжённостью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5,5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м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танковых укреплений на отдельных участках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2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рожевых вышек и других пограничных сооружени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сы длиной в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4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км из острых шип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Скругленный прямоугольник 4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6" descr="Как взрывали Царь-бомбу? | Читать статьи по истории РФ для школьников и  студентов"/>
          <p:cNvPicPr/>
          <p:nvPr/>
        </p:nvPicPr>
        <p:blipFill>
          <a:blip r:embed="rId1"/>
          <a:stretch/>
        </p:blipFill>
        <p:spPr>
          <a:xfrm>
            <a:off x="360360" y="1131840"/>
            <a:ext cx="4073400" cy="3521160"/>
          </a:xfrm>
          <a:prstGeom prst="rect">
            <a:avLst/>
          </a:prstGeom>
          <a:ln w="0">
            <a:noFill/>
          </a:ln>
        </p:spPr>
      </p:pic>
      <p:sp>
        <p:nvSpPr>
          <p:cNvPr id="246" name="TextBox 6"/>
          <p:cNvSpPr/>
          <p:nvPr/>
        </p:nvSpPr>
        <p:spPr>
          <a:xfrm>
            <a:off x="360360" y="4756320"/>
            <a:ext cx="5108400" cy="11174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ентябрь 196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СССР от моратория на ядерные испыт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7"/>
          <p:cNvSpPr/>
          <p:nvPr/>
        </p:nvSpPr>
        <p:spPr>
          <a:xfrm>
            <a:off x="360360" y="5987880"/>
            <a:ext cx="5108400" cy="77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 октября 1961 г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ытание водородной «Царь – бомб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11" descr="C:\Users\Admin\Downloads\Без названия (9).jpg"/>
          <p:cNvPicPr/>
          <p:nvPr/>
        </p:nvPicPr>
        <p:blipFill>
          <a:blip r:embed="rId2"/>
          <a:stretch/>
        </p:blipFill>
        <p:spPr>
          <a:xfrm>
            <a:off x="5564160" y="3019320"/>
            <a:ext cx="6475320" cy="3638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" descr="Царь-бомба» – миг между прошлым и будущим - Официальный сайт Администрации  Санкт‑Петербурга"/>
          <p:cNvPicPr/>
          <p:nvPr/>
        </p:nvPicPr>
        <p:blipFill>
          <a:blip r:embed="rId3"/>
          <a:stretch/>
        </p:blipFill>
        <p:spPr>
          <a:xfrm>
            <a:off x="4616280" y="1131840"/>
            <a:ext cx="4729320" cy="3041640"/>
          </a:xfrm>
          <a:prstGeom prst="rect">
            <a:avLst/>
          </a:prstGeom>
          <a:ln w="0">
            <a:noFill/>
          </a:ln>
        </p:spPr>
      </p:pic>
      <p:sp>
        <p:nvSpPr>
          <p:cNvPr id="251" name="AutoShape 13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4" descr="C:\Users\Admin\Downloads\Без названия (10).jpg"/>
          <p:cNvPicPr/>
          <p:nvPr/>
        </p:nvPicPr>
        <p:blipFill>
          <a:blip r:embed="rId4"/>
          <a:stretch/>
        </p:blipFill>
        <p:spPr>
          <a:xfrm>
            <a:off x="9502920" y="1222200"/>
            <a:ext cx="2452680" cy="16704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7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8" descr="Карибский кризис 1962 года - Российская газета"/>
          <p:cNvPicPr/>
          <p:nvPr/>
        </p:nvPicPr>
        <p:blipFill>
          <a:blip r:embed="rId1"/>
          <a:stretch/>
        </p:blipFill>
        <p:spPr>
          <a:xfrm>
            <a:off x="297000" y="1139760"/>
            <a:ext cx="4295520" cy="28656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0" descr="Как начинался Карибский кризис (Technet.cz, Чехия) | 07.10.2022, ИноСМИ"/>
          <p:cNvPicPr/>
          <p:nvPr/>
        </p:nvPicPr>
        <p:blipFill>
          <a:blip r:embed="rId2"/>
          <a:stretch/>
        </p:blipFill>
        <p:spPr>
          <a:xfrm>
            <a:off x="7354800" y="1209600"/>
            <a:ext cx="4479840" cy="2795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Карибский кризис предотвратили в Белграде"/>
          <p:cNvPicPr/>
          <p:nvPr/>
        </p:nvPicPr>
        <p:blipFill>
          <a:blip r:embed="rId3"/>
          <a:stretch/>
        </p:blipFill>
        <p:spPr>
          <a:xfrm>
            <a:off x="3697200" y="4103640"/>
            <a:ext cx="4525920" cy="25434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1"/>
          <p:cNvSpPr/>
          <p:nvPr/>
        </p:nvSpPr>
        <p:spPr>
          <a:xfrm>
            <a:off x="4770360" y="1646280"/>
            <a:ext cx="2379600" cy="1522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рибский кризи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2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TextBox 12"/>
          <p:cNvSpPr/>
          <p:nvPr/>
        </p:nvSpPr>
        <p:spPr>
          <a:xfrm>
            <a:off x="425520" y="4322880"/>
            <a:ext cx="2905200" cy="172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61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ла ракеты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ур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14"/>
          <p:cNvSpPr/>
          <p:nvPr/>
        </p:nvSpPr>
        <p:spPr>
          <a:xfrm>
            <a:off x="8696160" y="4322880"/>
            <a:ext cx="2903760" cy="172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62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ла ракеты н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Скругленный прямоугольник 4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be5d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мировая социалистическ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Picture 6" descr="Организация Варшавского договора была создана в противовес НАТО -  Парламентская газета"/>
          <p:cNvPicPr/>
          <p:nvPr/>
        </p:nvPicPr>
        <p:blipFill>
          <a:blip r:embed="rId1"/>
          <a:stretch/>
        </p:blipFill>
        <p:spPr>
          <a:xfrm>
            <a:off x="297000" y="1150920"/>
            <a:ext cx="5238720" cy="34671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6"/>
          <p:cNvSpPr/>
          <p:nvPr/>
        </p:nvSpPr>
        <p:spPr>
          <a:xfrm>
            <a:off x="343080" y="4894200"/>
            <a:ext cx="5192640" cy="1522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й 1955 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Варшавского договора (ОВД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TextBox 7"/>
          <p:cNvSpPr/>
          <p:nvPr/>
        </p:nvSpPr>
        <p:spPr>
          <a:xfrm>
            <a:off x="5659560" y="1177920"/>
            <a:ext cx="6175080" cy="91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зация отношений с Югослави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5780160" y="2332080"/>
            <a:ext cx="605448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Х съезд 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льт личности Стал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Стрелка вверх 9"/>
          <p:cNvSpPr/>
          <p:nvPr/>
        </p:nvSpPr>
        <p:spPr>
          <a:xfrm flipV="1">
            <a:off x="6697800" y="305604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Box 10"/>
          <p:cNvSpPr/>
          <p:nvPr/>
        </p:nvSpPr>
        <p:spPr>
          <a:xfrm>
            <a:off x="5780160" y="3728880"/>
            <a:ext cx="2595600" cy="13201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юнь 1961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астовки в Польш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Стрелка вверх 11"/>
          <p:cNvSpPr/>
          <p:nvPr/>
        </p:nvSpPr>
        <p:spPr>
          <a:xfrm flipV="1">
            <a:off x="10296360" y="3077280"/>
            <a:ext cx="505080" cy="5050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Box 12"/>
          <p:cNvSpPr/>
          <p:nvPr/>
        </p:nvSpPr>
        <p:spPr>
          <a:xfrm>
            <a:off x="9250200" y="3711600"/>
            <a:ext cx="2595600" cy="13201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юнь 1961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нстрации в Венг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Стрелка вверх 13"/>
          <p:cNvSpPr/>
          <p:nvPr/>
        </p:nvSpPr>
        <p:spPr>
          <a:xfrm flipV="1">
            <a:off x="8555040" y="3078000"/>
            <a:ext cx="504720" cy="2278080"/>
          </a:xfrm>
          <a:prstGeom prst="upArrow">
            <a:avLst>
              <a:gd name="adj1" fmla="val 50000"/>
              <a:gd name="adj2" fmla="val 50004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6066000" y="5484960"/>
            <a:ext cx="5700600" cy="104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 1957 г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худшение отношений с Кита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Скругленный прямоугольник 6"/>
          <p:cNvSpPr/>
          <p:nvPr/>
        </p:nvSpPr>
        <p:spPr>
          <a:xfrm>
            <a:off x="297000" y="109440"/>
            <a:ext cx="11537640" cy="11764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ад колониальной системы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третьего мир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343080" y="1427040"/>
            <a:ext cx="5170320" cy="15220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 – 1961 год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еприсоедине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5 стра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7" descr="Неру, Джавахарлал — Википедия"/>
          <p:cNvPicPr/>
          <p:nvPr/>
        </p:nvPicPr>
        <p:blipFill>
          <a:blip r:embed="rId1"/>
          <a:stretch/>
        </p:blipFill>
        <p:spPr>
          <a:xfrm>
            <a:off x="343080" y="3009960"/>
            <a:ext cx="1498320" cy="2152440"/>
          </a:xfrm>
          <a:prstGeom prst="rect">
            <a:avLst/>
          </a:prstGeom>
          <a:ln w="0">
            <a:noFill/>
          </a:ln>
        </p:spPr>
      </p:pic>
      <p:sp>
        <p:nvSpPr>
          <p:cNvPr id="274" name="TextBox 9"/>
          <p:cNvSpPr/>
          <p:nvPr/>
        </p:nvSpPr>
        <p:spPr>
          <a:xfrm>
            <a:off x="297000" y="5316480"/>
            <a:ext cx="163008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ж. Нер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AutoShape 9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0" descr="C:\Users\Admin\Downloads\Без названия (11).jpg"/>
          <p:cNvPicPr/>
          <p:nvPr/>
        </p:nvPicPr>
        <p:blipFill>
          <a:blip r:embed="rId2"/>
          <a:stretch/>
        </p:blipFill>
        <p:spPr>
          <a:xfrm>
            <a:off x="2152800" y="3009960"/>
            <a:ext cx="1612800" cy="21524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12"/>
          <p:cNvSpPr/>
          <p:nvPr/>
        </p:nvSpPr>
        <p:spPr>
          <a:xfrm>
            <a:off x="2136600" y="5316480"/>
            <a:ext cx="162900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. Ти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12" descr="Герой Советского Союза Насер Гамаль Абдель :: Герои страны"/>
          <p:cNvPicPr/>
          <p:nvPr/>
        </p:nvPicPr>
        <p:blipFill>
          <a:blip r:embed="rId3"/>
          <a:stretch/>
        </p:blipFill>
        <p:spPr>
          <a:xfrm>
            <a:off x="4103640" y="3009960"/>
            <a:ext cx="1409760" cy="2162160"/>
          </a:xfrm>
          <a:prstGeom prst="rect">
            <a:avLst/>
          </a:prstGeom>
          <a:ln w="0">
            <a:noFill/>
          </a:ln>
        </p:spPr>
      </p:pic>
      <p:sp>
        <p:nvSpPr>
          <p:cNvPr id="279" name="TextBox 14"/>
          <p:cNvSpPr/>
          <p:nvPr/>
        </p:nvSpPr>
        <p:spPr>
          <a:xfrm>
            <a:off x="3994200" y="5302080"/>
            <a:ext cx="163044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с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Picture 14" descr="Флаг Индии 90х135 см, шелк ◇ Оптовое производство флагов ▷ Печать на ткани  ▫ Акции ▫ Заказать ☏ Срочно ☆ в СПб"/>
          <p:cNvPicPr/>
          <p:nvPr/>
        </p:nvPicPr>
        <p:blipFill>
          <a:blip r:embed="rId4"/>
          <a:stretch/>
        </p:blipFill>
        <p:spPr>
          <a:xfrm>
            <a:off x="465120" y="5927760"/>
            <a:ext cx="1293840" cy="8604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6" descr="Югославия"/>
          <p:cNvPicPr/>
          <p:nvPr/>
        </p:nvPicPr>
        <p:blipFill>
          <a:blip r:embed="rId5"/>
          <a:stretch/>
        </p:blipFill>
        <p:spPr>
          <a:xfrm>
            <a:off x="2193840" y="5927760"/>
            <a:ext cx="1514520" cy="860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8" descr="Флаг Египта — Википедия"/>
          <p:cNvPicPr/>
          <p:nvPr/>
        </p:nvPicPr>
        <p:blipFill>
          <a:blip r:embed="rId6"/>
          <a:stretch/>
        </p:blipFill>
        <p:spPr>
          <a:xfrm>
            <a:off x="4138560" y="5927760"/>
            <a:ext cx="1339920" cy="84780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8"/>
          <p:cNvSpPr/>
          <p:nvPr/>
        </p:nvSpPr>
        <p:spPr>
          <a:xfrm>
            <a:off x="5780160" y="1494000"/>
            <a:ext cx="371772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 год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. Хрущев, Н. Булган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6008760" y="3009960"/>
            <a:ext cx="214308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9369360" y="3009960"/>
            <a:ext cx="214488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ганиста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0275840" y="1677960"/>
            <a:ext cx="1717560" cy="50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Прямая со стрелкой 22"/>
          <p:cNvCxnSpPr/>
          <p:nvPr/>
        </p:nvCxnSpPr>
        <p:spPr>
          <a:xfrm>
            <a:off x="9592920" y="1931760"/>
            <a:ext cx="615240" cy="108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288" name="Прямая со стрелкой 27"/>
          <p:cNvCxnSpPr/>
          <p:nvPr/>
        </p:nvCxnSpPr>
        <p:spPr>
          <a:xfrm>
            <a:off x="8755200" y="2481120"/>
            <a:ext cx="614880" cy="4788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289" name="Прямая со стрелкой 29"/>
          <p:cNvCxnSpPr/>
          <p:nvPr/>
        </p:nvCxnSpPr>
        <p:spPr>
          <a:xfrm>
            <a:off x="7079760" y="2481120"/>
            <a:ext cx="1080" cy="4788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sp>
        <p:nvSpPr>
          <p:cNvPr id="290" name="TextBox 32"/>
          <p:cNvSpPr/>
          <p:nvPr/>
        </p:nvSpPr>
        <p:spPr>
          <a:xfrm>
            <a:off x="5684760" y="3693960"/>
            <a:ext cx="6375600" cy="21301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7 - 1964 го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говоры с лидерами боле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0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сударст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щь: льготные кредиты, поставка вооружения и т.д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TextBox 33"/>
          <p:cNvSpPr/>
          <p:nvPr/>
        </p:nvSpPr>
        <p:spPr>
          <a:xfrm>
            <a:off x="5751360" y="5927760"/>
            <a:ext cx="6309000" cy="779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С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 свободного и независимого развит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82400" y="3390480"/>
            <a:ext cx="11266200" cy="24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</a:t>
            </a:r>
            <a:br>
              <a:rPr sz="54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0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чита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33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Работаем с источником» (письменно)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93" name="Picture 5" descr="C:\Users\Admin\Downloads\ек4.png"/>
          <p:cNvPicPr/>
          <p:nvPr/>
        </p:nvPicPr>
        <p:blipFill>
          <a:blip r:embed="rId1"/>
          <a:stretch/>
        </p:blipFill>
        <p:spPr>
          <a:xfrm>
            <a:off x="2163600" y="220680"/>
            <a:ext cx="8572680" cy="2738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C:\Users\Admin\Downloads\ы3.jpg"/>
          <p:cNvPicPr/>
          <p:nvPr/>
        </p:nvPicPr>
        <p:blipFill>
          <a:blip r:embed="rId1"/>
          <a:stretch/>
        </p:blipFill>
        <p:spPr>
          <a:xfrm>
            <a:off x="4657680" y="3543480"/>
            <a:ext cx="6728040" cy="32004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Молотов, Вячеслав Михайлович - ПЕРСОНА ТАСС"/>
          <p:cNvPicPr/>
          <p:nvPr/>
        </p:nvPicPr>
        <p:blipFill>
          <a:blip r:embed="rId2"/>
          <a:stretch/>
        </p:blipFill>
        <p:spPr>
          <a:xfrm>
            <a:off x="934920" y="268200"/>
            <a:ext cx="1920960" cy="2562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500040" y="2916360"/>
            <a:ext cx="2730600" cy="5767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отов В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Стрелка вверх 8"/>
          <p:cNvSpPr/>
          <p:nvPr/>
        </p:nvSpPr>
        <p:spPr>
          <a:xfrm flipV="1">
            <a:off x="1643040" y="360216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276120" y="4208400"/>
            <a:ext cx="4000680" cy="152208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сть перерыва в холодной вой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0" descr="Герой Социалистического Труда Маленков Георгий Максимилианович :: Герои  страны"/>
          <p:cNvPicPr/>
          <p:nvPr/>
        </p:nvPicPr>
        <p:blipFill>
          <a:blip r:embed="rId3"/>
          <a:stretch/>
        </p:blipFill>
        <p:spPr>
          <a:xfrm>
            <a:off x="3957480" y="268200"/>
            <a:ext cx="1865520" cy="2562480"/>
          </a:xfrm>
          <a:prstGeom prst="rect">
            <a:avLst/>
          </a:prstGeom>
          <a:ln w="0">
            <a:noFill/>
          </a:ln>
        </p:spPr>
      </p:pic>
      <p:sp>
        <p:nvSpPr>
          <p:cNvPr id="133" name="Стрелка вправо 11"/>
          <p:cNvSpPr/>
          <p:nvPr/>
        </p:nvSpPr>
        <p:spPr>
          <a:xfrm>
            <a:off x="6016680" y="140652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24400" y="2917800"/>
            <a:ext cx="2730240" cy="5767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ленков Г.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6607080" y="150840"/>
            <a:ext cx="5348520" cy="34830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ложение в мире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 пользу ССС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Мирное сосуществование государств с различным социальным стро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марте 1954 г. Маленков заявил,  о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едопустимости мировых конфликт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условиях существования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ядерного оруж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дача советской дипломатии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едопущен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ооруженных конфликт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Н.С. Хруще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зделял его позици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0"/>
          <p:cNvSpPr/>
          <p:nvPr/>
        </p:nvSpPr>
        <p:spPr>
          <a:xfrm>
            <a:off x="196920" y="5824440"/>
            <a:ext cx="4079880" cy="9147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будет отказа США от конфронтации с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3" descr="Атомный турнир сверхдержав: о нюансах ядерной гонки СССР и США"/>
          <p:cNvPicPr/>
          <p:nvPr/>
        </p:nvPicPr>
        <p:blipFill>
          <a:blip r:embed="rId1"/>
          <a:stretch/>
        </p:blipFill>
        <p:spPr>
          <a:xfrm>
            <a:off x="382680" y="1162080"/>
            <a:ext cx="3360600" cy="1888920"/>
          </a:xfrm>
          <a:prstGeom prst="rect">
            <a:avLst/>
          </a:prstGeom>
          <a:ln w="0">
            <a:noFill/>
          </a:ln>
        </p:spPr>
      </p:pic>
      <p:sp>
        <p:nvSpPr>
          <p:cNvPr id="141" name="Скругленный прямоугольник 11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16" descr="C:\Users\Admin\Downloads\hqdefault.jpg"/>
          <p:cNvPicPr/>
          <p:nvPr/>
        </p:nvPicPr>
        <p:blipFill>
          <a:blip r:embed="rId2"/>
          <a:stretch/>
        </p:blipFill>
        <p:spPr>
          <a:xfrm>
            <a:off x="3870360" y="1166760"/>
            <a:ext cx="3340080" cy="188424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8"/>
          <p:cNvSpPr/>
          <p:nvPr/>
        </p:nvSpPr>
        <p:spPr>
          <a:xfrm>
            <a:off x="29700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19" descr="C:\Users\Admin\Downloads\duajt-ejzenhauer.jpg"/>
          <p:cNvPicPr/>
          <p:nvPr/>
        </p:nvPicPr>
        <p:blipFill>
          <a:blip r:embed="rId3"/>
          <a:stretch/>
        </p:blipFill>
        <p:spPr>
          <a:xfrm>
            <a:off x="3368520" y="3151080"/>
            <a:ext cx="2473560" cy="322272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7"/>
          <p:cNvSpPr/>
          <p:nvPr/>
        </p:nvSpPr>
        <p:spPr>
          <a:xfrm>
            <a:off x="155520" y="3409920"/>
            <a:ext cx="3116160" cy="29408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айт Дэвид Эйзенхауэр - 34-й президент США от Республиканской партии. Генерал армии СШ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питан Амери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0" descr="C:\Users\Admin\Downloads\9b0b64e73d7d.jpg"/>
          <p:cNvPicPr/>
          <p:nvPr/>
        </p:nvPicPr>
        <p:blipFill>
          <a:blip r:embed="rId4"/>
          <a:stretch/>
        </p:blipFill>
        <p:spPr>
          <a:xfrm>
            <a:off x="5140440" y="5805360"/>
            <a:ext cx="701640" cy="5684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9"/>
          <p:cNvSpPr/>
          <p:nvPr/>
        </p:nvSpPr>
        <p:spPr>
          <a:xfrm>
            <a:off x="7945560" y="1166760"/>
            <a:ext cx="3406680" cy="152208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возможность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ды в Корейской вой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969160" y="3151080"/>
            <a:ext cx="6048360" cy="91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е взаимоотношение с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пони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змещение ядерного оруж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1"/>
          <p:cNvSpPr/>
          <p:nvPr/>
        </p:nvSpPr>
        <p:spPr>
          <a:xfrm>
            <a:off x="5969160" y="4199040"/>
            <a:ext cx="604836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ие военные базы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тал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ур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2"/>
          <p:cNvSpPr/>
          <p:nvPr/>
        </p:nvSpPr>
        <p:spPr>
          <a:xfrm>
            <a:off x="5969160" y="5211720"/>
            <a:ext cx="6048360" cy="91476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е перевороты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ран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ватема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3"/>
          <p:cNvSpPr/>
          <p:nvPr/>
        </p:nvSpPr>
        <p:spPr>
          <a:xfrm>
            <a:off x="5969160" y="6245280"/>
            <a:ext cx="6048360" cy="509400"/>
          </a:xfrm>
          <a:prstGeom prst="roundRect">
            <a:avLst>
              <a:gd name="adj" fmla="val 16667"/>
            </a:avLst>
          </a:prstGeom>
          <a:solidFill>
            <a:srgbClr val="f8cba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ывная деятельность на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уб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7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9" descr="C:\Users\Admin\Downloads\Flag_i_gerb_Avstrii-flag_Avstriiskoy_respubliki.jpg"/>
          <p:cNvPicPr/>
          <p:nvPr/>
        </p:nvPicPr>
        <p:blipFill>
          <a:blip r:embed="rId1"/>
          <a:stretch/>
        </p:blipFill>
        <p:spPr>
          <a:xfrm>
            <a:off x="409680" y="1144440"/>
            <a:ext cx="2936880" cy="197676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>
            <a:off x="932040" y="3222720"/>
            <a:ext cx="1892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вст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3683160" y="1197000"/>
            <a:ext cx="815148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– советско-австрийские переговоры (Москв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2"/>
          <p:cNvSpPr/>
          <p:nvPr/>
        </p:nvSpPr>
        <p:spPr>
          <a:xfrm>
            <a:off x="3605040" y="2558880"/>
            <a:ext cx="2460960" cy="13201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а постоянного нейтралит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3"/>
          <p:cNvSpPr/>
          <p:nvPr/>
        </p:nvSpPr>
        <p:spPr>
          <a:xfrm>
            <a:off x="6969240" y="2909880"/>
            <a:ext cx="1406520" cy="50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4"/>
          <p:cNvSpPr/>
          <p:nvPr/>
        </p:nvSpPr>
        <p:spPr>
          <a:xfrm>
            <a:off x="9374040" y="2706840"/>
            <a:ext cx="246060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войск с ее территори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Умножение 2"/>
          <p:cNvSpPr/>
          <p:nvPr/>
        </p:nvSpPr>
        <p:spPr>
          <a:xfrm>
            <a:off x="6800760" y="2868480"/>
            <a:ext cx="1743120" cy="595440"/>
          </a:xfrm>
          <a:custGeom>
            <a:avLst/>
            <a:gdLst/>
            <a:ahLst/>
            <a:rect l="l" t="t" r="r" b="b"/>
            <a:pathLst>
              <a:path w="1743075" h="595312">
                <a:moveTo>
                  <a:pt x="396016" y="209230"/>
                </a:moveTo>
                <a:lnTo>
                  <a:pt x="441270" y="76728"/>
                </a:lnTo>
                <a:lnTo>
                  <a:pt x="871538" y="223677"/>
                </a:lnTo>
                <a:lnTo>
                  <a:pt x="1301805" y="76728"/>
                </a:lnTo>
                <a:lnTo>
                  <a:pt x="1347059" y="209230"/>
                </a:lnTo>
                <a:lnTo>
                  <a:pt x="1088148" y="297656"/>
                </a:lnTo>
                <a:lnTo>
                  <a:pt x="1347059" y="386082"/>
                </a:lnTo>
                <a:lnTo>
                  <a:pt x="1301805" y="518584"/>
                </a:lnTo>
                <a:lnTo>
                  <a:pt x="871538" y="371635"/>
                </a:lnTo>
                <a:lnTo>
                  <a:pt x="441270" y="518584"/>
                </a:lnTo>
                <a:lnTo>
                  <a:pt x="396016" y="386082"/>
                </a:lnTo>
                <a:lnTo>
                  <a:pt x="654927" y="297656"/>
                </a:lnTo>
                <a:lnTo>
                  <a:pt x="396016" y="209230"/>
                </a:lnTo>
                <a:close/>
              </a:path>
            </a:pathLst>
          </a:custGeom>
          <a:solidFill>
            <a:srgbClr val="ff0000">
              <a:alpha val="38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Стрелка вверх 18"/>
          <p:cNvSpPr/>
          <p:nvPr/>
        </p:nvSpPr>
        <p:spPr>
          <a:xfrm flipV="1">
            <a:off x="4583160" y="187956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Стрелка вправо 19"/>
          <p:cNvSpPr/>
          <p:nvPr/>
        </p:nvSpPr>
        <p:spPr>
          <a:xfrm>
            <a:off x="8691480" y="2878200"/>
            <a:ext cx="47484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Стрелка вправо 20"/>
          <p:cNvSpPr/>
          <p:nvPr/>
        </p:nvSpPr>
        <p:spPr>
          <a:xfrm>
            <a:off x="6326280" y="2909880"/>
            <a:ext cx="4744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0" descr="C:\Users\Admin\Downloads\images.png"/>
          <p:cNvPicPr/>
          <p:nvPr/>
        </p:nvPicPr>
        <p:blipFill>
          <a:blip r:embed="rId2"/>
          <a:stretch/>
        </p:blipFill>
        <p:spPr>
          <a:xfrm>
            <a:off x="534960" y="3986280"/>
            <a:ext cx="2811600" cy="18716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22"/>
          <p:cNvSpPr/>
          <p:nvPr/>
        </p:nvSpPr>
        <p:spPr>
          <a:xfrm>
            <a:off x="932040" y="5997600"/>
            <a:ext cx="18921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1" descr="C:\Users\Admin\Downloads\10f544ab52bbbc893a968795e76f5862-800x.jpg"/>
          <p:cNvPicPr/>
          <p:nvPr/>
        </p:nvPicPr>
        <p:blipFill>
          <a:blip r:embed="rId3"/>
          <a:stretch/>
        </p:blipFill>
        <p:spPr>
          <a:xfrm>
            <a:off x="6078600" y="3994200"/>
            <a:ext cx="2819160" cy="1863720"/>
          </a:xfrm>
          <a:prstGeom prst="rect">
            <a:avLst/>
          </a:prstGeom>
          <a:ln w="0">
            <a:noFill/>
          </a:ln>
        </p:spPr>
      </p:pic>
      <p:sp>
        <p:nvSpPr>
          <p:cNvPr id="166" name="TextBox 24"/>
          <p:cNvSpPr/>
          <p:nvPr/>
        </p:nvSpPr>
        <p:spPr>
          <a:xfrm>
            <a:off x="6541920" y="6006960"/>
            <a:ext cx="18925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по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25"/>
          <p:cNvSpPr/>
          <p:nvPr/>
        </p:nvSpPr>
        <p:spPr>
          <a:xfrm>
            <a:off x="3476520" y="4849920"/>
            <a:ext cx="2449440" cy="17247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5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прекращение состояния вой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7"/>
          <p:cNvSpPr/>
          <p:nvPr/>
        </p:nvSpPr>
        <p:spPr>
          <a:xfrm>
            <a:off x="9115560" y="4802040"/>
            <a:ext cx="2832120" cy="17247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6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 восстановление дипломатических отнош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Стрелка вправо 28"/>
          <p:cNvSpPr/>
          <p:nvPr/>
        </p:nvSpPr>
        <p:spPr>
          <a:xfrm>
            <a:off x="2892600" y="6006960"/>
            <a:ext cx="47592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Стрелка вправо 29"/>
          <p:cNvSpPr/>
          <p:nvPr/>
        </p:nvSpPr>
        <p:spPr>
          <a:xfrm>
            <a:off x="8543880" y="605484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Скругленный прямоугольник 7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8"/>
          <p:cNvSpPr/>
          <p:nvPr/>
        </p:nvSpPr>
        <p:spPr>
          <a:xfrm>
            <a:off x="365040" y="1349280"/>
            <a:ext cx="296712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Х съезд КПС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Стрелка вверх 9"/>
          <p:cNvSpPr/>
          <p:nvPr/>
        </p:nvSpPr>
        <p:spPr>
          <a:xfrm flipV="1">
            <a:off x="1595520" y="209232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460440" y="2797200"/>
            <a:ext cx="2967120" cy="131940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ронтация с Западом не фактор угрозы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11"/>
          <p:cNvSpPr/>
          <p:nvPr/>
        </p:nvSpPr>
        <p:spPr>
          <a:xfrm>
            <a:off x="5219640" y="1349280"/>
            <a:ext cx="196380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С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12"/>
          <p:cNvSpPr/>
          <p:nvPr/>
        </p:nvSpPr>
        <p:spPr>
          <a:xfrm>
            <a:off x="9137520" y="1195560"/>
            <a:ext cx="2697120" cy="21301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коллективной безопасности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вроп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13"/>
          <p:cNvSpPr/>
          <p:nvPr/>
        </p:nvSpPr>
        <p:spPr>
          <a:xfrm>
            <a:off x="9232920" y="3549600"/>
            <a:ext cx="2697120" cy="213012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системы коллективной безопасности в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з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4"/>
          <p:cNvSpPr/>
          <p:nvPr/>
        </p:nvSpPr>
        <p:spPr>
          <a:xfrm>
            <a:off x="9326520" y="5892840"/>
            <a:ext cx="2698920" cy="50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оруж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0" name="Прямая со стрелкой 4"/>
          <p:cNvCxnSpPr>
            <a:stCxn id="176" idx="2"/>
            <a:endCxn id="177" idx="1"/>
          </p:cNvCxnSpPr>
          <p:nvPr/>
        </p:nvCxnSpPr>
        <p:spPr>
          <a:xfrm>
            <a:off x="6200640" y="1928520"/>
            <a:ext cx="2937600" cy="34020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181" name="Прямая со стрелкой 17"/>
          <p:cNvCxnSpPr>
            <a:endCxn id="179" idx="1"/>
          </p:cNvCxnSpPr>
          <p:nvPr/>
        </p:nvCxnSpPr>
        <p:spPr>
          <a:xfrm>
            <a:off x="6200280" y="1937880"/>
            <a:ext cx="3126600" cy="421092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cxnSp>
        <p:nvCxnSpPr>
          <p:cNvPr id="182" name="Прямая со стрелкой 18"/>
          <p:cNvCxnSpPr>
            <a:endCxn id="178" idx="1"/>
          </p:cNvCxnSpPr>
          <p:nvPr/>
        </p:nvCxnSpPr>
        <p:spPr>
          <a:xfrm>
            <a:off x="6194520" y="1944360"/>
            <a:ext cx="3039120" cy="2678760"/>
          </a:xfrm>
          <a:prstGeom prst="straightConnector1">
            <a:avLst/>
          </a:prstGeom>
          <a:ln w="54000">
            <a:solidFill>
              <a:srgbClr val="ff0000"/>
            </a:solidFill>
            <a:miter/>
            <a:headEnd len="med" type="oval" w="med"/>
            <a:tailEnd len="med" type="arrow" w="med"/>
          </a:ln>
        </p:spPr>
      </p:cxnSp>
      <p:sp>
        <p:nvSpPr>
          <p:cNvPr id="183" name="TextBox 21"/>
          <p:cNvSpPr/>
          <p:nvPr/>
        </p:nvSpPr>
        <p:spPr>
          <a:xfrm>
            <a:off x="297000" y="4417920"/>
            <a:ext cx="5232240" cy="2130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«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ирного сосуществ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ревнования двух систе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и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едотвращение войны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центральной частью советской внешней поли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7" descr="C:\Users\Admin\Downloads\1583010435_hrushev6.jpg"/>
          <p:cNvPicPr/>
          <p:nvPr/>
        </p:nvPicPr>
        <p:blipFill>
          <a:blip r:embed="rId1"/>
          <a:stretch/>
        </p:blipFill>
        <p:spPr>
          <a:xfrm>
            <a:off x="3855960" y="2122560"/>
            <a:ext cx="1673280" cy="210168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3"/>
          <p:cNvSpPr/>
          <p:nvPr/>
        </p:nvSpPr>
        <p:spPr>
          <a:xfrm>
            <a:off x="5684760" y="4419720"/>
            <a:ext cx="2243160" cy="21301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говор имеет силу, если он подкреплен пушкам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6" name="Прямая со стрелкой 24"/>
          <p:cNvCxnSpPr>
            <a:endCxn id="185" idx="0"/>
          </p:cNvCxnSpPr>
          <p:nvPr/>
        </p:nvCxnSpPr>
        <p:spPr>
          <a:xfrm>
            <a:off x="5528880" y="3120840"/>
            <a:ext cx="1276560" cy="1299240"/>
          </a:xfrm>
          <a:prstGeom prst="straightConnector1">
            <a:avLst/>
          </a:prstGeom>
          <a:ln w="54000">
            <a:solidFill>
              <a:srgbClr val="0000ff"/>
            </a:solidFill>
            <a:miter/>
            <a:headEnd len="med" type="oval" w="med"/>
            <a:tailEnd len="med" type="arrow" w="med"/>
          </a:ln>
        </p:spPr>
      </p:cxn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Скругленный прямоугольник 4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5" descr="C:\Users\Admin\Downloads\Без имени.png"/>
          <p:cNvPicPr/>
          <p:nvPr/>
        </p:nvPicPr>
        <p:blipFill>
          <a:blip r:embed="rId1"/>
          <a:stretch/>
        </p:blipFill>
        <p:spPr>
          <a:xfrm>
            <a:off x="7281720" y="1569960"/>
            <a:ext cx="4552920" cy="41846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6"/>
          <p:cNvSpPr/>
          <p:nvPr/>
        </p:nvSpPr>
        <p:spPr>
          <a:xfrm>
            <a:off x="365040" y="1349280"/>
            <a:ext cx="2967120" cy="1049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6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а доктрина ССС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317520" y="3224160"/>
            <a:ext cx="2967120" cy="9147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аз массового применения войс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365040" y="4937040"/>
            <a:ext cx="2967120" cy="132012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ракетно-ядерного противостоя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Стрелка вверх 9"/>
          <p:cNvSpPr/>
          <p:nvPr/>
        </p:nvSpPr>
        <p:spPr>
          <a:xfrm flipV="1">
            <a:off x="1535040" y="4287960"/>
            <a:ext cx="504720" cy="5032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трелка вверх 10"/>
          <p:cNvSpPr/>
          <p:nvPr/>
        </p:nvSpPr>
        <p:spPr>
          <a:xfrm flipV="1">
            <a:off x="1535040" y="2536920"/>
            <a:ext cx="504720" cy="50472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3441600" y="1165320"/>
            <a:ext cx="3648240" cy="172476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7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ССР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рвая в мире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жконтинентальна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аллистическая раке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Первая в мире межконтинентальная баллистическая ракета | ВКонтакте"/>
          <p:cNvPicPr/>
          <p:nvPr/>
        </p:nvPicPr>
        <p:blipFill>
          <a:blip r:embed="rId2"/>
          <a:stretch/>
        </p:blipFill>
        <p:spPr>
          <a:xfrm>
            <a:off x="3502080" y="3041640"/>
            <a:ext cx="3529080" cy="1996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13"/>
          <p:cNvSpPr/>
          <p:nvPr/>
        </p:nvSpPr>
        <p:spPr>
          <a:xfrm>
            <a:off x="3502080" y="5224320"/>
            <a:ext cx="3606840" cy="132012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территори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Ш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азалось уязвим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Скругленный прямоугольник 6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7" descr="C:\Users\Admin\Downloads\25124.0x400.jpg"/>
          <p:cNvPicPr/>
          <p:nvPr/>
        </p:nvPicPr>
        <p:blipFill>
          <a:blip r:embed="rId1"/>
          <a:stretch/>
        </p:blipFill>
        <p:spPr>
          <a:xfrm>
            <a:off x="490680" y="1467000"/>
            <a:ext cx="2288880" cy="1619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:\Users\Admin\Downloads\b7ef98b8d40916376766cf81f28afac9.jpg"/>
          <p:cNvPicPr/>
          <p:nvPr/>
        </p:nvPicPr>
        <p:blipFill>
          <a:blip r:embed="rId2"/>
          <a:stretch/>
        </p:blipFill>
        <p:spPr>
          <a:xfrm>
            <a:off x="490680" y="3247920"/>
            <a:ext cx="2288880" cy="144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Users\Admin\Downloads\Flag_of_Israel.svg.png"/>
          <p:cNvPicPr/>
          <p:nvPr/>
        </p:nvPicPr>
        <p:blipFill>
          <a:blip r:embed="rId3"/>
          <a:stretch/>
        </p:blipFill>
        <p:spPr>
          <a:xfrm>
            <a:off x="465120" y="4883040"/>
            <a:ext cx="2314440" cy="1366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C:\Users\Admin\Downloads\bandiera_egitto.jpg"/>
          <p:cNvPicPr/>
          <p:nvPr/>
        </p:nvPicPr>
        <p:blipFill>
          <a:blip r:embed="rId4"/>
          <a:stretch/>
        </p:blipFill>
        <p:spPr>
          <a:xfrm>
            <a:off x="8475840" y="1176480"/>
            <a:ext cx="3139920" cy="1960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C:\Users\Admin\Downloads\12511.970.png"/>
          <p:cNvPicPr/>
          <p:nvPr/>
        </p:nvPicPr>
        <p:blipFill>
          <a:blip r:embed="rId5"/>
          <a:stretch/>
        </p:blipFill>
        <p:spPr>
          <a:xfrm>
            <a:off x="8475840" y="3438360"/>
            <a:ext cx="3139920" cy="1901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3" descr="C:\Users\Admin\Downloads\images (5).jpg"/>
          <p:cNvPicPr/>
          <p:nvPr/>
        </p:nvPicPr>
        <p:blipFill>
          <a:blip r:embed="rId6"/>
          <a:stretch/>
        </p:blipFill>
        <p:spPr>
          <a:xfrm>
            <a:off x="3929040" y="1814400"/>
            <a:ext cx="3373560" cy="375120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4"/>
          <p:cNvSpPr/>
          <p:nvPr/>
        </p:nvSpPr>
        <p:spPr>
          <a:xfrm>
            <a:off x="3338640" y="1181160"/>
            <a:ext cx="4554360" cy="5767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эцкий кризис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6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5"/>
          <p:cNvSpPr/>
          <p:nvPr/>
        </p:nvSpPr>
        <p:spPr>
          <a:xfrm>
            <a:off x="3338640" y="5668920"/>
            <a:ext cx="4381200" cy="1015560"/>
          </a:xfrm>
          <a:prstGeom prst="roundRect">
            <a:avLst>
              <a:gd name="adj" fmla="val 16667"/>
            </a:avLst>
          </a:prstGeom>
          <a:solidFill>
            <a:srgbClr val="c5e0b4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йска Великобритании, Франции, Израиля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торглись в Египе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вет на национализацию Суэцкого кан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6"/>
          <p:cNvSpPr/>
          <p:nvPr/>
        </p:nvSpPr>
        <p:spPr>
          <a:xfrm>
            <a:off x="8475840" y="5565600"/>
            <a:ext cx="3139920" cy="111744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егулирование с помощью 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ядерного аргумент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Скругленный прямоугольник 13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14" descr="Случайность на высшем уровне – Коммерсантъ"/>
          <p:cNvPicPr/>
          <p:nvPr/>
        </p:nvPicPr>
        <p:blipFill>
          <a:blip r:embed="rId1"/>
          <a:stretch/>
        </p:blipFill>
        <p:spPr>
          <a:xfrm>
            <a:off x="7707240" y="1204920"/>
            <a:ext cx="4127400" cy="2319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Визит Хрущёва в США — Википедия"/>
          <p:cNvPicPr/>
          <p:nvPr/>
        </p:nvPicPr>
        <p:blipFill>
          <a:blip r:embed="rId2"/>
          <a:stretch/>
        </p:blipFill>
        <p:spPr>
          <a:xfrm>
            <a:off x="515880" y="1209600"/>
            <a:ext cx="2847960" cy="23148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455760" y="3705120"/>
            <a:ext cx="2966760" cy="13201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59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ит Н. Хрущева в СШ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7707240" y="3684600"/>
            <a:ext cx="4127400" cy="13194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60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зит Д. Эйзенхауэра в ССС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TextBox 18"/>
          <p:cNvSpPr/>
          <p:nvPr/>
        </p:nvSpPr>
        <p:spPr>
          <a:xfrm>
            <a:off x="3718080" y="3684600"/>
            <a:ext cx="3795480" cy="1319400"/>
          </a:xfrm>
          <a:prstGeom prst="roundRect">
            <a:avLst>
              <a:gd name="adj" fmla="val 16667"/>
            </a:avLst>
          </a:pr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общее разоружение и отказ от ядерных испыт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18" descr="Его звали Никита – Мир – Коммерсантъ"/>
          <p:cNvPicPr/>
          <p:nvPr/>
        </p:nvPicPr>
        <p:blipFill>
          <a:blip r:embed="rId3"/>
          <a:stretch/>
        </p:blipFill>
        <p:spPr>
          <a:xfrm>
            <a:off x="3621240" y="1387440"/>
            <a:ext cx="3892320" cy="1954080"/>
          </a:xfrm>
          <a:prstGeom prst="rect">
            <a:avLst/>
          </a:prstGeom>
          <a:ln w="0">
            <a:noFill/>
          </a:ln>
        </p:spPr>
      </p:pic>
      <p:sp>
        <p:nvSpPr>
          <p:cNvPr id="214" name="TextBox 20"/>
          <p:cNvSpPr/>
          <p:nvPr/>
        </p:nvSpPr>
        <p:spPr>
          <a:xfrm>
            <a:off x="452520" y="5280120"/>
            <a:ext cx="3168720" cy="111744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гресс СШ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порабощённых народа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21"/>
          <p:cNvSpPr/>
          <p:nvPr/>
        </p:nvSpPr>
        <p:spPr>
          <a:xfrm>
            <a:off x="4552920" y="5450040"/>
            <a:ext cx="1284480" cy="77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ал ССС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22"/>
          <p:cNvSpPr/>
          <p:nvPr/>
        </p:nvSpPr>
        <p:spPr>
          <a:xfrm>
            <a:off x="6683400" y="5423040"/>
            <a:ext cx="2270160" cy="77940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е 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работител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9729720" y="5280120"/>
            <a:ext cx="2104920" cy="1117440"/>
          </a:xfrm>
          <a:prstGeom prst="roundRect">
            <a:avLst>
              <a:gd name="adj" fmla="val 16667"/>
            </a:avLst>
          </a:prstGeom>
          <a:solidFill>
            <a:srgbClr val="fff2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деля порабощенных народа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Стрелка вправо 24"/>
          <p:cNvSpPr/>
          <p:nvPr/>
        </p:nvSpPr>
        <p:spPr>
          <a:xfrm>
            <a:off x="3832200" y="559908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Стрелка вправо 25"/>
          <p:cNvSpPr/>
          <p:nvPr/>
        </p:nvSpPr>
        <p:spPr>
          <a:xfrm>
            <a:off x="9056520" y="557208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Стрелка вправо 26"/>
          <p:cNvSpPr/>
          <p:nvPr/>
        </p:nvSpPr>
        <p:spPr>
          <a:xfrm>
            <a:off x="6033960" y="5599080"/>
            <a:ext cx="476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Скругленный прямоугольник 11"/>
          <p:cNvSpPr/>
          <p:nvPr/>
        </p:nvSpPr>
        <p:spPr>
          <a:xfrm>
            <a:off x="297000" y="109440"/>
            <a:ext cx="11537640" cy="914400"/>
          </a:xfrm>
          <a:prstGeom prst="roundRect">
            <a:avLst>
              <a:gd name="adj" fmla="val 16667"/>
            </a:avLst>
          </a:prstGeom>
          <a:solidFill>
            <a:srgbClr val="ffd966"/>
          </a:solidFill>
          <a:ln w="648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ССР и страны Запада. Гонка Вооружен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Дело Пауэрса или как СССР посрамил США / Назад в СССР / Back in USSR"/>
          <p:cNvPicPr/>
          <p:nvPr/>
        </p:nvPicPr>
        <p:blipFill>
          <a:blip r:embed="rId1"/>
          <a:stretch/>
        </p:blipFill>
        <p:spPr>
          <a:xfrm>
            <a:off x="378000" y="1336680"/>
            <a:ext cx="4211640" cy="28335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7" descr="https://image2.thematicnews.com/uploads/images/00/00/41/2017/01/18/e6de4af7e0.jpg"/>
          <p:cNvPicPr/>
          <p:nvPr/>
        </p:nvPicPr>
        <p:blipFill>
          <a:blip r:embed="rId2"/>
          <a:stretch/>
        </p:blipFill>
        <p:spPr>
          <a:xfrm>
            <a:off x="4871880" y="1336680"/>
            <a:ext cx="3765600" cy="31147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5"/>
          <p:cNvSpPr/>
          <p:nvPr/>
        </p:nvSpPr>
        <p:spPr>
          <a:xfrm>
            <a:off x="5262480" y="4691160"/>
            <a:ext cx="3502080" cy="17247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мая 1960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вердловском сбит американский самолет – шпион 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U</a:t>
            </a:r>
            <a:r>
              <a:rPr b="1" lang="tt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16"/>
          <p:cNvSpPr/>
          <p:nvPr/>
        </p:nvSpPr>
        <p:spPr>
          <a:xfrm>
            <a:off x="8877240" y="1308240"/>
            <a:ext cx="3122640" cy="4056120"/>
          </a:xfrm>
          <a:custGeom>
            <a:avLst/>
            <a:gdLst>
              <a:gd name="textAreaLeft" fmla="*/ 152280 w 3122640"/>
              <a:gd name="textAreaRight" fmla="*/ 2970360 w 3122640"/>
              <a:gd name="textAreaTop" fmla="*/ 152280 h 4056120"/>
              <a:gd name="textAreaBottom" fmla="*/ 3903840 h 4056120"/>
            </a:gdLst>
            <a:ahLst/>
            <a:rect l="textAreaLeft" t="textAreaTop" r="textAreaRight" b="textAreaBottom"/>
            <a:pathLst>
              <a:path w="21600" h="28056">
                <a:moveTo>
                  <a:pt x="3600" y="0"/>
                </a:moveTo>
                <a:arcTo wR="3600" hR="3600" stAng="16200000" swAng="-5400000"/>
                <a:lnTo>
                  <a:pt x="0" y="24456"/>
                </a:lnTo>
                <a:arcTo wR="3600" hR="3600" stAng="10800000" swAng="-5400000"/>
                <a:lnTo>
                  <a:pt x="18000" y="2805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dd7e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рэнсис Гэри Пауэр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ША –не стал приносить извинений, а пообещал продолжить разведывательную деятельность против ССС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19" descr="https://image2.thematicnews.com/uploads/images/00/00/41/2017/01/18/9d0ef2a9df.jpg"/>
          <p:cNvPicPr/>
          <p:nvPr/>
        </p:nvPicPr>
        <p:blipFill>
          <a:blip r:embed="rId3"/>
          <a:stretch/>
        </p:blipFill>
        <p:spPr>
          <a:xfrm>
            <a:off x="9435960" y="5559480"/>
            <a:ext cx="2176560" cy="11174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5" descr="https://image3.thematicnews.com/uploads/images/00/00/41/2017/01/18/0a37e72c74.jpg"/>
          <p:cNvPicPr/>
          <p:nvPr/>
        </p:nvPicPr>
        <p:blipFill>
          <a:blip r:embed="rId4"/>
          <a:stretch/>
        </p:blipFill>
        <p:spPr>
          <a:xfrm>
            <a:off x="885960" y="3573360"/>
            <a:ext cx="4254480" cy="2822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1-18T04:36:09Z</dcterms:created>
  <dc:creator>Николай Богуш</dc:creator>
  <dc:description/>
  <dc:language>en-US</dc:language>
  <cp:lastModifiedBy>Admin</cp:lastModifiedBy>
  <dcterms:modified xsi:type="dcterms:W3CDTF">2024-01-08T15:41:22Z</dcterms:modified>
  <cp:revision>58</cp:revision>
  <dc:subject/>
  <dc:title>Культурное пространство СССР 1953-1964 гг.</dc:title>
</cp:coreProperties>
</file>