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0243-3D6B-4A0F-8B96-36001C58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93B9-F979-491E-8C97-5CB0F059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8DC-2889-4A5A-89D9-856C82BBC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3130-95B6-4B8C-A515-44E8F0E0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6DA-1D3A-4D6A-AFEF-D6FA2FAE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F4E-9479-47F0-9985-175423A7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2B5D-A73D-4840-B83E-87B574B7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2861-87B8-4015-8CC5-BFFAA2FF3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8352-0AD7-4D76-84F8-7E98C1FA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F36-0EFC-4328-BA64-8E56E787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4F07-81BC-49D9-A317-580FB938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1604-33BC-4B1F-8CB1-5740C63F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542C-22D1-40F8-BB9C-492AA2A819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6993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натьева Валентина Александров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высшей квалификационной категории. Урок по теме «Чередующиеся гласные в корне слова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640" y="2637000"/>
            <a:ext cx="4608720" cy="39607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 урок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1.Систематизировать знания о правописании чередующихся гласных в корне слов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2.Воспитывать умение анализировать, сопоставлять, развивать навыки критического мышления при усвоении информ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3. Воспитание интереса к изучаемому предмет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Актуальность использования средств ИКТ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Обеспечение наглядности учебного материал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Формирование навыков и умений информационно-поисков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417.jpg"/>
          <p:cNvPicPr/>
          <p:nvPr/>
        </p:nvPicPr>
        <p:blipFill>
          <a:blip r:embed="rId1"/>
          <a:stretch/>
        </p:blipFill>
        <p:spPr>
          <a:xfrm>
            <a:off x="5651640" y="3284640"/>
            <a:ext cx="3159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буклет, наполненный материалами сегодняшней темы. В нем может быть правило (на 1 странице), примеры, задания (тесты), сказка (рассказ) с использованием слов с орфограммой «Чередующиеся гласные в корне слов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написать сочинение-миниатюру «Как я убираю свою комнат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свою работу на уро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е я работал   - актив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ссивн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ворческ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атериал урока мне был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е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ен                           </a:t>
            </a:r>
            <a:r>
              <a:rPr b="0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 не более 3-х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Домашнее задание мне кажется   - легки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рудны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Мое настроение стало лучше/ стало хуж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приятно было работать с вами! Спасибо за урок! До свидания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Smiley.svg.png"/>
          <p:cNvPicPr/>
          <p:nvPr/>
        </p:nvPicPr>
        <p:blipFill>
          <a:blip r:embed="rId1"/>
          <a:stretch/>
        </p:blipFill>
        <p:spPr>
          <a:xfrm>
            <a:off x="5364000" y="450864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«Чередующиеся гласные в корне слов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3" descr="images.jpg"/>
          <p:cNvPicPr/>
          <p:nvPr/>
        </p:nvPicPr>
        <p:blipFill>
          <a:blip r:embed="rId1"/>
          <a:stretch/>
        </p:blipFill>
        <p:spPr>
          <a:xfrm>
            <a:off x="3132000" y="1844640"/>
            <a:ext cx="277668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39640" y="260280"/>
          <a:ext cx="8229600" cy="5629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а орфогра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клю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яемая гласная в корне сл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роверяемая гласная в корне сло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99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сная в корнях с черед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.) зависит от согласного в кор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раст – ращ – 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лаг – лож 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.) зависит от уда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гор – гар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ор – зар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.) зависит от суффикса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бер – бир 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дер – дир 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мер – мир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ер – пир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тер – тир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блест – блист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жег – жиг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стел – стил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чет – чит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кос – кас 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sp>
        <p:nvSpPr>
          <p:cNvPr id="48" name="Прямая соединительная линия 13"/>
          <p:cNvSpPr/>
          <p:nvPr/>
        </p:nvSpPr>
        <p:spPr>
          <a:xfrm flipV="1">
            <a:off x="2627280" y="3500280"/>
            <a:ext cx="73080" cy="14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15"/>
          <p:cNvSpPr/>
          <p:nvPr/>
        </p:nvSpPr>
        <p:spPr>
          <a:xfrm flipH="1" flipV="1">
            <a:off x="2700360" y="3500280"/>
            <a:ext cx="71280" cy="144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260280"/>
          <a:ext cx="8229600" cy="5629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руппа орфогра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клю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63036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яемая гласная в корне сло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ошный - р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ош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м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ять – м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е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т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т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уть - т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  <a:ea typeface="Calibri"/>
                        </a:rPr>
                        <a:t>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роверяемая гласная в корне сло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дат , 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лея, в</a:t>
                      </a:r>
                      <a:r>
                        <a:rPr b="0" lang="ru-RU" sz="1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о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з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f1f5"/>
                    </a:solidFill>
                  </a:tcPr>
                </a:tc>
              </a:tr>
              <a:tr h="399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асная в корнях с черед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.) зависит от согласного в кор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раст – ращ – ро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лаг – лож 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.) зависит от уда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гор – гар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ор – зар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.) зависит от суффикса 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бер – бир 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дер – дир 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мер – мир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пер – пир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тер – тир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блест – блист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жег – жиг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стел – стил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чет – чит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кос – кас 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 – перед –ст- и – щ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 – перед –г, о – перед –ж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– без уда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 – без уда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1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и   –  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ток, отрасль, ростовщик, Ростов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тислав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четать, сочет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e3ea"/>
                    </a:solidFill>
                  </a:tcPr>
                </a:tc>
              </a:tr>
            </a:tbl>
          </a:graphicData>
        </a:graphic>
      </p:graphicFrame>
      <p:sp>
        <p:nvSpPr>
          <p:cNvPr id="52" name="Прямая соединительная линия 5"/>
          <p:cNvSpPr/>
          <p:nvPr/>
        </p:nvSpPr>
        <p:spPr>
          <a:xfrm flipV="1">
            <a:off x="4140360" y="4436640"/>
            <a:ext cx="7128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7"/>
          <p:cNvSpPr/>
          <p:nvPr/>
        </p:nvSpPr>
        <p:spPr>
          <a:xfrm>
            <a:off x="4211640" y="4437000"/>
            <a:ext cx="7308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олилиния 17"/>
          <p:cNvSpPr/>
          <p:nvPr/>
        </p:nvSpPr>
        <p:spPr>
          <a:xfrm>
            <a:off x="3524400" y="871560"/>
            <a:ext cx="279360" cy="54000"/>
          </a:xfrm>
          <a:custGeom>
            <a:avLst/>
            <a:gdLst/>
            <a:ahLst/>
            <a:rect l="l" t="t" r="r" b="b"/>
            <a:pathLst>
              <a:path w="279400" h="54769">
                <a:moveTo>
                  <a:pt x="0" y="53181"/>
                </a:moveTo>
                <a:cubicBezTo>
                  <a:pt x="40481" y="27384"/>
                  <a:pt x="80963" y="1588"/>
                  <a:pt x="123825" y="794"/>
                </a:cubicBezTo>
                <a:cubicBezTo>
                  <a:pt x="166687" y="0"/>
                  <a:pt x="234950" y="42069"/>
                  <a:pt x="257175" y="48419"/>
                </a:cubicBezTo>
                <a:cubicBezTo>
                  <a:pt x="279400" y="54769"/>
                  <a:pt x="254794" y="44450"/>
                  <a:pt x="257175" y="38894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олилиния 18"/>
          <p:cNvSpPr/>
          <p:nvPr/>
        </p:nvSpPr>
        <p:spPr>
          <a:xfrm>
            <a:off x="4129200" y="855720"/>
            <a:ext cx="252360" cy="58680"/>
          </a:xfrm>
          <a:custGeom>
            <a:avLst/>
            <a:gdLst/>
            <a:ahLst/>
            <a:rect l="l" t="t" r="r" b="b"/>
            <a:pathLst>
              <a:path w="252412" h="57944">
                <a:moveTo>
                  <a:pt x="0" y="53182"/>
                </a:moveTo>
                <a:cubicBezTo>
                  <a:pt x="38496" y="26591"/>
                  <a:pt x="76993" y="0"/>
                  <a:pt x="119062" y="794"/>
                </a:cubicBezTo>
                <a:cubicBezTo>
                  <a:pt x="161131" y="1588"/>
                  <a:pt x="206771" y="29766"/>
                  <a:pt x="252412" y="57944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0"/>
          <p:cNvSpPr/>
          <p:nvPr/>
        </p:nvSpPr>
        <p:spPr>
          <a:xfrm flipV="1">
            <a:off x="3851280" y="836640"/>
            <a:ext cx="7308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22"/>
          <p:cNvSpPr/>
          <p:nvPr/>
        </p:nvSpPr>
        <p:spPr>
          <a:xfrm flipV="1">
            <a:off x="4284720" y="836640"/>
            <a:ext cx="7128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олилиния 11"/>
          <p:cNvSpPr/>
          <p:nvPr/>
        </p:nvSpPr>
        <p:spPr>
          <a:xfrm>
            <a:off x="3562200" y="1076400"/>
            <a:ext cx="163800" cy="55440"/>
          </a:xfrm>
          <a:custGeom>
            <a:avLst/>
            <a:gdLst/>
            <a:ahLst/>
            <a:rect l="l" t="t" r="r" b="b"/>
            <a:pathLst>
              <a:path w="163513" h="55563">
                <a:moveTo>
                  <a:pt x="0" y="47625"/>
                </a:moveTo>
                <a:cubicBezTo>
                  <a:pt x="25400" y="23812"/>
                  <a:pt x="50800" y="0"/>
                  <a:pt x="76200" y="0"/>
                </a:cubicBezTo>
                <a:cubicBezTo>
                  <a:pt x="101600" y="0"/>
                  <a:pt x="141288" y="39688"/>
                  <a:pt x="152400" y="47625"/>
                </a:cubicBezTo>
                <a:cubicBezTo>
                  <a:pt x="163513" y="55563"/>
                  <a:pt x="153194" y="51594"/>
                  <a:pt x="142875" y="47625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олилиния 12"/>
          <p:cNvSpPr/>
          <p:nvPr/>
        </p:nvSpPr>
        <p:spPr>
          <a:xfrm>
            <a:off x="4048200" y="1065240"/>
            <a:ext cx="190440" cy="58680"/>
          </a:xfrm>
          <a:custGeom>
            <a:avLst/>
            <a:gdLst/>
            <a:ahLst/>
            <a:rect l="l" t="t" r="r" b="b"/>
            <a:pathLst>
              <a:path w="190500" h="58738">
                <a:moveTo>
                  <a:pt x="0" y="58738"/>
                </a:moveTo>
                <a:cubicBezTo>
                  <a:pt x="26987" y="30957"/>
                  <a:pt x="53975" y="3176"/>
                  <a:pt x="85725" y="1588"/>
                </a:cubicBezTo>
                <a:cubicBezTo>
                  <a:pt x="117475" y="0"/>
                  <a:pt x="190500" y="49213"/>
                  <a:pt x="190500" y="49213"/>
                </a:cubicBezTo>
                <a:lnTo>
                  <a:pt x="190500" y="49213"/>
                </a:ln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16"/>
          <p:cNvSpPr/>
          <p:nvPr/>
        </p:nvSpPr>
        <p:spPr>
          <a:xfrm flipH="1">
            <a:off x="3785760" y="1071720"/>
            <a:ext cx="7164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1"/>
          <p:cNvSpPr/>
          <p:nvPr/>
        </p:nvSpPr>
        <p:spPr>
          <a:xfrm flipH="1">
            <a:off x="4142880" y="1071720"/>
            <a:ext cx="7164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23"/>
          <p:cNvSpPr/>
          <p:nvPr/>
        </p:nvSpPr>
        <p:spPr>
          <a:xfrm>
            <a:off x="3357720" y="571680"/>
            <a:ext cx="428400" cy="71280"/>
          </a:xfrm>
          <a:custGeom>
            <a:avLst/>
            <a:gdLst/>
            <a:ahLst/>
            <a:rect l="l" t="t" r="r" b="b"/>
            <a:pathLst>
              <a:path w="512763" h="120650">
                <a:moveTo>
                  <a:pt x="0" y="104775"/>
                </a:moveTo>
                <a:cubicBezTo>
                  <a:pt x="84137" y="52387"/>
                  <a:pt x="168275" y="0"/>
                  <a:pt x="247650" y="0"/>
                </a:cubicBezTo>
                <a:cubicBezTo>
                  <a:pt x="327025" y="0"/>
                  <a:pt x="439738" y="88900"/>
                  <a:pt x="476250" y="104775"/>
                </a:cubicBezTo>
                <a:cubicBezTo>
                  <a:pt x="512763" y="120650"/>
                  <a:pt x="489744" y="107950"/>
                  <a:pt x="466725" y="95250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олилиния 24"/>
          <p:cNvSpPr/>
          <p:nvPr/>
        </p:nvSpPr>
        <p:spPr>
          <a:xfrm>
            <a:off x="4238640" y="588960"/>
            <a:ext cx="476280" cy="125280"/>
          </a:xfrm>
          <a:custGeom>
            <a:avLst/>
            <a:gdLst/>
            <a:ahLst/>
            <a:rect l="l" t="t" r="r" b="b"/>
            <a:pathLst>
              <a:path w="419100" h="106362">
                <a:moveTo>
                  <a:pt x="0" y="96837"/>
                </a:moveTo>
                <a:cubicBezTo>
                  <a:pt x="60325" y="48418"/>
                  <a:pt x="120650" y="0"/>
                  <a:pt x="190500" y="1587"/>
                </a:cubicBezTo>
                <a:cubicBezTo>
                  <a:pt x="260350" y="3175"/>
                  <a:pt x="339725" y="54768"/>
                  <a:pt x="419100" y="106362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32"/>
          <p:cNvSpPr/>
          <p:nvPr/>
        </p:nvSpPr>
        <p:spPr>
          <a:xfrm flipH="1">
            <a:off x="3714840" y="571680"/>
            <a:ext cx="7128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40"/>
          <p:cNvSpPr/>
          <p:nvPr/>
        </p:nvSpPr>
        <p:spPr>
          <a:xfrm flipH="1">
            <a:off x="4357800" y="571680"/>
            <a:ext cx="71280" cy="142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68360" y="1155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ят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троилис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 отдых у реки. Быстр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нялис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 берегу палатки. Зар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гасал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оследние лучи солнца чу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трогали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шины деревьев. По оврага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ходил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уман. Мальчики стал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ка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учья. Один за други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спыхивал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стр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images (1).jpg"/>
          <p:cNvPicPr/>
          <p:nvPr/>
        </p:nvPicPr>
        <p:blipFill>
          <a:blip r:embed="rId1"/>
          <a:stretch/>
        </p:blipFill>
        <p:spPr>
          <a:xfrm>
            <a:off x="1828800" y="3213000"/>
            <a:ext cx="497520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бят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пол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ж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лис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 отдых у реки. Быстро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р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с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на берегу палатки. Зар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г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л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Последние лучи солнца чуть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ались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шин деревьев. По оврага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сст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лалс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уман. Мальчики стали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б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т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учья. Один за други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г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алис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остр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олилиния 4"/>
          <p:cNvSpPr/>
          <p:nvPr/>
        </p:nvSpPr>
        <p:spPr>
          <a:xfrm>
            <a:off x="3200400" y="1655640"/>
            <a:ext cx="695160" cy="163800"/>
          </a:xfrm>
          <a:custGeom>
            <a:avLst/>
            <a:gdLst/>
            <a:ahLst/>
            <a:rect l="l" t="t" r="r" b="b"/>
            <a:pathLst>
              <a:path w="695325" h="163512">
                <a:moveTo>
                  <a:pt x="0" y="163512"/>
                </a:moveTo>
                <a:cubicBezTo>
                  <a:pt x="103981" y="83343"/>
                  <a:pt x="207963" y="3174"/>
                  <a:pt x="323850" y="1587"/>
                </a:cubicBezTo>
                <a:cubicBezTo>
                  <a:pt x="439737" y="0"/>
                  <a:pt x="695325" y="153987"/>
                  <a:pt x="695325" y="153987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6"/>
          <p:cNvSpPr/>
          <p:nvPr/>
        </p:nvSpPr>
        <p:spPr>
          <a:xfrm flipH="1">
            <a:off x="3635280" y="2205000"/>
            <a:ext cx="216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олилиния 10"/>
          <p:cNvSpPr/>
          <p:nvPr/>
        </p:nvSpPr>
        <p:spPr>
          <a:xfrm>
            <a:off x="2762280" y="2160720"/>
            <a:ext cx="571320" cy="134640"/>
          </a:xfrm>
          <a:custGeom>
            <a:avLst/>
            <a:gdLst/>
            <a:ahLst/>
            <a:rect l="l" t="t" r="r" b="b"/>
            <a:pathLst>
              <a:path w="571500" h="134937">
                <a:moveTo>
                  <a:pt x="0" y="134937"/>
                </a:moveTo>
                <a:cubicBezTo>
                  <a:pt x="90487" y="69055"/>
                  <a:pt x="180975" y="3174"/>
                  <a:pt x="276225" y="1587"/>
                </a:cubicBezTo>
                <a:cubicBezTo>
                  <a:pt x="371475" y="0"/>
                  <a:pt x="514350" y="115887"/>
                  <a:pt x="571500" y="125412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12"/>
          <p:cNvSpPr/>
          <p:nvPr/>
        </p:nvSpPr>
        <p:spPr>
          <a:xfrm flipH="1">
            <a:off x="3132000" y="2637000"/>
            <a:ext cx="216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олилиния 13"/>
          <p:cNvSpPr/>
          <p:nvPr/>
        </p:nvSpPr>
        <p:spPr>
          <a:xfrm>
            <a:off x="1352520" y="2655720"/>
            <a:ext cx="590760" cy="115920"/>
          </a:xfrm>
          <a:custGeom>
            <a:avLst/>
            <a:gdLst/>
            <a:ahLst/>
            <a:rect l="l" t="t" r="r" b="b"/>
            <a:pathLst>
              <a:path w="590550" h="115887">
                <a:moveTo>
                  <a:pt x="0" y="115887"/>
                </a:moveTo>
                <a:cubicBezTo>
                  <a:pt x="84137" y="59531"/>
                  <a:pt x="168275" y="3175"/>
                  <a:pt x="266700" y="1587"/>
                </a:cubicBezTo>
                <a:cubicBezTo>
                  <a:pt x="365125" y="0"/>
                  <a:pt x="530225" y="90487"/>
                  <a:pt x="590550" y="106362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15"/>
          <p:cNvSpPr/>
          <p:nvPr/>
        </p:nvSpPr>
        <p:spPr>
          <a:xfrm flipV="1">
            <a:off x="2050920" y="2707920"/>
            <a:ext cx="73080" cy="73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олилиния 16"/>
          <p:cNvSpPr/>
          <p:nvPr/>
        </p:nvSpPr>
        <p:spPr>
          <a:xfrm>
            <a:off x="876240" y="3160800"/>
            <a:ext cx="609840" cy="125280"/>
          </a:xfrm>
          <a:custGeom>
            <a:avLst/>
            <a:gdLst/>
            <a:ahLst/>
            <a:rect l="l" t="t" r="r" b="b"/>
            <a:pathLst>
              <a:path w="609600" h="125412">
                <a:moveTo>
                  <a:pt x="0" y="125412"/>
                </a:moveTo>
                <a:cubicBezTo>
                  <a:pt x="106362" y="64293"/>
                  <a:pt x="212725" y="3175"/>
                  <a:pt x="314325" y="1587"/>
                </a:cubicBezTo>
                <a:cubicBezTo>
                  <a:pt x="415925" y="0"/>
                  <a:pt x="568325" y="101600"/>
                  <a:pt x="609600" y="115887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18"/>
          <p:cNvSpPr/>
          <p:nvPr/>
        </p:nvSpPr>
        <p:spPr>
          <a:xfrm flipV="1">
            <a:off x="1486080" y="3141360"/>
            <a:ext cx="133200" cy="135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20"/>
          <p:cNvSpPr/>
          <p:nvPr/>
        </p:nvSpPr>
        <p:spPr>
          <a:xfrm>
            <a:off x="1619280" y="3141720"/>
            <a:ext cx="7308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22"/>
          <p:cNvSpPr/>
          <p:nvPr/>
        </p:nvSpPr>
        <p:spPr>
          <a:xfrm flipH="1">
            <a:off x="1476000" y="3573360"/>
            <a:ext cx="142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24"/>
          <p:cNvSpPr/>
          <p:nvPr/>
        </p:nvSpPr>
        <p:spPr>
          <a:xfrm flipH="1">
            <a:off x="1476000" y="3645000"/>
            <a:ext cx="142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олилиния 26"/>
          <p:cNvSpPr/>
          <p:nvPr/>
        </p:nvSpPr>
        <p:spPr>
          <a:xfrm>
            <a:off x="1533600" y="3625920"/>
            <a:ext cx="723960" cy="136440"/>
          </a:xfrm>
          <a:custGeom>
            <a:avLst/>
            <a:gdLst/>
            <a:ahLst/>
            <a:rect l="l" t="t" r="r" b="b"/>
            <a:pathLst>
              <a:path w="723900" h="136525">
                <a:moveTo>
                  <a:pt x="0" y="117475"/>
                </a:moveTo>
                <a:cubicBezTo>
                  <a:pt x="158750" y="58737"/>
                  <a:pt x="317500" y="0"/>
                  <a:pt x="438150" y="3175"/>
                </a:cubicBezTo>
                <a:cubicBezTo>
                  <a:pt x="558800" y="6350"/>
                  <a:pt x="676275" y="123825"/>
                  <a:pt x="723900" y="136525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29"/>
          <p:cNvSpPr/>
          <p:nvPr/>
        </p:nvSpPr>
        <p:spPr>
          <a:xfrm flipV="1">
            <a:off x="2257560" y="3573000"/>
            <a:ext cx="153720" cy="189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31"/>
          <p:cNvSpPr/>
          <p:nvPr/>
        </p:nvSpPr>
        <p:spPr>
          <a:xfrm>
            <a:off x="2411280" y="3573360"/>
            <a:ext cx="73080" cy="14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ая соединительная линия 33"/>
          <p:cNvSpPr/>
          <p:nvPr/>
        </p:nvSpPr>
        <p:spPr>
          <a:xfrm flipH="1">
            <a:off x="2268360" y="4076640"/>
            <a:ext cx="216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ая соединительная линия 35"/>
          <p:cNvSpPr/>
          <p:nvPr/>
        </p:nvSpPr>
        <p:spPr>
          <a:xfrm flipH="1">
            <a:off x="2268360" y="4149720"/>
            <a:ext cx="216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олилиния 36"/>
          <p:cNvSpPr/>
          <p:nvPr/>
        </p:nvSpPr>
        <p:spPr>
          <a:xfrm>
            <a:off x="1285920" y="4065480"/>
            <a:ext cx="666720" cy="173160"/>
          </a:xfrm>
          <a:custGeom>
            <a:avLst/>
            <a:gdLst/>
            <a:ahLst/>
            <a:rect l="l" t="t" r="r" b="b"/>
            <a:pathLst>
              <a:path w="666750" h="173037">
                <a:moveTo>
                  <a:pt x="0" y="173037"/>
                </a:moveTo>
                <a:cubicBezTo>
                  <a:pt x="82550" y="88106"/>
                  <a:pt x="165100" y="3175"/>
                  <a:pt x="276225" y="1587"/>
                </a:cubicBezTo>
                <a:cubicBezTo>
                  <a:pt x="387350" y="0"/>
                  <a:pt x="606425" y="136525"/>
                  <a:pt x="666750" y="163512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ая соединительная линия 42"/>
          <p:cNvSpPr/>
          <p:nvPr/>
        </p:nvSpPr>
        <p:spPr>
          <a:xfrm flipV="1">
            <a:off x="1952640" y="4076640"/>
            <a:ext cx="171360" cy="152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ая соединительная линия 44"/>
          <p:cNvSpPr/>
          <p:nvPr/>
        </p:nvSpPr>
        <p:spPr>
          <a:xfrm>
            <a:off x="2124000" y="4076640"/>
            <a:ext cx="0" cy="144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46"/>
          <p:cNvSpPr/>
          <p:nvPr/>
        </p:nvSpPr>
        <p:spPr>
          <a:xfrm flipH="1">
            <a:off x="1979280" y="4508640"/>
            <a:ext cx="144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ая соединительная линия 48"/>
          <p:cNvSpPr/>
          <p:nvPr/>
        </p:nvSpPr>
        <p:spPr>
          <a:xfrm flipH="1">
            <a:off x="1979280" y="4581360"/>
            <a:ext cx="144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олилиния 49"/>
          <p:cNvSpPr/>
          <p:nvPr/>
        </p:nvSpPr>
        <p:spPr>
          <a:xfrm>
            <a:off x="6905520" y="4057560"/>
            <a:ext cx="590760" cy="190440"/>
          </a:xfrm>
          <a:custGeom>
            <a:avLst/>
            <a:gdLst/>
            <a:ahLst/>
            <a:rect l="l" t="t" r="r" b="b"/>
            <a:pathLst>
              <a:path w="590550" h="190500">
                <a:moveTo>
                  <a:pt x="0" y="190500"/>
                </a:moveTo>
                <a:cubicBezTo>
                  <a:pt x="112712" y="95250"/>
                  <a:pt x="225425" y="0"/>
                  <a:pt x="323850" y="0"/>
                </a:cubicBezTo>
                <a:cubicBezTo>
                  <a:pt x="422275" y="0"/>
                  <a:pt x="555625" y="155575"/>
                  <a:pt x="590550" y="190500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51"/>
          <p:cNvSpPr/>
          <p:nvPr/>
        </p:nvSpPr>
        <p:spPr>
          <a:xfrm flipV="1">
            <a:off x="7667640" y="4149720"/>
            <a:ext cx="73080" cy="7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53964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я глаголы с чередованием в корне, составьте памятку с советами, продолжив предложенный вариан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формация о правилах составления памятки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й короткие простые предлож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голы должны быть в форме 2 л. ед.ч. и передавать совет, просьбу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мыв руки перед едой, вытирай их тщательн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бор глаголов с чередующимися корнями: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ирать, убирать, вытирать, расстилать, задирать, растират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5092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о мой руки перед едой и вытирай их тщательн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ели салфетку на колен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дирай ноги и не болтай ими под столо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тирай рот не рукой, а салфетко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тирай в скатерть пролитый суп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еды убери за собой посуду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ленись, собери крошки и другой мусор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– 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– 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– 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–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- 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7T20:12:38Z</dcterms:created>
  <dc:creator>Admin</dc:creator>
  <dc:description/>
  <dc:language>en-US</dc:language>
  <cp:lastModifiedBy>Slava</cp:lastModifiedBy>
  <dcterms:modified xsi:type="dcterms:W3CDTF">2014-06-15T08:08:10Z</dcterms:modified>
  <cp:revision>22</cp:revision>
  <dc:subject/>
  <dc:title>Мастер – класс «Креативность как показатель качества образования: возможные приемы оценки» </dc:title>
</cp:coreProperties>
</file>