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45A-5E2A-46F0-AB28-96F9A4B7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4949-BF07-47A2-B25C-496CB21E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6FA-5B7C-4949-9006-6AF27E76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506-721A-4DFD-983C-AABABEE3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B7E2-7D81-4215-A2E2-DFCC722E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6536-51F3-4319-B5D4-1D298F9E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2533-0A46-435F-819B-6B162E53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5745-4A00-4DE4-8A66-7FB819A9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DEE4-7E85-48ED-B42D-5D97364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E2D3-8073-42BF-B189-FB3C48E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F302-E8E0-4091-84F1-21DF654C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A37-68D8-487A-87DF-62480CF6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D555-8A0A-4748-A13F-C06507A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950B-693E-49DB-96E3-A492498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82F6-334C-4C4D-BD82-5CA8B7E6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54AA-B54F-4B83-91D9-5AB5B0B3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F36C-C74F-4D30-9E44-D616E06A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3B1-C479-4CEA-BE9C-4A257CB5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4F5-06EA-4911-969B-C2B5335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9A5-8D4D-4D85-AD58-DA66EEF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A6F-2134-435B-A635-D95C907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E96-6F8E-4115-94C0-198811CF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8C4-87E9-4C5E-9FD6-3E76BE0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7F0-3E6C-4F06-BC2D-FAC63922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5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3CDC-AC26-473E-AEE0-F0961E23FF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AA74-8FDD-489A-8CB8-180419B3C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fsd.multiurok.ru/html/2018/09/10/s_5b96b17538c6d/948171_2.pn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антизация лексических единиц, обозначающих названия игрушек, на примере УМК «Английский в фокусе» для 3 класса общеобразовательной школы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16» г. Магнитогорска  Карачева А.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fsd.multiurok.ru/html/2018/09/10/s_5b96b17538c6d/948171_2.p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abcdenglish.ru/wp-content/uploads/2016/07/2-21-29-600x482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e(ə)rəpleɪn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ё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rcRect l="23921" t="0" r="59375" b="48364"/>
          <a:stretch/>
        </p:blipFill>
        <p:spPr>
          <a:xfrm>
            <a:off x="4583160" y="407880"/>
            <a:ext cx="26748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ɔːl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4363920" y="993600"/>
            <a:ext cx="234792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ɒl]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rcRect l="52865" t="48780" r="36199" b="0"/>
          <a:stretch/>
        </p:blipFill>
        <p:spPr>
          <a:xfrm>
            <a:off x="5046840" y="345960"/>
            <a:ext cx="18288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 se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iː set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ный серви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2" descr=""/>
          <p:cNvPicPr/>
          <p:nvPr/>
        </p:nvPicPr>
        <p:blipFill>
          <a:blip r:embed="rId1"/>
          <a:srcRect l="7805" t="56939" r="71729" b="0"/>
          <a:stretch/>
        </p:blipFill>
        <p:spPr>
          <a:xfrm>
            <a:off x="4299120" y="865080"/>
            <a:ext cx="30556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reɪn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4" descr=""/>
          <p:cNvPicPr/>
          <p:nvPr/>
        </p:nvPicPr>
        <p:blipFill>
          <a:blip r:embed="rId1"/>
          <a:srcRect l="72957" t="63436" r="9833" b="24214"/>
          <a:stretch/>
        </p:blipFill>
        <p:spPr>
          <a:xfrm>
            <a:off x="4200480" y="792000"/>
            <a:ext cx="354960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0"/>
          <p:cNvSpPr/>
          <p:nvPr/>
        </p:nvSpPr>
        <p:spPr>
          <a:xfrm>
            <a:off x="3124080" y="3141720"/>
            <a:ext cx="64198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ical bo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124080" y="4292640"/>
            <a:ext cx="641988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mjuːzɪkəl bɒks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124080" y="5373720"/>
            <a:ext cx="64198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шкату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rcRect l="33100" t="50006" r="54197" b="0"/>
          <a:stretch/>
        </p:blipFill>
        <p:spPr>
          <a:xfrm>
            <a:off x="5313240" y="482760"/>
            <a:ext cx="20592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0"/>
          <p:cNvSpPr/>
          <p:nvPr/>
        </p:nvSpPr>
        <p:spPr>
          <a:xfrm>
            <a:off x="3124080" y="3141720"/>
            <a:ext cx="689616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king hors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rɒkɪŋ hɔːs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3124080" y="5373720"/>
            <a:ext cx="771552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ка-качал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1"/>
          <a:srcRect l="0" t="0" r="83389" b="42120"/>
          <a:stretch/>
        </p:blipFill>
        <p:spPr>
          <a:xfrm>
            <a:off x="5278320" y="787320"/>
            <a:ext cx="16351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0"/>
          <p:cNvSpPr/>
          <p:nvPr/>
        </p:nvSpPr>
        <p:spPr>
          <a:xfrm>
            <a:off x="3124080" y="3141720"/>
            <a:ext cx="51976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pha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3124080" y="4292640"/>
            <a:ext cx="519768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elɪfənt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3124080" y="5373720"/>
            <a:ext cx="51976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rcRect l="45101" t="0" r="38080" b="44063"/>
          <a:stretch/>
        </p:blipFill>
        <p:spPr>
          <a:xfrm>
            <a:off x="5278320" y="549360"/>
            <a:ext cx="1990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5T15:41:11Z</dcterms:created>
  <dc:creator>Альбина Карачева</dc:creator>
  <dc:description/>
  <dc:language>en-US</dc:language>
  <cp:lastModifiedBy>Альбина Карачева</cp:lastModifiedBy>
  <dcterms:modified xsi:type="dcterms:W3CDTF">2024-01-08T14:27:56Z</dcterms:modified>
  <cp:revision>7</cp:revision>
  <dc:subject/>
  <dc:title>Презентация PowerPoint</dc:title>
</cp:coreProperties>
</file>