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DBCE-6D34-4757-A4E3-5537CE1B3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2E85-1088-45E2-9169-CBDC9428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B5D9-6507-4808-8FE0-AF290D6E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5EC-E3AA-417C-AA8D-E94C9090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F87D-4CEB-4484-82B4-46A727CC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8D36-CD14-4654-AC81-2241ABDE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34F0-DD0A-4394-AD92-CBA42624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77E4-1065-48D8-B52C-8F4D8959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1521-7D34-477A-80E3-ABBED2461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364E-2824-488E-9521-EE497E1D4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36D0-BAC2-459C-9B26-EF40D4E2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3FE6-B208-45F3-9E36-71F330DA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6DFA-C7C9-46DF-BA23-B5DDA2D9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B0DD-0F60-424A-9B4F-0C64BA9A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2D53-D884-456D-A208-4645E4D89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63E9-4118-44F1-8E77-85B6D05F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A2AD-7978-44C3-A9E5-B988FA9F5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E12C-37F6-4B81-A108-B1D3A2DF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458-7E28-4F47-933C-5FE4CB7C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AB79-F81D-4233-B8D4-E331005F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6C5-D5D7-4C34-A34A-09C3381A6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0FB-3410-4254-89F8-66079B0B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0819-BA49-4628-9E88-2336A64E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9CD-E557-4AE1-BA52-4351CDAE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55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5D9B-87C6-4F9D-83DC-CA203ADC82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1F7D0-8F4D-47F1-B015-6EB53F4BD3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fsd.multiurok.ru/html/2018/09/10/s_5b96b17538c6d/948171_2.png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емантизация лексических единиц, обозначающих названия игрушек, на примере УМК «Английский в фокусе» для 3 класса общеобразовательной школы»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: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английского языка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ОШ №16» г. Магнитогорска  Карачева А.К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граф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https://fsd.multiurok.ru/html/2018/09/10/s_5b96b17538c6d/948171_2.p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abcdenglish.ru/wp-content/uploads/2016/07/2-21-29-600x482.jp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0"/>
          <p:cNvSpPr/>
          <p:nvPr/>
        </p:nvSpPr>
        <p:spPr>
          <a:xfrm>
            <a:off x="3124080" y="3141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eroplan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5"/>
          <p:cNvSpPr/>
          <p:nvPr/>
        </p:nvSpPr>
        <p:spPr>
          <a:xfrm>
            <a:off x="3124080" y="4292640"/>
            <a:ext cx="532944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ˈe(ə)rəpleɪn]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6"/>
          <p:cNvSpPr/>
          <p:nvPr/>
        </p:nvSpPr>
        <p:spPr>
          <a:xfrm>
            <a:off x="3124080" y="5373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лё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2" descr=""/>
          <p:cNvPicPr/>
          <p:nvPr/>
        </p:nvPicPr>
        <p:blipFill>
          <a:blip r:embed="rId1"/>
          <a:srcRect l="23921" t="0" r="59375" b="48364"/>
          <a:stretch/>
        </p:blipFill>
        <p:spPr>
          <a:xfrm>
            <a:off x="4583160" y="407880"/>
            <a:ext cx="26748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0"/>
          <p:cNvSpPr/>
          <p:nvPr/>
        </p:nvSpPr>
        <p:spPr>
          <a:xfrm>
            <a:off x="3124080" y="3141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l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3124080" y="4292640"/>
            <a:ext cx="532944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ɔːl]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3124080" y="5373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яч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4" descr=""/>
          <p:cNvPicPr/>
          <p:nvPr/>
        </p:nvPicPr>
        <p:blipFill>
          <a:blip r:embed="rId1"/>
          <a:stretch/>
        </p:blipFill>
        <p:spPr>
          <a:xfrm>
            <a:off x="4363920" y="993600"/>
            <a:ext cx="2347920" cy="29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0"/>
          <p:cNvSpPr/>
          <p:nvPr/>
        </p:nvSpPr>
        <p:spPr>
          <a:xfrm>
            <a:off x="3124080" y="3141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ll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3124080" y="4292640"/>
            <a:ext cx="532944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dɒl]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3124080" y="5373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кл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1" descr=""/>
          <p:cNvPicPr/>
          <p:nvPr/>
        </p:nvPicPr>
        <p:blipFill>
          <a:blip r:embed="rId1"/>
          <a:srcRect l="52865" t="48780" r="36199" b="0"/>
          <a:stretch/>
        </p:blipFill>
        <p:spPr>
          <a:xfrm>
            <a:off x="5046840" y="345960"/>
            <a:ext cx="182880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0"/>
          <p:cNvSpPr/>
          <p:nvPr/>
        </p:nvSpPr>
        <p:spPr>
          <a:xfrm>
            <a:off x="3124080" y="3141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 se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3124080" y="4292640"/>
            <a:ext cx="532944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iː set]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124080" y="5373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йный сервиз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Рисунок 2" descr=""/>
          <p:cNvPicPr/>
          <p:nvPr/>
        </p:nvPicPr>
        <p:blipFill>
          <a:blip r:embed="rId1"/>
          <a:srcRect l="7805" t="56939" r="71729" b="0"/>
          <a:stretch/>
        </p:blipFill>
        <p:spPr>
          <a:xfrm>
            <a:off x="4299120" y="865080"/>
            <a:ext cx="3055680" cy="18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0"/>
          <p:cNvSpPr/>
          <p:nvPr/>
        </p:nvSpPr>
        <p:spPr>
          <a:xfrm>
            <a:off x="3124080" y="3141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5"/>
          <p:cNvSpPr/>
          <p:nvPr/>
        </p:nvSpPr>
        <p:spPr>
          <a:xfrm>
            <a:off x="3124080" y="4292640"/>
            <a:ext cx="532944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treɪn]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3124080" y="5373720"/>
            <a:ext cx="532944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зд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Рисунок 4" descr=""/>
          <p:cNvPicPr/>
          <p:nvPr/>
        </p:nvPicPr>
        <p:blipFill>
          <a:blip r:embed="rId1"/>
          <a:srcRect l="72957" t="63436" r="9833" b="24214"/>
          <a:stretch/>
        </p:blipFill>
        <p:spPr>
          <a:xfrm>
            <a:off x="4200480" y="792000"/>
            <a:ext cx="3549600" cy="20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0"/>
          <p:cNvSpPr/>
          <p:nvPr/>
        </p:nvSpPr>
        <p:spPr>
          <a:xfrm>
            <a:off x="3124080" y="3141720"/>
            <a:ext cx="641988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ical bo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5"/>
          <p:cNvSpPr/>
          <p:nvPr/>
        </p:nvSpPr>
        <p:spPr>
          <a:xfrm>
            <a:off x="3124080" y="4292640"/>
            <a:ext cx="641988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ˈmjuːzɪkəl bɒks]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6"/>
          <p:cNvSpPr/>
          <p:nvPr/>
        </p:nvSpPr>
        <p:spPr>
          <a:xfrm>
            <a:off x="3124080" y="5373720"/>
            <a:ext cx="641988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ая шкатул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Рисунок 1" descr=""/>
          <p:cNvPicPr/>
          <p:nvPr/>
        </p:nvPicPr>
        <p:blipFill>
          <a:blip r:embed="rId1"/>
          <a:srcRect l="33100" t="50006" r="54197" b="0"/>
          <a:stretch/>
        </p:blipFill>
        <p:spPr>
          <a:xfrm>
            <a:off x="5313240" y="482760"/>
            <a:ext cx="20592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Прямоугольник 10"/>
          <p:cNvSpPr/>
          <p:nvPr/>
        </p:nvSpPr>
        <p:spPr>
          <a:xfrm>
            <a:off x="3124080" y="3141720"/>
            <a:ext cx="689616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king hors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3124080" y="4292640"/>
            <a:ext cx="532944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ˈrɒkɪŋ hɔːs]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3124080" y="5373720"/>
            <a:ext cx="771552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шадка-качал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1" descr=""/>
          <p:cNvPicPr/>
          <p:nvPr/>
        </p:nvPicPr>
        <p:blipFill>
          <a:blip r:embed="rId1"/>
          <a:srcRect l="0" t="0" r="83389" b="42120"/>
          <a:stretch/>
        </p:blipFill>
        <p:spPr>
          <a:xfrm>
            <a:off x="5278320" y="787320"/>
            <a:ext cx="163512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0"/>
          <p:cNvSpPr/>
          <p:nvPr/>
        </p:nvSpPr>
        <p:spPr>
          <a:xfrm>
            <a:off x="3124080" y="3141720"/>
            <a:ext cx="519768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phan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Прямоугольник 5"/>
          <p:cNvSpPr/>
          <p:nvPr/>
        </p:nvSpPr>
        <p:spPr>
          <a:xfrm>
            <a:off x="3124080" y="4292640"/>
            <a:ext cx="5197680" cy="936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ˈelɪfənt]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Прямоугольник 6"/>
          <p:cNvSpPr/>
          <p:nvPr/>
        </p:nvSpPr>
        <p:spPr>
          <a:xfrm>
            <a:off x="3124080" y="5373720"/>
            <a:ext cx="5197680" cy="934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н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Рисунок 2" descr=""/>
          <p:cNvPicPr/>
          <p:nvPr/>
        </p:nvPicPr>
        <p:blipFill>
          <a:blip r:embed="rId1"/>
          <a:srcRect l="45101" t="0" r="38080" b="44063"/>
          <a:stretch/>
        </p:blipFill>
        <p:spPr>
          <a:xfrm>
            <a:off x="5278320" y="549360"/>
            <a:ext cx="19908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1-25T15:41:11Z</dcterms:created>
  <dc:creator>Альбина Карачева</dc:creator>
  <dc:description/>
  <dc:language>en-US</dc:language>
  <cp:lastModifiedBy>Альбина Карачева</cp:lastModifiedBy>
  <dcterms:modified xsi:type="dcterms:W3CDTF">2024-01-08T14:27:56Z</dcterms:modified>
  <cp:revision>7</cp:revision>
  <dc:subject/>
  <dc:title>Презентация PowerPoint</dc:title>
</cp:coreProperties>
</file>