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47BA-7DE2-4A06-ADCB-CF3D037E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1AE1-AD7D-4006-80E9-CB911173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B188-29C5-456A-9319-38466FC4A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418E-BB6F-4BEC-8CC4-9A8908741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F869-A2F9-4C1B-AC58-A7321FCA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B6DF8-AA23-4CD5-9302-0AB2C008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97FD-5E6F-47E9-8688-093553DB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6300-CD0C-4573-A941-48F5C7D4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E93E-E6E3-46F3-9AB2-DF705D0E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4BAD-E083-49F1-A99F-06082FA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83F37-436C-4EBB-921B-8A866FFF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0477-09C2-4AF0-BF39-AC1AC724F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665-BE80-4414-A9F3-0C70D943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FDEF-F140-4DDF-9557-7548EF0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5979-7832-4D21-980B-E20B1CDC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C4965-387C-4D90-B61B-D54124A85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0AFD8-CFC5-4661-ADBD-D3C75476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E7B4-D748-4BC3-B8D6-EF0E6F29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9DF9-4816-48F3-9CD1-66BDE66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E26-4FF2-4713-8B07-ED24D721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96A8-6E54-44EC-9B1C-9BC1CCF9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671A-9DD0-492C-9ABC-EA6CD4BD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69E1-A197-40F5-86BE-0A8AD230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26C-CEB5-4EBA-9ABC-B399B386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BA9-3F19-43B0-B252-4CA47A5C43CB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0B78-D009-476A-9A0E-B004EE528840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334120" cy="5029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1447920" y="301680"/>
            <a:ext cx="76914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om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er aspera ad astr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к повторения и обобщения изученного матер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1784520" y="189000"/>
            <a:ext cx="5281560" cy="96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411280" y="3500280"/>
            <a:ext cx="410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895480" y="609480"/>
            <a:ext cx="5486400" cy="73368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1600200" y="1600200"/>
          <a:ext cx="7543800" cy="5257800"/>
        </p:xfrm>
        <a:graphic>
          <a:graphicData uri="http://schemas.openxmlformats.org/drawingml/2006/table">
            <a:tbl>
              <a:tblPr/>
              <a:tblGrid>
                <a:gridCol w="2514600"/>
                <a:gridCol w="2514600"/>
                <a:gridCol w="2514600"/>
              </a:tblGrid>
              <a:tr h="52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ar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humanum est. -  Человеку свойственно ошибаться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s sana in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Здоровый дух в здоровом теле.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Elephantum ex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a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s. -Делаешь из мухи слона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i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c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Пришел, увидел, победил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etitio es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tud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 -   Повторение - мать учения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b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ala cito crescit. -  Сорная трава быстро растёт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norantia non est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gumentum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Незнание – не оправдание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petuum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-Вечный двигатель.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Per aspera ad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ез терни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ёзда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Usus est optimus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gister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ыт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учший учитель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Audi,vide,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le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ушай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отри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чи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Homo homini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pus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.  -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овек человеку волк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3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20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" dur="2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нция 3. Повторяем правила чтения и ударения в латинских словах.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727360" y="4079880"/>
            <a:ext cx="5730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590920" y="441972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803680" y="4079880"/>
            <a:ext cx="534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523880" y="1920960"/>
          <a:ext cx="7467840" cy="4771800"/>
        </p:xfrm>
        <a:graphic>
          <a:graphicData uri="http://schemas.openxmlformats.org/drawingml/2006/table">
            <a:tbl>
              <a:tblPr/>
              <a:tblGrid>
                <a:gridCol w="1944720"/>
                <a:gridCol w="1828800"/>
                <a:gridCol w="1754280"/>
                <a:gridCol w="1940040"/>
              </a:tblGrid>
              <a:tr h="4968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чет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роизнош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риме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ранскрип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38592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3059280"/>
                          <a:tab algn="r" pos="611964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nch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раков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нх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hysi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физ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физ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haphe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ра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аф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enth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мя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э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ng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ред гл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г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ngui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копы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нгв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s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ш- в клин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--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х-в анатом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churi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задержание жидк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chem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сх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ишур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----------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хэ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еред гл.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о не   посл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[ци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patiu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простран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xperienti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опытное зн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паци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экспэриэнц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в остальных случая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[ти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estia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звер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ixtio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смешива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alatinus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ёб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бэсти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миксти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ал’атину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52120" y="151920"/>
            <a:ext cx="734076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итайте слова, учитывая правила произношения и ударения в словах.</a:t>
            </a:r>
            <a:r>
              <a:rPr b="1" i="1" lang="ru-RU" sz="28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едите слова на русский язык.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1523880" y="1752480"/>
          <a:ext cx="7467840" cy="510552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ina, caniculus crematio, metacarpus, ostium, orthopedia, function, atrophia, rhizoma vértebr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 medicīna, hygien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m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o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ter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ndula, auricula, incisura, patientia, sangui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tis, digitus thrombosis, musculus, costa, caput, auscultatio, bronchus, mandib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ecus, collum, canis, phalanx, choler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illa, pathologia, ungui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sura, abdomen, oesophagus, caud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u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aeta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schaem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676520"/>
          <a:ext cx="7467840" cy="5211720"/>
        </p:xfrm>
        <a:graphic>
          <a:graphicData uri="http://schemas.openxmlformats.org/drawingml/2006/table">
            <a:tbl>
              <a:tblPr/>
              <a:tblGrid>
                <a:gridCol w="2489400"/>
                <a:gridCol w="2489040"/>
                <a:gridCol w="2489400"/>
              </a:tblGrid>
              <a:tr h="521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a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us crem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o, metac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pus, 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um, orthoped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f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tion, atroph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, rhiz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 v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é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ebra, cor medic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ī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, hygi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,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, sch</a:t>
                      </a: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er, gl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dula, aur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la, inci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, pati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tia, 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uis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s, d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tus thromb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s, 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ulus, costa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, auscult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o, br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hus, mand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s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lum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s, ph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x, cholera. 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illa, pathol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a, 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guis, fis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u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, abd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, oes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hagus, c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a, 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cus, di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e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, ischaem</a:t>
                      </a:r>
                      <a:r>
                        <a:rPr b="1" lang="fr-FR" sz="2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171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895120" y="456840"/>
            <a:ext cx="533412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5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5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2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4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1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ция 4. Повторяем склонение существительного, падежи и несогласованное определение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828800" y="1911240"/>
          <a:ext cx="7086600" cy="4732560"/>
        </p:xfrm>
        <a:graphic>
          <a:graphicData uri="http://schemas.openxmlformats.org/drawingml/2006/table">
            <a:tbl>
              <a:tblPr/>
              <a:tblGrid>
                <a:gridCol w="449280"/>
                <a:gridCol w="1057320"/>
                <a:gridCol w="660240"/>
                <a:gridCol w="966960"/>
                <a:gridCol w="2098440"/>
                <a:gridCol w="1065240"/>
                <a:gridCol w="789120"/>
              </a:tblGrid>
              <a:tr h="63108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MS Mincho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к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ч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о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а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f (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m (f)    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m, f                 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m         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        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,er   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аз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m              = 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,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 /i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         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i          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m         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ē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160"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P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c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ā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      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ō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s    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        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 /i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um (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.) /ium (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.,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см</a:t>
                      </a: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        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 /ia (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л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        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u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us        u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er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e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ите склонение существительных и переведите их на русский язык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00200" y="1828800"/>
          <a:ext cx="7391520" cy="480060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480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um, i 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s,flori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vis, ĕri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s, u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us, i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ulla, ae f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ater,  tri  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gīnum,i 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ctus,  u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x, īcis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mentum,i 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īca, ae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us, i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gu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s, us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a,ae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es, ēi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ca, ae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es,ēi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ndula, ae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rum, i n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u, us 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, us m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178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479600" y="5866920"/>
            <a:ext cx="76262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8000"/>
          </a:bodyPr>
          <a:p>
            <a:pPr marL="9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95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352680" y="456840"/>
            <a:ext cx="4267440" cy="73836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1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600200" y="1828800"/>
          <a:ext cx="7391520" cy="4368960"/>
        </p:xfrm>
        <a:graphic>
          <a:graphicData uri="http://schemas.openxmlformats.org/drawingml/2006/table">
            <a:tbl>
              <a:tblPr/>
              <a:tblGrid>
                <a:gridCol w="2463840"/>
                <a:gridCol w="2463840"/>
                <a:gridCol w="2463840"/>
              </a:tblGrid>
              <a:tr h="436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um, i n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s,flori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lvis, ĕri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sus, u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ulus, i 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ull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iater,  tri  m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es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algīnum,i n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ctus,  u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x, īcis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camentum,i 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īc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us, i 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gu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us, us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qua,ae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cies, ēi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ca, ae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ecies,ēi f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landula, ae f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trum, i n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nu, us n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us, us m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6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6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6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7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еведите на латинский язык словосочетания с несогласованными определениям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4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600200" y="1447920"/>
          <a:ext cx="7315200" cy="5194080"/>
        </p:xfrm>
        <a:graphic>
          <a:graphicData uri="http://schemas.openxmlformats.org/drawingml/2006/table">
            <a:tbl>
              <a:tblPr/>
              <a:tblGrid>
                <a:gridCol w="2438280"/>
                <a:gridCol w="2438640"/>
                <a:gridCol w="2438280"/>
              </a:tblGrid>
              <a:tr h="29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itu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m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але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перел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клетка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ngiv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ndibu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нижняя челюсть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act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перел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ss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ū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щель, трещ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u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копыт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tu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шов кост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apul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лопат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tur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ы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xa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та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22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лом пальц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етка десны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ещина копыт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лом нижней челюст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рыв таза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ов лопатки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517760" y="1600200"/>
            <a:ext cx="762624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Пятно 1 9"/>
          <p:cNvSpPr/>
          <p:nvPr/>
        </p:nvSpPr>
        <p:spPr>
          <a:xfrm>
            <a:off x="2057400" y="1752480"/>
            <a:ext cx="6629400" cy="51055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 пальца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git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тка десны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a gingi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429000" y="506160"/>
            <a:ext cx="449568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8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8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1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600200" y="1904760"/>
            <a:ext cx="7315200" cy="422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91" name="Пятно 1 3"/>
          <p:cNvSpPr/>
          <p:nvPr/>
        </p:nvSpPr>
        <p:spPr>
          <a:xfrm>
            <a:off x="1828800" y="1981080"/>
            <a:ext cx="7315200" cy="46483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рещина копыта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 ungu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 нижн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люсти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ū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 mandibul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352320" y="658440"/>
            <a:ext cx="441972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3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0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0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0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0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9" dur="2000" fill="hold"/>
                                        <p:tgtEl>
                                          <p:spTgt spid="1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1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alvete amic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! </a:t>
            </a:r>
            <a:br>
              <a:rPr sz="28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81080"/>
            <a:ext cx="74678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и учебного занят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уализировать и обобщить изученный материал с целью подготовки к зачёту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умение оценивать свои знания и возможно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ировать интерес и уважение к профессии ветерина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 учебного занятия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ширять представление обучающихся о значении латинского языка в профессии и повседневной жизн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общить и систематизировать лексико-грамматический материал посредством выполнения упражнений на знание латинской лексики, крылатых выражений, пословиц, грамматических прави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 у обучающихся способность аналитического мышления, память, воображение, быстроту реак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ждисциплинарные связи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у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й язык, литература, история, иностранный язык, анатом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ятно 1 4"/>
          <p:cNvSpPr/>
          <p:nvPr/>
        </p:nvSpPr>
        <p:spPr>
          <a:xfrm>
            <a:off x="1523880" y="2133720"/>
            <a:ext cx="7620120" cy="43434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таза –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ptura cox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ов лопатки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tura scapu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3124080" y="460800"/>
            <a:ext cx="4496040" cy="73224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3123720" y="457200"/>
            <a:ext cx="4419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1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19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20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22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8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52480" y="533520"/>
            <a:ext cx="70106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анция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Глагол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яжение. </a:t>
            </a:r>
            <a:br>
              <a:rPr sz="28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79600" y="5715000"/>
            <a:ext cx="76262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676520" y="2590920"/>
          <a:ext cx="7162560" cy="3962160"/>
        </p:xfrm>
        <a:graphic>
          <a:graphicData uri="http://schemas.openxmlformats.org/drawingml/2006/table">
            <a:tbl>
              <a:tblPr/>
              <a:tblGrid>
                <a:gridCol w="1322280"/>
                <a:gridCol w="1951200"/>
                <a:gridCol w="1952280"/>
                <a:gridCol w="1936800"/>
              </a:tblGrid>
              <a:tr h="13208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ончание инфинити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в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ā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nā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знач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ē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scē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и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60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ĕ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ipĕ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0240"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ī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nī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мазыва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02" name="Прямоугольник 5"/>
          <p:cNvSpPr/>
          <p:nvPr/>
        </p:nvSpPr>
        <p:spPr>
          <a:xfrm>
            <a:off x="1600200" y="17524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глаголов по спряжениям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7968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пределите спряжение глаголов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79600" y="2133720"/>
            <a:ext cx="7626240" cy="396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752480" y="3048120"/>
          <a:ext cx="7086600" cy="213336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213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cip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ē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ī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bē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d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ī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ā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uscultā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206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гол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велительное наклонение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86440" y="5334120"/>
            <a:ext cx="7613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авать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дай,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дай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olvĕ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re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(III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растворять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olvĕ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раствори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olv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it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раствори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676520" y="1981080"/>
          <a:ext cx="7234200" cy="2895840"/>
        </p:xfrm>
        <a:graphic>
          <a:graphicData uri="http://schemas.openxmlformats.org/drawingml/2006/table">
            <a:tbl>
              <a:tblPr/>
              <a:tblGrid>
                <a:gridCol w="3611520"/>
                <a:gridCol w="3622680"/>
              </a:tblGrid>
              <a:tr h="2895840">
                <a:tc>
                  <a:txBody>
                    <a:bodyPr lIns="7308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I, II, III, IV спряжения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инитив минус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.ч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I, II, IV спряжениях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III спряжении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 + </a:t>
                      </a: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3080" marR="73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рещение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Прямоугольник 2"/>
          <p:cNvSpPr/>
          <p:nvPr/>
        </p:nvSpPr>
        <p:spPr>
          <a:xfrm>
            <a:off x="2209680" y="2133720"/>
            <a:ext cx="525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единственного числ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noli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 инфинитив глаг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орма множественного числ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nolit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инфинитив глаго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oli legĕre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не читай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Nolite legĕ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не читайт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бразуйте повелительное наклонение и запрещение ед. и мн. числа от следующих глаголов</a:t>
            </a:r>
            <a:endParaRPr b="0" i="1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79600" y="6019560"/>
            <a:ext cx="762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752480" y="2438280"/>
          <a:ext cx="7086600" cy="21337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213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ntīre</a:t>
                      </a: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pic>
        <p:nvPicPr>
          <p:cNvPr id="215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600200" y="601992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752480" y="1981080"/>
          <a:ext cx="7086600" cy="4191120"/>
        </p:xfrm>
        <a:graphic>
          <a:graphicData uri="http://schemas.openxmlformats.org/drawingml/2006/table">
            <a:tbl>
              <a:tblPr/>
              <a:tblGrid>
                <a:gridCol w="2362320"/>
                <a:gridCol w="2362320"/>
                <a:gridCol w="236196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ить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t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t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ēr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тови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a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t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t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aeparāre 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увствоват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li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!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it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tīre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!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3123720" y="506160"/>
            <a:ext cx="4496040" cy="73980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19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3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3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3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139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3" dur="2000" fill="hold"/>
                                        <p:tgtEl>
                                          <p:spTgt spid="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5" dur="2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нция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аполните схему!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79600" y="6019560"/>
            <a:ext cx="7626240" cy="7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29880" bIns="29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C:\Users\ирина\Desktop\wolf_timber_labeling72.jpg"/>
          <p:cNvPicPr/>
          <p:nvPr/>
        </p:nvPicPr>
        <p:blipFill>
          <a:blip r:embed="rId1"/>
          <a:stretch/>
        </p:blipFill>
        <p:spPr>
          <a:xfrm>
            <a:off x="1676520" y="1905120"/>
            <a:ext cx="7086600" cy="46479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5" descr="69"/>
          <p:cNvPicPr/>
          <p:nvPr/>
        </p:nvPicPr>
        <p:blipFill>
          <a:blip r:embed="rId2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танция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7. Рецепт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цепт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— официальный документ, составленный по определённой форме, являющийся предписанием врача фармацевту об изготовлении и отпуске больному лекарства с указанием способов его примене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ыписывании используются лаконичные глагольные формулы в повелительном наклонении. Число этих формул невелико, они стандартны и их нужно запомни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ecipe  Воз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Misce  Смеша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a  Выда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Da tales doses  Выдай такие до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Numero  Числ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Signa  Обознач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28920" y="457200"/>
            <a:ext cx="75643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чтите и переведите рецепт на русский язык.</a:t>
            </a:r>
            <a:br>
              <a:rPr sz="28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479600" y="1752480"/>
            <a:ext cx="7626240" cy="510552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p.: Тab. Amoxicillini 0,5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.t.d.N. 2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. Принимать внутрь по 1 таблетке 2 раза в сутки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Rp.: Amoxicillini 1,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D.t.d.N. 20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. Содержимое флакона растворить в 100 мл 0,9% р-ра NaCl, вводить внутривенно капельно 2 раза в сут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ipe: Acidi ascorbi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iboflav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idi nicotinici 0,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hyamini chloridi 0,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Glucosi 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isce, fiat pul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a tales doses numero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ig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ция 1. Домашнее задание</a:t>
            </a:r>
            <a:br>
              <a:rPr sz="4000"/>
            </a:b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7581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.Сколько в латинском алфавите бук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. Как читается буква С перед буквами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3. На какой слог падает ударение в латинских слова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Гласные звуки в латинском языке бывают 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…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5. Как читается буква С перед буквам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, о,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Букв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читается как русское буквосочетание 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ое окончание имеет глагол в настоящем времени действит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алога в 1 л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ед. числа имееет окончание …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Сколько падежей существительных имеется в латинском язык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Сколько спряжений у латинских глагол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определить тип спряжения глаго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В каком наклонении употребляются глаголы в рецептурных формулировка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образуется форм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елительного наклонения при запрещен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переводится в рецепте глагол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зовите инфини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Как переводится в рецепте глагол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isc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Назовите инфинити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шите и запомните название лекарственных форм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479600" y="1447560"/>
            <a:ext cx="7626240" cy="5181480"/>
          </a:xfrm>
          <a:prstGeom prst="rect">
            <a:avLst/>
          </a:prstGeom>
          <a:solidFill>
            <a:srgbClr val="ffa347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523880" y="1523880"/>
          <a:ext cx="7391520" cy="510552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510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letta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e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абле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lus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илю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sta, ae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с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sitori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ч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lutio, ōnis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uls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муль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xtūra, ae f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е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nctura, ae f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той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tract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трак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usum,i n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ст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octum, i n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ва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gée (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скл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)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аж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lastrum, i n 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стыр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guentum, i n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з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которые греко-латинские соответствия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479600" y="6095880"/>
            <a:ext cx="7626240" cy="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447920" y="1295280"/>
          <a:ext cx="7543800" cy="5349960"/>
        </p:xfrm>
        <a:graphic>
          <a:graphicData uri="http://schemas.openxmlformats.org/drawingml/2006/table">
            <a:tbl>
              <a:tblPr/>
              <a:tblGrid>
                <a:gridCol w="2330280"/>
                <a:gridCol w="3079800"/>
                <a:gridCol w="2133720"/>
              </a:tblGrid>
              <a:tr h="823320"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Греческ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орни-дубл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атинские существ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Общее зна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toma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ri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р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odo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з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apa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bdomen, inis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иво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eph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по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neum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no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ul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ег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ard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серд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hae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sangu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кров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po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н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o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u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ух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herap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uratio, onis 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леч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  <a:tr h="411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h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fel, fellis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желч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34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2819520" y="259092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audeāmus igĭtur,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Juvĕnes dum sumus!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ost jucundam juventūtem,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ost molestam senectūtem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Nos habēbit humu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Прямоугольник 2"/>
          <p:cNvSpPr/>
          <p:nvPr/>
        </p:nvSpPr>
        <p:spPr>
          <a:xfrm>
            <a:off x="3048120" y="838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Gaudeām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anthem-gaudeamus-igitur.mp3" descr=""/>
          <p:cNvPicPr/>
          <p:nvPr/>
        </p:nvPicPr>
        <p:blipFill>
          <a:blip r:embed="rId1"/>
          <a:stretch/>
        </p:blipFill>
        <p:spPr>
          <a:xfrm>
            <a:off x="7772400" y="56386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14005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979640" y="189000"/>
            <a:ext cx="5113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9" name="Picture 3" descr="C:\Users\ирина\Desktop\1639384816_1-abrakadabra-fun-p-otkritki-klassno-zdorovo-super-otlichno-1.jpg"/>
          <p:cNvPicPr/>
          <p:nvPr/>
        </p:nvPicPr>
        <p:blipFill>
          <a:blip r:embed="rId1"/>
          <a:stretch/>
        </p:blipFill>
        <p:spPr>
          <a:xfrm>
            <a:off x="2286000" y="2286000"/>
            <a:ext cx="6019920" cy="41133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3"/>
          <p:cNvSpPr/>
          <p:nvPr/>
        </p:nvSpPr>
        <p:spPr>
          <a:xfrm>
            <a:off x="3048120" y="45720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00000"/>
                </a:solidFill>
                <a:latin typeface="Times New Roman"/>
              </a:rPr>
              <a:t>Gratias ago!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нция 2.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Lingua Latina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 flipH="1">
            <a:off x="6019560" y="19051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2" descr="C:\Users\ирина\Desktop\scale_1200.jpg"/>
          <p:cNvPicPr/>
          <p:nvPr/>
        </p:nvPicPr>
        <p:blipFill>
          <a:blip r:embed="rId1"/>
          <a:stretch/>
        </p:blipFill>
        <p:spPr>
          <a:xfrm>
            <a:off x="1600200" y="1828800"/>
            <a:ext cx="75438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295280" y="15228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4708440" y="613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5"/>
          <p:cNvSpPr/>
          <p:nvPr/>
        </p:nvSpPr>
        <p:spPr>
          <a:xfrm>
            <a:off x="685800" y="2057400"/>
            <a:ext cx="3429000" cy="25146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онститу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la-VA" sz="2400" spc="-1" strike="noStrike">
                <a:solidFill>
                  <a:srgbClr val="000000"/>
                </a:solidFill>
                <a:latin typeface="Times New Roman"/>
              </a:rPr>
              <a:t>onstitutio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строй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17"/>
          <p:cNvSpPr/>
          <p:nvPr/>
        </p:nvSpPr>
        <p:spPr>
          <a:xfrm>
            <a:off x="0" y="4648320"/>
            <a:ext cx="3733920" cy="220968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ursus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течение, пу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9"/>
          <p:cNvSpPr/>
          <p:nvPr/>
        </p:nvSpPr>
        <p:spPr>
          <a:xfrm>
            <a:off x="3276720" y="4572000"/>
            <a:ext cx="3276360" cy="22860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ре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r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авит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21"/>
          <p:cNvSpPr/>
          <p:nvPr/>
        </p:nvSpPr>
        <p:spPr>
          <a:xfrm>
            <a:off x="609480" y="152280"/>
            <a:ext cx="3505320" cy="21337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ль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делыва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3"/>
          <p:cNvSpPr/>
          <p:nvPr/>
        </p:nvSpPr>
        <p:spPr>
          <a:xfrm>
            <a:off x="6248520" y="2057400"/>
            <a:ext cx="2895480" cy="21337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ок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doc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учё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3"/>
          <p:cNvSpPr/>
          <p:nvPr/>
        </p:nvSpPr>
        <p:spPr>
          <a:xfrm>
            <a:off x="6629400" y="0"/>
            <a:ext cx="2514600" cy="18288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реди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  </a:t>
            </a:r>
            <a:r>
              <a:rPr b="1" i="1" lang="fr-FR" sz="2000" spc="-1" strike="noStrike">
                <a:solidFill>
                  <a:srgbClr val="000000"/>
                </a:solidFill>
                <a:latin typeface="Times New Roman"/>
              </a:rPr>
              <a:t>cre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ер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6400800" y="3886200"/>
            <a:ext cx="2895480" cy="28195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двок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т лат.а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dvo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омогать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изыва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15"/>
          <p:cNvSpPr/>
          <p:nvPr/>
        </p:nvSpPr>
        <p:spPr>
          <a:xfrm>
            <a:off x="4038480" y="457200"/>
            <a:ext cx="3048120" cy="20574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уди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aud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луш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3733920" y="2133720"/>
            <a:ext cx="2895480" cy="27432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 лат. </a:t>
            </a:r>
            <a:r>
              <a:rPr b="1" i="1" lang="en-GB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it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бу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79680" y="3805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равни слов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981080" y="1905120"/>
            <a:ext cx="670572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440" y="1752120"/>
            <a:ext cx="8420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the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[ˈmʌðə]-ма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лат. М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udent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ˈstjuːdənt] - студен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лат.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tu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tur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[ˈneɪʧə]-  природ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лат.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memorial [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ɪˈ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ɔː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ɪə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]-мемориал, памятник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лат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ool [skuːl]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кол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Scho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ace  [ˈterəs]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ас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quarium [əˈkwerɪəm]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вариу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Aquar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tu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ˈfɔːʧən] 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дач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Fortū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ˈterə] 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рор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perso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pɜːsn] – личность, персона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.persō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гл. vitamin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[ˈvɪtəmɪn] – витамин-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ат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tamin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нгл.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[ˈ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ɒ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ɜː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торговля, коммерция - ла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mmercium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шите слова из русского языка происходящие о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676520" y="1981080"/>
          <a:ext cx="7315200" cy="4183200"/>
        </p:xfrm>
        <a:graphic>
          <a:graphicData uri="http://schemas.openxmlformats.org/drawingml/2006/table">
            <a:tbl>
              <a:tblPr/>
              <a:tblGrid>
                <a:gridCol w="2438280"/>
                <a:gridCol w="2438280"/>
                <a:gridCol w="2438640"/>
              </a:tblGrid>
              <a:tr h="63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  <a:tr h="354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латинского слова  manus, «рука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латинского слова quartus, “четверты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латинского  слова fes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праздни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латинского слова porto, «ношу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латинского слова terra «земля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латинского слова lit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букв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латинского слова memor «память» 2.латинского слова albus «белый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латинского  слова fili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«сын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18720">
                      <a:solidFill>
                        <a:srgbClr val="ffcc66"/>
                      </a:solidFill>
                    </a:lnT>
                    <a:lnB w="5760">
                      <a:solidFill>
                        <a:srgbClr val="ffcc66"/>
                      </a:solidFill>
                    </a:lnB>
                    <a:solidFill>
                      <a:srgbClr val="ffde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smile-10"/>
          <p:cNvPicPr/>
          <p:nvPr/>
        </p:nvPicPr>
        <p:blipFill>
          <a:blip r:embed="rId1"/>
          <a:stretch/>
        </p:blipFill>
        <p:spPr>
          <a:xfrm>
            <a:off x="0" y="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1"/>
          <p:cNvSpPr/>
          <p:nvPr/>
        </p:nvSpPr>
        <p:spPr>
          <a:xfrm>
            <a:off x="0" y="-1440"/>
            <a:ext cx="460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ятно 1 14"/>
          <p:cNvSpPr/>
          <p:nvPr/>
        </p:nvSpPr>
        <p:spPr>
          <a:xfrm rot="20622000">
            <a:off x="304920" y="1294920"/>
            <a:ext cx="4647960" cy="312444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ятно 1 16"/>
          <p:cNvSpPr/>
          <p:nvPr/>
        </p:nvSpPr>
        <p:spPr>
          <a:xfrm rot="20619600">
            <a:off x="2814120" y="3241440"/>
            <a:ext cx="4648320" cy="388620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ятно 1 17"/>
          <p:cNvSpPr/>
          <p:nvPr/>
        </p:nvSpPr>
        <p:spPr>
          <a:xfrm>
            <a:off x="5410080" y="1371600"/>
            <a:ext cx="3733920" cy="3048120"/>
          </a:xfrm>
          <a:prstGeom prst="irregularSeal1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3886200" y="4114800"/>
            <a:ext cx="2819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Портфель, портативный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экспорт, импорт, паспорт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транспорт, портрет, портмон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Терраса, территор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Литератур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6324480" y="2057400"/>
            <a:ext cx="2514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1818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Мемориал, мемуары, </a:t>
            </a:r>
            <a:r>
              <a:rPr b="0" lang="en-US" sz="1800" spc="-1" strike="noStrike">
                <a:solidFill>
                  <a:srgbClr val="181818"/>
                </a:solidFill>
                <a:latin typeface="Times New Roman"/>
                <a:ea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льбинос, альбом, альбатро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лиа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8"/>
          <p:cNvSpPr/>
          <p:nvPr/>
        </p:nvSpPr>
        <p:spPr>
          <a:xfrm>
            <a:off x="1523880" y="205740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никюр,манеж, манеры, ман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вартал, вартира,кварт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996633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естивал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95120" y="510120"/>
            <a:ext cx="4953240" cy="732240"/>
          </a:xfrm>
          <a:prstGeom prst="rect">
            <a:avLst/>
          </a:prstGeom>
          <a:solidFill>
            <a:srgbClr val="ffcc66"/>
          </a:solidFill>
          <a:ln w="25560">
            <a:solidFill>
              <a:srgbClr val="ff99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рь себя: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animClr clrSpc="rgb">
                                      <p:cBhvr>
                                        <p:cTn id="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cccc"/>
                                      </p:to>
                                    </p:animClr>
                                    <p:set>
                                      <p:cBhvr>
                                        <p:cTn id="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79320" y="151920"/>
            <a:ext cx="733572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тавьте пропущенные слова в латинских поговорках, прочитайте и переведите пословицы на русский язык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17760" y="1980720"/>
            <a:ext cx="76262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5" descr="69"/>
          <p:cNvPicPr/>
          <p:nvPr/>
        </p:nvPicPr>
        <p:blipFill>
          <a:blip r:embed="rId1"/>
          <a:stretch/>
        </p:blipFill>
        <p:spPr>
          <a:xfrm>
            <a:off x="0" y="0"/>
            <a:ext cx="154620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0" y="1676520"/>
          <a:ext cx="9144000" cy="4968720"/>
        </p:xfrm>
        <a:graphic>
          <a:graphicData uri="http://schemas.openxmlformats.org/drawingml/2006/table">
            <a:tbl>
              <a:tblPr/>
              <a:tblGrid>
                <a:gridCol w="3048120"/>
                <a:gridCol w="3200400"/>
                <a:gridCol w="2895480"/>
              </a:tblGrid>
              <a:tr h="51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umanum es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s sana in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Elephantum ex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is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n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c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di,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p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ŏ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,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sca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r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etitio est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stud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m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mala cito cresci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gnorantia non es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petuum 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..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bile, argumentum,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,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Per aspera ad … 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Usus est optimus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 .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Audi,vide,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…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Homo homini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pus,  magister,  sile,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66"/>
                      </a:solidFill>
                    </a:lnL>
                    <a:lnR w="5760">
                      <a:solidFill>
                        <a:srgbClr val="ffcc66"/>
                      </a:solidFill>
                    </a:lnR>
                    <a:lnT w="5760">
                      <a:solidFill>
                        <a:srgbClr val="ffcc66"/>
                      </a:solidFill>
                    </a:lnT>
                    <a:lnB w="18720">
                      <a:solidFill>
                        <a:srgbClr val="ffcc66"/>
                      </a:solidFill>
                    </a:lnB>
                    <a:solidFill>
                      <a:srgbClr val="ff993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Богодаева Н.Н.</dc:creator>
  <dc:description/>
  <dc:language>en-US</dc:language>
  <cp:lastModifiedBy>ирина</cp:lastModifiedBy>
  <dcterms:modified xsi:type="dcterms:W3CDTF">2023-12-19T21:31:58Z</dcterms:modified>
  <cp:revision>135</cp:revision>
  <dc:subject>Урок-игра</dc:subject>
  <dc:title>DAS INTELLEKTUELLE SPIEL KENNERINNEN UND KENN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