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9CF6-8079-4A30-BB9B-8F8379D4A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DD90-2404-4E8F-9F78-B827F8C4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1D19-0727-4FF4-BF27-A8FD033A3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7184-617F-4583-8321-EC70D5F0F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8854-B372-48E4-B15F-467535792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9170-33DE-4B27-866A-9B9A5A4B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3103-D8D2-44BB-9F23-AA80DE02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FA9B-0341-49C1-B9EC-E91ABBD0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CC6C-370D-45B2-8801-9504442B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5AEB-DC00-4FA2-969F-DEC94427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2D77-A63C-42C8-9057-00CE3E01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09A1-C7A5-4A09-804D-1AF1451A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8F8C-67FE-4D67-BC8D-C92D722B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6D25-D785-4D95-8FCC-970DC1E4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5684-DFE2-481E-AF2E-0DCA6640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2230-1AED-4C45-ABF3-31948C377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0DAC-AF4B-4F84-9B3C-0B2D14433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C61A-5050-4819-BE6B-BC12D8E4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469F-0407-4419-896B-E3D775BF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E4C9-487D-4F20-8358-30D5F7B4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B621-EA31-46FE-9395-18E76F06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8A16-A061-42ED-806D-81296D3B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121E-CB4C-4B40-9B1C-CCF0182C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9F0E-40FA-49E8-A03E-4B6B70BE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6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84B2-B558-491D-A7AC-9BEB42C03957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3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4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5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6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8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9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0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11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Group 1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14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>
                    <a:gd name="textAreaLeft" fmla="*/ 0 w 1412640"/>
                    <a:gd name="textAreaRight" fmla="*/ 1413000 w 141264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15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16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5BD5-5E62-4A7A-8D1F-BACAEC6E5E56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334120" cy="50292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1447920" y="301680"/>
            <a:ext cx="76914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er aspera ad astra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к повторения и обобщения изученного матери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1784520" y="189000"/>
            <a:ext cx="5281560" cy="96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2411280" y="3500280"/>
            <a:ext cx="41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2895480" y="609480"/>
            <a:ext cx="5486400" cy="733680"/>
          </a:xfrm>
          <a:prstGeom prst="rect">
            <a:avLst/>
          </a:prstGeom>
          <a:solidFill>
            <a:srgbClr val="ffcc66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верь себ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5" descr="smile-10"/>
          <p:cNvPicPr/>
          <p:nvPr/>
        </p:nvPicPr>
        <p:blipFill>
          <a:blip r:embed="rId1"/>
          <a:stretch/>
        </p:blipFill>
        <p:spPr>
          <a:xfrm>
            <a:off x="0" y="0"/>
            <a:ext cx="1523880" cy="152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1600200" y="1600200"/>
          <a:ext cx="7543800" cy="5257800"/>
        </p:xfrm>
        <a:graphic>
          <a:graphicData uri="http://schemas.openxmlformats.org/drawingml/2006/table">
            <a:tbl>
              <a:tblPr/>
              <a:tblGrid>
                <a:gridCol w="2514600"/>
                <a:gridCol w="2514600"/>
                <a:gridCol w="2514600"/>
              </a:tblGrid>
              <a:tr h="525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rare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humanum est. -  Человеку свойственно ошибаться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ns sana in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p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o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- Здоровый дух в здоровом теле.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Elephantum ex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ca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is. -Делаешь из мухи слона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n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d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c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- Пришел, увидел, победил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etitio es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e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tud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m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  -   Повторение - мать учени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ba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mala cito crescit. -  Сорная трава быстро растёт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gnorantia non est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gumentum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Незнание – не оправдани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petuum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bile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-Вечный двигатель.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Per aspera a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tr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-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рез терни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ёзда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Usus est optimus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gister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-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ыт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учший учитель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Audi,vide,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e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-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ушай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отри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чи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Homo homini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upus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.  -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ловек человеку волк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animClr clrSpc="rgb">
                                      <p:cBhvr>
                                        <p:cTn id="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анция 3. Повторяем правила чтения и ударения в латинских словах. 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2727360" y="4079880"/>
            <a:ext cx="573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2590920" y="44197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803680" y="4079880"/>
            <a:ext cx="534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523880" y="1920960"/>
          <a:ext cx="7467840" cy="4771800"/>
        </p:xfrm>
        <a:graphic>
          <a:graphicData uri="http://schemas.openxmlformats.org/drawingml/2006/table">
            <a:tbl>
              <a:tblPr/>
              <a:tblGrid>
                <a:gridCol w="1944720"/>
                <a:gridCol w="1828800"/>
                <a:gridCol w="1754280"/>
                <a:gridCol w="1940040"/>
              </a:tblGrid>
              <a:tr h="49680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очет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произнош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приме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транскрип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</a:tr>
              <a:tr h="385920"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ctr" pos="305928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ncha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раков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конх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hysis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физ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физ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r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rhaphe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ра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раф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Mentha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мя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мэ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ng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перед гл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нг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unguis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копы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унгв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960"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s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ш- в клини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--------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сх-в анатом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schuria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задержание жид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----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chema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сх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ишури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------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схэ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перед гл.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но не   посл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x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[ци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patium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простран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experiential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опытное зн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спациу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экспэриэнци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228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в остальных случа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[ти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estia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зве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mixtio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смешива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alatinus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нёб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бэсти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миксти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пал’атину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34076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читайте слова, учитывая правила произношения и ударения в словах.</a:t>
            </a:r>
            <a:r>
              <a:rPr b="1" i="1" lang="ru-RU" sz="28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еведите слова на русский язык.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25" descr="69"/>
          <p:cNvPicPr/>
          <p:nvPr/>
        </p:nvPicPr>
        <p:blipFill>
          <a:blip r:embed="rId1"/>
          <a:stretch/>
        </p:blipFill>
        <p:spPr>
          <a:xfrm>
            <a:off x="0" y="0"/>
            <a:ext cx="1546200" cy="160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"/>
          <p:cNvGraphicFramePr/>
          <p:nvPr/>
        </p:nvGraphicFramePr>
        <p:xfrm>
          <a:off x="1523880" y="1752480"/>
          <a:ext cx="7467840" cy="5105520"/>
        </p:xfrm>
        <a:graphic>
          <a:graphicData uri="http://schemas.openxmlformats.org/drawingml/2006/table">
            <a:tbl>
              <a:tblPr/>
              <a:tblGrid>
                <a:gridCol w="2489400"/>
                <a:gridCol w="2489040"/>
                <a:gridCol w="2489400"/>
              </a:tblGrid>
              <a:tr h="51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ina, caniculus crematio, metacarpus, ostium, orthopedia, function, atrophia, rhizoma vértebra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 medicīna, hygiena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ma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o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nter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andula, auricula, incisura, patientia, sanguis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tis, digitus thrombosis, musculus, costa, caput, auscultatio, bronchus, mandibu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ecus, collum, canis, phalanx, cholera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illa, pathologia, unguis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ssura, abdomen, oesophagus, cauda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cus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eta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chaem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523880" y="1676520"/>
          <a:ext cx="7467840" cy="5211720"/>
        </p:xfrm>
        <a:graphic>
          <a:graphicData uri="http://schemas.openxmlformats.org/drawingml/2006/table">
            <a:tbl>
              <a:tblPr/>
              <a:tblGrid>
                <a:gridCol w="2489400"/>
                <a:gridCol w="2489040"/>
                <a:gridCol w="2489400"/>
              </a:tblGrid>
              <a:tr h="52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a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lus crem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o, metac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pus,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ium, orthoped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, f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u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ction, atroph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, rhiz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 v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é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ebra, cor medic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ī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, hygi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,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, sch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e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ter, gl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dula, aur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la, incis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u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, pati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e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tia, s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guis, c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u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, d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tus thromb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o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s, m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u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ulus, costa, c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t, auscult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o, br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o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chus, mand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e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s, c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o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lum, c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s, ph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x, cholera. m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illa, pathol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o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a, 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u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guis, fiss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u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, abd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o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n, oes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o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agus, c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da, m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e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cus, di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e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, ischaem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  <p:pic>
        <p:nvPicPr>
          <p:cNvPr id="171" name="Picture 5" descr="smile-10"/>
          <p:cNvPicPr/>
          <p:nvPr/>
        </p:nvPicPr>
        <p:blipFill>
          <a:blip r:embed="rId1"/>
          <a:stretch/>
        </p:blipFill>
        <p:spPr>
          <a:xfrm>
            <a:off x="0" y="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2895120" y="456840"/>
            <a:ext cx="5334120" cy="739800"/>
          </a:xfrm>
          <a:prstGeom prst="rect">
            <a:avLst/>
          </a:prstGeom>
          <a:solidFill>
            <a:srgbClr val="ffcc66"/>
          </a:solidFill>
          <a:ln w="25560">
            <a:solidFill>
              <a:srgbClr val="ff99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верь себя: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animClr clrSpc="rgb">
                                      <p:cBhvr>
                                        <p:cTn id="5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5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анция 4. Повторяем склонение существительного, падежи и несогласованное определение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828800" y="1911240"/>
          <a:ext cx="7086600" cy="4732560"/>
        </p:xfrm>
        <a:graphic>
          <a:graphicData uri="http://schemas.openxmlformats.org/drawingml/2006/table">
            <a:tbl>
              <a:tblPr/>
              <a:tblGrid>
                <a:gridCol w="449280"/>
                <a:gridCol w="1057320"/>
                <a:gridCol w="660240"/>
                <a:gridCol w="966960"/>
                <a:gridCol w="2098440"/>
                <a:gridCol w="1065240"/>
                <a:gridCol w="789120"/>
              </a:tblGrid>
              <a:tr h="631080">
                <a:tc>
                  <a:txBody>
                    <a:bodyPr lIns="0" rIns="0" tIns="0" bIns="0" anchor="t">
                      <a:noAutofit/>
                    </a:bodyPr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ск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ск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ск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ск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ск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0" rIns="0" tIns="0" bIns="0" anchor="t">
                      <a:noAutofit/>
                    </a:bodyPr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 indent="-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ро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па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f (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 indent="-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m (f)    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 indent="-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m, f                 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 indent="-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m         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 indent="-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    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7160">
                <a:tc>
                  <a:txBody>
                    <a:bodyPr lIns="0" rIns="0" tIns="0" bIns="0" anchor="t">
                      <a:noAutofit/>
                    </a:bodyPr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c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b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us,er   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раз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em              = 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e 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.,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с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.) /i 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гл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us          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ui           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um         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ē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e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7160">
                <a:tc>
                  <a:txBody>
                    <a:bodyPr lIns="0" rIns="0" tIns="0" bIns="0" anchor="t">
                      <a:noAutofit/>
                    </a:bodyPr>
                    <a:p>
                      <a:pPr marL="114480" indent="-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P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c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b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ār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      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ōr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os    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es        a 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с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.) /ia 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гл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um (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с</a:t>
                      </a:r>
                      <a:r>
                        <a:rPr b="1" lang="de-DE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.) /ium (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гл</a:t>
                      </a:r>
                      <a:r>
                        <a:rPr b="1" lang="de-DE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.,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см</a:t>
                      </a:r>
                      <a:r>
                        <a:rPr b="1" lang="de-DE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b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es        a 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.) /ia 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гл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b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us        u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u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b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us        u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b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er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eb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eb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7968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ределите склонение существительных и переведите их на русский язык 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600200" y="1828800"/>
          <a:ext cx="7391520" cy="4800600"/>
        </p:xfrm>
        <a:graphic>
          <a:graphicData uri="http://schemas.openxmlformats.org/drawingml/2006/table">
            <a:tbl>
              <a:tblPr/>
              <a:tblGrid>
                <a:gridCol w="2463840"/>
                <a:gridCol w="2463840"/>
                <a:gridCol w="2463840"/>
              </a:tblGrid>
              <a:tr h="480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um, i 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os,floris 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lvis, ĕris 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us, us 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ulus, i 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ulla, ae f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iater,  tri  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es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 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algīnum,i 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uctus,  us 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dix, īcis f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camentum,i 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sīca, ae f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us, i 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gua, ae f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us, us 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qua,ae 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ies, ēi f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ca, ae f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es,ēi f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andula, ae 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rum, i n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nu, us 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, us 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  <p:pic>
        <p:nvPicPr>
          <p:cNvPr id="178" name="Picture 25" descr="69"/>
          <p:cNvPicPr/>
          <p:nvPr/>
        </p:nvPicPr>
        <p:blipFill>
          <a:blip r:embed="rId1"/>
          <a:stretch/>
        </p:blipFill>
        <p:spPr>
          <a:xfrm>
            <a:off x="0" y="0"/>
            <a:ext cx="1546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479600" y="5866920"/>
            <a:ext cx="762624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8000"/>
          </a:bodyPr>
          <a:p>
            <a:pPr marL="9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3352680" y="456840"/>
            <a:ext cx="4267440" cy="738360"/>
          </a:xfrm>
          <a:prstGeom prst="rect">
            <a:avLst/>
          </a:prstGeom>
          <a:solidFill>
            <a:srgbClr val="ffcc66"/>
          </a:solidFill>
          <a:ln w="25560">
            <a:solidFill>
              <a:srgbClr val="ff99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верь себя: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81" name="Picture 5" descr="smile-10"/>
          <p:cNvPicPr/>
          <p:nvPr/>
        </p:nvPicPr>
        <p:blipFill>
          <a:blip r:embed="rId1"/>
          <a:stretch/>
        </p:blipFill>
        <p:spPr>
          <a:xfrm>
            <a:off x="0" y="0"/>
            <a:ext cx="1523880" cy="152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"/>
          <p:cNvGraphicFramePr/>
          <p:nvPr/>
        </p:nvGraphicFramePr>
        <p:xfrm>
          <a:off x="1600200" y="1828800"/>
          <a:ext cx="7391520" cy="4368960"/>
        </p:xfrm>
        <a:graphic>
          <a:graphicData uri="http://schemas.openxmlformats.org/drawingml/2006/table">
            <a:tbl>
              <a:tblPr/>
              <a:tblGrid>
                <a:gridCol w="2463840"/>
                <a:gridCol w="2463840"/>
                <a:gridCol w="2463840"/>
              </a:tblGrid>
              <a:tr h="436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um, i n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os,floris m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lvis, ĕris m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us, us m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ulus, i m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ulla, ae f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iater,  tri  m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es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 f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algīnum,i n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uctus,  us m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dix, īcis f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camentum,i 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sīca, ae f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us, i 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gua, ae f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us, us f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qua,ae f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ies, ēi f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ca, ae f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es,ēi f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andula, ae f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rum, i n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nu, us 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, us m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animClr clrSpc="rgb">
                                      <p:cBhvr>
                                        <p:cTn id="6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2000" fill="hold"/>
                                        <p:tgtEl>
                                          <p:spTgt spid="1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еведите на латинский язык словосочетания с несогласованными определениям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84" name="Picture 25" descr="69"/>
          <p:cNvPicPr/>
          <p:nvPr/>
        </p:nvPicPr>
        <p:blipFill>
          <a:blip r:embed="rId1"/>
          <a:stretch/>
        </p:blipFill>
        <p:spPr>
          <a:xfrm>
            <a:off x="0" y="0"/>
            <a:ext cx="1546200" cy="160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1600200" y="1447920"/>
          <a:ext cx="7315200" cy="5194080"/>
        </p:xfrm>
        <a:graphic>
          <a:graphicData uri="http://schemas.openxmlformats.org/drawingml/2006/table">
            <a:tbl>
              <a:tblPr/>
              <a:tblGrid>
                <a:gridCol w="2438280"/>
                <a:gridCol w="2438640"/>
                <a:gridCol w="2438280"/>
              </a:tblGrid>
              <a:tr h="292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gitus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m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пал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ct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 f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перел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lla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 f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клетка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ngiva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 f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с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dibula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 f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нижняя челю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ct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 f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перел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ss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 f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щель, трещ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gula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 f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копы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tura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 f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шов кост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apula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 f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лопат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tura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 f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ры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xa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 f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та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лом пальца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етка десны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872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щина копыта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лом нижней челюсти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872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рыв таза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ов лопатки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872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solidFill>
                      <a:srgbClr val="ffde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517760" y="1600200"/>
            <a:ext cx="762624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Пятно 1 9"/>
          <p:cNvSpPr/>
          <p:nvPr/>
        </p:nvSpPr>
        <p:spPr>
          <a:xfrm>
            <a:off x="2057400" y="1752480"/>
            <a:ext cx="6629400" cy="5105520"/>
          </a:xfrm>
          <a:prstGeom prst="irregularSeal1">
            <a:avLst/>
          </a:prstGeom>
          <a:solidFill>
            <a:srgbClr val="ff99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лом пальца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ac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i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етка десны 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a gingiv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5" descr="smile-10"/>
          <p:cNvPicPr/>
          <p:nvPr/>
        </p:nvPicPr>
        <p:blipFill>
          <a:blip r:embed="rId1"/>
          <a:stretch/>
        </p:blipFill>
        <p:spPr>
          <a:xfrm>
            <a:off x="0" y="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429000" y="506160"/>
            <a:ext cx="4495680" cy="739800"/>
          </a:xfrm>
          <a:prstGeom prst="rect">
            <a:avLst/>
          </a:prstGeom>
          <a:solidFill>
            <a:srgbClr val="ffcc66"/>
          </a:solidFill>
          <a:ln w="25560">
            <a:solidFill>
              <a:srgbClr val="ff99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верь себя: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animClr clrSpc="rgb">
                                      <p:cBhvr>
                                        <p:cTn id="8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8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1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600200" y="1904760"/>
            <a:ext cx="7315200" cy="42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91" name="Пятно 1 3"/>
          <p:cNvSpPr/>
          <p:nvPr/>
        </p:nvSpPr>
        <p:spPr>
          <a:xfrm>
            <a:off x="1828800" y="1981080"/>
            <a:ext cx="7315200" cy="4648320"/>
          </a:xfrm>
          <a:prstGeom prst="irregularSeal1">
            <a:avLst/>
          </a:prstGeom>
          <a:solidFill>
            <a:srgbClr val="ff99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щина копыта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 ungu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лом нижн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люсти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c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 mandibu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352320" y="658440"/>
            <a:ext cx="4419720" cy="739800"/>
          </a:xfrm>
          <a:prstGeom prst="rect">
            <a:avLst/>
          </a:prstGeom>
          <a:solidFill>
            <a:srgbClr val="ffcc66"/>
          </a:solidFill>
          <a:ln w="25560">
            <a:solidFill>
              <a:srgbClr val="ff99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верь себя: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93" name="Picture 5" descr="smile-10"/>
          <p:cNvPicPr/>
          <p:nvPr/>
        </p:nvPicPr>
        <p:blipFill>
          <a:blip r:embed="rId1"/>
          <a:stretch/>
        </p:blipFill>
        <p:spPr>
          <a:xfrm>
            <a:off x="0" y="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animClr clrSpc="rgb">
                                      <p:cBhvr>
                                        <p:cTn id="10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10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2000" fill="hold"/>
                                        <p:tgtEl>
                                          <p:spTgt spid="1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alvete amic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! </a:t>
            </a:r>
            <a:br>
              <a:rPr sz="2800"/>
            </a:b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4678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ли учебного занят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663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ктуализировать и обобщить изученный материал с целью подготовки к зачёту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663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вать умение оценивать свои знания и возможност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663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рмировать интерес и уважение к профессии ветерина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дачи учебного заняти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663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ширять представление обучающихся о значении латинского языка в профессии и повседневной жизн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663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общить и систематизировать лексико-грамматический материал посредством выполнения упражнений на знание латинской лексики, крылатых выражений, пословиц, грамматических прави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663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вать  у обучающихся способность аналитического мышления, память, воображение, быстроту реак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ждисциплинарные связи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у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ий язык, литература, история, иностранный язык, анатом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Пятно 1 4"/>
          <p:cNvSpPr/>
          <p:nvPr/>
        </p:nvSpPr>
        <p:spPr>
          <a:xfrm>
            <a:off x="1523880" y="2133720"/>
            <a:ext cx="7620120" cy="4343400"/>
          </a:xfrm>
          <a:prstGeom prst="irregularSeal1">
            <a:avLst/>
          </a:prstGeom>
          <a:solidFill>
            <a:srgbClr val="ff99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ыв таза 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ptura co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ов лопатки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tura scapu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3124080" y="460800"/>
            <a:ext cx="4496040" cy="732240"/>
          </a:xfrm>
          <a:prstGeom prst="rect">
            <a:avLst/>
          </a:prstGeom>
          <a:solidFill>
            <a:srgbClr val="ffcc66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верь себ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5" descr="smile-10"/>
          <p:cNvPicPr/>
          <p:nvPr/>
        </p:nvPicPr>
        <p:blipFill>
          <a:blip r:embed="rId1"/>
          <a:stretch/>
        </p:blipFill>
        <p:spPr>
          <a:xfrm>
            <a:off x="0" y="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3123720" y="457200"/>
            <a:ext cx="4419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animClr clrSpc="rgb">
                                      <p:cBhvr>
                                        <p:cTn id="1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1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1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52480" y="533520"/>
            <a:ext cx="70106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анция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Глагол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яжение. </a:t>
            </a:r>
            <a:br>
              <a:rPr sz="2800"/>
            </a:b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79600" y="5715000"/>
            <a:ext cx="76262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676520" y="2590920"/>
          <a:ext cx="7162560" cy="3962160"/>
        </p:xfrm>
        <a:graphic>
          <a:graphicData uri="http://schemas.openxmlformats.org/drawingml/2006/table">
            <a:tbl>
              <a:tblPr/>
              <a:tblGrid>
                <a:gridCol w="1322280"/>
                <a:gridCol w="1951200"/>
                <a:gridCol w="1952280"/>
                <a:gridCol w="1936800"/>
              </a:tblGrid>
              <a:tr h="1320840"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я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инфинит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0240"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ā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ā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знач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0240"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ē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scē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ив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0600"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ĕ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ipĕ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0240"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ī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nī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мазыв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2" name="Прямоугольник 5"/>
          <p:cNvSpPr/>
          <p:nvPr/>
        </p:nvSpPr>
        <p:spPr>
          <a:xfrm>
            <a:off x="1600200" y="175248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ение глаголов по спряжениям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7968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ределите спряжение глаголов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79600" y="2133720"/>
            <a:ext cx="762624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752480" y="3048120"/>
          <a:ext cx="7086600" cy="2133360"/>
        </p:xfrm>
        <a:graphic>
          <a:graphicData uri="http://schemas.openxmlformats.org/drawingml/2006/table">
            <a:tbl>
              <a:tblPr/>
              <a:tblGrid>
                <a:gridCol w="2362320"/>
                <a:gridCol w="2362320"/>
                <a:gridCol w="2361960"/>
              </a:tblGrid>
              <a:tr h="213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ip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ē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ī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bē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id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nīr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ā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scultā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  <p:pic>
        <p:nvPicPr>
          <p:cNvPr id="206" name="Picture 25" descr="69"/>
          <p:cNvPicPr/>
          <p:nvPr/>
        </p:nvPicPr>
        <p:blipFill>
          <a:blip r:embed="rId1"/>
          <a:stretch/>
        </p:blipFill>
        <p:spPr>
          <a:xfrm>
            <a:off x="0" y="0"/>
            <a:ext cx="1546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лагол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велительное наклонение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86440" y="5334120"/>
            <a:ext cx="7613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e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давать,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дай,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дай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solvĕ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re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(III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растворять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solvĕ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раствори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solv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it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раствори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676520" y="1981080"/>
          <a:ext cx="7234200" cy="2895840"/>
        </p:xfrm>
        <a:graphic>
          <a:graphicData uri="http://schemas.openxmlformats.org/drawingml/2006/table">
            <a:tbl>
              <a:tblPr/>
              <a:tblGrid>
                <a:gridCol w="3611520"/>
                <a:gridCol w="3622680"/>
              </a:tblGrid>
              <a:tr h="2895840">
                <a:tc>
                  <a:txBody>
                    <a:bodyPr lIns="7308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 ч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I, II, III, IV спряжениях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инитив минус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.ч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I, II, IV спряжениях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а +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III спряжении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а +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прещение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1" name="Прямоугольник 2"/>
          <p:cNvSpPr/>
          <p:nvPr/>
        </p:nvSpPr>
        <p:spPr>
          <a:xfrm>
            <a:off x="2209680" y="2133720"/>
            <a:ext cx="525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 единственного числа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noli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 инфинитив глаго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 множественного числа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nolit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инфинитив глаго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имер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oli legĕr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не читай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Nolite legĕr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не читайте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разуйте повелительное наклонение и запрещение ед. и мн. числа от следующих глаголов</a:t>
            </a:r>
            <a:endParaRPr b="0" i="1" lang="en-US" sz="2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79600" y="6019560"/>
            <a:ext cx="762624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752480" y="2438280"/>
          <a:ext cx="7086600" cy="2133720"/>
        </p:xfrm>
        <a:graphic>
          <a:graphicData uri="http://schemas.openxmlformats.org/drawingml/2006/table">
            <a:tbl>
              <a:tblPr/>
              <a:tblGrid>
                <a:gridCol w="2362320"/>
                <a:gridCol w="2362320"/>
                <a:gridCol w="2361960"/>
              </a:tblGrid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ēre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aeparāre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ntīre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  <p:pic>
        <p:nvPicPr>
          <p:cNvPr id="215" name="Picture 25" descr="69"/>
          <p:cNvPicPr/>
          <p:nvPr/>
        </p:nvPicPr>
        <p:blipFill>
          <a:blip r:embed="rId1"/>
          <a:stretch/>
        </p:blipFill>
        <p:spPr>
          <a:xfrm>
            <a:off x="0" y="0"/>
            <a:ext cx="1546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600200" y="60199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752480" y="1981080"/>
          <a:ext cx="7086600" cy="4191120"/>
        </p:xfrm>
        <a:graphic>
          <a:graphicData uri="http://schemas.openxmlformats.org/drawingml/2006/table">
            <a:tbl>
              <a:tblPr/>
              <a:tblGrid>
                <a:gridCol w="2362320"/>
                <a:gridCol w="2362320"/>
                <a:gridCol w="236196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ē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ē 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ēte 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li </a:t>
                      </a: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ēre 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ite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ēre 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aeparā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тов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aepara 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aeparāte 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li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aeparāre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lite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aeparāre 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īr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увствов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ī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li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īre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!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ite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īre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!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3123720" y="506160"/>
            <a:ext cx="4496040" cy="739800"/>
          </a:xfrm>
          <a:prstGeom prst="rect">
            <a:avLst/>
          </a:prstGeom>
          <a:solidFill>
            <a:srgbClr val="ffcc66"/>
          </a:solidFill>
          <a:ln w="25560">
            <a:solidFill>
              <a:srgbClr val="ff99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верь себя: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19" name="Picture 5" descr="smile-10"/>
          <p:cNvPicPr/>
          <p:nvPr/>
        </p:nvPicPr>
        <p:blipFill>
          <a:blip r:embed="rId1"/>
          <a:stretch/>
        </p:blipFill>
        <p:spPr>
          <a:xfrm>
            <a:off x="0" y="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animClr clrSpc="rgb">
                                      <p:cBhvr>
                                        <p:cTn id="1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13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2000" fill="hold"/>
                                        <p:tgtEl>
                                          <p:spTgt spid="2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нция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Заполните схему!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79600" y="6019560"/>
            <a:ext cx="762624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4" descr="C:\Users\ирина\Desktop\wolf_timber_labeling72.jpg"/>
          <p:cNvPicPr/>
          <p:nvPr/>
        </p:nvPicPr>
        <p:blipFill>
          <a:blip r:embed="rId1"/>
          <a:stretch/>
        </p:blipFill>
        <p:spPr>
          <a:xfrm>
            <a:off x="1676520" y="1905120"/>
            <a:ext cx="7086600" cy="46479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5" descr="69"/>
          <p:cNvPicPr/>
          <p:nvPr/>
        </p:nvPicPr>
        <p:blipFill>
          <a:blip r:embed="rId2"/>
          <a:stretch/>
        </p:blipFill>
        <p:spPr>
          <a:xfrm>
            <a:off x="0" y="0"/>
            <a:ext cx="1546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33720" y="30456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анция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7. Рецепт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цепт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официальный документ, составленный по определённой форме, являющийся предписанием врача фармацевту об изготовлении и отпуске больному лекарства с указанием способов его примен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выписывании используются лаконичные глагольные формулы в повелительном наклонении. Число этих формул невелико, они стандартны и их нужно запомни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Recipe  Возь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Misce  Смеша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Da  Выда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Da tales doses  Выдай такие доз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Numero  Числ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Signa  Обознач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8920" y="457200"/>
            <a:ext cx="75643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чтите и переведите рецепт на русский язык.</a:t>
            </a:r>
            <a:br>
              <a:rPr sz="2800"/>
            </a:b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479600" y="1752480"/>
            <a:ext cx="7626240" cy="5105520"/>
          </a:xfrm>
          <a:prstGeom prst="rect">
            <a:avLst/>
          </a:prstGeom>
          <a:solidFill>
            <a:srgbClr val="ffa347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Rp.: Тab. Amoxicillini 0,5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D.t.d.N. 20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. Принимать внутрь по 1 таблетке 2 раза в сутк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Rp.: Amoxicillini 1,0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D.t.d.N. 20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. Содержимое флакона растворить в 100 мл 0,9% р-ра NaCl, вводить внутривенно капельно 2 раза в сутк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cipe: Acidi ascorbin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iboflavi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cidi nicotinici 0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hyamini chloridi 0,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Glucosi 0,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isce, fiat pul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a tales doses numero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ig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25" descr="69"/>
          <p:cNvPicPr/>
          <p:nvPr/>
        </p:nvPicPr>
        <p:blipFill>
          <a:blip r:embed="rId1"/>
          <a:stretch/>
        </p:blipFill>
        <p:spPr>
          <a:xfrm>
            <a:off x="0" y="0"/>
            <a:ext cx="1546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анция 1. Домашнее задание</a:t>
            </a:r>
            <a:br>
              <a:rPr sz="4000"/>
            </a:b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75819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Сколько в латинском алфавите бук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Как читается буква С перед буквами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На какой слог падает ударение в латинских слов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Гласные звуки в латинском языке бывают …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…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 Как читается буква С перед буквам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, о,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Букв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читается как русское буквосочетание …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Какое окончание имеет глагол в настоящем времени действит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залога в 1 л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ед. числа имееет окончание …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Сколько падежей существительных имеется в латинском язык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Сколько спряжений у латинских глагол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Как определить тип спряжения глагол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В каком наклонении употребляются глаголы в рецептурных формулировка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Как образуется форм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велительного наклонения при запрещен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Как переводится в рецепте глагол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cip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Назовите инфинити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Как переводится в рецепте глагол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isc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Назовите инфинити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пишите и запомните название лекарственных форм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79600" y="1447560"/>
            <a:ext cx="7626240" cy="5181480"/>
          </a:xfrm>
          <a:prstGeom prst="rect">
            <a:avLst/>
          </a:prstGeom>
          <a:solidFill>
            <a:srgbClr val="ffa347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523880" y="1523880"/>
          <a:ext cx="7391520" cy="5105520"/>
        </p:xfrm>
        <a:graphic>
          <a:graphicData uri="http://schemas.openxmlformats.org/drawingml/2006/table">
            <a:tbl>
              <a:tblPr/>
              <a:tblGrid>
                <a:gridCol w="3695760"/>
                <a:gridCol w="3695760"/>
              </a:tblGrid>
              <a:tr h="51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letta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 f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блет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lus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f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лю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a, ae f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с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sitorium, i n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еч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utio, ōnis f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тв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ulsum, i n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муль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xtūra, ae f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ес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nctura, ae f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стой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tractum, i n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страк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usum,i n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ст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octum, i n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ва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gée (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скл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)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аж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lastrum, i n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стыр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guentum, i n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з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которые греко-латинские соответствия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79600" y="6095880"/>
            <a:ext cx="7626240" cy="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447920" y="1295280"/>
          <a:ext cx="7543800" cy="5349960"/>
        </p:xfrm>
        <a:graphic>
          <a:graphicData uri="http://schemas.openxmlformats.org/drawingml/2006/table">
            <a:tbl>
              <a:tblPr/>
              <a:tblGrid>
                <a:gridCol w="2330280"/>
                <a:gridCol w="3079800"/>
                <a:gridCol w="2133720"/>
              </a:tblGrid>
              <a:tr h="82332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Гре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корни-дубл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Латинские существительн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Общее 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</a:tr>
              <a:tr h="4118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tom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o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ori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р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</a:tr>
              <a:tr h="4118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odo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e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з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</a:tr>
              <a:tr h="4118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apa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bdomen, inis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жив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</a:tr>
              <a:tr h="4118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neph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поч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</a:tr>
              <a:tr h="4118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neumo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no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ul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лег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</a:tr>
              <a:tr h="4118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ar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серд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</a:tr>
              <a:tr h="4118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hae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angu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кров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</a:tr>
              <a:tr h="4118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8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p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но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</a:tr>
              <a:tr h="4118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9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o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u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ух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</a:tr>
              <a:tr h="4118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herap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uratio, onis f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ле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</a:tr>
              <a:tr h="4118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1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fel, fellis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желч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1"/>
          <p:cNvSpPr/>
          <p:nvPr/>
        </p:nvSpPr>
        <p:spPr>
          <a:xfrm>
            <a:off x="2819520" y="259092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audeāmus igĭtur,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Juvĕnes dum sumus!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Post jucundam juventūtem,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Post molestam senectūtem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Nos habēbit humu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Прямоугольник 2"/>
          <p:cNvSpPr/>
          <p:nvPr/>
        </p:nvSpPr>
        <p:spPr>
          <a:xfrm>
            <a:off x="3048120" y="8380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Gaudeām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anthem-gaudeamus-igitur.mp3" descr=""/>
          <p:cNvPicPr/>
          <p:nvPr/>
        </p:nvPicPr>
        <p:blipFill>
          <a:blip r:embed="rId1"/>
          <a:stretch/>
        </p:blipFill>
        <p:spPr>
          <a:xfrm>
            <a:off x="7772400" y="5638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40051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4"/>
          <p:cNvSpPr txBox="1"/>
          <p:nvPr/>
        </p:nvSpPr>
        <p:spPr>
          <a:xfrm>
            <a:off x="1979640" y="189000"/>
            <a:ext cx="5113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9" name="Picture 3" descr="C:\Users\ирина\Desktop\1639384816_1-abrakadabra-fun-p-otkritki-klassno-zdorovo-super-otlichno-1.jpg"/>
          <p:cNvPicPr/>
          <p:nvPr/>
        </p:nvPicPr>
        <p:blipFill>
          <a:blip r:embed="rId1"/>
          <a:stretch/>
        </p:blipFill>
        <p:spPr>
          <a:xfrm>
            <a:off x="2286000" y="2286000"/>
            <a:ext cx="6019920" cy="411336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3"/>
          <p:cNvSpPr/>
          <p:nvPr/>
        </p:nvSpPr>
        <p:spPr>
          <a:xfrm>
            <a:off x="3048120" y="4572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00000"/>
                </a:solidFill>
                <a:latin typeface="Times New Roman"/>
              </a:rPr>
              <a:t>Gratias ago!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анция 2.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Lingua Latina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6"/>
          <p:cNvSpPr/>
          <p:nvPr/>
        </p:nvSpPr>
        <p:spPr>
          <a:xfrm flipH="1">
            <a:off x="6019560" y="1905120"/>
            <a:ext cx="7596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2" descr="C:\Users\ирина\Desktop\scale_1200.jpg"/>
          <p:cNvPicPr/>
          <p:nvPr/>
        </p:nvPicPr>
        <p:blipFill>
          <a:blip r:embed="rId1"/>
          <a:stretch/>
        </p:blipFill>
        <p:spPr>
          <a:xfrm>
            <a:off x="1600200" y="1828800"/>
            <a:ext cx="7543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295280" y="152280"/>
            <a:ext cx="6858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4708440" y="613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5"/>
          <p:cNvSpPr/>
          <p:nvPr/>
        </p:nvSpPr>
        <p:spPr>
          <a:xfrm>
            <a:off x="685800" y="2057400"/>
            <a:ext cx="3429000" cy="2514600"/>
          </a:xfrm>
          <a:prstGeom prst="irregularSeal1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нститу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la-VA" sz="2400" spc="-1" strike="noStrike">
                <a:solidFill>
                  <a:srgbClr val="000000"/>
                </a:solidFill>
                <a:latin typeface="Times New Roman"/>
              </a:rPr>
              <a:t>onstitutio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строй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17"/>
          <p:cNvSpPr/>
          <p:nvPr/>
        </p:nvSpPr>
        <p:spPr>
          <a:xfrm>
            <a:off x="0" y="4648320"/>
            <a:ext cx="3733920" cy="2209680"/>
          </a:xfrm>
          <a:prstGeom prst="irregularSeal1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ур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 лат.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cursus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ечение, пу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9"/>
          <p:cNvSpPr/>
          <p:nvPr/>
        </p:nvSpPr>
        <p:spPr>
          <a:xfrm>
            <a:off x="3276720" y="4572000"/>
            <a:ext cx="3276360" cy="2286000"/>
          </a:xfrm>
          <a:prstGeom prst="irregularSeal1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к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 лат.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авит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21"/>
          <p:cNvSpPr/>
          <p:nvPr/>
        </p:nvSpPr>
        <p:spPr>
          <a:xfrm>
            <a:off x="609480" y="152280"/>
            <a:ext cx="3505320" cy="2133720"/>
          </a:xfrm>
          <a:prstGeom prst="irregularSeal1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ульту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 лат.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cul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озделыва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23"/>
          <p:cNvSpPr/>
          <p:nvPr/>
        </p:nvSpPr>
        <p:spPr>
          <a:xfrm>
            <a:off x="6248520" y="2057400"/>
            <a:ext cx="2895480" cy="2133720"/>
          </a:xfrm>
          <a:prstGeom prst="irregularSeal1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к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 лат.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doc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чё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33"/>
          <p:cNvSpPr/>
          <p:nvPr/>
        </p:nvSpPr>
        <p:spPr>
          <a:xfrm>
            <a:off x="6629400" y="0"/>
            <a:ext cx="2514600" cy="1828800"/>
          </a:xfrm>
          <a:prstGeom prst="irregularSeal1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реди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т 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cre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ер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5"/>
          <p:cNvSpPr/>
          <p:nvPr/>
        </p:nvSpPr>
        <p:spPr>
          <a:xfrm>
            <a:off x="6400800" y="3886200"/>
            <a:ext cx="2895480" cy="2819520"/>
          </a:xfrm>
          <a:prstGeom prst="irregularSeal1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адвока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т лат.а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dvoc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омогать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изы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5"/>
          <p:cNvSpPr/>
          <p:nvPr/>
        </p:nvSpPr>
        <p:spPr>
          <a:xfrm>
            <a:off x="4038480" y="457200"/>
            <a:ext cx="3048120" cy="2057400"/>
          </a:xfrm>
          <a:prstGeom prst="irregularSeal1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удитор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  лат.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ud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луш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15"/>
          <p:cNvSpPr/>
          <p:nvPr/>
        </p:nvSpPr>
        <p:spPr>
          <a:xfrm>
            <a:off x="3733920" y="2133720"/>
            <a:ext cx="2895480" cy="2743200"/>
          </a:xfrm>
          <a:prstGeom prst="irregularSeal1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 лат.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it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ук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79680" y="38052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равни слов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981080" y="1905120"/>
            <a:ext cx="670572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440" y="17521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гл.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othe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[ˈmʌðə]-ма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лат. М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гл.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udent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[ˈstjuːdənt] - студен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лат.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u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гл.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atur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[ˈneɪʧə]-  природ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лат.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гл. memorial [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ɪˈ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ɔː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ɪə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]-мемориал, памятни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ат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гл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ool [skuːl]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кол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а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Sch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гл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race  [ˈterəs]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ррас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а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T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гл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quarium [əˈkwerɪəm]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вариу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а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Aquar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гл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tu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ˈfɔːʧən]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дач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а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Fortū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гл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r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ˈterə] 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а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рро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а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T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гл. person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[pɜːsn] – личность, персона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ат.persō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гл. vitamin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[ˈvɪtəmɪn] – витамин-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ат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itam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гл.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merce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[ˈ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ɒ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ɜː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торговля, коммерция - лат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ommerciu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пишите слова из русского языка происходящие о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25" descr="69"/>
          <p:cNvPicPr/>
          <p:nvPr/>
        </p:nvPicPr>
        <p:blipFill>
          <a:blip r:embed="rId1"/>
          <a:stretch/>
        </p:blipFill>
        <p:spPr>
          <a:xfrm>
            <a:off x="0" y="0"/>
            <a:ext cx="1546200" cy="160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1676520" y="1981080"/>
          <a:ext cx="7315200" cy="4183200"/>
        </p:xfrm>
        <a:graphic>
          <a:graphicData uri="http://schemas.openxmlformats.org/drawingml/2006/table">
            <a:tbl>
              <a:tblPr/>
              <a:tblGrid>
                <a:gridCol w="2438280"/>
                <a:gridCol w="2438280"/>
                <a:gridCol w="2438640"/>
              </a:tblGrid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54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латинского слова  manus, «рука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латинского слова quartus, “четвертый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латинского  слова fes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праздник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872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латинского слова porto, «ношу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латинского слова terra «земля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латинского слова lite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буква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872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латинского слова memor «память» 2.латинского слова albus «белый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латинского  слова filiu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сын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872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solidFill>
                      <a:srgbClr val="ffde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smile-10"/>
          <p:cNvPicPr/>
          <p:nvPr/>
        </p:nvPicPr>
        <p:blipFill>
          <a:blip r:embed="rId1"/>
          <a:stretch/>
        </p:blipFill>
        <p:spPr>
          <a:xfrm>
            <a:off x="0" y="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1"/>
          <p:cNvSpPr/>
          <p:nvPr/>
        </p:nvSpPr>
        <p:spPr>
          <a:xfrm>
            <a:off x="0" y="-1440"/>
            <a:ext cx="460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Пятно 1 14"/>
          <p:cNvSpPr/>
          <p:nvPr/>
        </p:nvSpPr>
        <p:spPr>
          <a:xfrm rot="20622000">
            <a:off x="304920" y="1294920"/>
            <a:ext cx="4647960" cy="3124440"/>
          </a:xfrm>
          <a:prstGeom prst="irregularSeal1">
            <a:avLst/>
          </a:prstGeom>
          <a:solidFill>
            <a:srgbClr val="ff99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Пятно 1 16"/>
          <p:cNvSpPr/>
          <p:nvPr/>
        </p:nvSpPr>
        <p:spPr>
          <a:xfrm rot="20619600">
            <a:off x="2814120" y="3241440"/>
            <a:ext cx="4648320" cy="3886200"/>
          </a:xfrm>
          <a:prstGeom prst="irregularSeal1">
            <a:avLst/>
          </a:prstGeom>
          <a:solidFill>
            <a:srgbClr val="ff99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Пятно 1 17"/>
          <p:cNvSpPr/>
          <p:nvPr/>
        </p:nvSpPr>
        <p:spPr>
          <a:xfrm>
            <a:off x="5410080" y="1371600"/>
            <a:ext cx="3733920" cy="3048120"/>
          </a:xfrm>
          <a:prstGeom prst="irregularSeal1">
            <a:avLst/>
          </a:prstGeom>
          <a:solidFill>
            <a:srgbClr val="ff99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Прямоугольник 10"/>
          <p:cNvSpPr/>
          <p:nvPr/>
        </p:nvSpPr>
        <p:spPr>
          <a:xfrm>
            <a:off x="3886200" y="4114800"/>
            <a:ext cx="2819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1818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Портфель, портативный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экспорт, импорт, паспорт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транспорт, портрет, портмон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1818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Терраса, территор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1818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Литератур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Прямоугольник 11"/>
          <p:cNvSpPr/>
          <p:nvPr/>
        </p:nvSpPr>
        <p:spPr>
          <a:xfrm>
            <a:off x="6324480" y="2057400"/>
            <a:ext cx="251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1818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Мемориал, мемуары, </a:t>
            </a:r>
            <a:r>
              <a:rPr b="0" lang="en-US" sz="18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льбинос, альбом, альбат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лиа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Прямоугольник 8"/>
          <p:cNvSpPr/>
          <p:nvPr/>
        </p:nvSpPr>
        <p:spPr>
          <a:xfrm>
            <a:off x="1523880" y="205740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99663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никюр,манеж, манеры, манж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99663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вартал, вартира,кварт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99663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естива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95120" y="510120"/>
            <a:ext cx="4953240" cy="732240"/>
          </a:xfrm>
          <a:prstGeom prst="rect">
            <a:avLst/>
          </a:prstGeom>
          <a:solidFill>
            <a:srgbClr val="ffcc66"/>
          </a:solidFill>
          <a:ln w="25560">
            <a:solidFill>
              <a:srgbClr val="ff99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верь себя: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animClr clrSpc="rgb">
                                      <p:cBhvr>
                                        <p:cTn id="1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79320" y="151920"/>
            <a:ext cx="733572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ставьте пропущенные слова в латинских поговорках, прочитайте и переведите пословицы на русский язык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7760" y="1980720"/>
            <a:ext cx="76262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25" descr="69"/>
          <p:cNvPicPr/>
          <p:nvPr/>
        </p:nvPicPr>
        <p:blipFill>
          <a:blip r:embed="rId1"/>
          <a:stretch/>
        </p:blipFill>
        <p:spPr>
          <a:xfrm>
            <a:off x="0" y="0"/>
            <a:ext cx="1546200" cy="160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"/>
          <p:cNvGraphicFramePr/>
          <p:nvPr/>
        </p:nvGraphicFramePr>
        <p:xfrm>
          <a:off x="0" y="1676520"/>
          <a:ext cx="9144000" cy="4968720"/>
        </p:xfrm>
        <a:graphic>
          <a:graphicData uri="http://schemas.openxmlformats.org/drawingml/2006/table">
            <a:tbl>
              <a:tblPr/>
              <a:tblGrid>
                <a:gridCol w="3048120"/>
                <a:gridCol w="3200400"/>
                <a:gridCol w="2895480"/>
              </a:tblGrid>
              <a:tr h="51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manum est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ns sana in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o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Elephantum ex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.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is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n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.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c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di,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p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ŏ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,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ca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e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r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etitio es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tud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m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.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mala cito crescit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gnorantia non es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.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petuum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.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bile, argumentum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er,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Per aspera ad …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Usus est optimus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.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Audi,vide,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…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Homo homini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upus,  magister,  sile,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огодаева Н.Н.</dc:creator>
  <dc:description/>
  <dc:language>en-US</dc:language>
  <cp:lastModifiedBy>ирина</cp:lastModifiedBy>
  <dcterms:modified xsi:type="dcterms:W3CDTF">2023-12-19T21:31:58Z</dcterms:modified>
  <cp:revision>135</cp:revision>
  <dc:subject>Урок-игра</dc:subject>
  <dc:title>DAS INTELLEKTUELLE SPIEL KENNERINNEN UND KENN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