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A845-081A-4A4F-8E25-F1C3DD2E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1B3-95F3-468A-A969-6A60A7CE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4062-9618-4D8E-8BEF-46F40119C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39AE-7BDF-4DAE-AA99-315B9656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7E4-0DD8-4B90-BA92-79CE9A31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A63D-F41D-4927-9521-90DBB65E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EC4C-FE4A-4CD8-A40C-01C0C22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49E5-7227-4660-8AC1-CFCB0D7B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F135-7329-4770-9477-2E1F0D08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93D-6254-4473-9F54-DF217A65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B8A3-F64D-481E-A469-938263A3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CC86-6979-408E-BBCC-55A59766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937C-FA4F-41E8-AB21-B0AD2F493AB6}" type="slidenum">
              <a:rPr b="0" lang="ru-RU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s://www.sochinyashka.ru/russkaya_literatura/obraz-vasiliya-vojevatogo-v-piese-ostrovskogo-bespridannitsa.html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им 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сать отзыв о фильме Э. Рязанова "Жестокий романс по план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"/>
          <p:cNvPicPr/>
          <p:nvPr/>
        </p:nvPicPr>
        <p:blipFill>
          <a:blip r:embed="rId1"/>
          <a:stretch/>
        </p:blipFill>
        <p:spPr>
          <a:xfrm>
            <a:off x="2098800" y="2133720"/>
            <a:ext cx="5503680" cy="412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Где происходит действие пьес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9640" y="1125000"/>
            <a:ext cx="77868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ействие происходит в г. Бряхимове. Это не вымышленный Островским город. Название заимствовано из летописи: в древности Бряхимов существовал в верховьях Волги, в окрестностях нынешнего города Васильсурск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3" descr="img4.jpg"/>
          <p:cNvPicPr/>
          <p:nvPr/>
        </p:nvPicPr>
        <p:blipFill>
          <a:blip r:embed="rId1"/>
          <a:srcRect l="2752" t="18499" r="5114" b="2751"/>
          <a:stretch/>
        </p:blipFill>
        <p:spPr>
          <a:xfrm>
            <a:off x="2124000" y="3213000"/>
            <a:ext cx="494208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очему именно Волгу, города на ее берегах выбирает Островский местом действия своих пьес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360" y="1773000"/>
            <a:ext cx="8229600" cy="41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олга - колыбель русских городов, морская магистраль, основной торговый пу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s1200.jpg"/>
          <p:cNvPicPr/>
          <p:nvPr/>
        </p:nvPicPr>
        <p:blipFill>
          <a:blip r:embed="rId1"/>
          <a:stretch/>
        </p:blipFill>
        <p:spPr>
          <a:xfrm>
            <a:off x="1981080" y="2852640"/>
            <a:ext cx="5462640" cy="3792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циальная 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780000" y="1052640"/>
            <a:ext cx="518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иса бедна, она бесприданница, и этим определяется ее трагическая судьба. Она живет в мире, где все продается и покупается, в том числе девичья честь, любовь и красота. Лариса - романтическая натура. По мере развития действия в драме нарастает несоответствие между романтическими представлениями Ларисы и прозаическим миром людей, ее окружающих и ей поклоняющихся. Люди эти по-своему сложные и противоречивые. Попробуем разобраться, какие они, на конкретных примера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http://www.savok.org/uploads/posts/2009-12/thumbs/1260787042_p_f.jpg"/>
          <p:cNvPicPr/>
          <p:nvPr/>
        </p:nvPicPr>
        <p:blipFill>
          <a:blip r:embed="rId1"/>
          <a:stretch/>
        </p:blipFill>
        <p:spPr>
          <a:xfrm>
            <a:off x="324000" y="1268280"/>
            <a:ext cx="3247920" cy="4638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здадим таблиц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2316240"/>
        </p:xfrm>
        <a:graphic>
          <a:graphicData uri="http://schemas.openxmlformats.org/drawingml/2006/table">
            <a:tbl>
              <a:tblPr/>
              <a:tblGrid>
                <a:gridCol w="2386080"/>
                <a:gridCol w="310032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еро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рактеристик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Цитаты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Значительные лица  города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Мокий Пармёныч Кну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, с деньгами можно дела делать. Хорошо тому…у кого денег мно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Найдите таких людей, которые посулят вам десятки тысяч даром, а тогда и браните мен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Если скажу орел, так проиграю, орел, конечно, в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Рисунок 3" descr="http://mir3k.ru/download/file.php?id=5499"/>
          <p:cNvPicPr/>
          <p:nvPr/>
        </p:nvPicPr>
        <p:blipFill>
          <a:blip r:embed="rId1"/>
          <a:stretch/>
        </p:blipFill>
        <p:spPr>
          <a:xfrm>
            <a:off x="250920" y="3068640"/>
            <a:ext cx="4105080" cy="304488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https://www.womanhit.ru/media/CACHE/images/articleimage2/2017/2/ceftz8zwaaedbts/1abc55a2c134b631296d79931aaf1909.jpg"/>
          <p:cNvPicPr/>
          <p:nvPr/>
        </p:nvPicPr>
        <p:blipFill>
          <a:blip r:embed="rId2"/>
          <a:stretch/>
        </p:blipFill>
        <p:spPr>
          <a:xfrm>
            <a:off x="4643280" y="3068640"/>
            <a:ext cx="3738600" cy="3005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«Говорящие фамили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милии в этой пьесе весьма точно и образно отражают главное качество того или иного персонажа, которое и положено в основу фамил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им домашнее зад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Мокий Пармёныч Кнур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Кнуров</a:t>
            </a:r>
            <a:r>
              <a:rPr b="1" lang="ru-RU" sz="2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исходит от диалектного слова, которое обозначает «боров, кабан», что подчеркивается любовью Мокия Пармёныча вкусно поесть. Имя и отчество Кнурова в сочетании обозначают «кощунственный царь». А.Н. Островский подчеркивает роль Кнурова в обществ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я </a:t>
            </a:r>
            <a:r>
              <a:rPr b="1" lang="ru-RU" sz="2700" spc="-1" strike="noStrike" u="sng">
                <a:solidFill>
                  <a:srgbClr val="ff0000"/>
                </a:solidFill>
                <a:uFillTx/>
                <a:latin typeface="Calibri"/>
              </a:rPr>
              <a:t>Мо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(от греч.) Насмешник;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юди с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именем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Мок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 обладают сильным и очень волевым характером, который помогает им достичь успеха в жизни, стать сильнее и здорове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арменыч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от греч. 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Пармений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твердо стоящи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Что об этом герое мы узнаем из ремаро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2400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рупный делец, “</a:t>
            </a: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пожилой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человек с громадным состоянием”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Рисунок 3" descr="f65854da4622c1f1ad4ffeb361d7703c_66a3558c12e4f994bc92a356e27f53c8_148782012303_800px.jpg"/>
          <p:cNvPicPr/>
          <p:nvPr/>
        </p:nvPicPr>
        <p:blipFill>
          <a:blip r:embed="rId1"/>
          <a:stretch/>
        </p:blipFill>
        <p:spPr>
          <a:xfrm>
            <a:off x="324000" y="15573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то первый говорит об этом герое в пьес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 подчеркнутым уважением причисляет его к “чистой публике” города Бряхимова буфетчик Гаврило. В разговоре буфетчика со слугой Иваном называются некоторые привычки и особенности характера Кнурова. Проявляя неизменную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аботу о своем здоровье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Кнуров постоянно “для моциону” “каждое утро бульвар-то меряет взад и вперед, точно по обещанию”. “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кие обеды-то у него!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 поясняет Гаврило,- разве без моциону такой обед съешь?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общении с людьми Кнур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строго избирателен, держит дистанцию, понапрасну слов не трати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“С кем ему разговаривать? Есть человека два-три в городе, с ними он и разговаривает, а больше не с кем; ну он и молчит... А разговаривать он ездит в Москву, Петербург, да и за границу, там ему просторнее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мотрите подборку эпизодов из фильма и охарактеризуйте геро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3" descr="video.jpg"/>
          <p:cNvPicPr/>
          <p:nvPr/>
        </p:nvPicPr>
        <p:blipFill>
          <a:blip r:embed="rId1"/>
          <a:stretch/>
        </p:blipFill>
        <p:spPr>
          <a:xfrm>
            <a:off x="549360" y="1600200"/>
            <a:ext cx="8045280" cy="4525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жестокий романс"/>
          <p:cNvPicPr/>
          <p:nvPr/>
        </p:nvPicPr>
        <p:blipFill>
          <a:blip r:embed="rId1"/>
          <a:stretch/>
        </p:blipFill>
        <p:spPr>
          <a:xfrm>
            <a:off x="250920" y="115920"/>
            <a:ext cx="3960720" cy="655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2" descr="https://b1.filmpro.ru/c/331792.600xp.jpg"/>
          <p:cNvPicPr/>
          <p:nvPr/>
        </p:nvPicPr>
        <p:blipFill>
          <a:blip r:embed="rId2"/>
          <a:stretch/>
        </p:blipFill>
        <p:spPr>
          <a:xfrm>
            <a:off x="4356000" y="115920"/>
            <a:ext cx="4608720" cy="6553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Уважают ли его окружающ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кружение ясно осознает силу влияния Кнуров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ожеватов при встрече с ним “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почтительно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” кланяется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стречает Кнурова Огудалова, взволнованная честью, оказанной ее дому: “На чем записать такое счастье?.. Я так рада, растерялась право... не знаю где и посадить вас”;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“мы за особенное счастье поставляем ваш визит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; ни с чем это сравнить нельзя”. Если Вожеватов для Кнурова свой человек и ему при встрече он “подает руку”, то совсем иначе Кнуров ведет себя с другим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йдите в тексте ключевую фразу, которую произносит Кнуров и которая является характеристикой его внутреннего мира, лейтмотивом образ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Хорошо тому, Василий Данилыч, у кого денег-то мног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меет в виду свое состояние, на которое, по его понятиям, можно купить все (вплоть до любви красивой женщины), Кнуров уверенно заявляет: «Для меня невозможного мало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к относится Кнуров к Ларисе Огудаловой? Как он оценивает то, что в дальнейшем происходит с Ларисой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нуров высо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ценит красоту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Ларисы Огудаловой, которая могла бы значительно украсить его жизнь, внести в нее приятное разнообразие (за немалые деньги, разумеется). “А хорошо бы с такой барышней в Париж прокатиться на выставку”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ссказ Вожеватова о семействе Огудаловых, о любви Ларисы к обманувшему ее Паратову, об отчаянном положении красивой бесприданницы, решившей выйти замуж за Карандышева, укрепил Кнурова в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желании купить благосклонност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Ларисы. Ее он называет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“дорогим бриллиантом”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ебе же Кнуров уготовил роль художника-ювелира, который сумеет этот бриллиант обработать и превратить в бесценное украшение, ставшее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его собственностью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«Значительные лица  город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Василий Данилыч Вожев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За удовольствие надо платить, они даром не даются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Я знаю, что такое купеческое сло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Что я обещал, то и исполню: для меня слово- закон, что сказано, то свя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Всякому товару цена е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http://img.yo2o.org/imager/w_800/h_600/e3f9819a3dd3438f7420dcaaf23d55bd.jpg"/>
          <p:cNvPicPr/>
          <p:nvPr/>
        </p:nvPicPr>
        <p:blipFill>
          <a:blip r:embed="rId1"/>
          <a:stretch/>
        </p:blipFill>
        <p:spPr>
          <a:xfrm>
            <a:off x="2484360" y="3645000"/>
            <a:ext cx="3737160" cy="2803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Василий Данилыч Вожев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Вожеватов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оисходит от слова, обозначающего «обходительный». 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Вожеватов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только внешне со всеми приветлив и вежлив, однако внутренний мир его отличается черствостью и равнодушие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в Вожеватов в общении с людьми? Сравнить его с Кнуровым. В чем между ними разница? Каково его жизненное кред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чень молодой человек, один из представителей богатой торговой фирмы, по костюму европеец”, довольно проворный и удачливый в делах человек. За небольшую сумму, очень выгодно, Вожеватов купил у Паратова пароход. “Нам кстати: у нас на низу грузу много”,- поведал он Кнурову. В ближайшее время он намерен поехать в Париж на выставку. А в Бряхимове он развлекается общением с Ларисой Огудаловой и тем, что под видом чая распивает по утрам шампанско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ожеватов отличается веселым нравом, легкостью в общении. Сравнивая его с Кнуровым, слуга Иван с одобрением говорит о Вожеватове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Вот тоже богатый человек, а разговорчив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олее опытный и разбирающийся в людях Гаврило замечает: “Василий Данилыч еще молод; малодушеством занимается; еще мало себя понимает, а в лета войдет, такой же идол будет”. Вожев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т пошутить, посмеяться, не принимать всерьез то, что не имеет отношения к его делам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 своему положению он принадлежит к высшему кругу бряхимовского общества, и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знакомство с ним ценит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я. Уверенная небрежность Вожеватова вызывает зависть у Карандышева, который, чтобы скрыть свои подлинные чувства, отзывается о Вожеватове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Пустой глупый мальчик”, “Этот купчик Вожеватов”.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ам о себе Вожеватов сказал довольно определенно: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“Я хоть и молод, а не зарвусь, лишнего не передам”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овы взаимоотношения Вожеватова с семьей Огудаловых, с Ларисой? Поведение Вожеватова до того, как они с Кнуровым тянули жребий, и посл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с детства знаком с Ларисой, посвящен во все события в доме Огудаловых. От него становятся известны различные обстоятельства и истории, связанные с этим семейство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о обращает на себя внимание тон рассказов Вожеватова.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меиваясь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 поведал Кнурову о том, как тяжело Лариса переживала разлуку с Паратовым, как затем появился у Огудаловых кассир, которого у них в доме и арестовали. Если при этом Кнуров высказывает сочувствие,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(“Однако положение ее незавидное”)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 Вожеватов высмеивает все происходящее, как цепь нелепых и забавных случаев (“Да, смешно даже”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о жизни Ларисы, о ее положении он повествует с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юморо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е упуская возможность представить в комическом свете Хариту Игнатьевну (“Она, должно быть, не русская... Уж очень проворная”), всех женихов Ларисы, да и о ней самой, о ее будущем с Карандышевым, говорит: “А я так думаю, что бросит она его скорехонько. Теперь еще она как убитая, а вот оправится да поглядит на мужа попристальнее, каков он...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Трезво и по-деловому Вожеватов оценивает положение Ларисы, бесстрастно рассчитав, что надеяться ей не на что. “Теперь женихов-то в самый обрез: сколько приданых, столько и женихов, лишних нет, - бесприданницам-то и недостает... Ну, а жениться-то надо подумавши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ение с Ларисой является для него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развлечением на фоне довольно однообразной бряхимовской жизни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удовольствием, за которое можно и должно платить деньги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 бывать у них в доме большое удовольствие”,- признается он Кнуро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f0"/>
                </a:solidFill>
                <a:latin typeface="Calibri"/>
              </a:rPr>
              <a:t>«Блистательный барин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ергей Сергеевич Пара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«Блистательный барин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человек с правилами, брак для меня дело священно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Я сам такой же бурла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Что такое «жаль», этого я не знаю. У меня ничего заветного нет; найду выгоду, так все продам, что угод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 меня правило: никому ничего не прощать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Ведь я чуть было не женился на Ларисе -  вот бы людей насмеши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Господа, я имею слабость к артиста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Рисунок 3" descr="https://img.domkino.tv/img/2010-10-11/fmt_114_3046-scr2.jpg"/>
          <p:cNvPicPr/>
          <p:nvPr/>
        </p:nvPicPr>
        <p:blipFill>
          <a:blip r:embed="rId1"/>
          <a:srcRect l="16588" t="0" r="0" b="0"/>
          <a:stretch/>
        </p:blipFill>
        <p:spPr>
          <a:xfrm>
            <a:off x="755640" y="3933720"/>
            <a:ext cx="3084480" cy="250668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https://img0.liveinternet.ru/images/attach/c/0/118/977/118977444_988e99c9f9d6b292dc5f169e8333c83b.jpg"/>
          <p:cNvPicPr/>
          <p:nvPr/>
        </p:nvPicPr>
        <p:blipFill>
          <a:blip r:embed="rId2"/>
          <a:stretch/>
        </p:blipFill>
        <p:spPr>
          <a:xfrm>
            <a:off x="5435640" y="3936960"/>
            <a:ext cx="3384360" cy="244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арох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 был обычай на пристани, когда встречали или провожали Сергея Сергеич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О главной герои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кого она собиралась выйти замуж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дочерей было у Хариты Игнатьев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Сергей Сергеевич Пар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тов - 1) Некоторые считают, что фамилия образована от искаженного французского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parade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мотивируя это тем, что Паратов любит покрасоваться, “пустить пыль в глаза”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2) Но скорее драматург образовал данную фамилия от диалектного слова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рат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что означает “бойкий, сильный, дюжий”. Дополнительный аргумент в пользу этой точки зрения можно считать тот факт, что Островский довольно редко образовывал фамилии героев от искаженных иностранных сл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) барат - обмен товара на товар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баратерия - обман по счетам торгов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аратов - человек широкой души, отдающийся искренним увлечениям, готовый поставить на карту не только чужую, но и свою жизн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ерге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высокий, высокочтимы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4" descr="video.jpg"/>
          <p:cNvPicPr/>
          <p:nvPr/>
        </p:nvPicPr>
        <p:blipFill>
          <a:blip r:embed="rId1"/>
          <a:stretch/>
        </p:blipFill>
        <p:spPr>
          <a:xfrm>
            <a:off x="539640" y="1125360"/>
            <a:ext cx="8147160" cy="4581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f0"/>
                </a:solidFill>
                <a:latin typeface="Calibri"/>
              </a:rPr>
              <a:t>«Блистательный барин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то же за человек Парат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анализируем монолог о Ларисе, когда Паратов узнает о ее замужестве. О чем свидетельствуют здесь многоточ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7" descr="Паратов 2"/>
          <p:cNvPicPr/>
          <p:nvPr/>
        </p:nvPicPr>
        <p:blipFill>
          <a:blip r:embed="rId1"/>
          <a:stretch/>
        </p:blipFill>
        <p:spPr>
          <a:xfrm>
            <a:off x="4648320" y="2449440"/>
            <a:ext cx="4038480" cy="2832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Какова жизненная позиция Паратов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меня, Мокий Парменыч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ичего заветного нет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найду выгоду, так все продам, что угодно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”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з разговора Кнурова с Вожеватовым выясняется, что в практической, деловой сфере Паратов терпит неудачу, в настоящее время нуждается в деньгах и поэтому продает пароход “Ласточка”. “Выгоды не находит”,- заключает Вожеватов, а Кнуров добавляет: “Где ж ему! Не барское это дело... Он ведь мотоват”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25992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Паратове легко сочетается способность сорить деньгами, и простой неприглядный расчет. Способность театрализовать, сделать эффектным любой поступок, даже откровенную низость подать как что-то необычно благородное (разговор с Харитой Игнатьевной о женитьбе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Паратова в данный момент важно только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как можно эффектнее выглядеть, сохранить маску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За эффектной позой у него ничего нет.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Он мираж, фантом, созданный воображением Ларис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Его появление вносит беспорядок в уже более или менее установившуюся жизнь, резко нарушает хрупкое равновесие в душе Ларисы между желанием примириться со своей участью и тоской по яркой и красивой жизни. Для него и из-за него совершаются все события в пьес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к при общении с разными людьми, Паратов довольно быстро находит общий язык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вольно легко Пар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находит общий язык с людьми, при этом довольно ловко играет слова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 На всякий случай у него найдутся поговорки, пословицы, цитаты. Он щеголяет тем, что “с бурлаками водился”, у которых выучился разговорному язык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 полемике с Карандышевым Паратов называет самого себя бурлаком: “Я - судохозяин и вступлюсь за них; я сам такой же бурлак”. Однако сопротивления в людях он встречать не привык. Не случайно Огудалова с тревогой предупреждает Карандышева: “Вы поосторожней с ним, а то жизни не рады будете”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тов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любит только себя и свое благополучие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не обращая внимания на то, как он попутно, незаметно для себя, </a:t>
            </a: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калечит судьбы людей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ыводы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мире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де все продается и покупается, нет места жалости. </a:t>
            </a: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Мотив сочувствия и равнодушия, жалости и бессердечност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проходит через всю пьесу. Благодаря лейтмотивам, “подводному течению”, которые стали у Чехова важной особенностью его драматургической системы (</a:t>
            </a:r>
            <a:r>
              <a:rPr b="0" i="1" lang="ru-RU" sz="2700" spc="-1" strike="noStrike">
                <a:solidFill>
                  <a:srgbClr val="000000"/>
                </a:solidFill>
                <a:latin typeface="Calibri"/>
              </a:rPr>
              <a:t>это дополняет учитель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, в “Бесприданнице” драма Ларисы приобретает глубокий общий смысл. Это не просто история обманутой девушки, а трагическое столкновение чистого светлого человека с миром, в котором господствует бесчеловечност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итать действия 2-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ить “цитатную характеристику” образа Карандышева (письменно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помнить, как “маленький человек” изображается в литературе XVIII в.- нач. XIX в. (Гоголь “Шинель”, Пушкин “Повести Белкина” и др.) - ус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В какой город хотел «прокатиться» с героиней Кну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Вставьте нужное слово в в цитату Кнурова: «Дорогой … дорогой и оправы требу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Чем занимался Кнуров, когда Карандышев приглашал отобед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Названи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«Видно сокола по полёту». О ком так сказал Гаври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ровери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вание пароход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в был обычай на пристани, когда встречали или провожали Сергея Сергеич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ИО главной героин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 кого она собиралась выйти замуж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дочерей было у Хариты Игнатьевны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9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5219640" y="98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Ласточ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3780000" y="278136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лили из пуш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508720" y="3357720"/>
            <a:ext cx="35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Лариса Дмитриевна Огудалов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TextBox 6"/>
          <p:cNvSpPr/>
          <p:nvPr/>
        </p:nvSpPr>
        <p:spPr>
          <a:xfrm>
            <a:off x="5867280" y="443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Карандыше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TextBox 7"/>
          <p:cNvSpPr/>
          <p:nvPr/>
        </p:nvSpPr>
        <p:spPr>
          <a:xfrm>
            <a:off x="4255920" y="537372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Тест по содержанию 1 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5280" y="90756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6. В какой город хотел «прокатиться» с героиней Кнуров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7. Вставьте нужное слово в в цитату Кнурова: «Дорогой … дорогой и оправы требу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8. Чем занимался Кнуров, когда Карандышев приглашал отобеда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. Название ре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. «Видно сокола по полёту». О ком так сказал Гаврил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4932360" y="14428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риж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6372360" y="2781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бриллиан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5148360" y="357336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Читал газет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816360" y="4221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Волг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3816360" y="5229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ahoma"/>
              </a:rPr>
              <a:t>Парат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2900" spc="-1" strike="noStrike">
                <a:solidFill>
                  <a:srgbClr val="00b0f0"/>
                </a:solidFill>
                <a:latin typeface="Bookman Old Style"/>
              </a:rPr>
              <a:t>Урок по пьесе </a:t>
            </a:r>
            <a:br>
              <a:rPr sz="2900"/>
            </a:br>
            <a:r>
              <a:rPr b="1" lang="ru-RU" sz="2900" spc="-1" strike="noStrike">
                <a:solidFill>
                  <a:srgbClr val="00b0f0"/>
                </a:solidFill>
                <a:latin typeface="Bookman Old Style"/>
              </a:rPr>
              <a:t>А.Н. Островского «Бесприданница»</a:t>
            </a:r>
            <a:br>
              <a:rPr sz="29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Быт и нравы русской провинции.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Образы Кнурова, Вожеватого и Паратова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3" descr="https://24smi.org/public/media/resize/800x-/celebrity/2018/08/06/dsfoeh4heujt-portret-aleksandra-ostrovskogo.jpg"/>
          <p:cNvPicPr/>
          <p:nvPr/>
        </p:nvPicPr>
        <p:blipFill>
          <a:blip r:embed="rId1"/>
          <a:stretch/>
        </p:blipFill>
        <p:spPr>
          <a:xfrm>
            <a:off x="3276720" y="2205000"/>
            <a:ext cx="2433600" cy="3246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s://biblio.by/media/catalog/product/cache/1/image/1200x1200/85e4522595efc69f496374d01ef2bf13/9/7/9785000541777-2018--.jpg"/>
          <p:cNvPicPr/>
          <p:nvPr/>
        </p:nvPicPr>
        <p:blipFill>
          <a:blip r:embed="rId2"/>
          <a:srcRect l="17121" t="-182" r="17121" b="-182"/>
          <a:stretch/>
        </p:blipFill>
        <p:spPr>
          <a:xfrm>
            <a:off x="395280" y="2349360"/>
            <a:ext cx="2217600" cy="3384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5" descr="https://my-bookshop.ru/image/1019979068.jpg"/>
          <p:cNvPicPr/>
          <p:nvPr/>
        </p:nvPicPr>
        <p:blipFill>
          <a:blip r:embed="rId3"/>
          <a:srcRect l="0" t="0" r="0" b="5916"/>
          <a:stretch/>
        </p:blipFill>
        <p:spPr>
          <a:xfrm>
            <a:off x="6443640" y="2852640"/>
            <a:ext cx="2322360" cy="3097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p:transition spd="med">
    <p:wheel spokes="2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Diagram 3" descr=""/>
          <p:cNvPicPr/>
          <p:nvPr/>
        </p:nvPicPr>
        <p:blipFill>
          <a:blip r:embed="rId1"/>
          <a:stretch/>
        </p:blipFill>
        <p:spPr>
          <a:xfrm>
            <a:off x="0" y="324000"/>
            <a:ext cx="9144000" cy="5400360"/>
          </a:xfrm>
          <a:prstGeom prst="rect">
            <a:avLst/>
          </a:prstGeom>
          <a:ln w="0">
            <a:noFill/>
          </a:ln>
        </p:spPr>
      </p:pic>
      <p:sp>
        <p:nvSpPr>
          <p:cNvPr id="70" name="Овал 3"/>
          <p:cNvSpPr/>
          <p:nvPr/>
        </p:nvSpPr>
        <p:spPr>
          <a:xfrm>
            <a:off x="3995640" y="1052640"/>
            <a:ext cx="1224000" cy="5760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Овал 4"/>
          <p:cNvSpPr/>
          <p:nvPr/>
        </p:nvSpPr>
        <p:spPr>
          <a:xfrm>
            <a:off x="5724360" y="2492280"/>
            <a:ext cx="1727280" cy="576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Овал 5"/>
          <p:cNvSpPr/>
          <p:nvPr/>
        </p:nvSpPr>
        <p:spPr>
          <a:xfrm rot="20293800">
            <a:off x="5095440" y="4638600"/>
            <a:ext cx="1617840" cy="74952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Овал 6"/>
          <p:cNvSpPr/>
          <p:nvPr/>
        </p:nvSpPr>
        <p:spPr>
          <a:xfrm>
            <a:off x="1835280" y="2492280"/>
            <a:ext cx="1224000" cy="5763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Овал 7"/>
          <p:cNvSpPr/>
          <p:nvPr/>
        </p:nvSpPr>
        <p:spPr>
          <a:xfrm rot="1824000">
            <a:off x="1652760" y="4254120"/>
            <a:ext cx="1796760" cy="90000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2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пробуйте определить суть конфликта данной пьесы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онфликт “Бесприданницы” - вариация на тему “Грозы”. Молодая девушка из небогатой семьи, чистая и любящая жизнь, художественно одаренная, сталкивается с миром дельцов, где ее красота оценивается в “золоте”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wheel spokes="2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49:16Z</dcterms:created>
  <dc:creator>Елена Сергеевна</dc:creator>
  <dc:description/>
  <dc:language>en-US</dc:language>
  <cp:lastModifiedBy>Светлана Жевнерова</cp:lastModifiedBy>
  <dcterms:modified xsi:type="dcterms:W3CDTF">2023-09-29T22:22:37Z</dcterms:modified>
  <cp:revision>73</cp:revision>
  <dc:subject/>
  <dc:title>Слайд 1</dc:title>
</cp:coreProperties>
</file>