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.gif" ContentType="image/gi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2AC3-4A2E-4383-A3DF-EA53A1375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07E7-AAA0-46EE-914A-819D4DD9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A457-61BE-49A9-9B37-B38E699BD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225C-CDBE-430B-A4F4-66A144C48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7792-4D88-4735-AF7E-E6CBA1E5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A1CB-A5C4-4F78-9733-6F52D32AB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42DE-F2FF-455A-A927-B946009C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F1F5-C17D-447A-87BB-587999A8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B076-609B-47A7-BFD7-4C0E8BCE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94E2-F89C-4599-8899-98205F442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51FD-FF07-4D7D-BEAC-24BAB6A2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234A-8DE0-4753-9CFD-AD1DEDAA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64CE-05FF-436F-BEE9-09EEBFE083B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Урок русского языка в 4-Б классе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Тема: 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авописание окончаний имён существительных в дательном падеже.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00360" y="4723920"/>
            <a:ext cx="4095720" cy="15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дготовил учитель начальны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лассов МБОУ «Сакская гимназия им. Героя Советского Союза Г.Д.Завгороднего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Муравьёв М.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1" descr=""/>
          <p:cNvPicPr/>
          <p:nvPr/>
        </p:nvPicPr>
        <p:blipFill>
          <a:blip r:embed="rId1"/>
          <a:stretch/>
        </p:blipFill>
        <p:spPr>
          <a:xfrm>
            <a:off x="250920" y="4005360"/>
            <a:ext cx="38894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Упражнение  2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(первичное закрепление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1.Анализ упражне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2.Записать 5 предложений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3.Коллективеая проверка 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4. Самооценка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C:\Users\Admin\Desktop\0015-015-Datelnyj-padezh.jpg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РАБОТА В ГРУППАХ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542880" y="981000"/>
            <a:ext cx="805824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766880" y="3278160"/>
            <a:ext cx="561024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3516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820872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8136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900000" y="189000"/>
            <a:ext cx="770436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844560" y="461880"/>
            <a:ext cx="74883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82090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900" spc="-1" strike="noStrike">
                <a:solidFill>
                  <a:srgbClr val="c00000"/>
                </a:solidFill>
                <a:latin typeface="Calibri"/>
              </a:rPr>
              <a:t>Вставь пропущенные буквы, </a:t>
            </a:r>
            <a:br>
              <a:rPr sz="2900"/>
            </a:br>
            <a:r>
              <a:rPr b="1" lang="ru-RU" sz="2900" spc="-1" strike="noStrike">
                <a:solidFill>
                  <a:srgbClr val="c00000"/>
                </a:solidFill>
                <a:latin typeface="Calibri"/>
              </a:rPr>
              <a:t>подчеркни главные члены предложения,определи падеж выделенных слов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Осень  дарит  </a:t>
            </a: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б..рёзе   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з..лотое плать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аш..на  медленно под..ехала к </a:t>
            </a: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дому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ама запл..ла к..су своей </a:t>
            </a: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дочери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68360" y="160020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Подведение итог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cc33"/>
                </a:solidFill>
                <a:latin typeface="Times New Roman"/>
                <a:ea typeface="Calibri"/>
              </a:rPr>
              <a:t>«Волшебная лестница знаний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Взаимопровер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Осень  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дарит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рёзе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( Д.п.)  з</a:t>
            </a: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лотое плать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Маш</a:t>
            </a: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Calibri"/>
              </a:rPr>
              <a:t>и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на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 медленно под</a:t>
            </a: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ъ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ехала к дому (Д.п.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Мама запл</a:t>
            </a: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ла к</a:t>
            </a:r>
            <a:r>
              <a:rPr b="1" i="1" lang="ru-RU" sz="40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су своей дочери (Д.п.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8" descr=""/>
          <p:cNvPicPr/>
          <p:nvPr/>
        </p:nvPicPr>
        <p:blipFill>
          <a:blip r:embed="rId1"/>
          <a:stretch/>
        </p:blipFill>
        <p:spPr>
          <a:xfrm>
            <a:off x="1908000" y="2917800"/>
            <a:ext cx="1511640" cy="52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2"/>
          <a:stretch/>
        </p:blipFill>
        <p:spPr>
          <a:xfrm>
            <a:off x="4519440" y="4200480"/>
            <a:ext cx="3076920" cy="46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"/>
          <p:cNvPicPr/>
          <p:nvPr/>
        </p:nvPicPr>
        <p:blipFill>
          <a:blip r:embed="rId3"/>
          <a:stretch/>
        </p:blipFill>
        <p:spPr>
          <a:xfrm>
            <a:off x="4518000" y="4365720"/>
            <a:ext cx="3078360" cy="48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108000" y="5445000"/>
            <a:ext cx="1224000" cy="59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tretch/>
        </p:blipFill>
        <p:spPr>
          <a:xfrm>
            <a:off x="1692360" y="5506920"/>
            <a:ext cx="1871640" cy="46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"/>
          <p:cNvPicPr/>
          <p:nvPr/>
        </p:nvPicPr>
        <p:blipFill>
          <a:blip r:embed="rId6"/>
          <a:stretch/>
        </p:blipFill>
        <p:spPr>
          <a:xfrm>
            <a:off x="1692360" y="5661000"/>
            <a:ext cx="1871640" cy="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3"/>
          <p:cNvSpPr/>
          <p:nvPr/>
        </p:nvSpPr>
        <p:spPr>
          <a:xfrm>
            <a:off x="468360" y="1125360"/>
            <a:ext cx="7920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ОМУ всё дать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 ЧЕМУ призвать?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ишь только я могу сказат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 предлогом «к» порой дружу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 предлогом «по» гулять хож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помни обязательно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ружок, падеж ты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Загад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аблица падеж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79280" y="1341360"/>
          <a:ext cx="8785440" cy="5184720"/>
        </p:xfrm>
        <a:graphic>
          <a:graphicData uri="http://schemas.openxmlformats.org/drawingml/2006/table">
            <a:tbl>
              <a:tblPr/>
              <a:tblGrid>
                <a:gridCol w="1614600"/>
                <a:gridCol w="1193760"/>
                <a:gridCol w="1195560"/>
                <a:gridCol w="1195200"/>
                <a:gridCol w="1195560"/>
                <a:gridCol w="1195200"/>
                <a:gridCol w="1195560"/>
              </a:tblGrid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то? 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го ?Чег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го?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Кому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Чему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ЛО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, до, из, без, у, для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оло, с, вокру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, на, за, про, чере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к , п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ОНЧ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с. –а,-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с. -о,-е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с. 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с. –и ,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с. –а, 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с. -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с. –у ,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с. –о, 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с.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3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ЛЬ В ПРЕДЛОЖ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леж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щ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торостепенный чле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торостепенный ч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торостепенный ч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Рисунок 1" descr=""/>
          <p:cNvPicPr/>
          <p:nvPr/>
        </p:nvPicPr>
        <p:blipFill>
          <a:blip r:embed="rId1"/>
          <a:stretch/>
        </p:blipFill>
        <p:spPr>
          <a:xfrm>
            <a:off x="1533600" y="1900080"/>
            <a:ext cx="104760" cy="1335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2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95400" cy="1335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2189160" y="2009880"/>
            <a:ext cx="66600" cy="10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324000" y="0"/>
            <a:ext cx="856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56908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аблица падеж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1920" y="1139760"/>
          <a:ext cx="8974080" cy="5388120"/>
        </p:xfrm>
        <a:graphic>
          <a:graphicData uri="http://schemas.openxmlformats.org/drawingml/2006/table">
            <a:tbl>
              <a:tblPr/>
              <a:tblGrid>
                <a:gridCol w="1209600"/>
                <a:gridCol w="1209600"/>
                <a:gridCol w="1209960"/>
                <a:gridCol w="1209600"/>
                <a:gridCol w="1209600"/>
                <a:gridCol w="1211400"/>
                <a:gridCol w="1714320"/>
              </a:tblGrid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.п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то? 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го ?Чег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го?Чт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му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ему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ЛО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т, до, из, без, у, для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оло, с, вокруг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, на, за, про, чере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 , п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ОНЧ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с. –а,-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с. -о,-е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с. 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с. –и ,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с. –а, 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с. -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с. –у ,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с. –о, 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с.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с .   -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с. –у , 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3с.  -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ЛЬ В ПРЕДЛОЖ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длеж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ще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торостепенный член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торостепенный ч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торостепенный чл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1533600" y="1900080"/>
            <a:ext cx="104760" cy="1335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" descr=""/>
          <p:cNvPicPr/>
          <p:nvPr/>
        </p:nvPicPr>
        <p:blipFill>
          <a:blip r:embed="rId2"/>
          <a:stretch/>
        </p:blipFill>
        <p:spPr>
          <a:xfrm>
            <a:off x="1533600" y="1900080"/>
            <a:ext cx="95040" cy="1335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2189160" y="2009880"/>
            <a:ext cx="66600" cy="10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Разминка для глаз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i?id=78119663-70-72&amp;n=21"/>
          <p:cNvPicPr/>
          <p:nvPr/>
        </p:nvPicPr>
        <p:blipFill>
          <a:blip r:embed="rId1"/>
          <a:stretch/>
        </p:blipFill>
        <p:spPr>
          <a:xfrm>
            <a:off x="1403280" y="1557360"/>
            <a:ext cx="6264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14:57:35Z</dcterms:created>
  <dc:creator>Admin</dc:creator>
  <dc:description/>
  <dc:language>en-US</dc:language>
  <cp:lastModifiedBy>Windows User</cp:lastModifiedBy>
  <dcterms:modified xsi:type="dcterms:W3CDTF">2024-01-08T12:59:33Z</dcterms:modified>
  <cp:revision>46</cp:revision>
  <dc:subject/>
  <dc:title>Презентация к уроку русского языка в 4 классе по теме: «Дательный падеж имён существительных»</dc:title>
</cp:coreProperties>
</file>