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2B3-E7E6-4A3C-B385-4D184F3F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794-A1A7-4D0B-84AA-2D6623F3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BD7-C00C-46C7-BEDE-F78FBA62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841-CAA8-4553-9679-4A2510F9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21D-ACF9-4845-B22B-51BFC2BE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BD1-7CA5-4F2B-9214-60AB8ED7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FC5-C057-4D1C-BBB5-F1A5B31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75E-B955-48A3-BA14-8AB76FE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0C7-8938-4318-83D1-2FB62661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125-4CE7-45CC-B6BC-A0386F08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21E-DDFF-46AF-A10B-D7217A37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571-55AF-42FA-9749-16D3F008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7AA7-CDB5-4E98-8B97-35E78EC3ABC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русского языка в 4-Б классе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Тема: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описание окончаний имён существительных в дательном падеже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360" y="4723920"/>
            <a:ext cx="409572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готовил учитель началь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лассов МБОУ «Сакская гимназия им. Героя Советского Союза Г.Д.Завгороднег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равьёв М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3889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Упражнение  2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(первичное закрепление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Анализ упражн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Записать 5 предложени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Коллективеая проверка 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. Самооцен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Admin\Desktop\0015-015-Datelnyj-padezh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АБОТА В ГРУППА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542880" y="981000"/>
            <a:ext cx="80582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66880" y="3278160"/>
            <a:ext cx="56102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704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844560" y="4618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8209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Вставь пропущенные буквы,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подчеркни главные члены предложения,определи падеж выделенных с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сень  дарит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б..рёзе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..лотое плать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аш..на  медленно под..ехала к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ому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ама запл..ла к..су своей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очери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160020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Times New Roman"/>
                <a:ea typeface="Calibri"/>
              </a:rPr>
              <a:t>«Волшебная лестница знани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заимопровер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сень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дарит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ёзе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 Д.п.)  з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лотое плать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ш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н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медленно под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ъ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ехала к дому (Д.п.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ама запл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ла к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у своей дочери (Д.п.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908000" y="2917800"/>
            <a:ext cx="1511640" cy="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4519440" y="4200480"/>
            <a:ext cx="3076920" cy="4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4518000" y="4365720"/>
            <a:ext cx="3078360" cy="4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108000" y="5445000"/>
            <a:ext cx="1224000" cy="59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tretch/>
        </p:blipFill>
        <p:spPr>
          <a:xfrm>
            <a:off x="1692360" y="5506920"/>
            <a:ext cx="1871640" cy="4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6"/>
          <a:stretch/>
        </p:blipFill>
        <p:spPr>
          <a:xfrm>
            <a:off x="1692360" y="5661000"/>
            <a:ext cx="18716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468360" y="1125360"/>
            <a:ext cx="792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У всё д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ЧЕМУ призвать?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шь только я могу сказ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предлогом «к» порой друж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предлогом «по» гулять хож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омни обязатель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ок, падеж ты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падеж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9280" y="1341360"/>
          <a:ext cx="8785440" cy="5184720"/>
        </p:xfrm>
        <a:graphic>
          <a:graphicData uri="http://schemas.openxmlformats.org/drawingml/2006/table">
            <a:tbl>
              <a:tblPr/>
              <a:tblGrid>
                <a:gridCol w="1614600"/>
                <a:gridCol w="1193760"/>
                <a:gridCol w="1195560"/>
                <a:gridCol w="1195200"/>
                <a:gridCol w="1195560"/>
                <a:gridCol w="1195200"/>
                <a:gridCol w="11955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о ?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о?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, до, из, без, у, дл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ло, с, вокр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, на, за, про, чер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 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а,-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-о,-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и ,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–а,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у ,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–о, 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 В ПРЕДЛО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533600" y="1900080"/>
            <a:ext cx="104760" cy="133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95400" cy="133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189160" y="2009880"/>
            <a:ext cx="66600" cy="1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падеж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920" y="1139760"/>
          <a:ext cx="8974080" cy="5388120"/>
        </p:xfrm>
        <a:graphic>
          <a:graphicData uri="http://schemas.openxmlformats.org/drawingml/2006/table">
            <a:tbl>
              <a:tblPr/>
              <a:tblGrid>
                <a:gridCol w="1209600"/>
                <a:gridCol w="1209600"/>
                <a:gridCol w="1209960"/>
                <a:gridCol w="1209600"/>
                <a:gridCol w="1209600"/>
                <a:gridCol w="1211400"/>
                <a:gridCol w="1714320"/>
              </a:tblGrid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о ?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о?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, до, из, без, у, дл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ло, с, вокру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, на, за, про, чер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а,-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-о,-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и ,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–а,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у ,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–о, 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с .   -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с. –у , 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с.  -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 В ПРЕДЛО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1533600" y="1900080"/>
            <a:ext cx="104760" cy="133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1533600" y="1900080"/>
            <a:ext cx="95040" cy="13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189160" y="2009880"/>
            <a:ext cx="66600" cy="1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азминка для гла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i?id=78119663-70-72&amp;n=21"/>
          <p:cNvPicPr/>
          <p:nvPr/>
        </p:nvPicPr>
        <p:blipFill>
          <a:blip r:embed="rId1"/>
          <a:stretch/>
        </p:blipFill>
        <p:spPr>
          <a:xfrm>
            <a:off x="1403280" y="1557360"/>
            <a:ext cx="626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4:57:35Z</dcterms:created>
  <dc:creator>Admin</dc:creator>
  <dc:description/>
  <dc:language>en-US</dc:language>
  <cp:lastModifiedBy>Windows User</cp:lastModifiedBy>
  <dcterms:modified xsi:type="dcterms:W3CDTF">2024-01-08T12:59:33Z</dcterms:modified>
  <cp:revision>46</cp:revision>
  <dc:subject/>
  <dc:title>Презентация к уроку русского языка в 4 классе по теме: «Дательный падеж имён существительных»</dc:title>
</cp:coreProperties>
</file>