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5FC-A2AA-4964-97D1-AC94FC5B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1D0-B6D0-40C1-84C9-05576E2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F1E9-89DC-4CE9-9218-53D94540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815-D918-414C-ADA5-B640997E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667-C405-45EC-AC47-EEC9BF96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814-97A8-483E-B982-9AB9ABDF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D032-8C86-49A5-8194-19EB00B9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DA4-61BC-4F29-ACF1-9CBB461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079-2B29-4C71-AE93-926381AA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1A5-347E-410C-B771-24941069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98B-E071-4BCB-A82D-80235DDA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330-C2F9-4173-BA0E-B881984F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C36C-C305-46CB-831A-7E90E6732B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10T15:03:38Z</dcterms:created>
  <dc:creator>Windows User</dc:creator>
  <dc:description/>
  <dc:language>en-US</dc:language>
  <cp:lastModifiedBy>User</cp:lastModifiedBy>
  <dcterms:modified xsi:type="dcterms:W3CDTF">2024-01-08T13:24:26Z</dcterms:modified>
  <cp:revision>1</cp:revision>
  <dc:subject/>
  <dc:title>Презентация PowerPoint</dc:title>
</cp:coreProperties>
</file>