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59F4-973F-49FC-AA97-815046AF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2A7-46CE-4D53-938B-BFB2A018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6CF5-4C1D-4519-961D-EABFDAD1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635D-4B51-4140-914B-C55CAFF5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DFAA-877C-483A-A1B9-12405BEE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A444-7572-4B07-8ADB-7246740B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19F3-6B50-43D7-BCBB-7AC81ED0C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2502-DE00-41AF-B69E-6EBEE3FA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CB35-5BE7-4060-B496-B955E1E6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4DD1-5D22-400A-85A6-A1BDF979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DF99-4B35-41D5-A154-EF2A651C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D37D-64C3-4288-A3C1-0CB52D8B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7476-0B73-4E4C-B60A-985B7AACFD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9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5-10T15:03:38Z</dcterms:created>
  <dc:creator>Windows User</dc:creator>
  <dc:description/>
  <dc:language>en-US</dc:language>
  <cp:lastModifiedBy>User</cp:lastModifiedBy>
  <dcterms:modified xsi:type="dcterms:W3CDTF">2024-01-08T13:24:26Z</dcterms:modified>
  <cp:revision>1</cp:revision>
  <dc:subject/>
  <dc:title>Презентация PowerPoint</dc:title>
</cp:coreProperties>
</file>