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EC3C-E32C-4D7C-B6D6-D158B6BDB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BBB3-D2F1-4B94-A0A3-55ED71E02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B8C5-E52B-4505-BB22-5ADD84028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EF06-21B9-4B21-AB28-BD1756182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152B-A38C-4358-8842-466CA251F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736B-A8A2-4FE2-9F28-22BD86B45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3B35-2066-4E56-8042-55FF55252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16DF-8305-4102-B76E-B795C2C0D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4442-81AB-4F25-B1E1-DF314B869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A0F4-E8F8-4B71-ACB6-8889EFA7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2E14-F54D-41AF-893F-0D234B1D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D65C-C3A1-44DD-9492-3C2DBFFC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DC5C9-5D1A-4DB8-B340-FA84B3587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етоды разделения смесей вещест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ильтр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тод основан на различной растворимости веществ и разных размерах частиц компонентов смеси. Фильтрование позволяет отделить твердое вещество от жидкости или г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28600" y="2857680"/>
            <a:ext cx="5334120" cy="40003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248520" y="3048120"/>
            <a:ext cx="2590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Фильтрованием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можно раздели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крупы и вод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мел и вод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песок и воду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пыль и возду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стаивание (флотация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тод основан на различной скорости оседания твердых частиц с разным весом (плотностью) в жидкой или воздушной среде. Метод используют для разделения двух и более твердых нерастворимых веществ в воде (или другом растворител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590920" y="3124080"/>
            <a:ext cx="3914640" cy="22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нным методом можно разделять и несмешивающиеся жидкости. Для этого используют делительную воронку. Например для разделения бензина и воды, смесь помещают в делительную воронку, ждут момента, пока не появится четкая граница раздела фаз. После чего аккуратно открывают краник и в стакан стекает в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429000" y="2743200"/>
            <a:ext cx="26719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ействие магнит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тод основан на разных магнитных свойствах твердых компонентов смеси. Данный метод используют при наличии в смеси веществ-ферромагнетиков, то есть веществ, обладающих магнитными свойствами, например железа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838080" y="3352680"/>
            <a:ext cx="731520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533520" y="4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0000"/>
                </a:solidFill>
                <a:latin typeface="Arial"/>
              </a:rPr>
              <a:t>ЧИСТЫЕ ВЕЩЕСТВА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состоят из частиц одного сорта (вида), содержат мало примесей, имеют свои, характерные именно для них свойства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http://www.vip-doski.ru/file/542.jpg"/>
          <p:cNvPicPr/>
          <p:nvPr/>
        </p:nvPicPr>
        <p:blipFill>
          <a:blip r:embed="rId1"/>
          <a:stretch/>
        </p:blipFill>
        <p:spPr>
          <a:xfrm>
            <a:off x="1295280" y="2536920"/>
            <a:ext cx="6324840" cy="432108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3"/>
          <p:cNvSpPr/>
          <p:nvPr/>
        </p:nvSpPr>
        <p:spPr>
          <a:xfrm>
            <a:off x="7524720" y="357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Na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-360"/>
            <a:ext cx="83520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МЕ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оят из частиц разного вида, из двух веще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"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ОРОДНЫЕ                                         НЕОДНОРОДНЫЕ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4280"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(гомогенные)                     (гетерогенные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http://oillife.ru/wp-content/uploads/2015/01/oilwaterinbeaker.jpg"/>
          <p:cNvPicPr/>
          <p:nvPr/>
        </p:nvPicPr>
        <p:blipFill>
          <a:blip r:embed="rId1"/>
          <a:stretch/>
        </p:blipFill>
        <p:spPr>
          <a:xfrm>
            <a:off x="6019920" y="2438280"/>
            <a:ext cx="2124000" cy="2592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https://www.healthyfood.co.nz/wp-content/uploads/2016/10/iStock_000023439362_Medium.jpg"/>
          <p:cNvPicPr/>
          <p:nvPr/>
        </p:nvPicPr>
        <p:blipFill>
          <a:blip r:embed="rId2"/>
          <a:stretch/>
        </p:blipFill>
        <p:spPr>
          <a:xfrm>
            <a:off x="1066680" y="2514600"/>
            <a:ext cx="2349720" cy="259236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1"/>
          <p:cNvSpPr/>
          <p:nvPr/>
        </p:nvSpPr>
        <p:spPr>
          <a:xfrm>
            <a:off x="1523880" y="5381640"/>
            <a:ext cx="2089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астицы НЕ ВИДНЫ даже под микроскопом, нет границы раздел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сахар+во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2"/>
          <p:cNvSpPr/>
          <p:nvPr/>
        </p:nvSpPr>
        <p:spPr>
          <a:xfrm>
            <a:off x="5715000" y="5392800"/>
            <a:ext cx="230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Частицы ВИДНЫ невооруженным взглядом, есть граница раздел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масло+во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етоды разделения смес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омогенных                           Гетероге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паривание                      Фильт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кристаллизац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стилляция                       Отстаи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перегон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роматография           Действие магни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133720" y="121932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943600" y="121932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ссмотрим каждый метод более подробн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828800" y="1600200"/>
            <a:ext cx="556272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ыпаривание (кристаллизация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пользуется для выделения растворимых твердых веществ из раство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828800" y="2286000"/>
            <a:ext cx="5867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истилляция (перегонка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ана на различных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кип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еще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52280" y="151920"/>
            <a:ext cx="883944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 помощью дистилляции (перегонки) получат дистиллированную воду. В природе вода в чистом виде (без солей) не встречается. Океаническая, морская, речная, колодезная и родниковая вода – это растворы солей в воде. Однако часто людям необходима чистая вода, не содержащая солей (используется в двигателях автомобилей; в химическом производстве для получения различных растворов и веществ; при изготовлении фотографий). Такую воду называют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истиллированной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именно ее применяют в лаборатории для проведения химических опытов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ерегонкой можно раздели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ду и спи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фть (на различные фракци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цетон и воду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Хроматография (встречается редко!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нован на разных скоростях распределения исследуемого вещества между двумя фазами - неподвижной и подвижной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элюен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8600" y="2459160"/>
            <a:ext cx="861048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2-12T14:53:47Z</dcterms:created>
  <dc:creator>Vika</dc:creator>
  <dc:description/>
  <dc:language>en-US</dc:language>
  <cp:lastModifiedBy>Vika</cp:lastModifiedBy>
  <dcterms:modified xsi:type="dcterms:W3CDTF">2020-02-12T15:46:24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