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E16F-4771-4CEF-91CB-566391F5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EF5-6DD5-408A-B1E2-0781FE4A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1315-E871-4DF5-A605-3053FFDD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B15D-3C8F-4056-B74A-44DEEFC05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8982-446C-4237-85EC-FF1F6B4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7A5-DFF7-492F-A486-4C456738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64A-4DE4-45FE-A02B-85DFAFEB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139-09E5-45F4-A98B-6D3DEBD4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4F9B-CDAF-4C85-BDD2-DD78B846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C29-29DB-436A-BE82-02CCDEDC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9778-8972-49B5-8C61-3717C8C4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159-4984-4285-B244-454EED42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A30B-BFD1-4C15-BE1C-F40A133E4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разделения смесей веще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Фильтр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 основан на различной растворимости веществ и разных размерах частиц компонентов смеси. Фильтрование позволяет отделить твердое вещество от жидкости или г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28600" y="285768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248520" y="3048120"/>
            <a:ext cx="25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Фильтрованием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можно раздели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крупы и в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мел и вод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песок и воду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пыль и возду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тстаивание (флотаци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 основан на различной скорости оседания твердых частиц с разным весом (плотностью) в жидкой или воздушной среде. Метод используют для разделения двух и более твердых нерастворимых веществ в воде (или другом растворите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90920" y="3124080"/>
            <a:ext cx="3914640" cy="22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15192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нным методом можно разделять и несмешивающиеся жидкости. Для этого используют делительную воронку. Например для разделения бензина и воды, смесь помещают в делительную воронку, ждут момента, пока не появится четкая граница раздела фаз. После чего аккуратно открывают краник и в стакан стекает 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671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ействие магни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од основан на разных магнитных свойствах твердых компонентов смеси. Данный метод используют при наличии в смеси веществ-ферромагнетиков, то есть веществ, обладающих магнитными свойствами, например желез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38080" y="3352680"/>
            <a:ext cx="731520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33520" y="4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"/>
              </a:rPr>
              <a:t>ЧИСТЫЕ ВЕЩЕСТВ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состоят из частиц одного сорта (вида), содержат мало примесей, имеют свои, характерные именно для них свойства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www.vip-doski.ru/file/542.jpg"/>
          <p:cNvPicPr/>
          <p:nvPr/>
        </p:nvPicPr>
        <p:blipFill>
          <a:blip r:embed="rId1"/>
          <a:stretch/>
        </p:blipFill>
        <p:spPr>
          <a:xfrm>
            <a:off x="1295280" y="2536920"/>
            <a:ext cx="6324840" cy="432108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3"/>
          <p:cNvSpPr/>
          <p:nvPr/>
        </p:nvSpPr>
        <p:spPr>
          <a:xfrm>
            <a:off x="7524720" y="3573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Na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-360"/>
            <a:ext cx="83520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СМЕ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стоят из частиц разного вида, из двух вещ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РОДНЫЕ                                         НЕОДНОРОДНЫЕ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2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(гомогенные)                     (гетерогенные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42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://oillife.ru/wp-content/uploads/2015/01/oilwaterinbeaker.jpg"/>
          <p:cNvPicPr/>
          <p:nvPr/>
        </p:nvPicPr>
        <p:blipFill>
          <a:blip r:embed="rId1"/>
          <a:stretch/>
        </p:blipFill>
        <p:spPr>
          <a:xfrm>
            <a:off x="6019920" y="2438280"/>
            <a:ext cx="2124000" cy="2592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s://www.healthyfood.co.nz/wp-content/uploads/2016/10/iStock_000023439362_Medium.jpg"/>
          <p:cNvPicPr/>
          <p:nvPr/>
        </p:nvPicPr>
        <p:blipFill>
          <a:blip r:embed="rId2"/>
          <a:stretch/>
        </p:blipFill>
        <p:spPr>
          <a:xfrm>
            <a:off x="1066680" y="2514600"/>
            <a:ext cx="2349720" cy="25923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1523880" y="5381640"/>
            <a:ext cx="208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астицы НЕ ВИДНЫ даже под микроскопом, нет границы раз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сахар+в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"/>
          <p:cNvSpPr/>
          <p:nvPr/>
        </p:nvSpPr>
        <p:spPr>
          <a:xfrm>
            <a:off x="5715000" y="5392800"/>
            <a:ext cx="23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Частицы ВИДНЫ невооруженным взглядом, есть граница раздел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масло+вод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етоды разделения смес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омогенных                           Гетерог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паривание                      Фильт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кристаллизац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стилляция                       Отстаи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перегон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роматография           Действие магни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33720" y="12193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12193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смотрим каждый метод более подробн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828800" y="1600200"/>
            <a:ext cx="556272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ыпаривание (кристаллизация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спользуется для выделения растворимых твердых веществ из раств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867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истилляция (перегонка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на на различных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ки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52280" y="151920"/>
            <a:ext cx="883944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 помощью дистилляции (перегонки) получат дистиллированную воду. В природе вода в чистом виде (без солей) не встречается. Океаническая, морская, речная, колодезная и родниковая вода – это растворы солей в воде. Однако часто людям необходима чистая вода, не содержащая солей (используется в двигателях автомобилей; в химическом производстве для получения различных растворов и веществ; при изготовлении фотографий). Такую воду называют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стиллированной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именно ее применяют в лаборатории для проведения химических опытов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ерегонкой можно раздели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ду и спи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фть (на различные фрак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цетон и воду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роматография (встречается редко!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нован на разных скоростях распределения исследуемого вещества между двумя фазами - неподвижной и подвижной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элюен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2459160"/>
            <a:ext cx="861048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2-12T14:53:47Z</dcterms:created>
  <dc:creator>Vika</dc:creator>
  <dc:description/>
  <dc:language>en-US</dc:language>
  <cp:lastModifiedBy>Vika</cp:lastModifiedBy>
  <dcterms:modified xsi:type="dcterms:W3CDTF">2020-02-12T15:46:24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