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9.png" ContentType="image/png"/>
  <Override PartName="/ppt/media/image31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2.png" ContentType="image/png"/>
  <Override PartName="/ppt/media/image24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hyperlink" Target="http://ru.wikipedia.org/wiki/&#1060;&#1072;&#1081;&#1083;:Phoenix.canariensis.jpg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hyperlink" Target="http://rybafish.umclidet.com/Nectarina/148449.jpg" TargetMode="External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hyperlink" Target="http://ru.wikipedia.org/wiki/&#1060;&#1072;&#1081;&#1083;:Goliath_Frog.jpg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hyperlink" Target="http://www.molomo.ru/img/welwitschia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05280" y="1447920"/>
            <a:ext cx="604836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Игра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«Африканское сафари»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7280" y="6491160"/>
            <a:ext cx="36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Каргина Любовь Анатольевна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676160"/>
            <a:ext cx="44956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упное растение паразит не имеет листьев и стебля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Image1108"/>
          <p:cNvPicPr/>
          <p:nvPr/>
        </p:nvPicPr>
        <p:blipFill>
          <a:blip r:embed="rId2"/>
          <a:stretch/>
        </p:blipFill>
        <p:spPr>
          <a:xfrm>
            <a:off x="5376960" y="152280"/>
            <a:ext cx="3767040" cy="4496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9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3992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520" y="1371240"/>
            <a:ext cx="49532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а из самых крупных сухопутных летающих птиц. Высота до 1,5 м и размах крыльев до 3 м. Прекрасно летает, обитает около воды, питается падалью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марабу"/>
          <p:cNvPicPr/>
          <p:nvPr/>
        </p:nvPicPr>
        <p:blipFill>
          <a:blip r:embed="rId2"/>
          <a:stretch/>
        </p:blipFill>
        <p:spPr>
          <a:xfrm>
            <a:off x="5257800" y="1600200"/>
            <a:ext cx="3733920" cy="2254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9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" dur="3992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5334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е крупное после слона млекопитающее. Имеет плохое зрение, но очень хорошее обоняние. Быстро бегает, агрессивен. Занесен в Красную книгу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носорог1"/>
          <p:cNvPicPr/>
          <p:nvPr/>
        </p:nvPicPr>
        <p:blipFill>
          <a:blip r:embed="rId2"/>
          <a:stretch/>
        </p:blipFill>
        <p:spPr>
          <a:xfrm>
            <a:off x="5334120" y="541440"/>
            <a:ext cx="3657600" cy="2836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9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3992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7720" y="15998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ивотное Африки – родственник жирафа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76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окапи"/>
          <p:cNvPicPr/>
          <p:nvPr/>
        </p:nvPicPr>
        <p:blipFill>
          <a:blip r:embed="rId2"/>
          <a:stretch/>
        </p:blipFill>
        <p:spPr>
          <a:xfrm>
            <a:off x="5029200" y="1031760"/>
            <a:ext cx="3962520" cy="2702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9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3992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80880" y="2209680"/>
            <a:ext cx="5562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тение – «царица» оазисов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5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Финиковая пальма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248520" y="304920"/>
            <a:ext cx="26193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9" dur="3992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7720" y="1988640"/>
            <a:ext cx="480060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еносчик возбудителя сонной болезни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4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це-це"/>
          <p:cNvPicPr/>
          <p:nvPr/>
        </p:nvPicPr>
        <p:blipFill>
          <a:blip r:embed="rId2"/>
          <a:stretch/>
        </p:blipFill>
        <p:spPr>
          <a:xfrm>
            <a:off x="5638680" y="895320"/>
            <a:ext cx="3505320" cy="2847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3" descr="9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3992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5257800" cy="16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тица с длинными ногами (высота до 150 см) и черным длинным хохолком на голове(похожа на писца-чиновника). Хорошо летает и приручается. Питается змеями, грызунами, ящерицами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03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ptica-sekretar-"/>
          <p:cNvPicPr/>
          <p:nvPr/>
        </p:nvPicPr>
        <p:blipFill>
          <a:blip r:embed="rId2"/>
          <a:stretch/>
        </p:blipFill>
        <p:spPr>
          <a:xfrm>
            <a:off x="5486400" y="228600"/>
            <a:ext cx="3425760" cy="3809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9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6" dur="3992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ые маленькие птицы в Африке. Длина их тела до 8 см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Картинка 1 из 67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0"/>
            <a:ext cx="2819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7" dur="3992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533412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ая крупная лягушка мира весит 5 кг. Её длина достигает до 13 см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267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4" descr="Лягушка-голиаф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228600"/>
            <a:ext cx="381924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3" dur="3992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495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натное растение родом из Африки на своей родине достигает 3 м. в высоту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0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2" descr=""/>
          <p:cNvPicPr/>
          <p:nvPr/>
        </p:nvPicPr>
        <p:blipFill>
          <a:blip r:embed="rId2"/>
          <a:stretch/>
        </p:blipFill>
        <p:spPr>
          <a:xfrm>
            <a:off x="5334120" y="590400"/>
            <a:ext cx="3504960" cy="3335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9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9" dur="3992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90560" y="1294920"/>
            <a:ext cx="6359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99"/>
                </a:solidFill>
                <a:latin typeface="Arial"/>
              </a:rPr>
              <a:t>Условия игры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игре участвуют 3 команд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питан команды называет номер мишени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дущий открывает вопрос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команда назвала животное или растение, она получает 0,5 балл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команда определила название природной зоны для данного организма, она получает ещё 0,5 балл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едующий выстрел делает другая команд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182844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ый крупный из наземных хищников. Длина тела ­ до 2,5 м, масса до 280 кг. Живут устойчивыми группами - прайдами в 6-12 голов.</a:t>
            </a: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львица"/>
          <p:cNvPicPr/>
          <p:nvPr/>
        </p:nvPicPr>
        <p:blipFill>
          <a:blip r:embed="rId2"/>
          <a:srcRect l="0" t="6661" r="0" b="0"/>
          <a:stretch/>
        </p:blipFill>
        <p:spPr>
          <a:xfrm>
            <a:off x="5029200" y="914400"/>
            <a:ext cx="4114800" cy="2881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94"/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0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0" dur="3992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04560" y="1142640"/>
            <a:ext cx="4800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е высокое животное на Земле, достигающее 5-5,5 м. Питается листьями и молодыми побегами деревьев и кустарников на высоте, недоступной для других животных. Подолгу обходится без воды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8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жираф1"/>
          <p:cNvPicPr/>
          <p:nvPr/>
        </p:nvPicPr>
        <p:blipFill>
          <a:blip r:embed="rId2"/>
          <a:stretch/>
        </p:blipFill>
        <p:spPr>
          <a:xfrm>
            <a:off x="5105520" y="60948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94"/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0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1" dur="3992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541008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ая крупная из человекообразных обезьян. Рост взрослых самцов достигает 2 метров, а вес ­200 кг. Питается только растительной пищей. Европейцам стала известна после эпохи Великих географических открытий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2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7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горилла2"/>
          <p:cNvPicPr/>
          <p:nvPr/>
        </p:nvPicPr>
        <p:blipFill>
          <a:blip r:embed="rId2"/>
          <a:stretch/>
        </p:blipFill>
        <p:spPr>
          <a:xfrm>
            <a:off x="5486400" y="228600"/>
            <a:ext cx="3429000" cy="3086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94"/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2" dur="3992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556236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животное имеет короткое тело и массивную голову с мощными челюстями. Известно неприятными звуками, которые издает по ночам, воем, рычанием, хохотом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6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4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6" descr="Полосатая гиена"/>
          <p:cNvPicPr/>
          <p:nvPr/>
        </p:nvPicPr>
        <p:blipFill>
          <a:blip r:embed="rId3"/>
          <a:stretch/>
        </p:blipFill>
        <p:spPr>
          <a:xfrm>
            <a:off x="5334120" y="762120"/>
            <a:ext cx="34430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0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3" dur="3992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704880" y="2819160"/>
            <a:ext cx="8439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ое быстрое животное суши. Может развивать скорость до 100 км/ч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5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2" descr="гепард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200400" y="304920"/>
            <a:ext cx="5410080" cy="2414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94"/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9" dur="3992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28240" y="2285640"/>
            <a:ext cx="4419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упная нелетающая, но быстро бегающая птица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4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страус"/>
          <p:cNvPicPr/>
          <p:nvPr/>
        </p:nvPicPr>
        <p:blipFill>
          <a:blip r:embed="rId2"/>
          <a:stretch/>
        </p:blipFill>
        <p:spPr>
          <a:xfrm>
            <a:off x="4495680" y="3049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3" descr="94"/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0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3992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80520" y="1676160"/>
            <a:ext cx="4800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рни этого растения достигают 6 м. в длину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"/>
          <p:cNvPicPr/>
          <p:nvPr/>
        </p:nvPicPr>
        <p:blipFill>
          <a:blip r:embed="rId2"/>
          <a:stretch/>
        </p:blipFill>
        <p:spPr>
          <a:xfrm>
            <a:off x="5257800" y="304920"/>
            <a:ext cx="3657600" cy="3159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94"/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0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1" dur="3992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-360" y="3581280"/>
            <a:ext cx="5181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ое крупное наземное животное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2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4" descr="Африканский слон"/>
          <p:cNvPicPr/>
          <p:nvPr/>
        </p:nvPicPr>
        <p:blipFill>
          <a:blip r:embed="rId3"/>
          <a:stretch/>
        </p:blipFill>
        <p:spPr>
          <a:xfrm>
            <a:off x="3886200" y="46080"/>
            <a:ext cx="476100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0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2" dur="3992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51055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о растение запасает воду в толстом мясистом стволе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11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2" descr=""/>
          <p:cNvPicPr/>
          <p:nvPr/>
        </p:nvPicPr>
        <p:blipFill>
          <a:blip r:embed="rId2"/>
          <a:stretch/>
        </p:blipFill>
        <p:spPr>
          <a:xfrm>
            <a:off x="5562720" y="304920"/>
            <a:ext cx="3352680" cy="30477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4" descr="94"/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0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8" dur="3992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57150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о животное является примером полного совершенства в плане приспособления к условиям обитания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2" descr="Верблюд"/>
          <p:cNvPicPr/>
          <p:nvPr/>
        </p:nvPicPr>
        <p:blipFill>
          <a:blip r:embed="rId2"/>
          <a:stretch/>
        </p:blipFill>
        <p:spPr>
          <a:xfrm>
            <a:off x="6108840" y="838080"/>
            <a:ext cx="2874960" cy="37339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3" descr="94"/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nodeType="clickEffect" fill="hold">
                      <p:stCondLst>
                        <p:cond delay="0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9" dur="3992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28240" y="1828440"/>
            <a:ext cx="525780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о дерево обладает ценной древесиной черного, темно-зеленого, красного, белого цвета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ebenovoe_01"/>
          <p:cNvPicPr/>
          <p:nvPr/>
        </p:nvPicPr>
        <p:blipFill>
          <a:blip r:embed="rId4"/>
          <a:stretch/>
        </p:blipFill>
        <p:spPr>
          <a:xfrm>
            <a:off x="5867280" y="228600"/>
            <a:ext cx="30574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992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4"/>
          <p:cNvSpPr txBox="1"/>
          <p:nvPr/>
        </p:nvSpPr>
        <p:spPr>
          <a:xfrm>
            <a:off x="1295280" y="1981080"/>
            <a:ext cx="685800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4538520" cy="16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рево с очень толстым стволом и мелкими листьями, сбрасывает листву на зиму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"/>
          <p:cNvPicPr/>
          <p:nvPr/>
        </p:nvPicPr>
        <p:blipFill>
          <a:blip r:embed="rId4"/>
          <a:stretch/>
        </p:blipFill>
        <p:spPr>
          <a:xfrm>
            <a:off x="5181480" y="380880"/>
            <a:ext cx="373392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99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400536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этих животных детёныши рождаются в воде и начинают плавать раньше, чем ходить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209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бегемот2"/>
          <p:cNvPicPr/>
          <p:nvPr/>
        </p:nvPicPr>
        <p:blipFill>
          <a:blip r:embed="rId4"/>
          <a:stretch/>
        </p:blipFill>
        <p:spPr>
          <a:xfrm>
            <a:off x="4419720" y="380880"/>
            <a:ext cx="441936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3992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90720" y="1599840"/>
            <a:ext cx="377640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о растение имеет короткий ствол и всего лишь два листа длиной до 2-3 м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Картинка 13 из 60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81480" y="1090440"/>
            <a:ext cx="378144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3992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3581280" cy="31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она этого дерева не образует тень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саванна8"/>
          <p:cNvPicPr/>
          <p:nvPr/>
        </p:nvPicPr>
        <p:blipFill>
          <a:blip r:embed="rId2"/>
          <a:stretch/>
        </p:blipFill>
        <p:spPr>
          <a:xfrm>
            <a:off x="4038480" y="304920"/>
            <a:ext cx="4648320" cy="3485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9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3992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5029200" cy="228600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вянистые или древесные лазящие, цепляющиеся или вьющиеся растения с преимущественно тонкими стеблями. Нередко достигают большой длины - до 100 метров. Удерживаются на других растениях с помощью цепляющихся шипов, усиков, колючек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лес3"/>
          <p:cNvPicPr/>
          <p:nvPr/>
        </p:nvPicPr>
        <p:blipFill>
          <a:blip r:embed="rId2"/>
          <a:stretch/>
        </p:blipFill>
        <p:spPr>
          <a:xfrm>
            <a:off x="5410080" y="228600"/>
            <a:ext cx="3505320" cy="3424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9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3992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5638680" cy="213336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пная человекообразная обезьяна. Самцы достигают 1,5 м и 80 кг. Наиболее близки к человеку среди всех человекообразных обезьян. Хорошо переносят неволю. Эмоциональны, любопытны, общительны и дружелюбны. Занесены в Красную книгу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304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1447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3733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4876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2590920" y="5715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шим"/>
          <p:cNvPicPr/>
          <p:nvPr/>
        </p:nvPicPr>
        <p:blipFill>
          <a:blip r:embed="rId2"/>
          <a:stretch/>
        </p:blipFill>
        <p:spPr>
          <a:xfrm>
            <a:off x="5800680" y="228600"/>
            <a:ext cx="3062160" cy="4343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9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3992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азумова О.Ю.</dc:creator>
  <dc:description/>
  <dc:language>en-US</dc:language>
  <cp:lastModifiedBy>Пользователь Windows</cp:lastModifiedBy>
  <dcterms:modified xsi:type="dcterms:W3CDTF">2023-11-26T13:56:15Z</dcterms:modified>
  <cp:revision>23</cp:revision>
  <dc:subject/>
  <dc:title>Африканское сафар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