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9.png" ContentType="image/png"/>
  <Override PartName="/ppt/media/image7.png" ContentType="image/png"/>
  <Override PartName="/ppt/media/image1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F975-E517-430D-9CA2-E10B0E29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53D-A43F-4240-91E4-C6761136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7D7C-EA00-44F4-A6D5-AF5016684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F053-9B03-49A5-ADC8-3CDA80BB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904C-3710-42DD-B72C-55020535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F05D-2C18-499E-B460-E2E972B8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AC19-C5AB-485B-90D2-3D50C948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E714-38B1-4DBD-8445-3D4BBDE91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3457-5B75-44EB-95E4-7BC4F093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B717C-C26B-426A-9B7B-21A1CBAE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93CF-1096-4585-8D3F-1FC93F88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51BA-B7C0-4D1E-9880-B25545AE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CDE3-3041-4916-BEFB-8720F578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358B0-80B5-4D5D-A1F0-8C3152EE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1FB27-AA92-4E89-A7F7-110BD4B5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45C6-1FF8-457B-8CFB-D369BC49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33F52-C796-4194-9FB9-AC6BD03E3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64AF5-EADF-47C6-A5EE-9340659E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FE600-3425-4B9B-921B-2C6051CD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00828-1A95-4FFC-9376-92243F6B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CC6F9-C184-4B0F-9B93-9CA2EF30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1910-E7F8-421C-A5C4-57A335EF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8772-35F6-48ED-9ECB-38EB5ED9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5228B-65EE-4F6D-A89B-75633F7A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13A04-BB6E-4E29-B9D9-79F4F52B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7C3EE-5D21-4B3D-A07F-2864C2EE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E6E48-62CC-4D9D-A0A7-D2707EA0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9F8A8-D719-472B-AC12-7FB708CE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22A17-B98A-4B94-9DBF-DA33B8C10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9970-4327-49C2-80E5-F845551C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6BF01-6758-4613-948F-C3CDCF86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4BE0-83D9-4119-9D4B-CA327331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BE513-B433-4791-848F-3816E642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1654-83A5-4698-8470-7C5BB1D9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4D656-77AF-47EC-A3EE-BE586B18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BEAD3-E833-44F5-83C4-EB3AF52E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1ACA-3B25-4BE5-AA7C-B41755B3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7F85B-782D-4643-87B6-7420C17E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119FF-973C-46B4-8F09-DBA61CBEE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91768-5E73-40E1-9C55-5B2E4631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B4C69-EE25-44C3-B9B2-E9A725F4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AC51D-FD38-4502-9B34-320656024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365EB-25C5-42BF-A759-55818D37A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9DD0B-F2D1-419B-8BCD-04FFCF23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017-AF1D-4577-A1A2-6D62BECD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9C684-4F13-417D-90A0-8939911D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C310-F4C5-4324-A431-536ABE87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565AB-1FF7-4E2E-9BFC-2F5780B5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FB658-A7A6-4019-87A6-56FBFDF3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73E96-55A3-4112-B548-7D1848061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630C0-48F2-44B6-A7A6-0EC64EDE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EC51F-A3E6-48DF-A7F0-6C69B434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E188-06F9-4590-A5BB-B4DB83EC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62A45-31DB-4BB6-880A-64B2E2CE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B6356-0AC4-4A51-8442-F0CC0629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E8C-C937-4796-B8EA-25D85C9C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74903-1D47-4163-B80F-D4F362F0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3C2-A865-4509-9F08-B9991B33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447C-7742-4551-BF1E-389EA0B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EAD4-32EA-4130-A1F9-0A95E754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Text Box 4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72606-3DD8-42A6-9955-3ACCE2D1B6A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C9CC-103B-4662-A7E9-F52C4DC60F1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4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F8B97-4127-4528-A823-662595582E0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A924-9D30-4BAA-A576-B92BAC9ABA8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0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1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4E9C-A3CC-4CCF-9302-2EF4D564358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u.wikipedia.org/wiki/&#1053;&#1072;&#1088;&#1086;&#1076;" TargetMode="External"/><Relationship Id="rId3" Type="http://schemas.openxmlformats.org/officeDocument/2006/relationships/hyperlink" Target="http://ru.wikipedia.org/wiki/&#1041;&#1077;&#1088;&#1073;&#1077;&#1088;&#1099;" TargetMode="External"/><Relationship Id="rId4" Type="http://schemas.openxmlformats.org/officeDocument/2006/relationships/hyperlink" Target="http://ru.wikipedia.org/wiki/&#1052;&#1072;&#1083;&#1080;" TargetMode="External"/><Relationship Id="rId5" Type="http://schemas.openxmlformats.org/officeDocument/2006/relationships/hyperlink" Target="http://ru.wikipedia.org/wiki/&#1053;&#1080;&#1075;&#1077;&#1088;" TargetMode="External"/><Relationship Id="rId6" Type="http://schemas.openxmlformats.org/officeDocument/2006/relationships/hyperlink" Target="http://ru.wikipedia.org/wiki/&#1041;&#1091;&#1088;&#1082;&#1080;&#1085;&#1072;_&#1060;&#1072;&#1089;&#1086;" TargetMode="External"/><Relationship Id="rId7" Type="http://schemas.openxmlformats.org/officeDocument/2006/relationships/hyperlink" Target="http://ru.wikipedia.org/wiki/&#1052;&#1072;&#1088;&#1086;&#1082;&#1082;&#1086;" TargetMode="External"/><Relationship Id="rId8" Type="http://schemas.openxmlformats.org/officeDocument/2006/relationships/hyperlink" Target="http://ru.wikipedia.org/wiki/&#1040;&#1083;&#1078;&#1080;&#1088;" TargetMode="External"/><Relationship Id="rId9" Type="http://schemas.openxmlformats.org/officeDocument/2006/relationships/hyperlink" Target="http://ru.wikipedia.org/wiki/&#1051;&#1080;&#1074;&#1080;&#1103;" TargetMode="External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hyperlink" Target="http://www.sgpi.ru/wiki/index.php/&#1043;&#1088;&#1077;&#1095;&#1077;&#1089;&#1082;&#1080;&#1081;_&#1103;&#1079;&#1099;&#1082;" TargetMode="External"/><Relationship Id="rId4" Type="http://schemas.openxmlformats.org/officeDocument/2006/relationships/hyperlink" Target="http://www.sgpi.ru/wiki/index.php/&#1053;&#1077;&#1075;&#1088;&#1086;&#1080;&#1076;&#1085;&#1072;&#1103;_&#1088;&#1072;&#1089;&#1072;" TargetMode="External"/><Relationship Id="rId5" Type="http://schemas.openxmlformats.org/officeDocument/2006/relationships/hyperlink" Target="http://www.sgpi.ru/wiki/index.php/&#1040;&#1092;&#1088;&#1080;&#1082;&#1072;" TargetMode="External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ru.wikipedia.org/wiki/&#1040;&#1092;&#1088;&#1080;&#1082;&#1072;&#1072;&#1085;&#1089;" TargetMode="External"/><Relationship Id="rId3" Type="http://schemas.openxmlformats.org/officeDocument/2006/relationships/hyperlink" Target="http://ru.wikipedia.org/wiki/&#1053;&#1072;&#1088;&#1086;&#1076;" TargetMode="External"/><Relationship Id="rId4" Type="http://schemas.openxmlformats.org/officeDocument/2006/relationships/hyperlink" Target="http://ru.wikipedia.org/wiki/&#1043;&#1086;&#1083;&#1083;&#1072;&#1085;&#1076;&#1094;&#1099;" TargetMode="External"/><Relationship Id="rId5" Type="http://schemas.openxmlformats.org/officeDocument/2006/relationships/hyperlink" Target="http://ru.wikipedia.org/wiki/&#1053;&#1077;&#1084;&#1094;&#1099;" TargetMode="External"/><Relationship Id="rId6" Type="http://schemas.openxmlformats.org/officeDocument/2006/relationships/hyperlink" Target="http://ru.wikipedia.org/wiki/&#1060;&#1088;&#1072;&#1085;&#1094;&#1091;&#1079;&#1099;" TargetMode="External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Прямоугольник 1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375760" cy="201312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2" descr=""/>
          <p:cNvPicPr/>
          <p:nvPr/>
        </p:nvPicPr>
        <p:blipFill>
          <a:blip r:embed="rId2"/>
          <a:stretch/>
        </p:blipFill>
        <p:spPr>
          <a:xfrm>
            <a:off x="3132000" y="765000"/>
            <a:ext cx="2773440" cy="954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300px-EthnAfrica[1]"/>
          <p:cNvPicPr/>
          <p:nvPr/>
        </p:nvPicPr>
        <p:blipFill>
          <a:blip r:embed="rId3"/>
          <a:stretch/>
        </p:blipFill>
        <p:spPr>
          <a:xfrm>
            <a:off x="3059280" y="318924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IMG"/>
          <p:cNvPicPr/>
          <p:nvPr/>
        </p:nvPicPr>
        <p:blipFill>
          <a:blip r:embed="rId1"/>
          <a:stretch/>
        </p:blipFill>
        <p:spPr>
          <a:xfrm>
            <a:off x="428760" y="357120"/>
            <a:ext cx="2928960" cy="61945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Копия IMG"/>
          <p:cNvPicPr/>
          <p:nvPr/>
        </p:nvPicPr>
        <p:blipFill>
          <a:blip r:embed="rId2"/>
          <a:stretch/>
        </p:blipFill>
        <p:spPr>
          <a:xfrm>
            <a:off x="3500280" y="3508200"/>
            <a:ext cx="5214960" cy="28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"/>
          <p:cNvSpPr/>
          <p:nvPr/>
        </p:nvSpPr>
        <p:spPr>
          <a:xfrm>
            <a:off x="500040" y="526680"/>
            <a:ext cx="800100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Закрепление материала. Народы, населяющие матери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туаре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игме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эфи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утси, хи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африка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малагасий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Вопрос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низкорослый народ на Земле, обитающий в экваториальных лес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, населяющий пустыню Сахару, ведущий кочевой образ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, проживающий на острове Мадагаска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йные высокорослые народы саванны восточной части матер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ители южной ветви европеоидной расы, населяющие север Аф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ки европейских переселенцев из Нидерландов, населяющие юг Афр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714240" y="597600"/>
            <a:ext cx="72154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–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6 - 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"/>
          <p:cNvSpPr/>
          <p:nvPr/>
        </p:nvSpPr>
        <p:spPr>
          <a:xfrm>
            <a:off x="714240" y="1023120"/>
            <a:ext cx="75726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Домашнее задание: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граф 22, вопрос 1 стр.1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е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–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раграф 23, составить презентацию по Алжир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585720" y="658800"/>
            <a:ext cx="2900520" cy="11271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642960" y="178596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3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узнать о расовом, национальном  составе населения Африки, особенностях его размещ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3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рассмотреть политическую карту Афри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3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43c29"/>
                </a:solidFill>
                <a:latin typeface="Arial"/>
              </a:rPr>
              <a:t>отрабатывать навыки работы с разными источниками знаний, с карт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443c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1214280" y="1071720"/>
          <a:ext cx="6858000" cy="5357520"/>
        </p:xfrm>
        <a:graphic>
          <a:graphicData uri="http://schemas.openxmlformats.org/drawingml/2006/table">
            <a:tbl>
              <a:tblPr/>
              <a:tblGrid>
                <a:gridCol w="939960"/>
                <a:gridCol w="1933560"/>
                <a:gridCol w="1943280"/>
                <a:gridCol w="2041200"/>
              </a:tblGrid>
              <a:tr h="38880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р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вер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504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овые признак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080">
                <a:tc>
                  <a:txBody>
                    <a:bodyPr lIns="65880" rIns="65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р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Picture 3" descr="Изображение 078"/>
          <p:cNvPicPr/>
          <p:nvPr/>
        </p:nvPicPr>
        <p:blipFill>
          <a:blip r:embed="rId1"/>
          <a:stretch/>
        </p:blipFill>
        <p:spPr>
          <a:xfrm>
            <a:off x="2357280" y="4071960"/>
            <a:ext cx="1609920" cy="229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Копия Изображение 078"/>
          <p:cNvPicPr/>
          <p:nvPr/>
        </p:nvPicPr>
        <p:blipFill>
          <a:blip r:embed="rId2"/>
          <a:stretch/>
        </p:blipFill>
        <p:spPr>
          <a:xfrm>
            <a:off x="4286160" y="3929040"/>
            <a:ext cx="1447920" cy="2400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" descr="Копия (2) Изображение 078"/>
          <p:cNvPicPr/>
          <p:nvPr/>
        </p:nvPicPr>
        <p:blipFill>
          <a:blip r:embed="rId3"/>
          <a:stretch/>
        </p:blipFill>
        <p:spPr>
          <a:xfrm>
            <a:off x="6357960" y="3857760"/>
            <a:ext cx="1447920" cy="24858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4"/>
          <p:cNvSpPr/>
          <p:nvPr/>
        </p:nvSpPr>
        <p:spPr>
          <a:xfrm>
            <a:off x="1361160" y="501840"/>
            <a:ext cx="589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С помощью текста учебника стр.101-102, заполнить таблицу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f2936"/>
                </a:solidFill>
                <a:latin typeface="Times New Roman"/>
                <a:ea typeface="Times New Roman"/>
              </a:rPr>
              <a:t>Население Афр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20px-Targui8[1]"/>
          <p:cNvPicPr/>
          <p:nvPr/>
        </p:nvPicPr>
        <p:blipFill>
          <a:blip r:embed="rId1"/>
          <a:stretch/>
        </p:blipFill>
        <p:spPr>
          <a:xfrm>
            <a:off x="557280" y="404640"/>
            <a:ext cx="4478400" cy="59770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5148360" y="918000"/>
            <a:ext cx="3384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уареги -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народ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группы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берберов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4"/>
              </a:rPr>
              <a:t>Мал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5"/>
              </a:rPr>
              <a:t>Нигер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6"/>
              </a:rPr>
              <a:t>Буркина Фасо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7"/>
              </a:rPr>
              <a:t>Марокко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8"/>
              </a:rPr>
              <a:t>Алжире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3200" spc="-1" strike="noStrike" u="sng">
                <a:solidFill>
                  <a:srgbClr val="6b9f25"/>
                </a:solidFill>
                <a:uFillTx/>
                <a:latin typeface="Arial"/>
                <a:hlinkClick r:id="rId9"/>
              </a:rPr>
              <a:t>Ливии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1222419068_537242839_8db9c3b2bc[1]"/>
          <p:cNvPicPr/>
          <p:nvPr/>
        </p:nvPicPr>
        <p:blipFill>
          <a:blip r:embed="rId1"/>
          <a:stretch/>
        </p:blipFill>
        <p:spPr>
          <a:xfrm>
            <a:off x="395280" y="333360"/>
            <a:ext cx="2963880" cy="3456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1638304[1]"/>
          <p:cNvPicPr/>
          <p:nvPr/>
        </p:nvPicPr>
        <p:blipFill>
          <a:blip r:embed="rId2"/>
          <a:stretch/>
        </p:blipFill>
        <p:spPr>
          <a:xfrm>
            <a:off x="2340000" y="3166920"/>
            <a:ext cx="3311640" cy="331164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7"/>
          <p:cNvSpPr/>
          <p:nvPr/>
        </p:nvSpPr>
        <p:spPr>
          <a:xfrm>
            <a:off x="-4559400" y="16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3492360" y="484560"/>
            <a:ext cx="532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игме́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3"/>
              </a:rPr>
              <a:t>греч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Πυγμαϊο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— «люди величиной с кулак») — группа низкорослых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4"/>
              </a:rPr>
              <a:t>негроидн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ародов, обитающих в лесах тропической </a:t>
            </a:r>
            <a:r>
              <a:rPr b="0" lang="ru-RU" sz="20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5"/>
              </a:rPr>
              <a:t>Афр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Народы зоны экваториальных лесов – пигмеи, малорослы (ниже 150 см) – это самый малочисленный народ Африки, численность которой неуклонно пад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1270559410[1]"/>
          <p:cNvPicPr/>
          <p:nvPr/>
        </p:nvPicPr>
        <p:blipFill>
          <a:blip r:embed="rId1"/>
          <a:stretch/>
        </p:blipFill>
        <p:spPr>
          <a:xfrm>
            <a:off x="1476360" y="2421000"/>
            <a:ext cx="6095880" cy="3981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468360" y="474120"/>
            <a:ext cx="813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Африка́нер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2"/>
              </a:rPr>
              <a:t>африкаан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af-ZA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frikaner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дословно «африканцы») —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3"/>
              </a:rPr>
              <a:t>нар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в Южной Африке, являются потомками колонистов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4"/>
              </a:rPr>
              <a:t>голланд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5"/>
              </a:rPr>
              <a:t>немец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lang="ru-RU" sz="2400" spc="-1" strike="noStrike" u="sng">
                <a:solidFill>
                  <a:srgbClr val="6b9f25"/>
                </a:solidFill>
                <a:uFillTx/>
                <a:latin typeface="Arial"/>
                <a:ea typeface="Times New Roman"/>
                <a:hlinkClick r:id="rId6"/>
              </a:rPr>
              <a:t>французског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оисхо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4" descr="uganda_image09[1]"/>
          <p:cNvPicPr/>
          <p:nvPr/>
        </p:nvPicPr>
        <p:blipFill>
          <a:blip r:embed="rId1"/>
          <a:stretch/>
        </p:blipFill>
        <p:spPr>
          <a:xfrm>
            <a:off x="1835280" y="404640"/>
            <a:ext cx="5076720" cy="354348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6"/>
          <p:cNvSpPr/>
          <p:nvPr/>
        </p:nvSpPr>
        <p:spPr>
          <a:xfrm>
            <a:off x="539640" y="417276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утс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ватутс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«батутси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— народ в центральной Африке (Руанда, Бурунди, Демократическая Республика Конго), численностью около 2 млн. Самые высокие народы - тутси, масаи, нилоты – имеют средний рост 180-200 с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Изображение 077"/>
          <p:cNvPicPr/>
          <p:nvPr/>
        </p:nvPicPr>
        <p:blipFill>
          <a:blip r:embed="rId1"/>
          <a:stretch/>
        </p:blipFill>
        <p:spPr>
          <a:xfrm>
            <a:off x="1357200" y="428760"/>
            <a:ext cx="6564600" cy="427968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3"/>
          <p:cNvSpPr/>
          <p:nvPr/>
        </p:nvSpPr>
        <p:spPr>
          <a:xfrm>
            <a:off x="571680" y="4721400"/>
            <a:ext cx="81435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Посмотрите внимательно на картинку и ответьте на 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з данных жилищ могут быть жилищами кочевников, 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ы думаете, почему у жителей острова Мадагаскар такие жилищ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"/>
          <p:cNvSpPr/>
          <p:nvPr/>
        </p:nvSpPr>
        <p:spPr>
          <a:xfrm>
            <a:off x="785880" y="524520"/>
            <a:ext cx="75722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f2936"/>
                </a:solidFill>
                <a:uFillTx/>
                <a:latin typeface="Times New Roman"/>
                <a:ea typeface="Times New Roman"/>
              </a:rPr>
              <a:t>Используя карту (рис.60), назов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Северной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Центральной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Восточной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а Южной Аф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ы, не имеющие выхода к океа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4-01-08T12:24:59Z</dcterms:modified>
  <cp:revision>9</cp:revision>
  <dc:subject/>
  <dc:title>Слайд 1</dc:title>
</cp:coreProperties>
</file>