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40D-16AA-4DBA-9321-A1E72946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88F-8663-4B5C-A4F4-4400419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582-7141-4F27-AE12-D251D1BB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8E4-31CC-4968-A4AB-06D1421F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0A04-AD65-4846-9E9F-1DFBD36C7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E5E5-6FDB-45A9-9DA1-D06D3BE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DB4-744D-46E3-8D84-761AB53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2145-7A1A-4214-A041-AB888A5D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392D-CF8A-481A-A027-2D82B574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338C-BCE8-4DCF-9A51-10C0C26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7D4E-772F-4FC1-B16D-6112165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F11-F202-4DB6-A83A-493EF7E0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0312-595D-4899-8C7A-D654EB3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7639-4EA5-49C7-BB13-695DE709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78B9-3455-47CC-8404-6E26D864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7053-84DA-40D1-A58D-46B3AFF2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AA25-D559-475D-A861-1F0C35BC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A945-DE91-4E35-834B-0A87DB57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B537-09E1-467F-9B94-7496E1FF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E308-11F1-48C5-98FD-4E84D525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3968-81EF-4857-8A44-F591CC02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B5A7-475C-4B5E-BE4B-41BE7F4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505C-05EB-4BDD-82B1-2C241A4D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66F7-AE6B-4CA0-AE6C-AE4A990E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1F05-602A-4F89-B82C-618EF4D4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27EC-748B-42EE-9AEB-7E0AF9F3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C70CF-D45C-4D01-8ADA-1A77AEC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9806-0AD5-4408-BDB2-06CA7C3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1633-BE10-4DB9-A562-467A73EA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21AD-D562-4CD8-ABB4-E5821B6F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6416-89C2-4DBB-A44A-45F606B9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F9964-62DF-4F95-A7C9-D2CD9BF5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97C9A-86B3-405A-A781-80D89B34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0439-F66C-45C9-A9F1-6714D7D1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B174-C8AD-4F81-ADE0-D1947BB4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00168-6FF4-4DFB-93D0-80E98187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1198C-61A8-4B79-8E38-EAADE3D7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A07C3-28C0-44BC-A1FC-24346D2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866F8-FA79-4D52-A47E-331768A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30A2-FDC1-4637-BA53-BA41F325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35865-F318-49DD-8D39-1C391777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7369-9741-4033-927A-8937748D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B1F3-3C77-4B20-AF89-5892F020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7BA3-E8A8-4750-BFA9-CDB46060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C25-6520-40DD-8495-BD4BA20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3A2CC-C90C-41F2-BDCE-E9F67D9F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E55B-C4BC-4364-8B8A-B0898713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31EA3-27BD-455D-B030-39AAAF49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B2902-127C-4C67-8E1E-D9204A64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C300E-9CE8-49EF-9D45-1AF2E73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432BC-399D-4413-910C-A45B564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EA4B-2AFF-4698-BE49-E858760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58E7B-193F-4382-A42B-632C3A9D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B9512-7319-420C-BD2B-35884C49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BD5B-99CE-4B34-B754-7ECD92E0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653-2B4B-45B4-93FA-9C48439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E2D1A-DB5D-440D-A0A4-5DB0E4A0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50C-1936-46D6-85BE-5AD769E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D07-FDC5-4C20-B128-3747A1DA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896-81C8-4F5F-BCB5-FA13CBF6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43C2-CC3F-444A-8BD7-BFF48C8A21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1949-D839-4AE5-8CF2-716BF4B7309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B729-0D6E-4E30-AFF6-9F4A2A385CF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77A6-1D23-45DA-A671-A4D134390F0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773-73E8-4142-ABC3-2C6953966F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3;&#1072;&#1088;&#1086;&#1076;" TargetMode="External"/><Relationship Id="rId3" Type="http://schemas.openxmlformats.org/officeDocument/2006/relationships/hyperlink" Target="http://ru.wikipedia.org/wiki/&#1041;&#1077;&#1088;&#1073;&#1077;&#1088;&#1099;" TargetMode="External"/><Relationship Id="rId4" Type="http://schemas.openxmlformats.org/officeDocument/2006/relationships/hyperlink" Target="http://ru.wikipedia.org/wiki/&#1052;&#1072;&#1083;&#1080;" TargetMode="External"/><Relationship Id="rId5" Type="http://schemas.openxmlformats.org/officeDocument/2006/relationships/hyperlink" Target="http://ru.wikipedia.org/wiki/&#1053;&#1080;&#1075;&#1077;&#1088;" TargetMode="External"/><Relationship Id="rId6" Type="http://schemas.openxmlformats.org/officeDocument/2006/relationships/hyperlink" Target="http://ru.wikipedia.org/wiki/&#1041;&#1091;&#1088;&#1082;&#1080;&#1085;&#1072;_&#1060;&#1072;&#1089;&#1086;" TargetMode="External"/><Relationship Id="rId7" Type="http://schemas.openxmlformats.org/officeDocument/2006/relationships/hyperlink" Target="http://ru.wikipedia.org/wiki/&#1052;&#1072;&#1088;&#1086;&#1082;&#1082;&#1086;" TargetMode="External"/><Relationship Id="rId8" Type="http://schemas.openxmlformats.org/officeDocument/2006/relationships/hyperlink" Target="http://ru.wikipedia.org/wiki/&#1040;&#1083;&#1078;&#1080;&#1088;" TargetMode="External"/><Relationship Id="rId9" Type="http://schemas.openxmlformats.org/officeDocument/2006/relationships/hyperlink" Target="http://ru.wikipedia.org/wiki/&#1051;&#1080;&#1074;&#1080;&#1103;" TargetMode="External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sgpi.ru/wiki/index.php/&#1043;&#1088;&#1077;&#1095;&#1077;&#1089;&#1082;&#1080;&#1081;_&#1103;&#1079;&#1099;&#1082;" TargetMode="External"/><Relationship Id="rId4" Type="http://schemas.openxmlformats.org/officeDocument/2006/relationships/hyperlink" Target="http://www.sgpi.ru/wiki/index.php/&#1053;&#1077;&#1075;&#1088;&#1086;&#1080;&#1076;&#1085;&#1072;&#1103;_&#1088;&#1072;&#1089;&#1072;" TargetMode="External"/><Relationship Id="rId5" Type="http://schemas.openxmlformats.org/officeDocument/2006/relationships/hyperlink" Target="http://www.sgpi.ru/wiki/index.php/&#1040;&#1092;&#1088;&#1080;&#1082;&#1072;" TargetMode="Externa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0;&#1092;&#1088;&#1080;&#1082;&#1072;&#1072;&#1085;&#1089;" TargetMode="External"/><Relationship Id="rId3" Type="http://schemas.openxmlformats.org/officeDocument/2006/relationships/hyperlink" Target="http://ru.wikipedia.org/wiki/&#1053;&#1072;&#1088;&#1086;&#1076;" TargetMode="External"/><Relationship Id="rId4" Type="http://schemas.openxmlformats.org/officeDocument/2006/relationships/hyperlink" Target="http://ru.wikipedia.org/wiki/&#1043;&#1086;&#1083;&#1083;&#1072;&#1085;&#1076;&#1094;&#1099;" TargetMode="External"/><Relationship Id="rId5" Type="http://schemas.openxmlformats.org/officeDocument/2006/relationships/hyperlink" Target="http://ru.wikipedia.org/wiki/&#1053;&#1077;&#1084;&#1094;&#1099;" TargetMode="External"/><Relationship Id="rId6" Type="http://schemas.openxmlformats.org/officeDocument/2006/relationships/hyperlink" Target="http://ru.wikipedia.org/wiki/&#1060;&#1088;&#1072;&#1085;&#1094;&#1091;&#1079;&#1099;" TargetMode="External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3757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773440" cy="95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300px-EthnAfrica[1]"/>
          <p:cNvPicPr/>
          <p:nvPr/>
        </p:nvPicPr>
        <p:blipFill>
          <a:blip r:embed="rId3"/>
          <a:stretch/>
        </p:blipFill>
        <p:spPr>
          <a:xfrm>
            <a:off x="3059280" y="318924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MG"/>
          <p:cNvPicPr/>
          <p:nvPr/>
        </p:nvPicPr>
        <p:blipFill>
          <a:blip r:embed="rId1"/>
          <a:stretch/>
        </p:blipFill>
        <p:spPr>
          <a:xfrm>
            <a:off x="428760" y="357120"/>
            <a:ext cx="2928960" cy="619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Копия IMG"/>
          <p:cNvPicPr/>
          <p:nvPr/>
        </p:nvPicPr>
        <p:blipFill>
          <a:blip r:embed="rId2"/>
          <a:stretch/>
        </p:blipFill>
        <p:spPr>
          <a:xfrm>
            <a:off x="3500280" y="3508200"/>
            <a:ext cx="52149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00040" y="5266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Закрепление материала. Народы, населяющие матер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уар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игм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эфи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утси,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африка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малагаси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низкорослый народ на Земле, обитающий в экваториальны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населяющий пустыню Сахару, ведущий кочево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проживающий на острове Мадагаск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йные высокорослые народы саванны восточной части матер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южной ветви европеоидной расы, населяющие север Аф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европейских переселенцев из Нидерландов, населяющие юг Аф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714240" y="597600"/>
            <a:ext cx="7215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-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714240" y="102312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Домашнее задание: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2, вопрос 1 стр.1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граф 23, составить презентацию по Алжи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658800"/>
            <a:ext cx="2900520" cy="11271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642960" y="17859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узнать о расовом, национальном  составе населения Африки, особенностях его разме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рассмотреть политическую карту Афр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отрабатывать навыки работы с разными источниками знаний, с карт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14280" y="1071720"/>
          <a:ext cx="6858000" cy="5357520"/>
        </p:xfrm>
        <a:graphic>
          <a:graphicData uri="http://schemas.openxmlformats.org/drawingml/2006/table">
            <a:tbl>
              <a:tblPr/>
              <a:tblGrid>
                <a:gridCol w="939960"/>
                <a:gridCol w="1933560"/>
                <a:gridCol w="1943280"/>
                <a:gridCol w="2041200"/>
              </a:tblGrid>
              <a:tr h="3888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овые призна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3" descr="Изображение 078"/>
          <p:cNvPicPr/>
          <p:nvPr/>
        </p:nvPicPr>
        <p:blipFill>
          <a:blip r:embed="rId1"/>
          <a:stretch/>
        </p:blipFill>
        <p:spPr>
          <a:xfrm>
            <a:off x="2357280" y="4071960"/>
            <a:ext cx="1609920" cy="22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Копия Изображение 078"/>
          <p:cNvPicPr/>
          <p:nvPr/>
        </p:nvPicPr>
        <p:blipFill>
          <a:blip r:embed="rId2"/>
          <a:stretch/>
        </p:blipFill>
        <p:spPr>
          <a:xfrm>
            <a:off x="4286160" y="3929040"/>
            <a:ext cx="1447920" cy="2400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Копия (2) Изображение 078"/>
          <p:cNvPicPr/>
          <p:nvPr/>
        </p:nvPicPr>
        <p:blipFill>
          <a:blip r:embed="rId3"/>
          <a:stretch/>
        </p:blipFill>
        <p:spPr>
          <a:xfrm>
            <a:off x="6357960" y="3857760"/>
            <a:ext cx="1447920" cy="24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361160" y="501840"/>
            <a:ext cx="58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С помощью текста учебника стр.101-102, заполнить таблиц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Население Аф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Targui8[1]"/>
          <p:cNvPicPr/>
          <p:nvPr/>
        </p:nvPicPr>
        <p:blipFill>
          <a:blip r:embed="rId1"/>
          <a:stretch/>
        </p:blipFill>
        <p:spPr>
          <a:xfrm>
            <a:off x="557280" y="404640"/>
            <a:ext cx="4478400" cy="5977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5148360" y="918000"/>
            <a:ext cx="338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уареги -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народ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группы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берберо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4"/>
              </a:rPr>
              <a:t>М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5"/>
              </a:rPr>
              <a:t>Нигер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6"/>
              </a:rPr>
              <a:t>Буркина Фасо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7"/>
              </a:rPr>
              <a:t>Марокко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8"/>
              </a:rPr>
              <a:t>Алжир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9"/>
              </a:rPr>
              <a:t>Ливи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222419068_537242839_8db9c3b2bc[1]"/>
          <p:cNvPicPr/>
          <p:nvPr/>
        </p:nvPicPr>
        <p:blipFill>
          <a:blip r:embed="rId1"/>
          <a:stretch/>
        </p:blipFill>
        <p:spPr>
          <a:xfrm>
            <a:off x="395280" y="333360"/>
            <a:ext cx="2963880" cy="345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1638304[1]"/>
          <p:cNvPicPr/>
          <p:nvPr/>
        </p:nvPicPr>
        <p:blipFill>
          <a:blip r:embed="rId2"/>
          <a:stretch/>
        </p:blipFill>
        <p:spPr>
          <a:xfrm>
            <a:off x="2340000" y="316692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-45594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492360" y="484560"/>
            <a:ext cx="532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игме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3"/>
              </a:rPr>
              <a:t>греч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υγμαϊο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«люди величиной с кулак») — группа низкорослых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4"/>
              </a:rPr>
              <a:t>негроид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родов, обитающих в лесах тропической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5"/>
              </a:rPr>
              <a:t>Аф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роды зоны экваториальных лесов – пигмеи, малорослы (ниже 150 см) – это самый малочисленный народ Африки, численность которой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1270559410[1]"/>
          <p:cNvPicPr/>
          <p:nvPr/>
        </p:nvPicPr>
        <p:blipFill>
          <a:blip r:embed="rId1"/>
          <a:stretch/>
        </p:blipFill>
        <p:spPr>
          <a:xfrm>
            <a:off x="1476360" y="2421000"/>
            <a:ext cx="6095880" cy="398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468360" y="4741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фрика́н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2"/>
              </a:rPr>
              <a:t>африкаа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af-Z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rikaner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словно «африканцы») —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3"/>
              </a:rPr>
              <a:t>нар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Южной Африке, являются потомками колонистов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4"/>
              </a:rPr>
              <a:t>голланд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5"/>
              </a:rPr>
              <a:t>немец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6"/>
              </a:rPr>
              <a:t>француз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uganda_image09[1]"/>
          <p:cNvPicPr/>
          <p:nvPr/>
        </p:nvPicPr>
        <p:blipFill>
          <a:blip r:embed="rId1"/>
          <a:stretch/>
        </p:blipFill>
        <p:spPr>
          <a:xfrm>
            <a:off x="1835280" y="404640"/>
            <a:ext cx="5076720" cy="35434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539640" y="41727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т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атутс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батутс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народ в центральной Африке (Руанда, Бурунди, Демократическая Республика Конго), численностью около 2 млн. Самые высокие народы - тутси, масаи, нилоты – имеют средний рост 180-20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Изображение 077"/>
          <p:cNvPicPr/>
          <p:nvPr/>
        </p:nvPicPr>
        <p:blipFill>
          <a:blip r:embed="rId1"/>
          <a:stretch/>
        </p:blipFill>
        <p:spPr>
          <a:xfrm>
            <a:off x="1357200" y="428760"/>
            <a:ext cx="6564600" cy="4279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571680" y="4721400"/>
            <a:ext cx="814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Посмотрите внимательно на картинку и ответьте на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данных жилищ могут быть жилищами кочевников,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почему у жителей острова Мадагаскар такие жилищ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785880" y="524520"/>
            <a:ext cx="757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Используя карту (рис.60), назов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Север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Централь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Восточ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Юж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, не имеющие выхода к оке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4-01-08T12:24:59Z</dcterms:modified>
  <cp:revision>9</cp:revision>
  <dc:subject/>
  <dc:title>Слайд 1</dc:title>
</cp:coreProperties>
</file>