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30A-0E17-472C-9451-4A8CE2D3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290-CA60-44D6-BE24-160ADDD2A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C4B1-506F-4CF0-BE76-DCB94EF9A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F05-625D-409A-99AF-6C7FF413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4AFD-2D91-4CDA-A9A8-466B39E1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52E6-3AEA-468E-A87B-DC9027CB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A9D1-DBEE-4459-8E9B-4F9EED2D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8E35-3C37-4EF5-AC65-96F6DC1B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BF5-5862-4465-8C6D-4AC3FD6A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0462-180F-41E4-AEA8-1E67A1152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7814-BCF2-4561-8961-BF2E9962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1B6-6E1B-475A-A22C-932C8BCD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8CC5-716E-46E0-941E-9844D28B0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042-2FC1-4DE7-8B65-F651F58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483B-A99D-484D-B1DC-F4567725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BA04-4447-4502-9E0B-79ED98DE0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4B85-D219-4424-BB6A-00DF3541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2ADB-91B3-4720-BCF4-F4B5A515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BBB6-697B-4682-9644-2ACF06A82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CFC6-AE69-4AA3-A9D8-BDE136CA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C3C9-DC59-4E65-842C-24232137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2F5-C219-40E4-9670-6853A847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86D7-A3AA-448D-90FB-F11B07AA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3373-CEAA-44B6-B6CF-53AD7C24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FABF-F30D-46F6-B91B-E2971C7778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7D126-F0A6-45E4-904B-0B98D24E7A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24919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ecff"/>
                </a:solidFill>
                <a:latin typeface="Arial"/>
              </a:rPr>
              <a:t>«20 ЛЕТ КОНСТИТУЦИИ РОССИЙСКОЙ ФЕДЕРАЦИИ»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5254200"/>
            <a:ext cx="2122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921800" cy="4647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449360" y="762120"/>
            <a:ext cx="624384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«20 ЛЕТ КОНСТИТУЦИИ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Arial"/>
              </a:rPr>
              <a:t>РОССИЙСКОЙ ФЕДЕРАЦИ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Ст. З7 Конституции 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руд свободен. Каждый имеет право свободно распоряжаться своими способностями к труду, выбирать род деятельности и професс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нудительный труд запрещё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ый имеет право на труд в условиях, отвечающих требованиям безопасности и гигиены, на вознаграждение за труд без какой-либо дискриминации и не ниже установленного федеральным законом минимального размера оплаты труда, а также право на защиту от безработи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знаётся право на индивидуальные и коллективные трудовые споры с использованием установленным федеральным законом способов их разрешения, включая право на забастов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Каждый имеет право на отдых. Работающему по трудовому законодательству гарантируются установленные федеральным законом продолжительность рабочего времени, выходные и праздничные дни, оплачиваем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ожет ли Свердловская  область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600200"/>
          <a:ext cx="8229600" cy="5084640"/>
        </p:xfrm>
        <a:graphic>
          <a:graphicData uri="http://schemas.openxmlformats.org/drawingml/2006/table">
            <a:tbl>
              <a:tblPr/>
              <a:tblGrid>
                <a:gridCol w="6553080"/>
                <a:gridCol w="1676520"/>
              </a:tblGrid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ать свои день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ю арми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ет ли Департамент образования Свердловской области ввести новые предметы в школе в дополнение к федеральной системе школьного образовани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лючить внешнеторговый договор с Финляндие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свою таможню на границе с Курганской облас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ё правительст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Может ли Свердловская  область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457200" y="1600200"/>
          <a:ext cx="8229600" cy="5111640"/>
        </p:xfrm>
        <a:graphic>
          <a:graphicData uri="http://schemas.openxmlformats.org/drawingml/2006/table">
            <a:tbl>
              <a:tblPr/>
              <a:tblGrid>
                <a:gridCol w="6553080"/>
                <a:gridCol w="167652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ыпускать свои деньг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ю арми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жет ли Департамент образования Свердловской области ввести новые предметы в школе в дополнение к федеральной системе школьного образования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ключить внешнеторговый договор с Финляндией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ить свою таможню на границе с Курганской областью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формировать своё правительство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Народ выбира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зидент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едседатель Правительство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ы исполнительной власти субъекта Федерации (губернато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законодательного органа власти субъекта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Члены Совета Федер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лава местного самоуправления (мэр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местного органа вла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путаты Государственной Думы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Генеральный Прокурор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79840" y="3244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Выбирается народо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Государственной Думы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а исполнительной власти субъекта Федерации (губерна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законодательного органа власти субъекта Федер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лава местного самоуправления (мэ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путат местного органа вла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Текст присяги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янусь при осуществлении ……………… Президента Российской Федерации уважать и охранять ………и……. человека и гражданина, соблюдать и защищать …………………Российской Федерации, защищать суверенитет и независимость, безопасность и целостность …………….., верно служить ………………..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рисяга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лянусь при осуществлении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олномочий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езидента Российской Федерации уважать и охраня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права и свободы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человека и гражданина, соблюдать и защища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Конституци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Российской Федерации, защищать суверенитет и независимость, безопасность и целостнос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осударств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верно служить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род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ервый день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6 утра Президент на ногах. После зарядки и завтрака звонит министру обороны и приказывает ему прислать за ним маши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7 часов он в своем кабинете подписывает распоряжение о назначении одного из генералов на должность командующего Военно-Воздушными Силами стр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7 часов 30 минут объявляет об отставке Правительств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8 — он на заседании Государственной Думы представляет кандидатуру на должность Председателя Центрального бан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часов 30 минут подписывает распоряжение о назначении Генерального прокур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9 часов подписывает Указ о награждении группы милиционеров орденами и медалями. В 10 часов подписывает договор о торговле между Россией и Канадо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Первый день Президент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1 ратифицирует два международных догов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2 часов освобождает от должности Председателя Конституционного С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3 часов обедает и отдыха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5 часов вводит чрезвычайное положение в Москве в связи с забастовкой водителей троллейбус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6 часов звонит министру обороны, приказывает прислать за ним машину, едет на завод, который не выполнил план и, разобравшись, увольняет директо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17 часов назначает нового Председателя Правитель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 18 часов принимает верительные грамоты иностранных пос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ЕРБ Р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700360" y="1700280"/>
            <a:ext cx="407016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ОНСТИТУЦИЯ – это (от лат. слова – 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устройство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) – это основной закон государства, который определяет порядо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ГИМН РФ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 — священная наша держав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оссия — любимая наша стра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огучая воля, великая слава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ё достоянье на все врем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3640" y="-5365440"/>
            <a:ext cx="215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56944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 южных морей до полярного кр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Раскинулись наши леса и по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на ты на свете! Одна ты такая 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Хранимая Богом родная зем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7360" y="-52516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Широкий простор для мечты и для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Грядущие нам открывают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ам силу даёт наша верность Отчиз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ак было, так есть и так будет всегда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Отечество наше свободно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Братских народов союз веково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ками данная мудрость народная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вься, страна! Мы гордимся тобой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КОНСТИТУЦИЯ РФ БЫЛА ПРИНЯТА В 1993 ГОД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Знатоки Конституции РФ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51b39"/>
                </a:solidFill>
                <a:latin typeface="Arial"/>
              </a:rPr>
              <a:t>Праздничная</a:t>
            </a:r>
            <a:r>
              <a:rPr b="0" lang="en-US" sz="4400" spc="-1" strike="noStrike">
                <a:solidFill>
                  <a:srgbClr val="008ae8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551b39"/>
                </a:solidFill>
                <a:latin typeface="Arial"/>
              </a:rPr>
              <a:t>телеграм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закон государства, многонациональный народ, гарантирует, источник власти, права и свободы, юридическая сила, учредительный характер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Язык Зак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457200" y="1600200"/>
          <a:ext cx="8229600" cy="5133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Торжественное вступление к тексту Конституции 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ыражение недоверия Президенту со стороны парламент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сенародное голосова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а национально-территориального устройства, союз государств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Многообразие, множествен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Независимость, самостоятельность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Язык Закон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600200"/>
          <a:ext cx="8229600" cy="5048280"/>
        </p:xfrm>
        <a:graphic>
          <a:graphicData uri="http://schemas.openxmlformats.org/drawingml/2006/table">
            <a:tbl>
              <a:tblPr/>
              <a:tblGrid>
                <a:gridCol w="6324480"/>
                <a:gridCol w="190512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Торжественное вступление к тексту Конституции 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амбу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 Выражение недоверия Президенту со стороны парламент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мпич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 Всенародное голосов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ференду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 Форма национально-территориального устройства, союз государств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едер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 Многообразие, множествен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юрализм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 Независимость, самостоятельн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верените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Основы конституционного строя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емократия, федерализм, правовой характер государства, республика, приоритет прав и свобод человека, суверенность, народ как источник власти, верховенство Конституции, социальное государство, разделение властей, признание частной собственности, рыночный характер экономических отношений, политический и идеологический плюрализм, светский характер государств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Назовите основные положения Конституции 1993 года по вопросу о праве на труд. 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Конституции РСФСР 1918 года: гл.2,№3-е - “В целях уничтожения паразитических слоёв общества вводится всеобщая трудовая повинность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л.5 “РСФСР признаёт труд обязанностью всех граждан Республики и провозглашает лозунг “Не трудящийся да не ест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титуция 1936 года: глава 1, ст.12: “Труд в СССР является обязанностью и делом чести каждого способного к труду гражданина по принципу “Кто не работает, тот не ест”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.118 : “ Граждане СССР имеют право на труд, т.е. право на получение гарантированной работы с оплатой их труда в соответствии с его количеством и качеством.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онституция 1977 года,ст.14: “Источником роста общественного богатства, благосостояния народа и каждого советского человека является свободный от эксплуатации труд советских людей”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.40: “Граждане СССР имеют право на труд, т.е. на получение гарантированной работы с оплатой труда в соответствии с его количеством и качеством и не ниже установленного государством минимального размера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 EDITION</cp:lastModifiedBy>
  <dcterms:modified xsi:type="dcterms:W3CDTF">2014-03-09T18:01:2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