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B27-CB4E-47C4-B67B-E6BA476E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72D-DC09-4D94-BC33-0D3255BA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705-8662-41E5-8521-FB4109C6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7FD-B175-401D-805E-1F3C870F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2356-3EF9-451E-AD0F-B66ADE3A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4031-1E7F-426F-909B-0E499227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045B-7F9B-477C-B52B-4093FA67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BCEE-0196-46D0-815E-BB9CC523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AD2B-86CE-4DB5-9F91-4410F220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3A97-BBB8-4494-918C-119B1202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41DC-4FCA-4804-92A9-9AAFB254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2232-AB5C-410A-B046-8644B284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4FE5-7A1F-4289-ABE7-D7BE4459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DD6B-9862-48D2-B464-3BF59055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0B16-B847-4AE1-97E7-D24A05F4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7559-E3A9-45B3-BC62-648ABC92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22E8-C289-4B73-9A37-3D1AAFAD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E75-CB90-43DD-96B9-7AC18543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541-1287-42D9-9887-95D2632F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378-F2EF-47B4-AE95-D7519018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57F-9FAF-44C9-B681-CD8CC3EC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3D5-F90D-45DF-B4E4-82C8353E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FFB5-1DD4-4C73-91C9-34B64E67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D94-6301-4111-B1A7-6D674FF8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D31B-68BD-421F-9082-08BC6A5770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7C7B-CF6A-48FE-9796-4DBB8422CF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Arial"/>
              </a:rPr>
              <a:t>«20 ЛЕТ КОНСТИТУЦИИ РОССИЙСКОЙ ФЕДЕРАЦИИ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5254200"/>
            <a:ext cx="2122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921800" cy="4647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449360" y="762120"/>
            <a:ext cx="62438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«20 ЛЕТ КОНСТИТУЦИ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РОССИЙСКОЙ ФЕДЕРАЦИ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Ст. З7 Конституции РФ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уд свободен. Каждый имеет право свободно распоряжаться своими способностями к труду, выбирать род деятельности и професс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нудительный труд запрещё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ждый имеет право на труд в условиях, отвечающих требованиям безопасности и гигиены, на вознаграждение за труд без какой-либо дискриминации и не ниже установленного федеральным законом минимального размера оплаты труда, а также право на защиту от безработ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знаётся право на индивидуальные и коллективные трудовые споры с использованием установленным федеральным законом способов их разрешения, включая право на забастов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ждый имеет право на отдых. Работающему по трудовому законодательству гарантируются установленные федеральным законом продолжительность рабочего времени, выходные и праздничные дни, оплачиваем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Может ли Свердловская  область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600200"/>
          <a:ext cx="8229600" cy="5084640"/>
        </p:xfrm>
        <a:graphic>
          <a:graphicData uri="http://schemas.openxmlformats.org/drawingml/2006/table">
            <a:tbl>
              <a:tblPr/>
              <a:tblGrid>
                <a:gridCol w="6553080"/>
                <a:gridCol w="1676520"/>
              </a:tblGrid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ускать свои день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ть свою армию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жет ли Департамент образования Свердловской области ввести новые предметы в школе в дополнение к федеральной системе школьного образования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ключить внешнеторговый договор с Финляндией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ить свою таможню на границе с Курганской областью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ть своё правительство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Может ли Свердловская  область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7200" y="1600200"/>
          <a:ext cx="8229600" cy="5111640"/>
        </p:xfrm>
        <a:graphic>
          <a:graphicData uri="http://schemas.openxmlformats.org/drawingml/2006/table">
            <a:tbl>
              <a:tblPr/>
              <a:tblGrid>
                <a:gridCol w="6553080"/>
                <a:gridCol w="16765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ускать свои день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ть свою армию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жет ли Департамент образования Свердловской области ввести новые предметы в школе в дополнение к федеральной системе школьного образования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ключить внешнеторговый договор с Финляндией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ить свою таможню на границе с Курганской областью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ть своё правительство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Народ выбира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зидент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седатель Правительство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авы исполнительной власти субъекта Федерации (губернато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путаты законодательного органа власти субъекта Феде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лены Совета Феде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ава местного самоуправления (мэ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путаты местного органа в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путаты Государственной Думы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неральный Прокурор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Выбирается народ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зидент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путат Государственной Думы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ва исполнительной власти субъекта Федерации (губернато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путат законодательного органа власти субъекта Феде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ва местного самоуправления (мэ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путат местного органа вла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Текст присяги Президен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янусь при осуществлении ……………… Президента Российской Федерации уважать и охранять ………и……. человека и гражданина, соблюдать и защищать …………………Российской Федерации, защищать суверенитет и независимость, безопасность и целостность …………….., верно служить ………………..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Присяга Президен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янусь при осуществлении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олномочи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зидента Российской Федерации уважать и охранять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рава и свобод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человека и гражданина, соблюдать и защищать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Конституци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Российской Федерации, защищать суверенитет и независимость, безопасность и целостность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осударств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верно служить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род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Первый день Президен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6 утра Президент на ногах. После зарядки и завтрака звонит министру обороны и приказывает ему прислать за ним маши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7 часов он в своем кабинете подписывает распоряжение о назначении одного из генералов на должность командующего Военно-Воздушными Силами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7 часов 30 минут объявляет об отставке Правитель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8 — он на заседании Государственной Думы представляет кандидатуру на должность Председателя Центрального ба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часов 30 минут подписывает распоряжение о назначении Генерального прокуро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9 часов подписывает Указ о награждении группы милиционеров орденами и медалями. В 10 часов подписывает договор о торговле между Россией и Канад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Первый день Президен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1 ратифицирует два международных догово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2 часов освобождает от должности Председателя Конституционного Су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13 часов обедает и отдыха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5 часов вводит чрезвычайное положение в Москве в связи с забастовкой водителей троллейбу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6 часов звонит министру обороны, приказывает прислать за ним машину, едет на завод, который не выполнил план и, разобравшись, увольняет директо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7 часов назначает нового Председателя Правитель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18 часов принимает верительные грамоты иностранных по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ГЕРБ РФ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407016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ОНСТИТУЦИЯ – это (от лат. слова –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устройство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 – это основной закон государства, который определяет поряд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ГИМН РФ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ссия — священная наша держа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ссия — любимая наша стр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гучая воля, великая слава 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воё достоянье на все врем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вься, Отечество наше свобод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ратских народов союз веков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ками данная мудрость народна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вься, страна! Мы гордимся тоб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3640" y="-5365440"/>
            <a:ext cx="215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569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 южных морей до полярного кр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скинулись наши леса и по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дна ты на свете! Одна ты такая 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ранимая Богом родная зем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вься, Отечество наше свобод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ратских народов союз веков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ками данная мудрость народна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вься, страна! Мы гордимся тоб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7360" y="-52516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Широкий простор для мечты и для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рядущие нам открывают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м силу даёт наша верность Отчиз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ак было, так есть и так будет всег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вься, Отечество наше свобод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ратских народов союз веков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ками данная мудрость народна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вься, страна! Мы гордимся тоб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КОНСТИТУЦИЯ РФ БЫЛА ПРИНЯТА В 1993 ГОДУ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Знатоки Конституции РФ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1b39"/>
                </a:solidFill>
                <a:latin typeface="Arial"/>
              </a:rPr>
              <a:t>Праздничная</a:t>
            </a:r>
            <a:r>
              <a:rPr b="0" lang="en-US" sz="4400" spc="-1" strike="noStrike">
                <a:solidFill>
                  <a:srgbClr val="008ae8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551b39"/>
                </a:solidFill>
                <a:latin typeface="Arial"/>
              </a:rPr>
              <a:t>телеграм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акон государства, многонациональный народ, гарантирует, источник власти, права и свободы, юридическая сила, учредительный характер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Язык Зако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1600200"/>
          <a:ext cx="8229600" cy="51339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Торжественное вступление к тексту Конституции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Выражение недоверия Президенту со стороны парламен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Всенародное голос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Форма национально-территориального устройства, союз государст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Многообразие, множествен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Независимость, самостоятель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Язык Зако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1600200"/>
          <a:ext cx="8229600" cy="5048280"/>
        </p:xfrm>
        <a:graphic>
          <a:graphicData uri="http://schemas.openxmlformats.org/drawingml/2006/table">
            <a:tbl>
              <a:tblPr/>
              <a:tblGrid>
                <a:gridCol w="6324480"/>
                <a:gridCol w="190512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Торжественное вступление к тексту Конституции 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амбу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Выражение недоверия Президенту со стороны парламен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мпичме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Всенародное голосо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ференду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Форма национально-территориального устройства, союз государст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ер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Многообразие, множественн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юрализ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Независимость, самостоятельн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веренит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Основы конституционного стро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мократия, федерализм, правовой характер государства, республика, приоритет прав и свобод человека, суверенность, народ как источник власти, верховенство Конституции, социальное государство, разделение властей, признание частной собственности, рыночный характер экономических отношений, политический и идеологический плюрализм, светский характер государств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азовите основные положения Конституции 1993 года по вопросу о праве на труд.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Конституции РСФСР 1918 года: гл.2,№3-е - “В целях уничтожения паразитических слоёв общества вводится всеобщая трудовая повинность”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.5 “РСФСР признаёт труд обязанностью всех граждан Республики и провозглашает лозунг “Не трудящийся да не ест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ституция 1936 года: глава 1, ст.12: “Труд в СССР является обязанностью и делом чести каждого способного к труду гражданина по принципу “Кто не работает, тот не ест”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.118 : “ Граждане СССР имеют право на труд, т.е. право на получение гарантированной работы с оплатой их труда в соответствии с его количеством и качеством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ституция 1977 года,ст.14: “Источником роста общественного богатства, благосостояния народа и каждого советского человека является свободный от эксплуатации труд советских людей”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.40: “Граждане СССР имеют право на труд, т.е. на получение гарантированной работы с оплатой труда в соответствии с его количеством и качеством и не ниже установленного государством минимального размера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CK EDITION</cp:lastModifiedBy>
  <dcterms:modified xsi:type="dcterms:W3CDTF">2014-03-09T18:01:2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